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BE2-8467-49E1-9993-E26D19FC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E3A-7AC5-4A18-B46B-113E94B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C7A-27FD-455D-8A75-6D45644B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ACD-6A4E-482D-A60C-A5E51FC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D7D-60D9-4733-8A22-387402A1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5B12-9B74-4BC4-8E15-5C0E0A0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D25-6791-4015-9AF9-E213EDE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A68-9007-4FF1-A4A7-056C8FEB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D17-8468-4FEC-BAFD-6464870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0706-5D23-4D0D-A99D-C5782F6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DE3B-2515-481B-ADED-A980106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652-79E5-454B-8165-15823549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5B23-AF91-403F-925F-8AB3AC16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D38-1989-418C-B5EE-F5F68D93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02F2-76D5-4E48-BDEB-611C9ED5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E08C-80C4-4C56-A9AD-2935AAF9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C928-EE44-4C92-BFCB-3205D561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4CB9-9026-4CAA-951B-39005700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B5B4-8C9F-4A04-B699-A016C8D7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B43B-2D16-4F7F-B9CF-251A9C2F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A5D7-37DC-4729-9722-58FB8DE8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7D49-3D0C-43C0-8FF9-4C4B0681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12F-32FD-4D52-98AD-0B94BB2B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CAA3-15ED-444C-817B-14027E4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78E6-B831-48D1-B8AD-26D24C0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D145-A52C-4325-B4DC-D07F149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8A94-63AB-4F7B-8684-4B0359A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4698-B088-4B48-8AB5-4E99BDD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6EB4-29E0-4854-B34A-C95F472B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DDF5-31CB-4D2F-8883-B3D62A79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BF6C-FEB5-4C3D-BEA4-DA61DDCC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DCB5-43F9-4F9C-B62A-A9153659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E61D-6AF9-4B4B-AB8E-D303009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C2A-FE0C-4771-8B90-9D5A76A9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7577-9A4F-43B4-89F5-34D1EAC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4A93-FFE7-4C7A-A56A-22ED9703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0DF6-C5B4-43CD-90F0-719261E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3831-EB56-4BE2-97B2-3C035DF7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5174-3AF7-4F7F-90CC-FFCF498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068E-F2C8-4EAE-AF66-E3C0A914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2C66-6DA5-4E8D-8EB4-80AF1DB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D6FC-8D78-40A2-AAB4-48225A87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A46C-5014-4B22-9FE2-C230FE71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09F-1B0C-4F6C-86DA-5951DF6B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D73-099D-4E47-9D83-7C90FCC8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133-B6AC-44BB-A5B5-D43B21E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56F-AA34-4525-8115-F2867C6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E00-6629-4754-81E2-C9BB6AE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F773-868C-45D5-B337-E7F7519DD140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982-A002-4F32-82F1-869CE3404396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E43-01C9-4B07-ACDF-68EB7C375996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E80-046C-475C-9E74-8844A14F2F0B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798480"/>
            <a:ext cx="9978840" cy="3224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285840" y="4071960"/>
            <a:ext cx="850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680" y="5300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шкина Анастас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группы 15К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500040" y="1500120"/>
                <a:ext cx="4335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500040" y="2428920"/>
                <a:ext cx="7605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500040" y="3286080"/>
                <a:ext cx="4256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8072280" y="2643120"/>
                <a:ext cx="4334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571680" y="4143240"/>
                <a:ext cx="24429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4714920" y="3286080"/>
                <a:ext cx="40194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28760" y="928800"/>
                <a:ext cx="323208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357120" y="2214720"/>
                <a:ext cx="721368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7643880" y="2714760"/>
                <a:ext cx="433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428760" y="3643200"/>
                <a:ext cx="47703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5143680" y="3714840"/>
                <a:ext cx="35096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428760" y="5072040"/>
                <a:ext cx="24462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8572680" y="4286160"/>
                <a:ext cx="433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642960" y="500040"/>
                <a:ext cx="2641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71680" y="1214280"/>
                <a:ext cx="3232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3857760" y="1214280"/>
                <a:ext cx="208908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6000840" y="1214280"/>
                <a:ext cx="133992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571680" y="1714680"/>
                <a:ext cx="3784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500040" y="2857680"/>
                <a:ext cx="394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4429080" y="3214800"/>
                <a:ext cx="38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71680" y="4143240"/>
                <a:ext cx="4454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0"/>
              <p:cNvSpPr txBox="1"/>
              <p:nvPr/>
            </p:nvSpPr>
            <p:spPr>
              <a:xfrm>
                <a:off x="5072040" y="4143240"/>
                <a:ext cx="3429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571680" y="5072040"/>
                <a:ext cx="252252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3071880" y="7858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Задание 2 (а,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500880" cy="571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rcRect l="53435" t="10349" r="1606" b="0"/>
          <a:stretch/>
        </p:blipFill>
        <p:spPr>
          <a:xfrm>
            <a:off x="2071800" y="2214720"/>
            <a:ext cx="5688000" cy="142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2000160" y="2286000"/>
            <a:ext cx="571680" cy="617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2000160" y="3000240"/>
            <a:ext cx="500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тветы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6984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428760" y="1143000"/>
                <a:ext cx="4533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79280" y="1928880"/>
                <a:ext cx="8043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357120" y="4071960"/>
                <a:ext cx="48117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14200" y="2714760"/>
                <a:ext cx="63486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571320" cy="617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92240" y="1162080"/>
                <a:ext cx="50068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14200" y="2071800"/>
                <a:ext cx="87915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285840" y="2928960"/>
                <a:ext cx="5913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6"/>
              <p:cNvSpPr txBox="1"/>
              <p:nvPr/>
            </p:nvSpPr>
            <p:spPr>
              <a:xfrm>
                <a:off x="501480" y="3786120"/>
                <a:ext cx="425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7"/>
              <p:cNvSpPr txBox="1"/>
              <p:nvPr/>
            </p:nvSpPr>
            <p:spPr>
              <a:xfrm>
                <a:off x="4857840" y="3857760"/>
                <a:ext cx="3390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500040" cy="723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571920" y="785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Задание 3 (а,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500880" cy="571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857160" y="2428920"/>
            <a:ext cx="7556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тветы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49338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428760" y="928800"/>
                <a:ext cx="331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95120" y="2143080"/>
                <a:ext cx="89488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285840" y="3571920"/>
                <a:ext cx="55180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31800" y="5000760"/>
                <a:ext cx="38624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394160" y="5000760"/>
                <a:ext cx="2327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285840" y="4071960"/>
            <a:ext cx="850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55736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изучении наук примеры не мене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оучительны, нежели правила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Исаак Ньют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меры учат больше, чем теория”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М.В. Ломонос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428760" y="909720"/>
                <a:ext cx="33112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357120" y="2214720"/>
                <a:ext cx="721512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428760" y="3643200"/>
                <a:ext cx="40608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599000" y="3643200"/>
                <a:ext cx="3863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428760" y="4929120"/>
                <a:ext cx="23256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lus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3000240" y="7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Задание 4 (а,б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500880" cy="57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1928880" y="2214720"/>
            <a:ext cx="5286240" cy="84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3"/>
          <a:stretch/>
        </p:blipFill>
        <p:spPr>
          <a:xfrm>
            <a:off x="1714680" y="2928960"/>
            <a:ext cx="4429080" cy="117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1928880" y="3143160"/>
            <a:ext cx="500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тветы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0" y="2071800"/>
            <a:ext cx="68198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428760" y="1143000"/>
                <a:ext cx="5124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604800" y="1928880"/>
                <a:ext cx="4770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57880" y="1928880"/>
                <a:ext cx="32716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5"/>
              <p:cNvSpPr txBox="1"/>
              <p:nvPr/>
            </p:nvSpPr>
            <p:spPr>
              <a:xfrm>
                <a:off x="500040" y="2500200"/>
                <a:ext cx="4257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786200" y="2500200"/>
                <a:ext cx="33908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374760" y="3857760"/>
                <a:ext cx="59529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"/>
              <p:cNvSpPr txBox="1"/>
              <p:nvPr/>
            </p:nvSpPr>
            <p:spPr>
              <a:xfrm>
                <a:off x="571680" y="5429160"/>
                <a:ext cx="2089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9"/>
              <p:cNvSpPr txBox="1"/>
              <p:nvPr/>
            </p:nvSpPr>
            <p:spPr>
              <a:xfrm>
                <a:off x="2714760" y="5143680"/>
                <a:ext cx="1852560" cy="12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519120" cy="78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37b8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2" descr="D:\Мои рисунки\Фоны для презентаций\slide0001_background.gif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857160" y="42876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ПРОИЗ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71760" y="1214280"/>
          <a:ext cx="6000480" cy="535788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(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x+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92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x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d083"/>
                        </a:gs>
                        <a:gs pos="100000">
                          <a:srgbClr val="ffefd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374920" y="1285920"/>
                <a:ext cx="1550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5351400" y="1285920"/>
                <a:ext cx="1656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619360" y="5715000"/>
                <a:ext cx="981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5467320" y="5688000"/>
                <a:ext cx="9968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3" descr=""/>
          <p:cNvPicPr/>
          <p:nvPr/>
        </p:nvPicPr>
        <p:blipFill>
          <a:blip r:embed="rId1"/>
          <a:stretch/>
        </p:blipFill>
        <p:spPr>
          <a:xfrm>
            <a:off x="-42840" y="884160"/>
            <a:ext cx="9326520" cy="96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1571760" y="1785960"/>
                <a:ext cx="5895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643040" y="2643120"/>
                <a:ext cx="635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V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571760" y="3429000"/>
                <a:ext cx="635004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785960" y="5357880"/>
                <a:ext cx="73580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 {</m:t>
                        </m:r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Установите соответствия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68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Функция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 Производная 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а) 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7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1) 2x-si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б) 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 cos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2) 5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в) sin3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3) -2sin2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г) сos2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4) 3cos3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д) х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5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х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5) 2х+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ая соединительная линия 4"/>
          <p:cNvSpPr/>
          <p:nvPr/>
        </p:nvSpPr>
        <p:spPr>
          <a:xfrm>
            <a:off x="642960" y="2428920"/>
            <a:ext cx="7643880" cy="144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Функция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 Производная 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а) 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7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1) 2x-si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б) 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 cos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2) 5x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в) sin3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3) -2sin2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г) сos2x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4) 3cos3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д) х</a:t>
            </a:r>
            <a:r>
              <a:rPr b="0" lang="ru-RU" sz="2600" spc="-1" strike="noStrike" baseline="30000">
                <a:solidFill>
                  <a:srgbClr val="672020"/>
                </a:solidFill>
                <a:latin typeface="Constantia"/>
              </a:rPr>
              <a:t>5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+2х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672020"/>
                </a:solidFill>
                <a:latin typeface="Constantia"/>
              </a:rPr>
              <a:t>5) 2х+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ая соединительная линия 4"/>
          <p:cNvSpPr/>
          <p:nvPr/>
        </p:nvSpPr>
        <p:spPr>
          <a:xfrm>
            <a:off x="785880" y="2428920"/>
            <a:ext cx="7643880" cy="144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6"/>
          <p:cNvCxnSpPr/>
          <p:nvPr/>
        </p:nvCxnSpPr>
        <p:spPr>
          <a:xfrm>
            <a:off x="2286000" y="2714400"/>
            <a:ext cx="2572560" cy="192924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1" name="Прямая со стрелкой 8"/>
          <p:cNvCxnSpPr/>
          <p:nvPr/>
        </p:nvCxnSpPr>
        <p:spPr>
          <a:xfrm flipV="1">
            <a:off x="2428920" y="2714040"/>
            <a:ext cx="2572560" cy="50076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2" name="Прямая со стрелкой 10"/>
          <p:cNvCxnSpPr/>
          <p:nvPr/>
        </p:nvCxnSpPr>
        <p:spPr>
          <a:xfrm flipV="1">
            <a:off x="2142720" y="3642480"/>
            <a:ext cx="2715480" cy="42948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3" name="Прямая со стрелкой 12"/>
          <p:cNvCxnSpPr/>
          <p:nvPr/>
        </p:nvCxnSpPr>
        <p:spPr>
          <a:xfrm flipV="1">
            <a:off x="2143080" y="3214440"/>
            <a:ext cx="2858400" cy="142920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  <p:cxnSp>
        <p:nvCxnSpPr>
          <p:cNvPr id="224" name="Прямая со стрелкой 14"/>
          <p:cNvCxnSpPr/>
          <p:nvPr/>
        </p:nvCxnSpPr>
        <p:spPr>
          <a:xfrm>
            <a:off x="1999800" y="3571560"/>
            <a:ext cx="3001320" cy="429480"/>
          </a:xfrm>
          <a:prstGeom prst="straightConnector1">
            <a:avLst/>
          </a:prstGeom>
          <a:ln w="9360">
            <a:solidFill>
              <a:srgbClr val="b37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143160" y="785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428760" y="1571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Найдите производные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96840" y="2286000"/>
                <a:ext cx="4335480" cy="33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143680" y="2428920"/>
                <a:ext cx="378432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633480" cy="4849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428760" y="2286000"/>
                <a:ext cx="350820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3714840" y="2357280"/>
                <a:ext cx="27194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6572160" y="2857680"/>
                <a:ext cx="433440" cy="30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571680" y="3714840"/>
                <a:ext cx="27572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3286080" y="3786120"/>
                <a:ext cx="20876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357120" y="1071720"/>
                <a:ext cx="334980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Реш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1:45:14Z</dcterms:created>
  <dc:creator>Admin</dc:creator>
  <dc:description/>
  <dc:language>en-US</dc:language>
  <cp:lastModifiedBy>REDISKA</cp:lastModifiedBy>
  <dcterms:modified xsi:type="dcterms:W3CDTF">2019-01-02T05:46:45Z</dcterms:modified>
  <cp:revision>35</cp:revision>
  <dc:subject/>
  <dc:title>Слайд 1</dc:title>
</cp:coreProperties>
</file>