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8D4-9C26-4B57-A2B7-256687B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400-B15F-4246-A02A-940C776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1D9-22B7-4BB0-BB67-3E28F560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5FD-B802-4ED3-A904-F8F11086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29FE-9DC0-43B5-866C-86658EE3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2898-B1D1-4876-AD2F-D3819F1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80A3-72B7-43A1-A7FD-D16C32F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455A-2BA1-4D53-A1D3-54D6F095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499-FCA8-487B-8371-83ADACEC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05B6-B575-490A-AD76-8E5FB27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E95A-8EC2-4254-AD47-D88BAB5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8AB-6604-4902-B2B8-460E162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43B-D73B-47F8-B7E0-8538439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E966-7D59-425E-B50A-FBA093E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E06-7E9C-40F8-9D92-FC46076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4536-35A1-4654-ACD9-24A324B1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DA0-68FB-4E0C-A321-6D6E83F7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BB0-2DFB-4AAD-B3DF-DB24FE1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6D5-9C56-4354-8838-CBA7885B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61C-D69D-4F0F-8C38-65F7D19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E4F-AC7C-44F6-A9E7-1C383A5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BA5-BB89-44E8-86CA-9003E76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2A9-AD5E-457E-B8AD-4C89843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AC1-2F11-4FEF-82E6-D366192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e768f"/>
                </a:gs>
                <a:gs pos="100000">
                  <a:srgbClr val="c5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DF16-E690-4F78-8123-5E4931099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c5ff"/>
                </a:gs>
                <a:gs pos="100000">
                  <a:srgbClr val="535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e768f"/>
                </a:gs>
                <a:gs pos="100000">
                  <a:srgbClr val="c5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100000">
                  <a:srgbClr val="b3c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5d3ff"/>
                </a:gs>
                <a:gs pos="50000">
                  <a:srgbClr val="b3c5ff"/>
                </a:gs>
                <a:gs pos="100000">
                  <a:srgbClr val="c5d3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c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92FD-3287-4904-B51F-658B0F0752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Предмет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Физика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Класс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Учитель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Лаврова Анна Николаевна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Тема урока: 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Решение задач по темам: </a:t>
            </a:r>
            <a:br>
              <a:rPr sz="1800"/>
            </a:b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«Механическое движение. Масса. Плотность вещества»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Место урока в изучаемом разделе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13 урок в разделе «Взаимодействие тел» 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Роль урока в изучаемом разделе: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систематизация знаний по кинематике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       равномерного движения, индивидуальный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             предметно-рефлексивный анализ ЗУН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Тип урока: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урок отработки умений и рефлексии</a:t>
            </a:r>
            <a:br>
              <a:rPr sz="1800"/>
            </a:br>
            <a:r>
              <a:rPr b="1" lang="ru-RU" sz="1800" spc="-1" strike="noStrike">
                <a:solidFill>
                  <a:srgbClr val="00139c"/>
                </a:solidFill>
                <a:latin typeface="Times New Roman"/>
                <a:ea typeface="Times New Roman"/>
              </a:rPr>
              <a:t>Вид урока: </a:t>
            </a:r>
            <a:r>
              <a:rPr b="1" lang="ru-RU" sz="1800" spc="-1" strike="noStrike">
                <a:solidFill>
                  <a:srgbClr val="0037e2"/>
                </a:solidFill>
                <a:latin typeface="Times New Roman"/>
                <a:ea typeface="Times New Roman"/>
              </a:rPr>
              <a:t>урок-путешествие «По следам одной катастрофы»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4638600" y="853920"/>
            <a:ext cx="4322880" cy="27608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3"/>
          <p:cNvSpPr/>
          <p:nvPr/>
        </p:nvSpPr>
        <p:spPr>
          <a:xfrm>
            <a:off x="179280" y="277920"/>
            <a:ext cx="8744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ШАРАПОВСКАЯ СРЕДНЯЯ ШКО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42920" y="1357200"/>
            <a:ext cx="45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изитная карточка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290400" y="607212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ло Шарапово, 2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24000" y="1125360"/>
            <a:ext cx="5256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Цель урок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держательный компонент: обобщение и систематизация знаний по кинематике равномерного движ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ятельностный компонент: создание условий для отработки комплекса УУД решения задач различного типа, для формирования навыка предметно-рефлексивного анали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Рисунок 2" descr=""/>
          <p:cNvPicPr/>
          <p:nvPr/>
        </p:nvPicPr>
        <p:blipFill>
          <a:blip r:embed="rId1"/>
          <a:stretch/>
        </p:blipFill>
        <p:spPr>
          <a:xfrm>
            <a:off x="5479920" y="3492360"/>
            <a:ext cx="3468960" cy="2318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5048280" y="1122480"/>
            <a:ext cx="39006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14200" y="428760"/>
            <a:ext cx="8715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дачи урок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ающие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формирование навыков: решения в устной форме, постановки вопроса расчетной физической задачи, поиска кратчайшего способа решения, анализа полученного результата; отработка навыка записи краткого условия задачи, оформления ре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ющие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продолжение формирования комплекса метапредметных УУД: выдвижение гипотез, анализ подобной информации из источников различного типа, способствовать развитию умения оценивать результат своей деятельности и деятельности других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ывающие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должение формирования позитивного отношения к физике, осознания важности изучения предмета для правильной трактовки жизненных ситуаций; активизация личностной мотивации, творческих способност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D:\Диск D\Документы\2018-2019 учебный год\Открытый урок_2017_фото\DSC_0827.JPG"/>
          <p:cNvPicPr/>
          <p:nvPr/>
        </p:nvPicPr>
        <p:blipFill>
          <a:blip r:embed="rId1"/>
          <a:stretch/>
        </p:blipFill>
        <p:spPr>
          <a:xfrm>
            <a:off x="2419200" y="4376880"/>
            <a:ext cx="2384640" cy="24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Диск D\Документы\2018-2019 учебный год\Открытый урок_2017_фото\DSC_0825.JPG"/>
          <p:cNvPicPr/>
          <p:nvPr/>
        </p:nvPicPr>
        <p:blipFill>
          <a:blip r:embed="rId2"/>
          <a:stretch/>
        </p:blipFill>
        <p:spPr>
          <a:xfrm>
            <a:off x="4352760" y="4376880"/>
            <a:ext cx="37245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8:53:44Z</dcterms:created>
  <dc:creator>Лаврова</dc:creator>
  <dc:description/>
  <dc:language>en-US</dc:language>
  <cp:lastModifiedBy>user</cp:lastModifiedBy>
  <dcterms:modified xsi:type="dcterms:W3CDTF">2019-01-03T18:17:42Z</dcterms:modified>
  <cp:revision>57</cp:revision>
  <dc:subject/>
  <dc:title>Урок на тему « По следам одной катастрофы»  Цель урока- повторить, обобщить, проверить знания по темам: «Механическое движение. Плотность вещества»</dc:title>
</cp:coreProperties>
</file>