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BA1-3F01-4E29-85F9-65860BDA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793-703D-483E-A858-48FF165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614-2D4E-4CDF-B736-6E9FEBFB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117-F835-460B-BDC9-CA06F019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D44C-21F4-4774-A691-2955BB7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CB6B-A85F-4997-ACE9-F7D05F5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6A7-B4D9-4BC1-AED8-BA28917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3D6-A5DC-449C-836E-607E611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CD7-5ECB-437A-BD75-E8D3DB70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0B8-5EBC-45FE-96CB-DD04542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528A-2585-43F1-844E-95C04F4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1CD-35EF-432B-8364-F743A652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0AB-5C92-4744-A207-CDFA1A6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52D-DD0F-4DE5-991D-6DB3909F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B54-9BC0-4C50-96F7-D314521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249-ADAC-47E4-8470-45BC7FD9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6ADA-027C-4B21-B95B-833CB980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971-C856-465F-BA53-B74AC99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0F4-69DF-48DC-A148-69C0399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612-5FC8-4479-BE56-2309CB1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01E-4916-4526-83CA-A214ADE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323-F4E8-40E2-ADB4-8B2C5B9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C0A-B23B-4A5A-8EF5-0ED71B03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DC-81E5-44D5-98C7-9355FDC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e768f"/>
                </a:gs>
                <a:gs pos="100000">
                  <a:srgbClr val="c5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7F2-A665-4660-B4F3-3972575394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e768f"/>
                </a:gs>
                <a:gs pos="100000">
                  <a:srgbClr val="c5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BBE8-ECC3-4F37-A541-E2E5BC6ED5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Предмет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Физика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Класс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Учитель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Лаврова Анна Николаевна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Тема урока: 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Решение задач по темам: </a:t>
            </a:r>
            <a:br>
              <a:rPr sz="1800"/>
            </a:b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«Механическое движение. Масса. Плотность вещества»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Место урока в изучаемом разделе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13 урок в разделе «Взаимодействие тел» 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Роль урока в изучаемом разделе: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систематизация знаний по кинематике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       равномерного движения, индивидуальный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       предметно-рефлексивный анализ ЗУН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Тип урока: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урок отработки умений и рефлексии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Вид урока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урок-путешествие «По следам одной катастрофы»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4638600" y="853920"/>
            <a:ext cx="4322880" cy="27608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3"/>
          <p:cNvSpPr/>
          <p:nvPr/>
        </p:nvSpPr>
        <p:spPr>
          <a:xfrm>
            <a:off x="179280" y="277920"/>
            <a:ext cx="8744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ШАРАПОВСКАЯ СРЕДНЯЯ ШКО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42920" y="1357200"/>
            <a:ext cx="45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изитная карточка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290400" y="607212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ло Шарапово, 2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24000" y="1125360"/>
            <a:ext cx="5256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Цель урок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держательный компонент: обобщение и систематизация знаний по кинематике равномерного движ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ятельностный компонент: создание условий для отработки комплекса УУД решения задач различного типа, для формирования навыка предметно-рефлексивного анали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Рисунок 2" descr=""/>
          <p:cNvPicPr/>
          <p:nvPr/>
        </p:nvPicPr>
        <p:blipFill>
          <a:blip r:embed="rId1"/>
          <a:stretch/>
        </p:blipFill>
        <p:spPr>
          <a:xfrm>
            <a:off x="5479920" y="3492360"/>
            <a:ext cx="3468960" cy="2318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5048280" y="1122480"/>
            <a:ext cx="39006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14200" y="428760"/>
            <a:ext cx="8715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дачи урок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ающие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формирование навыков: решения в устной форме, постановки вопроса расчетной физической задачи, поиска кратчайшего способа решения, анализа полученного результата; отработка навыка записи краткого условия задачи, оформления ре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ющ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продолжение формирования комплекса метапредметных УУД: выдвижение гипотез, анализ подобной информации из источников различного типа, способствовать развитию умения оценивать результат своей деятельности и деятельности других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ывающие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должение формирования позитивного отношения к физике, осознания важности изучения предмета для правильной трактовки жизненных ситуаций; активизация личностной мотивации, творческих способност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D:\Диск D\Документы\2018-2019 учебный год\Открытый урок_2017_фото\DSC_0827.JPG"/>
          <p:cNvPicPr/>
          <p:nvPr/>
        </p:nvPicPr>
        <p:blipFill>
          <a:blip r:embed="rId1"/>
          <a:stretch/>
        </p:blipFill>
        <p:spPr>
          <a:xfrm>
            <a:off x="2419200" y="4376880"/>
            <a:ext cx="2384640" cy="24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Диск D\Документы\2018-2019 учебный год\Открытый урок_2017_фото\DSC_0825.JPG"/>
          <p:cNvPicPr/>
          <p:nvPr/>
        </p:nvPicPr>
        <p:blipFill>
          <a:blip r:embed="rId2"/>
          <a:stretch/>
        </p:blipFill>
        <p:spPr>
          <a:xfrm>
            <a:off x="4352760" y="4376880"/>
            <a:ext cx="37245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8:53:44Z</dcterms:created>
  <dc:creator>Лаврова</dc:creator>
  <dc:description/>
  <dc:language>en-US</dc:language>
  <cp:lastModifiedBy>user</cp:lastModifiedBy>
  <dcterms:modified xsi:type="dcterms:W3CDTF">2019-01-03T18:17:42Z</dcterms:modified>
  <cp:revision>57</cp:revision>
  <dc:subject/>
  <dc:title>Урок на тему « По следам одной катастрофы»  Цель урока- повторить, обобщить, проверить знания по темам: «Механическое движение. Плотность вещества»</dc:title>
</cp:coreProperties>
</file>