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C7A-3ABC-4213-BEC9-1E895871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8EA-C3FE-4CCA-B617-4CE4F59D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3D9-EAA6-4F02-A82E-4261C6D7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1F0-C618-40E9-8A9E-92BF6626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0D45-B02F-4A1F-8346-933CD6CC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1147-6DB3-42EC-A449-9AF2A2ED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2534-810A-46A2-B1FE-7FB5411E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9C73-8DF8-4313-ABE2-0F5DF2DB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2A92-68D1-4513-9094-D7D64494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7533-B121-48AD-8A1D-D4B9E015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D448-AE17-449D-AE7F-6A8CA993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916-CDF9-4FD1-8D77-D6330B8B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CD1-70D3-4A73-8A2C-EB835F2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CD74-FE4F-4AFB-AB2D-34CD2B45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7522-F352-4618-820D-B5592210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4B2B-B666-472B-B2E3-B5C8198C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6D0D-F5B5-4D7D-B80B-FFBE7FDF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C862-B6B5-4C93-8274-EDFB1716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05B8-0B35-4F95-BDE7-F4AF92D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5DBB0-FD99-471B-B61C-3A5DC552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0920-F502-436A-81E1-CBB7147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F2F3-FC81-49D5-97E3-204E7284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D33-4AFB-44B5-9CD5-829C7691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2F94-EB5D-4F73-B8CB-CD4D7341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AB0A-903F-4EE6-8D8D-4ACD41A0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E1F2-D034-441C-A0EA-20B8892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F422-ABC3-4060-AD60-ED3EE3B2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1202-A013-4937-8475-47B9D04F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787E-98CC-4C1D-95CE-C20CDEAD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615F-D216-4099-9A9D-ECBAC96A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ED06-9830-43EC-BDBD-7CAC4645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F13D-E03A-455C-B2FB-A44B0DE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F7AE-10A0-4BB7-9100-84BDF1D1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542-06A9-4E63-A56A-36B25F16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1D485-9E72-483B-B2E6-2D8D860A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C92D-44F9-4F0A-BBF8-95553513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2BC9B-1828-4C95-8B8F-ABA7DAA2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CD69-F268-47C5-8587-C947B5F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1400-C8A3-4820-9434-D42E942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32FC-0D4A-4251-8730-49061B8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65B4-8690-447B-9D7D-2EA3E574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DAE0A-0A5C-434C-9B08-651BD545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F0872-8519-4401-B3F4-E914256E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7624-7F15-42E9-A370-8250169F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E53-0897-4F4D-8274-02A26CAB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6BF3-B09A-4B1D-A20E-59745085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D491-330A-4D28-BED7-1646E725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54A8-43E8-4BA1-B01E-86AA8165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8A8F-535E-4C23-80DD-61F207C5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AC4A-C215-4EFB-875A-EA854E6F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D0CB6-D4B9-409F-87AC-5CE258BF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B154-F2FF-43B3-9029-A5F53449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465C-D839-4B6B-B91D-7C215D7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76B3-D17A-4022-9B4B-58E33341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140A4-12C8-43B1-A253-54BE77AA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400-2655-449A-BC6C-DFC74703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B83AC-65EA-4B72-AA07-9561680B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B5EF-B737-410C-89EB-1FCABFB6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28C95-BA98-44F6-BC6E-7990BCF3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31124-4100-4A70-8A4C-45927571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17EE9-FF47-4CAB-B890-279F1E27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E9945-5C3F-49D5-976E-D4EAEFE7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028B-64A9-4A1B-B947-05FE9AB3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9273-6F34-4324-8CE8-0B09985F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3CE3-758E-439A-BAD5-186BA65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611F4-70C0-4891-A383-41ADC7C2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8F0-1D14-4CCD-9289-EBECE4D5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9F40A-C429-42B5-BD66-A42DD9F2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13E08-5AF6-4676-A3FA-2E41F1B7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FD03F-0E93-44E1-8F1C-4AADD5F3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B7708-55D1-49D3-B621-3C896E4B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7CC76-0A82-449B-BEBE-4CA9D308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75481-B266-482A-A942-A935764D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4ACAF-8A5A-4B9E-9324-DCAF0ED2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1125-7105-463D-A598-7668A44B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FCC85-127F-473C-98E8-F77E8DC5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6918F-81EB-4DF6-9247-D89DD63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C26-32AC-4DE5-A917-92F60076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0712B-B4DA-4ADF-9E47-415AC9F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EA75C-89ED-45D9-A25C-3F13169D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42BAA-0372-4227-B413-E8B9255D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6A1F1-485C-4A40-A259-3D7F5812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8EC1-A442-4309-9B3E-6C44ECD6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881-0B6A-4B55-9692-B9E98E4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F996-79A6-401C-B4D5-72267CC08B0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8621-660B-4731-9F63-24C325E498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17CE-1A26-4F25-97A4-32A5ED8161B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71CE-08F0-4F67-81C0-F13600867F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5838-1356-4F3A-9E73-27AB2863338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5201-3713-4E66-9ED8-6FCC479172F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DCA8-CC0B-43A6-AEA8-B34E766EDF2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4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Использование схем и моделей для развития речи детей старшего дошкольного возрас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Из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опыта работы учителя - логопеда Кочубеевой А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2016г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    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   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Все мы знаем, как трудно бывает ребенку построить связный рассказ,  даже просто пересказать знакомый текст. Дело тут не только в уровне развития речи. Детей  часто сбивают детали произведения, которые на их взгляд показались  наиболее важными, и они могут повторить их неоднократно. А ведь основное для рассказчика - это передать сюжет произведения, быть понятым другим человеком, а не просто выразить свои чувств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  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Иными словами, ребенок должен научиться выделять самое главное в повествовании, последовательно излагать основные действия и события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Мы обратили внимание также на некоторые затруднения, которые возникают у детей при составлении описательных рассказов. Вот основные из них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 самостоятельно определить при рассматривании предмета его главные свойства и признаки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 установить последовательность изложения выявленных признаков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 удержать в памяти эту последовательность, которая является планом рассказа-описания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процессе обучения детей мы обратили внимание на факторы, облегчающие процесс становления связной речи. Это наглядность и создание плана высказывания. Мы пришли к выводу, что использование схем и моделей наиболее отвечает этим требования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ак же помочь детям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1 этап: Использование предметных моделе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Объект 1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687400" cy="2016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дной из главных задач  обучения детей является формирование словаря, на базе которого будет в дальнейшем развиваться коммуникативная функция речи. Детям предлагается дифференцировать различные категории слов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слова, обозначающие             предметы или явл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слова-признак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слова- действ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Рисунок 2" descr=""/>
          <p:cNvPicPr/>
          <p:nvPr/>
        </p:nvPicPr>
        <p:blipFill>
          <a:blip r:embed="rId2"/>
          <a:stretch/>
        </p:blipFill>
        <p:spPr>
          <a:xfrm>
            <a:off x="2589120" y="4073400"/>
            <a:ext cx="1962360" cy="26164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3" descr=""/>
          <p:cNvPicPr/>
          <p:nvPr/>
        </p:nvPicPr>
        <p:blipFill>
          <a:blip r:embed="rId3"/>
          <a:stretch/>
        </p:blipFill>
        <p:spPr>
          <a:xfrm>
            <a:off x="0" y="422100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2 этап: Использование предметно-схематических модел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2637000"/>
            <a:ext cx="3887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На этом этапе  дети учатся по схематическим моделям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составлять предложения и описательные рассказы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пересказывать небольшие  произведения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заучивать стихотворения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Использование схем, мнемотаблиц облегчает и ускоряет процесс запоминания и усвоения текстов, формирует приемы работы с памятью.  Это приводит к тому, что дети  более отчетливо осознают вспомогательную роль изображений для  удержания в памяти словесного материала. При этом виде деятельности включаются не только слуховые, но и зрительные анализаторы. Дети легко вспоминают картинку, а потом припоминают слов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     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Также модельные схемы и мнемотаблицы можно применять  при загадывании и отгадывании загадок, пословиц, поговорок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8" name="Объект 2" descr=""/>
          <p:cNvPicPr/>
          <p:nvPr/>
        </p:nvPicPr>
        <p:blipFill>
          <a:blip r:embed="rId1"/>
          <a:stretch/>
        </p:blipFill>
        <p:spPr>
          <a:xfrm>
            <a:off x="4740120" y="2708280"/>
            <a:ext cx="2016360" cy="15127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7"/>
          <p:cNvSpPr/>
          <p:nvPr/>
        </p:nvSpPr>
        <p:spPr>
          <a:xfrm>
            <a:off x="-7560" y="-458640"/>
            <a:ext cx="2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 </a:t>
            </a:r>
            <a:br>
              <a:rPr sz="253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0" name="Picture 8" descr="http://rudocs.exdat.com/pars_docs/tw_refs/66/65853/65853_html_m16e6338c.jpg"/>
          <p:cNvPicPr/>
          <p:nvPr/>
        </p:nvPicPr>
        <p:blipFill>
          <a:blip r:embed="rId2"/>
          <a:stretch/>
        </p:blipFill>
        <p:spPr>
          <a:xfrm>
            <a:off x="4859280" y="4365720"/>
            <a:ext cx="1590840" cy="215568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0" descr="http://rudocs.exdat.com/pars_docs/tw_refs/66/65853/65853_html_f5da43.jpg"/>
          <p:cNvPicPr/>
          <p:nvPr/>
        </p:nvPicPr>
        <p:blipFill>
          <a:blip r:embed="rId3"/>
          <a:stretch/>
        </p:blipFill>
        <p:spPr>
          <a:xfrm>
            <a:off x="7093080" y="2708280"/>
            <a:ext cx="1838160" cy="174636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"/>
          <p:cNvPicPr/>
          <p:nvPr/>
        </p:nvPicPr>
        <p:blipFill>
          <a:blip r:embed="rId4"/>
          <a:stretch/>
        </p:blipFill>
        <p:spPr>
          <a:xfrm>
            <a:off x="6804000" y="4730760"/>
            <a:ext cx="2112840" cy="15858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2" descr="C:\Documents and Settings\Пользователь\Рабочий стол\Права\схема 1.jpg"/>
          <p:cNvPicPr/>
          <p:nvPr/>
        </p:nvPicPr>
        <p:blipFill>
          <a:blip r:embed="rId5"/>
          <a:srcRect l="35627" t="62391" r="32813" b="12137"/>
          <a:stretch/>
        </p:blipFill>
        <p:spPr>
          <a:xfrm>
            <a:off x="6432480" y="3581280"/>
            <a:ext cx="1579680" cy="1654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54" name="Рисунок 3" descr="C:\Documents and Settings\Пользователь\Рабочий стол\Права\схема 2.jpg"/>
          <p:cNvPicPr/>
          <p:nvPr/>
        </p:nvPicPr>
        <p:blipFill>
          <a:blip r:embed="rId6"/>
          <a:srcRect l="59319" t="26954" r="8544" b="48325"/>
          <a:stretch/>
        </p:blipFill>
        <p:spPr>
          <a:xfrm>
            <a:off x="5722920" y="4610160"/>
            <a:ext cx="1498680" cy="14828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 spd="slow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3 этап: Использовани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графических моделей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Объект 2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102040" cy="1576080"/>
          </a:xfrm>
          <a:prstGeom prst="rect">
            <a:avLst/>
          </a:prstGeom>
          <a:ln w="0">
            <a:noFill/>
          </a:ln>
        </p:spPr>
      </p:pic>
      <p:pic>
        <p:nvPicPr>
          <p:cNvPr id="357" name="Объект 4" descr=""/>
          <p:cNvPicPr/>
          <p:nvPr/>
        </p:nvPicPr>
        <p:blipFill>
          <a:blip r:embed="rId2"/>
          <a:stretch/>
        </p:blipFill>
        <p:spPr>
          <a:xfrm>
            <a:off x="2390760" y="35481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92720" y="2786040"/>
            <a:ext cx="385128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Данный этап является уже творческим и направлен на   обучение составлению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историй, сказок,   рассказов самим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детьми, используя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более сложные модели и схем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9" name="Рисунок 5" descr=""/>
          <p:cNvPicPr/>
          <p:nvPr/>
        </p:nvPicPr>
        <p:blipFill>
          <a:blip r:embed="rId3"/>
          <a:stretch/>
        </p:blipFill>
        <p:spPr>
          <a:xfrm>
            <a:off x="452520" y="3529080"/>
            <a:ext cx="1824120" cy="13669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" descr=""/>
          <p:cNvPicPr/>
          <p:nvPr/>
        </p:nvPicPr>
        <p:blipFill>
          <a:blip r:embed="rId4"/>
          <a:stretch/>
        </p:blipFill>
        <p:spPr>
          <a:xfrm>
            <a:off x="222120" y="4941720"/>
            <a:ext cx="2054520" cy="154008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7" descr=""/>
          <p:cNvPicPr/>
          <p:nvPr/>
        </p:nvPicPr>
        <p:blipFill>
          <a:blip r:embed="rId5"/>
          <a:stretch/>
        </p:blipFill>
        <p:spPr>
          <a:xfrm>
            <a:off x="2411280" y="4941720"/>
            <a:ext cx="208944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4 этап: Модели, придуманные детьм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По мере осознания детьми способа замещения признаков, связей между реальными объектами, их моделями становится возможным привлекать детей к совместному с воспитателем, а затем и к самостоятельному </a:t>
            </a:r>
            <a:r>
              <a:rPr b="1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моделированию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Заключительным этапом работы является самостоятельное изображение модели на бумаге. Например, воспитатель читает литературный текст, а ребенок самостоятельно создаёт (рисует) элементы модельной схемы к произведению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4" name="Объект 2" descr=""/>
          <p:cNvPicPr/>
          <p:nvPr/>
        </p:nvPicPr>
        <p:blipFill>
          <a:blip r:embed="rId1"/>
          <a:stretch/>
        </p:blipFill>
        <p:spPr>
          <a:xfrm>
            <a:off x="6516720" y="2741760"/>
            <a:ext cx="2357280" cy="17668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3" descr=""/>
          <p:cNvPicPr/>
          <p:nvPr/>
        </p:nvPicPr>
        <p:blipFill>
          <a:blip r:embed="rId2"/>
          <a:stretch/>
        </p:blipFill>
        <p:spPr>
          <a:xfrm>
            <a:off x="4284720" y="4437000"/>
            <a:ext cx="2374920" cy="178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Перспективы использования метода моделирования в работе с детьми старшего дошкольного возраста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Объект 1" descr=""/>
          <p:cNvPicPr/>
          <p:nvPr/>
        </p:nvPicPr>
        <p:blipFill>
          <a:blip r:embed="rId1"/>
          <a:stretch/>
        </p:blipFill>
        <p:spPr>
          <a:xfrm>
            <a:off x="1224000" y="3633840"/>
            <a:ext cx="1932120" cy="14493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      </a:t>
            </a:r>
            <a:r>
              <a:rPr b="0" lang="ru-RU" sz="10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Применять модельные схемы  можно и на других занятиях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конструировани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математике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экологи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лепке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аппликации и др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Таким образом, с помощью мнемотаблиц, схем - моделей удаётся достичь следующих результатов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у детей увеличивается круг знаний об окружающем мире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появляется желание пересказывать тексты, придумывать интересные истории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появляется интерес к  заучиванию стихов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словарный запас выходит на более высокий уровень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дети преодолевают  застенчивость, учатся свободно держаться перед аудиторией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9" name="Рисунок 4" descr=""/>
          <p:cNvPicPr/>
          <p:nvPr/>
        </p:nvPicPr>
        <p:blipFill>
          <a:blip r:embed="rId2"/>
          <a:stretch/>
        </p:blipFill>
        <p:spPr>
          <a:xfrm>
            <a:off x="250920" y="21938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7" descr=""/>
          <p:cNvPicPr/>
          <p:nvPr/>
        </p:nvPicPr>
        <p:blipFill>
          <a:blip r:embed="rId3"/>
          <a:stretch/>
        </p:blipFill>
        <p:spPr>
          <a:xfrm>
            <a:off x="2411280" y="5051520"/>
            <a:ext cx="201636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Баряева Л.Б., Логинова Е.Т., Лопатина Л.В.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Я – говорю! М., 2007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Белоусова Л.Е. Раз, два, три, четыре, пять- начинаем мы играть. Санкт-Петербург «Детство-Пресс», 2003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Большева Т.В. Учимся по сказке. Санкт-Петербург «Детство-Пресс», 2005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4. Полянская Т.Б.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Использование метода мнемотехники в                     обучении рассказыванию детей дошкольного возраста. СПб., 2009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5.Стукалина В.П. 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истема работы по обучению детей с ОНР связной монологической речи через моделирование сюжета. М., “Первое сентября”, 2009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Используемая литература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7:14:56Z</dcterms:created>
  <dc:creator>Алекс</dc:creator>
  <dc:description/>
  <dc:language>en-US</dc:language>
  <cp:lastModifiedBy>GL_24_12_2015</cp:lastModifiedBy>
  <dcterms:modified xsi:type="dcterms:W3CDTF">2019-01-03T20:05:34Z</dcterms:modified>
  <cp:revision>37</cp:revision>
  <dc:subject/>
  <dc:title>Использование схем и моделей для развития речи детей старшего дошкольного возраста</dc:title>
</cp:coreProperties>
</file>