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BE4-7E9F-4CE7-92BA-DF808176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AC7-3504-4B94-95A2-E0716E27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7A2-E1D9-4247-B962-6D987E3D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508-B479-428A-935E-A069B4B5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1035-7805-48D6-A8DF-BD2BF4B8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4B9F-8BA8-4FE6-88E9-B80DCB6C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0C90-4067-46BB-95A0-3DCC95AF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B3F5-00DA-4740-996D-FD6743F8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31B9-4072-44A4-9CF2-C43BCFE6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F50C-8B80-4CFF-9ADC-EFF90099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CCB4-F628-4985-804A-47792DB0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B10-6830-49DA-BB62-C12402EA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1693-0E1E-4297-B9B9-CBA78EBD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86BB-0652-4102-97CB-9D9F5B78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E81D-BE44-46F5-8D25-6217F978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F1F8-0E33-4A42-B7F9-EEFECC00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A5DD-C948-47D3-B472-6BBFEFD3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19E9C-CA1E-4DDA-AE39-6A2F2579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DA970-2363-4A2E-96BE-7CBB9223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62829-C96C-4EA2-AB75-32D5B3AD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B0C27-FBF8-4473-A4D5-4AD78768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6ECF0-3FB7-46DC-9E35-D62D5CC6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5AB-058C-4D2B-AF67-1D06F806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50407-69C2-4DAE-A18B-694F25EA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7578B-C7D0-47AE-B08A-85796D90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9E61D-E57E-414C-B2E7-C1A3AF61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24102-8C91-4573-B71A-FDE68325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FCE7-5317-491D-BE56-91540AEB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072F6-7E15-437C-9947-FA515FDA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CF551-EE87-44F6-8E8A-CF5A4E34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C509A-757F-40D9-B161-50C6CEE7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88E25-6C86-4BE2-8CB5-3B2BDC25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5E20-7C4A-413F-8915-F725C3F6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259-2AC1-442C-993B-265A7DCB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44007-25BC-410C-B21B-DCDFC849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F4AE5-E78E-430C-9663-6A9E1FD4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4C290-823E-44C6-BA43-2FA6D8B9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E400D-1283-44CF-8EF9-C3D2BAFF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C8D2B-9A5E-44C5-9EA0-1272E869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A2905-6CA5-4775-93CF-247AF8E8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FEE0-61E2-457D-983A-72EDD701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E5A3F-3460-4810-9D00-5BEB26A8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41BE7-B59F-4ABF-A3E1-E0320A93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4B1B4-F12A-4383-87CE-EC44E413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FD7-6DA7-463D-B535-09CA3B35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DD940-3AE5-4821-B1F3-E062902A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F3532-EE5A-4B75-AC60-DCDBFED1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E8474-3B3B-430C-83A5-1D349F9D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37FD7-469E-479B-ABE8-8ACAD42F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6BB7D-B394-4E47-9B2B-82B1D994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7C215-F489-4FD7-9305-799564CA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53B49-78EC-4535-9B10-7EB843CF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57FF4-CFBA-4906-94BA-20E6DC41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3EFF6-6563-4784-B711-7C3C5697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345C1-B712-4C9F-9FD2-F1B91BDA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0B4-8B9A-4BB3-9213-A9E9C62E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5A3AD-3276-4385-B46B-5D87F818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003B3-C065-4378-B8CC-7E90E13B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CCE62-1D8D-4F16-B70B-9E1C30AB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3DBE0-0DC6-4E22-B7E3-FE6BD6A6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C6D51-6E65-4154-8AEA-DDB8920A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7FC50-158A-4369-BC50-453FFDCE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1924D-F379-4D96-A269-6F41D131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43A0F-3524-4899-BCC5-B5610CEF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7EED8-0400-4022-B3E7-584E7515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15A06-7993-4A06-BA0A-8F5BA0B8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6C7-C844-4BAC-9524-2EF440A6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0D6C3-E740-4656-A436-F54C42A5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8BF29-1C00-4A83-A98F-BE7FED5C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FBB2F-EAED-44C0-833D-B99B1B76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BFBA0-70D7-407A-B93E-0210721F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FAFD0-15F3-40CC-98EB-38DFDA75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87D4D-CD95-4423-B3A1-47BA2A19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9777A-B3D8-400C-9F76-62DDFDCF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475C3-625C-4111-8345-2930E4E5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156FB-7C5D-4611-9A53-76CF1AE6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88CFD-E7EE-43FA-B1D0-8A1C1572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A8F-758F-4300-B30F-5D773B09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77156-B095-4399-A32E-D36FC5EE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6A808-53F7-4D58-A337-F132F188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F2C60-7752-4CE1-9723-A753B4C8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702BD-60D0-476D-A09F-C702B0AC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A1967-6128-4F2A-978B-E0CE1D9D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AF6-E01E-40DA-825F-F6D26186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0394-5D35-41CE-974A-C771F794D4C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B1CC-12F3-47D5-A7BD-6CA77F363EF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67A6-921B-4E00-87A4-772A4D8336A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7215-FEE3-4D01-91DE-C2B5DFF0A5E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5140-8219-435B-8F44-A0DEA67C098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5415-C341-4CAF-8903-D2D1554B2CE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FA80-9F9E-4CDC-8970-C6959EB9CA9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4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Использование схем и моделей для развития речи детей старшего дошкольного возраст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Из</a:t>
            </a:r>
            <a:r>
              <a:rPr b="0" lang="en-US" sz="20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опыта работы учителя - логопеда Кочубеевой А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2016г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    </a:t>
            </a: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   </a:t>
            </a: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Все мы знаем, как трудно бывает ребенку построить связный рассказ,  даже просто пересказать знакомый текст. Дело тут не только в уровне развития речи. Детей  часто сбивают детали произведения, которые на их взгляд показались  наиболее важными, и они могут повторить их неоднократно. А ведь основное для рассказчика - это передать сюжет произведения, быть понятым другим человеком, а не просто выразить свои чувства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  </a:t>
            </a: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Иными словами, ребенок должен научиться выделять самое главное в повествовании, последовательно излагать основные действия и события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Мы обратили внимание также на некоторые затруднения, которые возникают у детей при составлении описательных рассказов. Вот основные из них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- самостоятельно определить при рассматривании предмета его главные свойства и признаки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- установить последовательность изложения выявленных признаков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- удержать в памяти эту последовательность, которая является планом рассказа-описания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процессе обучения детей мы обратили внимание на факторы, облегчающие процесс становления связной речи. Это наглядность и создание плана высказывания. Мы пришли к выводу, что использование схем и моделей наиболее отвечает этим требования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ак же помочь детям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1 этап: Использование предметных моделе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Объект 1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2687400" cy="2016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дной из главных задач  обучения детей является формирование словаря, на базе которого будет в дальнейшем развиваться коммуникативная функция речи. Детям предлагается дифференцировать различные категории слов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слова, обозначающие             предметы или явле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слова-признак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слова- действ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Рисунок 2" descr=""/>
          <p:cNvPicPr/>
          <p:nvPr/>
        </p:nvPicPr>
        <p:blipFill>
          <a:blip r:embed="rId2"/>
          <a:stretch/>
        </p:blipFill>
        <p:spPr>
          <a:xfrm>
            <a:off x="2589120" y="4073400"/>
            <a:ext cx="1962360" cy="261648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3" descr=""/>
          <p:cNvPicPr/>
          <p:nvPr/>
        </p:nvPicPr>
        <p:blipFill>
          <a:blip r:embed="rId3"/>
          <a:stretch/>
        </p:blipFill>
        <p:spPr>
          <a:xfrm>
            <a:off x="0" y="422100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2 этап: Использование предметно-схематических моделей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2637000"/>
            <a:ext cx="38876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На этом этапе  дети учатся по схематическим моделям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-составлять предложения и описательные рассказы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-пересказывать небольшие  произведения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-заучивать стихотворения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Использование схем, мнемотаблиц облегчает и ускоряет процесс запоминания и усвоения текстов, формирует приемы работы с памятью.  Это приводит к тому, что дети  более отчетливо осознают вспомогательную роль изображений для  удержания в памяти словесного материала. При этом виде деятельности включаются не только слуховые, но и зрительные анализаторы. Дети легко вспоминают картинку, а потом припоминают слова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     </a:t>
            </a: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Также модельные схемы и мнемотаблицы можно применять  при загадывании и отгадывании загадок, пословиц, поговорок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8" name="Объект 2" descr=""/>
          <p:cNvPicPr/>
          <p:nvPr/>
        </p:nvPicPr>
        <p:blipFill>
          <a:blip r:embed="rId1"/>
          <a:stretch/>
        </p:blipFill>
        <p:spPr>
          <a:xfrm>
            <a:off x="4740120" y="2708280"/>
            <a:ext cx="2016360" cy="15127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7"/>
          <p:cNvSpPr/>
          <p:nvPr/>
        </p:nvSpPr>
        <p:spPr>
          <a:xfrm>
            <a:off x="-7560" y="-458640"/>
            <a:ext cx="2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 </a:t>
            </a:r>
            <a:br>
              <a:rPr sz="253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0" name="Picture 8" descr="http://rudocs.exdat.com/pars_docs/tw_refs/66/65853/65853_html_m16e6338c.jpg"/>
          <p:cNvPicPr/>
          <p:nvPr/>
        </p:nvPicPr>
        <p:blipFill>
          <a:blip r:embed="rId2"/>
          <a:stretch/>
        </p:blipFill>
        <p:spPr>
          <a:xfrm>
            <a:off x="4859280" y="4365720"/>
            <a:ext cx="1590840" cy="215568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0" descr="http://rudocs.exdat.com/pars_docs/tw_refs/66/65853/65853_html_f5da43.jpg"/>
          <p:cNvPicPr/>
          <p:nvPr/>
        </p:nvPicPr>
        <p:blipFill>
          <a:blip r:embed="rId3"/>
          <a:stretch/>
        </p:blipFill>
        <p:spPr>
          <a:xfrm>
            <a:off x="7093080" y="2708280"/>
            <a:ext cx="1838160" cy="174636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6" descr=""/>
          <p:cNvPicPr/>
          <p:nvPr/>
        </p:nvPicPr>
        <p:blipFill>
          <a:blip r:embed="rId4"/>
          <a:stretch/>
        </p:blipFill>
        <p:spPr>
          <a:xfrm>
            <a:off x="6804000" y="4730760"/>
            <a:ext cx="2112840" cy="15858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2" descr="C:\Documents and Settings\Пользователь\Рабочий стол\Права\схема 1.jpg"/>
          <p:cNvPicPr/>
          <p:nvPr/>
        </p:nvPicPr>
        <p:blipFill>
          <a:blip r:embed="rId5"/>
          <a:srcRect l="35627" t="62391" r="32813" b="12137"/>
          <a:stretch/>
        </p:blipFill>
        <p:spPr>
          <a:xfrm>
            <a:off x="6432480" y="3581280"/>
            <a:ext cx="1579680" cy="16542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354" name="Рисунок 3" descr="C:\Documents and Settings\Пользователь\Рабочий стол\Права\схема 2.jpg"/>
          <p:cNvPicPr/>
          <p:nvPr/>
        </p:nvPicPr>
        <p:blipFill>
          <a:blip r:embed="rId6"/>
          <a:srcRect l="59319" t="26954" r="8544" b="48325"/>
          <a:stretch/>
        </p:blipFill>
        <p:spPr>
          <a:xfrm>
            <a:off x="5722920" y="4610160"/>
            <a:ext cx="1498680" cy="148284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 spd="slow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3 этап: Использовани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графических моделей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Объект 2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102040" cy="1576080"/>
          </a:xfrm>
          <a:prstGeom prst="rect">
            <a:avLst/>
          </a:prstGeom>
          <a:ln w="0">
            <a:noFill/>
          </a:ln>
        </p:spPr>
      </p:pic>
      <p:pic>
        <p:nvPicPr>
          <p:cNvPr id="357" name="Объект 4" descr=""/>
          <p:cNvPicPr/>
          <p:nvPr/>
        </p:nvPicPr>
        <p:blipFill>
          <a:blip r:embed="rId2"/>
          <a:stretch/>
        </p:blipFill>
        <p:spPr>
          <a:xfrm>
            <a:off x="2390760" y="3548160"/>
            <a:ext cx="1800360" cy="13478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292720" y="2786040"/>
            <a:ext cx="3851280" cy="33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Данный этап является уже творческим и направлен на   обучение составлению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историй, сказок,   рассказов самим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детьми, используя 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более сложные модели и схемы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9" name="Рисунок 5" descr=""/>
          <p:cNvPicPr/>
          <p:nvPr/>
        </p:nvPicPr>
        <p:blipFill>
          <a:blip r:embed="rId3"/>
          <a:stretch/>
        </p:blipFill>
        <p:spPr>
          <a:xfrm>
            <a:off x="452520" y="3529080"/>
            <a:ext cx="1824120" cy="13669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6" descr=""/>
          <p:cNvPicPr/>
          <p:nvPr/>
        </p:nvPicPr>
        <p:blipFill>
          <a:blip r:embed="rId4"/>
          <a:stretch/>
        </p:blipFill>
        <p:spPr>
          <a:xfrm>
            <a:off x="222120" y="4941720"/>
            <a:ext cx="2054520" cy="154008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7" descr=""/>
          <p:cNvPicPr/>
          <p:nvPr/>
        </p:nvPicPr>
        <p:blipFill>
          <a:blip r:embed="rId5"/>
          <a:stretch/>
        </p:blipFill>
        <p:spPr>
          <a:xfrm>
            <a:off x="2411280" y="4941720"/>
            <a:ext cx="208944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4 этап: Модели, придуманные детьм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По мере осознания детьми способа замещения признаков, связей между реальными объектами, их моделями становится возможным привлекать детей к совместному с воспитателем, а затем и к самостоятельному </a:t>
            </a:r>
            <a:r>
              <a:rPr b="1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моделированию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Arial"/>
                <a:ea typeface="Arial"/>
              </a:rPr>
              <a:t>Заключительным этапом работы является самостоятельное изображение модели на бумаге. Например, воспитатель читает литературный текст, а ребенок самостоятельно создаёт (рисует) элементы модельной схемы к произведению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4" name="Объект 2" descr=""/>
          <p:cNvPicPr/>
          <p:nvPr/>
        </p:nvPicPr>
        <p:blipFill>
          <a:blip r:embed="rId1"/>
          <a:stretch/>
        </p:blipFill>
        <p:spPr>
          <a:xfrm>
            <a:off x="6516720" y="2741760"/>
            <a:ext cx="2357280" cy="176688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3" descr=""/>
          <p:cNvPicPr/>
          <p:nvPr/>
        </p:nvPicPr>
        <p:blipFill>
          <a:blip r:embed="rId2"/>
          <a:stretch/>
        </p:blipFill>
        <p:spPr>
          <a:xfrm>
            <a:off x="4284720" y="4437000"/>
            <a:ext cx="2374920" cy="178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ndara"/>
              </a:rPr>
              <a:t>Перспективы использования метода моделирования в работе с детьми старшего дошкольного возраста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7" name="Объект 1" descr=""/>
          <p:cNvPicPr/>
          <p:nvPr/>
        </p:nvPicPr>
        <p:blipFill>
          <a:blip r:embed="rId1"/>
          <a:stretch/>
        </p:blipFill>
        <p:spPr>
          <a:xfrm>
            <a:off x="1224000" y="3633840"/>
            <a:ext cx="1932120" cy="14493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      </a:t>
            </a:r>
            <a:r>
              <a:rPr b="0" lang="ru-RU" sz="10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 </a:t>
            </a: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Применять модельные схемы  можно и на других занятиях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- конструировании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- математике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- экологии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- лепке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- аппликации и др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Таким образом, с помощью мнемотаблиц, схем - моделей удаётся достичь следующих результатов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у детей увеличивается круг знаний об окружающем мире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появляется желание пересказывать тексты, придумывать интересные истории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появляется интерес к  заучиванию стихов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словарный запас выходит на более высокий уровень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Arial"/>
                <a:ea typeface="Arial"/>
              </a:rPr>
              <a:t>дети преодолевают  застенчивость, учатся свободно держаться перед аудиторией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9" name="Рисунок 4" descr=""/>
          <p:cNvPicPr/>
          <p:nvPr/>
        </p:nvPicPr>
        <p:blipFill>
          <a:blip r:embed="rId2"/>
          <a:stretch/>
        </p:blipFill>
        <p:spPr>
          <a:xfrm>
            <a:off x="250920" y="219384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7" descr=""/>
          <p:cNvPicPr/>
          <p:nvPr/>
        </p:nvPicPr>
        <p:blipFill>
          <a:blip r:embed="rId3"/>
          <a:stretch/>
        </p:blipFill>
        <p:spPr>
          <a:xfrm>
            <a:off x="2411280" y="5051520"/>
            <a:ext cx="201636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</a:t>
            </a:r>
            <a:r>
              <a:rPr b="0" i="1" lang="ru-RU" sz="2000" spc="-1" strike="noStrike">
                <a:solidFill>
                  <a:srgbClr val="073e87"/>
                </a:solidFill>
                <a:latin typeface="Candara"/>
              </a:rPr>
              <a:t>Баряева Л.Б., Логинова Е.Т., Лопатина Л.В.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 Я – говорю! М., 2007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Белоусова Л.Е. Раз, два, три, четыре, пять- начинаем мы играть. Санкт-Петербург «Детство-Пресс», 2003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 Большева Т.В. Учимся по сказке. Санкт-Петербург «Детство-Пресс», 2005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73e87"/>
                </a:solidFill>
                <a:latin typeface="Candara"/>
              </a:rPr>
              <a:t>4. Полянская Т.Б.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 Использование метода мнемотехники в                     обучении рассказыванию детей дошкольного возраста. СПб., 2009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73e87"/>
                </a:solidFill>
                <a:latin typeface="Candara"/>
              </a:rPr>
              <a:t>5.Стукалина В.П. 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истема работы по обучению детей с ОНР связной монологической речи через моделирование сюжета. М., “Первое сентября”, 2009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Используемая литература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7:14:56Z</dcterms:created>
  <dc:creator>Алекс</dc:creator>
  <dc:description/>
  <dc:language>en-US</dc:language>
  <cp:lastModifiedBy>GL_24_12_2015</cp:lastModifiedBy>
  <dcterms:modified xsi:type="dcterms:W3CDTF">2019-01-03T20:05:34Z</dcterms:modified>
  <cp:revision>37</cp:revision>
  <dc:subject/>
  <dc:title>Использование схем и моделей для развития речи детей старшего дошкольного возраста</dc:title>
</cp:coreProperties>
</file>