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23.png" ContentType="image/png"/>
  <Override PartName="/ppt/media/image30.gif" ContentType="image/gif"/>
  <Override PartName="/ppt/media/image13.png" ContentType="image/png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236B-CE96-4DC9-ABC9-7A7121110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679-3D59-4696-A732-9D5DCEB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73C5-A8ED-4F2D-A4F1-93F7DEB8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36B-E9F2-4854-A61F-DA09070B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0D0E-E2CC-4A8C-9C4E-62D487A8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672B-D4C7-4AA1-91D2-706917C9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E93-9FEB-4DE4-8F67-F105B460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655-74B6-4DC8-9898-5BBAB987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46C-42D4-42AD-86AB-7525DE288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7C3-6BAB-448A-ABAA-6D0D5595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EB40-80C9-42BC-8D1B-C8264D0B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FE9-862E-4916-B30C-37B584E3F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Скругленный прямоугольник 3"/>
          <p:cNvGrpSpPr/>
          <p:nvPr/>
        </p:nvGrpSpPr>
        <p:grpSpPr>
          <a:xfrm>
            <a:off x="152280" y="158760"/>
            <a:ext cx="8839440" cy="6540480"/>
            <a:chOff x="152280" y="158760"/>
            <a:chExt cx="8839440" cy="6540480"/>
          </a:xfrm>
        </p:grpSpPr>
        <p:pic>
          <p:nvPicPr>
            <p:cNvPr id="39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52280" y="158760"/>
              <a:ext cx="883944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8647-6E3B-49B5-85D1-EBF77D7BCA61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1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408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декабр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4160" y="1593360"/>
            <a:ext cx="79725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репление пройденного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»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запись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0" y="120024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.- 30 в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. – 4 в.          49 в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. - 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0" name="Правая фигурная скобка 4"/>
          <p:cNvSpPr/>
          <p:nvPr/>
        </p:nvSpPr>
        <p:spPr>
          <a:xfrm>
            <a:off x="3276720" y="1305000"/>
            <a:ext cx="466560" cy="1619280"/>
          </a:xfrm>
          <a:custGeom>
            <a:avLst/>
            <a:gdLst>
              <a:gd name="textAreaLeft" fmla="*/ 0 w 466560"/>
              <a:gd name="textAreaRight" fmla="*/ 168480 w 466560"/>
              <a:gd name="textAreaTop" fmla="*/ 11880 h 1619280"/>
              <a:gd name="textAreaBottom" fmla="*/ 1607400 h 16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0"/>
                  <a:pt x="10800" y="519"/>
                </a:cubicBezTo>
                <a:lnTo>
                  <a:pt x="10800" y="10281"/>
                </a:lnTo>
                <a:cubicBezTo>
                  <a:pt x="10800" y="10541"/>
                  <a:pt x="16200" y="10800"/>
                  <a:pt x="21600" y="10800"/>
                </a:cubicBezTo>
                <a:cubicBezTo>
                  <a:pt x="16200" y="10800"/>
                  <a:pt x="10800" y="11060"/>
                  <a:pt x="10800" y="11319"/>
                </a:cubicBezTo>
                <a:lnTo>
                  <a:pt x="10800" y="21081"/>
                </a:lnTo>
                <a:cubicBezTo>
                  <a:pt x="10800" y="2134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196640"/>
            <a:ext cx="7632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0 + 4 = 34 (в.) – на двух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9 – 34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– 30 = 19 (в.) – осталось на 2 и 3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– 4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0" y="1196640"/>
            <a:ext cx="7632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- 4 = 45 (в.) – на 1 и 3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5 – 30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– (30 +4)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уравнения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>
            <a:off x="1008000" y="1197000"/>
            <a:ext cx="838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18 = 90                  Х – 42 = 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90 - 18                   Х = 42 + 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72                           Х = 63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+ 18 = 90                  63 – 42 =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ребус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1224000" y="1197000"/>
            <a:ext cx="763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ребус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1224000" y="1189080"/>
            <a:ext cx="7632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 длину   ломаной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2080" y="142884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см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0" name="Прямая соединительная линия 3"/>
          <p:cNvSpPr/>
          <p:nvPr/>
        </p:nvSpPr>
        <p:spPr>
          <a:xfrm>
            <a:off x="1584360" y="2133720"/>
            <a:ext cx="2033640" cy="17636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"/>
          <p:cNvSpPr/>
          <p:nvPr/>
        </p:nvSpPr>
        <p:spPr>
          <a:xfrm>
            <a:off x="3624120" y="3897360"/>
            <a:ext cx="1289160" cy="1396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3618000" y="3235320"/>
            <a:ext cx="1360440" cy="6350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ая соединительная линия 6"/>
          <p:cNvSpPr/>
          <p:nvPr/>
        </p:nvSpPr>
        <p:spPr>
          <a:xfrm flipV="1">
            <a:off x="4925880" y="2923920"/>
            <a:ext cx="1743120" cy="11127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"/>
          <p:cNvPicPr/>
          <p:nvPr/>
        </p:nvPicPr>
        <p:blipFill>
          <a:blip r:embed="rId2"/>
          <a:stretch/>
        </p:blipFill>
        <p:spPr>
          <a:xfrm>
            <a:off x="5078520" y="2527200"/>
            <a:ext cx="1347840" cy="633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8"/>
          <p:cNvSpPr/>
          <p:nvPr/>
        </p:nvSpPr>
        <p:spPr>
          <a:xfrm>
            <a:off x="6649920" y="2971800"/>
            <a:ext cx="1252800" cy="136692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9" descr=""/>
          <p:cNvPicPr/>
          <p:nvPr/>
        </p:nvPicPr>
        <p:blipFill>
          <a:blip r:embed="rId3"/>
          <a:stretch/>
        </p:blipFill>
        <p:spPr>
          <a:xfrm>
            <a:off x="7418520" y="3083040"/>
            <a:ext cx="1346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2+3+3=12см</a:t>
            </a:r>
            <a:endParaRPr b="0" lang="en-US" sz="5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 до 100 числа: 60, 80, 40, 30.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0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31" name="Управляющая кнопка: возврат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1559880" y="339840"/>
            <a:ext cx="52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ыраже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13000" y="1916280"/>
            <a:ext cx="59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8 приб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чисел 12 и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574920" y="3827520"/>
            <a:ext cx="70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есть сумму чисел 3 и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38" name="Управляющая кнопка: возврат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3"/>
          <p:cNvSpPr/>
          <p:nvPr/>
        </p:nvSpPr>
        <p:spPr>
          <a:xfrm>
            <a:off x="1557360" y="260280"/>
            <a:ext cx="52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ыраже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511920" y="191628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8 приб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чисел 12 и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536400" y="3743280"/>
            <a:ext cx="5430960" cy="13464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1569600" y="292572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+ (12 – 7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1512720" y="501336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(3 + 6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46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47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3"/>
          <p:cNvSpPr/>
          <p:nvPr/>
        </p:nvSpPr>
        <p:spPr>
          <a:xfrm>
            <a:off x="3015000" y="2602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3"/>
          <a:stretch/>
        </p:blipFill>
        <p:spPr>
          <a:xfrm>
            <a:off x="480960" y="1828800"/>
            <a:ext cx="6127920" cy="13478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5" descr=""/>
          <p:cNvPicPr/>
          <p:nvPr/>
        </p:nvPicPr>
        <p:blipFill>
          <a:blip r:embed="rId4"/>
          <a:stretch/>
        </p:blipFill>
        <p:spPr>
          <a:xfrm>
            <a:off x="517680" y="3743280"/>
            <a:ext cx="6595920" cy="13464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6"/>
          <p:cNvSpPr/>
          <p:nvPr/>
        </p:nvSpPr>
        <p:spPr>
          <a:xfrm>
            <a:off x="1706760" y="292572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+ (12 – 7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4338360" y="293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8"/>
          <p:cNvSpPr/>
          <p:nvPr/>
        </p:nvSpPr>
        <p:spPr>
          <a:xfrm>
            <a:off x="1649880" y="5013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(3 + 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430812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Users\Катя\Desktop\rt_skazka_teremok - копия.png"/>
          <p:cNvPicPr/>
          <p:nvPr/>
        </p:nvPicPr>
        <p:blipFill>
          <a:blip r:embed="rId1"/>
          <a:stretch/>
        </p:blipFill>
        <p:spPr>
          <a:xfrm>
            <a:off x="7143840" y="2000160"/>
            <a:ext cx="2000160" cy="2714760"/>
          </a:xfrm>
          <a:prstGeom prst="rect">
            <a:avLst/>
          </a:prstGeom>
          <a:ln w="0">
            <a:noFill/>
          </a:ln>
        </p:spPr>
      </p:pic>
      <p:grpSp>
        <p:nvGrpSpPr>
          <p:cNvPr id="157" name="Управляющая кнопка: возврат 3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58" name="Управляющая кнопка: возврат 3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оугольник 2"/>
          <p:cNvSpPr/>
          <p:nvPr/>
        </p:nvSpPr>
        <p:spPr>
          <a:xfrm>
            <a:off x="2726280" y="4078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303560" y="350028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6      1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306800" y="244008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– 9      14 -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1382400" y="1400040"/>
            <a:ext cx="437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+ 10   10 +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325880" y="442440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7      11 -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Users\Катя\Desktop\rt_skazka_teremok - копия.png"/>
          <p:cNvPicPr/>
          <p:nvPr/>
        </p:nvPicPr>
        <p:blipFill>
          <a:blip r:embed="rId1"/>
          <a:stretch/>
        </p:blipFill>
        <p:spPr>
          <a:xfrm>
            <a:off x="7143840" y="2000160"/>
            <a:ext cx="2000160" cy="2714760"/>
          </a:xfrm>
          <a:prstGeom prst="rect">
            <a:avLst/>
          </a:prstGeom>
          <a:ln w="0">
            <a:noFill/>
          </a:ln>
        </p:spPr>
      </p:pic>
      <p:grpSp>
        <p:nvGrpSpPr>
          <p:cNvPr id="166" name="Управляющая кнопка: возврат 3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67" name="Управляющая кнопка: возврат 3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оугольник 2"/>
          <p:cNvSpPr/>
          <p:nvPr/>
        </p:nvSpPr>
        <p:spPr>
          <a:xfrm>
            <a:off x="3219480" y="47628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3"/>
          <a:stretch/>
        </p:blipFill>
        <p:spPr>
          <a:xfrm>
            <a:off x="1285920" y="3498840"/>
            <a:ext cx="4565520" cy="9270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5" descr=""/>
          <p:cNvPicPr/>
          <p:nvPr/>
        </p:nvPicPr>
        <p:blipFill>
          <a:blip r:embed="rId4"/>
          <a:stretch/>
        </p:blipFill>
        <p:spPr>
          <a:xfrm>
            <a:off x="1285920" y="2438280"/>
            <a:ext cx="4572000" cy="92736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6" descr=""/>
          <p:cNvPicPr/>
          <p:nvPr/>
        </p:nvPicPr>
        <p:blipFill>
          <a:blip r:embed="rId5"/>
          <a:stretch/>
        </p:blipFill>
        <p:spPr>
          <a:xfrm>
            <a:off x="1127160" y="1401840"/>
            <a:ext cx="4883040" cy="9205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7" descr=""/>
          <p:cNvPicPr/>
          <p:nvPr/>
        </p:nvPicPr>
        <p:blipFill>
          <a:blip r:embed="rId6"/>
          <a:stretch/>
        </p:blipFill>
        <p:spPr>
          <a:xfrm>
            <a:off x="1328760" y="4425840"/>
            <a:ext cx="4529160" cy="9208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8" descr=""/>
          <p:cNvPicPr/>
          <p:nvPr/>
        </p:nvPicPr>
        <p:blipFill>
          <a:blip r:embed="rId7"/>
          <a:stretch/>
        </p:blipFill>
        <p:spPr>
          <a:xfrm>
            <a:off x="3346560" y="2468520"/>
            <a:ext cx="596880" cy="927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9" descr=""/>
          <p:cNvPicPr/>
          <p:nvPr/>
        </p:nvPicPr>
        <p:blipFill>
          <a:blip r:embed="rId8"/>
          <a:stretch/>
        </p:blipFill>
        <p:spPr>
          <a:xfrm>
            <a:off x="3376440" y="3524400"/>
            <a:ext cx="592200" cy="9252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0" descr=""/>
          <p:cNvPicPr/>
          <p:nvPr/>
        </p:nvPicPr>
        <p:blipFill>
          <a:blip r:embed="rId9"/>
          <a:stretch/>
        </p:blipFill>
        <p:spPr>
          <a:xfrm>
            <a:off x="3346560" y="1401840"/>
            <a:ext cx="596880" cy="9205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1" descr=""/>
          <p:cNvPicPr/>
          <p:nvPr/>
        </p:nvPicPr>
        <p:blipFill>
          <a:blip r:embed="rId10"/>
          <a:stretch/>
        </p:blipFill>
        <p:spPr>
          <a:xfrm>
            <a:off x="3402000" y="4468680"/>
            <a:ext cx="59040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C:\Users\Катя\Desktop\rt_skazka_teremok - копия (3)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2722680"/>
          </a:xfrm>
          <a:prstGeom prst="rect">
            <a:avLst/>
          </a:prstGeom>
          <a:ln w="0">
            <a:noFill/>
          </a:ln>
        </p:spPr>
      </p:pic>
      <p:grpSp>
        <p:nvGrpSpPr>
          <p:cNvPr id="179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80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1420560" y="260280"/>
            <a:ext cx="59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прямоугольн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его перимет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1891440" y="1836720"/>
            <a:ext cx="9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6680" y="2421000"/>
          <a:ext cx="3056040" cy="1423800"/>
        </p:xfrm>
        <a:graphic>
          <a:graphicData uri="http://schemas.openxmlformats.org/drawingml/2006/table">
            <a:tbl>
              <a:tblPr/>
              <a:tblGrid>
                <a:gridCol w="3056040"/>
              </a:tblGrid>
              <a:tr h="142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85" name="Прямоугольник 4"/>
          <p:cNvSpPr/>
          <p:nvPr/>
        </p:nvSpPr>
        <p:spPr>
          <a:xfrm>
            <a:off x="3311640" y="384480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9" descr=""/>
          <p:cNvPicPr/>
          <p:nvPr/>
        </p:nvPicPr>
        <p:blipFill>
          <a:blip r:embed="rId3"/>
          <a:stretch/>
        </p:blipFill>
        <p:spPr>
          <a:xfrm>
            <a:off x="3822840" y="2724120"/>
            <a:ext cx="29844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C:\Users\Катя\Desktop\rt_skazka_teremok - копия (3)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2722680"/>
          </a:xfrm>
          <a:prstGeom prst="rect">
            <a:avLst/>
          </a:prstGeom>
          <a:ln w="0">
            <a:noFill/>
          </a:ln>
        </p:spPr>
      </p:pic>
      <p:grpSp>
        <p:nvGrpSpPr>
          <p:cNvPr id="188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89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оугольник 3"/>
          <p:cNvSpPr/>
          <p:nvPr/>
        </p:nvSpPr>
        <p:spPr>
          <a:xfrm>
            <a:off x="3269160" y="2602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оугольник 8" descr=""/>
          <p:cNvPicPr/>
          <p:nvPr/>
        </p:nvPicPr>
        <p:blipFill>
          <a:blip r:embed="rId3"/>
          <a:stretch/>
        </p:blipFill>
        <p:spPr>
          <a:xfrm>
            <a:off x="1285920" y="1359000"/>
            <a:ext cx="449892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C:\Users\Катя\Desktop\с флешки\8 класс\картинки\анимации\анимации\055.gif"/>
          <p:cNvPicPr/>
          <p:nvPr/>
        </p:nvPicPr>
        <p:blipFill>
          <a:blip r:embed="rId1"/>
          <a:stretch/>
        </p:blipFill>
        <p:spPr>
          <a:xfrm>
            <a:off x="2876400" y="5811840"/>
            <a:ext cx="8622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Катя\Desktop\с флешки\8 класс\картинки\анимации\анимации\095.gif"/>
          <p:cNvPicPr/>
          <p:nvPr/>
        </p:nvPicPr>
        <p:blipFill>
          <a:blip r:embed="rId2"/>
          <a:stretch/>
        </p:blipFill>
        <p:spPr>
          <a:xfrm>
            <a:off x="60480" y="4005360"/>
            <a:ext cx="2462040" cy="1647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Катя\Desktop\с флешки\8 класс\картинки\анимации\анимации\239d75806446ed7c468d0af3153b1446.gif"/>
          <p:cNvPicPr/>
          <p:nvPr/>
        </p:nvPicPr>
        <p:blipFill>
          <a:blip r:embed="rId3"/>
          <a:stretch/>
        </p:blipFill>
        <p:spPr>
          <a:xfrm>
            <a:off x="6804000" y="189000"/>
            <a:ext cx="2189160" cy="190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Катя\Desktop\с флешки\8 класс\картинки\анимации\анимации\t001.gif"/>
          <p:cNvPicPr/>
          <p:nvPr/>
        </p:nvPicPr>
        <p:blipFill>
          <a:blip r:embed="rId4"/>
          <a:stretch/>
        </p:blipFill>
        <p:spPr>
          <a:xfrm>
            <a:off x="900000" y="5805360"/>
            <a:ext cx="117972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Катя\Desktop\с флешки\8 класс\картинки\анимации\анимации\t006.gif"/>
          <p:cNvPicPr/>
          <p:nvPr/>
        </p:nvPicPr>
        <p:blipFill>
          <a:blip r:embed="rId5"/>
          <a:stretch/>
        </p:blipFill>
        <p:spPr>
          <a:xfrm>
            <a:off x="0" y="580536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Катя\Desktop\с флешки\8 класс\картинки\анимации\анимации\t009.gif"/>
          <p:cNvPicPr/>
          <p:nvPr/>
        </p:nvPicPr>
        <p:blipFill>
          <a:blip r:embed="rId6"/>
          <a:stretch/>
        </p:blipFill>
        <p:spPr>
          <a:xfrm>
            <a:off x="1763640" y="5811840"/>
            <a:ext cx="117972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" descr=""/>
          <p:cNvPicPr/>
          <p:nvPr/>
        </p:nvPicPr>
        <p:blipFill>
          <a:blip r:embed="rId7"/>
          <a:stretch/>
        </p:blipFill>
        <p:spPr>
          <a:xfrm>
            <a:off x="285840" y="1042920"/>
            <a:ext cx="7145280" cy="5149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Катя\Desktop\с флешки\8 класс\картинки\анимации\анимации\t009.gif"/>
          <p:cNvPicPr/>
          <p:nvPr/>
        </p:nvPicPr>
        <p:blipFill>
          <a:blip r:embed="rId8"/>
          <a:stretch/>
        </p:blipFill>
        <p:spPr>
          <a:xfrm>
            <a:off x="3564000" y="584208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Катя\Desktop\с флешки\8 класс\картинки\анимации\анимации\t001.gif"/>
          <p:cNvPicPr/>
          <p:nvPr/>
        </p:nvPicPr>
        <p:blipFill>
          <a:blip r:embed="rId9"/>
          <a:stretch/>
        </p:blipFill>
        <p:spPr>
          <a:xfrm>
            <a:off x="4545000" y="584352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C:\Users\Катя\Desktop\с флешки\8 класс\картинки\анимации\анимации\t006.gif"/>
          <p:cNvPicPr/>
          <p:nvPr/>
        </p:nvPicPr>
        <p:blipFill>
          <a:blip r:embed="rId10"/>
          <a:stretch/>
        </p:blipFill>
        <p:spPr>
          <a:xfrm>
            <a:off x="5435640" y="5886360"/>
            <a:ext cx="1179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5680" y="39852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«Раз, два, три—отвечай»                                    ( математические развлечения для младших школьников )- Перкова О.И.. Москва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Т.Г.Жигалкина «Система игр на уроках математики в 1 и 2 классах». М.,: Новая школа, 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Т.И.Линго «Игры. Ребусы, загадки для мл. школьников.»--Ярославль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5da2"/>
                </a:solidFill>
                <a:uFillTx/>
                <a:latin typeface="Calibri"/>
              </a:rPr>
              <a:t>http://www.proza.ru/pics/2014/02/21/906.jpg</a:t>
            </a: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http://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ntalpiti.ru/files/99604/10. png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9 =               17 – 8 =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– 8 =               7 + 9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8 =               5 + 8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+ 4 =                12 – 4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7 =               16 – 7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9 = 9              17 – 8 = 9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– 8 = 9              7 + 9 =16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8 = 10            5 + 8 =13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+ 4 =  13              12 – 4 =8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7 =  4             16 – 7 =9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0" y="-162720"/>
            <a:ext cx="7632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5680" y="297000"/>
            <a:ext cx="82170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ёх полках 49 ваз. На первой полке 30 ваз, на второй - 4. Сколько ваз на третьей полке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111</cp:lastModifiedBy>
  <dcterms:modified xsi:type="dcterms:W3CDTF">2018-12-13T08:04:54Z</dcterms:modified>
  <cp:revision>39</cp:revision>
  <dc:subject/>
  <dc:title>Слайд 1</dc:title>
</cp:coreProperties>
</file>