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299E5-A178-4009-94F4-9E7E6E8D06C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17C2C-5B28-4A82-AB00-C884C44F193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07E9-1F1D-473F-BA2B-50F39A980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4BD1-BFFF-4C84-ADBA-8004BDE13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D92C-D87D-4211-8858-21C5F40A2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CEF9-A483-4F87-8CDB-0FA6C342B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9EB2-7757-4E2B-8A13-FE4B65543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57A8-A35B-4AE9-BFCB-37DB644B6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DC1C-F1B4-43F6-BDF9-C58CEE585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A5D1-440C-4BF8-94D4-D41D12547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459E-B186-4C42-9B4E-5C21016B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DD8F-99C1-49E2-8B46-780F0B6A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3AD2-9ABF-470E-BEDF-0515113D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465F-57F4-4208-A77B-ECF8DE51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01616-E050-4E5C-B165-8DFD21F34F3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536400" y="-36360"/>
            <a:ext cx="8266320" cy="2706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2373480" y="2852640"/>
            <a:ext cx="4665600" cy="3733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G:\Работа\4 Подготовительная группа\+\0028-028-Dvizhenie-avtomobilja 1.jpg"/>
          <p:cNvPicPr/>
          <p:nvPr/>
        </p:nvPicPr>
        <p:blipFill>
          <a:blip r:embed="rId1"/>
          <a:stretch/>
        </p:blipFill>
        <p:spPr>
          <a:xfrm>
            <a:off x="826920" y="266760"/>
            <a:ext cx="7561440" cy="6273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G:\Работа\4 Подготовительная группа\+\m9d4e3bd.png"/>
          <p:cNvPicPr/>
          <p:nvPr/>
        </p:nvPicPr>
        <p:blipFill>
          <a:blip r:embed="rId1"/>
          <a:stretch/>
        </p:blipFill>
        <p:spPr>
          <a:xfrm>
            <a:off x="250920" y="620640"/>
            <a:ext cx="8677080" cy="55929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3689280" y="549360"/>
            <a:ext cx="2114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ИГР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2"/>
          <p:cNvSpPr/>
          <p:nvPr/>
        </p:nvSpPr>
        <p:spPr>
          <a:xfrm>
            <a:off x="448560" y="1700280"/>
            <a:ext cx="877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НАЗОВИ ДОРОЖНЫЙ ЗНА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G:\Работа\БЕЗОПАСНОСТЬ\498445_view.jpg"/>
          <p:cNvPicPr/>
          <p:nvPr/>
        </p:nvPicPr>
        <p:blipFill>
          <a:blip r:embed="rId1"/>
          <a:stretch/>
        </p:blipFill>
        <p:spPr>
          <a:xfrm>
            <a:off x="2292480" y="3057480"/>
            <a:ext cx="4908600" cy="3365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G:\Работа\4 Подготовительная группа\+\35416_html_2b447471    4.jpg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5923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G:\Работа\4 Подготовительная группа\+\35416_html_2b447471     1.jpg"/>
          <p:cNvPicPr/>
          <p:nvPr/>
        </p:nvPicPr>
        <p:blipFill>
          <a:blip r:embed="rId1"/>
          <a:stretch/>
        </p:blipFill>
        <p:spPr>
          <a:xfrm>
            <a:off x="289080" y="333360"/>
            <a:ext cx="8530920" cy="6120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G:\Работа\4 Подготовительная группа\+\138677143144 1 2.jpg"/>
          <p:cNvPicPr/>
          <p:nvPr/>
        </p:nvPicPr>
        <p:blipFill>
          <a:blip r:embed="rId1"/>
          <a:stretch/>
        </p:blipFill>
        <p:spPr>
          <a:xfrm>
            <a:off x="324000" y="260280"/>
            <a:ext cx="8577000" cy="6273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F:\Работа\4 Подготовительная группа\ПДД картинки презентации\98596278 1.jpg"/>
          <p:cNvPicPr/>
          <p:nvPr/>
        </p:nvPicPr>
        <p:blipFill>
          <a:blip r:embed="rId1"/>
          <a:stretch/>
        </p:blipFill>
        <p:spPr>
          <a:xfrm>
            <a:off x="2071800" y="204840"/>
            <a:ext cx="5143320" cy="63561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G:\Работа\4 Подготовительная группа\+\35416_html_2b447471    2.jpg"/>
          <p:cNvPicPr/>
          <p:nvPr/>
        </p:nvPicPr>
        <p:blipFill>
          <a:blip r:embed="rId1"/>
          <a:stretch/>
        </p:blipFill>
        <p:spPr>
          <a:xfrm>
            <a:off x="436680" y="692280"/>
            <a:ext cx="8426160" cy="5808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G:\Работа\4 Подготовительная группа\+\138677143144 3.jpg"/>
          <p:cNvPicPr/>
          <p:nvPr/>
        </p:nvPicPr>
        <p:blipFill>
          <a:blip r:embed="rId1"/>
          <a:stretch/>
        </p:blipFill>
        <p:spPr>
          <a:xfrm>
            <a:off x="179280" y="404640"/>
            <a:ext cx="8774280" cy="62676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G:\Работа\4 Подготовительная группа\+\img34.png"/>
          <p:cNvPicPr/>
          <p:nvPr/>
        </p:nvPicPr>
        <p:blipFill>
          <a:blip r:embed="rId1"/>
          <a:stretch/>
        </p:blipFill>
        <p:spPr>
          <a:xfrm>
            <a:off x="179280" y="803160"/>
            <a:ext cx="9205920" cy="5364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G:\Работа\4 Подготовительная группа\+\0028-039-Dvizhenie-avtomobilja.jpg"/>
          <p:cNvPicPr/>
          <p:nvPr/>
        </p:nvPicPr>
        <p:blipFill>
          <a:blip r:embed="rId1"/>
          <a:stretch/>
        </p:blipFill>
        <p:spPr>
          <a:xfrm>
            <a:off x="250920" y="333360"/>
            <a:ext cx="8746920" cy="61340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0T08:44:41Z</dcterms:created>
  <dc:creator>Wichechka</dc:creator>
  <dc:description/>
  <dc:language>en-US</dc:language>
  <cp:lastModifiedBy>HOME</cp:lastModifiedBy>
  <dcterms:modified xsi:type="dcterms:W3CDTF">2015-09-11T05:04:17Z</dcterms:modified>
  <cp:revision>15</cp:revision>
  <dc:subject/>
  <dc:title>Викторина по правилам дорожного движения.</dc:title>
</cp:coreProperties>
</file>