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4B3-6AF6-45AE-AD4E-9341FA898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FB83-7689-4856-A595-A72E731381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4F9-CF43-42BA-B3A7-EC9CF5E5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515-0EE3-4830-8281-1C46D1D6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D79-BB94-4217-87FF-9F72647A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566-87C6-4113-8928-97ABE509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072-278C-4D0A-8235-507F3662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8A4-38B5-46CE-8CA4-E638E746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BA6-04A4-485D-B493-F3D2B7F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EDB-8A23-4094-9FF8-18B7BC1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CAB-BB9C-4303-BBC6-E2E920C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6E5-B48D-4842-BF1F-3242612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CA6-213D-40F1-9073-C917514B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73B-4167-44C1-8786-83F21D3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60DE-103D-4A23-AC6A-F57EC60E54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36400" y="-36360"/>
            <a:ext cx="8266320" cy="270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373480" y="2852640"/>
            <a:ext cx="466560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G:\Работа\4 Подготовительная группа\+\0028-028-Dvizhenie-avtomobilja 1.jpg"/>
          <p:cNvPicPr/>
          <p:nvPr/>
        </p:nvPicPr>
        <p:blipFill>
          <a:blip r:embed="rId1"/>
          <a:stretch/>
        </p:blipFill>
        <p:spPr>
          <a:xfrm>
            <a:off x="826920" y="266760"/>
            <a:ext cx="7561440" cy="6273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Работа\4 Подготовительная группа\+\m9d4e3bd.png"/>
          <p:cNvPicPr/>
          <p:nvPr/>
        </p:nvPicPr>
        <p:blipFill>
          <a:blip r:embed="rId1"/>
          <a:stretch/>
        </p:blipFill>
        <p:spPr>
          <a:xfrm>
            <a:off x="250920" y="620640"/>
            <a:ext cx="8677080" cy="559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689280" y="549360"/>
            <a:ext cx="21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448560" y="1700280"/>
            <a:ext cx="877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ЗОВИ ДОРОЖНЫЙ ЗН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G:\Работа\БЕЗОПАСНОСТЬ\498445_view.jpg"/>
          <p:cNvPicPr/>
          <p:nvPr/>
        </p:nvPicPr>
        <p:blipFill>
          <a:blip r:embed="rId1"/>
          <a:stretch/>
        </p:blipFill>
        <p:spPr>
          <a:xfrm>
            <a:off x="2292480" y="3057480"/>
            <a:ext cx="4908600" cy="336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Работа\4 Подготовительная группа\+\35416_html_2b447471    4.jpg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2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G:\Работа\4 Подготовительная группа\+\35416_html_2b447471     1.jpg"/>
          <p:cNvPicPr/>
          <p:nvPr/>
        </p:nvPicPr>
        <p:blipFill>
          <a:blip r:embed="rId1"/>
          <a:stretch/>
        </p:blipFill>
        <p:spPr>
          <a:xfrm>
            <a:off x="289080" y="333360"/>
            <a:ext cx="8530920" cy="612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Работа\4 Подготовительная группа\+\138677143144 1 2.jpg"/>
          <p:cNvPicPr/>
          <p:nvPr/>
        </p:nvPicPr>
        <p:blipFill>
          <a:blip r:embed="rId1"/>
          <a:stretch/>
        </p:blipFill>
        <p:spPr>
          <a:xfrm>
            <a:off x="324000" y="260280"/>
            <a:ext cx="8577000" cy="62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Работа\4 Подготовительная группа\ПДД картинки презентации\98596278 1.jpg"/>
          <p:cNvPicPr/>
          <p:nvPr/>
        </p:nvPicPr>
        <p:blipFill>
          <a:blip r:embed="rId1"/>
          <a:stretch/>
        </p:blipFill>
        <p:spPr>
          <a:xfrm>
            <a:off x="2071800" y="204840"/>
            <a:ext cx="51433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Работа\4 Подготовительная группа\+\35416_html_2b447471    2.jpg"/>
          <p:cNvPicPr/>
          <p:nvPr/>
        </p:nvPicPr>
        <p:blipFill>
          <a:blip r:embed="rId1"/>
          <a:stretch/>
        </p:blipFill>
        <p:spPr>
          <a:xfrm>
            <a:off x="436680" y="692280"/>
            <a:ext cx="8426160" cy="580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Работа\4 Подготовительная группа\+\138677143144 3.jpg"/>
          <p:cNvPicPr/>
          <p:nvPr/>
        </p:nvPicPr>
        <p:blipFill>
          <a:blip r:embed="rId1"/>
          <a:stretch/>
        </p:blipFill>
        <p:spPr>
          <a:xfrm>
            <a:off x="179280" y="404640"/>
            <a:ext cx="8774280" cy="6267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Работа\4 Подготовительная группа\+\img34.png"/>
          <p:cNvPicPr/>
          <p:nvPr/>
        </p:nvPicPr>
        <p:blipFill>
          <a:blip r:embed="rId1"/>
          <a:stretch/>
        </p:blipFill>
        <p:spPr>
          <a:xfrm>
            <a:off x="179280" y="803160"/>
            <a:ext cx="9205920" cy="53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:\Работа\4 Подготовительная группа\+\0028-039-Dvizhenie-avtomobilja.jpg"/>
          <p:cNvPicPr/>
          <p:nvPr/>
        </p:nvPicPr>
        <p:blipFill>
          <a:blip r:embed="rId1"/>
          <a:stretch/>
        </p:blipFill>
        <p:spPr>
          <a:xfrm>
            <a:off x="250920" y="333360"/>
            <a:ext cx="8746920" cy="6134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8:44:41Z</dcterms:created>
  <dc:creator>Wichechka</dc:creator>
  <dc:description/>
  <dc:language>en-US</dc:language>
  <cp:lastModifiedBy>HOME</cp:lastModifiedBy>
  <dcterms:modified xsi:type="dcterms:W3CDTF">2015-09-11T05:04:17Z</dcterms:modified>
  <cp:revision>15</cp:revision>
  <dc:subject/>
  <dc:title>Викторина по правилам дорожного движения.</dc:title>
</cp:coreProperties>
</file>