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343058-403F-4EB4-B31B-B89255AFB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ей речи в русском языке много. Мы рассмотрим некоторые из них. Например: Что это? (Цвето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делает цветок? ( Растёт, цветёт…). Опишите цветок. Какой он? (Красивый, белый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E27E4B-E97D-4FAF-9C16-A0DD2098C11B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ас есть слова : … 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 (что?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вето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b050"/>
                </a:solidFill>
                <a:uFillTx/>
                <a:latin typeface="Arial"/>
              </a:rPr>
              <a:t>(что делает?)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цветёт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(какой?)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расив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где?) 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Arial"/>
              </a:rPr>
              <a:t>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лужайке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.   Составьте из них предложение. (</a:t>
            </a:r>
            <a:r>
              <a:rPr b="1" lang="ru-RU" sz="2000" spc="-1" strike="noStrike" u="sng">
                <a:solidFill>
                  <a:schemeClr val="accent3">
                    <a:lumMod val="50000"/>
                  </a:schemeClr>
                </a:solidFill>
                <a:uFillTx/>
                <a:latin typeface="Arial"/>
              </a:rPr>
              <a:t>на партах у каждого есть разрезные слова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.) Прочитайте предложение.  Составьте предложение из слов на синих полосочках. Прочитайте своё предло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978F94-3D6B-4B80-B31E-96343AB42CB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выяснили, что в нашей речи есть разные слова. Это слова, которые обозначают… Такие слова делают нашу речь более разнообразной, понятной и красивой. В русском языке у каждой части речи есть назв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4F47EC-3AE7-4298-8787-6677562C91F3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3E3-0719-41BD-A7D1-94D6B7AD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84C-68DF-4D48-8011-410DBFD7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8FC-093B-4990-B27B-0367E78E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967-81B3-4E4E-B5B1-D16A4A1D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A37-CC1B-4B88-9B04-ADE1CB05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C0EB-1658-4173-B6D5-4FC8DC56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BE54-53AD-4780-876D-25AC1FD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4582-45BE-4203-B782-3A589C67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B805-8F26-4980-9E28-FCB169BE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BDDB-71D8-4931-8D0C-2C96C00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2FB-A506-48DE-A48A-4BE4BD3D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65C-00CD-4712-91AF-4491A0D1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99C4-6566-4012-A8C2-15598CC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F1E-9989-41AA-B41E-80976BD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A075-888A-474A-A096-2AB3DECC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31D9-8DEC-47EE-AEA1-F9620992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2D1D-CD07-4D2A-AC95-BFB4854E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A53D-6054-4F5A-876E-DDF8E97E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B989-8365-4FDA-B84C-97CA925C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4404-C2AC-4F57-8CEE-5E8A7CD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A46D-B55C-44DE-8D8D-EFC4CCF8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2490-9BFF-4730-AE2F-D79B43A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CDE-2E78-476B-AC86-D686FE6D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BCBE-AD6D-4B85-8734-0A918DB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46A0-6CE7-421F-8959-77131873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C0CC-4AB1-449B-BD7E-5A652C4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C3F8-E2CC-459F-AA2E-BA8F35A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079C-973E-475C-872A-A8BB584A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E6E8-7CFA-4FE7-B2B5-395FCD4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9C91-3C9B-4D3D-93B6-EC91DA6B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F54-5EB7-480F-8679-AC760CC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CF2-7B09-44F8-9EBA-D0C730C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D27-7C3E-4ECA-8E60-38430FE0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258-9930-40CA-A02B-6DF2B1DD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637-CD1A-47A5-8592-8306147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E45-8179-4E72-AC56-602B27A1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3"/>
          <p:cNvSpPr/>
          <p:nvPr/>
        </p:nvSpPr>
        <p:spPr>
          <a:xfrm>
            <a:off x="0" y="4664160"/>
            <a:ext cx="915012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grpSp>
        <p:nvGrpSpPr>
          <p:cNvPr id="5" name="Группа 15"/>
          <p:cNvGrpSpPr/>
          <p:nvPr/>
        </p:nvGrpSpPr>
        <p:grpSpPr>
          <a:xfrm>
            <a:off x="-6120" y="4952880"/>
            <a:ext cx="9155880" cy="1916640"/>
            <a:chOff x="-6120" y="4952880"/>
            <a:chExt cx="9155880" cy="1916640"/>
          </a:xfrm>
        </p:grpSpPr>
        <p:sp>
          <p:nvSpPr>
            <p:cNvPr id="6" name="Полилиния 5"/>
            <p:cNvSpPr/>
            <p:nvPr/>
          </p:nvSpPr>
          <p:spPr>
            <a:xfrm>
              <a:off x="1687680" y="4952880"/>
              <a:ext cx="7455960" cy="48708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Полилиния 6"/>
            <p:cNvSpPr/>
            <p:nvPr/>
          </p:nvSpPr>
          <p:spPr>
            <a:xfrm>
              <a:off x="36360" y="5237280"/>
              <a:ext cx="9107280" cy="78876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8" name="Полилиния 7"/>
            <p:cNvGrpSpPr/>
            <p:nvPr/>
          </p:nvGrpSpPr>
          <p:grpSpPr>
            <a:xfrm>
              <a:off x="-6120" y="4992480"/>
              <a:ext cx="9155880" cy="1877040"/>
              <a:chOff x="-6120" y="4992480"/>
              <a:chExt cx="9155880" cy="1877040"/>
            </a:xfrm>
          </p:grpSpPr>
          <p:pic>
            <p:nvPicPr>
              <p:cNvPr id="9" name="Полилиния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6120" y="4992480"/>
                <a:ext cx="9155880" cy="187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2"/>
              <p:cNvSpPr/>
              <p:nvPr/>
            </p:nvSpPr>
            <p:spPr>
              <a:xfrm>
                <a:off x="720" y="5001120"/>
                <a:ext cx="360" cy="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Lucida Sans Unicode"/>
                </a:endParaRPr>
              </a:p>
            </p:txBody>
          </p:sp>
        </p:grpSp>
        <p:cxnSp>
          <p:nvCxnSpPr>
            <p:cNvPr id="11" name="Прямая соединительная линия 9"/>
            <p:cNvCxnSpPr/>
            <p:nvPr/>
          </p:nvCxnSpPr>
          <p:spPr>
            <a:xfrm>
              <a:off x="-2880" y="4997520"/>
              <a:ext cx="9147240" cy="79020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115170-0F92-4BAD-8BAA-1894529C76E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6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9F856-721E-471E-B134-0E155BFE36F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01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625060-4D0F-4B0B-9918-BBD675E183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071960" y="3571920"/>
            <a:ext cx="4748040" cy="288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Презент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приготовила Журенкова Ирина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МБОУ СОШ №1</a:t>
            </a: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Урок русского языка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по теме: «Предложение и части речи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Изображение 099"/>
          <p:cNvPicPr/>
          <p:nvPr/>
        </p:nvPicPr>
        <p:blipFill>
          <a:blip r:embed="rId1"/>
          <a:stretch/>
        </p:blipFill>
        <p:spPr>
          <a:xfrm>
            <a:off x="214200" y="-249120"/>
            <a:ext cx="8840520" cy="6557760"/>
          </a:xfrm>
          <a:prstGeom prst="rect">
            <a:avLst/>
          </a:prstGeom>
          <a:ln w="9525">
            <a:noFill/>
          </a:ln>
        </p:spPr>
      </p:pic>
      <p:sp>
        <p:nvSpPr>
          <p:cNvPr id="152" name="TextBox 10"/>
          <p:cNvSpPr/>
          <p:nvPr/>
        </p:nvSpPr>
        <p:spPr>
          <a:xfrm>
            <a:off x="1214280" y="1500120"/>
            <a:ext cx="6786360" cy="9428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Наша речь состоит из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1285920" y="2357280"/>
            <a:ext cx="6286320" cy="577080"/>
          </a:xfrm>
          <a:prstGeom prst="rect">
            <a:avLst/>
          </a:prstGeom>
          <a:solidFill>
            <a:srgbClr val="ffc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едложения состоят из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1357200" y="3286080"/>
            <a:ext cx="6000480" cy="942840"/>
          </a:xfrm>
          <a:prstGeom prst="rect">
            <a:avLst/>
          </a:prstGeom>
          <a:solidFill>
            <a:srgbClr val="92d0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Слова – это части предложений в наш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14200" y="428760"/>
            <a:ext cx="8286480" cy="94284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75000"/>
                  </a:schemeClr>
                </a:solidFill>
                <a:latin typeface="Lucida Sans Unicode"/>
              </a:rPr>
              <a:t>Каждое слова – эт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частичка </a:t>
            </a:r>
            <a:r>
              <a:rPr b="1" lang="ru-RU" sz="2800" spc="-1" strike="noStrike">
                <a:solidFill>
                  <a:schemeClr val="accent2">
                    <a:lumMod val="75000"/>
                  </a:schemeClr>
                </a:solidFill>
                <a:latin typeface="Lucida Sans Unicode"/>
              </a:rPr>
              <a:t>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214200" y="1285920"/>
            <a:ext cx="82864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Значит все слова, которые мы произносим – эт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Lucida Sans Unicode"/>
              </a:rPr>
              <a:t>части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нашей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Lucida Sans Unicode"/>
              </a:rPr>
              <a:t>речи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5" descr="SDC10980.JPG"/>
          <p:cNvPicPr/>
          <p:nvPr/>
        </p:nvPicPr>
        <p:blipFill>
          <a:blip r:embed="rId1"/>
          <a:stretch/>
        </p:blipFill>
        <p:spPr>
          <a:xfrm>
            <a:off x="6097680" y="2571840"/>
            <a:ext cx="2545920" cy="221436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6"/>
          <p:cNvSpPr/>
          <p:nvPr/>
        </p:nvSpPr>
        <p:spPr>
          <a:xfrm>
            <a:off x="571680" y="2571840"/>
            <a:ext cx="37144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(что?) </a:t>
            </a:r>
            <a:r>
              <a:rPr b="1" lang="ru-RU" sz="3200" spc="-1" strike="noStrike">
                <a:solidFill>
                  <a:srgbClr val="ff0000"/>
                </a:solidFill>
                <a:latin typeface="Lucida Sans Unicode"/>
              </a:rPr>
              <a:t>цветок</a:t>
            </a:r>
            <a:r>
              <a:rPr b="0" lang="ru-RU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0040" y="3214800"/>
            <a:ext cx="52146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Lucida Sans Unicode"/>
              </a:rPr>
              <a:t>(что делает?) </a:t>
            </a:r>
            <a:r>
              <a:rPr b="1" lang="ru-RU" sz="3200" spc="-1" strike="noStrike">
                <a:solidFill>
                  <a:srgbClr val="00b050"/>
                </a:solidFill>
                <a:latin typeface="Lucida Sans Unicode"/>
              </a:rPr>
              <a:t>цветёт</a:t>
            </a:r>
            <a:r>
              <a:rPr b="0" lang="ru-RU" sz="32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0040" y="4071960"/>
            <a:ext cx="40716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Lucida Sans Unicode"/>
              </a:rPr>
              <a:t>(какой?) </a:t>
            </a:r>
            <a:r>
              <a:rPr b="1" lang="ru-RU" sz="3200" spc="-1" strike="noStrike">
                <a:solidFill>
                  <a:srgbClr val="c00000"/>
                </a:solidFill>
                <a:latin typeface="Lucida Sans Unicode"/>
              </a:rPr>
              <a:t>красивый</a:t>
            </a:r>
            <a:r>
              <a:rPr b="0" lang="ru-RU" sz="3200" spc="-1" strike="noStrike">
                <a:solidFill>
                  <a:srgbClr val="c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0040" y="5143680"/>
            <a:ext cx="78577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(на чём? где?) </a:t>
            </a:r>
            <a:r>
              <a:rPr b="1" lang="ru-RU" sz="5400" spc="-1" strike="noStrike" u="sng">
                <a:solidFill>
                  <a:schemeClr val="accent3"/>
                </a:solidFill>
                <a:uFillTx/>
                <a:latin typeface="Lucida Sans Unicode"/>
              </a:rPr>
              <a:t>на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0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лужайк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1" descr="SDC10955.JPG"/>
          <p:cNvPicPr/>
          <p:nvPr/>
        </p:nvPicPr>
        <p:blipFill>
          <a:blip r:embed="rId1"/>
          <a:srcRect l="1959" t="0" r="0" b="36278"/>
          <a:stretch/>
        </p:blipFill>
        <p:spPr>
          <a:xfrm>
            <a:off x="4140360" y="208080"/>
            <a:ext cx="4601880" cy="66495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571680" y="285840"/>
            <a:ext cx="3071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Lucida Sans Unicode"/>
              </a:rPr>
              <a:t>цвет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50"/>
                </a:solidFill>
                <a:latin typeface="Lucida Sans Unicode"/>
              </a:rPr>
              <a:t>цветё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Lucida Sans Unicode"/>
              </a:rPr>
              <a:t>красивы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92d050"/>
                </a:solidFill>
                <a:uFillTx/>
                <a:latin typeface="Lucida Sans Unicode"/>
              </a:rPr>
              <a:t>на</a:t>
            </a:r>
            <a:r>
              <a:rPr b="1" lang="ru-RU" sz="4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лужай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142920" y="4143240"/>
            <a:ext cx="8643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Краси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цветок цветё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 u="sng">
                <a:solidFill>
                  <a:schemeClr val="accent3"/>
                </a:solidFill>
                <a:uFillTx/>
                <a:latin typeface="Arial"/>
              </a:rPr>
              <a:t>на</a:t>
            </a:r>
            <a:r>
              <a:rPr b="1" i="1" lang="ru-RU" sz="3600" spc="-1" strike="noStrike">
                <a:solidFill>
                  <a:schemeClr val="accent3"/>
                </a:solidFill>
                <a:latin typeface="Arial"/>
              </a:rPr>
              <a:t> лужайке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64360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6000"/>
          </a:bodyPr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c00000"/>
                </a:solidFill>
                <a:uFillTx/>
                <a:latin typeface="Lucida Sans Unicode"/>
              </a:rPr>
              <a:t>(какой?)</a:t>
            </a:r>
            <a:r>
              <a:rPr b="1" lang="ru-RU" sz="4600" spc="-1" strike="noStrike">
                <a:solidFill>
                  <a:srgbClr val="c00000"/>
                </a:solidFill>
                <a:latin typeface="Lucida Sans Unicode"/>
              </a:rPr>
              <a:t>Красивый</a:t>
            </a:r>
            <a:r>
              <a:rPr b="0" lang="ru-RU" sz="4600" spc="-1" strike="noStrike">
                <a:solidFill>
                  <a:srgbClr val="c00000"/>
                </a:solidFill>
                <a:latin typeface="Lucida Sans Unicode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ff0000"/>
                </a:solidFill>
                <a:uFillTx/>
                <a:latin typeface="Lucida Sans Unicode"/>
              </a:rPr>
              <a:t>(что?)</a:t>
            </a:r>
            <a:r>
              <a:rPr b="1" lang="ru-RU" sz="4600" spc="-1" strike="noStrike">
                <a:solidFill>
                  <a:srgbClr val="ff0000"/>
                </a:solidFill>
                <a:latin typeface="Lucida Sans Unicode"/>
              </a:rPr>
              <a:t>цветок</a:t>
            </a:r>
            <a:r>
              <a:rPr b="0" lang="ru-RU" sz="4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00b050"/>
                </a:solidFill>
                <a:uFillTx/>
                <a:latin typeface="Lucida Sans Unicode"/>
              </a:rPr>
              <a:t>(что делает?)</a:t>
            </a:r>
            <a:r>
              <a:rPr b="1" lang="ru-RU" sz="4600" spc="-1" strike="noStrike">
                <a:solidFill>
                  <a:srgbClr val="00b050"/>
                </a:solidFill>
                <a:latin typeface="Lucida Sans Unicode"/>
              </a:rPr>
              <a:t>цветёт</a:t>
            </a:r>
            <a:r>
              <a:rPr b="0" lang="ru-RU" sz="46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4600" spc="-1" strike="noStrike" u="sng">
                <a:solidFill>
                  <a:srgbClr val="000000"/>
                </a:solidFill>
                <a:uFillTx/>
                <a:latin typeface="Lucida Sans Unicode"/>
              </a:rPr>
              <a:t>(где?) </a:t>
            </a:r>
            <a:r>
              <a:rPr b="1" lang="ru-RU" sz="4600" spc="-1" strike="noStrike" u="sng">
                <a:solidFill>
                  <a:srgbClr val="92d050"/>
                </a:solidFill>
                <a:uFillTx/>
                <a:latin typeface="Lucida Sans Unicode"/>
              </a:rPr>
              <a:t>на</a:t>
            </a:r>
            <a:r>
              <a:rPr b="1" lang="ru-RU" sz="4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46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лужайке</a:t>
            </a:r>
            <a:r>
              <a:rPr b="0" lang="ru-RU" sz="4600" spc="-1" strike="noStrike">
                <a:solidFill>
                  <a:schemeClr val="accent3">
                    <a:lumMod val="50000"/>
                  </a:schemeClr>
                </a:solidFill>
                <a:latin typeface="Lucida Sans Unicode"/>
              </a:rPr>
              <a:t>.  </a:t>
            </a:r>
            <a:endParaRPr b="0" lang="ru-RU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какой?)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Красивый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что?)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цветок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ru-RU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что делает?)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цветёт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(где?) </a:t>
            </a:r>
            <a:r>
              <a:rPr b="1" lang="ru-RU" sz="3900" spc="-1" strike="noStrike" u="sng">
                <a:solidFill>
                  <a:srgbClr val="000000"/>
                </a:solidFill>
                <a:uFillTx/>
                <a:latin typeface="Lucida Sans Unicode"/>
              </a:rPr>
              <a:t>на</a:t>
            </a:r>
            <a:r>
              <a:rPr b="1" lang="ru-RU" sz="3900" spc="-1" strike="noStrike">
                <a:solidFill>
                  <a:srgbClr val="000000"/>
                </a:solidFill>
                <a:latin typeface="Lucida Sans Unicode"/>
              </a:rPr>
              <a:t> лужайке</a:t>
            </a:r>
            <a:r>
              <a:rPr b="0" lang="ru-RU" sz="39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ru-RU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обозначают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предмет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обозначаю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признаки предметов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обозначают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действия предмет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688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лова которые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Lucida Sans Unicode"/>
              </a:rPr>
              <a:t>служат для связи слов в предложени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anchor="t">
            <a:noAutofit/>
          </a:bodyPr>
          <a:p>
            <a:pPr indent="0" algn="ctr">
              <a:buNone/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168" name="Группа 35"/>
          <p:cNvGrpSpPr/>
          <p:nvPr/>
        </p:nvGrpSpPr>
        <p:grpSpPr>
          <a:xfrm>
            <a:off x="0" y="5326200"/>
            <a:ext cx="9143640" cy="1245960"/>
            <a:chOff x="0" y="5326200"/>
            <a:chExt cx="9143640" cy="1245960"/>
          </a:xfrm>
        </p:grpSpPr>
        <p:sp>
          <p:nvSpPr>
            <p:cNvPr id="169" name="Text Box 4"/>
            <p:cNvSpPr/>
            <p:nvPr/>
          </p:nvSpPr>
          <p:spPr>
            <a:xfrm>
              <a:off x="0" y="5326200"/>
              <a:ext cx="9143640" cy="1245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</a:pPr>
              <a:r>
                <a:rPr b="0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что?)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Цветок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какой?)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красивый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что делает?)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цветёт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200" spc="-1" strike="noStrike" u="sng">
                  <a:solidFill>
                    <a:srgbClr val="000000"/>
                  </a:solidFill>
                  <a:uFillTx/>
                  <a:latin typeface="Calibri"/>
                </a:rPr>
                <a:t>(Где?)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на лужайк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5"/>
            <p:cNvGrpSpPr/>
            <p:nvPr/>
          </p:nvGrpSpPr>
          <p:grpSpPr>
            <a:xfrm>
              <a:off x="144360" y="5747760"/>
              <a:ext cx="8908560" cy="641160"/>
              <a:chOff x="144360" y="5747760"/>
              <a:chExt cx="8908560" cy="641160"/>
            </a:xfrm>
          </p:grpSpPr>
          <p:grpSp>
            <p:nvGrpSpPr>
              <p:cNvPr id="171" name="Group 6"/>
              <p:cNvGrpSpPr/>
              <p:nvPr/>
            </p:nvGrpSpPr>
            <p:grpSpPr>
              <a:xfrm>
                <a:off x="144360" y="5747760"/>
                <a:ext cx="8671680" cy="641160"/>
                <a:chOff x="144360" y="5747760"/>
                <a:chExt cx="8671680" cy="641160"/>
              </a:xfrm>
            </p:grpSpPr>
            <p:grpSp>
              <p:nvGrpSpPr>
                <p:cNvPr id="172" name="Group 7"/>
                <p:cNvGrpSpPr/>
                <p:nvPr/>
              </p:nvGrpSpPr>
              <p:grpSpPr>
                <a:xfrm>
                  <a:off x="144360" y="6307920"/>
                  <a:ext cx="8671680" cy="81000"/>
                  <a:chOff x="144360" y="6307920"/>
                  <a:chExt cx="8671680" cy="81000"/>
                </a:xfrm>
              </p:grpSpPr>
              <p:cxnSp>
                <p:nvCxnSpPr>
                  <p:cNvPr id="173" name="AutoShape 8"/>
                  <p:cNvCxnSpPr/>
                  <p:nvPr/>
                </p:nvCxnSpPr>
                <p:spPr>
                  <a:xfrm>
                    <a:off x="144360" y="637884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4" name="AutoShape 9"/>
                  <p:cNvCxnSpPr/>
                  <p:nvPr/>
                </p:nvCxnSpPr>
                <p:spPr>
                  <a:xfrm>
                    <a:off x="4321440" y="632808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5" name="AutoShape 10"/>
                  <p:cNvCxnSpPr/>
                  <p:nvPr/>
                </p:nvCxnSpPr>
                <p:spPr>
                  <a:xfrm>
                    <a:off x="1940040" y="632808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6" name="AutoShape 11"/>
                  <p:cNvCxnSpPr/>
                  <p:nvPr/>
                </p:nvCxnSpPr>
                <p:spPr>
                  <a:xfrm>
                    <a:off x="6660720" y="6318000"/>
                    <a:ext cx="62208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7" name="AutoShape 12"/>
                  <p:cNvCxnSpPr/>
                  <p:nvPr/>
                </p:nvCxnSpPr>
                <p:spPr>
                  <a:xfrm>
                    <a:off x="7735680" y="6307920"/>
                    <a:ext cx="1080720" cy="10440"/>
                  </a:xfrm>
                  <a:prstGeom prst="straightConnector1">
                    <a:avLst/>
                  </a:prstGeom>
                  <a:ln w="76200">
                    <a:solidFill>
                      <a:srgbClr val="000000"/>
                    </a:solidFill>
                    <a:round/>
                  </a:ln>
                </p:spPr>
              </p:cxnSp>
            </p:grpSp>
            <p:cxnSp>
              <p:nvCxnSpPr>
                <p:cNvPr id="178" name="AutoShape 13"/>
                <p:cNvCxnSpPr/>
                <p:nvPr/>
              </p:nvCxnSpPr>
              <p:spPr>
                <a:xfrm flipV="1">
                  <a:off x="144360" y="5747760"/>
                  <a:ext cx="360" cy="641520"/>
                </a:xfrm>
                <a:prstGeom prst="straightConnector1">
                  <a:avLst/>
                </a:prstGeom>
                <a:ln w="76200">
                  <a:solidFill>
                    <a:srgbClr val="000000"/>
                  </a:solidFill>
                  <a:round/>
                </a:ln>
              </p:spPr>
            </p:cxnSp>
          </p:grpSp>
          <p:sp>
            <p:nvSpPr>
              <p:cNvPr id="179" name="Oval 14"/>
              <p:cNvSpPr/>
              <p:nvPr/>
            </p:nvSpPr>
            <p:spPr>
              <a:xfrm>
                <a:off x="8890560" y="6219000"/>
                <a:ext cx="162360" cy="139320"/>
              </a:xfrm>
              <a:prstGeom prst="ellipse">
                <a:avLst/>
              </a:pr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180" name="Text Box 18"/>
          <p:cNvSpPr/>
          <p:nvPr/>
        </p:nvSpPr>
        <p:spPr>
          <a:xfrm>
            <a:off x="73080" y="3946680"/>
            <a:ext cx="1458720" cy="9061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ова- предм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357280" y="4137120"/>
            <a:ext cx="1294920" cy="83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знаки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5078520" y="3905280"/>
            <a:ext cx="1299960" cy="1161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ва-действия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7331040" y="4311720"/>
            <a:ext cx="1456920" cy="645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ужат для связи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28"/>
          <p:cNvGrpSpPr/>
          <p:nvPr/>
        </p:nvGrpSpPr>
        <p:grpSpPr>
          <a:xfrm>
            <a:off x="0" y="357120"/>
            <a:ext cx="2714400" cy="1142640"/>
            <a:chOff x="0" y="357120"/>
            <a:chExt cx="2714400" cy="1142640"/>
          </a:xfrm>
        </p:grpSpPr>
        <p:sp>
          <p:nvSpPr>
            <p:cNvPr id="185" name="Облако 23"/>
            <p:cNvSpPr/>
            <p:nvPr/>
          </p:nvSpPr>
          <p:spPr>
            <a:xfrm>
              <a:off x="0" y="357120"/>
              <a:ext cx="2714400" cy="114264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86" name="TextBox 27"/>
            <p:cNvSpPr/>
            <p:nvPr/>
          </p:nvSpPr>
          <p:spPr>
            <a:xfrm>
              <a:off x="214200" y="571680"/>
              <a:ext cx="22856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существи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Группа 30"/>
          <p:cNvGrpSpPr/>
          <p:nvPr/>
        </p:nvGrpSpPr>
        <p:grpSpPr>
          <a:xfrm>
            <a:off x="2071800" y="1143000"/>
            <a:ext cx="2428560" cy="928440"/>
            <a:chOff x="2071800" y="1143000"/>
            <a:chExt cx="2428560" cy="928440"/>
          </a:xfrm>
        </p:grpSpPr>
        <p:sp>
          <p:nvSpPr>
            <p:cNvPr id="188" name="Облако 24"/>
            <p:cNvSpPr/>
            <p:nvPr/>
          </p:nvSpPr>
          <p:spPr>
            <a:xfrm>
              <a:off x="2071800" y="1143000"/>
              <a:ext cx="2428560" cy="92844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89" name="TextBox 29"/>
            <p:cNvSpPr/>
            <p:nvPr/>
          </p:nvSpPr>
          <p:spPr>
            <a:xfrm>
              <a:off x="2214720" y="1357200"/>
              <a:ext cx="22143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прилагатель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32"/>
          <p:cNvGrpSpPr/>
          <p:nvPr/>
        </p:nvGrpSpPr>
        <p:grpSpPr>
          <a:xfrm>
            <a:off x="4214880" y="1285920"/>
            <a:ext cx="2142720" cy="785520"/>
            <a:chOff x="4214880" y="1285920"/>
            <a:chExt cx="2142720" cy="785520"/>
          </a:xfrm>
        </p:grpSpPr>
        <p:sp>
          <p:nvSpPr>
            <p:cNvPr id="191" name="Облако 25"/>
            <p:cNvSpPr/>
            <p:nvPr/>
          </p:nvSpPr>
          <p:spPr>
            <a:xfrm>
              <a:off x="4214880" y="1285920"/>
              <a:ext cx="2142720" cy="78552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92" name="TextBox 31"/>
            <p:cNvSpPr/>
            <p:nvPr/>
          </p:nvSpPr>
          <p:spPr>
            <a:xfrm>
              <a:off x="4643280" y="1500120"/>
              <a:ext cx="12139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глаг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34"/>
          <p:cNvGrpSpPr/>
          <p:nvPr/>
        </p:nvGrpSpPr>
        <p:grpSpPr>
          <a:xfrm>
            <a:off x="6072120" y="928800"/>
            <a:ext cx="2071440" cy="785520"/>
            <a:chOff x="6072120" y="928800"/>
            <a:chExt cx="2071440" cy="785520"/>
          </a:xfrm>
        </p:grpSpPr>
        <p:sp>
          <p:nvSpPr>
            <p:cNvPr id="194" name="Облако 26"/>
            <p:cNvSpPr/>
            <p:nvPr/>
          </p:nvSpPr>
          <p:spPr>
            <a:xfrm>
              <a:off x="6072120" y="928800"/>
              <a:ext cx="2071440" cy="785520"/>
            </a:xfrm>
            <a:prstGeom prst="cloud">
              <a:avLst/>
            </a:prstGeom>
            <a:solidFill>
              <a:srgbClr val="2da2bf"/>
            </a:solidFill>
            <a:ln>
              <a:solidFill>
                <a:srgbClr val="21778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sp>
          <p:nvSpPr>
            <p:cNvPr id="195" name="TextBox 33"/>
            <p:cNvSpPr/>
            <p:nvPr/>
          </p:nvSpPr>
          <p:spPr>
            <a:xfrm>
              <a:off x="6429240" y="1143000"/>
              <a:ext cx="1642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предло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13</TotalTime>
  <Application>LibreOffice/7.4.7.2$Linux_X86_64 LibreOffice_project/40$Build-2</Application>
  <AppVersion>15.0000</AppVersion>
  <Words>319</Words>
  <Paragraphs>58</Paragraphs>
  <Company>MultiDVD Te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7:00:21Z</dcterms:created>
  <dc:creator>user</dc:creator>
  <dc:description/>
  <dc:language>en-US</dc:language>
  <cp:lastModifiedBy>Ирина</cp:lastModifiedBy>
  <dcterms:modified xsi:type="dcterms:W3CDTF">2018-12-23T07:56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