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8A043-F4BB-435D-A85B-54D58EC43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ей речи в русском языке много. Мы рассмотрим некоторые из них. Например: Что это? (Цвето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делает цветок? ( Растёт, цветёт…). Опишите цветок. Какой он? (Красивый, белый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425F3F-7FEB-41A9-87E1-E8CBAFD4D02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ас есть слова : … 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(что?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вето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Arial"/>
              </a:rPr>
              <a:t>(что делает?)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цветёт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(какой?)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расив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где?) 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Arial"/>
              </a:rPr>
              <a:t>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лужайке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.   Составьте из них предложение. (</a:t>
            </a:r>
            <a:r>
              <a:rPr b="1" lang="ru-RU" sz="20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Arial"/>
              </a:rPr>
              <a:t>на партах у каждого есть разрезные слова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.) Прочитайте предложение.  Составьте предложение из слов на синих полосочках. Прочитайте своё предло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0DB5C5-E501-4E47-B380-6251975133D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выяснили, что в нашей речи есть разные слова. Это слова, которые обозначают… Такие слова делают нашу речь более разнообразной, понятной и красивой. В русском языке у каждой части речи есть назв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1EE789-71F1-416D-8BF8-0FADF46F44D6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973-6BE6-4F5F-A100-17CD36DC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08D-9674-49FF-9B9C-CE2423F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E5B-3B80-4600-A23A-1FE7F223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16E-B535-4935-B03D-DEB95042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52D-5B69-4504-BBF1-AA7C0089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A6E-C33D-476C-AB61-96AB9FD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0358-0339-46CA-A6CC-5ECABF0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349-6BE4-4609-8475-B5395D6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12C-CBC5-4877-A373-82A0F35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F1B-0571-4070-AF31-36C1CC2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3F3F-BC0F-472A-8366-6FDB4DED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A55-9D1F-43A1-9D10-F065E63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A9A2-DE21-48AF-9796-2B46D96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F23-E8F1-4F92-B13F-2E1EE99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2196-414F-4DF6-9794-24047D1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2BF-4817-498A-8B16-41F2A99E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EF4-2F78-4A94-BFD1-2FEE847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1C90-9BB5-4550-A799-1CC0A0F2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DC1D-E653-4783-9B36-C93FA84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9234-27CF-4FA9-9603-54DDF0EE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2C4C-2DB2-4FE9-9450-6F0D60A0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FFBF-620D-4A7C-A7A2-7459F99A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127-DFA2-4832-BEE8-19B07BB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FAD7-0379-421D-B8FA-D878F7E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4275-4ABD-4BE7-ADCA-B0E10B1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2B53-811A-4FFE-B969-08EB518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06AE-E084-4D4E-AA3D-E2093ED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7DDB-4CF7-4ABF-ACD0-E191942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4595-5D81-4AAE-A968-737E3579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E297-9E7C-4147-9E3E-0D66CECF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4FA-8A1D-4051-9C4F-B7058A5C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178-4BC0-4551-9505-1085731D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254-A413-45E5-9B28-319E428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86C-3394-4247-9EBD-74F74C8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94C-E6A9-47C1-8627-39EE093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5BC-50AE-4362-A22E-899E1008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3"/>
          <p:cNvSpPr/>
          <p:nvPr/>
        </p:nvSpPr>
        <p:spPr>
          <a:xfrm>
            <a:off x="0" y="4664160"/>
            <a:ext cx="915012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grpSp>
        <p:nvGrpSpPr>
          <p:cNvPr id="5" name="Группа 15"/>
          <p:cNvGrpSpPr/>
          <p:nvPr/>
        </p:nvGrpSpPr>
        <p:grpSpPr>
          <a:xfrm>
            <a:off x="-6120" y="4952880"/>
            <a:ext cx="9155880" cy="1916640"/>
            <a:chOff x="-6120" y="4952880"/>
            <a:chExt cx="9155880" cy="1916640"/>
          </a:xfrm>
        </p:grpSpPr>
        <p:sp>
          <p:nvSpPr>
            <p:cNvPr id="6" name="Полилиния 5"/>
            <p:cNvSpPr/>
            <p:nvPr/>
          </p:nvSpPr>
          <p:spPr>
            <a:xfrm>
              <a:off x="1687680" y="4952880"/>
              <a:ext cx="7455960" cy="48708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Полилиния 6"/>
            <p:cNvSpPr/>
            <p:nvPr/>
          </p:nvSpPr>
          <p:spPr>
            <a:xfrm>
              <a:off x="36360" y="5237280"/>
              <a:ext cx="9107280" cy="78876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8" name="Полилиния 7"/>
            <p:cNvGrpSpPr/>
            <p:nvPr/>
          </p:nvGrpSpPr>
          <p:grpSpPr>
            <a:xfrm>
              <a:off x="-6120" y="4992480"/>
              <a:ext cx="9155880" cy="1877040"/>
              <a:chOff x="-6120" y="4992480"/>
              <a:chExt cx="9155880" cy="1877040"/>
            </a:xfrm>
          </p:grpSpPr>
          <p:pic>
            <p:nvPicPr>
              <p:cNvPr id="9" name="Полилиния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6120" y="4992480"/>
                <a:ext cx="9155880" cy="187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2"/>
              <p:cNvSpPr/>
              <p:nvPr/>
            </p:nvSpPr>
            <p:spPr>
              <a:xfrm>
                <a:off x="720" y="5001120"/>
                <a:ext cx="360" cy="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Lucida Sans Unicode"/>
                </a:endParaRPr>
              </a:p>
            </p:txBody>
          </p:sp>
        </p:grpSp>
        <p:cxnSp>
          <p:nvCxnSpPr>
            <p:cNvPr id="11" name="Прямая соединительная линия 9"/>
            <p:cNvCxnSpPr/>
            <p:nvPr/>
          </p:nvCxnSpPr>
          <p:spPr>
            <a:xfrm>
              <a:off x="-2880" y="4997520"/>
              <a:ext cx="9147240" cy="79020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42D84-7DB2-431D-AFAD-126E1D8F599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6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3B5DE-4EAD-48BC-9393-4CC8F2FD4A4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01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35CD1-1DE8-46FD-BD1C-9DB52BB850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071960" y="3571920"/>
            <a:ext cx="4748040" cy="288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Презент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приготовила Журенкова Ирин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МБОУ СОШ №1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Урок русского языка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по теме: «Предложение и части речи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Изображение 099"/>
          <p:cNvPicPr/>
          <p:nvPr/>
        </p:nvPicPr>
        <p:blipFill>
          <a:blip r:embed="rId1"/>
          <a:stretch/>
        </p:blipFill>
        <p:spPr>
          <a:xfrm>
            <a:off x="214200" y="-249120"/>
            <a:ext cx="8840520" cy="6557760"/>
          </a:xfrm>
          <a:prstGeom prst="rect">
            <a:avLst/>
          </a:prstGeom>
          <a:ln w="9525">
            <a:noFill/>
          </a:ln>
        </p:spPr>
      </p:pic>
      <p:sp>
        <p:nvSpPr>
          <p:cNvPr id="152" name="TextBox 10"/>
          <p:cNvSpPr/>
          <p:nvPr/>
        </p:nvSpPr>
        <p:spPr>
          <a:xfrm>
            <a:off x="1214280" y="1500120"/>
            <a:ext cx="6786360" cy="9428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Наша речь состоит из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1285920" y="2357280"/>
            <a:ext cx="6286320" cy="577080"/>
          </a:xfrm>
          <a:prstGeom prst="rect">
            <a:avLst/>
          </a:prstGeom>
          <a:solidFill>
            <a:srgbClr val="ffc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едложения состоят из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1357200" y="3286080"/>
            <a:ext cx="6000480" cy="942840"/>
          </a:xfrm>
          <a:prstGeom prst="rect">
            <a:avLst/>
          </a:prstGeom>
          <a:solidFill>
            <a:srgbClr val="92d0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лова – это части предложений в наш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14200" y="428760"/>
            <a:ext cx="8286480" cy="9428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Lucida Sans Unicode"/>
              </a:rPr>
              <a:t>Каждое слова –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частичка </a:t>
            </a: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Lucida Sans Unicode"/>
              </a:rPr>
              <a:t>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14200" y="1285920"/>
            <a:ext cx="82864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Значит все слова, которые мы произносим – эт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Lucida Sans Unicode"/>
              </a:rPr>
              <a:t>части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нашей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Lucida Sans Unicode"/>
              </a:rPr>
              <a:t>речи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5" descr="SDC10980.JPG"/>
          <p:cNvPicPr/>
          <p:nvPr/>
        </p:nvPicPr>
        <p:blipFill>
          <a:blip r:embed="rId1"/>
          <a:stretch/>
        </p:blipFill>
        <p:spPr>
          <a:xfrm>
            <a:off x="6097680" y="2571840"/>
            <a:ext cx="2545920" cy="221436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6"/>
          <p:cNvSpPr/>
          <p:nvPr/>
        </p:nvSpPr>
        <p:spPr>
          <a:xfrm>
            <a:off x="571680" y="2571840"/>
            <a:ext cx="3714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(что?) </a:t>
            </a:r>
            <a:r>
              <a:rPr b="1" lang="ru-RU" sz="3200" spc="-1" strike="noStrike">
                <a:solidFill>
                  <a:srgbClr val="ff0000"/>
                </a:solidFill>
                <a:latin typeface="Lucida Sans Unicode"/>
              </a:rPr>
              <a:t>цветок</a:t>
            </a:r>
            <a:r>
              <a:rPr b="0" lang="ru-RU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0040" y="3214800"/>
            <a:ext cx="52146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Lucida Sans Unicode"/>
              </a:rPr>
              <a:t>(что делает?) </a:t>
            </a:r>
            <a:r>
              <a:rPr b="1" lang="ru-RU" sz="3200" spc="-1" strike="noStrike">
                <a:solidFill>
                  <a:srgbClr val="00b050"/>
                </a:solidFill>
                <a:latin typeface="Lucida Sans Unicode"/>
              </a:rPr>
              <a:t>цветёт</a:t>
            </a:r>
            <a:r>
              <a:rPr b="0" lang="ru-RU" sz="32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0040" y="4071960"/>
            <a:ext cx="40716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Lucida Sans Unicode"/>
              </a:rPr>
              <a:t>(какой?) </a:t>
            </a:r>
            <a:r>
              <a:rPr b="1" lang="ru-RU" sz="3200" spc="-1" strike="noStrike">
                <a:solidFill>
                  <a:srgbClr val="c00000"/>
                </a:solidFill>
                <a:latin typeface="Lucida Sans Unicode"/>
              </a:rPr>
              <a:t>красивый</a:t>
            </a:r>
            <a:r>
              <a:rPr b="0" lang="ru-RU" sz="32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0040" y="5143680"/>
            <a:ext cx="78577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(на чём? где?) </a:t>
            </a:r>
            <a:r>
              <a:rPr b="1" lang="ru-RU" sz="5400" spc="-1" strike="noStrike" u="sng">
                <a:solidFill>
                  <a:schemeClr val="accent3"/>
                </a:solidFill>
                <a:uFillTx/>
                <a:latin typeface="Lucida Sans Unicode"/>
              </a:rPr>
              <a:t>на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SDC10955.JPG"/>
          <p:cNvPicPr/>
          <p:nvPr/>
        </p:nvPicPr>
        <p:blipFill>
          <a:blip r:embed="rId1"/>
          <a:srcRect l="1959" t="0" r="0" b="36278"/>
          <a:stretch/>
        </p:blipFill>
        <p:spPr>
          <a:xfrm>
            <a:off x="4140360" y="208080"/>
            <a:ext cx="4601880" cy="66495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571680" y="285840"/>
            <a:ext cx="3071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Lucida Sans Unicode"/>
              </a:rPr>
              <a:t>цве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50"/>
                </a:solidFill>
                <a:latin typeface="Lucida Sans Unicode"/>
              </a:rPr>
              <a:t>цветё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Lucida Sans Unicode"/>
              </a:rPr>
              <a:t>красивы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92d050"/>
                </a:solidFill>
                <a:uFillTx/>
                <a:latin typeface="Lucida Sans Unicode"/>
              </a:rPr>
              <a:t>на</a:t>
            </a:r>
            <a:r>
              <a:rPr b="1" lang="ru-RU" sz="4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142920" y="4143240"/>
            <a:ext cx="8643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Краси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цветок цветё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chemeClr val="accent3"/>
                </a:solidFill>
                <a:uFillTx/>
                <a:latin typeface="Arial"/>
              </a:rPr>
              <a:t>на</a:t>
            </a: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 лужайке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64360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6000"/>
          </a:bodyPr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c00000"/>
                </a:solidFill>
                <a:uFillTx/>
                <a:latin typeface="Lucida Sans Unicode"/>
              </a:rPr>
              <a:t>(какой?)</a:t>
            </a:r>
            <a:r>
              <a:rPr b="1" lang="ru-RU" sz="4600" spc="-1" strike="noStrike">
                <a:solidFill>
                  <a:srgbClr val="c00000"/>
                </a:solidFill>
                <a:latin typeface="Lucida Sans Unicode"/>
              </a:rPr>
              <a:t>Красивый</a:t>
            </a:r>
            <a:r>
              <a:rPr b="0" lang="ru-RU" sz="46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ff0000"/>
                </a:solidFill>
                <a:uFillTx/>
                <a:latin typeface="Lucida Sans Unicode"/>
              </a:rPr>
              <a:t>(что?)</a:t>
            </a:r>
            <a:r>
              <a:rPr b="1" lang="ru-RU" sz="4600" spc="-1" strike="noStrike">
                <a:solidFill>
                  <a:srgbClr val="ff0000"/>
                </a:solidFill>
                <a:latin typeface="Lucida Sans Unicode"/>
              </a:rPr>
              <a:t>цветок</a:t>
            </a:r>
            <a:r>
              <a:rPr b="0" lang="ru-RU" sz="4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00b050"/>
                </a:solidFill>
                <a:uFillTx/>
                <a:latin typeface="Lucida Sans Unicode"/>
              </a:rPr>
              <a:t>(что делает?)</a:t>
            </a:r>
            <a:r>
              <a:rPr b="1" lang="ru-RU" sz="4600" spc="-1" strike="noStrike">
                <a:solidFill>
                  <a:srgbClr val="00b050"/>
                </a:solidFill>
                <a:latin typeface="Lucida Sans Unicode"/>
              </a:rPr>
              <a:t>цветёт</a:t>
            </a:r>
            <a:r>
              <a:rPr b="0" lang="ru-RU" sz="46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000000"/>
                </a:solidFill>
                <a:uFillTx/>
                <a:latin typeface="Lucida Sans Unicode"/>
              </a:rPr>
              <a:t>(где?) </a:t>
            </a:r>
            <a:r>
              <a:rPr b="1" lang="ru-RU" sz="4600" spc="-1" strike="noStrike" u="sng">
                <a:solidFill>
                  <a:srgbClr val="92d050"/>
                </a:solidFill>
                <a:uFillTx/>
                <a:latin typeface="Lucida Sans Unicode"/>
              </a:rPr>
              <a:t>на</a:t>
            </a:r>
            <a:r>
              <a:rPr b="1" lang="ru-RU" sz="4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46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</a:t>
            </a:r>
            <a:r>
              <a:rPr b="0" lang="ru-RU" sz="46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. 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какой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Красивый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что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цветок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что делает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цветёт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где?) </a:t>
            </a:r>
            <a:r>
              <a:rPr b="1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на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 лужайке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предмет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признаки предметов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действия предмет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которые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служат для связи слов в предложени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168" name="Группа 35"/>
          <p:cNvGrpSpPr/>
          <p:nvPr/>
        </p:nvGrpSpPr>
        <p:grpSpPr>
          <a:xfrm>
            <a:off x="0" y="5326200"/>
            <a:ext cx="9143640" cy="1245960"/>
            <a:chOff x="0" y="5326200"/>
            <a:chExt cx="9143640" cy="1245960"/>
          </a:xfrm>
        </p:grpSpPr>
        <p:sp>
          <p:nvSpPr>
            <p:cNvPr id="169" name="Text Box 4"/>
            <p:cNvSpPr/>
            <p:nvPr/>
          </p:nvSpPr>
          <p:spPr>
            <a:xfrm>
              <a:off x="0" y="5326200"/>
              <a:ext cx="9143640" cy="1245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</a:pP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что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Цветок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какой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красивый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что делает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цветёт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Где?)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на лужайк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5"/>
            <p:cNvGrpSpPr/>
            <p:nvPr/>
          </p:nvGrpSpPr>
          <p:grpSpPr>
            <a:xfrm>
              <a:off x="144360" y="5747760"/>
              <a:ext cx="8908560" cy="641160"/>
              <a:chOff x="144360" y="5747760"/>
              <a:chExt cx="8908560" cy="641160"/>
            </a:xfrm>
          </p:grpSpPr>
          <p:grpSp>
            <p:nvGrpSpPr>
              <p:cNvPr id="171" name="Group 6"/>
              <p:cNvGrpSpPr/>
              <p:nvPr/>
            </p:nvGrpSpPr>
            <p:grpSpPr>
              <a:xfrm>
                <a:off x="144360" y="5747760"/>
                <a:ext cx="8671680" cy="641160"/>
                <a:chOff x="144360" y="5747760"/>
                <a:chExt cx="8671680" cy="641160"/>
              </a:xfrm>
            </p:grpSpPr>
            <p:grpSp>
              <p:nvGrpSpPr>
                <p:cNvPr id="172" name="Group 7"/>
                <p:cNvGrpSpPr/>
                <p:nvPr/>
              </p:nvGrpSpPr>
              <p:grpSpPr>
                <a:xfrm>
                  <a:off x="144360" y="6307920"/>
                  <a:ext cx="8671680" cy="81000"/>
                  <a:chOff x="144360" y="6307920"/>
                  <a:chExt cx="8671680" cy="81000"/>
                </a:xfrm>
              </p:grpSpPr>
              <p:cxnSp>
                <p:nvCxnSpPr>
                  <p:cNvPr id="173" name="AutoShape 8"/>
                  <p:cNvCxnSpPr/>
                  <p:nvPr/>
                </p:nvCxnSpPr>
                <p:spPr>
                  <a:xfrm>
                    <a:off x="144360" y="637884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4" name="AutoShape 9"/>
                  <p:cNvCxnSpPr/>
                  <p:nvPr/>
                </p:nvCxnSpPr>
                <p:spPr>
                  <a:xfrm>
                    <a:off x="4321440" y="632808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5" name="AutoShape 10"/>
                  <p:cNvCxnSpPr/>
                  <p:nvPr/>
                </p:nvCxnSpPr>
                <p:spPr>
                  <a:xfrm>
                    <a:off x="1940040" y="632808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6" name="AutoShape 11"/>
                  <p:cNvCxnSpPr/>
                  <p:nvPr/>
                </p:nvCxnSpPr>
                <p:spPr>
                  <a:xfrm>
                    <a:off x="6660720" y="6318000"/>
                    <a:ext cx="62208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7" name="AutoShape 12"/>
                  <p:cNvCxnSpPr/>
                  <p:nvPr/>
                </p:nvCxnSpPr>
                <p:spPr>
                  <a:xfrm>
                    <a:off x="7735680" y="630792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</p:grpSp>
            <p:cxnSp>
              <p:nvCxnSpPr>
                <p:cNvPr id="178" name="AutoShape 13"/>
                <p:cNvCxnSpPr/>
                <p:nvPr/>
              </p:nvCxnSpPr>
              <p:spPr>
                <a:xfrm flipV="1">
                  <a:off x="144360" y="5747760"/>
                  <a:ext cx="360" cy="641520"/>
                </a:xfrm>
                <a:prstGeom prst="straightConnector1">
                  <a:avLst/>
                </a:prstGeom>
                <a:ln w="76200">
                  <a:solidFill>
                    <a:srgbClr val="000000"/>
                  </a:solidFill>
                  <a:round/>
                </a:ln>
              </p:spPr>
            </p:cxnSp>
          </p:grpSp>
          <p:sp>
            <p:nvSpPr>
              <p:cNvPr id="179" name="Oval 14"/>
              <p:cNvSpPr/>
              <p:nvPr/>
            </p:nvSpPr>
            <p:spPr>
              <a:xfrm>
                <a:off x="8890560" y="6219000"/>
                <a:ext cx="162360" cy="139320"/>
              </a:xfrm>
              <a:prstGeom prst="ellipse">
                <a:avLst/>
              </a:pr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180" name="Text Box 18"/>
          <p:cNvSpPr/>
          <p:nvPr/>
        </p:nvSpPr>
        <p:spPr>
          <a:xfrm>
            <a:off x="73080" y="3946680"/>
            <a:ext cx="1458720" cy="9061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ова- предм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357280" y="4137120"/>
            <a:ext cx="1294920" cy="83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знак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5078520" y="3905280"/>
            <a:ext cx="1299960" cy="1161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а-действия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7331040" y="4311720"/>
            <a:ext cx="1456920" cy="645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ужат для связи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28"/>
          <p:cNvGrpSpPr/>
          <p:nvPr/>
        </p:nvGrpSpPr>
        <p:grpSpPr>
          <a:xfrm>
            <a:off x="0" y="357120"/>
            <a:ext cx="2714400" cy="1142640"/>
            <a:chOff x="0" y="357120"/>
            <a:chExt cx="2714400" cy="1142640"/>
          </a:xfrm>
        </p:grpSpPr>
        <p:sp>
          <p:nvSpPr>
            <p:cNvPr id="185" name="Облако 23"/>
            <p:cNvSpPr/>
            <p:nvPr/>
          </p:nvSpPr>
          <p:spPr>
            <a:xfrm>
              <a:off x="0" y="357120"/>
              <a:ext cx="2714400" cy="114264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86" name="TextBox 27"/>
            <p:cNvSpPr/>
            <p:nvPr/>
          </p:nvSpPr>
          <p:spPr>
            <a:xfrm>
              <a:off x="214200" y="571680"/>
              <a:ext cx="2285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существи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Группа 30"/>
          <p:cNvGrpSpPr/>
          <p:nvPr/>
        </p:nvGrpSpPr>
        <p:grpSpPr>
          <a:xfrm>
            <a:off x="2071800" y="1143000"/>
            <a:ext cx="2428560" cy="928440"/>
            <a:chOff x="2071800" y="1143000"/>
            <a:chExt cx="2428560" cy="928440"/>
          </a:xfrm>
        </p:grpSpPr>
        <p:sp>
          <p:nvSpPr>
            <p:cNvPr id="188" name="Облако 24"/>
            <p:cNvSpPr/>
            <p:nvPr/>
          </p:nvSpPr>
          <p:spPr>
            <a:xfrm>
              <a:off x="2071800" y="1143000"/>
              <a:ext cx="2428560" cy="92844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89" name="TextBox 29"/>
            <p:cNvSpPr/>
            <p:nvPr/>
          </p:nvSpPr>
          <p:spPr>
            <a:xfrm>
              <a:off x="2214720" y="1357200"/>
              <a:ext cx="2214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прилаг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32"/>
          <p:cNvGrpSpPr/>
          <p:nvPr/>
        </p:nvGrpSpPr>
        <p:grpSpPr>
          <a:xfrm>
            <a:off x="4214880" y="1285920"/>
            <a:ext cx="2142720" cy="785520"/>
            <a:chOff x="4214880" y="1285920"/>
            <a:chExt cx="2142720" cy="785520"/>
          </a:xfrm>
        </p:grpSpPr>
        <p:sp>
          <p:nvSpPr>
            <p:cNvPr id="191" name="Облако 25"/>
            <p:cNvSpPr/>
            <p:nvPr/>
          </p:nvSpPr>
          <p:spPr>
            <a:xfrm>
              <a:off x="4214880" y="1285920"/>
              <a:ext cx="2142720" cy="78552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92" name="TextBox 31"/>
            <p:cNvSpPr/>
            <p:nvPr/>
          </p:nvSpPr>
          <p:spPr>
            <a:xfrm>
              <a:off x="4643280" y="1500120"/>
              <a:ext cx="12139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гла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34"/>
          <p:cNvGrpSpPr/>
          <p:nvPr/>
        </p:nvGrpSpPr>
        <p:grpSpPr>
          <a:xfrm>
            <a:off x="6072120" y="928800"/>
            <a:ext cx="2071440" cy="785520"/>
            <a:chOff x="6072120" y="928800"/>
            <a:chExt cx="2071440" cy="785520"/>
          </a:xfrm>
        </p:grpSpPr>
        <p:sp>
          <p:nvSpPr>
            <p:cNvPr id="194" name="Облако 26"/>
            <p:cNvSpPr/>
            <p:nvPr/>
          </p:nvSpPr>
          <p:spPr>
            <a:xfrm>
              <a:off x="6072120" y="928800"/>
              <a:ext cx="2071440" cy="78552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95" name="TextBox 33"/>
            <p:cNvSpPr/>
            <p:nvPr/>
          </p:nvSpPr>
          <p:spPr>
            <a:xfrm>
              <a:off x="6429240" y="1143000"/>
              <a:ext cx="1642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предло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3</TotalTime>
  <Application>LibreOffice/7.4.7.2$Linux_X86_64 LibreOffice_project/40$Build-2</Application>
  <AppVersion>15.0000</AppVersion>
  <Words>319</Words>
  <Paragraphs>58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7:00:21Z</dcterms:created>
  <dc:creator>user</dc:creator>
  <dc:description/>
  <dc:language>en-US</dc:language>
  <cp:lastModifiedBy>Ирина</cp:lastModifiedBy>
  <dcterms:modified xsi:type="dcterms:W3CDTF">2018-12-23T07:56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