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6.jpeg" ContentType="image/jpeg"/>
  <Override PartName="/ppt/media/drumroll.wav" ContentType="audio/x-wav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applause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B806-8D02-40AF-9CAE-973168C465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2750-2594-4AEF-958E-1A6E74B40E2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AC66-58AB-49BB-863A-BAFBC00B11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E51-555C-454D-8609-B91A4BBF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C05-B1F6-4E2E-9561-6ED74A79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8B8-190A-4A0E-B6EF-ACE3C7FB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E7A-9FF6-440D-B655-6CE7AC35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6858-0CE7-43F0-B2F9-AC53AB4D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AF95-6B5E-4891-94BF-391ECBBC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8779-F1CF-45F8-9FB2-93DE7680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DD3D-E0AB-4F1C-B8F8-A72539A5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11CD-FC9D-4AD1-BA92-D7B76C4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AED8-1E91-46B8-AA02-F9F97CC9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A560-961F-4CBA-BA14-B1602C7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BD7-F065-4D44-8802-68294E52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CF35-66B1-4469-A188-8AA87B3F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5100-5584-4D43-A6CC-28EBEB4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5FBF-5E40-4B39-9456-42A6E66F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17D2-5062-4A77-A395-4B8F52D0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33E4-AE16-455B-86E0-8232E292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D62-5E84-4541-A7E2-487289E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C44-971D-4D39-85AB-EFE8B0AD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1EE-12D4-4425-A383-7B408A4B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D02-ACBA-475A-B123-DF3A5934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BEB-BCB5-4F71-A876-E18C640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04C-8229-460C-AE1C-4F70E2E3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198-AB1A-4668-B008-B915617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56F9-739D-4413-9E74-FD5B45E81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6F27-9D01-49E8-9CBD-55CA3612A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743280" cy="36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46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324000" y="310500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авописание безударных гласных звуков в корне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921440" cy="49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н…р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431960" y="493704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3.61111E-006 -3.46821E-007 L -0.1823 -0.20139 E">
                                      <p:cBhvr>
                                        <p:cTn id="1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696000" cy="58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…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кн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428720" y="493704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3.61111E-006 -3.46821E-007 L -0.21389 -0.20139 E">
                                      <p:cBhvr>
                                        <p:cTn id="3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с…в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28720" y="493704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3.61111E-006 -3.46821E-007 L -0.1823 -0.20139 E">
                                      <p:cBhvr>
                                        <p:cTn id="45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гл…з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428720" y="493704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198520" y="1628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Motion origin="layout" path="M -2.77778E-007 3.3526E-006 L 0.10399 0.20693 E">
                                      <p:cBhvr>
                                        <p:cTn id="5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гр…бы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432320" y="4937040"/>
            <a:ext cx="7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0 -3.46821E-007 L -0.16667 -0.20139 E">
                                      <p:cBhvr>
                                        <p:cTn id="73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Arial"/>
                <a:ea typeface="Arial"/>
              </a:rPr>
              <a:t>св…сток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429080" y="4937040"/>
            <a:ext cx="7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0 -3.46821E-007 L -0.19045 -0.21202 E">
                                      <p:cBhvr>
                                        <p:cTn id="8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1692360" y="3573360"/>
            <a:ext cx="34560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663300"/>
                </a:solidFill>
                <a:latin typeface="Calibri"/>
              </a:rPr>
              <a:t>з…мл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4">
            <a:hlinkClick r:id="" action="ppaction://hlinkshowjump?jump=nextslide"/>
          </p:cNvPr>
          <p:cNvSpPr/>
          <p:nvPr/>
        </p:nvSpPr>
        <p:spPr>
          <a:xfrm>
            <a:off x="7596360" y="4508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  <a:ea typeface="Arial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Копия 37100950"/>
          <p:cNvPicPr/>
          <p:nvPr/>
        </p:nvPicPr>
        <p:blipFill>
          <a:blip r:embed="rId1"/>
          <a:stretch/>
        </p:blipFill>
        <p:spPr>
          <a:xfrm>
            <a:off x="539640" y="1557360"/>
            <a:ext cx="1551240" cy="1701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Копия 37100950"/>
          <p:cNvPicPr/>
          <p:nvPr/>
        </p:nvPicPr>
        <p:blipFill>
          <a:blip r:embed="rId2"/>
          <a:stretch/>
        </p:blipFill>
        <p:spPr>
          <a:xfrm>
            <a:off x="4932360" y="4508640"/>
            <a:ext cx="1616040" cy="1773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1979640" y="2133720"/>
            <a:ext cx="6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431240" y="4937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262160" y="508464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1.38889E-006 -3.46821E-007 L -0.20313 -0.21202 E">
                                      <p:cBhvr>
                                        <p:cTn id="10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117080" y="357120"/>
            <a:ext cx="54201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иши подходящие по смыслу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357120" y="1143000"/>
            <a:ext cx="8429760" cy="374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 свежем воздухе св…рк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ервый чистенький  _____    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 румянит детям      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ёгкий зимний   ______   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450720" y="4786200"/>
            <a:ext cx="215280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неж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5436360" y="4786200"/>
            <a:ext cx="174744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щё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4062600" y="5786280"/>
            <a:ext cx="242100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холод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67560" y="5857920"/>
            <a:ext cx="24271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ете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2939760" y="4786200"/>
            <a:ext cx="187380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ос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Запи1059.WAV" descr=""/>
          <p:cNvPicPr/>
          <p:nvPr/>
        </p:nvPicPr>
        <p:blipFill>
          <a:blip r:embed="rId1"/>
          <a:stretch/>
        </p:blipFill>
        <p:spPr>
          <a:xfrm>
            <a:off x="85327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0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08 -0.07986 L 0.6007 -0.42639 E">
                                      <p:cBhvr>
                                        <p:cTn id="11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01459 -0.30023 E">
                                      <p:cBhvr>
                                        <p:cTn id="11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0.05729 -0.33056 E">
                                      <p:cBhvr>
                                        <p:cTn id="12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5"/>
          <p:cNvSpPr/>
          <p:nvPr/>
        </p:nvSpPr>
        <p:spPr>
          <a:xfrm>
            <a:off x="755640" y="1197000"/>
            <a:ext cx="7993080" cy="436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му мы сегодня учились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чего нужно уметь проверять безударные  гласные в корне сл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https://ds04.infourok.ru/uploads/ex/0a89/000b5528-d08fb671/img9.jpg"/>
          <p:cNvPicPr/>
          <p:nvPr/>
        </p:nvPicPr>
        <p:blipFill>
          <a:blip r:embed="rId1"/>
          <a:stretch/>
        </p:blipFill>
        <p:spPr>
          <a:xfrm>
            <a:off x="189000" y="260280"/>
            <a:ext cx="8766000" cy="605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559720" cy="489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7150320" cy="542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900000" y="310500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Приходи сегодня вечером с мечом, поиграем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Аубакирова</cp:lastModifiedBy>
  <dcterms:modified xsi:type="dcterms:W3CDTF">2018-11-29T03:29:48Z</dcterms:modified>
  <cp:revision>50</cp:revision>
  <dc:subject/>
  <dc:title>Слайд 1</dc:title>
</cp:coreProperties>
</file>