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6.jpeg" ContentType="image/jpeg"/>
  <Override PartName="/ppt/media/drumroll.wav" ContentType="audio/x-wav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applause.wav" ContentType="audio/x-wav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BD80-0797-415C-B9D6-A1F5085B73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4F0B-5B5F-45A7-BDDD-D6FB618062E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CFC5-6068-4B3C-9D73-6C0F7A08A57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AE81-ABE6-43BE-8380-49E0899C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6751-225A-4D39-9CB7-3A521B63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9596-95AA-4404-8072-51E2F244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1EF9-0F63-47B3-AB6C-B4FD978E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F0B5-221B-4ADE-BFD8-6F97F680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DF97-6E36-4CE5-89E3-79F24191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855E-CA6A-413F-990A-9E5CB519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E4BF-FE13-4E7A-A602-39F094B7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CD11-3A09-4569-8BB7-04EFBEF2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AF3B-0C0E-4188-8782-109F545E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325C-FD5D-450D-A788-AA0BB635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6F5D-08F3-4576-A237-B26A03AA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EDA9-D469-465B-B4AC-8F84CB21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2055-0622-4EB1-9014-1762CCF9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148D-984A-4895-826C-3F2DC778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D372-5BF5-4614-B56B-9712DCB9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CF3A-5142-4D04-9777-F0470356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DF13-67FB-4D90-914E-8E22FE52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E410-10BE-4094-A91E-52415214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6422-4AF5-47FE-9387-CC8A97BC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36B7-D141-4A38-BFB1-775DE49A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56D1-F7F8-440E-AB69-AB5FFE43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6C6B-95FE-48D1-A271-C3E99964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0DA4-60B4-450A-B4FB-CE6FCAE5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4A7C-EFA0-43D1-A3E3-D5402C0F08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клипарты\школа\27c29d078660.png"/>
          <p:cNvPicPr/>
          <p:nvPr/>
        </p:nvPicPr>
        <p:blipFill>
          <a:blip r:embed="rId3"/>
          <a:srcRect l="0" t="0" r="0" b="24081"/>
          <a:stretch/>
        </p:blipFill>
        <p:spPr>
          <a:xfrm>
            <a:off x="285840" y="0"/>
            <a:ext cx="8429400" cy="520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D:\клипарты\школа\b756a7739ab6.png"/>
          <p:cNvPicPr/>
          <p:nvPr/>
        </p:nvPicPr>
        <p:blipFill>
          <a:blip r:embed="rId4"/>
          <a:stretch/>
        </p:blipFill>
        <p:spPr>
          <a:xfrm>
            <a:off x="214200" y="4214880"/>
            <a:ext cx="1714680" cy="235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D:\клипарты\школа\Безимени-3.png"/>
          <p:cNvPicPr/>
          <p:nvPr/>
        </p:nvPicPr>
        <p:blipFill>
          <a:blip r:embed="rId5"/>
          <a:stretch/>
        </p:blipFill>
        <p:spPr>
          <a:xfrm>
            <a:off x="7143840" y="5214960"/>
            <a:ext cx="1571400" cy="14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Helen\Desktop\схемы\шаблоны мои\русский язык\2012-02-07_165936.jpg"/>
          <p:cNvPicPr/>
          <p:nvPr/>
        </p:nvPicPr>
        <p:blipFill>
          <a:blip r:embed="rId6"/>
          <a:stretch/>
        </p:blipFill>
        <p:spPr>
          <a:xfrm>
            <a:off x="3071880" y="5429160"/>
            <a:ext cx="2876400" cy="1255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CF24-3E59-4E72-8D0A-D3A3B4EF35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drumroll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drumroll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drumroll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applause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drumroll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drumroll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drumroll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3743280" cy="360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4392360" cy="446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324000" y="310500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авописание безударных гласных звуков в корне сло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2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921440" cy="496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692360" y="3573360"/>
            <a:ext cx="3456000" cy="114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Times New Roman"/>
                <a:ea typeface="Arial"/>
              </a:rPr>
              <a:t> </a:t>
            </a:r>
            <a:r>
              <a:rPr b="1" lang="ru-RU" sz="5400" spc="-1" strike="noStrike">
                <a:solidFill>
                  <a:srgbClr val="663300"/>
                </a:solidFill>
                <a:latin typeface="Arial"/>
                <a:ea typeface="Arial"/>
              </a:rPr>
              <a:t>н…ра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трелка вправо 4">
            <a:hlinkClick r:id="" action="ppaction://hlinkshowjump?jump=nextslide"/>
          </p:cNvPr>
          <p:cNvSpPr/>
          <p:nvPr/>
        </p:nvSpPr>
        <p:spPr>
          <a:xfrm>
            <a:off x="7596360" y="45086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  <a:ea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Копия 37100950"/>
          <p:cNvPicPr/>
          <p:nvPr/>
        </p:nvPicPr>
        <p:blipFill>
          <a:blip r:embed="rId1"/>
          <a:stretch/>
        </p:blipFill>
        <p:spPr>
          <a:xfrm>
            <a:off x="539640" y="1557360"/>
            <a:ext cx="1551240" cy="1701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Копия 37100950"/>
          <p:cNvPicPr/>
          <p:nvPr/>
        </p:nvPicPr>
        <p:blipFill>
          <a:blip r:embed="rId2"/>
          <a:stretch/>
        </p:blipFill>
        <p:spPr>
          <a:xfrm>
            <a:off x="4932360" y="4508640"/>
            <a:ext cx="1616040" cy="1773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1979640" y="2133720"/>
            <a:ext cx="60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431960" y="4937040"/>
            <a:ext cx="7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262160" y="5084640"/>
            <a:ext cx="31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Motion origin="layout" path="M 3.61111E-006 -3.46821E-007 L -0.1823 -0.20139 E">
                                      <p:cBhvr>
                                        <p:cTn id="17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6696000" cy="583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1692360" y="3573360"/>
            <a:ext cx="3456000" cy="114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Times New Roman"/>
                <a:ea typeface="Arial"/>
              </a:rPr>
              <a:t> </a:t>
            </a:r>
            <a:r>
              <a:rPr b="1" lang="ru-RU" sz="5400" spc="-1" strike="noStrike">
                <a:solidFill>
                  <a:srgbClr val="663300"/>
                </a:solidFill>
                <a:latin typeface="Arial"/>
                <a:ea typeface="Arial"/>
              </a:rPr>
              <a:t>…</a:t>
            </a:r>
            <a:r>
              <a:rPr b="1" lang="ru-RU" sz="5400" spc="-1" strike="noStrike">
                <a:solidFill>
                  <a:srgbClr val="663300"/>
                </a:solidFill>
                <a:latin typeface="Arial"/>
                <a:ea typeface="Arial"/>
              </a:rPr>
              <a:t>кно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7596360" y="45086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  <a:ea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Копия 37100950"/>
          <p:cNvPicPr/>
          <p:nvPr/>
        </p:nvPicPr>
        <p:blipFill>
          <a:blip r:embed="rId1"/>
          <a:stretch/>
        </p:blipFill>
        <p:spPr>
          <a:xfrm>
            <a:off x="539640" y="1557360"/>
            <a:ext cx="1551240" cy="1701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Копия 37100950"/>
          <p:cNvPicPr/>
          <p:nvPr/>
        </p:nvPicPr>
        <p:blipFill>
          <a:blip r:embed="rId2"/>
          <a:stretch/>
        </p:blipFill>
        <p:spPr>
          <a:xfrm>
            <a:off x="4932360" y="4508640"/>
            <a:ext cx="1616040" cy="1773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1979640" y="2133720"/>
            <a:ext cx="60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4428720" y="4937040"/>
            <a:ext cx="7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262160" y="5084640"/>
            <a:ext cx="31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Motion origin="layout" path="M 3.61111E-006 -3.46821E-007 L -0.21389 -0.20139 E">
                                      <p:cBhvr>
                                        <p:cTn id="31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1692360" y="3573360"/>
            <a:ext cx="3456000" cy="114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Times New Roman"/>
                <a:ea typeface="Arial"/>
              </a:rPr>
              <a:t> </a:t>
            </a:r>
            <a:r>
              <a:rPr b="1" lang="ru-RU" sz="5400" spc="-1" strike="noStrike">
                <a:solidFill>
                  <a:srgbClr val="663300"/>
                </a:solidFill>
                <a:latin typeface="Arial"/>
                <a:ea typeface="Arial"/>
              </a:rPr>
              <a:t>с…ва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трелка вправо 4">
            <a:hlinkClick r:id="" action="ppaction://hlinkshowjump?jump=nextslide"/>
          </p:cNvPr>
          <p:cNvSpPr/>
          <p:nvPr/>
        </p:nvSpPr>
        <p:spPr>
          <a:xfrm>
            <a:off x="7596360" y="45086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  <a:ea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Копия 37100950"/>
          <p:cNvPicPr/>
          <p:nvPr/>
        </p:nvPicPr>
        <p:blipFill>
          <a:blip r:embed="rId1"/>
          <a:stretch/>
        </p:blipFill>
        <p:spPr>
          <a:xfrm>
            <a:off x="539640" y="1557360"/>
            <a:ext cx="1551240" cy="1701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Копия 37100950"/>
          <p:cNvPicPr/>
          <p:nvPr/>
        </p:nvPicPr>
        <p:blipFill>
          <a:blip r:embed="rId2"/>
          <a:stretch/>
        </p:blipFill>
        <p:spPr>
          <a:xfrm>
            <a:off x="4932360" y="4508640"/>
            <a:ext cx="1616040" cy="1773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1979640" y="2133720"/>
            <a:ext cx="60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428720" y="4937040"/>
            <a:ext cx="7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262160" y="5084640"/>
            <a:ext cx="31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Motion origin="layout" path="M 3.61111E-006 -3.46821E-007 L -0.1823 -0.20139 E">
                                      <p:cBhvr>
                                        <p:cTn id="45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1692360" y="3573360"/>
            <a:ext cx="3456000" cy="114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Arial"/>
                <a:ea typeface="Arial"/>
              </a:rPr>
              <a:t>гл…за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трелка вправо 4">
            <a:hlinkClick r:id="" action="ppaction://hlinkshowjump?jump=nextslide"/>
          </p:cNvPr>
          <p:cNvSpPr/>
          <p:nvPr/>
        </p:nvSpPr>
        <p:spPr>
          <a:xfrm>
            <a:off x="7596360" y="45086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  <a:ea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Копия 37100950"/>
          <p:cNvPicPr/>
          <p:nvPr/>
        </p:nvPicPr>
        <p:blipFill>
          <a:blip r:embed="rId1"/>
          <a:stretch/>
        </p:blipFill>
        <p:spPr>
          <a:xfrm>
            <a:off x="539640" y="1557360"/>
            <a:ext cx="1551240" cy="1701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Копия 37100950"/>
          <p:cNvPicPr/>
          <p:nvPr/>
        </p:nvPicPr>
        <p:blipFill>
          <a:blip r:embed="rId2"/>
          <a:stretch/>
        </p:blipFill>
        <p:spPr>
          <a:xfrm>
            <a:off x="4932360" y="4508640"/>
            <a:ext cx="1616040" cy="1773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979640" y="2133720"/>
            <a:ext cx="60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428720" y="4937040"/>
            <a:ext cx="7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2198520" y="1628640"/>
            <a:ext cx="31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Motion origin="layout" path="M -2.77778E-007 3.3526E-006 L 0.10399 0.20693 E">
                                      <p:cBhvr>
                                        <p:cTn id="54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1692360" y="3573360"/>
            <a:ext cx="3456000" cy="114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Times New Roman"/>
                <a:ea typeface="Arial"/>
              </a:rPr>
              <a:t> </a:t>
            </a:r>
            <a:r>
              <a:rPr b="1" lang="ru-RU" sz="5400" spc="-1" strike="noStrike">
                <a:solidFill>
                  <a:srgbClr val="663300"/>
                </a:solidFill>
                <a:latin typeface="Arial"/>
                <a:ea typeface="Arial"/>
              </a:rPr>
              <a:t>гр…бы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трелка вправо 4">
            <a:hlinkClick r:id="" action="ppaction://hlinkshowjump?jump=nextslide"/>
          </p:cNvPr>
          <p:cNvSpPr/>
          <p:nvPr/>
        </p:nvSpPr>
        <p:spPr>
          <a:xfrm>
            <a:off x="7596360" y="45086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  <a:ea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Копия 37100950"/>
          <p:cNvPicPr/>
          <p:nvPr/>
        </p:nvPicPr>
        <p:blipFill>
          <a:blip r:embed="rId1"/>
          <a:stretch/>
        </p:blipFill>
        <p:spPr>
          <a:xfrm>
            <a:off x="539640" y="1557360"/>
            <a:ext cx="1551240" cy="1701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Копия 37100950"/>
          <p:cNvPicPr/>
          <p:nvPr/>
        </p:nvPicPr>
        <p:blipFill>
          <a:blip r:embed="rId2"/>
          <a:stretch/>
        </p:blipFill>
        <p:spPr>
          <a:xfrm>
            <a:off x="4932360" y="4508640"/>
            <a:ext cx="1616040" cy="1773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1979640" y="2133720"/>
            <a:ext cx="60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4432320" y="4937040"/>
            <a:ext cx="7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262160" y="5084640"/>
            <a:ext cx="31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Motion origin="layout" path="M 0 -3.46821E-007 L -0.16667 -0.20139 E">
                                      <p:cBhvr>
                                        <p:cTn id="73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1692360" y="3573360"/>
            <a:ext cx="3456000" cy="114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Times New Roman"/>
                <a:ea typeface="Arial"/>
              </a:rPr>
              <a:t> </a:t>
            </a:r>
            <a:r>
              <a:rPr b="1" lang="ru-RU" sz="5400" spc="-1" strike="noStrike">
                <a:solidFill>
                  <a:srgbClr val="663300"/>
                </a:solidFill>
                <a:latin typeface="Arial"/>
                <a:ea typeface="Arial"/>
              </a:rPr>
              <a:t>св…сток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трелка вправо 4">
            <a:hlinkClick r:id="" action="ppaction://hlinkshowjump?jump=nextslide"/>
          </p:cNvPr>
          <p:cNvSpPr/>
          <p:nvPr/>
        </p:nvSpPr>
        <p:spPr>
          <a:xfrm>
            <a:off x="7596360" y="45086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  <a:ea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Копия 37100950"/>
          <p:cNvPicPr/>
          <p:nvPr/>
        </p:nvPicPr>
        <p:blipFill>
          <a:blip r:embed="rId1"/>
          <a:stretch/>
        </p:blipFill>
        <p:spPr>
          <a:xfrm>
            <a:off x="539640" y="1557360"/>
            <a:ext cx="1551240" cy="1701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Копия 37100950"/>
          <p:cNvPicPr/>
          <p:nvPr/>
        </p:nvPicPr>
        <p:blipFill>
          <a:blip r:embed="rId2"/>
          <a:stretch/>
        </p:blipFill>
        <p:spPr>
          <a:xfrm>
            <a:off x="4932360" y="4508640"/>
            <a:ext cx="1616040" cy="1773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1979640" y="2133720"/>
            <a:ext cx="60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429080" y="4937040"/>
            <a:ext cx="7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1262160" y="5084640"/>
            <a:ext cx="31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Motion origin="layout" path="M 0 -3.46821E-007 L -0.19045 -0.21202 E">
                                      <p:cBhvr>
                                        <p:cTn id="87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1692360" y="3573360"/>
            <a:ext cx="3456000" cy="114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663300"/>
                </a:solidFill>
                <a:latin typeface="Calibri"/>
              </a:rPr>
              <a:t>з…мля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трелка вправо 4">
            <a:hlinkClick r:id="" action="ppaction://hlinkshowjump?jump=nextslide"/>
          </p:cNvPr>
          <p:cNvSpPr/>
          <p:nvPr/>
        </p:nvSpPr>
        <p:spPr>
          <a:xfrm>
            <a:off x="7596360" y="45086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  <a:ea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Копия 37100950"/>
          <p:cNvPicPr/>
          <p:nvPr/>
        </p:nvPicPr>
        <p:blipFill>
          <a:blip r:embed="rId1"/>
          <a:stretch/>
        </p:blipFill>
        <p:spPr>
          <a:xfrm>
            <a:off x="539640" y="1557360"/>
            <a:ext cx="1551240" cy="1701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Копия 37100950"/>
          <p:cNvPicPr/>
          <p:nvPr/>
        </p:nvPicPr>
        <p:blipFill>
          <a:blip r:embed="rId2"/>
          <a:stretch/>
        </p:blipFill>
        <p:spPr>
          <a:xfrm>
            <a:off x="4932360" y="4508640"/>
            <a:ext cx="1616040" cy="1773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1979640" y="2133720"/>
            <a:ext cx="60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4431240" y="49370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262160" y="5084640"/>
            <a:ext cx="31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Motion origin="layout" path="M 1.38889E-006 -3.46821E-007 L -0.20313 -0.21202 E">
                                      <p:cBhvr>
                                        <p:cTn id="101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1117080" y="357120"/>
            <a:ext cx="54201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пиши подходящие по смыслу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357120" y="1143000"/>
            <a:ext cx="8429760" cy="374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 свежем воздухе св…рка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ервый чистенький  _____     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И румянит детям       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Лёгкий зимний   ______    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450720" y="4786200"/>
            <a:ext cx="215280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неж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5436360" y="4786200"/>
            <a:ext cx="174744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щё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4062600" y="5786280"/>
            <a:ext cx="242100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холод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367560" y="5857920"/>
            <a:ext cx="242712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етер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2939760" y="4786200"/>
            <a:ext cx="187380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ос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Запи1059.WAV" descr=""/>
          <p:cNvPicPr/>
          <p:nvPr/>
        </p:nvPicPr>
        <p:blipFill>
          <a:blip r:embed="rId1"/>
          <a:stretch/>
        </p:blipFill>
        <p:spPr>
          <a:xfrm>
            <a:off x="853272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500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108 -0.07986 L 0.6007 -0.42639 E">
                                      <p:cBhvr>
                                        <p:cTn id="114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33333E-006 L 0.01459 -0.30023 E">
                                      <p:cBhvr>
                                        <p:cTn id="118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L 0.05729 -0.33056 E">
                                      <p:cBhvr>
                                        <p:cTn id="122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5"/>
          <p:cNvSpPr/>
          <p:nvPr/>
        </p:nvSpPr>
        <p:spPr>
          <a:xfrm>
            <a:off x="755640" y="1197000"/>
            <a:ext cx="7993080" cy="43603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ему мы сегодня учились на урок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ля чего нужно уметь проверять безударные  гласные в корне сло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1" descr="https://ds04.infourok.ru/uploads/ex/0a89/000b5528-d08fb671/img9.jpg"/>
          <p:cNvPicPr/>
          <p:nvPr/>
        </p:nvPicPr>
        <p:blipFill>
          <a:blip r:embed="rId1"/>
          <a:stretch/>
        </p:blipFill>
        <p:spPr>
          <a:xfrm>
            <a:off x="189000" y="260280"/>
            <a:ext cx="8766000" cy="605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559720" cy="489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7150320" cy="5423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900000" y="3105000"/>
            <a:ext cx="748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Приходи сегодня вечером с мечом, поиграем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35:28Z</dcterms:created>
  <dc:creator>Helen</dc:creator>
  <dc:description/>
  <dc:language>en-US</dc:language>
  <cp:lastModifiedBy>Аубакирова</cp:lastModifiedBy>
  <dcterms:modified xsi:type="dcterms:W3CDTF">2018-11-29T03:29:48Z</dcterms:modified>
  <cp:revision>50</cp:revision>
  <dc:subject/>
  <dc:title>Слайд 1</dc:title>
</cp:coreProperties>
</file>