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jpeg" ContentType="image/jpeg"/>
  <Override PartName="/ppt/media/image31.jpeg" ContentType="image/jpeg"/>
  <Override PartName="/ppt/media/image2.png" ContentType="image/png"/>
  <Override PartName="/ppt/media/image11.png" ContentType="image/png"/>
  <Override PartName="/ppt/media/image9.jpeg" ContentType="image/jpeg"/>
  <Override PartName="/ppt/media/image23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16.wmf" ContentType="image/x-wmf"/>
  <Override PartName="/ppt/media/image17.wmf" ContentType="image/x-wmf"/>
  <Override PartName="/ppt/media/image32.jpeg" ContentType="image/jpe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4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097-9A30-45DD-9EC6-CEFE52A4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AA7-C59B-4982-A2C0-F796BE38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ACC-2A83-45A4-9CD9-BF0F5BA2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F6D-2626-4408-8DE9-94A160C9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E679-836E-45FC-9B1B-6A69FB88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1134-57B4-4137-BA7E-214A5F96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5779-3DD3-4D41-92EA-EE8EBA6D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230-19DD-43E0-9EC4-F4260C79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87A0-DBCE-4BC0-B060-6A552DA9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8EEA-270A-47A0-A680-A71203C3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2D4-34D1-4C08-9061-E35E123E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F92-5F39-4B4F-8CC8-97BC0DB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C8EC-DE56-4049-8291-03F3BBE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7292-CC54-4B40-93E4-5A15AB59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54BF-8967-4785-8160-275A00E8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62AB-134D-412D-A5B9-74EF99A4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E834-B787-41AF-A76F-BD5D0026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817A-2D43-402A-80B4-D6F8BB4B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895F-BBFE-4712-AB5F-DC84C612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2B98-A2E9-4012-BE14-DC5E0E62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0ADD-4727-40BB-BD8E-DB7D6C36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9177-DDE9-43C9-86DC-6A36586E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850-5F3F-4D3C-B246-57342EEC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1CE5-07F6-452B-A1C0-B0265CE5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935F-B26B-4963-96E8-E03571F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3245-BA49-41DC-96D6-476862E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512F-71C6-4599-A48C-E50D61B2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949F-4BA1-4B64-85B2-6E2B3F67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C247-8CEE-48B3-B901-D286E439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175C-6060-481C-B3B8-A100D2FB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9CCE-FBB3-46D0-BE15-987DDF5F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9956-2DCB-46C3-A509-AACE831F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AC4A-C6B2-477D-81C6-168BF827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DDB-40FB-4113-91C3-B8C24D3F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D6CB-DB05-4725-846A-0F537AA4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3E46E-BCED-407E-A9B8-6110967C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AA09-95B3-49BB-BE7E-21C64F18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3E8A-24C8-4BDB-8DE3-724BA033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E399-258B-444C-9A6D-D1FA864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7BB37-3403-4150-8227-816F3B30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DC66-225C-45C8-9AAE-9CD0F712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22171-455A-42C5-BF0B-43D33EE4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F55E4-862A-47DC-A979-CA6BE87E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79322-10A7-4043-BAF3-DE08BAF5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9ED-A088-4D0B-8247-05351715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4400-BDFC-46B0-B5F9-78980FC7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64F9-867E-4268-BD42-6E0CE67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D3DAD-E60D-45EF-B11F-2CAB6328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414DD-40E7-4127-8D57-92343460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AFFF6-9AC4-4905-961D-EC0A299A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007EA-3425-4550-9C50-9DE9C97B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B95B1-4F9C-4693-8907-3D8A94BC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983E9-E7DA-41FF-A464-40BE2B92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F8A7B-77EB-49C4-A8D9-4AF98A0F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0813E-13A4-4696-8A3B-1C60AD3F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88D-1930-4139-A450-E7F69B9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2534B-81A1-432D-B982-8E1B9075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00298-FAA5-4828-B2E7-D8D4B9D0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83D3B-A6A0-4512-B361-FB32AA2F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8193-FD9E-4228-82EA-5542EE16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A4B0C-7A46-4457-8C85-3079BABA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BBC9A-0F3D-422F-B612-2AE59B87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1DD14-8DDC-4D99-8A14-8D01AF66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ACDCB-76AB-49F3-8E16-6D5C5D37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2EFE5-5F0A-4E30-A4CF-CC708C1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28BC0-554D-4B57-B460-4D46EDD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7AF-C1B4-4AE9-B0B1-E65BA40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6D5F6-1F44-42C6-840A-1AEF0A20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48104-06C1-4CDD-898D-AE4D28FC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64A80-BA74-4FD1-9187-84EC5DD6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232E6-14CC-457C-8036-400FD24E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B521A-85E9-4B5E-8D02-496D6A94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FE5DD-24FD-4333-9625-C541D97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E03D3-B603-4D69-9FDD-DC0A30E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4FA6-3BA0-4875-8436-1CF78B8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56341-37A6-4F08-93D7-6888F5E4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F4753-70C0-4B73-9E57-897CDAA2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A75-796E-49FA-9DE3-F3AD6785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E44DA-0D92-4B98-A641-BE6FF1D8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844FE-6BD0-4641-9803-54F6B414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D0E3B-3B96-4254-AE74-49E4146B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BD3AD-E65C-4C39-9169-044E6CF5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0B453-740D-4A02-94E0-4F353985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F1B-6649-4E55-B11E-B6E2772B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0414-8630-4533-B5A4-198B5D206D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8985-5DAE-41D5-A61D-174617E6DC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ABB8-7473-47DD-8E7F-75D11D1CED8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BBAB-9091-481A-BF7E-DA8A7316F0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9700-F888-4B4F-B4BD-D0E9D843146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DE6F-B983-409B-A316-BAD5315B1C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A61F-9590-4D5A-92E0-64A687F83C7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0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21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21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22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22.wmf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23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24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25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26.wmf"/><Relationship Id="rId36" Type="http://schemas.openxmlformats.org/officeDocument/2006/relationships/oleObject" Target="../embeddings/oleObject17.bin"/><Relationship Id="rId37" Type="http://schemas.openxmlformats.org/officeDocument/2006/relationships/image" Target="../media/image27.wmf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28.wmf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99680" y="4928760"/>
            <a:ext cx="86439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5436a"/>
                </a:solidFill>
                <a:latin typeface="Corbel"/>
              </a:rPr>
              <a:t>Урок обобщения и систематизации знаний</a:t>
            </a: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433440"/>
            <a:ext cx="9156960" cy="39304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1214280" y="5072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77425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бота по учебник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8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Проверочная работ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91" name="Picture 2" descr="Ð¸ÑÑÐ¾ÑÐ¸Ñ ÑÑÐ¸Ð³Ð¾Ð½Ð¾Ð¼ÐµÑÑÐ¸Ð¸ ÐºÑÐ°ÑÐºÐ¾"/>
          <p:cNvPicPr/>
          <p:nvPr/>
        </p:nvPicPr>
        <p:blipFill>
          <a:blip r:embed="rId1"/>
          <a:stretch/>
        </p:blipFill>
        <p:spPr>
          <a:xfrm>
            <a:off x="5643720" y="2044800"/>
            <a:ext cx="35002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071720" y="1499760"/>
            <a:ext cx="785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97 – 108, №1065, 1068, 1060 (в), 1061 (в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7" descr="https://ds04.infourok.ru/uploads/ex/03e3/000dd30a-d29a831f/img7.jpg"/>
          <p:cNvPicPr/>
          <p:nvPr/>
        </p:nvPicPr>
        <p:blipFill>
          <a:blip r:embed="rId1"/>
          <a:stretch/>
        </p:blipFill>
        <p:spPr>
          <a:xfrm rot="19928400">
            <a:off x="5065200" y="2979360"/>
            <a:ext cx="3649680" cy="273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http://5klass.net/datas/geometrija/Geometrija-Podobnye-treugolniki/0032-032-Znachenija-sinusa-kosinusa-i-tangensa.jpg"/>
          <p:cNvPicPr/>
          <p:nvPr/>
        </p:nvPicPr>
        <p:blipFill>
          <a:blip r:embed="rId2"/>
          <a:stretch/>
        </p:blipFill>
        <p:spPr>
          <a:xfrm rot="1870800">
            <a:off x="1463400" y="351648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1" descr=""/>
          <p:cNvPicPr/>
          <p:nvPr/>
        </p:nvPicPr>
        <p:blipFill>
          <a:blip r:embed="rId1"/>
          <a:stretch/>
        </p:blipFill>
        <p:spPr>
          <a:xfrm>
            <a:off x="-171360" y="4827600"/>
            <a:ext cx="9321840" cy="16765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2639880"/>
            <a:ext cx="8832960" cy="1895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s://cf.ppt-online.org/files/slide/y/y8qmbj2cTzEUnwgvV3GphYWaSBIdCiuxrXoMAP/slide-0.jpg"/>
          <p:cNvPicPr/>
          <p:nvPr/>
        </p:nvPicPr>
        <p:blipFill>
          <a:blip r:embed="rId3"/>
          <a:stretch/>
        </p:blipFill>
        <p:spPr>
          <a:xfrm>
            <a:off x="0" y="214200"/>
            <a:ext cx="35002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Ð¸ÑÑÐ¾ÑÐ¸Ñ ÑÐ°Ð·Ð²Ð¸ÑÐ¸Ñ ÑÑÐ¸Ð³Ð¾Ð½Ð¾Ð¼ÐµÑÑÐ¸Ð¸"/>
          <p:cNvPicPr/>
          <p:nvPr/>
        </p:nvPicPr>
        <p:blipFill>
          <a:blip r:embed="rId1"/>
          <a:stretch/>
        </p:blipFill>
        <p:spPr>
          <a:xfrm>
            <a:off x="4416480" y="4286160"/>
            <a:ext cx="4727520" cy="2571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13840" y="214200"/>
            <a:ext cx="89298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История тригонометрии неразрывно связана с астрономией, ведь именно для решения задач этой науки древние ученые стали исследовать соотношения различных величин в треугольнике. На сегодняшний день тригонометрия является микроразделом математики, изучающим зависимость между значениями величин углов и длин сторон треугольников, а также занимающимся анализом алгебраических тождеств тригонометрических функций. Слово «тригонометрия» имеет греческое происхождение и означает «измеряю треугольник». Если быть точнее, то речь идет не о буквальном измерении этой фигуры, а об её решении, то есть определении значений её неизвестных элементов с помощью известных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ласти применения тригонометри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78552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Тригонометрия не относится к прикладным наукам, в реальной повседневной жизни ее задачи редко применяются. Однако этот факт не снижает ее значимости. Очень важна, например, техника триангуляции, которая позволяет астрономам достаточно точно измерить расстояние до недалеких звезд и осуществлять контроль за системами навигации спутников. Также тригонометрию применяют в навигации, теории музыки, акустике, оптике, анализе финансовых рынков, электронике, теории вероятностей, статистике, биологии, медицине (например, в расшифровке ультразвуковых исследований УЗИ и компьютерной томографии), фармацевтике, химии, теории чисел, сейсмологиии, метеорологии, океанологии, картографии, многих разделах физики, топографии и геодезии, архитектуре, фонетике, экономике, электронной технике, машиностроении, компьютерной графике, кристаллографиии и т. д. История тригонометрии и ее роль в изучении естественно-математических наук изучаются и по сей день. Возможно, в будущем областей ее применения станет еще больш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вторяем теорию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те, что такое синус и  косинус угла α из промежутка 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≤α≤18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называется тангенсом углаα? Для какого значения α тангенс не определен и почему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уйте основное тригонометрическое тождеств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n(9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α)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s(9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α)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n(18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α)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s(18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α)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называются эти формулы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вторяем теорию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формулы, выражающие координаты точки А с неотрицательной ординатой через длину отрезка ОА и угол между лучом ОА и положительной полуосью О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уйте теорему о площади треугольника по двум сторонам и углу между ни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уйте теорему сину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уйте теорему косину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значит решить треугольник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определить угол между двумя векторам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случае угол между векторами считается равным 0</a:t>
            </a:r>
            <a:r>
              <a:rPr b="0" lang="ru-RU" sz="24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вторяем теорию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два вектора называются перпендикулярными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скалярное произведение двух векторов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случае скалярное произведение двух векторов равно 0; больше 0; меньше 0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формулу, выражающую скалярное произведение двух векторов через их координат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формулу, выражающую косинус угла между ненулевыми векторами через их координат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Найти 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sinα</a:t>
            </a: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 и 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tgα</a:t>
            </a: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, если  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cosα</a:t>
            </a: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0" y="0"/>
                <a:ext cx="257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8143920" y="1428840"/>
            <a:ext cx="5000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шить треугольн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85560" y="1357200"/>
            <a:ext cx="1857600" cy="1857960"/>
          </a:xfrm>
          <a:prstGeom prst="rect">
            <a:avLst/>
          </a:prstGeom>
          <a:blipFill rotWithShape="0">
            <a:blip r:embed="rId1"/>
            <a:stretch/>
          </a:blipFill>
          <a:ln w="190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1" name="Object 2"/>
          <p:cNvGraphicFramePr/>
          <p:nvPr/>
        </p:nvGraphicFramePr>
        <p:xfrm>
          <a:off x="1428840" y="1714680"/>
          <a:ext cx="749160" cy="49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1714680"/>
                    <a:ext cx="7491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"/>
          <p:cNvGraphicFramePr/>
          <p:nvPr/>
        </p:nvGraphicFramePr>
        <p:xfrm>
          <a:off x="1071720" y="3143160"/>
          <a:ext cx="330120" cy="33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71720" y="314316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4"/>
          <p:cNvGraphicFramePr/>
          <p:nvPr/>
        </p:nvGraphicFramePr>
        <p:xfrm>
          <a:off x="3214800" y="1357200"/>
          <a:ext cx="291960" cy="3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14800" y="135720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2714760" y="3143160"/>
          <a:ext cx="29196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14760" y="314316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6"/>
          <p:cNvGraphicFramePr/>
          <p:nvPr/>
        </p:nvGraphicFramePr>
        <p:xfrm>
          <a:off x="2214720" y="2643120"/>
          <a:ext cx="509400" cy="303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14720" y="2643120"/>
                    <a:ext cx="50940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Arc 61"/>
          <p:cNvSpPr/>
          <p:nvPr/>
        </p:nvSpPr>
        <p:spPr>
          <a:xfrm flipV="1" rot="12484200">
            <a:off x="2361600" y="2934000"/>
            <a:ext cx="438120" cy="431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1785960" y="3357720"/>
          <a:ext cx="22860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85960" y="335772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4" name="Freeform 48"/>
          <p:cNvGrpSpPr/>
          <p:nvPr/>
        </p:nvGrpSpPr>
        <p:grpSpPr>
          <a:xfrm>
            <a:off x="5486400" y="1414440"/>
            <a:ext cx="3206880" cy="2176560"/>
            <a:chOff x="5486400" y="1414440"/>
            <a:chExt cx="3206880" cy="2176560"/>
          </a:xfrm>
        </p:grpSpPr>
        <p:pic>
          <p:nvPicPr>
            <p:cNvPr id="355" name="Freeform 48" descr=""/>
            <p:cNvPicPr/>
            <p:nvPr/>
          </p:nvPicPr>
          <p:blipFill>
            <a:blip r:embed="rId14"/>
            <a:stretch/>
          </p:blipFill>
          <p:spPr>
            <a:xfrm>
              <a:off x="5486400" y="1414440"/>
              <a:ext cx="320688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500800" y="1428840"/>
              <a:ext cx="3173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Freeform 82"/>
          <p:cNvGrpSpPr/>
          <p:nvPr/>
        </p:nvGrpSpPr>
        <p:grpSpPr>
          <a:xfrm>
            <a:off x="2633760" y="3633840"/>
            <a:ext cx="2882880" cy="2670120"/>
            <a:chOff x="2633760" y="3633840"/>
            <a:chExt cx="2882880" cy="2670120"/>
          </a:xfrm>
        </p:grpSpPr>
        <p:pic>
          <p:nvPicPr>
            <p:cNvPr id="358" name="Freeform 82" descr=""/>
            <p:cNvPicPr/>
            <p:nvPr/>
          </p:nvPicPr>
          <p:blipFill>
            <a:blip r:embed="rId15"/>
            <a:stretch/>
          </p:blipFill>
          <p:spPr>
            <a:xfrm>
              <a:off x="2633760" y="3633840"/>
              <a:ext cx="28828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43120" y="3643200"/>
              <a:ext cx="2857680" cy="26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0" name="Object 8"/>
          <p:cNvGraphicFramePr/>
          <p:nvPr/>
        </p:nvGraphicFramePr>
        <p:xfrm>
          <a:off x="4357800" y="3214800"/>
          <a:ext cx="291960" cy="342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57800" y="321480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9"/>
          <p:cNvGraphicFramePr/>
          <p:nvPr/>
        </p:nvGraphicFramePr>
        <p:xfrm>
          <a:off x="5143680" y="1214280"/>
          <a:ext cx="291960" cy="343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3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121428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0"/>
          <p:cNvGraphicFramePr/>
          <p:nvPr/>
        </p:nvGraphicFramePr>
        <p:xfrm>
          <a:off x="5715000" y="3643200"/>
          <a:ext cx="330120" cy="330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15000" y="3643200"/>
                    <a:ext cx="3301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1"/>
          <p:cNvGraphicFramePr/>
          <p:nvPr/>
        </p:nvGraphicFramePr>
        <p:xfrm>
          <a:off x="2143080" y="6215040"/>
          <a:ext cx="33012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67" name="Object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143080" y="621504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2"/>
          <p:cNvGraphicFramePr/>
          <p:nvPr/>
        </p:nvGraphicFramePr>
        <p:xfrm>
          <a:off x="8501040" y="1857240"/>
          <a:ext cx="291960" cy="330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69" name="Object 12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501040" y="185724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3"/>
          <p:cNvGraphicFramePr/>
          <p:nvPr/>
        </p:nvGraphicFramePr>
        <p:xfrm>
          <a:off x="5572080" y="6072120"/>
          <a:ext cx="292320" cy="3301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1" name="Object 1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572080" y="607212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14"/>
          <p:cNvGraphicFramePr/>
          <p:nvPr/>
        </p:nvGraphicFramePr>
        <p:xfrm>
          <a:off x="3071880" y="4500720"/>
          <a:ext cx="393480" cy="3301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3" name="Object 14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071880" y="4500720"/>
                    <a:ext cx="393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15"/>
          <p:cNvGraphicFramePr/>
          <p:nvPr/>
        </p:nvGraphicFramePr>
        <p:xfrm>
          <a:off x="3143160" y="5786280"/>
          <a:ext cx="558720" cy="4320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75" name="Object 15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143160" y="578628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Arc 88"/>
          <p:cNvSpPr/>
          <p:nvPr/>
        </p:nvSpPr>
        <p:spPr>
          <a:xfrm>
            <a:off x="2928960" y="5929200"/>
            <a:ext cx="285840" cy="357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6"/>
          <p:cNvGraphicFramePr/>
          <p:nvPr/>
        </p:nvGraphicFramePr>
        <p:xfrm>
          <a:off x="4214880" y="4071960"/>
          <a:ext cx="558720" cy="431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78" name="Object 1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214880" y="407196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17"/>
          <p:cNvGraphicFramePr/>
          <p:nvPr/>
        </p:nvGraphicFramePr>
        <p:xfrm>
          <a:off x="7286760" y="3071880"/>
          <a:ext cx="228600" cy="3301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0" name="Object 17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286760" y="307188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8"/>
          <p:cNvGraphicFramePr/>
          <p:nvPr/>
        </p:nvGraphicFramePr>
        <p:xfrm>
          <a:off x="6858000" y="1428840"/>
          <a:ext cx="228600" cy="3301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2" name="Object 18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6858000" y="142884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19"/>
          <p:cNvGraphicFramePr/>
          <p:nvPr/>
        </p:nvGraphicFramePr>
        <p:xfrm>
          <a:off x="4857840" y="2357280"/>
          <a:ext cx="723960" cy="5083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4" name="Object 19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857840" y="2357280"/>
                    <a:ext cx="7239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14:28:24Z</dcterms:created>
  <dc:creator>Admin</dc:creator>
  <dc:description/>
  <dc:language>en-US</dc:language>
  <cp:lastModifiedBy>Admin</cp:lastModifiedBy>
  <dcterms:modified xsi:type="dcterms:W3CDTF">2018-12-12T17:25:17Z</dcterms:modified>
  <cp:revision>34</cp:revision>
  <dc:subject/>
  <dc:title>Слайд 1</dc:title>
</cp:coreProperties>
</file>