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jpeg" ContentType="image/jpeg"/>
  <Override PartName="/ppt/media/image31.jpeg" ContentType="image/jpeg"/>
  <Override PartName="/ppt/media/image2.png" ContentType="image/png"/>
  <Override PartName="/ppt/media/image11.png" ContentType="image/png"/>
  <Override PartName="/ppt/media/image9.jpeg" ContentType="image/jpeg"/>
  <Override PartName="/ppt/media/image23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16.wmf" ContentType="image/x-wmf"/>
  <Override PartName="/ppt/media/image17.wmf" ContentType="image/x-wmf"/>
  <Override PartName="/ppt/media/image32.jpeg" ContentType="image/jpe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4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D6A-3D8B-4C6B-8A0F-81EE68B6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93A-F3FF-4F31-AF37-81FDCA5F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9BC-CC18-4657-A18A-26F337F9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F14-54DC-40F0-9BA0-16DFB169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0D49-46B8-448B-8234-8687BD48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3874-BB25-4368-9AF3-6E3594DE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E386-66C1-4F99-BBFD-3B91703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246F-BFA1-45A1-A988-52DBC503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FD97-BF81-44F0-A5D0-7F3022E1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0648-EBCF-41F1-997E-D971EB94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CD63-BC17-48CB-9FD9-889F3C31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A16-76B9-46C1-8C6B-263DFCE7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9C0A-13ED-44C6-A29B-E00069CD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CE85-D601-4CE2-AF94-3FB9B0FC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C74C-0750-48F9-AFAA-D301B3E1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2239-FC63-4EF4-99AC-CAB3E5A0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5C65-7452-429F-8006-22CAF81D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0B4A-D6A2-420A-87E5-5504BF0D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4A08-5F6B-4693-B83A-AB06400C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4AA3-6026-4380-A2E2-A879259D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79CF-C774-458A-9694-EDAF448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6CFB-7FBD-4038-A554-D5EC6429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EFD-9C53-4F52-A18B-CE05459E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CD88-9504-44C6-8956-7CA2CFDF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A150-F101-49BC-B914-32F5045B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B55D-D7FF-487E-AF32-B8FB6FD5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E6990-734C-40BE-B2F6-897931F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1AEF-9C9E-4F65-A9EE-B0127453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73CA-797F-4A1D-8951-21599414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831E-B623-4CB0-90CF-9FEC7C98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EE31-CC84-40AA-8E33-C17A6BBC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C743-0A44-4B9B-88AD-28C51975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4173-9F84-409A-8154-146E0079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A69-CDCD-44F0-AB4F-06F79A8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0B1D-BEEA-4153-9505-4242D76B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09FC-059B-460B-8685-CE0DDC08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BC14-B2C9-4538-AA8A-FE1D90E8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9706-3485-4E8B-991A-340838B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9C273-E514-4271-BEA8-AB0951C5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99004-C484-4CEB-9F85-43B0F68C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BEB57-4CAD-48D7-8C64-6E017603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9170D-F6BD-47F3-9E6C-BE1455C5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DCD8-53FD-4DB9-B1D7-1A5F3D94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AD093-1170-4E5A-A220-332C42EF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2D7-9C92-49AD-A796-8CB0FFFB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6D11-C9F2-4616-AD98-4B97F44F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64519-EC94-4768-9E94-4EC13B80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1DF7A-EF5F-417A-A1E6-9B8290DB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F19F-9E3D-4765-BC83-AE488EEB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C42C2-1B08-41D7-B861-BDBF0D69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FAB7-D34A-4EE4-ACBD-BBC683D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66EAC-AD56-44D8-8F14-275D91A4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0F194-27E2-418C-870B-A7692CC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006B-A881-465D-BCFA-5A48849D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2D74-37B5-4C7F-B8C8-64FF00DE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56B-7899-4C08-9BA1-61774206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6508E-A379-44CD-B03F-D661E868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215D-5D47-4985-8A9C-4B3DE6FF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4ED8-6A7C-4ECB-ACC6-6BAA02F4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E5D7B-826E-4CB0-BE51-744341D4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D9E5F-8AA2-4BA1-83DC-4EEC282A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A6961-DC18-40BF-A2A1-60BAB5AF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D792A-5B7C-42F2-AD6B-D440D1A8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49D63-6742-4F03-A278-BBA687AA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D37B9-32F3-476A-8C75-9B6589FC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F3C5-59C4-4202-A173-7EB460F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29A-81F6-4BDA-B230-F5307E90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AF50-C0B1-450B-BB4D-79308B58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EB9D1-FB42-4F78-AD9B-EBF4255E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A8A9-FFF0-4679-86DD-6BC0FECC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9187F-AC6C-443A-B5FE-3ACCDF96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D2405-6E7E-42B9-85DE-46BEA4FD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1CBAD-DCE8-4C2E-AA68-984388DF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033FC-7B48-4437-9419-C806BAA4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A60E9-AF55-41E7-BE76-98BDA6AA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968A5-EBD3-4A41-A116-91C15C4F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72818-DDAE-4AB9-83E9-816C80D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4B5-0A65-47D5-8769-52EA14A2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15791-A103-4E48-A425-3DF5667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29D3D-717C-4050-AB44-7B09400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D9E97-8939-4CF6-826F-1E2B6E35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9CCE8-DD88-486C-880A-79E7AABF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B9DB8-EEAE-48F2-AF79-91B24154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921-4998-45F3-A577-0943C57E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9797-FE1D-4266-B139-12AE1D2C19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44D5-70B5-422A-AFF8-EFC8B70415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F571-5494-447D-88F9-71A2702062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DDB0-0382-4771-8998-9D9FE9F35E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87F-D136-432A-BC60-A0F190D8FD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2F90-74A0-49D6-939F-7CA692F2B8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6F7A-514C-4F01-B06F-A86FFD28E47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0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21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21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22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22.wmf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23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24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25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26.wmf"/><Relationship Id="rId36" Type="http://schemas.openxmlformats.org/officeDocument/2006/relationships/oleObject" Target="../embeddings/oleObject17.bin"/><Relationship Id="rId37" Type="http://schemas.openxmlformats.org/officeDocument/2006/relationships/image" Target="../media/image27.wmf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28.wmf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99680" y="4928760"/>
            <a:ext cx="86439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5436a"/>
                </a:solidFill>
                <a:latin typeface="Corbel"/>
              </a:rPr>
              <a:t>Урок обобщения и систематизации знаний</a:t>
            </a:r>
            <a:r>
              <a:rPr b="0" i="1" lang="ru-RU" sz="26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433440"/>
            <a:ext cx="9156960" cy="39304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1214280" y="5072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77425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бота по учебник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8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Проверочная работ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91" name="Picture 2" descr="Ð¸ÑÑÐ¾ÑÐ¸Ñ ÑÑÐ¸Ð³Ð¾Ð½Ð¾Ð¼ÐµÑÑÐ¸Ð¸ ÐºÑÐ°ÑÐºÐ¾"/>
          <p:cNvPicPr/>
          <p:nvPr/>
        </p:nvPicPr>
        <p:blipFill>
          <a:blip r:embed="rId1"/>
          <a:stretch/>
        </p:blipFill>
        <p:spPr>
          <a:xfrm>
            <a:off x="5643720" y="2044800"/>
            <a:ext cx="35002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071720" y="1499760"/>
            <a:ext cx="785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97 – 108, №1065, 1068, 1060 (в), 1061 (в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7" descr="https://ds04.infourok.ru/uploads/ex/03e3/000dd30a-d29a831f/img7.jpg"/>
          <p:cNvPicPr/>
          <p:nvPr/>
        </p:nvPicPr>
        <p:blipFill>
          <a:blip r:embed="rId1"/>
          <a:stretch/>
        </p:blipFill>
        <p:spPr>
          <a:xfrm rot="19928400">
            <a:off x="5065200" y="2979360"/>
            <a:ext cx="3649680" cy="273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http://5klass.net/datas/geometrija/Geometrija-Podobnye-treugolniki/0032-032-Znachenija-sinusa-kosinusa-i-tangensa.jpg"/>
          <p:cNvPicPr/>
          <p:nvPr/>
        </p:nvPicPr>
        <p:blipFill>
          <a:blip r:embed="rId2"/>
          <a:stretch/>
        </p:blipFill>
        <p:spPr>
          <a:xfrm rot="1870800">
            <a:off x="1463400" y="351648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1" descr=""/>
          <p:cNvPicPr/>
          <p:nvPr/>
        </p:nvPicPr>
        <p:blipFill>
          <a:blip r:embed="rId1"/>
          <a:stretch/>
        </p:blipFill>
        <p:spPr>
          <a:xfrm>
            <a:off x="-171360" y="4827600"/>
            <a:ext cx="9321840" cy="16765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2639880"/>
            <a:ext cx="8832960" cy="1895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s://cf.ppt-online.org/files/slide/y/y8qmbj2cTzEUnwgvV3GphYWaSBIdCiuxrXoMAP/slide-0.jpg"/>
          <p:cNvPicPr/>
          <p:nvPr/>
        </p:nvPicPr>
        <p:blipFill>
          <a:blip r:embed="rId3"/>
          <a:stretch/>
        </p:blipFill>
        <p:spPr>
          <a:xfrm>
            <a:off x="0" y="214200"/>
            <a:ext cx="35002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Ð¸ÑÑÐ¾ÑÐ¸Ñ ÑÐ°Ð·Ð²Ð¸ÑÐ¸Ñ ÑÑÐ¸Ð³Ð¾Ð½Ð¾Ð¼ÐµÑÑÐ¸Ð¸"/>
          <p:cNvPicPr/>
          <p:nvPr/>
        </p:nvPicPr>
        <p:blipFill>
          <a:blip r:embed="rId1"/>
          <a:stretch/>
        </p:blipFill>
        <p:spPr>
          <a:xfrm>
            <a:off x="4416480" y="4286160"/>
            <a:ext cx="4727520" cy="2571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13840" y="214200"/>
            <a:ext cx="89298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История тригонометрии неразрывно связана с астрономией, ведь именно для решения задач этой науки древние ученые стали исследовать соотношения различных величин в треугольнике. На сегодняшний день тригонометрия является микроразделом математики, изучающим зависимость между значениями величин углов и длин сторон треугольников, а также занимающимся анализом алгебраических тождеств тригонометрических функций. Слово «тригонометрия» имеет греческое происхождение и означает «измеряю треугольник». Если быть точнее, то речь идет не о буквальном измерении этой фигуры, а об её решении, то есть определении значений её неизвестных элементов с помощью известных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ласти применения тригонометри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78552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Тригонометрия не относится к прикладным наукам, в реальной повседневной жизни ее задачи редко применяются. Однако этот факт не снижает ее значимости. Очень важна, например, техника триангуляции, которая позволяет астрономам достаточно точно измерить расстояние до недалеких звезд и осуществлять контроль за системами навигации спутников. Также тригонометрию применяют в навигации, теории музыки, акустике, оптике, анализе финансовых рынков, электронике, теории вероятностей, статистике, биологии, медицине (например, в расшифровке ультразвуковых исследований УЗИ и компьютерной томографии), фармацевтике, химии, теории чисел, сейсмологиии, метеорологии, океанологии, картографии, многих разделах физики, топографии и геодезии, архитектуре, фонетике, экономике, электронной технике, машиностроении, компьютерной графике, кристаллографиии и т. д. История тригонометрии и ее роль в изучении естественно-математических наук изучаются и по сей день. Возможно, в будущем областей ее применения станет еще больш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вторяем теорию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те, что такое синус и  косинус угла α из промежутка 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≤α≤18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называется тангенсом углаα? Для какого значения α тангенс не определен и почему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уйте основное тригонометрическое тождеств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n(9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α)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s(9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α)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n(18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α)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s(180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α)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называются эти формулы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вторяем теорию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формулы, выражающие координаты точки А с неотрицательной ординатой через длину отрезка ОА и угол между лучом ОА и положительной полуосью О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уйте теорему о площади треугольника по двум сторонам и углу между ни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уйте теорему сину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уйте теорему косину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значит решить треугольник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определить угол между двумя векторам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случае угол между векторами считается равным 0</a:t>
            </a:r>
            <a:r>
              <a:rPr b="0" lang="ru-RU" sz="24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◦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вторяем теорию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два вектора называются перпендикулярными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скалярное произведение двух векторов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случае скалярное произведение двух векторов равно 0; больше 0; меньше 0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формулу, выражающую скалярное произведение двух векторов через их координат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формулу, выражающую косинус угла между ненулевыми векторами через их координат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Найти 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sinα</a:t>
            </a: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 и 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tgα</a:t>
            </a: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, если  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cosα</a:t>
            </a: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0" y="0"/>
                <a:ext cx="257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8143920" y="1428840"/>
            <a:ext cx="5000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шить треугольн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85560" y="1357200"/>
            <a:ext cx="1857600" cy="1857960"/>
          </a:xfrm>
          <a:prstGeom prst="rect">
            <a:avLst/>
          </a:prstGeom>
          <a:blipFill rotWithShape="0">
            <a:blip r:embed="rId1"/>
            <a:stretch/>
          </a:blipFill>
          <a:ln w="190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1" name="Object 2"/>
          <p:cNvGraphicFramePr/>
          <p:nvPr/>
        </p:nvGraphicFramePr>
        <p:xfrm>
          <a:off x="1428840" y="1714680"/>
          <a:ext cx="749160" cy="49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1714680"/>
                    <a:ext cx="7491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"/>
          <p:cNvGraphicFramePr/>
          <p:nvPr/>
        </p:nvGraphicFramePr>
        <p:xfrm>
          <a:off x="1071720" y="3143160"/>
          <a:ext cx="330120" cy="33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71720" y="314316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4"/>
          <p:cNvGraphicFramePr/>
          <p:nvPr/>
        </p:nvGraphicFramePr>
        <p:xfrm>
          <a:off x="3214800" y="1357200"/>
          <a:ext cx="291960" cy="3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14800" y="135720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2714760" y="3143160"/>
          <a:ext cx="29196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14760" y="314316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6"/>
          <p:cNvGraphicFramePr/>
          <p:nvPr/>
        </p:nvGraphicFramePr>
        <p:xfrm>
          <a:off x="2214720" y="2643120"/>
          <a:ext cx="509400" cy="303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14720" y="2643120"/>
                    <a:ext cx="50940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Arc 61"/>
          <p:cNvSpPr/>
          <p:nvPr/>
        </p:nvSpPr>
        <p:spPr>
          <a:xfrm flipV="1" rot="12484200">
            <a:off x="2361600" y="2934000"/>
            <a:ext cx="438120" cy="431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1785960" y="3357720"/>
          <a:ext cx="22860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85960" y="335772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4" name="Freeform 48"/>
          <p:cNvGrpSpPr/>
          <p:nvPr/>
        </p:nvGrpSpPr>
        <p:grpSpPr>
          <a:xfrm>
            <a:off x="5486400" y="1414440"/>
            <a:ext cx="3206880" cy="2176560"/>
            <a:chOff x="5486400" y="1414440"/>
            <a:chExt cx="3206880" cy="2176560"/>
          </a:xfrm>
        </p:grpSpPr>
        <p:pic>
          <p:nvPicPr>
            <p:cNvPr id="355" name="Freeform 48" descr=""/>
            <p:cNvPicPr/>
            <p:nvPr/>
          </p:nvPicPr>
          <p:blipFill>
            <a:blip r:embed="rId14"/>
            <a:stretch/>
          </p:blipFill>
          <p:spPr>
            <a:xfrm>
              <a:off x="5486400" y="1414440"/>
              <a:ext cx="320688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500800" y="1428840"/>
              <a:ext cx="3173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Freeform 82"/>
          <p:cNvGrpSpPr/>
          <p:nvPr/>
        </p:nvGrpSpPr>
        <p:grpSpPr>
          <a:xfrm>
            <a:off x="2633760" y="3633840"/>
            <a:ext cx="2882880" cy="2670120"/>
            <a:chOff x="2633760" y="3633840"/>
            <a:chExt cx="2882880" cy="2670120"/>
          </a:xfrm>
        </p:grpSpPr>
        <p:pic>
          <p:nvPicPr>
            <p:cNvPr id="358" name="Freeform 82" descr=""/>
            <p:cNvPicPr/>
            <p:nvPr/>
          </p:nvPicPr>
          <p:blipFill>
            <a:blip r:embed="rId15"/>
            <a:stretch/>
          </p:blipFill>
          <p:spPr>
            <a:xfrm>
              <a:off x="2633760" y="3633840"/>
              <a:ext cx="288288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43120" y="3643200"/>
              <a:ext cx="2857680" cy="26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0" name="Object 8"/>
          <p:cNvGraphicFramePr/>
          <p:nvPr/>
        </p:nvGraphicFramePr>
        <p:xfrm>
          <a:off x="4357800" y="3214800"/>
          <a:ext cx="291960" cy="342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57800" y="321480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9"/>
          <p:cNvGraphicFramePr/>
          <p:nvPr/>
        </p:nvGraphicFramePr>
        <p:xfrm>
          <a:off x="5143680" y="1214280"/>
          <a:ext cx="291960" cy="343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3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121428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0"/>
          <p:cNvGraphicFramePr/>
          <p:nvPr/>
        </p:nvGraphicFramePr>
        <p:xfrm>
          <a:off x="5715000" y="3643200"/>
          <a:ext cx="330120" cy="330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15000" y="3643200"/>
                    <a:ext cx="3301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1"/>
          <p:cNvGraphicFramePr/>
          <p:nvPr/>
        </p:nvGraphicFramePr>
        <p:xfrm>
          <a:off x="2143080" y="6215040"/>
          <a:ext cx="33012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67" name="Object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143080" y="621504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2"/>
          <p:cNvGraphicFramePr/>
          <p:nvPr/>
        </p:nvGraphicFramePr>
        <p:xfrm>
          <a:off x="8501040" y="1857240"/>
          <a:ext cx="291960" cy="330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69" name="Object 12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501040" y="185724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3"/>
          <p:cNvGraphicFramePr/>
          <p:nvPr/>
        </p:nvGraphicFramePr>
        <p:xfrm>
          <a:off x="5572080" y="6072120"/>
          <a:ext cx="292320" cy="3301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1" name="Object 1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572080" y="607212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14"/>
          <p:cNvGraphicFramePr/>
          <p:nvPr/>
        </p:nvGraphicFramePr>
        <p:xfrm>
          <a:off x="3071880" y="4500720"/>
          <a:ext cx="393480" cy="3301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3" name="Object 14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071880" y="4500720"/>
                    <a:ext cx="393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15"/>
          <p:cNvGraphicFramePr/>
          <p:nvPr/>
        </p:nvGraphicFramePr>
        <p:xfrm>
          <a:off x="3143160" y="5786280"/>
          <a:ext cx="558720" cy="4320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75" name="Object 15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143160" y="578628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Arc 88"/>
          <p:cNvSpPr/>
          <p:nvPr/>
        </p:nvSpPr>
        <p:spPr>
          <a:xfrm>
            <a:off x="2928960" y="5929200"/>
            <a:ext cx="285840" cy="357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6"/>
          <p:cNvGraphicFramePr/>
          <p:nvPr/>
        </p:nvGraphicFramePr>
        <p:xfrm>
          <a:off x="4214880" y="4071960"/>
          <a:ext cx="558720" cy="431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78" name="Object 1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214880" y="407196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17"/>
          <p:cNvGraphicFramePr/>
          <p:nvPr/>
        </p:nvGraphicFramePr>
        <p:xfrm>
          <a:off x="7286760" y="3071880"/>
          <a:ext cx="228600" cy="3301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0" name="Object 17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286760" y="307188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8"/>
          <p:cNvGraphicFramePr/>
          <p:nvPr/>
        </p:nvGraphicFramePr>
        <p:xfrm>
          <a:off x="6858000" y="1428840"/>
          <a:ext cx="228600" cy="3301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2" name="Object 18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6858000" y="142884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19"/>
          <p:cNvGraphicFramePr/>
          <p:nvPr/>
        </p:nvGraphicFramePr>
        <p:xfrm>
          <a:off x="4857840" y="2357280"/>
          <a:ext cx="723960" cy="5083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4" name="Object 19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857840" y="2357280"/>
                    <a:ext cx="7239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14:28:24Z</dcterms:created>
  <dc:creator>Admin</dc:creator>
  <dc:description/>
  <dc:language>en-US</dc:language>
  <cp:lastModifiedBy>Admin</cp:lastModifiedBy>
  <dcterms:modified xsi:type="dcterms:W3CDTF">2018-12-12T17:25:17Z</dcterms:modified>
  <cp:revision>34</cp:revision>
  <dc:subject/>
  <dc:title>Слайд 1</dc:title>
</cp:coreProperties>
</file>