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9DA5-D483-4811-BEC2-8182F8EAB6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7EAE-6987-42E7-BE9D-75D532AC2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824-517B-4A44-A302-558EF271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539-68DE-42D5-AFA6-48ADF7AB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3D1EC-9AB4-4700-8A52-548D3C65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935FB-7E70-4B2F-BACD-A69FEE5B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72F9E-88B4-4E05-AEF1-B4E8FABC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EC227-32B8-4F85-838A-CFE96BD9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3E9BF-DD5A-42F4-8A87-F14198C6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3ABC4-9E15-4213-AC58-06FFDBA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DF9EC-9879-457B-9007-5422C345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019E4-25E9-4B84-9409-95E45050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284FA-0655-413E-9DD8-B45D967E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CEF46-BEA1-4D16-B60E-37B63371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5EC-9285-4BFE-8E2B-5DD54C71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DF2A8-A7D4-4587-888B-AD44D0F5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F53E3-3570-4825-92D5-573AC909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E4E48-4822-41AA-9E04-ACE6E6DB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CE5A8-5175-44CD-BDEF-EECB65B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CA8F5-6375-4521-91F0-C54C38D8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AA111-2814-4AB5-BFCE-6264C63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2040C-A080-441B-9AC5-6788C3EE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206DD-C562-497A-9D57-C1152E14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7458B-6B4E-48EA-BEE6-D9DF3192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BD044-F268-4318-890B-B6E37B76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238-F4E0-4BBA-A3D1-D0E23F2A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8C161-BBA9-4B81-AA1F-24FFD7E2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32787-730C-4E76-9AC1-5C3253FB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58C15-5DA6-4816-9EDA-02A0862B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C6CBF-827A-4D13-BA8A-E474ADDE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3D224-E414-4C23-9D8E-94A16847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8741C-AA99-43D2-903C-F5EA7946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25DC2-022C-492F-9B5B-D4812ED8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01823-41CB-4CCE-801C-09D65624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4BB98-E9B2-4510-AD9E-C8F796DB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CE4FD-FC70-4D8B-8E45-09A7700A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FAEA-82E4-4F9D-8400-ABBB3EF2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3CE9C-2506-41E7-A7FA-646180C4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67707-6EFA-4CE8-8D72-3C3A0B42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B4BE3-F2F0-4218-AAC2-B00F20CF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25708-D67C-4E69-84F9-016AB5B5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B6EEB-52B3-401F-AA19-848D98E3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93EC1-22C7-4C82-8517-50B5A787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33F1D-C9A2-4BE0-8228-E5F606B6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0E2CA-3CB7-484D-A384-3A8A36C4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E619B-3BEB-4399-8CC6-B55E550B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5C293-E76F-4E06-B0D0-593C9ED8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0DA0-83B8-47D8-84DA-240F87EE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B2AC4-B58C-4F64-8972-45BB3230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7D213-FC31-4856-BFD4-0514B8D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31FDE-5883-4D67-8E64-8EA5F2B6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D31CF-0604-4FF9-9BFC-4B291B5A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A025B-CBC6-4AF5-AF73-1E919EDE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72EC1-E24A-461D-88E0-1DB1D56B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BED37-E895-4A1E-872A-4DA5E664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B657D-CDC2-4FD0-A9BB-E33ED8BD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6B700-88DA-4004-BF35-186974B3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F0784-FEC5-4809-BD13-FEFC399C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FCCD-B60E-44C6-9459-DFDD20DB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EF3D0-8FB2-4E49-B2DC-B4AAF78D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96280-7D40-48EE-8E4E-38DF38E2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98A64-1359-4B9C-B541-023B2D12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5B0C7-1AE4-4FBD-AF93-ABBDB2E8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4FC57-E79F-4475-9A9A-51E0D09C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A9329-1176-41FE-8D58-1C7746D1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B4F70-463F-4F5F-AD64-4B200987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2787B-C03A-4F6F-B1A3-B230508A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D721E-4104-4854-B64C-579E07DD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7EA38-9FAB-4CC4-84B1-A423FE48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6B59-CFDB-4B57-808A-4318152A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8F1DB-DE8B-43A7-9124-E2E2A6F1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48DD8-40AE-459B-A0C6-3F99FF49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691E7-A88D-4C79-97C1-6D72F093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59F1D-46DB-46F6-8060-04B1788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0DDB7-C700-4393-957F-16AA5C21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EAF1A-E6AF-429A-BE90-D3BA45FD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E6AED-42F5-4D4A-A1FD-F3886846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1DA9D-6663-487A-9A3B-F9BCFCEC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ED6CE-8F3C-4711-9B60-767480F0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DA7DCB-36D8-4D3B-B2A8-77CF9696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B6F4-E9A0-4A2A-9378-682A1338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31F3C-4249-4929-8AB3-60B949A4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8A8C8-D697-42B1-8B2B-C97C88C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BB1CA2-F6E4-4B1F-AA61-084A683C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A9C95B-5F0D-4291-BC5C-7553DEAC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F6DB6-3E6D-456C-941D-4A870ACF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D54D4-28F4-4823-B277-6BB3A1C2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FC715-90C7-4541-AD82-BC16C436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AACFA-38C6-4B8C-8336-91247CFB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E5AB4-7B21-4003-A0CD-4AC96E33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03B2B-F1D9-4D0C-96B8-89D61C62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678C-8295-43D1-967E-A1909F65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5CA61-42B8-463A-9B54-5CB98AD3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90BE6-B6CB-44FE-BEDD-CB5D8399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9E493-24F1-4BD7-8B50-12FB0DF6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A8A7A-635B-4CAC-8FC0-94D8A1B4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28D9B-4161-41E0-A889-97F91C88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975D1-FFEC-42D3-9EBC-6203CF55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BFEDD-DE90-4371-839D-9C58EAF8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E0D6C-4386-4A88-85D2-DC4DCE6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43CCA-5CB8-4065-ADF9-0D78A182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71C2B1-FEA6-4E4E-8A05-C236A1A0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8A5C-F3B4-46C5-A251-C57B0B8F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E9846-E5B8-4541-BE91-9E38D0A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104A9-28D5-41B6-A6D1-6B7CECF6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19567-F8CE-4DEE-8F3F-0C0A4E81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5CCF4-24D4-4F51-84B2-161C8282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E56B8C-5632-4604-B293-DA9B70DF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7531B5-8C83-4D2E-A33B-8078F070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BB604-6776-4D84-8F5D-5EF68823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6CF6C-AEE2-4CAD-96B5-38CCCC82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DE8C6-5029-492B-9958-64CCAEF5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5E9CA-E001-4A61-86E3-FAA90FA1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DA6-A318-42B7-9BF8-18C01185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C5D7-C049-4AE1-850E-26775A84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D5321-F77F-4F16-8645-FC127005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31B33-389A-4712-B01F-8A7E44A9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D9A85-56C3-4ED6-B772-34451A1F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BFD26-E451-4991-A928-779874F4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D4A57D-E8EF-4512-B863-0030BCA7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5D30-F20F-4020-997F-938B0C40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62B1-2714-4F91-9AB1-D71FA1BC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E0CB-BEE5-4851-852F-B36BAE7C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116C-E78B-4D00-BD62-18A77C60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94B5-6373-4B83-B739-56EAF1FE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1ADD-6814-4509-A6C1-E7489513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A60D-9331-4F3F-B851-6BC48A6D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26B0-864B-48D8-903C-ABFA70EB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951C-A632-4A0B-BA17-9AFF8F62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A11-BDA4-468A-B66A-1E0D2B6E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FEF02-314D-4715-9D88-F7BF4D05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6586-7B78-4B23-B782-197B7B3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7E39-D58E-400D-B12F-B93606E8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7363B-1429-49FE-AB3B-2B39C80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FA67-9E45-4E77-BA5D-B91C19E2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CEFE-2676-4C6C-AAEF-6334AADA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9257-F7FC-4846-A82C-8FD72FE1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20DDF-4619-43F8-8D80-0B7F2BC5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B92F-C424-4A8B-8DE9-03BEEEC1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92BD5-79C8-4BA2-9318-0A3B5697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2F6-D54D-4640-9528-2E1BB939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25CA4-8C67-4DE2-886C-7B681701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367BC-CBA7-41BB-911A-E2A7066E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F45C2-CEB2-4811-AECD-0241D82D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8236B-001D-4DD1-9056-26C75A98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7C1F-2821-4FCD-BD30-6E6F116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77B2-6F0B-4115-9AF0-55DC58DE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6B61-7518-4C64-B9F0-951D5FC2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2A4A8-8CB0-41C4-A8DE-333A6E27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B71B5-716F-4D3B-AE0B-D26322BD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5A76-4409-4D05-962A-4B1FADA5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A24-3646-45F3-88E6-F27E4C97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0A63-A993-403E-9D95-241B9097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42A9F-57E7-4239-BD9C-E910D974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9BB9D-10F5-4ABE-84C4-DD1197B6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8A888-1E44-44B0-9E91-DFA6675C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184F3-927A-4C4A-8C39-46BB407C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21A80-439B-47C6-9AD1-6B4FA65D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2CCDA-1E57-4231-B3F1-785F8780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C3377-6199-45BB-8863-8F44DD1A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6682F-E77E-46D8-B46D-DD5ECDC6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E730-A559-4091-9A18-DDE810F7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526-D16F-415D-8CF3-A4CC1AD0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63F0-284A-4731-9198-761DC7B1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E9AAF-F9A8-4483-AAD8-D8DB58FD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5B3A4-048A-4A0B-A1B7-09AAC079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9D32C-F100-45F9-AD10-871D2536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23226-73F5-401F-B67A-FA713194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CD3B4-3F31-45F0-908D-0D59DCD8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04CBE-86F4-461D-B3A2-AEDA65DB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2E305-40DD-407B-A1DB-57429DA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7225B-DA63-4748-9FAE-8279392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4A152-D942-4CC7-927C-96546FA8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DC8-77CD-423B-BD9F-935A27B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B56D6-0F9D-46C8-BE20-735609F2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3D798-A273-4BF0-A7A9-8CEEC12E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EE2D-C339-462A-859F-ADADB294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59FD1-FDC5-4959-89D2-2BE4809D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2B876-519E-43A5-8171-97D91270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F66D2-D9C3-4500-9364-D60353B3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9DD75-A908-40D2-8255-7A77AC13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A875F-EB65-4221-A7D8-4253162B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94E3C-353F-41C3-BF88-4EA164FE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6978-7F8D-4A3E-AB75-4F7DEF23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E12-B94F-4C85-84C5-816FCB2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BDC2F-B732-4B71-8089-1BBAD5EF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E6FAA-60BE-4400-A68D-87EDD4EF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91F91-75A0-42EF-9C1B-9C6950E7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1B4C1-75E2-400D-8518-928AFC02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BDA4A-3544-460B-BDA3-38BAE289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C479D-E501-4C79-8818-4003D878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79ABA-41D3-46AA-9232-203E9C4D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D2810-CF8D-4D81-AFBF-91BD6619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06B6C-448D-44BF-9C1F-28A1BF1D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D6BC1-1F58-4FBB-B3E2-C0B77658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439-967C-4967-89FC-B599068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A2F88-04A9-4EAB-9F81-27C9D1A3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B235C-B657-429B-A7DF-BF80E618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925B5-B2AD-4E1A-9890-FC8BEEDE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97FDF-76B7-4984-BFBB-734DC9A4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7D512-DBB1-4AC5-8258-B8D1B508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80BBE-802C-45E3-A8BD-7C5F7633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42791-29A1-4C6C-A162-1C91C77E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80200-9AF4-4B29-9BEB-778EE9C0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A7B08-2B13-4B6F-850F-A8AD9B6E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81AF1-0617-4D79-B9AE-04F94365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647A-024A-431C-8A43-4CFEACBBBC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7DC0-63DD-497F-8A5B-4F8301C90E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DEA-E101-4EDD-99FA-F863B844206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7521-8C33-4C37-9639-46003C0507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D29E-E5DC-49AE-A850-B2501F03CDA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A1E2-E168-493E-9624-D7AE5A565C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E998-4273-481A-872B-6EF25DA188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574A-46F0-416B-9ABC-3653BBA24F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6D04-5920-404A-BBE9-5F17129F24D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95D0-393D-4AA5-9D98-E4A1DC4E3E7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9EF7-439C-428F-ADD3-0DF035C5500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81CD-04E2-4EC6-A8F9-E202E8A876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E9E2-9443-466E-BFE2-B7C611EBD7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4F85-AAD2-4804-BF6B-1F144E0E93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775A-0F18-48D9-8E17-000E17B2C7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80CA-B796-4376-A55F-A59CA5911AB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FB8C-91C6-4A6C-A339-4832F341D3C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990720" y="24379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Система работы с родителями учащихс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начальной шко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(из опыта работы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Объект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1640160" cy="1646280"/>
          </a:xfrm>
          <a:prstGeom prst="rect">
            <a:avLst/>
          </a:prstGeom>
          <a:ln w="0">
            <a:noFill/>
          </a:ln>
        </p:spPr>
      </p:pic>
      <p:pic>
        <p:nvPicPr>
          <p:cNvPr id="1185" name="Рисунок 3" descr=""/>
          <p:cNvPicPr/>
          <p:nvPr/>
        </p:nvPicPr>
        <p:blipFill>
          <a:blip r:embed="rId2"/>
          <a:stretch/>
        </p:blipFill>
        <p:spPr>
          <a:xfrm>
            <a:off x="6324480" y="0"/>
            <a:ext cx="1884600" cy="2421000"/>
          </a:xfrm>
          <a:prstGeom prst="rect">
            <a:avLst/>
          </a:prstGeom>
          <a:ln w="0">
            <a:noFill/>
          </a:ln>
        </p:spPr>
      </p:pic>
      <p:pic>
        <p:nvPicPr>
          <p:cNvPr id="1186" name="Рисунок 5" descr=""/>
          <p:cNvPicPr/>
          <p:nvPr/>
        </p:nvPicPr>
        <p:blipFill>
          <a:blip r:embed="rId3"/>
          <a:stretch/>
        </p:blipFill>
        <p:spPr>
          <a:xfrm>
            <a:off x="7010280" y="4648320"/>
            <a:ext cx="1609920" cy="1798560"/>
          </a:xfrm>
          <a:prstGeom prst="rect">
            <a:avLst/>
          </a:prstGeom>
          <a:ln w="0">
            <a:noFill/>
          </a:ln>
        </p:spPr>
      </p:pic>
      <p:pic>
        <p:nvPicPr>
          <p:cNvPr id="1187" name="Рисунок 6" descr=""/>
          <p:cNvPicPr/>
          <p:nvPr/>
        </p:nvPicPr>
        <p:blipFill>
          <a:blip r:embed="rId4"/>
          <a:stretch/>
        </p:blipFill>
        <p:spPr>
          <a:xfrm>
            <a:off x="851040" y="4267080"/>
            <a:ext cx="1182600" cy="2347920"/>
          </a:xfrm>
          <a:prstGeom prst="rect">
            <a:avLst/>
          </a:prstGeom>
          <a:ln w="0">
            <a:noFill/>
          </a:ln>
        </p:spPr>
      </p:pic>
      <p:sp>
        <p:nvSpPr>
          <p:cNvPr id="1188" name="TextBox 6"/>
          <p:cNvSpPr/>
          <p:nvPr/>
        </p:nvSpPr>
        <p:spPr>
          <a:xfrm>
            <a:off x="2590920" y="4800600"/>
            <a:ext cx="3733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а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ново - Озерской средней общеобразовательной школы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ыжибон Ольга База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8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Результаты анкетирования родителей                  Анкета «Школа глазами родителей»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0" name="Picture 2" descr="Изображение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2" descr="Картинка 20 из 64000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3"/>
          <p:cNvSpPr/>
          <p:nvPr/>
        </p:nvSpPr>
        <p:spPr>
          <a:xfrm>
            <a:off x="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e3eacf"/>
                </a:solidFill>
                <a:latin typeface="Arial Black"/>
              </a:rPr>
              <a:t>Благодарю</a:t>
            </a:r>
            <a:br>
              <a:rPr sz="6000"/>
            </a:br>
            <a:r>
              <a:rPr b="0" i="1" lang="ru-RU" sz="6000" spc="-1" strike="noStrike">
                <a:solidFill>
                  <a:srgbClr val="e3eacf"/>
                </a:solidFill>
                <a:latin typeface="Arial Black"/>
              </a:rPr>
              <a:t>всех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Рисунок 1" descr=""/>
          <p:cNvPicPr/>
          <p:nvPr/>
        </p:nvPicPr>
        <p:blipFill>
          <a:blip r:embed="rId1"/>
          <a:stretch/>
        </p:blipFill>
        <p:spPr>
          <a:xfrm>
            <a:off x="57240" y="42840"/>
            <a:ext cx="90295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Таблица 3" descr=""/>
          <p:cNvPicPr/>
          <p:nvPr/>
        </p:nvPicPr>
        <p:blipFill>
          <a:blip r:embed="rId1"/>
          <a:stretch/>
        </p:blipFill>
        <p:spPr>
          <a:xfrm>
            <a:off x="139680" y="676440"/>
            <a:ext cx="9101160" cy="61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47560" y="623520"/>
            <a:ext cx="70866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Социальный фон класс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2" name="Диаграмма 1" descr=""/>
          <p:cNvPicPr/>
          <p:nvPr/>
        </p:nvPicPr>
        <p:blipFill>
          <a:blip r:embed="rId1"/>
          <a:srcRect l="0" t="0" r="0" b="-26"/>
          <a:stretch/>
        </p:blipFill>
        <p:spPr>
          <a:xfrm>
            <a:off x="76320" y="1600200"/>
            <a:ext cx="9067680" cy="5181480"/>
          </a:xfrm>
          <a:prstGeom prst="rect">
            <a:avLst/>
          </a:prstGeom>
          <a:ln w="0">
            <a:noFill/>
          </a:ln>
        </p:spPr>
      </p:pic>
      <p:pic>
        <p:nvPicPr>
          <p:cNvPr id="1193" name="Рисунок 2" descr=""/>
          <p:cNvPicPr/>
          <p:nvPr/>
        </p:nvPicPr>
        <p:blipFill>
          <a:blip r:embed="rId2"/>
          <a:stretch/>
        </p:blipFill>
        <p:spPr>
          <a:xfrm>
            <a:off x="6400800" y="0"/>
            <a:ext cx="248760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Система взаимодействия учителя начальных классов и родителей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Oval 2"/>
          <p:cNvSpPr/>
          <p:nvPr/>
        </p:nvSpPr>
        <p:spPr>
          <a:xfrm>
            <a:off x="3238560" y="2816280"/>
            <a:ext cx="2514600" cy="1655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стема взаимодействия учителя начальных классов и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3"/>
          <p:cNvSpPr/>
          <p:nvPr/>
        </p:nvSpPr>
        <p:spPr>
          <a:xfrm>
            <a:off x="6210360" y="1866960"/>
            <a:ext cx="1828800" cy="102852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здание коллекти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6"/>
          <p:cNvSpPr/>
          <p:nvPr/>
        </p:nvSpPr>
        <p:spPr>
          <a:xfrm>
            <a:off x="1066680" y="1809720"/>
            <a:ext cx="1828800" cy="10288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св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8"/>
          <p:cNvSpPr/>
          <p:nvPr/>
        </p:nvSpPr>
        <p:spPr>
          <a:xfrm>
            <a:off x="609480" y="3594240"/>
            <a:ext cx="2286000" cy="217152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местная деятельность в выработке общей политики учебной и воспитательн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9"/>
          <p:cNvSpPr/>
          <p:nvPr/>
        </p:nvSpPr>
        <p:spPr>
          <a:xfrm>
            <a:off x="6006960" y="3741840"/>
            <a:ext cx="2286000" cy="205740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нформационное взаимо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одитель – учите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бё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10"/>
          <p:cNvSpPr/>
          <p:nvPr/>
        </p:nvSpPr>
        <p:spPr>
          <a:xfrm>
            <a:off x="3524400" y="5105520"/>
            <a:ext cx="1828800" cy="114300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местная проект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Рисунок 11" descr=""/>
          <p:cNvPicPr/>
          <p:nvPr/>
        </p:nvPicPr>
        <p:blipFill>
          <a:blip r:embed="rId1"/>
          <a:stretch/>
        </p:blipFill>
        <p:spPr>
          <a:xfrm>
            <a:off x="7107120" y="-1440"/>
            <a:ext cx="1749600" cy="2060280"/>
          </a:xfrm>
          <a:prstGeom prst="rect">
            <a:avLst/>
          </a:prstGeom>
          <a:ln w="0">
            <a:noFill/>
          </a:ln>
        </p:spPr>
      </p:pic>
      <p:cxnSp>
        <p:nvCxnSpPr>
          <p:cNvPr id="1202" name="Прямая со стрелкой 13"/>
          <p:cNvCxnSpPr/>
          <p:nvPr/>
        </p:nvCxnSpPr>
        <p:spPr>
          <a:xfrm>
            <a:off x="5420880" y="4196880"/>
            <a:ext cx="570600" cy="59112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3" name="Прямая со стрелкой 14"/>
          <p:cNvCxnSpPr>
            <a:stCxn id="1195" idx="0"/>
          </p:cNvCxnSpPr>
          <p:nvPr/>
        </p:nvCxnSpPr>
        <p:spPr>
          <a:xfrm flipV="1">
            <a:off x="4495320" y="2294640"/>
            <a:ext cx="1080" cy="52164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4" name="Прямая со стрелкой 15"/>
          <p:cNvCxnSpPr/>
          <p:nvPr/>
        </p:nvCxnSpPr>
        <p:spPr>
          <a:xfrm flipH="1">
            <a:off x="2866680" y="4349520"/>
            <a:ext cx="867600" cy="40860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5" name="Прямая со стрелкой 16"/>
          <p:cNvCxnSpPr/>
          <p:nvPr/>
        </p:nvCxnSpPr>
        <p:spPr>
          <a:xfrm flipH="1" flipV="1">
            <a:off x="2752200" y="2596320"/>
            <a:ext cx="743760" cy="53892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6" name="Прямая со стрелкой 17"/>
          <p:cNvCxnSpPr>
            <a:stCxn id="1195" idx="4"/>
          </p:cNvCxnSpPr>
          <p:nvPr/>
        </p:nvCxnSpPr>
        <p:spPr>
          <a:xfrm>
            <a:off x="4495320" y="4471920"/>
            <a:ext cx="1080" cy="63432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7" name="Прямая со стрелкой 32"/>
          <p:cNvCxnSpPr/>
          <p:nvPr/>
        </p:nvCxnSpPr>
        <p:spPr>
          <a:xfrm flipV="1">
            <a:off x="5572080" y="2704680"/>
            <a:ext cx="838800" cy="448560"/>
          </a:xfrm>
          <a:prstGeom prst="straightConnector1">
            <a:avLst/>
          </a:prstGeom>
          <a:ln cap="rnd" w="22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08" name="Рисунок 40" descr=""/>
          <p:cNvPicPr/>
          <p:nvPr/>
        </p:nvPicPr>
        <p:blipFill>
          <a:blip r:embed="rId2"/>
          <a:stretch/>
        </p:blipFill>
        <p:spPr>
          <a:xfrm>
            <a:off x="3606840" y="1220760"/>
            <a:ext cx="1874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Влияние семей на результаты успеваемости детей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11" name="Объект 3"/>
          <p:cNvGraphicFramePr/>
          <p:nvPr/>
        </p:nvGraphicFramePr>
        <p:xfrm>
          <a:off x="228600" y="685800"/>
          <a:ext cx="89154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9154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Темы классных родительских собраний        4 класс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Прямоугольник 2"/>
          <p:cNvSpPr/>
          <p:nvPr/>
        </p:nvSpPr>
        <p:spPr>
          <a:xfrm>
            <a:off x="609480" y="102888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1.  Защитим права детей. (информационно-аналитическая бесе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ентябр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2.    Дети глазами родителей, родители глазами детей (диспут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оябр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3. Разговор на трудную тему. Профилактика вредных привычек у младших школьников. (мастерская общ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евра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4.   Десять ошибок в воспитании, которые все когда-нибудь совершали (практикум). Уроки этики поведения для детей и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5. Трудности адаптационного периода в 5 классе и пути их преод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й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Рисунок 3" descr=""/>
          <p:cNvPicPr/>
          <p:nvPr/>
        </p:nvPicPr>
        <p:blipFill>
          <a:blip r:embed="rId1"/>
          <a:stretch/>
        </p:blipFill>
        <p:spPr>
          <a:xfrm>
            <a:off x="7696080" y="2362320"/>
            <a:ext cx="123696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Роль отца в семье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7" name="Диаграмма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991720" cy="5410080"/>
          </a:xfrm>
          <a:prstGeom prst="rect">
            <a:avLst/>
          </a:prstGeom>
          <a:ln w="0">
            <a:noFill/>
          </a:ln>
        </p:spPr>
      </p:pic>
      <p:pic>
        <p:nvPicPr>
          <p:cNvPr id="1218" name="Рисунок 2" descr=""/>
          <p:cNvPicPr/>
          <p:nvPr/>
        </p:nvPicPr>
        <p:blipFill>
          <a:blip r:embed="rId2"/>
          <a:stretch/>
        </p:blipFill>
        <p:spPr>
          <a:xfrm>
            <a:off x="7121520" y="15840"/>
            <a:ext cx="14382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1-03T02:49:53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