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8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CDBF-F2F4-4999-8CA5-2231CA3A1D3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8F5B-EB6A-4033-8C5D-715F520EA9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B0F0-D458-44F7-831B-4D340B7D1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C96D-37DD-4179-8F7E-E010A41B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E8FDA1-1C0E-47A1-945D-4D9446CF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8E6399-D60A-4467-BC34-0D525AD8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522914-AE79-4627-AEDE-0FD26E91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04C29-1AAC-4514-8605-54F9C1F6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D7DA13-9847-4FAA-9F40-829F74DC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64B973-DDF9-426C-8C32-210314BC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255B75-019D-4197-B4BD-8B1A3116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1049FC-7F80-4541-8840-ACE2869FA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CA34F0-50BD-463B-BE30-35BEEF7C8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0B91F7-DB09-4558-8F1F-56B027935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7362-71D9-4A03-B8C5-8370816A8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3DE1EF-6146-4512-9098-73BD5B3B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97A727-DABB-401C-82FF-C88F66C9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D9895F-BBE3-4659-B0A7-11A9B246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3132DD-960B-465C-B184-6AC387AB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7678C7-A6E1-4400-A51B-390FD22B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B91FE5-261A-463F-91C2-6C09D9B0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0A2A4B-613B-426A-A445-6E57CD37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D01D9D-D55C-4334-BB45-CEC112F0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BB1DDE-C91F-47B1-AA4E-A36D0B0F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75C4D9-6503-4F3D-A7D0-0E63ECCFA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CFC9-D204-4E89-A5D5-A2A2D0170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AD9B0C-E372-4205-A622-0CA76D638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50D9FA-6E42-4BDE-8C7B-94481BF71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B1AE80-B9AB-43C9-9AC8-98577E76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F1E3D8-33C2-499C-8CD8-DA35FDBD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7DFB7C-5578-4393-90B1-ABD99855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AF067E-A5DD-4E93-BF07-B4269080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1057DF-C976-45DD-8147-2D6B1260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BA95C-F037-4A71-B1BE-AEE9B5B7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642D8F-7A46-4DBF-AAF3-4D34684A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07F76-567A-49B5-9F3C-CBB46BA1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AD9D-918C-40EC-A5BD-54613D141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46F59-287C-41E5-9EAA-E87BFDA0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C46C7-0EB2-4DDC-9D6E-E8ADF50A5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82E2B7-ED13-4D4F-90D4-B678518F9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0DBAD6-37A2-4448-9D04-E36884911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55A1A5-F1FB-48C7-A6AD-AFD756B0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D76989-630A-421E-BBF4-EC58B500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23BC6C-9222-4648-AF03-EEFC3839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489D93-1447-470A-9CFD-F4E76531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CAFF8A-1BF6-48A1-99DE-61C49453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D0076F-FBE3-40F1-AA81-F0B74CAC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3D0E-A29C-4B83-82D4-8BF24170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81E193-747A-441B-ACB2-4B144FD2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23E5EB-9169-4FA7-B965-3238E78A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7C7411-C011-49CA-8FF3-D29A63F9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0A5EF3-7F1F-41FA-889E-362BC33D0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90011C-D3EA-47EE-8D4A-0CE1131D4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F87EF0-59D7-4A26-8C75-3214E76D4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75112A-F9CE-4ED9-9A9E-724F6BBF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BCB0DB-F476-412F-99D4-E6DE4E89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82CB46-F2E1-49E7-A234-42BF3610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EDD603-7B52-4317-BD7A-7B2101C0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B4BA-B322-4DD3-9821-B03F0FF9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C81E98-2FA2-4B91-A9A3-27035F68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FFE79B-7DAF-4501-B882-78A21B56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45FEFF-1B9A-485A-9759-8663E8DF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3AF65E-30B4-4608-99E4-FB60A0AE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147DD7-FAFD-41A1-9DA2-4E26EC39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E811E1-FDD3-42C0-BAEF-9EE99881F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076545-BFDA-490E-9091-742946F7A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83DD5E-FADE-4DB0-B7ED-F91FEC61A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DCD980-C9DF-4290-841C-33E88B78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C0D61D-B545-4ACE-AC50-E5E30975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6658-801C-4FFB-A6B8-103D77C0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F1E8D0-A928-4196-AA93-1A75EBD8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3004E0-7BA3-4582-9C04-FF2A11BF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E5C7E9-D888-4D9F-8182-DA9F4FAB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5B2FBF-F5B1-4FC1-9C80-38A1E924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6AE80D-A299-4BA0-B0FC-6F534F11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B2D728-6273-4834-9D96-FECEAB24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FC15D5-127B-4B9F-81FF-48E34CAE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4245A7-D4E4-48B6-9BE0-09B3DEDB9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02B044-57B8-488E-A382-063CC0265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07D8A1-C176-45CE-ABB3-6418F0D99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5526-66ED-4595-AB34-D00F4839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0B3595-74F9-48F0-A6A0-2AAF9336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8F7897-DE5C-47DA-BE9A-46098889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FB423B-8F86-4F44-A7A5-1497354C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C50D1C-6789-4ECE-BB70-EDEC3EAB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D136F7-42C7-41A8-A59D-BC70A728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DA1337-453C-438E-8918-68FE9D25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21157D-AA97-4F46-AAB5-ECFAA41C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EF020C-FB1C-4989-9062-E7FA396D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6D2D72-1662-4844-9157-10C6481C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8F934E-A266-404A-9E82-5EE10FBB6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7477-8A23-4652-BE63-53DBF1A4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B9B26D-AB88-42D8-B9D8-A2C1497D4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F8A995-3A41-4F61-9EC4-7B2FCBCE6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8EFB46-AA3C-412B-A0A6-D746E669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54ADD8-D0CD-4768-A031-C4EF069D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51A154-0FCB-4CC1-8ABF-2C42723B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B52395-80BB-41FA-A487-4230923A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06A945-7779-4075-B990-463346BE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EB672C-6131-4E08-B1F1-25867D88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90ADBD-FE0F-4AD4-8D63-B6760BC9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1FC669-56D6-467C-B88C-03C222D5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357B-C36D-4B5F-92A3-66A299E5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F1F5D8-02D7-484B-B2E4-6E40A5F0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68A444-806A-4E79-AC3E-67C307706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0979F4-4DA0-4AAB-AFAE-68C481729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DDEE9E-3B38-481C-9EBF-0949418AD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D94D54-AF7C-4856-8F9C-2EF89CDA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657033-4710-4177-BD5C-3C1B9A6C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C1E453-1223-4CFC-B97D-D51211D8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64DBEB-C134-496D-9525-D128E5DE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EB9FE3-20D7-4496-AC5A-46039101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F52B30-059E-40BE-8B55-4A02F332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2A73-47F9-4C07-9265-63501893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9E92-3E6C-493F-AFC7-61D32BBA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37B19C-2CC0-4C58-BBAD-9003D0C7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17704C-4A7C-42B4-BA28-0A52DC96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D6EBAD-473C-4C1D-946F-F5F355D9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EC3129-AC48-483D-A667-23423E157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585CDC-B88F-44B6-96F9-89D236CA6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A604-21F7-4731-9EA3-9AEB98F6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A6B3-326D-4D80-9952-DA155235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BFD67-BE45-471D-B1F0-AE70F2F86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763FA-0DDC-4DE4-9FA1-CB79D415C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D4418-ED9F-4B2A-BD43-9D114FF40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B3547-4D60-4468-AB11-E153047F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D1DE6-AF62-44C8-AFC5-522B9096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D1101-5AB1-4F49-A2F4-A961DC5B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B2A4B-11C5-42ED-8761-8DD07619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3CD9-6918-4327-AE5B-C8EDB101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C3636-F168-4160-A579-2B02EEDC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B21A0-78E8-4898-A77C-CCA4D69D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98A24-023D-40ED-A325-43B8E516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64F12-6F9E-4B44-A8D6-CB3417E9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8BA59-9C5B-485E-9FA4-040B2FFD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4EC46-25CE-479A-AF6C-8358A9BBE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FA26E-AB30-4A1D-951C-736EF4356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270B8-1DB0-4673-A5FC-8C7C98E01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F9718-C3F9-4A0B-8037-1B0F1BA2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C8CD5-D5E6-46D1-BA90-AA826898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EF86-BE42-4AEB-9AE9-1F26EFC8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7155D-3D47-48DC-9924-703CD28B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0FD3B-2605-4C7F-A120-6DC06773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154F9-4B52-4B03-84EA-D415D1DE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13C2A-B4B0-4628-B1DD-54AB36FE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716D8-E393-4331-BDAC-9AFB4BE3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ABA40-942D-4872-86F7-A90DA051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C552D-E8D5-4E69-8B1A-D733A4D4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5D724-2C3D-4465-A6F1-717BE419C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AFB95-D0AD-4F1F-BC5D-45AB9DC3B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63E27-0BB3-4E04-B8BF-21870AB3E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3A02-77CD-490B-8C4D-9CE4C606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8C466-16D6-452A-871F-6B581CF2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8E135-ACBD-4FDF-B8AB-696E9ECE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D26EC-196F-4ECD-99EC-4CD873C8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41C1E-0EBD-4FF9-A851-CA71DBE1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D4B68-0C85-45A9-815C-975499C0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5D0C5-C862-4209-A6BD-7977EA08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40CFC-D7E6-46FD-AE77-7B5B9801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22E63-3B2A-463B-9BE5-6BB81014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3713B-8063-4B88-82F8-AC07D0CC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39C1D-15B7-465E-A665-666401E6E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074C-7986-4BFF-8648-F087CD6B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45493-EE29-46A3-B36B-74F68BD89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9DA82-9256-4DE0-91BC-47B6C6958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C447D-44A4-40BF-83B9-040C85A6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A0C70-4F51-4937-969A-85E30CB3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92541-E805-4D68-8ABF-6C8A77A8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5A9B0-751D-4C94-9A2F-685D67F0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D27F7-998C-4600-A591-CA4F6BE9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37999-5F0B-489A-9E1F-308B79CE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1FC8A-717F-498E-9A4B-7398C28A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705D9-00D1-49F5-B592-5E321667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F99F-571B-4577-A804-18DAE944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40369-0FEE-4064-9668-3BFA3C46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5FC8D-98B3-48BE-BE6C-FA2F5FDC7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20018-AD45-4662-8FAC-7BADC078E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01CAD-524D-47C3-AEC2-773ECB3F4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A2073-F914-43C8-BF51-8FD9EDBC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547DC-B40B-4654-A9E7-E37457ED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ABF2A-0809-49CA-A906-22E161E7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D961E-29EF-4AAB-B948-6E200927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981A9-50CA-4D0C-9A78-A3E3AF6C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13F87-C0C2-4AFA-B3B0-0BFBC316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4CFD-6EBA-4A1D-BE04-AB3A1A20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ADEA1-B10B-42E3-929F-8BF16362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F7041-5869-4CEE-B092-14DB9CE7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2A337-975B-4ABB-A49E-FCDDEC3A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63666-67CB-46DE-9BB3-A189FC8BC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53419-DADF-414E-9DB4-6CDE99174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AE61F-5A92-4BC0-A2DC-836B5C6FB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AAD04-4755-4C01-A042-E7EDDB72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C672C-9E0F-431A-9F8C-61C6C592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1F8F3-626B-43DA-B514-5B309326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4ED38-A3A1-4BFA-B1D4-696664A0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EF78-ECD1-4D16-A225-7331BFF7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4C632-282D-4E13-88A5-0D8AB68E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5A878-CF46-4652-A189-6984C925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40E5B-F2EA-4EF0-B736-3CCC6654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0D617-BB08-4003-8F7F-661983BD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5AD01-2745-40E8-95EC-F3FB38DF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52598-EA4C-4859-BBF9-5F6FC69EA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A0D57-FF83-451B-A6F5-DA5BEDB7B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181DFF-DA74-4393-A1A2-EB4B63E8A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7EAC5F-BE5B-4C01-ADFA-255E6C21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DE3974-9B83-4EA1-A4C0-5C4CAB10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0CE1-3C18-4313-8AF4-B2AA2161283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C315-4E03-4CEC-88A4-54FCE34525F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A6DB-A1EE-4AD8-B258-A94B26560F7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4879-696D-4128-B871-8A3537DC48F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A3D3-EFDB-4C43-B991-6475A071C51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ADC4-0E36-42AA-ABB5-6DF4B0492B5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0CBA-AD53-47BC-B60F-C0190F2E691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8E78-D0AE-483B-8EF7-95D7A9A8168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177D-7BCD-42CB-8C43-7C1844EE924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9FE3C-6AE5-4E80-9ED3-10C766B3AF0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1B5B-93C7-41A3-B46D-C0834E68D09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5F7D-F55E-44EA-B11B-71391C3B7C3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70B5-DFE0-4B66-AD5C-979E7C3584B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8A17-3194-4B52-831B-B7879B7BF19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6DCD-416C-43D0-9DFB-35D984C902A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4F95-30E3-475F-B074-4CC7886FE5D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CFBE-064A-4668-A840-6807AB74DD4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990720" y="2437920"/>
            <a:ext cx="81532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entury Gothic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Century Gothic"/>
              </a:rPr>
              <a:t>Система работы с родителями учащихся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Century Gothic"/>
              </a:rPr>
              <a:t>начальной школ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(из опыта работы)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84" name="Объект 4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1640160" cy="1646280"/>
          </a:xfrm>
          <a:prstGeom prst="rect">
            <a:avLst/>
          </a:prstGeom>
          <a:ln w="0">
            <a:noFill/>
          </a:ln>
        </p:spPr>
      </p:pic>
      <p:pic>
        <p:nvPicPr>
          <p:cNvPr id="1185" name="Рисунок 3" descr=""/>
          <p:cNvPicPr/>
          <p:nvPr/>
        </p:nvPicPr>
        <p:blipFill>
          <a:blip r:embed="rId2"/>
          <a:stretch/>
        </p:blipFill>
        <p:spPr>
          <a:xfrm>
            <a:off x="6324480" y="0"/>
            <a:ext cx="1884600" cy="2421000"/>
          </a:xfrm>
          <a:prstGeom prst="rect">
            <a:avLst/>
          </a:prstGeom>
          <a:ln w="0">
            <a:noFill/>
          </a:ln>
        </p:spPr>
      </p:pic>
      <p:pic>
        <p:nvPicPr>
          <p:cNvPr id="1186" name="Рисунок 5" descr=""/>
          <p:cNvPicPr/>
          <p:nvPr/>
        </p:nvPicPr>
        <p:blipFill>
          <a:blip r:embed="rId3"/>
          <a:stretch/>
        </p:blipFill>
        <p:spPr>
          <a:xfrm>
            <a:off x="7010280" y="4648320"/>
            <a:ext cx="1609920" cy="1798560"/>
          </a:xfrm>
          <a:prstGeom prst="rect">
            <a:avLst/>
          </a:prstGeom>
          <a:ln w="0">
            <a:noFill/>
          </a:ln>
        </p:spPr>
      </p:pic>
      <p:pic>
        <p:nvPicPr>
          <p:cNvPr id="1187" name="Рисунок 6" descr=""/>
          <p:cNvPicPr/>
          <p:nvPr/>
        </p:nvPicPr>
        <p:blipFill>
          <a:blip r:embed="rId4"/>
          <a:stretch/>
        </p:blipFill>
        <p:spPr>
          <a:xfrm>
            <a:off x="851040" y="4267080"/>
            <a:ext cx="1182600" cy="2347920"/>
          </a:xfrm>
          <a:prstGeom prst="rect">
            <a:avLst/>
          </a:prstGeom>
          <a:ln w="0">
            <a:noFill/>
          </a:ln>
        </p:spPr>
      </p:pic>
      <p:sp>
        <p:nvSpPr>
          <p:cNvPr id="1188" name="TextBox 6"/>
          <p:cNvSpPr/>
          <p:nvPr/>
        </p:nvSpPr>
        <p:spPr>
          <a:xfrm>
            <a:off x="2590920" y="4800600"/>
            <a:ext cx="37335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полнила 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сново - Озерской средней общеобразовательной школы №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ыжибон Ольга База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018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Century Gothic"/>
              </a:rPr>
              <a:t>Результаты анкетирования родителей                  Анкета «Школа глазами родителей»</a:t>
            </a:r>
            <a:br>
              <a:rPr sz="2400"/>
            </a:b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20" name="Picture 2" descr="Изображение"/>
          <p:cNvPicPr/>
          <p:nvPr/>
        </p:nvPicPr>
        <p:blipFill>
          <a:blip r:embed="rId1"/>
          <a:stretch/>
        </p:blipFill>
        <p:spPr>
          <a:xfrm>
            <a:off x="76320" y="990720"/>
            <a:ext cx="8991360" cy="58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1" name="Picture 2" descr="Картинка 20 из 64000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1222" name="Rectangle 3"/>
          <p:cNvSpPr/>
          <p:nvPr/>
        </p:nvSpPr>
        <p:spPr>
          <a:xfrm>
            <a:off x="0" y="126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e3eacf"/>
                </a:solidFill>
                <a:latin typeface="Arial Black"/>
              </a:rPr>
              <a:t>Благодарю</a:t>
            </a:r>
            <a:br>
              <a:rPr sz="6000"/>
            </a:br>
            <a:r>
              <a:rPr b="0" i="1" lang="ru-RU" sz="6000" spc="-1" strike="noStrike">
                <a:solidFill>
                  <a:srgbClr val="e3eacf"/>
                </a:solidFill>
                <a:latin typeface="Arial Black"/>
              </a:rPr>
              <a:t>всех за вним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9" name="Рисунок 1" descr=""/>
          <p:cNvPicPr/>
          <p:nvPr/>
        </p:nvPicPr>
        <p:blipFill>
          <a:blip r:embed="rId1"/>
          <a:stretch/>
        </p:blipFill>
        <p:spPr>
          <a:xfrm>
            <a:off x="57240" y="42840"/>
            <a:ext cx="9029520" cy="67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0" name="Таблица 3" descr=""/>
          <p:cNvPicPr/>
          <p:nvPr/>
        </p:nvPicPr>
        <p:blipFill>
          <a:blip r:embed="rId1"/>
          <a:stretch/>
        </p:blipFill>
        <p:spPr>
          <a:xfrm>
            <a:off x="139680" y="676440"/>
            <a:ext cx="9101160" cy="61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447560" y="623520"/>
            <a:ext cx="708660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Century Gothic"/>
              </a:rPr>
              <a:t>Социальный фон класса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92" name="Диаграмма 1" descr=""/>
          <p:cNvPicPr/>
          <p:nvPr/>
        </p:nvPicPr>
        <p:blipFill>
          <a:blip r:embed="rId1"/>
          <a:srcRect l="0" t="0" r="0" b="-26"/>
          <a:stretch/>
        </p:blipFill>
        <p:spPr>
          <a:xfrm>
            <a:off x="76320" y="1600200"/>
            <a:ext cx="9067680" cy="5181480"/>
          </a:xfrm>
          <a:prstGeom prst="rect">
            <a:avLst/>
          </a:prstGeom>
          <a:ln w="0">
            <a:noFill/>
          </a:ln>
        </p:spPr>
      </p:pic>
      <p:pic>
        <p:nvPicPr>
          <p:cNvPr id="1193" name="Рисунок 2" descr=""/>
          <p:cNvPicPr/>
          <p:nvPr/>
        </p:nvPicPr>
        <p:blipFill>
          <a:blip r:embed="rId2"/>
          <a:stretch/>
        </p:blipFill>
        <p:spPr>
          <a:xfrm>
            <a:off x="6400800" y="0"/>
            <a:ext cx="248760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Century Gothic"/>
              </a:rPr>
              <a:t>Система взаимодействия учителя начальных классов и родителей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5" name="Oval 2"/>
          <p:cNvSpPr/>
          <p:nvPr/>
        </p:nvSpPr>
        <p:spPr>
          <a:xfrm>
            <a:off x="3238560" y="2816280"/>
            <a:ext cx="2514600" cy="16556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истема взаимодействия учителя начальных классов и родите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Oval 3"/>
          <p:cNvSpPr/>
          <p:nvPr/>
        </p:nvSpPr>
        <p:spPr>
          <a:xfrm>
            <a:off x="6210360" y="1866960"/>
            <a:ext cx="1828800" cy="1028520"/>
          </a:xfrm>
          <a:prstGeom prst="ellipse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оздание коллектив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одите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Oval 6"/>
          <p:cNvSpPr/>
          <p:nvPr/>
        </p:nvSpPr>
        <p:spPr>
          <a:xfrm>
            <a:off x="1066680" y="1809720"/>
            <a:ext cx="1828800" cy="1028880"/>
          </a:xfrm>
          <a:prstGeom prst="ellipse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росвещ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Oval 8"/>
          <p:cNvSpPr/>
          <p:nvPr/>
        </p:nvSpPr>
        <p:spPr>
          <a:xfrm>
            <a:off x="609480" y="3594240"/>
            <a:ext cx="2286000" cy="2171520"/>
          </a:xfrm>
          <a:prstGeom prst="ellipse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овместная деятельность в выработке общей политики учебной и воспитательной рабо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Oval 9"/>
          <p:cNvSpPr/>
          <p:nvPr/>
        </p:nvSpPr>
        <p:spPr>
          <a:xfrm>
            <a:off x="6006960" y="3741840"/>
            <a:ext cx="2286000" cy="2057400"/>
          </a:xfrm>
          <a:prstGeom prst="ellipse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нформационное взаимодейств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одитель – учитель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ебён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Oval 10"/>
          <p:cNvSpPr/>
          <p:nvPr/>
        </p:nvSpPr>
        <p:spPr>
          <a:xfrm>
            <a:off x="3524400" y="5105520"/>
            <a:ext cx="1828800" cy="1143000"/>
          </a:xfrm>
          <a:prstGeom prst="ellipse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овместная проектная дея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1" name="Рисунок 11" descr=""/>
          <p:cNvPicPr/>
          <p:nvPr/>
        </p:nvPicPr>
        <p:blipFill>
          <a:blip r:embed="rId1"/>
          <a:stretch/>
        </p:blipFill>
        <p:spPr>
          <a:xfrm>
            <a:off x="7107120" y="-1440"/>
            <a:ext cx="1749600" cy="2060280"/>
          </a:xfrm>
          <a:prstGeom prst="rect">
            <a:avLst/>
          </a:prstGeom>
          <a:ln w="0">
            <a:noFill/>
          </a:ln>
        </p:spPr>
      </p:pic>
      <p:cxnSp>
        <p:nvCxnSpPr>
          <p:cNvPr id="1202" name="Прямая со стрелкой 13"/>
          <p:cNvCxnSpPr/>
          <p:nvPr/>
        </p:nvCxnSpPr>
        <p:spPr>
          <a:xfrm>
            <a:off x="5420880" y="4196880"/>
            <a:ext cx="570600" cy="591120"/>
          </a:xfrm>
          <a:prstGeom prst="straightConnector1">
            <a:avLst/>
          </a:prstGeom>
          <a:ln cap="rnd"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3" name="Прямая со стрелкой 14"/>
          <p:cNvCxnSpPr>
            <a:stCxn id="1195" idx="0"/>
          </p:cNvCxnSpPr>
          <p:nvPr/>
        </p:nvCxnSpPr>
        <p:spPr>
          <a:xfrm flipV="1">
            <a:off x="4495320" y="2294640"/>
            <a:ext cx="1080" cy="521640"/>
          </a:xfrm>
          <a:prstGeom prst="straightConnector1">
            <a:avLst/>
          </a:prstGeom>
          <a:ln cap="rnd"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4" name="Прямая со стрелкой 15"/>
          <p:cNvCxnSpPr/>
          <p:nvPr/>
        </p:nvCxnSpPr>
        <p:spPr>
          <a:xfrm flipH="1">
            <a:off x="2866680" y="4349520"/>
            <a:ext cx="867600" cy="408600"/>
          </a:xfrm>
          <a:prstGeom prst="straightConnector1">
            <a:avLst/>
          </a:prstGeom>
          <a:ln cap="rnd"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5" name="Прямая со стрелкой 16"/>
          <p:cNvCxnSpPr/>
          <p:nvPr/>
        </p:nvCxnSpPr>
        <p:spPr>
          <a:xfrm flipH="1" flipV="1">
            <a:off x="2752200" y="2596320"/>
            <a:ext cx="743760" cy="538920"/>
          </a:xfrm>
          <a:prstGeom prst="straightConnector1">
            <a:avLst/>
          </a:prstGeom>
          <a:ln cap="rnd"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6" name="Прямая со стрелкой 17"/>
          <p:cNvCxnSpPr>
            <a:stCxn id="1195" idx="4"/>
          </p:cNvCxnSpPr>
          <p:nvPr/>
        </p:nvCxnSpPr>
        <p:spPr>
          <a:xfrm>
            <a:off x="4495320" y="4471920"/>
            <a:ext cx="1080" cy="634320"/>
          </a:xfrm>
          <a:prstGeom prst="straightConnector1">
            <a:avLst/>
          </a:prstGeom>
          <a:ln cap="rnd"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7" name="Прямая со стрелкой 32"/>
          <p:cNvCxnSpPr/>
          <p:nvPr/>
        </p:nvCxnSpPr>
        <p:spPr>
          <a:xfrm flipV="1">
            <a:off x="5572080" y="2704680"/>
            <a:ext cx="838800" cy="448560"/>
          </a:xfrm>
          <a:prstGeom prst="straightConnector1">
            <a:avLst/>
          </a:prstGeom>
          <a:ln cap="rnd" w="2232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08" name="Рисунок 40" descr=""/>
          <p:cNvPicPr/>
          <p:nvPr/>
        </p:nvPicPr>
        <p:blipFill>
          <a:blip r:embed="rId2"/>
          <a:stretch/>
        </p:blipFill>
        <p:spPr>
          <a:xfrm>
            <a:off x="3606840" y="1220760"/>
            <a:ext cx="187488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Century Gothic"/>
              </a:rPr>
              <a:t>Влияние семей на результаты успеваемости детей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11" name="Объект 3"/>
          <p:cNvGraphicFramePr/>
          <p:nvPr/>
        </p:nvGraphicFramePr>
        <p:xfrm>
          <a:off x="228600" y="685800"/>
          <a:ext cx="891540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2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89154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Century Gothic"/>
              </a:rPr>
              <a:t>Темы классных родительских собраний        4 класс</a:t>
            </a:r>
            <a:br>
              <a:rPr sz="2400"/>
            </a:b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4" name="Прямоугольник 2"/>
          <p:cNvSpPr/>
          <p:nvPr/>
        </p:nvSpPr>
        <p:spPr>
          <a:xfrm>
            <a:off x="609480" y="1028880"/>
            <a:ext cx="8534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 1.  Защитим права детей. (информационно-аналитическая бесе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ентябр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 2.    Дети глазами родителей, родители глазами детей (диспут)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ноябр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 3. Разговор на трудную тему. Профилактика вредных привычек у младших школьников. (мастерская общ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феврал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 4.   Десять ошибок в воспитании, которые все когда-нибудь совершали (практикум). Уроки этики поведения для детей и род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прел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5. Трудности адаптационного периода в 5 классе и пути их преодо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май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5" name="Рисунок 3" descr=""/>
          <p:cNvPicPr/>
          <p:nvPr/>
        </p:nvPicPr>
        <p:blipFill>
          <a:blip r:embed="rId1"/>
          <a:stretch/>
        </p:blipFill>
        <p:spPr>
          <a:xfrm>
            <a:off x="7696080" y="2362320"/>
            <a:ext cx="123696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944360" y="623880"/>
            <a:ext cx="6589800" cy="5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Century Gothic"/>
              </a:rPr>
              <a:t>Роль отца в семье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17" name="Диаграмма 4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8991720" cy="5410080"/>
          </a:xfrm>
          <a:prstGeom prst="rect">
            <a:avLst/>
          </a:prstGeom>
          <a:ln w="0">
            <a:noFill/>
          </a:ln>
        </p:spPr>
      </p:pic>
      <p:pic>
        <p:nvPicPr>
          <p:cNvPr id="1218" name="Рисунок 2" descr=""/>
          <p:cNvPicPr/>
          <p:nvPr/>
        </p:nvPicPr>
        <p:blipFill>
          <a:blip r:embed="rId2"/>
          <a:stretch/>
        </p:blipFill>
        <p:spPr>
          <a:xfrm>
            <a:off x="7121520" y="15840"/>
            <a:ext cx="143820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9-01-03T02:49:53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