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18.jpeg" ContentType="image/jpeg"/>
  <Override PartName="/ppt/media/image5.jpeg" ContentType="image/jpeg"/>
  <Override PartName="/ppt/media/image26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8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C59-5E0E-42FF-A07C-5F9726DE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8D3-5B0A-4D37-880C-CDDC5167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D7E-0A09-481D-8801-B735350D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3F7-FE31-42E1-81ED-29E2DFAB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F13-30C1-47C3-923B-B4EEAB5D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6D6-FBEF-4144-A9DF-E3AC09E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653-4F2A-472D-912A-83C67882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407-FFFC-426C-9689-2DE961DF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793-9D0E-4754-A008-1BBD0D32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DE0-4FFA-4A24-B921-99957686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5FB-26DB-4124-9A27-17786B02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99F-626A-4376-BFC2-FC23CA2C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52C9-3187-44B2-9327-D648FA305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b050"/>
                </a:solidFill>
                <a:latin typeface="Cambria Math"/>
                <a:ea typeface="Cambria Math"/>
              </a:rPr>
              <a:t>Проектная работ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b050"/>
                </a:solidFill>
                <a:latin typeface="Cambria Math"/>
                <a:ea typeface="Cambria Math"/>
              </a:rPr>
              <a:t>Ученика 2 б класс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b050"/>
                </a:solidFill>
                <a:latin typeface="Cambria Math"/>
                <a:ea typeface="Cambria Math"/>
              </a:rPr>
              <a:t>Зрожевского Яро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Юрий Алексеевич Гагарин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5300640"/>
            <a:ext cx="8229600" cy="118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 человек, совершивший полёт в кос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7"/>
          <p:cNvGrpSpPr/>
          <p:nvPr/>
        </p:nvGrpSpPr>
        <p:grpSpPr>
          <a:xfrm>
            <a:off x="611280" y="1341360"/>
            <a:ext cx="7967520" cy="3600360"/>
            <a:chOff x="611280" y="1341360"/>
            <a:chExt cx="7967520" cy="3600360"/>
          </a:xfrm>
        </p:grpSpPr>
        <p:pic>
          <p:nvPicPr>
            <p:cNvPr id="77" name="Picture 5" descr="13"/>
            <p:cNvPicPr/>
            <p:nvPr/>
          </p:nvPicPr>
          <p:blipFill>
            <a:blip r:embed="rId2"/>
            <a:stretch/>
          </p:blipFill>
          <p:spPr>
            <a:xfrm>
              <a:off x="5591160" y="1341360"/>
              <a:ext cx="2987640" cy="360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78" name="Picture 6" descr="14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4465440" cy="3587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4149720"/>
            <a:ext cx="8207280" cy="2448000"/>
          </a:xfrm>
          <a:prstGeom prst="rect">
            <a:avLst/>
          </a:prstGeom>
          <a:solidFill>
            <a:srgbClr val="ccccff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 корабле «Восток-1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12 апреля 1961 года лётчик-космонавт СССР Ю. А. Гагарин совершил первый в мире полёт в кос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кое пространство. Корабль совершил один оборот вокруг Земли за 108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4"/>
          <p:cNvGrpSpPr/>
          <p:nvPr/>
        </p:nvGrpSpPr>
        <p:grpSpPr>
          <a:xfrm>
            <a:off x="826920" y="404640"/>
            <a:ext cx="7272360" cy="3600720"/>
            <a:chOff x="826920" y="404640"/>
            <a:chExt cx="7272360" cy="3600720"/>
          </a:xfrm>
        </p:grpSpPr>
        <p:pic>
          <p:nvPicPr>
            <p:cNvPr id="82" name="Picture 9" descr="24"/>
            <p:cNvPicPr/>
            <p:nvPr/>
          </p:nvPicPr>
          <p:blipFill>
            <a:blip r:embed="rId2"/>
            <a:stretch/>
          </p:blipFill>
          <p:spPr>
            <a:xfrm>
              <a:off x="826920" y="404640"/>
              <a:ext cx="2643480" cy="3600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83" name="Picture 13" descr="Рисунок1"/>
            <p:cNvPicPr/>
            <p:nvPr/>
          </p:nvPicPr>
          <p:blipFill>
            <a:blip r:embed="rId3"/>
            <a:stretch/>
          </p:blipFill>
          <p:spPr>
            <a:xfrm>
              <a:off x="4140360" y="404640"/>
              <a:ext cx="3958920" cy="35798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11280" y="1413000"/>
            <a:ext cx="4465800" cy="4464000"/>
          </a:xfrm>
          <a:prstGeom prst="rect">
            <a:avLst/>
          </a:prstGeom>
          <a:solidFill>
            <a:srgbClr val="b7cfff"/>
          </a:solidFill>
          <a:ln w="38160">
            <a:solidFill>
              <a:srgbClr val="66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Ракета-носител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водит на орбиту космический корабль, который укреплён в голове ракеты. А ниже располагаются ступени, в которых есть свои двигатели и свой запас топл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38"/>
          <p:cNvPicPr/>
          <p:nvPr/>
        </p:nvPicPr>
        <p:blipFill>
          <a:blip r:embed="rId2"/>
          <a:stretch/>
        </p:blipFill>
        <p:spPr>
          <a:xfrm>
            <a:off x="395280" y="981000"/>
            <a:ext cx="3562200" cy="5184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4581000"/>
            <a:ext cx="8075880" cy="2086200"/>
          </a:xfrm>
          <a:prstGeom prst="rect">
            <a:avLst/>
          </a:prstGeom>
          <a:solidFill>
            <a:srgbClr val="bafcd3"/>
          </a:solidFill>
          <a:ln w="38160">
            <a:solidFill>
              <a:srgbClr val="3399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В главном отсе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осмонавты стартуют с Земли. Отсюда они управляют кораблём, связываются с Землёй по радио. Это единственная часть корабля, которая возвращается на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41"/>
          <p:cNvPicPr/>
          <p:nvPr/>
        </p:nvPicPr>
        <p:blipFill>
          <a:blip r:embed="rId2"/>
          <a:stretch/>
        </p:blipFill>
        <p:spPr>
          <a:xfrm>
            <a:off x="3708360" y="404640"/>
            <a:ext cx="4824360" cy="404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90" name="Picture 7" descr="40"/>
          <p:cNvPicPr/>
          <p:nvPr/>
        </p:nvPicPr>
        <p:blipFill>
          <a:blip r:embed="rId3"/>
          <a:stretch/>
        </p:blipFill>
        <p:spPr>
          <a:xfrm>
            <a:off x="468360" y="333360"/>
            <a:ext cx="3024000" cy="20178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91" name="Picture 8" descr="37"/>
          <p:cNvPicPr/>
          <p:nvPr/>
        </p:nvPicPr>
        <p:blipFill>
          <a:blip r:embed="rId4"/>
          <a:stretch/>
        </p:blipFill>
        <p:spPr>
          <a:xfrm>
            <a:off x="468360" y="2421000"/>
            <a:ext cx="3024000" cy="2016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043520" cy="3816360"/>
          </a:xfrm>
          <a:prstGeom prst="rect">
            <a:avLst/>
          </a:prstGeom>
          <a:solidFill>
            <a:srgbClr val="ffff66"/>
          </a:solidFill>
          <a:ln w="38160">
            <a:solidFill>
              <a:srgbClr val="6666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своей каб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рез люк-лаз косм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вты попадаю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рбитальный отсе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есь они про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учные эксперим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9" descr="blog_ms3"/>
          <p:cNvPicPr/>
          <p:nvPr/>
        </p:nvPicPr>
        <p:blipFill>
          <a:blip r:embed="rId2"/>
          <a:stretch/>
        </p:blipFill>
        <p:spPr>
          <a:xfrm>
            <a:off x="468360" y="476280"/>
            <a:ext cx="3889440" cy="5856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5805000"/>
            <a:ext cx="7437600" cy="677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ят и  занимают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826920" y="476280"/>
            <a:ext cx="7405920" cy="5186160"/>
            <a:chOff x="826920" y="476280"/>
            <a:chExt cx="7405920" cy="5186160"/>
          </a:xfrm>
        </p:grpSpPr>
        <p:pic>
          <p:nvPicPr>
            <p:cNvPr id="98" name="Picture 4" descr="46"/>
            <p:cNvPicPr/>
            <p:nvPr/>
          </p:nvPicPr>
          <p:blipFill>
            <a:blip r:embed="rId2"/>
            <a:stretch/>
          </p:blipFill>
          <p:spPr>
            <a:xfrm>
              <a:off x="826920" y="476280"/>
              <a:ext cx="3443400" cy="5184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99" name="Picture 5" descr="46"/>
            <p:cNvPicPr/>
            <p:nvPr/>
          </p:nvPicPr>
          <p:blipFill>
            <a:blip r:embed="rId3"/>
            <a:stretch/>
          </p:blipFill>
          <p:spPr>
            <a:xfrm>
              <a:off x="4788000" y="476280"/>
              <a:ext cx="3444840" cy="51861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4720" y="620640"/>
            <a:ext cx="4341600" cy="5616720"/>
          </a:xfrm>
          <a:prstGeom prst="rect">
            <a:avLst/>
          </a:prstGeom>
          <a:solidFill>
            <a:srgbClr val="cdab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орбитального отсека космонавты могут вый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ткрытый космо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ым человеком, который покинул космический корабль и шагнул в открытый космос, 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Алексей Ле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84360" y="404640"/>
            <a:ext cx="3090600" cy="6143760"/>
            <a:chOff x="684360" y="404640"/>
            <a:chExt cx="3090600" cy="6143760"/>
          </a:xfrm>
        </p:grpSpPr>
        <p:pic>
          <p:nvPicPr>
            <p:cNvPr id="103" name="Picture 4" descr="48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3024000" cy="2967120"/>
            </a:xfrm>
            <a:prstGeom prst="rect">
              <a:avLst/>
            </a:prstGeom>
            <a:ln w="38160">
              <a:solidFill>
                <a:srgbClr val="006666"/>
              </a:solidFill>
              <a:miter/>
            </a:ln>
          </p:spPr>
        </p:pic>
        <p:pic>
          <p:nvPicPr>
            <p:cNvPr id="104" name="Picture 5" descr="49"/>
            <p:cNvPicPr/>
            <p:nvPr/>
          </p:nvPicPr>
          <p:blipFill>
            <a:blip r:embed="rId3"/>
            <a:stretch/>
          </p:blipFill>
          <p:spPr>
            <a:xfrm>
              <a:off x="684360" y="3573360"/>
              <a:ext cx="3090600" cy="2975040"/>
            </a:xfrm>
            <a:prstGeom prst="rect">
              <a:avLst/>
            </a:prstGeom>
            <a:ln w="38160">
              <a:solidFill>
                <a:srgbClr val="0066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654440"/>
            <a:ext cx="8229600" cy="1943280"/>
          </a:xfrm>
          <a:prstGeom prst="rect">
            <a:avLst/>
          </a:prstGeom>
          <a:solidFill>
            <a:srgbClr val="adbff1"/>
          </a:solidFill>
          <a:ln w="381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космических кораблях возникает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остояние невесомост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при котором человек и окружающие его предметы теряют вес (становятся легче пушин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24000" y="1341360"/>
            <a:ext cx="8208720" cy="3014640"/>
            <a:chOff x="324000" y="1341360"/>
            <a:chExt cx="8208720" cy="3014640"/>
          </a:xfrm>
        </p:grpSpPr>
        <p:pic>
          <p:nvPicPr>
            <p:cNvPr id="108" name="Picture 4" descr="51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4032000" cy="29988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9" name="Picture 8" descr="52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032000" cy="30146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520720"/>
          </a:xfrm>
          <a:prstGeom prst="rect">
            <a:avLst/>
          </a:prstGeom>
          <a:solidFill>
            <a:srgbClr val="79ff79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дукты питания на космическом кораб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хранятся в тубах. Они похожи на тюбики с зубной пастой, только размером побольше. Из них еду выдавливают. В космическом доме есть холодильник и электрическ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1042920" y="549360"/>
            <a:ext cx="6985080" cy="3319200"/>
            <a:chOff x="1042920" y="549360"/>
            <a:chExt cx="6985080" cy="3319200"/>
          </a:xfrm>
        </p:grpSpPr>
        <p:pic>
          <p:nvPicPr>
            <p:cNvPr id="113" name="Picture 4" descr="Тубики"/>
            <p:cNvPicPr/>
            <p:nvPr/>
          </p:nvPicPr>
          <p:blipFill>
            <a:blip r:embed="rId2"/>
            <a:stretch/>
          </p:blipFill>
          <p:spPr>
            <a:xfrm>
              <a:off x="1042920" y="765000"/>
              <a:ext cx="217980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53"/>
            <p:cNvPicPr/>
            <p:nvPr/>
          </p:nvPicPr>
          <p:blipFill>
            <a:blip r:embed="rId3"/>
            <a:stretch/>
          </p:blipFill>
          <p:spPr>
            <a:xfrm>
              <a:off x="4284720" y="549360"/>
              <a:ext cx="3743280" cy="331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solidFill>
            <a:srgbClr val="ffd1a3"/>
          </a:solidFill>
          <a:ln w="381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Центр управления полёта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есто на Земле, откуда ведётся управление спутниками, космическими кораблями и межпланетными станц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50"/>
          <p:cNvPicPr/>
          <p:nvPr/>
        </p:nvPicPr>
        <p:blipFill>
          <a:blip r:embed="rId2"/>
          <a:stretch/>
        </p:blipFill>
        <p:spPr>
          <a:xfrm>
            <a:off x="1692360" y="404640"/>
            <a:ext cx="5664240" cy="42483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“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Человечество не останется вечно на земле, но, в погоне за светом и пространством, сначала робко проникнет за пределы атмосферы, а затем робко завоюет себе все околосолнечное пространство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К. Циол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4221000"/>
            <a:ext cx="8713800" cy="2376720"/>
          </a:xfrm>
          <a:prstGeom prst="rect">
            <a:avLst/>
          </a:prstGeom>
          <a:solidFill>
            <a:srgbClr val="ccff99"/>
          </a:solidFill>
          <a:ln w="38160">
            <a:solidFill>
              <a:srgbClr val="99cc00"/>
            </a:solidFill>
            <a:miter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в все задания, космонавты возвращ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на Землю.  Ненужные отсеки отделяютс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горают в атмосфере. Недалеко от Земли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ывается парашют, чтобы смягчить удар кора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я о земную поверх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324000" y="333360"/>
            <a:ext cx="8565840" cy="3743280"/>
            <a:chOff x="324000" y="333360"/>
            <a:chExt cx="8565840" cy="3743280"/>
          </a:xfrm>
        </p:grpSpPr>
        <p:pic>
          <p:nvPicPr>
            <p:cNvPr id="121" name="Picture 4" descr="59"/>
            <p:cNvPicPr/>
            <p:nvPr/>
          </p:nvPicPr>
          <p:blipFill>
            <a:blip r:embed="rId2"/>
            <a:stretch/>
          </p:blipFill>
          <p:spPr>
            <a:xfrm>
              <a:off x="324000" y="333360"/>
              <a:ext cx="2928960" cy="3743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" name="Picture 5" descr="60"/>
            <p:cNvPicPr/>
            <p:nvPr/>
          </p:nvPicPr>
          <p:blipFill>
            <a:blip r:embed="rId3"/>
            <a:stretch/>
          </p:blipFill>
          <p:spPr>
            <a:xfrm>
              <a:off x="3348000" y="333360"/>
              <a:ext cx="5541840" cy="3711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608360" cy="4176720"/>
          </a:xfrm>
          <a:prstGeom prst="rect">
            <a:avLst/>
          </a:prstGeom>
          <a:solidFill>
            <a:srgbClr val="adbff1"/>
          </a:solidFill>
          <a:ln w="381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год 12 апреля в н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не отме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ень космонавтик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знаменование первого полё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а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61"/>
          <p:cNvPicPr/>
          <p:nvPr/>
        </p:nvPicPr>
        <p:blipFill>
          <a:blip r:embed="rId2"/>
          <a:stretch/>
        </p:blipFill>
        <p:spPr>
          <a:xfrm>
            <a:off x="324000" y="1052640"/>
            <a:ext cx="3671640" cy="5041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Объект 4" descr=""/>
          <p:cNvPicPr/>
          <p:nvPr/>
        </p:nvPicPr>
        <p:blipFill>
          <a:blip r:embed="rId1"/>
          <a:stretch/>
        </p:blipFill>
        <p:spPr>
          <a:xfrm>
            <a:off x="444600" y="1584360"/>
            <a:ext cx="83390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9447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шу Землю вместе с воздушной оболочкой окружает бесконечно большое пространство. Это космос. В нём находятся небесные тела: Солнце, звёзды, планеты,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2"/>
          <a:stretch/>
        </p:blipFill>
        <p:spPr>
          <a:xfrm>
            <a:off x="1619280" y="404640"/>
            <a:ext cx="5995800" cy="3978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25920" y="1197000"/>
            <a:ext cx="5122800" cy="4896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ротяжении многих веков людей манил космос своими тайнами и загадками. Человечество задавало себе многие вопросы о космосе, на которые не было ответов. Люди пытались познать тайный космос, постепенно накапливая знания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539640" y="333360"/>
            <a:ext cx="2784600" cy="5977080"/>
            <a:chOff x="539640" y="333360"/>
            <a:chExt cx="2784600" cy="5977080"/>
          </a:xfrm>
        </p:grpSpPr>
        <p:pic>
          <p:nvPicPr>
            <p:cNvPr id="53" name="Picture 4" descr="10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2664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11"/>
            <p:cNvPicPr/>
            <p:nvPr/>
          </p:nvPicPr>
          <p:blipFill>
            <a:blip r:embed="rId3"/>
            <a:stretch/>
          </p:blipFill>
          <p:spPr>
            <a:xfrm>
              <a:off x="539640" y="3068640"/>
              <a:ext cx="2784600" cy="3241800"/>
            </a:xfrm>
            <a:prstGeom prst="rect">
              <a:avLst/>
            </a:prstGeom>
            <a:ln w="28440">
              <a:solidFill>
                <a:srgbClr val="6699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4005000"/>
            <a:ext cx="8282160" cy="2663640"/>
          </a:xfrm>
          <a:prstGeom prst="rect">
            <a:avLst/>
          </a:prstGeom>
          <a:solidFill>
            <a:srgbClr val="dfda00"/>
          </a:soli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ервой в космосе побывала собака Лайк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Для неё построили специальную ракету, где был запас пищи, воды и возд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 ноября 1959 года на Лайку надели специальный скафандр, и ракета умчала её в косм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19"/>
          <p:cNvPicPr/>
          <p:nvPr/>
        </p:nvPicPr>
        <p:blipFill>
          <a:blip r:embed="rId2"/>
          <a:stretch/>
        </p:blipFill>
        <p:spPr>
          <a:xfrm>
            <a:off x="1547640" y="404640"/>
            <a:ext cx="5977080" cy="3486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353440" cy="2160720"/>
          </a:xfrm>
          <a:prstGeom prst="rect">
            <a:avLst/>
          </a:prstGeom>
          <a:solidFill>
            <a:srgbClr val="ffb7b7"/>
          </a:solidFill>
          <a:ln w="38160">
            <a:solidFill>
              <a:srgbClr val="ff66cc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9 августа 1960 — совершён первый в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битальный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лё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космос живых существ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спешным возвращением на Земл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или собаки Белка и Стр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8"/>
          <p:cNvPicPr/>
          <p:nvPr/>
        </p:nvPicPr>
        <p:blipFill>
          <a:blip r:embed="rId2"/>
          <a:stretch/>
        </p:blipFill>
        <p:spPr>
          <a:xfrm>
            <a:off x="1763640" y="333360"/>
            <a:ext cx="53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210440" cy="2260440"/>
          </a:xfrm>
          <a:prstGeom prst="rect">
            <a:avLst/>
          </a:prstGeom>
          <a:solidFill>
            <a:srgbClr val="cc99ff"/>
          </a:solidFill>
          <a:ln w="3816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ачала его в центрифуге крут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после в тяжёлый скафандр наряд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правился он полетать среди звё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тоже хочу! Говорят, не до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fffff"/>
          <p:cNvPicPr/>
          <p:nvPr/>
        </p:nvPicPr>
        <p:blipFill>
          <a:blip r:embed="rId2"/>
          <a:stretch/>
        </p:blipFill>
        <p:spPr>
          <a:xfrm>
            <a:off x="5076720" y="4005360"/>
            <a:ext cx="33148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9"/>
          <p:cNvGrpSpPr/>
          <p:nvPr/>
        </p:nvGrpSpPr>
        <p:grpSpPr>
          <a:xfrm>
            <a:off x="1476360" y="1268280"/>
            <a:ext cx="6120000" cy="4105440"/>
            <a:chOff x="1476360" y="1268280"/>
            <a:chExt cx="6120000" cy="4105440"/>
          </a:xfrm>
        </p:grpSpPr>
        <p:pic>
          <p:nvPicPr>
            <p:cNvPr id="65" name="Picture 5" descr="8"/>
            <p:cNvPicPr/>
            <p:nvPr/>
          </p:nvPicPr>
          <p:blipFill>
            <a:blip r:embed="rId3"/>
            <a:stretch/>
          </p:blipFill>
          <p:spPr>
            <a:xfrm>
              <a:off x="1547640" y="1268280"/>
              <a:ext cx="5988240" cy="39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8"/>
            <p:cNvSpPr/>
            <p:nvPr/>
          </p:nvSpPr>
          <p:spPr>
            <a:xfrm>
              <a:off x="1476360" y="4437000"/>
              <a:ext cx="612000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" name="Text Box 11"/>
          <p:cNvSpPr/>
          <p:nvPr/>
        </p:nvSpPr>
        <p:spPr>
          <a:xfrm>
            <a:off x="3101760" y="458136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104200" y="5734080"/>
            <a:ext cx="4829040" cy="581400"/>
          </a:xfrm>
          <a:prstGeom prst="rect">
            <a:avLst/>
          </a:prstGeom>
          <a:solidFill>
            <a:srgbClr val="ffcccc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то такие космонавт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4546440" cy="3744720"/>
          </a:xfrm>
          <a:prstGeom prst="rect">
            <a:avLst/>
          </a:prstGeom>
          <a:solidFill>
            <a:srgbClr val="33ccff"/>
          </a:solidFill>
          <a:ln w="38160">
            <a:solidFill>
              <a:srgbClr val="6666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онавт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астронавт) — человек, соверши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ий космический полёт и проводящий в полёте испытания и эксплуатацию космической тех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32600" y="4581360"/>
            <a:ext cx="4440240" cy="155628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зовут перв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онавта и 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полетел в космос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8" descr="Русский космонавт"/>
          <p:cNvPicPr/>
          <p:nvPr/>
        </p:nvPicPr>
        <p:blipFill>
          <a:blip r:embed="rId2"/>
          <a:stretch/>
        </p:blipFill>
        <p:spPr>
          <a:xfrm>
            <a:off x="5292720" y="1125360"/>
            <a:ext cx="3394080" cy="468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Ракета 4"/>
          <p:cNvPicPr/>
          <p:nvPr/>
        </p:nvPicPr>
        <p:blipFill>
          <a:blip r:embed="rId3"/>
          <a:stretch/>
        </p:blipFill>
        <p:spPr>
          <a:xfrm>
            <a:off x="4971960" y="3141720"/>
            <a:ext cx="37450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4:10:58Z</dcterms:created>
  <dc:creator>мама</dc:creator>
  <dc:description/>
  <dc:language>en-US</dc:language>
  <cp:lastModifiedBy>uzer</cp:lastModifiedBy>
  <cp:lastPrinted>2015-02-11T18:27:32Z</cp:lastPrinted>
  <dcterms:modified xsi:type="dcterms:W3CDTF">2019-01-03T11:53:49Z</dcterms:modified>
  <cp:revision>23</cp:revision>
  <dc:subject/>
  <dc:title>Слайд 1</dc:title>
</cp:coreProperties>
</file>