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8.jpeg" ContentType="image/jpeg"/>
  <Override PartName="/ppt/media/image5.jpeg" ContentType="image/jpeg"/>
  <Override PartName="/ppt/media/image26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8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CB0-8ADE-48A2-9E96-DF7345D3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174-795F-4422-8D12-469306A6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C07-4042-4E1E-8AA3-89E29D2F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F14-49BD-470D-B4F5-21EADD3C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19E-DF0C-4344-B9AE-5A4E69AB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465-1693-406E-BAFE-7238723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1AA-0C09-416E-A8D5-36BECEB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0CE-D510-4FDC-ADF2-844AB7F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FC1-84A8-443B-A2BC-A0611110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854-0610-42C7-A000-846A8E7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740-6BCB-4FC6-A183-7FB2F7A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847-DC69-46F7-907A-2BB2E3D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FB71-3A93-4AE4-AE72-3643F423D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b050"/>
                </a:solidFill>
                <a:latin typeface="Cambria Math"/>
                <a:ea typeface="Cambria Math"/>
              </a:rPr>
              <a:t>Проектная рабо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b050"/>
                </a:solidFill>
                <a:latin typeface="Cambria Math"/>
                <a:ea typeface="Cambria Math"/>
              </a:rPr>
              <a:t>Ученика 2 б класс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b050"/>
                </a:solidFill>
                <a:latin typeface="Cambria Math"/>
                <a:ea typeface="Cambria Math"/>
              </a:rPr>
              <a:t>Зрожевского Яро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77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78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8207280" cy="2448000"/>
          </a:xfrm>
          <a:prstGeom prst="rect">
            <a:avLst/>
          </a:prstGeom>
          <a:solidFill>
            <a:srgbClr val="ccccff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 корабле «Восток-1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2 апреля 1961 года лётчик-космонавт СССР Ю. А. Гагарин совершил первый в мире полёт в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ое пространство. Корабль совершил один оборот вокруг Земли за 108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826920" y="404640"/>
            <a:ext cx="7272360" cy="3600720"/>
            <a:chOff x="826920" y="404640"/>
            <a:chExt cx="7272360" cy="3600720"/>
          </a:xfrm>
        </p:grpSpPr>
        <p:pic>
          <p:nvPicPr>
            <p:cNvPr id="82" name="Picture 9" descr="24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2643480" cy="3600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3" name="Picture 13" descr="Рисунок1"/>
            <p:cNvPicPr/>
            <p:nvPr/>
          </p:nvPicPr>
          <p:blipFill>
            <a:blip r:embed="rId3"/>
            <a:stretch/>
          </p:blipFill>
          <p:spPr>
            <a:xfrm>
              <a:off x="4140360" y="404640"/>
              <a:ext cx="3958920" cy="35798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11280" y="1413000"/>
            <a:ext cx="4465800" cy="4464000"/>
          </a:xfrm>
          <a:prstGeom prst="rect">
            <a:avLst/>
          </a:prstGeom>
          <a:solidFill>
            <a:srgbClr val="b7cfff"/>
          </a:solidFill>
          <a:ln w="38160">
            <a:solidFill>
              <a:srgbClr val="66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Ракета-носител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ит на орбиту космический корабль, который укреплён в голове ракеты. А ниже располагаются ступени, в которых есть свои двигатели и свой запас топ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38"/>
          <p:cNvPicPr/>
          <p:nvPr/>
        </p:nvPicPr>
        <p:blipFill>
          <a:blip r:embed="rId2"/>
          <a:stretch/>
        </p:blipFill>
        <p:spPr>
          <a:xfrm>
            <a:off x="395280" y="981000"/>
            <a:ext cx="3562200" cy="518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4581000"/>
            <a:ext cx="8075880" cy="2086200"/>
          </a:xfrm>
          <a:prstGeom prst="rect">
            <a:avLst/>
          </a:prstGeom>
          <a:solidFill>
            <a:srgbClr val="bafcd3"/>
          </a:soli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В главном отсе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осмонавты стартуют с Земли. Отсюда они управляют кораблём, связываются с Землёй по радио. Это единственная часть корабля, которая возвращается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41"/>
          <p:cNvPicPr/>
          <p:nvPr/>
        </p:nvPicPr>
        <p:blipFill>
          <a:blip r:embed="rId2"/>
          <a:stretch/>
        </p:blipFill>
        <p:spPr>
          <a:xfrm>
            <a:off x="3708360" y="404640"/>
            <a:ext cx="4824360" cy="404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90" name="Picture 7" descr="40"/>
          <p:cNvPicPr/>
          <p:nvPr/>
        </p:nvPicPr>
        <p:blipFill>
          <a:blip r:embed="rId3"/>
          <a:stretch/>
        </p:blipFill>
        <p:spPr>
          <a:xfrm>
            <a:off x="468360" y="333360"/>
            <a:ext cx="3024000" cy="2017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91" name="Picture 8" descr="37"/>
          <p:cNvPicPr/>
          <p:nvPr/>
        </p:nvPicPr>
        <p:blipFill>
          <a:blip r:embed="rId4"/>
          <a:stretch/>
        </p:blipFill>
        <p:spPr>
          <a:xfrm>
            <a:off x="468360" y="2421000"/>
            <a:ext cx="3024000" cy="201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43520" cy="3816360"/>
          </a:xfrm>
          <a:prstGeom prst="rect">
            <a:avLst/>
          </a:prstGeom>
          <a:solidFill>
            <a:srgbClr val="ffff66"/>
          </a:solidFill>
          <a:ln w="3816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своей каб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люк-лаз косм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вты попадаю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рбитальный отсе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есь они про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ные эксперим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blog_ms3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856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98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99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орбитального отсека космонавты могут вый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ткрытый космо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ым человеком, который покинул космический корабль и шагнул в открытый космос,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03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04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08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9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хранятся в тубах. Они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13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solidFill>
            <a:srgbClr val="ffd1a3"/>
          </a:solidFill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ентр управления полёта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есто на Земле, откуда ведётся управление спутниками, космическими кораблями и межпланетными станц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50"/>
          <p:cNvPicPr/>
          <p:nvPr/>
        </p:nvPicPr>
        <p:blipFill>
          <a:blip r:embed="rId2"/>
          <a:stretch/>
        </p:blipFill>
        <p:spPr>
          <a:xfrm>
            <a:off x="1692360" y="404640"/>
            <a:ext cx="5664240" cy="42483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“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Человечество не останется вечно на земле, но, в погоне за светом и пространством, сначала робко проникнет за пределы атмосферы, а затем робко завоюет себе все околосолнечное пространство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К. Циол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на Землю.  Ненужные отсеки отделяю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горают в атмосфере. Недалеко от Земли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ывается парашют, чтобы смягчить удар кора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я о земную 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21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608360" cy="4176720"/>
          </a:xfrm>
          <a:prstGeom prst="rect">
            <a:avLst/>
          </a:prstGeom>
          <a:solidFill>
            <a:srgbClr val="adbff1"/>
          </a:solidFill>
          <a:ln w="381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год 12 апреля в н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ень космонавтик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знаменование первого полё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а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61"/>
          <p:cNvPicPr/>
          <p:nvPr/>
        </p:nvPicPr>
        <p:blipFill>
          <a:blip r:embed="rId2"/>
          <a:stretch/>
        </p:blipFill>
        <p:spPr>
          <a:xfrm>
            <a:off x="324000" y="1052640"/>
            <a:ext cx="3671640" cy="5041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4" descr=""/>
          <p:cNvPicPr/>
          <p:nvPr/>
        </p:nvPicPr>
        <p:blipFill>
          <a:blip r:embed="rId1"/>
          <a:stretch/>
        </p:blipFill>
        <p:spPr>
          <a:xfrm>
            <a:off x="444600" y="1584360"/>
            <a:ext cx="83390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шу Землю вместе с воздушной оболочкой окружает бесконечно большое пространство. Это космос. В нём находятся небесные тела: Солнце, звёзды, планеты,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2"/>
          <a:stretch/>
        </p:blipFill>
        <p:spPr>
          <a:xfrm>
            <a:off x="1619280" y="404640"/>
            <a:ext cx="5995800" cy="3978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25920" y="1197000"/>
            <a:ext cx="5122800" cy="4896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отяжении многих веков людей манил космос своими тайнами и загадками. Человечество задавало себе многие вопросы о космосе, на которые не было ответов. Люди пытались познать тайный космос, постепенно накапливая знания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539640" y="333360"/>
            <a:ext cx="2784600" cy="5977080"/>
            <a:chOff x="539640" y="333360"/>
            <a:chExt cx="2784600" cy="5977080"/>
          </a:xfrm>
        </p:grpSpPr>
        <p:pic>
          <p:nvPicPr>
            <p:cNvPr id="53" name="Picture 4" descr="10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2664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11"/>
            <p:cNvPicPr/>
            <p:nvPr/>
          </p:nvPicPr>
          <p:blipFill>
            <a:blip r:embed="rId3"/>
            <a:stretch/>
          </p:blipFill>
          <p:spPr>
            <a:xfrm>
              <a:off x="539640" y="3068640"/>
              <a:ext cx="2784600" cy="3241800"/>
            </a:xfrm>
            <a:prstGeom prst="rect">
              <a:avLst/>
            </a:prstGeom>
            <a:ln w="28440">
              <a:solidFill>
                <a:srgbClr val="6699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82160" cy="2663640"/>
          </a:xfrm>
          <a:prstGeom prst="rect">
            <a:avLst/>
          </a:prstGeom>
          <a:solidFill>
            <a:srgbClr val="dfda00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ервой в космосе побывала собака Лайк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ля неё построили специальную ракету, где был запас пищи, воды и возд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 ноября 1959 года на Лайку надели специальный скафандр, и ракета умчала её в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9"/>
          <p:cNvPicPr/>
          <p:nvPr/>
        </p:nvPicPr>
        <p:blipFill>
          <a:blip r:embed="rId2"/>
          <a:stretch/>
        </p:blipFill>
        <p:spPr>
          <a:xfrm>
            <a:off x="1547640" y="404640"/>
            <a:ext cx="5977080" cy="3486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210440" cy="22604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ачала его в центрифуге крут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после в тяжёлый скафандр наряд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правился он полетать среди звё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тоже хочу! Говорят, не до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fffff"/>
          <p:cNvPicPr/>
          <p:nvPr/>
        </p:nvPicPr>
        <p:blipFill>
          <a:blip r:embed="rId2"/>
          <a:stretch/>
        </p:blipFill>
        <p:spPr>
          <a:xfrm>
            <a:off x="5076720" y="4005360"/>
            <a:ext cx="33148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9"/>
          <p:cNvGrpSpPr/>
          <p:nvPr/>
        </p:nvGrpSpPr>
        <p:grpSpPr>
          <a:xfrm>
            <a:off x="1476360" y="1268280"/>
            <a:ext cx="6120000" cy="4105440"/>
            <a:chOff x="1476360" y="1268280"/>
            <a:chExt cx="6120000" cy="4105440"/>
          </a:xfrm>
        </p:grpSpPr>
        <p:pic>
          <p:nvPicPr>
            <p:cNvPr id="65" name="Picture 5" descr="8"/>
            <p:cNvPicPr/>
            <p:nvPr/>
          </p:nvPicPr>
          <p:blipFill>
            <a:blip r:embed="rId3"/>
            <a:stretch/>
          </p:blipFill>
          <p:spPr>
            <a:xfrm>
              <a:off x="1547640" y="1268280"/>
              <a:ext cx="5988240" cy="39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8"/>
            <p:cNvSpPr/>
            <p:nvPr/>
          </p:nvSpPr>
          <p:spPr>
            <a:xfrm>
              <a:off x="1476360" y="4437000"/>
              <a:ext cx="612000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" name="Text Box 11"/>
          <p:cNvSpPr/>
          <p:nvPr/>
        </p:nvSpPr>
        <p:spPr>
          <a:xfrm>
            <a:off x="3101760" y="458136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104200" y="5734080"/>
            <a:ext cx="4829040" cy="581400"/>
          </a:xfrm>
          <a:prstGeom prst="rect">
            <a:avLst/>
          </a:prstGeom>
          <a:solidFill>
            <a:srgbClr val="ffcccc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такие космонав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4546440" cy="3744720"/>
          </a:xfrm>
          <a:prstGeom prst="rect">
            <a:avLst/>
          </a:prstGeom>
          <a:solidFill>
            <a:srgbClr val="33ccff"/>
          </a:solidFill>
          <a:ln w="38160">
            <a:solidFill>
              <a:srgbClr val="6666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онавт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стронавт) — человек, соверши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й космический полёт и проводящий в полёте испытания и эксплуатацию космической тех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32600" y="4581360"/>
            <a:ext cx="4440240" cy="155628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овут перв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а и 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олетел в космос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8" descr="Русский космонавт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68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Ракета 4"/>
          <p:cNvPicPr/>
          <p:nvPr/>
        </p:nvPicPr>
        <p:blipFill>
          <a:blip r:embed="rId3"/>
          <a:stretch/>
        </p:blipFill>
        <p:spPr>
          <a:xfrm>
            <a:off x="4971960" y="3141720"/>
            <a:ext cx="37450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uzer</cp:lastModifiedBy>
  <cp:lastPrinted>2015-02-11T18:27:32Z</cp:lastPrinted>
  <dcterms:modified xsi:type="dcterms:W3CDTF">2019-01-03T11:53:49Z</dcterms:modified>
  <cp:revision>23</cp:revision>
  <dc:subject/>
  <dc:title>Слайд 1</dc:title>
</cp:coreProperties>
</file>