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FD7-1C24-4149-95C1-2DBF3181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5A1-6E34-4271-9DE3-1918B17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FE8-1F3A-4CDE-8EA8-370D757E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E34-319F-4259-BA93-854D9E9A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37E-C410-49A0-A68A-6948AFBF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637-5B54-48B2-BD55-6B6287D0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33F-217C-456E-AF35-7D0565D6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1D0-582D-44BC-A5E9-8520AE21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EC3-128C-41C6-8CB6-7CDDAF1C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CFB-15C7-4BFA-944E-8C73040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314-9769-4AB6-AA21-E80E4A5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9F7-35E3-4501-A936-B8B6950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ffff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78DE-92CD-4735-9290-766A7A8CF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-458640"/>
            <a:ext cx="7772400" cy="22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Социально-экологический 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196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00"/>
                </a:solidFill>
                <a:latin typeface="Arial"/>
              </a:rPr>
              <a:t>Эко - мир моей семьи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294991"/>
          <p:cNvPicPr/>
          <p:nvPr/>
        </p:nvPicPr>
        <p:blipFill>
          <a:blip r:embed="rId1"/>
          <a:stretch/>
        </p:blipFill>
        <p:spPr>
          <a:xfrm>
            <a:off x="1403280" y="2133720"/>
            <a:ext cx="6553440" cy="4390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294991"/>
          <p:cNvPicPr/>
          <p:nvPr/>
        </p:nvPicPr>
        <p:blipFill>
          <a:blip r:embed="rId2"/>
          <a:stretch/>
        </p:blipFill>
        <p:spPr>
          <a:xfrm>
            <a:off x="1428840" y="2467080"/>
            <a:ext cx="6553080" cy="4390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J0294991"/>
          <p:cNvPicPr/>
          <p:nvPr/>
        </p:nvPicPr>
        <p:blipFill>
          <a:blip r:embed="rId3"/>
          <a:stretch/>
        </p:blipFill>
        <p:spPr>
          <a:xfrm>
            <a:off x="1428840" y="2467080"/>
            <a:ext cx="6553080" cy="439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J0294991"/>
          <p:cNvPicPr/>
          <p:nvPr/>
        </p:nvPicPr>
        <p:blipFill>
          <a:blip r:embed="rId4"/>
          <a:stretch/>
        </p:blipFill>
        <p:spPr>
          <a:xfrm>
            <a:off x="1581120" y="2214720"/>
            <a:ext cx="6553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Бл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Экологическая тропа моей семь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: Воспитывать бережное 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к окружающей сре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1. Семейный экологический дес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Чистый бере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2.Провести беседу о безопас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поведении на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3.Экскурсия на «Черемошни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4.Поход на «школьную» поля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5.Посадить саженцы на терри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6.Изготовление кормушек  и сквореч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для пт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7.Создание « живого» уголка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J0090149"/>
          <p:cNvPicPr/>
          <p:nvPr/>
        </p:nvPicPr>
        <p:blipFill>
          <a:blip r:embed="rId1"/>
          <a:stretch/>
        </p:blipFill>
        <p:spPr>
          <a:xfrm>
            <a:off x="7380360" y="333360"/>
            <a:ext cx="1439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Блок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«Экология ду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Привить чувство прекрасного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искусству, к музы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через общение с прир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1.Беседа «Прекрасное рядом с н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2.Экскурсии в музей имени Сампилова,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музыкальную шко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3.Прививать интерес к стиха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рассказам о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4. Проведение конкурса стихов о прир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5. Проведение конкурс «Алло, мы и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таланты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6.Привлечение детей к занятиям танцев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кружка и музыкальной круж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7.Проведение Дня имени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E02282_"/>
          <p:cNvPicPr/>
          <p:nvPr/>
        </p:nvPicPr>
        <p:blipFill>
          <a:blip r:embed="rId1"/>
          <a:stretch/>
        </p:blipFill>
        <p:spPr>
          <a:xfrm>
            <a:off x="7093080" y="0"/>
            <a:ext cx="1582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Бл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«Экология начинается с улыб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оспитывать добро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к  окружающ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1.Провести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акцию «Да здравств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ежливос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2.Провести утренник «Ежели 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ежлив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3.Привлекать детей к семей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традици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4.Сделать поделки для детского са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5.Подготовить концерт для ветер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E00489_"/>
          <p:cNvPicPr/>
          <p:nvPr/>
        </p:nvPicPr>
        <p:blipFill>
          <a:blip r:embed="rId1"/>
          <a:stretch/>
        </p:blipFill>
        <p:spPr>
          <a:xfrm>
            <a:off x="7175520" y="189000"/>
            <a:ext cx="1644480" cy="151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PE00489_"/>
          <p:cNvPicPr/>
          <p:nvPr/>
        </p:nvPicPr>
        <p:blipFill>
          <a:blip r:embed="rId2"/>
          <a:stretch/>
        </p:blipFill>
        <p:spPr>
          <a:xfrm>
            <a:off x="7143840" y="0"/>
            <a:ext cx="1644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Блок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Экология гигие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Научить практическим навыкам соблюдения чистоты и порядка в доме, во дворе и личной гиги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1.Провести беседу «Режиму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дня – мы друз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2.Провести утренник «Чист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   –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залог здоров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3. Привлекать детей к поси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помощи по уборк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00015_"/>
          <p:cNvPicPr/>
          <p:nvPr/>
        </p:nvPicPr>
        <p:blipFill>
          <a:blip r:embed="rId1"/>
          <a:stretch/>
        </p:blipFill>
        <p:spPr>
          <a:xfrm>
            <a:off x="6948360" y="404640"/>
            <a:ext cx="187344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2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91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овышение экологической культуры 22 учеников и их семь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оведение 4 экскурс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оведение 5 различных конкур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Создание «живого» уг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ырастить 22 комнатных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осадить 15 сажен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Изготовить 10 кормушек и сквореч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Научить готовить простые б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Формирование туристических умени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Формирование нравственных и эстетических качеств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оспитание практической творческой деятельности по преобразованию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1100246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Улан-Удэ 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1060710"/>
          <p:cNvPicPr/>
          <p:nvPr/>
        </p:nvPicPr>
        <p:blipFill>
          <a:blip r:embed="rId1"/>
          <a:stretch/>
        </p:blipFill>
        <p:spPr>
          <a:xfrm>
            <a:off x="395280" y="333360"/>
            <a:ext cx="8075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607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10607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Экология( от греч.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ikos-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дом, жилище, местопребывание и …логия) наука об отношениях растений и животных организмов и образуемых сообществ между собой и с окружающе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Экология человека или социальная экология изучает закономерности взаимодействия общества и окружающей среды, а также проблемы её ох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Экологическая культура-умение взаимодействовать с природной и социальной средой, практической творческой деятельности по преобразованию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N00790_"/>
          <p:cNvPicPr/>
          <p:nvPr/>
        </p:nvPicPr>
        <p:blipFill>
          <a:blip r:embed="rId1"/>
          <a:stretch/>
        </p:blipFill>
        <p:spPr>
          <a:xfrm>
            <a:off x="7308720" y="189000"/>
            <a:ext cx="1584360" cy="2160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2843280" y="33336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Слова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1080458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10804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Воспитание экологической культуры младших школьников во взаимодействии двух образовательных сфер - семьи и шко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54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ключить родителей в процесс экологического воспитания младших школьников, формирование единой экологически воспитывающей среды «образовательное учреждение- дом (семья) ребён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2.    Обогатить жизненный опыт ребёнка примерами позитивного взаимодействия с окружающе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Развить эмоционально-чувственную сферу личности младшего школьника в процессе взаимодействия с объектами природной и социаль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8"/>
          <p:cNvSpPr/>
          <p:nvPr/>
        </p:nvSpPr>
        <p:spPr>
          <a:xfrm>
            <a:off x="32400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ритерии экологической культур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684360" y="148428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Взаимоотношение в семье и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тношение к окружающей природной сре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Экологически грамотное отношение к пит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тношение к нравственным качествам человека (доброта, любовь, взаимовыручка, и друг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Умение творчески преобразовать окружающий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Умение ценить прекрасное в искусстве и му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AG00120_"/>
          <p:cNvPicPr/>
          <p:nvPr/>
        </p:nvPicPr>
        <p:blipFill>
          <a:blip r:embed="rId1"/>
          <a:stretch/>
        </p:blipFill>
        <p:spPr>
          <a:xfrm>
            <a:off x="6804000" y="907920"/>
            <a:ext cx="1513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ематические бло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Arial"/>
              </a:rPr>
              <a:t>«Папа, мама и я – дружная семь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«Вкусно, полезно, красив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«Природа в нашем доме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«Экология душ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«Экологическая тропа моей семь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«Экология начинается с улыб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«Зол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Бл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«Папа, мама и я – дружная сем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Знакомство и сплочение семе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оставить программу кон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2. Раздать пригласительные открытки 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рограммой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3. Создать призовой фонд кон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4.Провести чаепитие и награждение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час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00146_"/>
          <p:cNvPicPr/>
          <p:nvPr/>
        </p:nvPicPr>
        <p:blipFill>
          <a:blip r:embed="rId1"/>
          <a:stretch/>
        </p:blipFill>
        <p:spPr>
          <a:xfrm>
            <a:off x="7667640" y="333360"/>
            <a:ext cx="11523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1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628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Бл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«Вкусно, полезно, красиво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Учить детей правильному и здоровому пит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1.Провести беседу на тему  «Не все полез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что красиво»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2. Провести конкурс мам «Эколог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кухн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3. Познакомить детей с правилами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4.Научить пользоваться электр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иборами, готовить простые б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J0234001"/>
          <p:cNvPicPr/>
          <p:nvPr/>
        </p:nvPicPr>
        <p:blipFill>
          <a:blip r:embed="rId1"/>
          <a:stretch/>
        </p:blipFill>
        <p:spPr>
          <a:xfrm>
            <a:off x="7093080" y="18900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136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Блок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«Природа в нашем дом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аучить ухаживать за домашними животными и раст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1.Провести конкурс рассказ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рисунков  «Мои любимцы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2.Провести беседу о польз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растений для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3.Установить дежурство ребят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уходу за цветами в клас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4.Вырастить цветок в горшке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озеленения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J0090089"/>
          <p:cNvPicPr/>
          <p:nvPr/>
        </p:nvPicPr>
        <p:blipFill>
          <a:blip r:embed="rId1"/>
          <a:stretch/>
        </p:blipFill>
        <p:spPr>
          <a:xfrm>
            <a:off x="6912000" y="189000"/>
            <a:ext cx="1908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3:25:30Z</dcterms:created>
  <dc:creator>OEM</dc:creator>
  <dc:description/>
  <dc:language>en-US</dc:language>
  <cp:lastModifiedBy>Баир Цыжибон</cp:lastModifiedBy>
  <dcterms:modified xsi:type="dcterms:W3CDTF">2019-01-03T12:55:27Z</dcterms:modified>
  <cp:revision>61</cp:revision>
  <dc:subject/>
  <dc:title>Проект</dc:title>
</cp:coreProperties>
</file>