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7.wmf" ContentType="image/x-wmf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BE60-AAD7-4BC8-8095-D3BE9F9A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1671-785B-4669-9D48-0E0462FA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14A1-D42F-4E92-9443-8F6640F63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B31B-8C7B-43C8-BF01-4E0256BE3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8CBF-3A63-4BF8-8DFC-08E49414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571D-8088-4C2D-9928-9EE011C6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8108-0085-4FEE-BC4B-BB0D857D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FCB9-53BF-4740-8372-EACC67E2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6493-AA0E-4518-AC3B-085D250B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7C53-ECA2-47E3-AD07-47D70DB5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781C-1C5F-440C-9554-FC70702D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A463-104C-4BCE-A451-2B373645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ffffff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C43F-B8E1-4F2D-9BE2-FE300FD545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-458640"/>
            <a:ext cx="7772400" cy="22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Arial"/>
              </a:rPr>
              <a:t>Социально-экологический  про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119664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9900"/>
                </a:solidFill>
                <a:latin typeface="Arial"/>
              </a:rPr>
              <a:t>Эко - мир моей семьи</a:t>
            </a: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J0294991"/>
          <p:cNvPicPr/>
          <p:nvPr/>
        </p:nvPicPr>
        <p:blipFill>
          <a:blip r:embed="rId1"/>
          <a:stretch/>
        </p:blipFill>
        <p:spPr>
          <a:xfrm>
            <a:off x="1403280" y="2133720"/>
            <a:ext cx="6553440" cy="4390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J0294991"/>
          <p:cNvPicPr/>
          <p:nvPr/>
        </p:nvPicPr>
        <p:blipFill>
          <a:blip r:embed="rId2"/>
          <a:stretch/>
        </p:blipFill>
        <p:spPr>
          <a:xfrm>
            <a:off x="1428840" y="2467080"/>
            <a:ext cx="6553080" cy="4390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J0294991"/>
          <p:cNvPicPr/>
          <p:nvPr/>
        </p:nvPicPr>
        <p:blipFill>
          <a:blip r:embed="rId3"/>
          <a:stretch/>
        </p:blipFill>
        <p:spPr>
          <a:xfrm>
            <a:off x="1428840" y="2467080"/>
            <a:ext cx="6553080" cy="4390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J0294991"/>
          <p:cNvPicPr/>
          <p:nvPr/>
        </p:nvPicPr>
        <p:blipFill>
          <a:blip r:embed="rId4"/>
          <a:stretch/>
        </p:blipFill>
        <p:spPr>
          <a:xfrm>
            <a:off x="1581120" y="2214720"/>
            <a:ext cx="65530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8900000"/>
          </a:gra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Бл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«Экологическая тропа моей семьи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Цель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: Воспитывать бережное отно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к окружающей сред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Задачи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1. Семейный экологический деса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«Чистый берег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2.Провести беседу о безопас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поведении на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3.Экскурсия на «Черемошник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4.Поход на «школьную» поля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5.Посадить саженцы на терри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6.Изготовление кормушек  и сквореч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для пти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7.Создание « живого» уголка в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J0090149"/>
          <p:cNvPicPr/>
          <p:nvPr/>
        </p:nvPicPr>
        <p:blipFill>
          <a:blip r:embed="rId1"/>
          <a:stretch/>
        </p:blipFill>
        <p:spPr>
          <a:xfrm>
            <a:off x="7380360" y="333360"/>
            <a:ext cx="143964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8900000"/>
          </a:gra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Блок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«Экология душ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Привить чувство прекрасного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искусству, к музы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через общение с приро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Задачи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1.Беседа «Прекрасное рядом с на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2.Экскурсии в музей имени Сампилова,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музыкальную школ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3.Прививать интерес к стихам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рассказам о при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4. Проведение конкурса стихов о приро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5. Проведение конкурс «Алло, мы ищ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таланты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6.Привлечение детей к занятиям танцеваль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кружка и музыкальной круж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7.Проведение Дня именин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PE02282_"/>
          <p:cNvPicPr/>
          <p:nvPr/>
        </p:nvPicPr>
        <p:blipFill>
          <a:blip r:embed="rId1"/>
          <a:stretch/>
        </p:blipFill>
        <p:spPr>
          <a:xfrm>
            <a:off x="7093080" y="0"/>
            <a:ext cx="15825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8900000"/>
          </a:gra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362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Бл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«Экология начинается с улыб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Воспитывать доброе отно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к  окружающ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Задачи:</a:t>
            </a:r>
            <a:r>
              <a:rPr b="0" lang="ru-RU" sz="2800" spc="-1" strike="noStrike">
                <a:solidFill>
                  <a:srgbClr val="0099ff"/>
                </a:solidFill>
                <a:latin typeface="Arial"/>
              </a:rPr>
              <a:t>1.Провести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 акцию «Да здравству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вежливость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2.Провести утренник «Ежели 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вежливы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99ff"/>
                </a:solidFill>
                <a:latin typeface="Arial"/>
              </a:rPr>
              <a:t>3.Привлекать детей к семейн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ff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0099ff"/>
                </a:solidFill>
                <a:latin typeface="Arial"/>
              </a:rPr>
              <a:t>традиция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ff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99ff"/>
                </a:solidFill>
                <a:latin typeface="Arial"/>
              </a:rPr>
              <a:t>4.Сделать поделки для детского са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ff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99ff"/>
                </a:solidFill>
                <a:latin typeface="Arial"/>
              </a:rPr>
              <a:t>5.Подготовить концерт для ветера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PE00489_"/>
          <p:cNvPicPr/>
          <p:nvPr/>
        </p:nvPicPr>
        <p:blipFill>
          <a:blip r:embed="rId1"/>
          <a:stretch/>
        </p:blipFill>
        <p:spPr>
          <a:xfrm>
            <a:off x="7175520" y="189000"/>
            <a:ext cx="1644480" cy="1511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PE00489_"/>
          <p:cNvPicPr/>
          <p:nvPr/>
        </p:nvPicPr>
        <p:blipFill>
          <a:blip r:embed="rId2"/>
          <a:stretch/>
        </p:blipFill>
        <p:spPr>
          <a:xfrm>
            <a:off x="7143840" y="0"/>
            <a:ext cx="16444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8900000"/>
          </a:gra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Блок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«Экология гигие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Цель:</a:t>
            </a:r>
            <a:r>
              <a:rPr b="0" lang="ru-RU" sz="2800" spc="-1" strike="noStrike">
                <a:solidFill>
                  <a:srgbClr val="0099ff"/>
                </a:solidFill>
                <a:latin typeface="Arial"/>
              </a:rPr>
              <a:t>   Научить практическим навыкам соблюдения чистоты и порядка в доме, во дворе и личной гиги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Задачи:</a:t>
            </a:r>
            <a:r>
              <a:rPr b="0" lang="ru-RU" sz="2800" spc="-1" strike="noStrike">
                <a:solidFill>
                  <a:srgbClr val="0099ff"/>
                </a:solidFill>
                <a:latin typeface="Arial"/>
              </a:rPr>
              <a:t> 1.Провести беседу «Режиму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ff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0099ff"/>
                </a:solidFill>
                <a:latin typeface="Arial"/>
              </a:rPr>
              <a:t>дня – мы друзь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ff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99ff"/>
                </a:solidFill>
                <a:latin typeface="Arial"/>
              </a:rPr>
              <a:t>2.Провести утренник «Чист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ff"/>
                </a:solidFill>
                <a:latin typeface="Arial"/>
              </a:rPr>
              <a:t>                    – </a:t>
            </a:r>
            <a:r>
              <a:rPr b="0" lang="ru-RU" sz="2800" spc="-1" strike="noStrike">
                <a:solidFill>
                  <a:srgbClr val="0099ff"/>
                </a:solidFill>
                <a:latin typeface="Arial"/>
              </a:rPr>
              <a:t>залог здоровь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ff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99ff"/>
                </a:solidFill>
                <a:latin typeface="Arial"/>
              </a:rPr>
              <a:t>3. Привлекать детей к посиль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ff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0099ff"/>
                </a:solidFill>
                <a:latin typeface="Arial"/>
              </a:rPr>
              <a:t>помощи по уборке д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AN00015_"/>
          <p:cNvPicPr/>
          <p:nvPr/>
        </p:nvPicPr>
        <p:blipFill>
          <a:blip r:embed="rId1"/>
          <a:stretch/>
        </p:blipFill>
        <p:spPr>
          <a:xfrm>
            <a:off x="6948360" y="404640"/>
            <a:ext cx="187344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2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8900000"/>
          </a:gra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050"/>
                </a:solidFill>
                <a:latin typeface="Arial"/>
              </a:rPr>
              <a:t>Ожидаемые результ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2915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Повышение экологической культуры 22 учеников и их семь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Проведение 4 экскурс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Проведение 5 различных конкур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Создание «живого» уго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Вырастить 22 комнатных 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Посадить 15 саженц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Изготовить 10 кормушек и сквореч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Научить готовить простые блю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Формирование туристических умений и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Формирование нравственных и эстетических качеств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Воспитание практической творческой деятельности по преобразованию окружающего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P1100246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Улан-Удэ 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P1060710"/>
          <p:cNvPicPr/>
          <p:nvPr/>
        </p:nvPicPr>
        <p:blipFill>
          <a:blip r:embed="rId1"/>
          <a:stretch/>
        </p:blipFill>
        <p:spPr>
          <a:xfrm>
            <a:off x="395280" y="333360"/>
            <a:ext cx="807552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P10607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P10607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8900000"/>
          </a:gra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Экология( от греч.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ikos-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дом, жилище, местопребывание и …логия) наука об отношениях растений и животных организмов и образуемых сообществ между собой и с окружающей сре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Экология человека или социальная экология изучает закономерности взаимодействия общества и окружающей среды, а также проблемы её ох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Экологическая культура-умение взаимодействовать с природной и социальной средой, практической творческой деятельности по преобразованию окружающего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AN00790_"/>
          <p:cNvPicPr/>
          <p:nvPr/>
        </p:nvPicPr>
        <p:blipFill>
          <a:blip r:embed="rId1"/>
          <a:stretch/>
        </p:blipFill>
        <p:spPr>
          <a:xfrm>
            <a:off x="7308720" y="189000"/>
            <a:ext cx="1584360" cy="2160360"/>
          </a:xfrm>
          <a:prstGeom prst="rect">
            <a:avLst/>
          </a:prstGeom>
          <a:ln w="0">
            <a:noFill/>
          </a:ln>
        </p:spPr>
      </p:pic>
      <p:sp>
        <p:nvSpPr>
          <p:cNvPr id="50" name="WordArt 5"/>
          <p:cNvSpPr txBox="1"/>
          <p:nvPr/>
        </p:nvSpPr>
        <p:spPr>
          <a:xfrm>
            <a:off x="2843280" y="333360"/>
            <a:ext cx="3024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latin typeface="Comic Sans MS"/>
              </a:rPr>
              <a:t>Словар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P1080458"/>
          <p:cNvPicPr/>
          <p:nvPr/>
        </p:nvPicPr>
        <p:blipFill>
          <a:blip r:embed="rId1"/>
          <a:stretch/>
        </p:blipFill>
        <p:spPr>
          <a:xfrm>
            <a:off x="0" y="0"/>
            <a:ext cx="9334440" cy="70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P10804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8900000"/>
          </a:gradFill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Воспитание экологической культуры младших школьников во взаимодействии двух образовательных сфер - семьи и школ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8900000"/>
          </a:gra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54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Включить родителей в процесс экологического воспитания младших школьников, формирование единой экологически воспитывающей среды «образовательное учреждение- дом (семья) ребён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2.    Обогатить жизненный опыт ребёнка примерами позитивного взаимодействия с окружающей сре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Развить эмоционально-чувственную сферу личности младшего школьника в процессе взаимодействия с объектами природной и социальной сре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8"/>
          <p:cNvSpPr/>
          <p:nvPr/>
        </p:nvSpPr>
        <p:spPr>
          <a:xfrm>
            <a:off x="324000" y="189000"/>
            <a:ext cx="8642160" cy="6480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8900000"/>
          </a:gra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Критерии экологической культуры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684360" y="1484280"/>
            <a:ext cx="820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Взаимоотношение в семье и общ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Отношение к окружающей природной сред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Экологически грамотное отношение к пит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Отношение к нравственным качествам человека (доброта, любовь, взаимовыручка, и друг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Умение творчески преобразовать окружающий ми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Умение ценить прекрасное в искусстве и музы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6" descr="AG00120_"/>
          <p:cNvPicPr/>
          <p:nvPr/>
        </p:nvPicPr>
        <p:blipFill>
          <a:blip r:embed="rId1"/>
          <a:stretch/>
        </p:blipFill>
        <p:spPr>
          <a:xfrm>
            <a:off x="6804000" y="907920"/>
            <a:ext cx="1513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8900000"/>
          </a:gra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Тематические бло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Arial"/>
              </a:rPr>
              <a:t>«Папа, мама и я – дружная семь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«Вкусно, полезно, красиво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«Природа в нашем доме»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«Экология душ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Arial"/>
              </a:rPr>
              <a:t>«Экологическая тропа моей семь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cc"/>
                </a:solidFill>
                <a:latin typeface="Arial"/>
              </a:rPr>
              <a:t>«Экология начинается с улыбк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«Золуш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8900000"/>
          </a:gra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8920" y="476280"/>
            <a:ext cx="8713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Бл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«Папа, мама и я – дружная семь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Знакомство и сплочение семей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Задачи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оставить программу конкур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                   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2. Раздать пригласительные открытки с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программой родител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                   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3. Создать призовой фонд конкур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                   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4.Провести чаепитие и награждение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учас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BD00146_"/>
          <p:cNvPicPr/>
          <p:nvPr/>
        </p:nvPicPr>
        <p:blipFill>
          <a:blip r:embed="rId1"/>
          <a:stretch/>
        </p:blipFill>
        <p:spPr>
          <a:xfrm>
            <a:off x="7667640" y="333360"/>
            <a:ext cx="115236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1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8900000"/>
          </a:gra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3628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Бл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«Вкусно, полезно, красиво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Учить детей правильному и здоровому пита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Задачи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1.Провести беседу на тему  «Не все полез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что красиво»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2. Провести конкурс мам «Эколог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кухн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3. Познакомить детей с правилами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за сто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4.Научить пользоваться электрическ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приборами, готовить простые блю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                                          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J0234001"/>
          <p:cNvPicPr/>
          <p:nvPr/>
        </p:nvPicPr>
        <p:blipFill>
          <a:blip r:embed="rId1"/>
          <a:stretch/>
        </p:blipFill>
        <p:spPr>
          <a:xfrm>
            <a:off x="7093080" y="18900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8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8900000"/>
          </a:gra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1360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Блок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«Природа в нашем доме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Научить ухаживать за домашними животными и расте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Задачи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1.Провести конкурс рассказов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рисунков  «Мои любимцы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2.Провести беседу о польз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растений для челове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3.Установить дежурство ребят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уходу за цветами в класс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4.Вырастить цветок в горшке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озеленения кла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J0090089"/>
          <p:cNvPicPr/>
          <p:nvPr/>
        </p:nvPicPr>
        <p:blipFill>
          <a:blip r:embed="rId1"/>
          <a:stretch/>
        </p:blipFill>
        <p:spPr>
          <a:xfrm>
            <a:off x="6912000" y="189000"/>
            <a:ext cx="1908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3:25:30Z</dcterms:created>
  <dc:creator>OEM</dc:creator>
  <dc:description/>
  <dc:language>en-US</dc:language>
  <cp:lastModifiedBy>Баир Цыжибон</cp:lastModifiedBy>
  <dcterms:modified xsi:type="dcterms:W3CDTF">2019-01-03T12:55:27Z</dcterms:modified>
  <cp:revision>61</cp:revision>
  <dc:subject/>
  <dc:title>Проект</dc:title>
</cp:coreProperties>
</file>