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2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3923-BB7A-4B1C-B48B-D8A746810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E33-8B2B-4A5D-9323-37AFACA1C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вадрате спрятаны 10 сл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codile, cat, owl, chicken, monkey, horse, dog, cow, duck, bi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йти и прочитать слова, прочитать слова по буквам. Для большей наглядности, слово можно выделять при помощи функции «выделение», после того как его нашли и прочитали учащиеся. После окончания работы со слайдом можно убрать все рукописные выделения при помощи функции «Удалить все рукописные данные с файл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69C5-ED4D-437A-9255-A078EDDD2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м задании учащимся предлагается восстановить порядок слов в слове, прочитать что получилось и назвать слово по буквам. Можно усложнить задание перепутав картинки, учащиеся должны будут не только угадать и назвать слово, но и соотнести его с картин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F013-7F7B-4952-8E9A-FA88C0116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исать картинку, используя глаго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cat can play the vio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этой картинки можно отрабатывать времена глаголов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Progressive, Past Progres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3C14-0022-41B9-B98B-6332CB61E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казать какие действия нереальны. Пример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se can’t fly. A dog can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A798-FB40-42F6-94AC-D2CCDFD86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ние: правильно задать вопрос и ответить на него. Как вариант этого задания: один из учащихся загадывает, что он умеет делать, другие учащиеся должны будут угадать правильно задавая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1: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you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2: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Yes, I can. (No, I can’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 учащийся, который угадывает, получает право самому загадать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531-6CDB-41FD-8EA7-EF30875E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F26-5EB1-4A53-AD45-411FFC31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F18-CB93-421B-B9A3-CD811E8D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9B2-E6B6-4A83-8EAD-32C1EBD8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83D-0C9F-438C-B0F7-16200C46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2FE-A501-40BF-8E26-CFCA6973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17A-2CF5-4E8D-BE29-8FF2F287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EB0-DB49-48E6-AB80-E5CA573C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8E3-C700-46A3-9F34-FA1A374B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D49-911E-4E15-9076-92FCF9D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97D-4EE5-4AC0-A37E-E3FDAA9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4FE-1D39-43E4-B719-979A918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roiko Y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060-36C7-4E5C-B166-6B3BD612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aforum.org.ua/userpix/1484_2491146_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.i.ua/oboi/pic/6/3/187336_0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bestgamer.ru/img/screenshots/4521/1_agassi_tennis_generation_2002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chernomore.bg/pictures/200809300911290.CHESS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203640" y="-747720"/>
            <a:ext cx="2533680" cy="357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«Игровые формы обучения при формирования коммуникативной компетенции в процессе изучения лексико-грамматического материала по теме «Спорт» и употребления глагола 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n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»,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с использованием информационно-коммуникационных технологи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71360" y="5105160"/>
            <a:ext cx="796428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днякова Екатерина Евгеньевна, учитель англий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Школа №16» г. Ряз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826920" y="-74772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"/>
          <p:cNvPicPr/>
          <p:nvPr/>
        </p:nvPicPr>
        <p:blipFill>
          <a:blip r:embed="rId4"/>
          <a:stretch/>
        </p:blipFill>
        <p:spPr>
          <a:xfrm>
            <a:off x="5867280" y="-674640"/>
            <a:ext cx="2533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) Girls and boys like to play this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y can play it on the sports grou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wo players play the g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layers have a very little white plastic ball and little racke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ildren have a big table to play this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5) Boys like to play this game in winter (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имой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have two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eams (</a:t>
            </a:r>
            <a:r>
              <a:rPr b="0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команды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)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f six play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play it on the skating rin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 I want to play table tennis with my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) He can play football and badminton very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) Children in America like to play baseball very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) You can swim in the swimming pool with y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5) We play basketball and volleyball in our school gy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Arial Black"/>
              </a:rPr>
              <a:t>Word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47640" y="836640"/>
          <a:ext cx="6096240" cy="517536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Arial Black"/>
              </a:rPr>
              <a:t>Look and spell the spor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bkesabt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                                      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olotaf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                                      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ten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cehs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-main-pic" descr="Картинка 83 из 536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19700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43 из 2083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184464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38 из 1166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8000" y="3500280"/>
            <a:ext cx="2663640" cy="200196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40 из 4277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59280" y="4581360"/>
            <a:ext cx="2663640" cy="2055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Arial Black"/>
              </a:rPr>
              <a:t>Describe the picture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2060640"/>
            <a:ext cx="5627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76360" y="2205000"/>
          <a:ext cx="5834160" cy="3768840"/>
        </p:xfrm>
        <a:graphic>
          <a:graphicData uri="http://schemas.openxmlformats.org/drawingml/2006/table">
            <a:tbl>
              <a:tblPr/>
              <a:tblGrid>
                <a:gridCol w="2449440"/>
                <a:gridCol w="33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s go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leph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s 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ab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8729640" y="4351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249" y="12085"/>
                </a:moveTo>
                <a:lnTo>
                  <a:pt x="24249" y="1208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58160" y="42354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4606" y="11767"/>
                </a:moveTo>
                <a:lnTo>
                  <a:pt x="24606" y="117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Arial"/>
              </a:rPr>
              <a:t>Tell what is real and unreal in their 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86652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29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lay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lay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s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08000" y="3573360"/>
            <a:ext cx="1342800" cy="107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1152720" cy="1124280"/>
          </a:xfrm>
          <a:prstGeom prst="rect">
            <a:avLst/>
          </a:prstGeom>
          <a:ln w="0">
            <a:noFill/>
          </a:ln>
        </p:spPr>
      </p:pic>
      <p:sp>
        <p:nvSpPr>
          <p:cNvPr id="72" name="Line 9"/>
          <p:cNvSpPr/>
          <p:nvPr/>
        </p:nvSpPr>
        <p:spPr>
          <a:xfrm>
            <a:off x="2124000" y="1916280"/>
            <a:ext cx="0" cy="4321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424240" y="3192480"/>
            <a:ext cx="9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924360" y="1916280"/>
            <a:ext cx="0" cy="4249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5"/>
          <a:stretch/>
        </p:blipFill>
        <p:spPr>
          <a:xfrm>
            <a:off x="179280" y="1557360"/>
            <a:ext cx="873360" cy="119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6"/>
          <a:stretch/>
        </p:blipFill>
        <p:spPr>
          <a:xfrm>
            <a:off x="1116000" y="2421000"/>
            <a:ext cx="10018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"/>
          <p:cNvPicPr/>
          <p:nvPr/>
        </p:nvPicPr>
        <p:blipFill>
          <a:blip r:embed="rId7"/>
          <a:stretch/>
        </p:blipFill>
        <p:spPr>
          <a:xfrm>
            <a:off x="179280" y="5805360"/>
            <a:ext cx="179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99"/>
                </a:solidFill>
                <a:latin typeface="Arial Black"/>
              </a:rPr>
              <a:t>Where can you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2781000"/>
            <a:ext cx="35272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n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727280" cy="1555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7596360" y="3860640"/>
            <a:ext cx="1304640" cy="153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468360" y="4508640"/>
            <a:ext cx="168912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700360" y="981000"/>
          <a:ext cx="5418000" cy="5702400"/>
        </p:xfrm>
        <a:graphic>
          <a:graphicData uri="http://schemas.openxmlformats.org/drawingml/2006/table">
            <a:tbl>
              <a:tblPr/>
              <a:tblGrid>
                <a:gridCol w="2232000"/>
                <a:gridCol w="3186000"/>
              </a:tblGrid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ay ch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he sports ground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w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t the stadium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ay badmin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he skating rin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he snow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k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 the swimming poo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>
            <a:off x="6804000" y="981000"/>
            <a:ext cx="2124000" cy="15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Girls and boys can play this gam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hey play it on the sports groun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wo players play the gam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hey have a little yellow ball and big racket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) It is a game for boy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y play it at stadiums and on sports ground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y have a big white and black ball for i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y have two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teams (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команды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)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f eleven play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essing Rh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) It is a game for boys and gir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can play it in the gym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ildren have two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eams (</a:t>
            </a:r>
            <a:r>
              <a:rPr b="0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команды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)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f twelve play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y have a brown big ball and two bask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8:26:34Z</dcterms:created>
  <dc:creator>111</dc:creator>
  <dc:description/>
  <dc:language>en-US</dc:language>
  <cp:lastModifiedBy>Admin</cp:lastModifiedBy>
  <dcterms:modified xsi:type="dcterms:W3CDTF">2019-01-03T11:48:34Z</dcterms:modified>
  <cp:revision>106</cp:revision>
  <dc:subject/>
  <dc:title>Слайд 1</dc:title>
</cp:coreProperties>
</file>