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gif" ContentType="image/gif"/>
  <Override PartName="/ppt/media/image16.gif" ContentType="image/gif"/>
  <Override PartName="/ppt/media/image15.gif" ContentType="image/gif"/>
  <Override PartName="/ppt/media/image12.gif" ContentType="image/gif"/>
  <Override PartName="/ppt/media/image3.jpeg" ContentType="image/jpeg"/>
  <Override PartName="/ppt/media/image14.gif" ContentType="image/gif"/>
  <Override PartName="/ppt/media/image1.jpeg" ContentType="image/jpeg"/>
  <Override PartName="/ppt/media/image2.gif" ContentType="image/gif"/>
  <Override PartName="/ppt/media/image4.jpeg" ContentType="image/jpeg"/>
  <Override PartName="/ppt/media/image8.gif" ContentType="image/gif"/>
  <Override PartName="/ppt/media/image13.gif" ContentType="image/gif"/>
  <Override PartName="/ppt/media/image11.gif" ContentType="image/gif"/>
  <Override PartName="/ppt/media/image6.jpeg" ContentType="image/jpeg"/>
  <Override PartName="/ppt/media/image5.jpeg" ContentType="image/jpe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12C7-90F6-47E8-AE6D-F2D7A7038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CC5B-91D0-4D79-A378-6FF464745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вадрате спрятаны 10 сл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ocodile, cat, owl, chicken, monkey, horse, dog, cow, duck, bi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найти и прочитать слова, прочитать слова по буквам. Для большей наглядности, слово можно выделять при помощи функции «выделение», после того как его нашли и прочитали учащиеся. После окончания работы со слайдом можно убрать все рукописные выделения при помощи функции «Удалить все рукописные данные с файл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7C9E-B481-459D-870C-3EBF26F80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м задании учащимся предлагается восстановить порядок слов в слове, прочитать что получилось и назвать слово по буквам. Можно усложнить задание перепутав картинки, учащиеся должны будут не только угадать и назвать слово, но и соотнести его с картин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0B6C-3275-4BFA-938E-34AD9778B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описать картинку, используя глаго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cat can play the vio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этой картинки можно отрабатывать времена глаголов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Progressive, Past Progres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2C4C-FCB2-4075-9601-53C0D97A4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Сказать какие действия нереальны. Пример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se can’t fly. A dog can r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80CB-86B2-4D12-936D-9AF833B49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дание: правильно задать вопрос и ответить на него. Как вариант этого задания: один из учащихся загадывает, что он умеет делать, другие учащиеся должны будут угадать правильно задавая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1: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you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2: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Yes, I can. (No, I can’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т учащийся, который угадывает, получает право самому загадать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3C9-1D71-4284-AEB4-E48334B8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B71-C3D2-4D65-A9DA-977A2CA9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658-C9BA-4CC9-8A74-DC17D034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CEB-11E4-4612-8B41-A2D87B0F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0CB-3921-47E1-B5C8-4D1F51BA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375-0773-4F1A-9C67-0761EADA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9B0-D107-4BC5-A5AA-A4E67991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35E-30DA-4837-9CEC-D8469962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886-7D89-42E1-8087-9792AF28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3B9-1C73-4013-B5C6-BC0C8AD3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2E6-C5A0-4362-9BFA-A25F5C40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B16-0A3B-4025-B102-B3860380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Broiko Y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4DE4-4DED-43BE-8663-41A41C67B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ilaforum.org.ua/userpix/1484_2491146_1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.i.ua/oboi/pic/6/3/187336_0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bestgamer.ru/img/screenshots/4521/1_agassi_tennis_generation_2002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www.chernomore.bg/pictures/200809300911290.CHESS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203640" y="-747720"/>
            <a:ext cx="2533680" cy="3571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640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«Игровые формы обучения при формирования коммуникативной компетенции в процессе изучения лексико-грамматического материала по теме «Спорт» и употребления глагола «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n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»,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с использованием информационно-коммуникационных технологи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71360" y="5105160"/>
            <a:ext cx="796428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зднякова Екатерина Евгеньевна, учитель англий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Школа №16» г. Ряз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826920" y="-747720"/>
            <a:ext cx="253368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"/>
          <p:cNvPicPr/>
          <p:nvPr/>
        </p:nvPicPr>
        <p:blipFill>
          <a:blip r:embed="rId4"/>
          <a:stretch/>
        </p:blipFill>
        <p:spPr>
          <a:xfrm>
            <a:off x="5867280" y="-674640"/>
            <a:ext cx="2533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uessing Rh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) Girls and boys like to play this g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y can play it on the sports grou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wo players play the ga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layers have a very little white plastic ball and little racket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ildren have a big table to play this g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uessing Rh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578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5) Boys like to play this game in winter (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зимой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y have two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eams (</a:t>
            </a:r>
            <a:r>
              <a:rPr b="0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команды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)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f six playe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y play it on the skating rin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 I want to play table tennis with my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2) He can play football and badminton very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3) Children in America like to play baseball very mu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4) You can swim in the swimming pool with you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5) We play basketball and volleyball in our school gy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99"/>
                </a:solidFill>
                <a:latin typeface="Arial Black"/>
              </a:rPr>
              <a:t>Word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47640" y="836640"/>
          <a:ext cx="6096240" cy="5175360"/>
        </p:xfrm>
        <a:graphic>
          <a:graphicData uri="http://schemas.openxmlformats.org/drawingml/2006/table">
            <a:tbl>
              <a:tblPr/>
              <a:tblGrid>
                <a:gridCol w="609840"/>
                <a:gridCol w="566640"/>
                <a:gridCol w="65232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99"/>
                </a:solidFill>
                <a:latin typeface="Arial Black"/>
              </a:rPr>
              <a:t>Look and spell the spor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bkesabt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                                        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olotaf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                                        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nten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cehs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-main-pic" descr="Картинка 83 из 536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119700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59" name="i-main-pic" descr="Картинка 43 из 20836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184464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38 из 1166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8000" y="3500280"/>
            <a:ext cx="2663640" cy="2001960"/>
          </a:xfrm>
          <a:prstGeom prst="rect">
            <a:avLst/>
          </a:prstGeom>
          <a:ln w="0">
            <a:noFill/>
          </a:ln>
        </p:spPr>
      </p:pic>
      <p:pic>
        <p:nvPicPr>
          <p:cNvPr id="61" name="i-main-pic" descr="Картинка 40 из 4277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59280" y="4581360"/>
            <a:ext cx="2663640" cy="2055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Arial Black"/>
              </a:rPr>
              <a:t>Describe the picture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U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2060640"/>
            <a:ext cx="5627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76360" y="2205000"/>
          <a:ext cx="5834160" cy="3768840"/>
        </p:xfrm>
        <a:graphic>
          <a:graphicData uri="http://schemas.openxmlformats.org/drawingml/2006/table">
            <a:tbl>
              <a:tblPr/>
              <a:tblGrid>
                <a:gridCol w="2449440"/>
                <a:gridCol w="33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s gol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leph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s foot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ab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8729640" y="43513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4249" y="12085"/>
                </a:moveTo>
                <a:lnTo>
                  <a:pt x="24249" y="1208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58160" y="42354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4606" y="11767"/>
                </a:moveTo>
                <a:lnTo>
                  <a:pt x="24606" y="1176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Arial"/>
              </a:rPr>
              <a:t>Tell what is real and unreal in their a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866520" cy="1047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292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play 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play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sk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08000" y="3573360"/>
            <a:ext cx="1342800" cy="107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1042920" y="4581360"/>
            <a:ext cx="1152720" cy="1124280"/>
          </a:xfrm>
          <a:prstGeom prst="rect">
            <a:avLst/>
          </a:prstGeom>
          <a:ln w="0">
            <a:noFill/>
          </a:ln>
        </p:spPr>
      </p:pic>
      <p:sp>
        <p:nvSpPr>
          <p:cNvPr id="72" name="Line 9"/>
          <p:cNvSpPr/>
          <p:nvPr/>
        </p:nvSpPr>
        <p:spPr>
          <a:xfrm>
            <a:off x="2124000" y="1916280"/>
            <a:ext cx="0" cy="4321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2424240" y="3192480"/>
            <a:ext cx="9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ca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924360" y="1916280"/>
            <a:ext cx="0" cy="4249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5"/>
          <a:stretch/>
        </p:blipFill>
        <p:spPr>
          <a:xfrm>
            <a:off x="179280" y="1557360"/>
            <a:ext cx="873360" cy="119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"/>
          <p:cNvPicPr/>
          <p:nvPr/>
        </p:nvPicPr>
        <p:blipFill>
          <a:blip r:embed="rId6"/>
          <a:stretch/>
        </p:blipFill>
        <p:spPr>
          <a:xfrm>
            <a:off x="1116000" y="2421000"/>
            <a:ext cx="10018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7" descr=""/>
          <p:cNvPicPr/>
          <p:nvPr/>
        </p:nvPicPr>
        <p:blipFill>
          <a:blip r:embed="rId7"/>
          <a:stretch/>
        </p:blipFill>
        <p:spPr>
          <a:xfrm>
            <a:off x="179280" y="5805360"/>
            <a:ext cx="1798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99"/>
                </a:solidFill>
                <a:latin typeface="Arial Black"/>
              </a:rPr>
              <a:t>Where can you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2781000"/>
            <a:ext cx="35272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n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727280" cy="1555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7596360" y="3860640"/>
            <a:ext cx="1304640" cy="153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468360" y="4508640"/>
            <a:ext cx="168912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700360" y="981000"/>
          <a:ext cx="5418000" cy="5702400"/>
        </p:xfrm>
        <a:graphic>
          <a:graphicData uri="http://schemas.openxmlformats.org/drawingml/2006/table">
            <a:tbl>
              <a:tblPr/>
              <a:tblGrid>
                <a:gridCol w="2232000"/>
                <a:gridCol w="3186000"/>
              </a:tblGrid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ay ch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n the sports ground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wi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t the stadium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ay badmin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n the skating rink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n the snow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 the swimming pool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5" descr=""/>
          <p:cNvPicPr/>
          <p:nvPr/>
        </p:nvPicPr>
        <p:blipFill>
          <a:blip r:embed="rId5"/>
          <a:stretch/>
        </p:blipFill>
        <p:spPr>
          <a:xfrm>
            <a:off x="6804000" y="981000"/>
            <a:ext cx="2124000" cy="158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uessing Rh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578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Girls and boys can play this gam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They play it on the sports ground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Two players play the gam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They have a little yellow ball and big racket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uessing Rh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578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) It is a game for boy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y play it at stadiums and on sports ground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y have a big white and black ball for i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y have two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teams (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оманды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)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f eleven play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uessing Rh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578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) It is a game for boys and gir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y can play it in the gym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ildren have two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eams (</a:t>
            </a:r>
            <a:r>
              <a:rPr b="0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команды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)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f twelve playe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y have a brown big ball and two bask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8:26:34Z</dcterms:created>
  <dc:creator>111</dc:creator>
  <dc:description/>
  <dc:language>en-US</dc:language>
  <cp:lastModifiedBy>Admin</cp:lastModifiedBy>
  <dcterms:modified xsi:type="dcterms:W3CDTF">2019-01-03T11:48:34Z</dcterms:modified>
  <cp:revision>106</cp:revision>
  <dc:subject/>
  <dc:title>Слайд 1</dc:title>
</cp:coreProperties>
</file>