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.wmf" ContentType="image/x-wmf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AA73-101C-4B36-8A25-0FCB482E2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4120-AB32-4AA3-AA0E-F36B1427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36DC-31E4-44C1-87D7-1AF032292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E46E-F10B-4CFB-BD6C-99F1586BE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4415D-5580-4AD5-8061-E9E8D6E3B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07FE1-324D-4515-B877-45CCA522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63E76-29C6-4644-893F-D284DF53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6B45-0614-45D2-ADF6-011A64B8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F07C-27E3-4500-8F10-B75EB450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0C65-BC22-4C41-A9B7-5D4301A2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98B0-8947-4E5A-9F86-4550D60D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C759-90D5-4A87-8E77-51C039AC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C73E-C21F-40BB-99DD-922C4E12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389E-1D7B-4098-9B42-1C9D4C65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7C63-80E9-4DD1-8A88-E423A991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56D7-DABA-44FD-AC2D-308DC6847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164E-AE41-4B1F-99C0-650393E45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FED8-113D-4DDA-99C4-20259450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3881-6F9C-4E01-90FC-1124F249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28FF-003B-45AD-B6B8-48B3C505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4B1E-2720-4322-97CC-B6AB6E21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6FA3-B798-4BAB-AEFB-C1D7E4D4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2808-6107-4D07-BB40-EA78E4A3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2D68-97C4-4167-84D8-807E0473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8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7a8e9c"/>
                </a:gs>
                <a:gs pos="100000">
                  <a:srgbClr val="3e4a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e4a52"/>
                </a:gs>
                <a:gs pos="100000">
                  <a:srgbClr val="7a8e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6d9188"/>
                </a:gs>
                <a:gs pos="50000">
                  <a:srgbClr val="81aba0"/>
                </a:gs>
                <a:gs pos="100000">
                  <a:srgbClr val="6d91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264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004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008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668e69"/>
                </a:gs>
                <a:gs pos="50000">
                  <a:srgbClr val="bebc76"/>
                </a:gs>
                <a:gs pos="100000">
                  <a:srgbClr val="668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f3c39"/>
                </a:gs>
                <a:gs pos="50000">
                  <a:srgbClr val="cd817b"/>
                </a:gs>
                <a:gs pos="100000">
                  <a:srgbClr val="5f3c3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7a8e9c"/>
                </a:gs>
                <a:gs pos="100000">
                  <a:srgbClr val="668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8e69"/>
                </a:gs>
                <a:gs pos="50000">
                  <a:srgbClr val="bebc76"/>
                </a:gs>
                <a:gs pos="100000">
                  <a:srgbClr val="668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7a8e9c"/>
                </a:gs>
                <a:gs pos="50000">
                  <a:srgbClr val="668e69"/>
                </a:gs>
                <a:gs pos="100000">
                  <a:srgbClr val="7a8e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a8e9c"/>
                </a:gs>
                <a:gs pos="100000">
                  <a:srgbClr val="3e4a5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f4d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40EE-F7F7-4FE5-8DC2-6F6E49D8B55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8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240"/>
            <a:chOff x="0" y="0"/>
            <a:chExt cx="9159840" cy="687024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7a8e9c"/>
                </a:gs>
                <a:gs pos="100000">
                  <a:srgbClr val="3e4a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756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3e4a52"/>
                </a:gs>
                <a:gs pos="100000">
                  <a:srgbClr val="7a8e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7560"/>
              <a:ext cx="1203120" cy="6850080"/>
            </a:xfrm>
            <a:prstGeom prst="rect">
              <a:avLst/>
            </a:prstGeom>
            <a:gradFill rotWithShape="0">
              <a:gsLst>
                <a:gs pos="0">
                  <a:srgbClr val="6d9188"/>
                </a:gs>
                <a:gs pos="50000">
                  <a:srgbClr val="81aba0"/>
                </a:gs>
                <a:gs pos="100000">
                  <a:srgbClr val="6d91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0"/>
              <a:ext cx="1295280" cy="6310080"/>
              <a:chOff x="7848720" y="0"/>
              <a:chExt cx="1295280" cy="631008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0"/>
                <a:ext cx="762120" cy="2276280"/>
                <a:chOff x="8381880" y="0"/>
                <a:chExt cx="762120" cy="227628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13800" y="0"/>
                  <a:ext cx="279360" cy="275760"/>
                  <a:chOff x="8713800" y="0"/>
                  <a:chExt cx="279360" cy="27576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13800" y="0"/>
                    <a:ext cx="279360" cy="275760"/>
                    <a:chOff x="8713800" y="0"/>
                    <a:chExt cx="279360" cy="27576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52680" y="-38880"/>
                      <a:ext cx="20160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62040" y="92520"/>
                      <a:ext cx="14112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33320" y="13716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7080" y="70200"/>
                    <a:ext cx="4248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8000" y="579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7480" y="1076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33320" y="19908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81840" y="1742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616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616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4072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208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49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54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596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64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5960"/>
                <a:ext cx="828720" cy="4704120"/>
                <a:chOff x="7848720" y="1605960"/>
                <a:chExt cx="828720" cy="470412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5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10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8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75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9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40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80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6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8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90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7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4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55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83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88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11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9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10760"/>
              <a:ext cx="1190520" cy="193752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60000"/>
              <a:ext cx="1219320" cy="199764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668e69"/>
                </a:gs>
                <a:gs pos="50000">
                  <a:srgbClr val="bebc76"/>
                </a:gs>
                <a:gs pos="100000">
                  <a:srgbClr val="668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22040"/>
              <a:ext cx="1231920" cy="403236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f3c39"/>
                </a:gs>
                <a:gs pos="50000">
                  <a:srgbClr val="cd817b"/>
                </a:gs>
                <a:gs pos="100000">
                  <a:srgbClr val="5f3c3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42040"/>
              <a:ext cx="979560" cy="218196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34160"/>
              <a:ext cx="914400" cy="504216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9640"/>
              <a:ext cx="909720" cy="30679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7a8e9c"/>
                </a:gs>
                <a:gs pos="100000">
                  <a:srgbClr val="668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7560"/>
              <a:ext cx="576360" cy="334872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9000"/>
              <a:ext cx="300240" cy="33490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8e69"/>
                </a:gs>
                <a:gs pos="50000">
                  <a:srgbClr val="bebc76"/>
                </a:gs>
                <a:gs pos="100000">
                  <a:srgbClr val="668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9000"/>
              <a:ext cx="88920" cy="685008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30160"/>
              <a:ext cx="1165320" cy="61848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7a8e9c"/>
                </a:gs>
                <a:gs pos="50000">
                  <a:srgbClr val="668e69"/>
                </a:gs>
                <a:gs pos="100000">
                  <a:srgbClr val="7a8e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7920" y="3319920"/>
              <a:ext cx="6850080" cy="225360"/>
            </a:xfrm>
            <a:custGeom>
              <a:avLst/>
              <a:gdLst>
                <a:gd name="textAreaLeft" fmla="*/ 667440 w 6850080"/>
                <a:gd name="textAreaRight" fmla="*/ 6182640 w 685008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a8e9c"/>
                </a:gs>
                <a:gs pos="100000">
                  <a:srgbClr val="3e4a5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f4d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FBC5-1884-4296-94E5-B42B0348E1A7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28400" y="857160"/>
            <a:ext cx="696564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df4df"/>
                </a:solidFill>
                <a:latin typeface="Times New Roman"/>
              </a:rPr>
              <a:t>Творческий проект</a:t>
            </a:r>
            <a:br>
              <a:rPr sz="6000"/>
            </a:br>
            <a:r>
              <a:rPr b="1" lang="ru-RU" sz="6000" spc="-1" strike="noStrike">
                <a:solidFill>
                  <a:srgbClr val="fdf4df"/>
                </a:solidFill>
                <a:latin typeface="Times New Roman"/>
              </a:rPr>
              <a:t>«Картина из солёного теста» </a:t>
            </a:r>
            <a:br>
              <a:rPr sz="6000"/>
            </a:br>
            <a:br>
              <a:rPr sz="6000"/>
            </a:br>
            <a:r>
              <a:rPr b="0" lang="ru-RU" sz="3600" spc="-1" strike="noStrike">
                <a:solidFill>
                  <a:srgbClr val="55756b"/>
                </a:solidFill>
                <a:latin typeface="Arial"/>
              </a:rPr>
              <a:t>    </a:t>
            </a:r>
            <a:br>
              <a:rPr sz="3600"/>
            </a:br>
            <a:r>
              <a:rPr b="1" i="1" lang="ru-RU" sz="5400" spc="-1" strike="noStrike">
                <a:solidFill>
                  <a:srgbClr val="3e4a52"/>
                </a:solidFill>
                <a:latin typeface="Times New Roman"/>
                <a:ea typeface="Times New Roman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928960" y="414288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Автор: Козлова Татьяна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f1311"/>
                </a:solidFill>
                <a:latin typeface="Arial"/>
              </a:rPr>
              <a:t>ученица 5 «А» класса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f1311"/>
                </a:solidFill>
                <a:latin typeface="Arial"/>
              </a:rPr>
              <a:t>МОБУ Тыгдинской СОШ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Руководитель: </a:t>
            </a:r>
            <a:r>
              <a:rPr b="1" i="1" lang="ru-RU" sz="2000" spc="-1" strike="noStrike">
                <a:solidFill>
                  <a:srgbClr val="2f1311"/>
                </a:solidFill>
                <a:latin typeface="Arial"/>
              </a:rPr>
              <a:t>Уткина  Л.П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13840" y="285480"/>
            <a:ext cx="7435800" cy="58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3. Взять рамку с твёрдой основой 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(оргалит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4. Подготовить фон для будущей работ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Picture 3" descr="C:\Users\админ\Desktop\проект\P1020959.JPG"/>
          <p:cNvPicPr/>
          <p:nvPr/>
        </p:nvPicPr>
        <p:blipFill>
          <a:blip r:embed="rId1"/>
          <a:stretch/>
        </p:blipFill>
        <p:spPr>
          <a:xfrm>
            <a:off x="3000240" y="911160"/>
            <a:ext cx="2786040" cy="2089080"/>
          </a:xfrm>
          <a:prstGeom prst="rect">
            <a:avLst/>
          </a:prstGeom>
          <a:ln w="9360">
            <a:solidFill>
              <a:srgbClr val="643430"/>
            </a:solidFill>
            <a:miter/>
          </a:ln>
        </p:spPr>
      </p:pic>
      <p:pic>
        <p:nvPicPr>
          <p:cNvPr id="214" name="Picture 4" descr="C:\Users\админ\Desktop\проект\P1020963.JPG"/>
          <p:cNvPicPr/>
          <p:nvPr/>
        </p:nvPicPr>
        <p:blipFill>
          <a:blip r:embed="rId2"/>
          <a:stretch/>
        </p:blipFill>
        <p:spPr>
          <a:xfrm>
            <a:off x="928800" y="4143240"/>
            <a:ext cx="2597040" cy="1947960"/>
          </a:xfrm>
          <a:prstGeom prst="rect">
            <a:avLst/>
          </a:prstGeom>
          <a:ln w="9360">
            <a:solidFill>
              <a:srgbClr val="643430"/>
            </a:solidFill>
            <a:miter/>
          </a:ln>
        </p:spPr>
      </p:pic>
      <p:pic>
        <p:nvPicPr>
          <p:cNvPr id="215" name="Picture 5" descr="C:\Users\админ\Desktop\проект\P1020964.JPG"/>
          <p:cNvPicPr/>
          <p:nvPr/>
        </p:nvPicPr>
        <p:blipFill>
          <a:blip r:embed="rId3"/>
          <a:stretch/>
        </p:blipFill>
        <p:spPr>
          <a:xfrm>
            <a:off x="4071960" y="3714840"/>
            <a:ext cx="3238560" cy="2428920"/>
          </a:xfrm>
          <a:prstGeom prst="rect">
            <a:avLst/>
          </a:prstGeom>
          <a:ln w="9360">
            <a:solidFill>
              <a:srgbClr val="64343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263160" y="428760"/>
            <a:ext cx="7380360" cy="56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5. Делаем детали из тест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6. Готовые детали клеем к основе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7" name="Picture 2" descr="C:\Users\админ\Desktop\проект\P1020965.JPG"/>
          <p:cNvPicPr/>
          <p:nvPr/>
        </p:nvPicPr>
        <p:blipFill>
          <a:blip r:embed="rId1"/>
          <a:stretch/>
        </p:blipFill>
        <p:spPr>
          <a:xfrm>
            <a:off x="1452600" y="1071720"/>
            <a:ext cx="2073240" cy="1554120"/>
          </a:xfrm>
          <a:prstGeom prst="rect">
            <a:avLst/>
          </a:prstGeom>
          <a:ln w="9360">
            <a:solidFill>
              <a:srgbClr val="643430"/>
            </a:solidFill>
            <a:miter/>
          </a:ln>
        </p:spPr>
      </p:pic>
      <p:pic>
        <p:nvPicPr>
          <p:cNvPr id="218" name="Picture 3" descr="C:\Users\админ\Desktop\проект\P1020966.JPG"/>
          <p:cNvPicPr/>
          <p:nvPr/>
        </p:nvPicPr>
        <p:blipFill>
          <a:blip r:embed="rId2"/>
          <a:stretch/>
        </p:blipFill>
        <p:spPr>
          <a:xfrm>
            <a:off x="4214880" y="1071720"/>
            <a:ext cx="2095560" cy="1571400"/>
          </a:xfrm>
          <a:prstGeom prst="rect">
            <a:avLst/>
          </a:prstGeom>
          <a:ln w="9360">
            <a:solidFill>
              <a:srgbClr val="643430"/>
            </a:solidFill>
            <a:miter/>
          </a:ln>
        </p:spPr>
      </p:pic>
      <p:pic>
        <p:nvPicPr>
          <p:cNvPr id="219" name="Picture 4" descr="C:\Users\админ\Desktop\проект\P1020970.JPG"/>
          <p:cNvPicPr/>
          <p:nvPr/>
        </p:nvPicPr>
        <p:blipFill>
          <a:blip r:embed="rId3"/>
          <a:stretch/>
        </p:blipFill>
        <p:spPr>
          <a:xfrm>
            <a:off x="285840" y="3429000"/>
            <a:ext cx="3454200" cy="2590920"/>
          </a:xfrm>
          <a:prstGeom prst="rect">
            <a:avLst/>
          </a:prstGeom>
          <a:ln w="9360">
            <a:solidFill>
              <a:srgbClr val="643430"/>
            </a:solidFill>
            <a:miter/>
          </a:ln>
        </p:spPr>
      </p:pic>
      <p:pic>
        <p:nvPicPr>
          <p:cNvPr id="220" name="Picture 5" descr="C:\Users\админ\Desktop\проект\P1020971.JPG"/>
          <p:cNvPicPr/>
          <p:nvPr/>
        </p:nvPicPr>
        <p:blipFill>
          <a:blip r:embed="rId4"/>
          <a:stretch/>
        </p:blipFill>
        <p:spPr>
          <a:xfrm>
            <a:off x="4143240" y="3500280"/>
            <a:ext cx="3357720" cy="2517840"/>
          </a:xfrm>
          <a:prstGeom prst="rect">
            <a:avLst/>
          </a:prstGeom>
          <a:ln w="9360">
            <a:solidFill>
              <a:srgbClr val="64343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213840" y="500040"/>
            <a:ext cx="73868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7. Готовую работу сушим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2" name="Picture 3" descr="C:\Users\админ\Desktop\проект\P1020974.JPG"/>
          <p:cNvPicPr/>
          <p:nvPr/>
        </p:nvPicPr>
        <p:blipFill>
          <a:blip r:embed="rId1"/>
          <a:srcRect l="11895" t="2976" r="4859" b="1888"/>
          <a:stretch/>
        </p:blipFill>
        <p:spPr>
          <a:xfrm>
            <a:off x="2286000" y="1428840"/>
            <a:ext cx="342900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13840" y="35676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8. Изделие красим </a:t>
            </a:r>
            <a:r>
              <a:rPr b="0" i="1" lang="ru-RU" sz="1600" spc="-1" strike="noStrike">
                <a:solidFill>
                  <a:srgbClr val="2f1311"/>
                </a:solidFill>
                <a:latin typeface="Arial"/>
              </a:rPr>
              <a:t>(используем акриловые краски)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rcRect l="7749" t="2324" r="5430" b="3490"/>
          <a:stretch/>
        </p:blipFill>
        <p:spPr>
          <a:xfrm>
            <a:off x="2357280" y="1000080"/>
            <a:ext cx="350064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213840" y="357120"/>
            <a:ext cx="738684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9.  Покрываем лаком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10. Работа готов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1"/>
          <a:stretch/>
        </p:blipFill>
        <p:spPr>
          <a:xfrm>
            <a:off x="2143080" y="1500120"/>
            <a:ext cx="335772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f4df"/>
                </a:solidFill>
                <a:latin typeface="Arial"/>
              </a:rPr>
              <a:t>Практическая значимость проведённого исследования</a:t>
            </a:r>
            <a:endParaRPr b="0" lang="en-US" sz="32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13840" y="2071440"/>
            <a:ext cx="7386840" cy="29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cb8c0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ри выполнении своего творческого проекта я познакомилась с историей  возникновения техники «соленое тесто ». Полученные знания мне пригодятся в дальнейшей  жизни, я смогу украсить интерьер квартиры декоративными  изделиям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f4df"/>
                </a:solidFill>
                <a:latin typeface="Arial"/>
              </a:rPr>
              <a:t>Оценка работы</a:t>
            </a:r>
            <a:endParaRPr b="0" lang="en-US" sz="32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b3b7f"/>
                </a:solidFill>
                <a:latin typeface="Times New Roman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Удалось ли мне решить проблему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Изделие изготовлено аккуратно и качественно. Оно хорошо вписалась в интерьер комнаты и сделала её более уютной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оложительные стороны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19bd0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- цель достигнут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19bd0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- материалы общедоступны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19bd0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- технология изготовления посильн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19bd0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- изделие имеет художественную ценность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df4df"/>
                </a:solidFill>
                <a:latin typeface="Arial"/>
              </a:rPr>
              <a:t>Выводы:</a:t>
            </a: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Я открыла для себя, что работа с соленым тестом это увлекательное занятие, которое развивает художественный вкус, творческие способности, воображение  и фантазию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Занятия с тестом оставляют приятные ощущения и позволяют расслабитьс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Настроение улучшается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Прямоугольник 4" descr=""/>
          <p:cNvPicPr/>
          <p:nvPr/>
        </p:nvPicPr>
        <p:blipFill>
          <a:blip r:embed="rId1"/>
          <a:stretch/>
        </p:blipFill>
        <p:spPr>
          <a:xfrm>
            <a:off x="-285840" y="725400"/>
            <a:ext cx="9009000" cy="5426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56760" y="642600"/>
            <a:ext cx="72867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f4df"/>
                </a:solidFill>
                <a:latin typeface="Arial"/>
              </a:rPr>
              <a:t>Проблема проекта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 раннего детства нас радуют подарки. Это мячи, мягкие игрушки, настольные игры и поделки, сделанные своими рукам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Для меня, было, очень важно смогу ли я сама изготовить поделку из соленого теста: замесить тесто, вылепить изделие, правильно высушить его, красиво разукрасить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96080" y="549360"/>
            <a:ext cx="11592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df4df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476280"/>
            <a:ext cx="73864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df4df"/>
                </a:solidFill>
                <a:latin typeface="Calibri"/>
                <a:ea typeface="Times New Roman"/>
              </a:rPr>
              <a:t>Цель проекта: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. Изучить историю возникновения поделки из солёного тест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2.Оценить свои возможности в проектной деятельност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3.Разработать и выполнить проек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4.Сделать поделку своими рукам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5.Развивать творческие способност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6.Любить и уважать промыслы народного творчеств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13840" y="213840"/>
            <a:ext cx="72867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6cd6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df4df"/>
                </a:solidFill>
                <a:latin typeface="Arial"/>
              </a:rPr>
              <a:t>Мотивация выбор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Лепка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– один из интересных и увлекательных видов прикладного творчества. Она достаточно проста. Лепить всегда интересно. А когда твои работы нравятся другим, то это вызывает ещё больший интерес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Что меня всегда привлекало в изготовлении фигур из соленого теста – это возможность подержать свое создание в руках, прикоснуться к нему, в отличие от рисунка, где изображение остается плоским, ограниченным двухмерным пространством. Классическая техника работы с соленым тестом предполагает изготовление фигур с объемными сторонами, которым придается горизонтальное положение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Рисунок 3" descr=""/>
          <p:cNvPicPr/>
          <p:nvPr/>
        </p:nvPicPr>
        <p:blipFill>
          <a:blip r:embed="rId1"/>
          <a:stretch/>
        </p:blipFill>
        <p:spPr>
          <a:xfrm>
            <a:off x="2786040" y="4572000"/>
            <a:ext cx="2500200" cy="2000160"/>
          </a:xfrm>
          <a:prstGeom prst="rect">
            <a:avLst/>
          </a:prstGeom>
          <a:ln w="38160">
            <a:solidFill>
              <a:srgbClr val="64343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df4df"/>
                </a:solidFill>
                <a:latin typeface="Arial"/>
              </a:rPr>
              <a:t>История возникновения солёного теста</a:t>
            </a: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Когда-то давным-давно, в седую старину, люди начали лепить хлебные лепешки из муки и воды и обжигать их на раскаленных камнях. Из теста выпекали не только хлеб, но и декоративные изделия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Изготовление теста из муки, соли и воды является старинным обычаем и применялось для выполнения фигурок из народных сказаний и в религиозных целях. Еще древние египтяне, греки и римляне использовали фигурки из соленого теста для преклонения перед своими божествам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В Германии и Скандинавии издавна было принято изготавливать пасхальные из рождественские сувениры из соленого теста. Различные медальоны, венки, кольца и подковы вывешивались в проеме окон или крепились к дверям. Считалось, что эти украшения приносят хозяевам дома, который они украшают, удачу и благоденствие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2f13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2f13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2f13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42560" y="214200"/>
            <a:ext cx="66438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Во время Первой и Второй мировых войн искусство изготовления соленого теста было утеряно, поскольку не хватало материала. В наше время эта древняя традиция начала возрождаться. В последние двадцать лет оно вызывает все больший интерес, с каждым годом расширяя круг своих поклонников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Старинный русский народный промысел – лепка из соленого теста — упоминается в летописях уже в XII веке. Центром промысла является Русский Север, Архангельская область. Фигурки из соленого теста были не простыми игрушками, они играли магическую, ритуальную роль – служили оберегами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В России на Рождество пекли из пшеничного теста «коровок», «бычков», «петушков», «свинок», «козочек» в знак того, чтобы на дворе было побольше «животинки». Эти печенья дарили родным, соседям, украшали окна. Чтобы сохранить их от насекомых и поедания их мышами, в тесто добавляли большое количество соли - так возникло соленое тесто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Считалось, что любая поделка из соленого теста, находящаяся в доме, - символ богатства и благополучия в семье. И хлеб с солью будут всегда на столе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213840" y="285840"/>
            <a:ext cx="738684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"Дарю вам </a:t>
            </a:r>
            <a:r>
              <a:rPr b="1" lang="ru-RU" sz="2000" spc="-1" strike="noStrike" u="sng">
                <a:solidFill>
                  <a:srgbClr val="2f1311"/>
                </a:solidFill>
                <a:uFillTx/>
                <a:latin typeface="Arial"/>
              </a:rPr>
              <a:t>мукосол, </a:t>
            </a: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чтобы были хлеб да соль, чтобы было в доме изобилие", - так говорили в праздники в северных русских деревнях, даря произведения из соленого тест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Мукосол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- </a:t>
            </a:r>
            <a:r>
              <a:rPr b="0" i="1" lang="ru-RU" sz="2000" spc="-1" strike="noStrike">
                <a:solidFill>
                  <a:srgbClr val="2f1311"/>
                </a:solidFill>
                <a:latin typeface="Arial"/>
              </a:rPr>
              <a:t>это не только забавные фигурки из соленого теста на холсте или в самостоятельной композиции, это обереги наших домов еще с дохристианских времен. Считалась, что любая такая поделка, находящаяся в доме - символ богатства, благополучия и достатка в семье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Рисунок 3" descr=""/>
          <p:cNvPicPr/>
          <p:nvPr/>
        </p:nvPicPr>
        <p:blipFill>
          <a:blip r:embed="rId1"/>
          <a:stretch/>
        </p:blipFill>
        <p:spPr>
          <a:xfrm>
            <a:off x="5572080" y="4432320"/>
            <a:ext cx="2011320" cy="168732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2" descr=""/>
          <p:cNvPicPr/>
          <p:nvPr/>
        </p:nvPicPr>
        <p:blipFill>
          <a:blip r:embed="rId2"/>
          <a:stretch/>
        </p:blipFill>
        <p:spPr>
          <a:xfrm>
            <a:off x="573120" y="4286160"/>
            <a:ext cx="2073240" cy="1913040"/>
          </a:xfrm>
          <a:prstGeom prst="rect">
            <a:avLst/>
          </a:prstGeom>
          <a:ln w="0">
            <a:noFill/>
          </a:ln>
        </p:spPr>
      </p:pic>
      <p:pic>
        <p:nvPicPr>
          <p:cNvPr id="205" name="Объект 7" descr=""/>
          <p:cNvPicPr/>
          <p:nvPr/>
        </p:nvPicPr>
        <p:blipFill>
          <a:blip r:embed="rId3"/>
          <a:stretch/>
        </p:blipFill>
        <p:spPr>
          <a:xfrm>
            <a:off x="3071880" y="3857760"/>
            <a:ext cx="181440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f4df"/>
                </a:solidFill>
                <a:latin typeface="Arial"/>
              </a:rPr>
              <a:t>Техника приготовления теста</a:t>
            </a:r>
            <a:endParaRPr b="0" lang="en-US" sz="28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207" name="Rectangle 1"/>
          <p:cNvSpPr/>
          <p:nvPr/>
        </p:nvSpPr>
        <p:spPr>
          <a:xfrm>
            <a:off x="357120" y="1661040"/>
            <a:ext cx="7286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a"/>
                </a:solidFill>
                <a:latin typeface="Calibri"/>
                <a:ea typeface="Times New Roman"/>
              </a:rPr>
              <a:t>Что нужно для работы: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Мука пшеничная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ль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ода холодная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новной рецепт теста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300 гр. Муки (2 стакана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300 гр. Соли (1 стакан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200 гр. Воды (1 стакан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Если теста не нужно много, можно все уменьшить вдвое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a"/>
                </a:solidFill>
                <a:latin typeface="Calibri"/>
                <a:ea typeface="Times New Roman"/>
              </a:rPr>
              <a:t>Цветное тесто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ля того, чтобы солёное тесто стало цветным, можно добавить в него пищевые красители, гуашь, сок моркови и свёклы, какао и т.д.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Содержимое 7" descr="F:\проекты\Олин проект\фото для Олиного проекта\фото тесто\тесто666.jpg"/>
          <p:cNvPicPr/>
          <p:nvPr/>
        </p:nvPicPr>
        <p:blipFill>
          <a:blip r:embed="rId1"/>
          <a:stretch/>
        </p:blipFill>
        <p:spPr>
          <a:xfrm>
            <a:off x="4500720" y="1857240"/>
            <a:ext cx="219060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df4df"/>
                </a:solidFill>
                <a:latin typeface="Arial"/>
              </a:rPr>
              <a:t>Этапы выполнения работы</a:t>
            </a: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Подготовить эскиз будущей работы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Замесить тесто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1" name="Picture 4" descr="C:\Users\админ\Desktop\проект\P1020960.JPG"/>
          <p:cNvPicPr/>
          <p:nvPr/>
        </p:nvPicPr>
        <p:blipFill>
          <a:blip r:embed="rId1"/>
          <a:stretch/>
        </p:blipFill>
        <p:spPr>
          <a:xfrm>
            <a:off x="1928880" y="3500280"/>
            <a:ext cx="3835440" cy="2876760"/>
          </a:xfrm>
          <a:prstGeom prst="rect">
            <a:avLst/>
          </a:prstGeom>
          <a:ln w="9360">
            <a:solidFill>
              <a:srgbClr val="64343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07:11:12Z</dcterms:created>
  <dc:creator>Admin</dc:creator>
  <dc:description/>
  <dc:language>en-US</dc:language>
  <cp:lastModifiedBy>Админ</cp:lastModifiedBy>
  <dcterms:modified xsi:type="dcterms:W3CDTF">2019-01-03T07:51:19Z</dcterms:modified>
  <cp:revision>49</cp:revision>
  <dc:subject/>
  <dc:title>Тема урока: «Изготовление куклы  берегини в русском народном костюме»</dc:title>
</cp:coreProperties>
</file>