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66D-7BE1-476F-A9D1-5CF74274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F15-AD31-4B2E-B492-D816004B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306-7DF7-4AB3-88A4-F9C8A869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64B-BBD6-4CCC-84CC-CD356937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9CA-45C2-4F51-A3FE-A925FA25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450-86A4-4D26-B626-E41E3AD0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5BB-5B31-46B0-A66D-7288BA7A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825-72E3-42AF-BE11-56761A55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61C6-55BC-42A1-974F-D6B9890D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2CDE-450A-43F1-8558-4EF16E5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B6A5-5E83-42C5-B8EF-FDA9545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415-812C-4E7E-B687-362D883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580-3F74-412F-91AF-10AA1C3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4B57-4CAD-4766-9694-A808276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E54E-BFC8-4F5B-B531-68A7FF8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243-EE37-4022-8C05-39DEC4A5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46D-4DA1-43DC-B66B-D26F7CE0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42A-D00C-4BFD-B4B1-1333A4A9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68B-AF4E-40AB-90F5-2441E1F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439-814D-4A8B-B54C-1FF454C1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A6E-2ADE-4586-A3CC-0060E64B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380-438E-4211-AAC3-57D7398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617-4EE7-49D9-B72A-B6CBAFA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B37-E602-4880-9FEB-87DCA9D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BDD-4A56-498B-B032-81DDCC4F80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080"/>
              <a:chOff x="7848720" y="0"/>
              <a:chExt cx="1295280" cy="631008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6280"/>
                <a:chOff x="8381880" y="0"/>
                <a:chExt cx="762120" cy="22762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0"/>
                  <a:ext cx="279360" cy="275760"/>
                  <a:chOff x="871380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0"/>
                    <a:ext cx="279360" cy="275760"/>
                    <a:chOff x="871380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88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02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1F76-7BCD-4441-BA03-AC511CB7145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69656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df4df"/>
                </a:solidFill>
                <a:latin typeface="Times New Roman"/>
              </a:rPr>
              <a:t>Творческий проект</a:t>
            </a:r>
            <a:br>
              <a:rPr sz="6000"/>
            </a:br>
            <a:r>
              <a:rPr b="1" lang="ru-RU" sz="6000" spc="-1" strike="noStrike">
                <a:solidFill>
                  <a:srgbClr val="fdf4df"/>
                </a:solidFill>
                <a:latin typeface="Times New Roman"/>
              </a:rPr>
              <a:t>«Картина из солёного теста» </a:t>
            </a:r>
            <a:br>
              <a:rPr sz="6000"/>
            </a:br>
            <a:br>
              <a:rPr sz="6000"/>
            </a:br>
            <a:r>
              <a:rPr b="0" lang="ru-RU" sz="3600" spc="-1" strike="noStrike">
                <a:solidFill>
                  <a:srgbClr val="55756b"/>
                </a:solidFill>
                <a:latin typeface="Arial"/>
              </a:rPr>
              <a:t>    </a:t>
            </a:r>
            <a:br>
              <a:rPr sz="3600"/>
            </a:br>
            <a:r>
              <a:rPr b="1" i="1" lang="ru-RU" sz="5400" spc="-1" strike="noStrike">
                <a:solidFill>
                  <a:srgbClr val="3e4a52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28960" y="414288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втор: Козлова Татья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ученица 5 «А» класс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МОБУ Тыгдинской СО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уководитель: 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Уткина  Л.П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3840" y="285480"/>
            <a:ext cx="74358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3. Взять рамку с твёрдой основой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(оргалит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4. Подготовить фон для будущей рабо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3" descr="C:\Users\админ\Desktop\проект\P1020959.JPG"/>
          <p:cNvPicPr/>
          <p:nvPr/>
        </p:nvPicPr>
        <p:blipFill>
          <a:blip r:embed="rId1"/>
          <a:stretch/>
        </p:blipFill>
        <p:spPr>
          <a:xfrm>
            <a:off x="3000240" y="911160"/>
            <a:ext cx="2786040" cy="208908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4" name="Picture 4" descr="C:\Users\админ\Desktop\проект\P1020963.JPG"/>
          <p:cNvPicPr/>
          <p:nvPr/>
        </p:nvPicPr>
        <p:blipFill>
          <a:blip r:embed="rId2"/>
          <a:stretch/>
        </p:blipFill>
        <p:spPr>
          <a:xfrm>
            <a:off x="928800" y="4143240"/>
            <a:ext cx="2597040" cy="194796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5" name="Picture 5" descr="C:\Users\админ\Desktop\проект\P1020964.JPG"/>
          <p:cNvPicPr/>
          <p:nvPr/>
        </p:nvPicPr>
        <p:blipFill>
          <a:blip r:embed="rId3"/>
          <a:stretch/>
        </p:blipFill>
        <p:spPr>
          <a:xfrm>
            <a:off x="4071960" y="3714840"/>
            <a:ext cx="3238560" cy="24289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63160" y="428760"/>
            <a:ext cx="738036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5. Делаем детали из тес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6. Готовые детали клеем к основ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2" descr="C:\Users\админ\Desktop\проект\P1020965.JPG"/>
          <p:cNvPicPr/>
          <p:nvPr/>
        </p:nvPicPr>
        <p:blipFill>
          <a:blip r:embed="rId1"/>
          <a:stretch/>
        </p:blipFill>
        <p:spPr>
          <a:xfrm>
            <a:off x="1452600" y="1071720"/>
            <a:ext cx="2073240" cy="15541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8" name="Picture 3" descr="C:\Users\админ\Desktop\проект\P1020966.JPG"/>
          <p:cNvPicPr/>
          <p:nvPr/>
        </p:nvPicPr>
        <p:blipFill>
          <a:blip r:embed="rId2"/>
          <a:stretch/>
        </p:blipFill>
        <p:spPr>
          <a:xfrm>
            <a:off x="4214880" y="1071720"/>
            <a:ext cx="2095560" cy="157140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9" name="Picture 4" descr="C:\Users\админ\Desktop\проект\P1020970.JPG"/>
          <p:cNvPicPr/>
          <p:nvPr/>
        </p:nvPicPr>
        <p:blipFill>
          <a:blip r:embed="rId3"/>
          <a:stretch/>
        </p:blipFill>
        <p:spPr>
          <a:xfrm>
            <a:off x="285840" y="3429000"/>
            <a:ext cx="3454200" cy="25909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20" name="Picture 5" descr="C:\Users\админ\Desktop\проект\P1020971.JPG"/>
          <p:cNvPicPr/>
          <p:nvPr/>
        </p:nvPicPr>
        <p:blipFill>
          <a:blip r:embed="rId4"/>
          <a:stretch/>
        </p:blipFill>
        <p:spPr>
          <a:xfrm>
            <a:off x="4143240" y="3500280"/>
            <a:ext cx="3357720" cy="251784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13840" y="500040"/>
            <a:ext cx="7386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7. Готовую работу суши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3" descr="C:\Users\админ\Desktop\проект\P1020974.JPG"/>
          <p:cNvPicPr/>
          <p:nvPr/>
        </p:nvPicPr>
        <p:blipFill>
          <a:blip r:embed="rId1"/>
          <a:srcRect l="11895" t="2976" r="4859" b="1888"/>
          <a:stretch/>
        </p:blipFill>
        <p:spPr>
          <a:xfrm>
            <a:off x="2286000" y="1428840"/>
            <a:ext cx="3429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13840" y="3567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8. Изделие красим </a:t>
            </a: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(используем акриловые краски)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7749" t="2324" r="5430" b="3490"/>
          <a:stretch/>
        </p:blipFill>
        <p:spPr>
          <a:xfrm>
            <a:off x="2357280" y="1000080"/>
            <a:ext cx="35006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13840" y="357120"/>
            <a:ext cx="73868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9.  Покрываем лак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10. Работа гото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33577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Практическая значимость проведённого исследования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13840" y="2071440"/>
            <a:ext cx="7386840" cy="29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cb8c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выполнении своего творческого проекта я познакомилась с историей  возникновения техники «соленое тесто ». Полученные знания мне пригодятся в дальнейшей  жизни, я смогу украсить интерьер квартиры декоративными  издели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Оценка работы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b3b7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далось ли мне решить пробл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делие изготовлено аккуратно и качественно. Оно хорошо вписалась в интерьер комнаты и сделала её более уютн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ложительные стороны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цель достигну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материалы общедоступн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технология изготовления посиль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изделие имеет художественную цен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Я открыла для себя, что работа с соленым тестом это увлекательное занятие, которое развивает художественный вкус, творческие способности, воображение  и фантаз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нятия с тестом оставляют приятные ощущения и позволяют расслабить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строение улучшается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725400"/>
            <a:ext cx="9009000" cy="542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642600"/>
            <a:ext cx="72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Проблема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раннего детства нас радуют подарки. Это мячи, мягкие игрушки, настольные игры и поделки, сделанные своими ру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меня, было, очень важно смогу ли я сама изготовить поделку из соленого теста: замесить тесто, вылепить изделие, правильно высушить его, красиво разукрасить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96080" y="549360"/>
            <a:ext cx="11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4df"/>
                </a:solidFill>
                <a:latin typeface="Calibri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Изучить историю возникновения поделки из солёного тес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.Оценить свои возможности в проектной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Разработать и выполни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делать поделку своими ру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.Любить и уважать промыслы народного творч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840" y="213840"/>
            <a:ext cx="72867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cd6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df4df"/>
                </a:solidFill>
                <a:latin typeface="Arial"/>
              </a:rPr>
              <a:t>Мотивация выбор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Лепка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один из интересных и увлекательных видов прикладного творчества. Она достаточно проста. Лепить всегда интересно. А когда твои работы нравятся другим, то это вызывает ещё больший интере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меня всегда привлекало в изготовлении фигур из соленого теста – это возможность подержать свое создание в руках, прикоснуться к нему, в отличие от рисунка, где изображение остается плоским, ограниченным двухмерным пространством. Классическая техника работы с соленым тестом предполагает изготовление фигур с объемными сторонами, которым придается горизонтальное полож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2786040" y="4572000"/>
            <a:ext cx="2500200" cy="2000160"/>
          </a:xfrm>
          <a:prstGeom prst="rect">
            <a:avLst/>
          </a:prstGeom>
          <a:ln w="381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История возникновения солёного теста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гда-то давным-давно, в седую старину, люди начали лепить хлебные лепешки из муки и воды и обжигать их на раскаленных камнях. Из теста выпекали не только хлеб, но и декоративные издел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готовление теста из муки, соли и воды является старинным обычаем и применялось для выполнения фигурок из народных сказаний и в религиозных целях. Еще древние египтяне, греки и римляне использовали фигурки из соленого теста для преклонения перед своими божест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Германии и Скандинавии издавна было принято изготавливать пасхальные из рождественские сувениры из соленого теста. Различные медальоны, венки, кольца и подковы вывешивались в проеме окон или крепились к дверям. Считалось, что эти украшения приносят хозяевам дома, который они украшают, удачу и благоденств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42560" y="214200"/>
            <a:ext cx="6643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о время Первой и Второй мировых войн искусство изготовления соленого теста было утеряно, поскольку не хватало материала. В наше время эта древняя традиция начала возрождаться. В последние двадцать лет оно вызывает все больший интерес, с каждым годом расширяя круг своих поклонник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ринный русский народный промысел – лепка из соленого теста — упоминается в летописях уже в XII веке. Центром промысла является Русский Север, Архангельская область. Фигурки из соленого теста были не простыми игрушками, они играли магическую, ритуальную роль – служили оберег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России на Рождество пекли из пшеничного теста «коровок», «бычков», «петушков», «свинок», «козочек» в знак того, чтобы на дворе было побольше «животинки». Эти печенья дарили родным, соседям, украшали окна. Чтобы сохранить их от насекомых и поедания их мышами, в тесто добавляли большое количество соли - так возникло соленое тест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читалось, что любая поделка из соленого теста, находящаяся в доме, - символ богатства и благополучия в семье. И хлеб с солью будут всегда на стол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3840" y="285840"/>
            <a:ext cx="7386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"Дарю вам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мукосол,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бы были хлеб да соль, чтобы было в доме изобилие", - так говорили в праздники в северных русских деревнях, даря произведения из соленого те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укосол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это не только забавные фигурки из соленого теста на холсте или в самостоятельной композиции, это обереги наших домов еще с дохристианских времен. Считалась, что любая такая поделка, находящаяся в доме - символ богатства, благополучия и достатка в семь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5572080" y="4432320"/>
            <a:ext cx="2011320" cy="1687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"/>
          <p:cNvPicPr/>
          <p:nvPr/>
        </p:nvPicPr>
        <p:blipFill>
          <a:blip r:embed="rId2"/>
          <a:stretch/>
        </p:blipFill>
        <p:spPr>
          <a:xfrm>
            <a:off x="573120" y="4286160"/>
            <a:ext cx="2073240" cy="1913040"/>
          </a:xfrm>
          <a:prstGeom prst="rect">
            <a:avLst/>
          </a:prstGeom>
          <a:ln w="0">
            <a:noFill/>
          </a:ln>
        </p:spPr>
      </p:pic>
      <p:pic>
        <p:nvPicPr>
          <p:cNvPr id="205" name="Объект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18144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4df"/>
                </a:solidFill>
                <a:latin typeface="Arial"/>
              </a:rPr>
              <a:t>Техника приготовления теста</a:t>
            </a:r>
            <a:endParaRPr b="0" lang="en-US" sz="28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357120" y="1661040"/>
            <a:ext cx="72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a"/>
                </a:solidFill>
                <a:latin typeface="Calibri"/>
                <a:ea typeface="Times New Roman"/>
              </a:rPr>
              <a:t>Что нужно для работ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ка пшеничн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 холодн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ой рецепт тест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00 гр. Муки (2 стакана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00 гр. Соли (1 стака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00 гр. Воды (1 стака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еста не нужно много, можно все уменьшить вдво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a"/>
                </a:solidFill>
                <a:latin typeface="Calibri"/>
                <a:ea typeface="Times New Roman"/>
              </a:rPr>
              <a:t>Цветное тест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того, чтобы солёное тесто стало цветным, можно добавить в него пищевые красители, гуашь, сок моркови и свёклы, какао и т.д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Содержимое 7" descr="F:\проекты\Олин проект\фото для Олиного проекта\фото тесто\тесто666.jpg"/>
          <p:cNvPicPr/>
          <p:nvPr/>
        </p:nvPicPr>
        <p:blipFill>
          <a:blip r:embed="rId1"/>
          <a:stretch/>
        </p:blipFill>
        <p:spPr>
          <a:xfrm>
            <a:off x="4500720" y="1857240"/>
            <a:ext cx="21906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4df"/>
                </a:solidFill>
                <a:latin typeface="Arial"/>
              </a:rPr>
              <a:t>Этапы выполнения работы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одготовить эскиз будущей рабо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Замесить тест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C:\Users\админ\Desktop\проект\P1020960.JPG"/>
          <p:cNvPicPr/>
          <p:nvPr/>
        </p:nvPicPr>
        <p:blipFill>
          <a:blip r:embed="rId1"/>
          <a:stretch/>
        </p:blipFill>
        <p:spPr>
          <a:xfrm>
            <a:off x="1928880" y="3500280"/>
            <a:ext cx="3835440" cy="287676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7:11:12Z</dcterms:created>
  <dc:creator>Admin</dc:creator>
  <dc:description/>
  <dc:language>en-US</dc:language>
  <cp:lastModifiedBy>Админ</cp:lastModifiedBy>
  <dcterms:modified xsi:type="dcterms:W3CDTF">2019-01-03T07:51:19Z</dcterms:modified>
  <cp:revision>49</cp:revision>
  <dc:subject/>
  <dc:title>Тема урока: «Изготовление куклы  берегини в русском народном костюме»</dc:title>
</cp:coreProperties>
</file>