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34E-697B-4DA2-90AD-D2D563C45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101-0EB5-4760-A49E-99CC643F4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1AE-7CE8-4C52-A3FC-8326C0B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9C6-043C-47E3-B553-14C2C45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B14-B601-45A6-B199-449BF1F6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481-1778-443E-B860-4B4C6D3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13D-0ACC-4783-A787-2492F90E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703A-F131-4656-874D-A415619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E71-11E1-4088-BDCA-DAF04114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2FA-30ED-441B-994B-8A1C20C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CD58-F6D0-4441-9F4A-39EC0443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1FB-C434-437A-883E-019E62C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5FA-EA7F-478D-8DA6-8C6EDBB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740-0672-4698-88E1-214537B3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BD9-A269-40B7-A56C-9770E3D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2875-4063-4895-B544-5ECA729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98CF-CFA0-49A6-80CF-AD3A875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49CD-0820-4710-99E6-AE68F836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174D-3F5E-470B-8A43-913C1B89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E6571-3F55-4BC5-875B-D2CE496F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6A38F-D831-4DF9-85F2-AE5178C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03F4E-88DC-45DD-86FA-40F4EEF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A9A0E-D4D2-4C1B-ACA6-F2C2EA4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C7D53-8896-4C5E-A044-A0FB2C2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918-3045-4320-ABB0-F813557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56039-8A13-4537-BE7D-3F05D75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1B1F1-E5BB-4547-97AA-A1A0199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66E58-222F-46D6-96F5-CECA4E6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7AC19-CEF7-4776-AC1E-BEE9069C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F9FB9-F519-445F-9E69-E32E7A0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D58EA-B098-4EEA-A7B0-873AF7D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5C555-C520-49D6-A051-199A15AB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DAC0-4CBA-4EA9-8389-89647603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A7C8-4223-444B-B465-2675BD0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EF33-B1B1-4283-A80B-CA515F4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161-8CDB-40AA-8374-F8FD482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4874-F906-47E1-A446-6CACBA7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6445-B568-40FF-B690-DEDA95D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7FAA-BA52-4AA0-920E-57550BE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7DA6-2DF4-4C95-B318-F34246B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65D7-E853-423A-83CF-626919B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6E8E-0441-4058-8BD6-F9795A20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B536-759D-45FA-BEE9-2A2623F2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BDEF-C1FF-44CA-81A5-7C96177A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7D27-EB7B-4396-BA2A-18BDF86B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331B2-5B50-480E-8493-E4DB5C3B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D32-FD1C-4EA4-BF5C-032A62D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C942F-7B22-4834-8BC3-5024203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630D2-738A-411D-9023-5A0C3935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37940-D0CA-4587-88AD-F9BB676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2287D-29B6-4C5D-9FE0-CD157FB0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DA3FC-2C14-4C07-AB85-D18BFB04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F4C15-D90C-4E94-9A70-E61AD71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B5300-1BC0-4B93-A761-6C85FA8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83D41-D16C-4A5B-B822-8C70F95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2EFC3-B584-4E17-B547-8674E8A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F5092-F7D7-4FFA-8F7B-AFA058D7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BAE-4C89-49F1-B38C-8412F26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FCDB2-DCB3-4622-A1A2-E8EA8013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BC518-59E9-4D64-B5E5-08A8E2A0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493B6-ADB5-4147-829E-F7B5659E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7645D-B2C3-47EC-85B2-827F343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94498-C7DD-4534-A82E-804D0611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F72CC-BBD4-4080-9A2C-4AEBC9D2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70187-7E1C-46F5-981E-5A21E9E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314AB-AE59-4AA0-AAB4-7EE80B0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E89E7-135C-40CD-A959-E1490AB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AB1E5-87DA-44BF-9CA6-CA8C59C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252-1641-40B1-98B5-0C1CB39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ED90C-E34C-4D4C-BEB0-FBD9270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C6AD9-1E5F-4FC2-929C-7D3E0F18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E1B01-5BBA-4A9B-86E9-14FDE9F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157C0-15DF-4F8E-A73C-E61DE81F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DE6DE-B251-479C-AEBD-8E06D6C2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8FBDD-F3D3-47EC-A07D-E61D1646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18013-6FD9-40CF-9775-491EC7C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C6BFF-B172-4D5A-AC38-37EBCB2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366AA-E7B1-40E8-93B4-C46EF778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AEEB8-2083-4191-984A-4664933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B27-CFA9-4AEB-956D-2F66842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DC664-A3A9-434D-B2DF-206FF428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2B54C-F227-4D3E-8F4F-C4DBFC3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B969E-1A0D-446D-A1AA-6147402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47B1A-86CF-4751-84DA-09C29BEE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E9B85-23C4-46CE-BBBC-E79BD06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29A-EE9C-4EC5-A5D7-C6AA557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324-76D4-48CC-828C-9FD3B02D7B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3DB-5E02-4F41-97DD-0FF5A72B98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7CC-C032-4C49-A965-BCC796BB26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2D1-B332-40D4-B4D5-CB885A20E3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1F4-C628-46FB-A6A9-A6D4883FC4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C7A-AFBE-4459-BED5-B7A8F2D58A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086-975B-4C6B-9FF3-0AEE5C1FBE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Black"/>
              </a:rPr>
              <a:t>ТЕМА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entury Schoolbook"/>
              </a:rPr>
              <a:t>Вводные слова. Знаки препинания при вводных словах(задание 18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АЗЛИЧАЙТЕ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1600200"/>
          <a:ext cx="8229600" cy="315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лены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исьмо должно быть доставлено адреса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то теор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совершенно очеви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ыло, должно быть, уже поз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чевидно,придётся серьёзно готовиться к экзамен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Line 23"/>
          <p:cNvSpPr/>
          <p:nvPr/>
        </p:nvSpPr>
        <p:spPr>
          <a:xfrm>
            <a:off x="75564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24000" y="692280"/>
          <a:ext cx="8675640" cy="4894200"/>
        </p:xfrm>
        <a:graphic>
          <a:graphicData uri="http://schemas.openxmlformats.org/drawingml/2006/table">
            <a:tbl>
              <a:tblPr/>
              <a:tblGrid>
                <a:gridCol w="4338360"/>
                <a:gridCol w="4337280"/>
              </a:tblGrid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вводными и выделяются запят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являются вводными и  не выделяются запят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дна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ит в середине предложения и его нельзя заменить союзом но. </a:t>
                      </a: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н был, однако, угрюм и молчал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ит в начале или в середине предложения и его можно заменить союзом </a:t>
                      </a:r>
                      <a:r>
                        <a:rPr b="1" i="1" lang="ru-RU" sz="2800" spc="-1" strike="noStrike">
                          <a:solidFill>
                            <a:srgbClr val="7598d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.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тер утих, однако (=но) шторм продолжал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ЛОВА, КОТОРЫЕ ВСЕГДА ЯВЛЯЮТСЯ ВВОДНЫ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нечно, во-первых, во-вторых, итак, следовательно, несомненно, по-видимому, пожалуйс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ЛОВА, КОТОРЫЕ НЕ ЯВЛЯЮТСЯ ВВОДНЫМ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вось, большей частью, будто, буквально, вдобавок, ведь, вряд ли, всё равно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всё-таки, даже, именно,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ногда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 как будто,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 бы между тем, наверняка, по крайней мере, поистине, по-прежнему, поэтому, просто, пусть, решительно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словно,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тем не менее, только, якобы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18 ЗАДАНИЕ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 РАССТАВЬТЕ ЗНАКИ ПРЕПИНАНИЯ: УКАЖИТЕ ВСЕ ЦИФРЫ, НА МЕСТЕ КОТОРЫХ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В ПРЕДЛОЖЕНИИ ДОЛЖНЫ СТОЯТЬ ЗАПЯТЫЕ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перь дуб распускается, и (1) как полагается (2) стало холодн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Я люблю северную природу с её молчаливой хмуростью (3) должно быть (4) за первобытное одиночество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игорский парк в Пушкинском заповеднике (1) по мнени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их (2) пропитан солнцем даже в пасмурные дни. Этот пар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 (3) как будто (4) специально для семейных праздников, дружеских бесед, смеха, шутливых признан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Содержимое 3" descr="C:\Users\User\Pictures\Новая папка (2)\1стр.png"/>
          <p:cNvPicPr/>
          <p:nvPr/>
        </p:nvPicPr>
        <p:blipFill>
          <a:blip r:embed="rId1"/>
          <a:stretch/>
        </p:blipFill>
        <p:spPr>
          <a:xfrm>
            <a:off x="250920" y="333360"/>
            <a:ext cx="8281800" cy="594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Выполнить тест на сай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ttps://saharina.ru/tests/#class_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Задание 18( 1 вариан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ЦЕЛИ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Закрепление навыков постановки запятой в простом осложнённом предлож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Формирование умения различать обособленные члены предложения, вводные сл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Разбор заданий ЕГЭ, связанных с изученной тем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РАСПРЕДЕЛИТЕ СЛОВА В 3 КОЛОНКИ: 1)С ПРОВЕРЯЕМЫМИ БЕЗУДАРНЫМИ ГЛАСНЫМИ,2) НЕПРОВЕРЯЕМЫМИ БЕЗУДАРНЫМИ ГЛАСНЫМИ; 3) С ЧЕРЕДУЮЩИМИСЯ ГЛАСНЫМ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л.стательный, об.ятельный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.снуться, предпол.гать, насл.ждаться, тр.диционный, объед.нение, бл.госл.вить, тв.рец, просв.титель, посв.щать,  накл.ниться, б.гряный, несг.раемый, сож.ление, выск.чка, к.нфликт, инт.лл.гентны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       </a:t>
            </a: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ПРОВЕРЬТЕ 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1197000"/>
          <a:ext cx="8424720" cy="58910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Не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Чередующие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сл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д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ъед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у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л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слов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я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в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св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фл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по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в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щ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т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н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сг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е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ж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к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с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6205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55640" y="257040"/>
            <a:ext cx="7777080" cy="596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2611c"/>
                </a:solidFill>
                <a:latin typeface="Arial Black"/>
                <a:ea typeface="Arial"/>
              </a:rPr>
              <a:t>ВЫПОЛНЕНИЕ ЗАДАНИЯ </a:t>
            </a:r>
            <a:r>
              <a:rPr b="1" lang="en-US" sz="2200" spc="-1" strike="noStrike">
                <a:solidFill>
                  <a:srgbClr val="d2611c"/>
                </a:solidFill>
                <a:latin typeface="Arial Black"/>
                <a:ea typeface="Arial"/>
              </a:rPr>
              <a:t>18</a:t>
            </a:r>
            <a:r>
              <a:rPr b="1" lang="ru-RU" sz="2200" spc="-1" strike="noStrike">
                <a:solidFill>
                  <a:srgbClr val="d2611c"/>
                </a:solidFill>
                <a:latin typeface="Arial Black"/>
                <a:ea typeface="Arial"/>
              </a:rPr>
              <a:t> ЗАПИШИТЕ ПРЕДЛОЖЕНИЯ, РАССТАВИВ ПРАВИЛЬНО ЗНАКИ ПРЕПИНАНИЯ, ОБЪЯСНИТЕ ГРАФИЧЕСКИ ПОСТАНОВКУ ЗАПЯТЫ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Century Schoolbook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Художники(1) пишущие натюрморты(2) передают в своих картинах красоту даров природы и(3) созд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ых руками человека(4) вещ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На одежде князя Куракина (1) сшитой из золотой парчи(2)лежат(3) переливаясь разноцветным шёлком(4) орденские лен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РАВНИТЕ ПРЕДЛОЖЕН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а команда побед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а команда, безусловно, победи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 мнению тренера, наша команда побед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 Black"/>
                <a:ea typeface="Arial"/>
              </a:rPr>
              <a:t>ПОВТОРЕНИЕ.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Arial Black"/>
                <a:ea typeface="Arial"/>
              </a:rPr>
              <a:t>КАКИЕ СЛОВА НАЗЫВАЮТСЯ ВВОДНЫМИ? НА КАКИЕ ГРУППЫ ПО ЗНАЧЕНИЮ ОНИ ДЕЛЯТСЯ</a:t>
            </a:r>
            <a:r>
              <a:rPr b="0" lang="ru-RU" sz="2500" spc="-1" strike="noStrike">
                <a:solidFill>
                  <a:srgbClr val="ff0000"/>
                </a:solidFill>
                <a:latin typeface="Century Schoolbook"/>
                <a:ea typeface="Arial"/>
              </a:rPr>
              <a:t>?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Century Schoolbook"/>
                <a:ea typeface="Arial"/>
              </a:rPr>
              <a:t>                            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Вводные слова обозначаю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1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Различную степень уверенности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.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Конечно, несомненно, вероятно, может быть, кажется, пожалуй, видимо, возможно, разумеется, действитель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2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Различные чувства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К счастью, к несчастью, на радость, к сожалению, как на грех, к удивлению, к досаде, к огорч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3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Источник сообщения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По словам, по-твоему, по мнению, говорят, на мой взгляд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4. Порядок мыслей и их связь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Во-первых, во-вторых, наконец, кстати, следовательно, знач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5. Замечание о способах оформления мыслей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Одним словом, короче говоря, прямо скажем, вообразите, поймите, знаете ли, видите ли, так сказ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8:19:05Z</dcterms:created>
  <dc:creator>Иван</dc:creator>
  <dc:description/>
  <dc:language>en-US</dc:language>
  <cp:lastModifiedBy>User</cp:lastModifiedBy>
  <dcterms:modified xsi:type="dcterms:W3CDTF">2019-01-03T13:36:16Z</dcterms:modified>
  <cp:revision>72</cp:revision>
  <dc:subject/>
  <dc:title>Слайд 1</dc:title>
</cp:coreProperties>
</file>