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DE618-1190-4592-86E7-BD40EC3A785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C0970-915B-4774-9326-77C99A9C5A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2FB1-888A-406C-B119-0E4967317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28E5-38F4-4738-8BE0-C26E6CE1E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06B0-D6F2-47BF-A09A-801E1004B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ADF2-2191-4515-87C9-151CCDBD2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3FF72-5CA0-4A94-A592-0B4626B5E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197B9-6D5A-4C28-8054-4831CE08A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09C59-9F3B-4195-9BF9-98987DE54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AFA18-9000-4682-8069-6B1A96358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B154F-56C3-4B79-9F44-81509DDA2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89B88-EBEC-4710-9D8C-B5A8842F2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3FBDF-F3CB-488C-A2CF-220133EE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0C2B-C0C1-4096-BA44-16FBED2E2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17F62-EB31-407D-9A10-95F2E1468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42B31-0863-43E5-96D2-3973174F2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AE523-1360-487D-9E6C-69C0A550A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531A0-7B65-45E7-8A2C-4238C082B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F4779-614A-466A-8374-D165F1A9D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CB1FA8-83D2-45F9-BE90-57351EECC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829F4E-3933-433B-B91B-05FEBDB1D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7EDBD4-8F1C-4EA0-9C7E-C4023A6E6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34760D-216B-483E-B3A6-E173F3F4F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7AB6D8-FB48-4242-8D1B-61595C658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3ACF-961F-4482-AF85-95B02267E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450D18-C9E3-445F-92CD-907690AED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344372-51BD-45CE-B33D-6F419B82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3EA21C-68B9-4CCB-BFC6-3BE8DF74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FFF76C-A2D7-469E-A287-451F1A957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D0CDAB-0B9D-4BB4-AEAC-BFAE7CA28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4EC85D-ABA3-4793-A777-742DE2C91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DDD7CA-50EB-48C2-BBC2-E442B10A0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FF4BF-6A51-40F2-A51E-A14866EE9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F0665-7639-4F64-BC8F-51CBEFA3C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EBD3F-C2FE-4E5C-BCBC-C8477A943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566D-C170-4666-BA38-5E97CB66E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0C40A-2E8C-47F0-AAD9-7551F1452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58414-65E6-4B34-B094-EB4954E38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93F72-F58D-4501-B69E-C5DD9030C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DCB7E-9CBA-41B0-9B6B-BDA1E0F9E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4D1F0-0D56-4612-940C-C3F9848C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2C579-D4A9-4322-BDE2-18BCEA9C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DB198-5457-485C-91CA-34AA9AA48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0F796-D7BC-42A1-B9F3-27D41D054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F234C-9469-400F-87C7-4DBAE1BBF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EE268A-5F66-42F5-A347-1EDEBE3DB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AD2E-8A5C-4E33-A6AF-0A78E7122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8FA22F-9281-4615-BBA7-F8F79F2D2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10C322-4AB8-42DE-BFB6-4B0A7A12C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684F46-3CA6-4BE0-98B6-BA0DF18E4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34BAAF-2325-49DF-A06C-FE87ABB36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ACF72C-0C01-41A0-B7AF-A5B7BE1F7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2AC7B1-EDD9-4BE3-A428-7A8223BD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1A4BA7-FB8A-4FCD-B853-DB71A33C1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D3DCC8-6CAA-4B99-8789-F1A0FBDE1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209137-2662-4AA0-91BC-E14942370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5EAA91-2757-4EF3-85B6-4E0509C4F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0A8E-5681-4643-9061-D2D7B39FC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F48F99-142A-4617-AB11-8EEE8A4D8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A7701F-B5EA-4F2F-A9EF-E281163A8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391CEF-57C2-413B-A542-04079A859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8772A4-ACEC-4BCF-831A-3DBC4CBAF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52D30E-9922-42A7-B854-412615908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C7277A-4B13-46D2-A4FE-3583C601A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DD25A8-9327-4047-ACC7-5F7447E27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9F8FDF-13A1-4C6E-B6A9-B64FF05B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24B090-4DDF-4F61-83ED-C4C7C34E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6E5120-09FB-4C99-BFA2-55404425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DF11-7FE7-46B3-B0A2-A76C96AE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4F3026-43ED-4D40-9437-A77BAA8BF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B27569-28E3-42C7-8CDA-CC1B90D14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A31CE0-360F-4271-A687-44A56E81A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3A918E-40C2-4FF7-BF15-8014CC3E9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EADE26-6352-413D-A16F-589AA4846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17BC14-D199-41DD-A3A5-4801649CD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267A2D-2F7E-48BC-99CB-9019A62B9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390E1A-071F-4D72-92BB-0E8F9BCFE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CB72DD-D09B-4BB0-AF28-A2B43C178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9CC1C6-4E69-4F84-A39D-1C845849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8052-3C8B-4D14-90BC-97AC7278E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E8372B-94E2-4C37-B482-F4EF802C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A36629-119A-4546-B89F-72026926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66876C-C385-40C7-B1A6-28E59CF6F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3ADE6E-3936-49A9-9E98-579717565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07E71A-1D27-4203-A51C-F414B562A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E5F6-9F9F-4469-BB98-C9435237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B5146-1088-4362-8084-E72A742A9D4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50872-530A-4D85-A995-EC7BB39EAC9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10FC6-D734-4F97-86ED-CD711B09411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31EA5-D8F2-426F-9484-8FE7ACF89EF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2FD8C-61DB-4F3C-AB52-F2F6A3F4DE5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E5117-9EFE-4D1A-AF80-71AE522541F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E93E4-0E7A-438C-A7C6-7743D04188A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 Black"/>
              </a:rPr>
              <a:t>ТЕМА УРОКА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11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Century Schoolbook"/>
              </a:rPr>
              <a:t>Вводные слова. Знаки препинания при вводных словах(задание 18)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               </a:t>
            </a: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РАЗЛИЧАЙТЕ!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457200" y="1600200"/>
          <a:ext cx="8229600" cy="31543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89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лены предлож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водные сло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Письмо должно быть доставлено адресат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Это теоретическ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ожение совершенно очевидн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Было, должно быть, уже поздно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Очевидно,придётся серьёзно готовиться к экзамен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8" name="Line 23"/>
          <p:cNvSpPr/>
          <p:nvPr/>
        </p:nvSpPr>
        <p:spPr>
          <a:xfrm>
            <a:off x="755640" y="2708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9" name=""/>
          <p:cNvGraphicFramePr/>
          <p:nvPr/>
        </p:nvGraphicFramePr>
        <p:xfrm>
          <a:off x="324000" y="692280"/>
          <a:ext cx="8675640" cy="4894200"/>
        </p:xfrm>
        <a:graphic>
          <a:graphicData uri="http://schemas.openxmlformats.org/drawingml/2006/table">
            <a:tbl>
              <a:tblPr/>
              <a:tblGrid>
                <a:gridCol w="4338360"/>
                <a:gridCol w="4337280"/>
              </a:tblGrid>
              <a:tr h="12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вляются вводными и выделяются запятым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являются вводными и  не выделяются запятым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</a:t>
                      </a: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Arial Black"/>
                        </a:rPr>
                        <a:t>Однак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8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ли стоит в середине предложения и его нельзя заменить союзом но. </a:t>
                      </a:r>
                      <a:r>
                        <a:rPr b="1" i="1" lang="ru-RU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Он был, однако, угрюм и молчали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ли стоит в начале или в середине предложения и его можно заменить союзом </a:t>
                      </a:r>
                      <a:r>
                        <a:rPr b="1" i="1" lang="ru-RU" sz="2800" spc="-1" strike="noStrike">
                          <a:solidFill>
                            <a:srgbClr val="7598d9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. </a:t>
                      </a:r>
                      <a:r>
                        <a:rPr b="1" i="1" lang="ru-RU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Ветер утих, однако (=но) шторм продолжалс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 Black"/>
              </a:rPr>
              <a:t>СЛОВА, КОТОРЫЕ ВСЕГДА ЯВЛЯЮТСЯ ВВОДНЫМИ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Конечно, во-первых, во-вторых, итак, следовательно, несомненно, по-видимому, пожалуйста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 Black"/>
              </a:rPr>
              <a:t>СЛОВА, КОТОРЫЕ НЕ ЯВЛЯЮТСЯ ВВОДНЫМИ: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авось, большей частью, будто, буквально, вдобавок, ведь, вряд ли, всё равно,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 Black"/>
              </a:rPr>
              <a:t>всё-таки, даже, именно, </a:t>
            </a: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иногда,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 Black"/>
              </a:rPr>
              <a:t> как будто, </a:t>
            </a: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как бы между тем, наверняка, по крайней мере, поистине, по-прежнему, поэтому, просто, пусть, решительно,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 Black"/>
              </a:rPr>
              <a:t>словно,</a:t>
            </a: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 тем не менее, только, якобы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 Black"/>
              </a:rPr>
              <a:t>18 ЗАДАНИЕ</a:t>
            </a:r>
            <a:br>
              <a:rPr sz="2400"/>
            </a:br>
            <a:r>
              <a:rPr b="1" lang="ru-RU" sz="2400" spc="-1" strike="noStrike">
                <a:solidFill>
                  <a:srgbClr val="ff3300"/>
                </a:solidFill>
                <a:latin typeface="Arial Black"/>
              </a:rPr>
              <a:t> РАССТАВЬТЕ ЗНАКИ ПРЕПИНАНИЯ: УКАЖИТЕ ВСЕ ЦИФРЫ, НА МЕСТЕ КОТОРЫХ</a:t>
            </a:r>
            <a:br>
              <a:rPr sz="2400"/>
            </a:br>
            <a:r>
              <a:rPr b="1" lang="ru-RU" sz="2400" spc="-1" strike="noStrike">
                <a:solidFill>
                  <a:srgbClr val="ff3300"/>
                </a:solidFill>
                <a:latin typeface="Arial Black"/>
              </a:rPr>
              <a:t>В ПРЕДЛОЖЕНИИ ДОЛЖНЫ СТОЯТЬ ЗАПЯТЫЕ.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Теперь дуб распускается, и (1) как полагается (2) стало холодно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Я люблю северную природу с её молчаливой хмуростью (3) должно быть (4) за первобытное одиночество.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75f6d"/>
                </a:solidFill>
                <a:latin typeface="Century Schoolbook"/>
              </a:rPr>
              <a:t>.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Тригорский парк в Пушкинском заповеднике (1) по мнению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ногих (2) пропитан солнцем даже в пасмурные дни. Этот парк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оздан (3) как будто (4) специально для семейных праздников, дружеских бесед, смеха, шутливых признаний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9" name="Содержимое 3" descr="C:\Users\User\Pictures\Новая папка (2)\1стр.png"/>
          <p:cNvPicPr/>
          <p:nvPr/>
        </p:nvPicPr>
        <p:blipFill>
          <a:blip r:embed="rId1"/>
          <a:stretch/>
        </p:blipFill>
        <p:spPr>
          <a:xfrm>
            <a:off x="250920" y="333360"/>
            <a:ext cx="8281800" cy="59436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lang="ru-RU" sz="3000" spc="-1" strike="noStrike">
                <a:solidFill>
                  <a:srgbClr val="ff0000"/>
                </a:solidFill>
                <a:latin typeface="Century Schoolbook"/>
              </a:rPr>
              <a:t>ДОМАШНЕЕ ЗАДАНИЕ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  <a:ea typeface="Arial"/>
              </a:rPr>
              <a:t>Выполнить тест на сайте 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https://saharina.ru/tests/#class_1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  <a:ea typeface="Arial"/>
              </a:rPr>
              <a:t>Задание 18( 1 вариант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entury Schoolbook"/>
                <a:ea typeface="Arial"/>
              </a:rPr>
              <a:t>ЦЕЛИ УРОКА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1. Закрепление навыков постановки запятой в простом осложнённом предложени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2. Формирование умения различать обособленные члены предложения, вводные слов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3. Разбор заданий ЕГЭ, связанных с изученной темо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entury Schoolbook"/>
              </a:rPr>
              <a:t>РАСПРЕДЕЛИТЕ СЛОВА В 3 КОЛОНКИ: 1)С ПРОВЕРЯЕМЫМИ БЕЗУДАРНЫМИ ГЛАСНЫМИ,2) НЕПРОВЕРЯЕМЫМИ БЕЗУДАРНЫМИ ГЛАСНЫМИ; 3) С ЧЕРЕДУЮЩИМИСЯ ГЛАСНЫМИ</a:t>
            </a:r>
            <a:endParaRPr b="0" lang="en-US" sz="2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Бл.стательный, об.ятельный,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к.снуться, предпол.гать, насл.ждаться, тр.диционный, объед.нение, бл.госл.вить, тв.рец, просв.титель, посв.щать,  накл.ниться, б.гряный, несг.раемый, сож.ление, выск.чка, к.нфликт, инт.лл.гентный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0000"/>
                </a:solidFill>
                <a:latin typeface="Century Schoolbook"/>
              </a:rPr>
              <a:t>               </a:t>
            </a:r>
            <a:r>
              <a:rPr b="0" lang="ru-RU" sz="4300" spc="-1" strike="noStrike">
                <a:solidFill>
                  <a:srgbClr val="ff0000"/>
                </a:solidFill>
                <a:latin typeface="Century Schoolbook"/>
              </a:rPr>
              <a:t>ПРОВЕРЬТЕ </a:t>
            </a:r>
            <a:endParaRPr b="0" lang="en-US" sz="43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395280" y="1197000"/>
          <a:ext cx="8424720" cy="5891040"/>
        </p:xfrm>
        <a:graphic>
          <a:graphicData uri="http://schemas.openxmlformats.org/drawingml/2006/table">
            <a:tbl>
              <a:tblPr/>
              <a:tblGrid>
                <a:gridCol w="2808360"/>
                <a:gridCol w="2808360"/>
                <a:gridCol w="2808000"/>
              </a:tblGrid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Проверяем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eba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Непроверяем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eba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Чередующие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ebad5"/>
                    </a:solidFill>
                  </a:tcPr>
                </a:tc>
              </a:tr>
              <a:tr h="70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насл</a:t>
                      </a:r>
                      <a:r>
                        <a:rPr b="1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Century Schoolbook"/>
                        </a:rPr>
                        <a:t>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ждать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e7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об</a:t>
                      </a:r>
                      <a:r>
                        <a:rPr b="1" lang="ru-RU" sz="2400" spc="-1" strike="noStrike" u="sng">
                          <a:solidFill>
                            <a:srgbClr val="ff0000"/>
                          </a:solidFill>
                          <a:uFillTx/>
                          <a:latin typeface="Century Schoolbook"/>
                        </a:rPr>
                        <a:t>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ятель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e7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бл</a:t>
                      </a:r>
                      <a:r>
                        <a:rPr b="1" lang="ru-RU" sz="2400" spc="-1" strike="noStrike" u="sng">
                          <a:solidFill>
                            <a:srgbClr val="ff0000"/>
                          </a:solidFill>
                          <a:uFillTx/>
                          <a:latin typeface="Century Schoolbook"/>
                        </a:rPr>
                        <a:t>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татель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e7ef"/>
                    </a:solidFill>
                  </a:tcPr>
                </a:tc>
              </a:tr>
              <a:tr h="70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объед</a:t>
                      </a:r>
                      <a:r>
                        <a:rPr b="1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Century Schoolbook"/>
                        </a:rPr>
                        <a:t>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н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тр</a:t>
                      </a:r>
                      <a:r>
                        <a:rPr b="1" lang="ru-RU" sz="2400" spc="-1" strike="noStrike" u="sng">
                          <a:solidFill>
                            <a:srgbClr val="ff0000"/>
                          </a:solidFill>
                          <a:uFillTx/>
                          <a:latin typeface="Century Schoolbook"/>
                        </a:rPr>
                        <a:t>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дицион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</a:t>
                      </a:r>
                      <a:r>
                        <a:rPr b="1" lang="ru-RU" sz="2400" spc="-1" strike="noStrike" u="sng">
                          <a:solidFill>
                            <a:srgbClr val="ff0000"/>
                          </a:solidFill>
                          <a:uFillTx/>
                          <a:latin typeface="Century Schoolbook"/>
                        </a:rPr>
                        <a:t>о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нуть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3f7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бл</a:t>
                      </a:r>
                      <a:r>
                        <a:rPr b="1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Century Schoolbook"/>
                        </a:rPr>
                        <a:t>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гослови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e7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б</a:t>
                      </a:r>
                      <a:r>
                        <a:rPr b="1" lang="ru-RU" sz="2400" spc="-1" strike="noStrike" u="sng">
                          <a:solidFill>
                            <a:srgbClr val="ff0000"/>
                          </a:solidFill>
                          <a:uFillTx/>
                          <a:latin typeface="Century Schoolbook"/>
                        </a:rPr>
                        <a:t>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гря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e7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тв</a:t>
                      </a:r>
                      <a:r>
                        <a:rPr b="1" lang="ru-RU" sz="2400" spc="-1" strike="noStrike" u="sng">
                          <a:solidFill>
                            <a:srgbClr val="ff0000"/>
                          </a:solidFill>
                          <a:uFillTx/>
                          <a:latin typeface="Century Schoolbook"/>
                        </a:rPr>
                        <a:t>о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ре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e7ef"/>
                    </a:solidFill>
                  </a:tcPr>
                </a:tc>
              </a:tr>
              <a:tr h="70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росв</a:t>
                      </a:r>
                      <a:r>
                        <a:rPr b="1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Century Schoolbook"/>
                        </a:rPr>
                        <a:t>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тите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</a:t>
                      </a:r>
                      <a:r>
                        <a:rPr b="1" lang="ru-RU" sz="2400" spc="-1" strike="noStrike" u="sng">
                          <a:solidFill>
                            <a:srgbClr val="ff0000"/>
                          </a:solidFill>
                          <a:uFillTx/>
                          <a:latin typeface="Century Schoolbook"/>
                        </a:rPr>
                        <a:t>о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нфлик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редпол</a:t>
                      </a:r>
                      <a:r>
                        <a:rPr b="1" lang="ru-RU" sz="2400" spc="-1" strike="noStrike" u="sng">
                          <a:solidFill>
                            <a:srgbClr val="ff0000"/>
                          </a:solidFill>
                          <a:uFillTx/>
                          <a:latin typeface="Century Schoolbook"/>
                        </a:rPr>
                        <a:t>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г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3f7"/>
                    </a:solidFill>
                  </a:tcPr>
                </a:tc>
              </a:tr>
              <a:tr h="70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осв</a:t>
                      </a:r>
                      <a:r>
                        <a:rPr b="1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Century Schoolbook"/>
                        </a:rPr>
                        <a:t>я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ща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e7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инт</a:t>
                      </a:r>
                      <a:r>
                        <a:rPr b="1" lang="ru-RU" sz="2400" spc="-1" strike="noStrike" u="sng">
                          <a:solidFill>
                            <a:srgbClr val="ff0000"/>
                          </a:solidFill>
                          <a:uFillTx/>
                          <a:latin typeface="Century Schoolbook"/>
                        </a:rPr>
                        <a:t>е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лл</a:t>
                      </a:r>
                      <a:r>
                        <a:rPr b="1" lang="ru-RU" sz="2400" spc="-1" strike="noStrike" u="sng">
                          <a:solidFill>
                            <a:srgbClr val="ff0000"/>
                          </a:solidFill>
                          <a:uFillTx/>
                          <a:latin typeface="Century Schoolbook"/>
                        </a:rPr>
                        <a:t>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гент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e7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несг</a:t>
                      </a:r>
                      <a:r>
                        <a:rPr b="1" lang="ru-RU" sz="2400" spc="-1" strike="noStrike" u="sng">
                          <a:solidFill>
                            <a:srgbClr val="ff0000"/>
                          </a:solidFill>
                          <a:uFillTx/>
                          <a:latin typeface="Century Schoolbook"/>
                        </a:rPr>
                        <a:t>о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раем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e7ef"/>
                    </a:solidFill>
                  </a:tcPr>
                </a:tc>
              </a:tr>
              <a:tr h="70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ож</a:t>
                      </a:r>
                      <a:r>
                        <a:rPr b="1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Century Schoolbook"/>
                        </a:rPr>
                        <a:t>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л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накл</a:t>
                      </a:r>
                      <a:r>
                        <a:rPr b="1" lang="ru-RU" sz="2400" spc="-1" strike="noStrike" u="sng">
                          <a:solidFill>
                            <a:srgbClr val="ff0000"/>
                          </a:solidFill>
                          <a:uFillTx/>
                          <a:latin typeface="Century Schoolbook"/>
                        </a:rPr>
                        <a:t>о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нить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3f7"/>
                    </a:solidFill>
                  </a:tcPr>
                </a:tc>
              </a:tr>
              <a:tr h="70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e7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e7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ыск</a:t>
                      </a:r>
                      <a:r>
                        <a:rPr b="1" lang="ru-RU" sz="2400" spc="-1" strike="noStrike" u="sng">
                          <a:solidFill>
                            <a:srgbClr val="ff0000"/>
                          </a:solidFill>
                          <a:uFillTx/>
                          <a:latin typeface="Century Schoolbook"/>
                        </a:rPr>
                        <a:t>о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ч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e7ef"/>
                    </a:solidFill>
                  </a:tcPr>
                </a:tc>
              </a:tr>
            </a:tbl>
          </a:graphicData>
        </a:graphic>
      </p:graphicFrame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8" name="Picture 5" descr=""/>
          <p:cNvPicPr/>
          <p:nvPr/>
        </p:nvPicPr>
        <p:blipFill>
          <a:blip r:embed="rId1"/>
          <a:stretch/>
        </p:blipFill>
        <p:spPr>
          <a:xfrm>
            <a:off x="755640" y="189000"/>
            <a:ext cx="7488360" cy="62053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5" descr=""/>
          <p:cNvPicPr/>
          <p:nvPr/>
        </p:nvPicPr>
        <p:blipFill>
          <a:blip r:embed="rId1"/>
          <a:stretch/>
        </p:blipFill>
        <p:spPr>
          <a:xfrm>
            <a:off x="755640" y="257040"/>
            <a:ext cx="7777080" cy="5967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d2611c"/>
                </a:solidFill>
                <a:latin typeface="Arial Black"/>
                <a:ea typeface="Arial"/>
              </a:rPr>
              <a:t>ВЫПОЛНЕНИЕ ЗАДАНИЯ </a:t>
            </a:r>
            <a:r>
              <a:rPr b="1" lang="en-US" sz="2200" spc="-1" strike="noStrike">
                <a:solidFill>
                  <a:srgbClr val="d2611c"/>
                </a:solidFill>
                <a:latin typeface="Arial Black"/>
                <a:ea typeface="Arial"/>
              </a:rPr>
              <a:t>18</a:t>
            </a:r>
            <a:r>
              <a:rPr b="1" lang="ru-RU" sz="2200" spc="-1" strike="noStrike">
                <a:solidFill>
                  <a:srgbClr val="d2611c"/>
                </a:solidFill>
                <a:latin typeface="Arial Black"/>
                <a:ea typeface="Arial"/>
              </a:rPr>
              <a:t> ЗАПИШИТЕ ПРЕДЛОЖЕНИЯ, РАССТАВИВ ПРАВИЛЬНО ЗНАКИ ПРЕПИНАНИЯ, ОБЪЯСНИТЕ ГРАФИЧЕСКИ ПОСТАНОВКУ ЗАПЯТЫХ</a:t>
            </a:r>
            <a:endParaRPr b="0" lang="en-US" sz="2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598d9"/>
                </a:solidFill>
                <a:latin typeface="Century Schoolbook"/>
                <a:ea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1.Художники(1) пишущие натюрморты(2) передают в своих картинах красоту даров природы и(3) созда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Schoolbook"/>
                <a:ea typeface="Arial"/>
              </a:rPr>
              <a:t>нн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ых руками человека(4) веще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2.На одежде князя Куракина (1) сшитой из золотой парчи(2)лежат(3) переливаясь разноцветным шёлком(4) орденские лент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 Black"/>
              </a:rPr>
              <a:t>СРАВНИТЕ ПРЕДЛОЖЕНИЯ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Наша команда победит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Наша команда, безусловно, победит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По мнению тренера, наша команда победит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00"/>
                </a:solidFill>
                <a:latin typeface="Arial Black"/>
                <a:ea typeface="Arial"/>
              </a:rPr>
              <a:t>ПОВТОРЕНИЕ.</a:t>
            </a:r>
            <a:br>
              <a:rPr sz="2500"/>
            </a:br>
            <a:r>
              <a:rPr b="0" lang="ru-RU" sz="2500" spc="-1" strike="noStrike">
                <a:solidFill>
                  <a:srgbClr val="ff0000"/>
                </a:solidFill>
                <a:latin typeface="Arial Black"/>
                <a:ea typeface="Arial"/>
              </a:rPr>
              <a:t>КАКИЕ СЛОВА НАЗЫВАЮТСЯ ВВОДНЫМИ? НА КАКИЕ ГРУППЫ ПО ЗНАЧЕНИЮ ОНИ ДЕЛЯТСЯ</a:t>
            </a:r>
            <a:r>
              <a:rPr b="0" lang="ru-RU" sz="2500" spc="-1" strike="noStrike">
                <a:solidFill>
                  <a:srgbClr val="ff0000"/>
                </a:solidFill>
                <a:latin typeface="Century Schoolbook"/>
                <a:ea typeface="Arial"/>
              </a:rPr>
              <a:t>?</a:t>
            </a:r>
            <a:endParaRPr b="0" lang="en-US" sz="25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598d9"/>
                </a:solidFill>
                <a:latin typeface="Century Schoolbook"/>
                <a:ea typeface="Arial"/>
              </a:rPr>
              <a:t>                            </a:t>
            </a:r>
            <a:r>
              <a:rPr b="1" lang="ru-RU" sz="2400" spc="-1" strike="noStrike">
                <a:solidFill>
                  <a:srgbClr val="7598d9"/>
                </a:solidFill>
                <a:latin typeface="Arial Black"/>
                <a:ea typeface="Arial"/>
              </a:rPr>
              <a:t>Вводные слова обозначают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2611c"/>
                </a:solidFill>
                <a:latin typeface="Arial Black"/>
                <a:ea typeface="Arial"/>
              </a:rPr>
              <a:t>1.</a:t>
            </a:r>
            <a:r>
              <a:rPr b="1" lang="ru-RU" sz="2400" spc="-1" strike="noStrike">
                <a:solidFill>
                  <a:srgbClr val="7598d9"/>
                </a:solidFill>
                <a:latin typeface="Arial Black"/>
                <a:ea typeface="Arial"/>
              </a:rPr>
              <a:t> </a:t>
            </a:r>
            <a:r>
              <a:rPr b="1" lang="ru-RU" sz="2400" spc="-1" strike="noStrike">
                <a:solidFill>
                  <a:srgbClr val="d2611c"/>
                </a:solidFill>
                <a:latin typeface="Arial Black"/>
                <a:ea typeface="Arial"/>
              </a:rPr>
              <a:t>Различную степень уверенности</a:t>
            </a:r>
            <a:r>
              <a:rPr b="1" lang="ru-RU" sz="2400" spc="-1" strike="noStrike">
                <a:solidFill>
                  <a:srgbClr val="7598d9"/>
                </a:solidFill>
                <a:latin typeface="Arial Black"/>
                <a:ea typeface="Arial"/>
              </a:rPr>
              <a:t>. </a:t>
            </a:r>
            <a:r>
              <a:rPr b="1" i="1" lang="ru-RU" sz="2400" spc="-1" strike="noStrike">
                <a:solidFill>
                  <a:srgbClr val="7598d9"/>
                </a:solidFill>
                <a:latin typeface="Arial Black"/>
                <a:ea typeface="Arial"/>
              </a:rPr>
              <a:t>Конечно, несомненно, вероятно, может быть, кажется, пожалуй, видимо, возможно, разумеется, действительно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2611c"/>
                </a:solidFill>
                <a:latin typeface="Arial Black"/>
                <a:ea typeface="Arial"/>
              </a:rPr>
              <a:t>2.</a:t>
            </a:r>
            <a:r>
              <a:rPr b="1" lang="ru-RU" sz="2400" spc="-1" strike="noStrike">
                <a:solidFill>
                  <a:srgbClr val="7598d9"/>
                </a:solidFill>
                <a:latin typeface="Arial Black"/>
                <a:ea typeface="Arial"/>
              </a:rPr>
              <a:t> </a:t>
            </a:r>
            <a:r>
              <a:rPr b="1" lang="ru-RU" sz="2400" spc="-1" strike="noStrike">
                <a:solidFill>
                  <a:srgbClr val="d2611c"/>
                </a:solidFill>
                <a:latin typeface="Arial Black"/>
                <a:ea typeface="Arial"/>
              </a:rPr>
              <a:t>Различные чувства.</a:t>
            </a:r>
            <a:r>
              <a:rPr b="1" lang="ru-RU" sz="2400" spc="-1" strike="noStrike">
                <a:solidFill>
                  <a:srgbClr val="7598d9"/>
                </a:solidFill>
                <a:latin typeface="Arial Black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7598d9"/>
                </a:solidFill>
                <a:latin typeface="Arial Black"/>
                <a:ea typeface="Arial"/>
              </a:rPr>
              <a:t>К счастью, к несчастью, на радость, к сожалению, как на грех, к удивлению, к досаде, к огорчению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2611c"/>
                </a:solidFill>
                <a:latin typeface="Arial Black"/>
                <a:ea typeface="Arial"/>
              </a:rPr>
              <a:t>3.</a:t>
            </a:r>
            <a:r>
              <a:rPr b="1" lang="ru-RU" sz="2400" spc="-1" strike="noStrike">
                <a:solidFill>
                  <a:srgbClr val="7598d9"/>
                </a:solidFill>
                <a:latin typeface="Arial Black"/>
                <a:ea typeface="Arial"/>
              </a:rPr>
              <a:t> </a:t>
            </a:r>
            <a:r>
              <a:rPr b="1" lang="ru-RU" sz="2400" spc="-1" strike="noStrike">
                <a:solidFill>
                  <a:srgbClr val="d2611c"/>
                </a:solidFill>
                <a:latin typeface="Arial Black"/>
                <a:ea typeface="Arial"/>
              </a:rPr>
              <a:t>Источник сообщения.</a:t>
            </a:r>
            <a:r>
              <a:rPr b="1" lang="ru-RU" sz="2400" spc="-1" strike="noStrike">
                <a:solidFill>
                  <a:srgbClr val="7598d9"/>
                </a:solidFill>
                <a:latin typeface="Arial Black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7598d9"/>
                </a:solidFill>
                <a:latin typeface="Arial Black"/>
                <a:ea typeface="Arial"/>
              </a:rPr>
              <a:t>По словам, по-твоему, по мнению, говорят, на мой взгляд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2611c"/>
                </a:solidFill>
                <a:latin typeface="Arial Black"/>
                <a:ea typeface="Arial"/>
              </a:rPr>
              <a:t>4. Порядок мыслей и их связь.</a:t>
            </a:r>
            <a:r>
              <a:rPr b="1" lang="ru-RU" sz="2400" spc="-1" strike="noStrike">
                <a:solidFill>
                  <a:srgbClr val="7598d9"/>
                </a:solidFill>
                <a:latin typeface="Arial Black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7598d9"/>
                </a:solidFill>
                <a:latin typeface="Arial Black"/>
                <a:ea typeface="Arial"/>
              </a:rPr>
              <a:t>Во-первых, во-вторых, наконец, кстати, следовательно, значит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2611c"/>
                </a:solidFill>
                <a:latin typeface="Arial Black"/>
                <a:ea typeface="Arial"/>
              </a:rPr>
              <a:t>5. Замечание о способах оформления мыслей.</a:t>
            </a:r>
            <a:r>
              <a:rPr b="1" lang="ru-RU" sz="2400" spc="-1" strike="noStrike">
                <a:solidFill>
                  <a:srgbClr val="7598d9"/>
                </a:solidFill>
                <a:latin typeface="Arial Black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7598d9"/>
                </a:solidFill>
                <a:latin typeface="Arial Black"/>
                <a:ea typeface="Arial"/>
              </a:rPr>
              <a:t>Одним словом, короче говоря, прямо скажем, вообразите, поймите, знаете ли, видите ли, так сказать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08:19:05Z</dcterms:created>
  <dc:creator>Иван</dc:creator>
  <dc:description/>
  <dc:language>en-US</dc:language>
  <cp:lastModifiedBy>User</cp:lastModifiedBy>
  <dcterms:modified xsi:type="dcterms:W3CDTF">2019-01-03T13:36:16Z</dcterms:modified>
  <cp:revision>72</cp:revision>
  <dc:subject/>
  <dc:title>Слайд 1</dc:title>
</cp:coreProperties>
</file>