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8.gif" ContentType="image/gif"/>
  <Override PartName="/ppt/media/image13.gif" ContentType="image/gi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E0D4-7145-4F47-BB04-BA66DF0A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7EF7-274B-4DAF-9E92-0B8FB547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2A2A27-45C0-4633-AB52-1644043A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2B176-25F3-4D60-8342-8F1B3D70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49433-2C44-4FA3-9EC5-3EDEBAE2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E3B19-76CF-4D77-AC84-8F47B870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0B56E-1AA8-4929-AF73-A47FC6E02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33A92-5F78-4951-AAFE-2593B2619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857C4D-3462-4D01-8622-E90FEAD8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E76D69-322C-4006-B99A-79F17F40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7AC8B-5F65-44DF-BB78-B275BBF07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582E84-5741-4328-8145-AB0C32B8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9264-3E26-442C-AB05-9414EAA1E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34ABC-C765-42A6-8C69-3B8FCCA1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C0CB2-A181-493B-B9E0-8BD1E594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170DD5-B68C-4E93-BD43-53EB06A3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5D643B-4FFB-4B8F-B042-F4368AFCF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BFDC9-B430-4361-88C6-7A433C42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7650BA-ECCC-44D8-B42D-FCAC5B4C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57B0FE-C460-4B17-A4A9-E17BA676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5CA57-176F-4A94-949D-C9CF5D7A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149A25-B2A3-4035-B424-9197E34C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E61AC-4191-40EF-BA89-64EE0023D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431C-3C4A-4BDB-A014-7D6AF1752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245392-6532-407E-B38F-CC384DAFB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5A8EB-A2AB-4F43-944C-9D097F65E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AEF4F-C78B-4C23-AB77-ADD91E34F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C17A9-1173-4DE7-8C18-CAFC7FE0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97278-239C-43D5-96DA-66ABD069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1D53F1-1461-491E-92AC-19ECE3E37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EB297-9FD6-4710-B1BB-EFCF1F9FA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87661-6B1E-4465-BE80-21AB6EC8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56BB8D-512C-4970-BC29-161628554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9B62C-B967-4545-9F2E-7D04AB0DE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3BAA-63C8-405E-ABE2-8155CB13D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91874C-6DF2-4FB5-BE12-F5866D925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7EA20-0A7C-4829-B342-45ECA6D2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99763-1582-4F86-9AEB-923A0B104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1333-2CA2-4C34-9322-E9C0F563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58AD-6E3D-47B9-AB80-CB16C1AF4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B66A-E2C9-45A8-804C-29BF3637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21C4B-3B6A-4380-BD4A-18034986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9009B-BD70-4013-B874-C11C631C5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FCCE-46E4-466A-8A72-3186F86CA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8AC-93DE-4A54-823F-1B4BBDA9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C255-838F-4F20-9A75-039E522B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FC61B-740A-4259-82D8-7C81C353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26F96-0837-42AC-809E-D9E078806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B6FD7-05E3-4E83-BE4D-E4E29990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0924-D246-4BDA-B1C0-7D15DBDF5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D4217-CD9C-4437-B0BA-B281AA900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1F11-AF0B-4D53-A98D-FCA3FE28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4FFB7-50A5-4BF5-9449-42E3086E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83C67-3454-49F0-BC2A-8BCFBF1A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64AED-6FBF-4A40-A602-585B563C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E2CA-563F-4639-B5B4-17ED94BA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9FCC7-2DAB-4AA4-BDB6-C99FE4DF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04BF1-0D37-45F5-97F0-88C061D40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66F0F-E505-4840-9561-F7F64ED0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34CF1-C795-4C39-BAE8-FE184B7C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88454-5D6D-4CF4-B53B-4EC3725B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A6BC2-DD77-4578-9D68-B539804A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D227C-E979-4DB0-9DC7-3192D73EC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EA9C4-A5E1-456B-BF0C-C711D7F3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CB254-07E2-49D4-A879-D20C3384C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E36C7-1B9E-4999-9785-297DDC10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AA9E-AAA8-41EB-B55D-979F826B8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7B966-4BAC-4779-9AA6-04FAC0C2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C62721-3324-43D8-97EB-B1987C5A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CD1DFC-B80B-42D0-ACEA-57DF1CF0D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A5E4F-36E9-4DDE-ACEC-2C9DF2A9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21163-6BC4-421F-8C3F-A9BD2DECC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42ADA5-A507-4D9F-A49B-DBDC1100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FD70D-61CC-41F6-9821-942AEE64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15A6F-6494-47A1-9785-BB9E86CC9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B9D0A-F5E7-4169-8D99-3CD41C03A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0D309-7580-41AF-8B7D-34302512E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5743-12DA-49CB-9973-BB69D4F48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5F8490-B7A3-42CB-BBFA-313AC243A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61DBE-6F5B-42C1-94F6-BDF528C3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B94D7C-7A65-441D-80AE-B518DC6C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697C5-C054-4F09-A464-665E9557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3F68B-0DF1-4D2A-9CEF-D7DA573E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AB750D-88AB-4C8F-BD2C-7DBF2CDA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F1400-A57E-439B-9A2D-60AD3735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98A21-AD79-4871-88AC-D08AC4EEB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3872E-DFD5-4CC1-B7F5-D3F82F16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0824A-D744-4422-8BF7-B485A464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90CB-D6DC-44EC-95F0-60063E94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4A284-7271-4E97-881E-1F8F39225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2C075-2C1E-4D56-BDAE-8827F964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0FE15-27EF-4266-8B61-8D1EA162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5C8A7-3531-4958-9498-7A2D164C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BA8827-55FA-4ABF-8D52-49987C9A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95256-91BC-4C8F-9CE6-54BB6336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E99BC-58FC-4952-92CE-1CEA5903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828275-B636-4AF6-A7F6-DB286068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E0DDC-6EE8-42CB-85D2-3DEB4F2A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0AC90-C956-4B11-A097-C80714EB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5C5D-D95F-4720-8FED-796A7720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9B003-266E-49BA-AE84-F48EA74EF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2DFDB-B733-4591-B8FF-E046EAD9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66C1C-F137-442E-B84E-9CCE7C08F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DD79F1-A792-44C3-9AE6-1EBE9EA9A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3A623-7140-4E86-A7A9-98EF36BE3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37914-5481-4D0B-88C1-BD8A0682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AF7C5A-4C58-4EF3-B262-35B7E8B33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1152A7-74FA-4C49-A62B-630BDB34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5CC565-9EE3-419B-9423-1ED84194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6E0AA0-3452-4EBB-9FB9-1160539C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6AC-91FB-40FF-BB9F-D11AC1F0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E08A73-433E-4180-8A35-25CB9B60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043D9-F8E3-45C6-812E-5926B63E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F9096-C130-4A30-AC35-BCB2D298F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13D79-7CF8-4E5E-BD53-CF4A4B60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F68D1-23A7-44E1-B85F-01D7EA74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D437D-89C8-47C1-90D8-28578CEE6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D9806-563E-4BE6-B9D8-258E2A650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16B7D-201C-4632-9DE7-4A5771C59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1128B-CA6B-432A-9DE5-44C56571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DCFE5-7DC8-472A-AAA5-FBCB18F3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315E-274C-4CDA-9A0B-27843929F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E5AC07-5CFA-431A-9FFE-576615A6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9042F-E62D-4B6A-83A0-D32F8F41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927E52-A4FD-408B-88F4-DB65F3A2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590668-5028-4175-B0C6-108129749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8C0D2-D4CE-4A6A-8299-ED4D8B02D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44DE6-10CE-4D3F-B3B5-605D1F2B9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E9282D-15A2-4F9F-B37E-29CEB25C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B0AA4F-4788-499F-AD85-E16834E71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39CFB-9A93-4457-A858-FD511D22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85B9A-C3A2-4322-BF89-B01F67B8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BD1572-BDD4-4D37-96BE-F1CF471FC09B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AC9B1B2-1F24-430A-9D1E-E9393536B613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7626240" y="880920"/>
            <a:ext cx="0" cy="513576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E691FE-12BA-45BA-96C6-DE240A49FDAE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641680" y="3889440"/>
            <a:ext cx="6194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641680" y="363600"/>
            <a:ext cx="34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581120" y="880560"/>
            <a:ext cx="884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D322B7-D292-4F7E-B7CB-AB0DB4D60179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DAF17C1-10BA-4FF4-B2D2-1469C2497C98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590840" y="4194000"/>
            <a:ext cx="61927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79B73A4-B592-4875-9938-29963F9A4DEF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781C0E9-F6FF-46CF-B7B7-2C48F875CCC6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923F8B-2515-45F2-B4B8-26290559A71E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2353367-BAC6-46AA-905D-C7274DEF45C6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589040" y="3533760"/>
            <a:ext cx="26719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F268EE6-CA30-47DF-B47A-2F7C9204E822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5508720" y="531720"/>
            <a:ext cx="3870360" cy="5675400"/>
            <a:chOff x="5508720" y="531720"/>
            <a:chExt cx="3870360" cy="56754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5508720" y="531720"/>
              <a:ext cx="3870360" cy="5675400"/>
              <a:chOff x="5508720" y="531720"/>
              <a:chExt cx="3870360" cy="56754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5508720" y="531720"/>
                <a:ext cx="3870360" cy="567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599080" y="544680"/>
                <a:ext cx="3673080" cy="541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890320" y="851760"/>
              <a:ext cx="3095280" cy="4796640"/>
              <a:chOff x="5890320" y="851760"/>
              <a:chExt cx="3095280" cy="47966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890320" y="851760"/>
                <a:ext cx="3095280" cy="479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928840" y="892080"/>
                <a:ext cx="3016080" cy="47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589040" y="3465360"/>
            <a:ext cx="3573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584000" y="6028920"/>
            <a:ext cx="35845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584000" y="350640"/>
            <a:ext cx="35845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F76C8F-9923-4089-93C7-CE90E96F0BDF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gif"/><Relationship Id="rId7" Type="http://schemas.openxmlformats.org/officeDocument/2006/relationships/image" Target="../media/image7.jpe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0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Users\Инна\Desktop\КОНФЕРЕНЦИЯ\5604a69c0481b.jpg"/>
          <p:cNvPicPr/>
          <p:nvPr/>
        </p:nvPicPr>
        <p:blipFill>
          <a:blip r:embed="rId1"/>
          <a:stretch/>
        </p:blipFill>
        <p:spPr>
          <a:xfrm>
            <a:off x="322200" y="328680"/>
            <a:ext cx="9140760" cy="6667560"/>
          </a:xfrm>
          <a:prstGeom prst="rect">
            <a:avLst/>
          </a:prstGeom>
          <a:ln w="0">
            <a:noFill/>
          </a:ln>
        </p:spPr>
      </p:pic>
      <p:sp>
        <p:nvSpPr>
          <p:cNvPr id="502" name="TextBox 9"/>
          <p:cNvSpPr/>
          <p:nvPr/>
        </p:nvSpPr>
        <p:spPr>
          <a:xfrm>
            <a:off x="674640" y="1460520"/>
            <a:ext cx="8239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«ИСПОЛЬЗОВАНИЕ ЭЛЕМЕНТОВ ТЕАТРАЛЬНОЙ ПЕДАГОГИК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НА УРОКАХ </a:t>
            </a:r>
            <a:br>
              <a:rPr sz="3600"/>
            </a:b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Calibri"/>
              </a:rPr>
              <a:t>В НАЧАЛЬНОЙ ШКОЛЕ»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Рисунок 7" descr="1198011271_2.jpg"/>
          <p:cNvPicPr/>
          <p:nvPr/>
        </p:nvPicPr>
        <p:blipFill>
          <a:blip r:embed="rId2"/>
          <a:srcRect l="50223" t="91533" r="0" b="0"/>
          <a:stretch/>
        </p:blipFill>
        <p:spPr>
          <a:xfrm>
            <a:off x="4883040" y="6919920"/>
            <a:ext cx="5197680" cy="63972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8" descr="1198011271_2.jpg"/>
          <p:cNvPicPr/>
          <p:nvPr/>
        </p:nvPicPr>
        <p:blipFill>
          <a:blip r:embed="rId3"/>
          <a:srcRect l="0" t="91533" r="50223" b="0"/>
          <a:stretch/>
        </p:blipFill>
        <p:spPr>
          <a:xfrm>
            <a:off x="0" y="6919920"/>
            <a:ext cx="5197320" cy="63972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10" descr="1198011271_2.jpg"/>
          <p:cNvPicPr/>
          <p:nvPr/>
        </p:nvPicPr>
        <p:blipFill>
          <a:blip r:embed="rId4"/>
          <a:srcRect l="50223" t="0" r="0" b="91817"/>
          <a:stretch/>
        </p:blipFill>
        <p:spPr>
          <a:xfrm>
            <a:off x="4883040" y="0"/>
            <a:ext cx="5197680" cy="61920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11" descr="1198011271_2.jpg"/>
          <p:cNvPicPr/>
          <p:nvPr/>
        </p:nvPicPr>
        <p:blipFill>
          <a:blip r:embed="rId5"/>
          <a:srcRect l="0" t="0" r="50223" b="91817"/>
          <a:stretch/>
        </p:blipFill>
        <p:spPr>
          <a:xfrm>
            <a:off x="0" y="0"/>
            <a:ext cx="5197320" cy="61920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13" descr="animated-gifs-buttons-62.gif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056520" y="7265880"/>
            <a:ext cx="735120" cy="293760"/>
          </a:xfrm>
          <a:prstGeom prst="rect">
            <a:avLst/>
          </a:prstGeom>
          <a:ln w="0">
            <a:noFill/>
          </a:ln>
        </p:spPr>
      </p:pic>
      <p:sp>
        <p:nvSpPr>
          <p:cNvPr id="508" name="Прямоугольник 1"/>
          <p:cNvSpPr/>
          <p:nvPr/>
        </p:nvSpPr>
        <p:spPr>
          <a:xfrm>
            <a:off x="4319640" y="3827520"/>
            <a:ext cx="3531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УЧИТЕЛЬ          ГАВРИЛОВА 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ННА НИКОЛАЕ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ГБОУ СОШ № 40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Рисунок 5" descr="1198011271_2.jpg"/>
          <p:cNvPicPr/>
          <p:nvPr/>
        </p:nvPicPr>
        <p:blipFill>
          <a:blip r:embed="rId7"/>
          <a:srcRect l="0" t="0" r="92229" b="0"/>
          <a:stretch/>
        </p:blipFill>
        <p:spPr>
          <a:xfrm>
            <a:off x="57240" y="47520"/>
            <a:ext cx="453960" cy="755964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6" descr="1198011271_2.jpg"/>
          <p:cNvPicPr/>
          <p:nvPr/>
        </p:nvPicPr>
        <p:blipFill>
          <a:blip r:embed="rId8"/>
          <a:srcRect l="92229" t="0" r="0" b="0"/>
          <a:stretch/>
        </p:blipFill>
        <p:spPr>
          <a:xfrm>
            <a:off x="9588600" y="0"/>
            <a:ext cx="492120" cy="755964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4" descr="1198011271_2.jpg"/>
          <p:cNvPicPr/>
          <p:nvPr/>
        </p:nvPicPr>
        <p:blipFill>
          <a:blip r:embed="rId9"/>
          <a:srcRect l="50223" t="0" r="0" b="0"/>
          <a:stretch/>
        </p:blipFill>
        <p:spPr>
          <a:xfrm>
            <a:off x="4572000" y="-34920"/>
            <a:ext cx="5280120" cy="756108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3" descr="1198011271_2.jpg"/>
          <p:cNvPicPr/>
          <p:nvPr/>
        </p:nvPicPr>
        <p:blipFill>
          <a:blip r:embed="rId10"/>
          <a:srcRect l="0" t="0" r="50223" b="0"/>
          <a:stretch/>
        </p:blipFill>
        <p:spPr>
          <a:xfrm>
            <a:off x="154080" y="47520"/>
            <a:ext cx="4417920" cy="739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20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" dur="2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Рисунок 1" descr=""/>
          <p:cNvPicPr/>
          <p:nvPr/>
        </p:nvPicPr>
        <p:blipFill>
          <a:blip r:embed="rId1"/>
          <a:stretch/>
        </p:blipFill>
        <p:spPr>
          <a:xfrm>
            <a:off x="360360" y="41400"/>
            <a:ext cx="8980560" cy="67356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2" descr="C:\Users\Инна\Desktop\Рисунок1.png"/>
          <p:cNvPicPr/>
          <p:nvPr/>
        </p:nvPicPr>
        <p:blipFill>
          <a:blip r:embed="rId2"/>
          <a:srcRect l="1793" t="25853" r="2868" b="0"/>
          <a:stretch/>
        </p:blipFill>
        <p:spPr>
          <a:xfrm>
            <a:off x="-181080" y="41400"/>
            <a:ext cx="10261800" cy="76676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C:\Users\Инна\Desktop\КОНФЕРЕНЦИЯ\bau-o6fjaN0.jpg"/>
          <p:cNvPicPr/>
          <p:nvPr/>
        </p:nvPicPr>
        <p:blipFill>
          <a:blip r:embed="rId3"/>
          <a:stretch/>
        </p:blipFill>
        <p:spPr>
          <a:xfrm>
            <a:off x="6769080" y="4759200"/>
            <a:ext cx="2087640" cy="20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2" descr="C:\Users\Инна\Desktop\Рисунок1.png"/>
          <p:cNvPicPr/>
          <p:nvPr/>
        </p:nvPicPr>
        <p:blipFill>
          <a:blip r:embed="rId1"/>
          <a:srcRect l="1793" t="25853" r="2868" b="0"/>
          <a:stretch/>
        </p:blipFill>
        <p:spPr>
          <a:xfrm>
            <a:off x="-73080" y="117360"/>
            <a:ext cx="10153800" cy="7559640"/>
          </a:xfrm>
          <a:prstGeom prst="rect">
            <a:avLst/>
          </a:prstGeom>
          <a:ln w="0">
            <a:noFill/>
          </a:ln>
        </p:spPr>
      </p:pic>
      <p:sp>
        <p:nvSpPr>
          <p:cNvPr id="517" name="Прямоугольник 1"/>
          <p:cNvSpPr/>
          <p:nvPr/>
        </p:nvSpPr>
        <p:spPr>
          <a:xfrm>
            <a:off x="719280" y="168120"/>
            <a:ext cx="8281800" cy="66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Методы в театральной педагогик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891631"/>
                </a:solidFill>
                <a:latin typeface="Arial"/>
              </a:rPr>
              <a:t>Метод физических действий 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4c6e7a"/>
                </a:solidFill>
                <a:latin typeface="Arial"/>
              </a:rPr>
              <a:t>Метод    действенного анализ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b050"/>
                </a:solidFill>
                <a:latin typeface="Arial"/>
              </a:rPr>
              <a:t>Этюдный мето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6511a0"/>
                </a:solidFill>
                <a:latin typeface="Arial"/>
              </a:rPr>
              <a:t>Метод исторических паралл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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Arial"/>
              </a:rPr>
              <a:t>Метод ролевого действ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8" name="Picture 4" descr="C:\Users\Инна\Desktop\КОНФЕРЕНЦИЯ\bau-o6fjaN0.jpg"/>
          <p:cNvPicPr/>
          <p:nvPr/>
        </p:nvPicPr>
        <p:blipFill>
          <a:blip r:embed="rId2"/>
          <a:stretch/>
        </p:blipFill>
        <p:spPr>
          <a:xfrm>
            <a:off x="7488360" y="4303800"/>
            <a:ext cx="236376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C:\Users\Инна\Desktop\Рисунок1.png"/>
          <p:cNvPicPr/>
          <p:nvPr/>
        </p:nvPicPr>
        <p:blipFill>
          <a:blip r:embed="rId1"/>
          <a:srcRect l="1793" t="25853" r="2868" b="0"/>
          <a:stretch/>
        </p:blipFill>
        <p:spPr>
          <a:xfrm>
            <a:off x="-181080" y="0"/>
            <a:ext cx="10261800" cy="7559640"/>
          </a:xfrm>
          <a:prstGeom prst="rect">
            <a:avLst/>
          </a:prstGeom>
          <a:ln w="0">
            <a:noFill/>
          </a:ln>
        </p:spPr>
      </p:pic>
      <p:sp>
        <p:nvSpPr>
          <p:cNvPr id="520" name="Прямоугольник 1"/>
          <p:cNvSpPr/>
          <p:nvPr/>
        </p:nvSpPr>
        <p:spPr>
          <a:xfrm>
            <a:off x="647640" y="0"/>
            <a:ext cx="8569440" cy="68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Приё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ыработка «мышечного контроля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b71e42"/>
                </a:solidFill>
                <a:latin typeface="Times New Roman"/>
                <a:ea typeface="Times New Roman"/>
              </a:rPr>
              <a:t>• </a:t>
            </a:r>
            <a:r>
              <a:rPr b="1" lang="ru-RU" sz="4000" spc="-1" strike="noStrike">
                <a:solidFill>
                  <a:srgbClr val="b71e42"/>
                </a:solidFill>
                <a:latin typeface="Times New Roman"/>
                <a:ea typeface="Times New Roman"/>
              </a:rPr>
              <a:t>активизация эмоциональной памят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9622e7"/>
                </a:solidFill>
                <a:latin typeface="Times New Roman"/>
                <a:ea typeface="Times New Roman"/>
              </a:rPr>
              <a:t>• </a:t>
            </a:r>
            <a:r>
              <a:rPr b="1" lang="ru-RU" sz="4000" spc="-1" strike="noStrike">
                <a:solidFill>
                  <a:srgbClr val="9622e7"/>
                </a:solidFill>
                <a:latin typeface="Times New Roman"/>
                <a:ea typeface="Times New Roman"/>
              </a:rPr>
              <a:t>«если бы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7c1646"/>
                </a:solidFill>
                <a:latin typeface="Times New Roman"/>
                <a:ea typeface="Times New Roman"/>
              </a:rPr>
              <a:t>• </a:t>
            </a:r>
            <a:r>
              <a:rPr b="1" lang="ru-RU" sz="4000" spc="-1" strike="noStrike">
                <a:solidFill>
                  <a:srgbClr val="7c1646"/>
                </a:solidFill>
                <a:latin typeface="Times New Roman"/>
                <a:ea typeface="Times New Roman"/>
              </a:rPr>
              <a:t>«действие с окраской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• </a:t>
            </a:r>
            <a:r>
              <a:rPr b="1" lang="ru-RU" sz="4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вто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4000" spc="-1" strike="noStrike">
                <a:solidFill>
                  <a:srgbClr val="594487"/>
                </a:solidFill>
                <a:latin typeface="Times New Roman"/>
                <a:ea typeface="Times New Roman"/>
              </a:rPr>
              <a:t>«монологическая пауза»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4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ротивопоставлени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4000" spc="-1" strike="noStrike">
                <a:solidFill>
                  <a:srgbClr val="de478e"/>
                </a:solidFill>
                <a:latin typeface="Times New Roman"/>
                <a:ea typeface="Times New Roman"/>
              </a:rPr>
              <a:t>координация движений и реч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 </a:t>
            </a:r>
            <a:r>
              <a:rPr b="1" lang="ru-RU" sz="4000" spc="-1" strike="noStrike">
                <a:solidFill>
                  <a:srgbClr val="5c0f21"/>
                </a:solidFill>
                <a:latin typeface="Times New Roman"/>
                <a:ea typeface="Times New Roman"/>
              </a:rPr>
              <a:t>сосредоточение и др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Рисунок 5" descr="beachwavesanim.gif"/>
          <p:cNvPicPr/>
          <p:nvPr/>
        </p:nvPicPr>
        <p:blipFill>
          <a:blip r:embed="rId1"/>
          <a:stretch/>
        </p:blipFill>
        <p:spPr>
          <a:xfrm flipH="1">
            <a:off x="0" y="-18900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4000" spc="-1" strike="noStrike">
                <a:solidFill>
                  <a:srgbClr val="6511a0"/>
                </a:solidFill>
                <a:latin typeface="Gill Sans MT"/>
              </a:rPr>
              <a:t>ЭТЮД «МОРСКИЕ ПРОСТОРЫ»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23" name="Рисунок 3" descr="goldy304.gif"/>
          <p:cNvPicPr/>
          <p:nvPr/>
        </p:nvPicPr>
        <p:blipFill>
          <a:blip r:embed="rId2"/>
          <a:stretch/>
        </p:blipFill>
        <p:spPr>
          <a:xfrm>
            <a:off x="5040360" y="5867280"/>
            <a:ext cx="523800" cy="5000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" descr="C:\Users\Инна\Desktop\Рисунок1.png"/>
          <p:cNvPicPr/>
          <p:nvPr/>
        </p:nvPicPr>
        <p:blipFill>
          <a:blip r:embed="rId3"/>
          <a:srcRect l="1793" t="25853" r="2868" b="0"/>
          <a:stretch/>
        </p:blipFill>
        <p:spPr>
          <a:xfrm>
            <a:off x="-144360" y="-189000"/>
            <a:ext cx="10298160" cy="7748640"/>
          </a:xfrm>
          <a:prstGeom prst="rect">
            <a:avLst/>
          </a:prstGeom>
          <a:ln w="0">
            <a:noFill/>
          </a:ln>
        </p:spPr>
      </p:pic>
      <p:pic>
        <p:nvPicPr>
          <p:cNvPr id="525" name="звуки моря.mp3" descr=""/>
          <p:cNvPicPr/>
          <p:nvPr/>
        </p:nvPicPr>
        <p:blipFill>
          <a:blip r:embed="rId4"/>
          <a:stretch/>
        </p:blipFill>
        <p:spPr>
          <a:xfrm>
            <a:off x="2031840" y="65930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1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ша</dc:creator>
  <dc:description/>
  <dc:language>en-US</dc:language>
  <cp:lastModifiedBy>gavrilovainna@outlook.com</cp:lastModifiedBy>
  <dcterms:modified xsi:type="dcterms:W3CDTF">2019-01-04T19:59:36Z</dcterms:modified>
  <cp:revision>48</cp:revision>
  <dc:subject/>
  <dc:title>Театрализованная деятельность в детском саду</dc:title>
</cp:coreProperties>
</file>