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4.png" ContentType="image/png"/>
  <Override PartName="/ppt/media/image9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gif" ContentType="image/gif"/>
  <Override PartName="/ppt/media/image13.gif" ContentType="image/gi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0D90-2ACE-433E-AFD9-92CB2F53F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9441-5B67-4019-ACB3-BF81B43F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CAFC5A-12C6-4AEA-BDE6-2817DBDF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573F1E-22B0-44CB-9CFE-DBD6D4F7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EBF095-B3B7-4CF8-A7F3-61019FA13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7126EB-A105-479C-A25B-57F083A8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2ECC79-2E61-4DD7-A821-57D12772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51E6AA-C98D-4551-9F88-640316EA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335029-642F-4B46-8AB9-C2BDA35E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50A176-ACC0-4743-BCD4-1CC2D3358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68108-0D43-44DE-9A9C-F8A562DE0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0A7FD7-7B93-4C53-93A6-5C3D09CD8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504B-052E-4437-9B74-E1E382668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DE4EC6-9B02-474E-B5D0-8815F41F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9A032E-AB36-4946-9B8C-0BD4BEE2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4B8EF4-F1C5-4F7F-8CD3-3341B007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0FE777-178F-4A5E-BC6F-261C67B5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B313AA-39F8-4D8D-AB34-EB39BEABE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690CE7-FAFD-46F7-90A5-A07389DB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220B9C-DA34-4055-9C74-7865F216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9ED9F-EFA5-4919-8F83-57000918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C57F92-5F9E-4A69-B822-B4897D37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A19722-2338-42DC-8D37-2F11EF074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2C29-6DE4-4C11-9D50-5FA3A8A12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C426B4-6132-4D8E-A084-3C2279302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9782F-B10D-41AB-9288-0A7CB84F6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3F4FE-4DC8-461F-95C1-00059A88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9320F-792A-4E45-A833-C1B6CE64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5D111-A366-444A-BBE6-29A6816EE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C4161A-66DD-4934-80A4-3A154CF7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B749AB-FB53-4B99-9550-99B988F8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16D4EB-DBB0-4DF4-9B3B-BF36C5C8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F97E10-36A4-4E74-87CE-85C29A34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931F3F-7285-4CBE-A127-AFA55A9C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F393-0A51-41E2-A8EF-06712FF06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CB98DB-E23A-407C-A03B-081A1345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C7C6B-EE3A-4674-B62E-DB1839E0A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64B7A-1D82-4A06-B25F-2AEA855BC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644E-EB31-449A-84B3-6E6A217E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73B60-5E10-4BAD-8CF8-9E00BF65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A5A3A-F890-473A-8BD0-FD8E14CC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CB13-2BA6-4E89-AAFB-192A1E89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EC688-D3D2-4161-8515-60580C3E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0698-D26E-4DC2-9BC6-BA29FCF9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DACD-FAF9-4721-BEF6-ACD45467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4312-CC14-4033-BF34-F954D416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46645-0EC2-4E80-928E-445FBBE3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A9EB0-8D24-4D61-B17F-35C385D4E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6873-AC60-4ACF-AF99-D11A6C2A9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8900E-C956-4324-8C27-7FB3AFA48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CA6BC-5631-4DB7-B8FD-FE46E9514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975D8-3ECC-46DD-9E07-47C8F012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1D1C1-2484-4A9F-A8A2-F2ACBE85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D86E3-178B-40BA-8684-9128BE69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0EA39-14AC-42F8-8C06-545F097C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0191-1C33-4410-889C-81F8241D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792D1-61B2-47A0-A173-6F66665C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A6FC8-1390-4A78-A400-362D8945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18595-3C08-4ED2-B72F-C2C2BFEE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63C93-B5F2-434E-9210-D9734EF0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3CB27-3A13-4B42-B976-4518FDA5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F2ADF-E8AF-46A2-A0F0-D1E9181F5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D8035-067A-4658-83B1-DA47FCF12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1B293-E7F6-417C-99AE-1DEB13A32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D7A1B-8E3A-4653-B63C-A5F85DDE2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7CAB0-CB24-4B7C-8C62-17AE74933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E724-F01D-4DD9-AE4F-FECF35840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13499-1804-4C85-A9CE-0F56C0E6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58154-1305-4730-B04C-CEAF4600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1CE7F-2CDD-49C6-8A62-A21944EE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AFEF0-6D72-45B2-A5A2-520544FC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FBAC9-A41D-4847-B1D6-33504447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2856E-BC78-4773-85E0-371AC683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AA470-E307-465D-A994-12DA44EBF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CF5E0-3772-4992-BCCB-782884D7F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A6F21-0B25-4C11-B307-AA5AEA7E4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967F9-91F5-4A4B-9137-6B67B5C30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BB37-33E5-46FA-9101-54B9C9CE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27BEE-5590-4A6F-B012-58F6E13B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31F8F-2908-43AD-B679-70E106F23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F8D71-580D-48A8-AB24-C1B4CF37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1EC28-9592-4BB4-B757-49379325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5EC0A-F3F6-4D27-9F89-FE6173B85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0B0E37-31FE-479D-9D82-9FF6BC86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0566DC-F66C-4BBC-96EF-04566078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497E4-273B-4CCD-AA26-45700587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EE4D8-E77B-4042-9555-A284E33A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43A71-E6E7-45E1-A4F9-D23174A81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C489-FCB1-4966-BE4E-AFEA501E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6A968-6DB3-48FB-A274-1B25E7DD8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1FDA6-6C49-46F1-92B1-DD3FE6722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E04BE-1D0F-4F01-B047-0E4DBA00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ABFFF-F74E-409F-9D17-929D6A416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B9701-1D4E-4686-ACB5-C38809CD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E63F0-EB1B-4CF0-9D6D-DC5E72F8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4EF65-1806-42C4-B6C9-4A886F52E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68553-6D69-4DC8-BE52-E582396FA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11ED2-4C02-419B-BA34-45761FF7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8C5A7-62CD-4CCF-8F0E-4ADCE74A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6671-345A-47BC-BAE6-BC583DE8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CBF4B-4A18-4383-8F83-21CE3C4B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8F672-3772-487B-BB73-C8B23289B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9010C-8109-40EB-9B1A-25610C197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9D49C-F12A-4E33-9F00-96C42C570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78E92-ABB5-4F5E-8970-9A86B8B0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5309C-C03A-4FD9-93F5-0F70BAAF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27D058-5A21-440C-A2D6-A0F5351A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AD69F-56DC-414E-87F6-9821C8D9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B8A9B-FA15-4687-B1E4-05AA1636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B08746-1134-4C85-BB0A-27BDF662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BE58-1AFD-4C1B-9340-EFEE0CD7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A1C406-0DCD-4033-9FA5-0A8B50FC7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112AB-A3EB-4C00-8876-99E2CFA7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AEAB6-E93F-4C6A-8EA9-1106B7FC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C9736-B848-4887-9378-B2F02C63F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13B813-B31D-4AA4-BA16-3E9B32D14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DC245-B41C-49AB-B107-B3BEB5FB0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84A30-1B3B-4E83-B1D5-0155F32C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63C0F-425F-45B4-8941-70C904C0B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EF676B-5C0A-4A26-BA1C-9244CF2D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389C1-A62C-403A-BFB0-619708016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AF28-1A44-4212-93AE-EDC782FE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D529D7-4663-4ADE-AA55-FD41C700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3C3193-126D-484F-A180-23FD828A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329845-14F3-4716-916A-B999FD9A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4C0F1-1D6F-4677-BB68-772B895C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BF2F13-C6C1-42BC-9944-80864B97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80231-E40A-4922-AEF3-CB32455D4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6205F-BB94-4450-BC7A-758EB39E1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C38F61-9575-4675-95B4-1F169781E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CEE382-CEE3-41BE-9B2F-54AFB881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8D5AD6-283E-46CD-9307-03831E076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224760" y="363600"/>
            <a:ext cx="261144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590840" y="363600"/>
            <a:ext cx="4448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538200" y="880560"/>
            <a:ext cx="8762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6A5D623-55C7-4067-AE12-C5F8CA1D8E64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590840" y="2036880"/>
            <a:ext cx="72453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6224760" y="363600"/>
            <a:ext cx="261144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590840" y="363600"/>
            <a:ext cx="4448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538200" y="880560"/>
            <a:ext cx="8762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8E3F6F2-74A9-4F6D-89B0-7C5B4696F7C8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7626240" y="880920"/>
            <a:ext cx="0" cy="513576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6224760" y="363600"/>
            <a:ext cx="261144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590840" y="363600"/>
            <a:ext cx="4448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538200" y="880560"/>
            <a:ext cx="8762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5BA63C4-0CF7-4B95-BEBA-10999E211BF2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641680" y="3889440"/>
            <a:ext cx="6194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224760" y="363600"/>
            <a:ext cx="261144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641680" y="363600"/>
            <a:ext cx="34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581120" y="880560"/>
            <a:ext cx="884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B788A8A-8337-46BE-B52C-8799C1A1AB38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590840" y="2036880"/>
            <a:ext cx="72453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6224760" y="363600"/>
            <a:ext cx="261144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590840" y="363600"/>
            <a:ext cx="4448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538200" y="880560"/>
            <a:ext cx="8762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5D54C54-609B-4848-9200-7B6355663656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590840" y="4194000"/>
            <a:ext cx="61927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224760" y="363600"/>
            <a:ext cx="261144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590840" y="363600"/>
            <a:ext cx="4448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538200" y="880560"/>
            <a:ext cx="8762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4EB4934-EEEC-4C11-A00A-AF59DE970F14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590840" y="2036880"/>
            <a:ext cx="72453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224760" y="363600"/>
            <a:ext cx="261144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590840" y="363600"/>
            <a:ext cx="4448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538200" y="880560"/>
            <a:ext cx="8762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5983863-8F17-4DFC-AAC2-CBC6DD1A4FDA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590840" y="2036880"/>
            <a:ext cx="72453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6224760" y="363600"/>
            <a:ext cx="261144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590840" y="363600"/>
            <a:ext cx="4448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538200" y="880560"/>
            <a:ext cx="8762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FF0310C-EBB9-4ACA-A0F7-55EB5991FBEB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590840" y="2036880"/>
            <a:ext cx="72453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224760" y="363600"/>
            <a:ext cx="261144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590840" y="363600"/>
            <a:ext cx="4448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538200" y="880560"/>
            <a:ext cx="8762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E141C6D-6251-41A8-AFB8-AA1A5A4025CC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589040" y="3533760"/>
            <a:ext cx="26719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6224760" y="363600"/>
            <a:ext cx="261144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590840" y="363600"/>
            <a:ext cx="4448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538200" y="880560"/>
            <a:ext cx="8762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3DFAED2-DB43-4019-99BC-36F175FB50E5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5508720" y="531720"/>
            <a:ext cx="3870360" cy="5675400"/>
            <a:chOff x="5508720" y="531720"/>
            <a:chExt cx="3870360" cy="56754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5508720" y="531720"/>
              <a:ext cx="3870360" cy="5675400"/>
              <a:chOff x="5508720" y="531720"/>
              <a:chExt cx="3870360" cy="56754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5508720" y="531720"/>
                <a:ext cx="3870360" cy="567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599080" y="544680"/>
                <a:ext cx="3673080" cy="541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890320" y="851760"/>
              <a:ext cx="3095280" cy="4796640"/>
              <a:chOff x="5890320" y="851760"/>
              <a:chExt cx="3095280" cy="47966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890320" y="851760"/>
                <a:ext cx="3095280" cy="479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928840" y="892080"/>
                <a:ext cx="3016080" cy="471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589040" y="3465360"/>
            <a:ext cx="35733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584000" y="6028920"/>
            <a:ext cx="358452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584000" y="350640"/>
            <a:ext cx="35845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538200" y="880560"/>
            <a:ext cx="8762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CD0CBD9-F555-489B-9360-2ACD2C0044F2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gif"/><Relationship Id="rId7" Type="http://schemas.openxmlformats.org/officeDocument/2006/relationships/image" Target="../media/image7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0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Users\Инна\Desktop\КОНФЕРЕНЦИЯ\5604a69c0481b.jpg"/>
          <p:cNvPicPr/>
          <p:nvPr/>
        </p:nvPicPr>
        <p:blipFill>
          <a:blip r:embed="rId1"/>
          <a:stretch/>
        </p:blipFill>
        <p:spPr>
          <a:xfrm>
            <a:off x="322200" y="328680"/>
            <a:ext cx="9140760" cy="6667560"/>
          </a:xfrm>
          <a:prstGeom prst="rect">
            <a:avLst/>
          </a:prstGeom>
          <a:ln w="0">
            <a:noFill/>
          </a:ln>
        </p:spPr>
      </p:pic>
      <p:sp>
        <p:nvSpPr>
          <p:cNvPr id="502" name="TextBox 9"/>
          <p:cNvSpPr/>
          <p:nvPr/>
        </p:nvSpPr>
        <p:spPr>
          <a:xfrm>
            <a:off x="674640" y="1460520"/>
            <a:ext cx="823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  <a:ea typeface="Calibri"/>
              </a:rPr>
              <a:t>«ИСПОЛЬЗОВАНИЕ ЭЛЕМЕНТОВ ТЕАТРАЛЬНОЙ ПЕДАГОГИК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  <a:ea typeface="Calibri"/>
              </a:rPr>
              <a:t>НА УРОКАХ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Arial"/>
                <a:ea typeface="Calibri"/>
              </a:rPr>
              <a:t>В НАЧАЛЬНОЙ ШКОЛЕ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Рисунок 7" descr="1198011271_2.jpg"/>
          <p:cNvPicPr/>
          <p:nvPr/>
        </p:nvPicPr>
        <p:blipFill>
          <a:blip r:embed="rId2"/>
          <a:srcRect l="50223" t="91533" r="0" b="0"/>
          <a:stretch/>
        </p:blipFill>
        <p:spPr>
          <a:xfrm>
            <a:off x="4883040" y="6919920"/>
            <a:ext cx="5197680" cy="639720"/>
          </a:xfrm>
          <a:prstGeom prst="rect">
            <a:avLst/>
          </a:prstGeom>
          <a:ln w="0">
            <a:noFill/>
          </a:ln>
        </p:spPr>
      </p:pic>
      <p:pic>
        <p:nvPicPr>
          <p:cNvPr id="504" name="Рисунок 8" descr="1198011271_2.jpg"/>
          <p:cNvPicPr/>
          <p:nvPr/>
        </p:nvPicPr>
        <p:blipFill>
          <a:blip r:embed="rId3"/>
          <a:srcRect l="0" t="91533" r="50223" b="0"/>
          <a:stretch/>
        </p:blipFill>
        <p:spPr>
          <a:xfrm>
            <a:off x="0" y="6919920"/>
            <a:ext cx="5197320" cy="639720"/>
          </a:xfrm>
          <a:prstGeom prst="rect">
            <a:avLst/>
          </a:prstGeom>
          <a:ln w="0">
            <a:noFill/>
          </a:ln>
        </p:spPr>
      </p:pic>
      <p:pic>
        <p:nvPicPr>
          <p:cNvPr id="505" name="Рисунок 10" descr="1198011271_2.jpg"/>
          <p:cNvPicPr/>
          <p:nvPr/>
        </p:nvPicPr>
        <p:blipFill>
          <a:blip r:embed="rId4"/>
          <a:srcRect l="50223" t="0" r="0" b="91817"/>
          <a:stretch/>
        </p:blipFill>
        <p:spPr>
          <a:xfrm>
            <a:off x="4883040" y="0"/>
            <a:ext cx="5197680" cy="619200"/>
          </a:xfrm>
          <a:prstGeom prst="rect">
            <a:avLst/>
          </a:prstGeom>
          <a:ln w="0">
            <a:noFill/>
          </a:ln>
        </p:spPr>
      </p:pic>
      <p:pic>
        <p:nvPicPr>
          <p:cNvPr id="506" name="Рисунок 11" descr="1198011271_2.jpg"/>
          <p:cNvPicPr/>
          <p:nvPr/>
        </p:nvPicPr>
        <p:blipFill>
          <a:blip r:embed="rId5"/>
          <a:srcRect l="0" t="0" r="50223" b="91817"/>
          <a:stretch/>
        </p:blipFill>
        <p:spPr>
          <a:xfrm>
            <a:off x="0" y="0"/>
            <a:ext cx="5197320" cy="619200"/>
          </a:xfrm>
          <a:prstGeom prst="rect">
            <a:avLst/>
          </a:prstGeom>
          <a:ln w="0">
            <a:noFill/>
          </a:ln>
        </p:spPr>
      </p:pic>
      <p:pic>
        <p:nvPicPr>
          <p:cNvPr id="507" name="Рисунок 13" descr="animated-gifs-buttons-62.gif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056520" y="7265880"/>
            <a:ext cx="735120" cy="293760"/>
          </a:xfrm>
          <a:prstGeom prst="rect">
            <a:avLst/>
          </a:prstGeom>
          <a:ln w="0">
            <a:noFill/>
          </a:ln>
        </p:spPr>
      </p:pic>
      <p:sp>
        <p:nvSpPr>
          <p:cNvPr id="508" name="Прямоугольник 1"/>
          <p:cNvSpPr/>
          <p:nvPr/>
        </p:nvSpPr>
        <p:spPr>
          <a:xfrm>
            <a:off x="4319640" y="3827520"/>
            <a:ext cx="353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ЧИТЕЛЬ          ГАВРИЛОВА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ННА НИКОЛАЕ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БОУ СОШ № 4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Рисунок 5" descr="1198011271_2.jpg"/>
          <p:cNvPicPr/>
          <p:nvPr/>
        </p:nvPicPr>
        <p:blipFill>
          <a:blip r:embed="rId7"/>
          <a:srcRect l="0" t="0" r="92229" b="0"/>
          <a:stretch/>
        </p:blipFill>
        <p:spPr>
          <a:xfrm>
            <a:off x="57240" y="47520"/>
            <a:ext cx="453960" cy="7559640"/>
          </a:xfrm>
          <a:prstGeom prst="rect">
            <a:avLst/>
          </a:prstGeom>
          <a:ln w="0">
            <a:noFill/>
          </a:ln>
        </p:spPr>
      </p:pic>
      <p:pic>
        <p:nvPicPr>
          <p:cNvPr id="510" name="Рисунок 6" descr="1198011271_2.jpg"/>
          <p:cNvPicPr/>
          <p:nvPr/>
        </p:nvPicPr>
        <p:blipFill>
          <a:blip r:embed="rId8"/>
          <a:srcRect l="92229" t="0" r="0" b="0"/>
          <a:stretch/>
        </p:blipFill>
        <p:spPr>
          <a:xfrm>
            <a:off x="9588600" y="0"/>
            <a:ext cx="492120" cy="7559640"/>
          </a:xfrm>
          <a:prstGeom prst="rect">
            <a:avLst/>
          </a:prstGeom>
          <a:ln w="0">
            <a:noFill/>
          </a:ln>
        </p:spPr>
      </p:pic>
      <p:pic>
        <p:nvPicPr>
          <p:cNvPr id="511" name="Рисунок 4" descr="1198011271_2.jpg"/>
          <p:cNvPicPr/>
          <p:nvPr/>
        </p:nvPicPr>
        <p:blipFill>
          <a:blip r:embed="rId9"/>
          <a:srcRect l="50223" t="0" r="0" b="0"/>
          <a:stretch/>
        </p:blipFill>
        <p:spPr>
          <a:xfrm>
            <a:off x="4572000" y="-34920"/>
            <a:ext cx="5280120" cy="7561080"/>
          </a:xfrm>
          <a:prstGeom prst="rect">
            <a:avLst/>
          </a:prstGeom>
          <a:ln w="0">
            <a:noFill/>
          </a:ln>
        </p:spPr>
      </p:pic>
      <p:pic>
        <p:nvPicPr>
          <p:cNvPr id="512" name="Рисунок 3" descr="1198011271_2.jpg"/>
          <p:cNvPicPr/>
          <p:nvPr/>
        </p:nvPicPr>
        <p:blipFill>
          <a:blip r:embed="rId10"/>
          <a:srcRect l="0" t="0" r="50223" b="0"/>
          <a:stretch/>
        </p:blipFill>
        <p:spPr>
          <a:xfrm>
            <a:off x="154080" y="47520"/>
            <a:ext cx="4417920" cy="739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20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20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20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Рисунок 1" descr=""/>
          <p:cNvPicPr/>
          <p:nvPr/>
        </p:nvPicPr>
        <p:blipFill>
          <a:blip r:embed="rId1"/>
          <a:stretch/>
        </p:blipFill>
        <p:spPr>
          <a:xfrm>
            <a:off x="360360" y="41400"/>
            <a:ext cx="8980560" cy="67356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2" descr="C:\Users\Инна\Desktop\Рисунок1.png"/>
          <p:cNvPicPr/>
          <p:nvPr/>
        </p:nvPicPr>
        <p:blipFill>
          <a:blip r:embed="rId2"/>
          <a:srcRect l="1793" t="25853" r="2868" b="0"/>
          <a:stretch/>
        </p:blipFill>
        <p:spPr>
          <a:xfrm>
            <a:off x="-181080" y="41400"/>
            <a:ext cx="10261800" cy="766764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" descr="C:\Users\Инна\Desktop\КОНФЕРЕНЦИЯ\bau-o6fjaN0.jpg"/>
          <p:cNvPicPr/>
          <p:nvPr/>
        </p:nvPicPr>
        <p:blipFill>
          <a:blip r:embed="rId3"/>
          <a:stretch/>
        </p:blipFill>
        <p:spPr>
          <a:xfrm>
            <a:off x="6769080" y="4759200"/>
            <a:ext cx="208764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2" descr="C:\Users\Инна\Desktop\Рисунок1.png"/>
          <p:cNvPicPr/>
          <p:nvPr/>
        </p:nvPicPr>
        <p:blipFill>
          <a:blip r:embed="rId1"/>
          <a:srcRect l="1793" t="25853" r="2868" b="0"/>
          <a:stretch/>
        </p:blipFill>
        <p:spPr>
          <a:xfrm>
            <a:off x="-73080" y="117360"/>
            <a:ext cx="10153800" cy="7559640"/>
          </a:xfrm>
          <a:prstGeom prst="rect">
            <a:avLst/>
          </a:prstGeom>
          <a:ln w="0">
            <a:noFill/>
          </a:ln>
        </p:spPr>
      </p:pic>
      <p:sp>
        <p:nvSpPr>
          <p:cNvPr id="517" name="Прямоугольник 1"/>
          <p:cNvSpPr/>
          <p:nvPr/>
        </p:nvSpPr>
        <p:spPr>
          <a:xfrm>
            <a:off x="719280" y="168120"/>
            <a:ext cx="8281800" cy="66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Методы в театральной педагогик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891631"/>
                </a:solidFill>
                <a:latin typeface="Arial"/>
              </a:rPr>
              <a:t>Метод физических действий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4c6e7a"/>
                </a:solidFill>
                <a:latin typeface="Arial"/>
              </a:rPr>
              <a:t>Метод    действенного анализ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Этюдный мето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6511a0"/>
                </a:solidFill>
                <a:latin typeface="Arial"/>
              </a:rPr>
              <a:t>Метод исторических паралле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Метод ролевого действ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Picture 4" descr="C:\Users\Инна\Desktop\КОНФЕРЕНЦИЯ\bau-o6fjaN0.jpg"/>
          <p:cNvPicPr/>
          <p:nvPr/>
        </p:nvPicPr>
        <p:blipFill>
          <a:blip r:embed="rId2"/>
          <a:stretch/>
        </p:blipFill>
        <p:spPr>
          <a:xfrm>
            <a:off x="7488360" y="4303800"/>
            <a:ext cx="236376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" descr="C:\Users\Инна\Desktop\Рисунок1.png"/>
          <p:cNvPicPr/>
          <p:nvPr/>
        </p:nvPicPr>
        <p:blipFill>
          <a:blip r:embed="rId1"/>
          <a:srcRect l="1793" t="25853" r="2868" b="0"/>
          <a:stretch/>
        </p:blipFill>
        <p:spPr>
          <a:xfrm>
            <a:off x="-181080" y="0"/>
            <a:ext cx="10261800" cy="7559640"/>
          </a:xfrm>
          <a:prstGeom prst="rect">
            <a:avLst/>
          </a:prstGeom>
          <a:ln w="0">
            <a:noFill/>
          </a:ln>
        </p:spPr>
      </p:pic>
      <p:sp>
        <p:nvSpPr>
          <p:cNvPr id="520" name="Прямоугольник 1"/>
          <p:cNvSpPr/>
          <p:nvPr/>
        </p:nvSpPr>
        <p:spPr>
          <a:xfrm>
            <a:off x="647640" y="0"/>
            <a:ext cx="8569440" cy="68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риё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ыработка «мышечного контроля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b71e42"/>
                </a:solidFill>
                <a:latin typeface="Times New Roman"/>
                <a:ea typeface="Times New Roman"/>
              </a:rPr>
              <a:t>• </a:t>
            </a:r>
            <a:r>
              <a:rPr b="1" lang="ru-RU" sz="4000" spc="-1" strike="noStrike">
                <a:solidFill>
                  <a:srgbClr val="b71e42"/>
                </a:solidFill>
                <a:latin typeface="Times New Roman"/>
                <a:ea typeface="Times New Roman"/>
              </a:rPr>
              <a:t>активизация эмоциональной памяти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9622e7"/>
                </a:solidFill>
                <a:latin typeface="Times New Roman"/>
                <a:ea typeface="Times New Roman"/>
              </a:rPr>
              <a:t>• </a:t>
            </a:r>
            <a:r>
              <a:rPr b="1" lang="ru-RU" sz="4000" spc="-1" strike="noStrike">
                <a:solidFill>
                  <a:srgbClr val="9622e7"/>
                </a:solidFill>
                <a:latin typeface="Times New Roman"/>
                <a:ea typeface="Times New Roman"/>
              </a:rPr>
              <a:t>«если бы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7c1646"/>
                </a:solidFill>
                <a:latin typeface="Times New Roman"/>
                <a:ea typeface="Times New Roman"/>
              </a:rPr>
              <a:t>• </a:t>
            </a:r>
            <a:r>
              <a:rPr b="1" lang="ru-RU" sz="4000" spc="-1" strike="noStrike">
                <a:solidFill>
                  <a:srgbClr val="7c1646"/>
                </a:solidFill>
                <a:latin typeface="Times New Roman"/>
                <a:ea typeface="Times New Roman"/>
              </a:rPr>
              <a:t>«действие с окраской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• </a:t>
            </a:r>
            <a:r>
              <a:rPr b="1" lang="ru-RU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овто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ru-RU" sz="4000" spc="-1" strike="noStrike">
                <a:solidFill>
                  <a:srgbClr val="594487"/>
                </a:solidFill>
                <a:latin typeface="Times New Roman"/>
                <a:ea typeface="Times New Roman"/>
              </a:rPr>
              <a:t>«монологическая пауза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отивопоставл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ru-RU" sz="4000" spc="-1" strike="noStrike">
                <a:solidFill>
                  <a:srgbClr val="de478e"/>
                </a:solidFill>
                <a:latin typeface="Times New Roman"/>
                <a:ea typeface="Times New Roman"/>
              </a:rPr>
              <a:t>координация движений и реч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ru-RU" sz="4000" spc="-1" strike="noStrike">
                <a:solidFill>
                  <a:srgbClr val="5c0f21"/>
                </a:solidFill>
                <a:latin typeface="Times New Roman"/>
                <a:ea typeface="Times New Roman"/>
              </a:rPr>
              <a:t>сосредоточение и др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Рисунок 5" descr="beachwavesanim.gif"/>
          <p:cNvPicPr/>
          <p:nvPr/>
        </p:nvPicPr>
        <p:blipFill>
          <a:blip r:embed="rId1"/>
          <a:stretch/>
        </p:blipFill>
        <p:spPr>
          <a:xfrm flipH="1">
            <a:off x="0" y="-18900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i="1" lang="ru-RU" sz="4000" spc="-1" strike="noStrike">
                <a:solidFill>
                  <a:srgbClr val="6511a0"/>
                </a:solidFill>
                <a:latin typeface="Gill Sans MT"/>
              </a:rPr>
              <a:t>ЭТЮД «МОРСКИЕ ПРОСТОРЫ»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23" name="Рисунок 3" descr="goldy304.gif"/>
          <p:cNvPicPr/>
          <p:nvPr/>
        </p:nvPicPr>
        <p:blipFill>
          <a:blip r:embed="rId2"/>
          <a:stretch/>
        </p:blipFill>
        <p:spPr>
          <a:xfrm>
            <a:off x="5040360" y="5867280"/>
            <a:ext cx="523800" cy="50004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2" descr="C:\Users\Инна\Desktop\Рисунок1.png"/>
          <p:cNvPicPr/>
          <p:nvPr/>
        </p:nvPicPr>
        <p:blipFill>
          <a:blip r:embed="rId3"/>
          <a:srcRect l="1793" t="25853" r="2868" b="0"/>
          <a:stretch/>
        </p:blipFill>
        <p:spPr>
          <a:xfrm>
            <a:off x="-144360" y="-189000"/>
            <a:ext cx="10298160" cy="7748640"/>
          </a:xfrm>
          <a:prstGeom prst="rect">
            <a:avLst/>
          </a:prstGeom>
          <a:ln w="0">
            <a:noFill/>
          </a:ln>
        </p:spPr>
      </p:pic>
      <p:pic>
        <p:nvPicPr>
          <p:cNvPr id="525" name="звуки моря.mp3" descr=""/>
          <p:cNvPicPr/>
          <p:nvPr/>
        </p:nvPicPr>
        <p:blipFill>
          <a:blip r:embed="rId4"/>
          <a:stretch/>
        </p:blipFill>
        <p:spPr>
          <a:xfrm>
            <a:off x="2031840" y="659304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525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525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5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ша</dc:creator>
  <dc:description/>
  <dc:language>en-US</dc:language>
  <cp:lastModifiedBy>gavrilovainna@outlook.com</cp:lastModifiedBy>
  <dcterms:modified xsi:type="dcterms:W3CDTF">2019-01-04T19:59:36Z</dcterms:modified>
  <cp:revision>48</cp:revision>
  <dc:subject/>
  <dc:title>Театрализованная деятельность в детском саду</dc:title>
</cp:coreProperties>
</file>