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6FB-79C6-4980-940C-BB57ABF1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2CF-D536-4A5E-B417-2CF4C669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ED7A3-60AC-4ED0-BF27-153770E1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256BC-CE92-484E-8E3C-A9F51004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B2E5B-DC64-4221-85CB-CE21FFDD8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BDF4DD-2A43-4DDF-BA29-DB630D30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D06C1-D2E3-44F5-A454-B8FC49BFF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6D330F-116A-4C92-B8C0-37095D2D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046C9-5E62-4AAD-AC7A-439A28DD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DB2F7E-7506-4984-AD22-4F4292005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471D6B-D1D1-4913-B1BE-46EE2CF60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6805E0-8219-4648-A9A2-5E601E33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9D4A-388E-4DC8-8365-1A636112F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45A1A-49C1-40E9-8E08-98198CA1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FBF44-2F04-4A91-AC3C-CED40997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90B153-55CB-41C8-9C89-6F48D274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AAD63-A039-4D79-9285-9EC432BE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AA19E-EED4-418F-810A-E5C0DE449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7DFDD-D34C-4250-8F3A-5B63978B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4C8245-289D-45F9-A023-209E9AE5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35BF0-22BE-4CAF-8073-BFD552AC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C115C7-E148-4F3B-9262-F51CE5B0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D3942-B0A1-4BFF-AD93-5AA894AA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2B7-F0D7-4DAD-B220-98957B8E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102F3-3671-4C29-B971-D6B1946D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6820D-75EE-4566-B57C-F350EC5D2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F9002-82FA-4BC2-B828-5823068C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840AE-7D4A-48F0-9345-E571579E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D7694-65A1-4B3E-B205-90B8631F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F70D4-03D5-4468-96EC-94D2764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2A0F1-FA6E-4371-B5FC-1AC4BCC7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0D559-3851-40D7-BB86-9DFBA641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C0638-9918-41AB-8934-6B019013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8F57BB-3D65-4CF5-B19B-0F788756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82D8-DEE4-415A-AFAE-B4D8E3CF2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32EB45-0671-4BAC-884D-215625EF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25809-665B-43C8-9557-C0A2071CD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176078-A422-4969-A565-8C688E50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9AB9-0558-4348-BB23-EEBCF9041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FA0AE-6079-44F3-9912-2C358F48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8A5-3022-474F-91BA-9EF94FED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5031-205B-496D-B4CB-4F8B6B05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59B6-38B3-4CB1-A4CE-0DD26293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EDD2-DAA6-46E9-963E-FBF6B22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889-ABF6-4EE0-9C09-21544887B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F2AF-01D1-4692-8125-D6377F65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5B841-EC2D-4852-B489-63BFCC94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D520-B7A5-46B5-ACAC-976E3DE9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3D44-7A0B-435D-B365-164FDE6A8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062C-D32B-4ED4-80EE-E2B1501E7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AFCE8-3588-44F5-A337-625FA22E4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3EAE0-C89A-451A-8200-49B495F5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AC0C2-0340-4B38-83F9-A0580CE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3572-72EE-43A9-A983-7CBF9F0F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3A03-878B-4181-BADB-CF8F5D0A8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F267-C8B0-425A-AB64-7993E5BE9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F0AE-C316-4D9B-9860-CBF7746D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7D4C3-1D71-4345-8AC5-420E8AE8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4494A-913B-45C4-BB98-B75CE467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992F-34BF-4927-A2CC-C2EE9769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E7C68-FFE9-420D-88FB-70DDB129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E7E2-3BB1-4BC5-AA0E-1364C2C4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0FA6-79C8-4FE1-AB28-72EAB1FE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DFBD8-4F39-4FDB-90AA-B3B310D3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FD1F-6A21-4B04-AFC2-1C7CF3CC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4D2F3-5DF3-458E-8453-FF8FBF2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3BDD-46D5-44B9-9820-D9D060F9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C33EC-C9BB-435D-8F32-E419D5FA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B4A67-CB5B-49DA-93AC-1D9D6046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27107-C79B-412E-A706-A045395F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13C70-801A-4FA8-A4BE-7B75A73E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56E4E-7EBE-4550-9A22-8A186423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856F3-8399-48B7-8146-C4E3FC61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48242-A6DB-47BD-903E-99326853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9A67-AE80-4268-BDA4-000D0F2D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A30B3-FF08-4775-9F7A-3DBF755A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58D7-D899-4297-AC43-B55AE88E0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8466-7CB2-4A78-BEC3-622E26F6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F2705-12F6-47DB-A4F8-5A840D1F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3975-321C-45F0-9705-4B53DD1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955AA-4BF1-4E25-8F04-D8BD6CF9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81EE-174B-4F01-B4AC-6573EAEC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E2386-1BEB-4676-9E1F-90811DA1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F1BD-79FF-483C-AD5D-8FF7CFECD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349A-DBFB-464D-B98B-5C2B43A4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85D3A-7C5D-4786-926E-D2E8AA40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D7F48-9653-4CA0-9F7D-7E8DF53B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2EA7E9-5BE5-4555-BC75-F2F8AFBB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7218-DA45-4371-A1F2-4EC697E8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3A201-3793-45C0-A386-C577BA2EE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7F9BB-4546-4495-AEA0-E6562AE9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E6286-C560-425C-944D-14B622CD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94A8-0BC9-49FB-B86B-DD9EEF72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9008B-44E5-4C38-B3E6-25FAB3036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1B943-3EFD-42E1-AFE6-2945D8D4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4A27-06A3-423E-9BC8-B8F05E26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F5CA5-E862-4572-924D-111E6EF6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46452-9B3A-4547-9007-247BEFD2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ED7D9-FF82-43F4-B94C-59E39141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E8B9-FBDE-4A9B-91F1-131086A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E807E-A9A8-4D4C-888C-126651FD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CB07C-A27D-4688-9D81-E4044810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698BB-2432-4911-B7D6-580B96F7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4F1379-B8FA-4B2F-A657-E5B2E1AE7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110CB-2548-4DAA-8EB0-31F07ABB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2B1B4-C1F0-4202-87A3-697472C1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8FE00-922C-40C1-80C5-4C865945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215D4-CA2C-4F96-BABB-06A9E33D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2B9B2-155B-4A09-A37E-A5D2966B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508E-ED5B-4DC7-84ED-D68F8754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C76-47FA-47B0-BB06-6892993F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9C365-C8B7-43DD-8CC9-4A88DE8A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7A24F-09C4-4408-B290-F70B9EBE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80ECB-B522-41BB-9FAE-84EC5935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C94F7-3D6F-4F09-9DCD-E797B447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035A2-8ADF-4ECE-9F2B-CDFB4B9A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1917F-20CD-4EA1-AD3F-F2AE2865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E993-15BB-4091-B0BF-54CD67C1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74663-6EF1-4C7E-9AE4-36DEB9B5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CCFAC5-3337-40FC-BE55-F8E8EFAC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6608B-84AD-43B1-B495-797BCFE2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42D-E386-4AE3-925E-CEC774A5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45F6F5-49CA-40CA-8311-EE2897C53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2FB22-576B-4ACA-B92F-9D37B8D9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3F2C-A34A-42BC-BCDC-D49A8829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CF90F-A564-4C98-99B1-30A19FC1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D40F1-5E05-4E2C-A568-2F6A88B8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C5536-152B-4607-98BC-4C310D2E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C0E31-9DA1-43C5-87C5-DAD96CDA7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54FD-E4BB-4601-8CB7-C8C5BAF3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8CA34-874B-4F8B-AF00-18048540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8247F-9438-45EE-A3A0-A85F0E7D1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E86A3F-9ED8-4651-8E6B-F893AAF59DF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A9F155-E518-436C-9EEB-CA69F6B4838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34CF85-A5ED-40D9-9132-BBADBA532E2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6D95CD3-7590-451C-BEF8-F2EB07F376A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8C338F6-8ADB-4BCB-BCF5-C408C0E969C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564420-F921-4181-A9C5-38DF59935C0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0F8DE5-7410-4B09-990A-E502EEB6B06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D809F8-33B1-4724-9AFA-9F8FA59098C0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29AE26-1577-4245-9079-C5EBD6BA14B9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EB756DD-11D5-4503-8B2E-70FFCAE3DF0A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848668-A549-46C3-9B98-F02CDE7E1A8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07640"/>
            <a:ext cx="9288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2600" spc="-1" strike="noStrike">
                <a:solidFill>
                  <a:srgbClr val="6511a0"/>
                </a:solidFill>
                <a:latin typeface="Gill Sans MT"/>
              </a:rPr>
              <a:t>УПРАЖНЕНИЕ «РЯДОМ С ХУДОЖНИКОМ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2900"/>
            </a:br>
            <a:br>
              <a:rPr sz="29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Ф. П. РЕШЕТНИКОВ «ОПЯТЬ ДВОЙКА» </a:t>
            </a:r>
            <a:br>
              <a:rPr sz="2900"/>
            </a:br>
            <a:br>
              <a:rPr sz="29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Рисунок 2" descr=""/>
          <p:cNvPicPr/>
          <p:nvPr/>
        </p:nvPicPr>
        <p:blipFill>
          <a:blip r:embed="rId1"/>
          <a:stretch/>
        </p:blipFill>
        <p:spPr>
          <a:xfrm>
            <a:off x="2519280" y="1547640"/>
            <a:ext cx="46087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>
            <a:off x="431640" y="17640"/>
            <a:ext cx="9217080" cy="664200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5" descr="DSCN3497"/>
          <p:cNvPicPr/>
          <p:nvPr/>
        </p:nvPicPr>
        <p:blipFill>
          <a:blip r:embed="rId2"/>
          <a:srcRect l="0" t="29620" r="0" b="0"/>
          <a:stretch/>
        </p:blipFill>
        <p:spPr>
          <a:xfrm>
            <a:off x="647640" y="2266920"/>
            <a:ext cx="511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Рисунок 2" descr=""/>
          <p:cNvPicPr/>
          <p:nvPr/>
        </p:nvPicPr>
        <p:blipFill>
          <a:blip r:embed="rId1"/>
          <a:stretch/>
        </p:blipFill>
        <p:spPr>
          <a:xfrm>
            <a:off x="576360" y="1327320"/>
            <a:ext cx="3240000" cy="2595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08360" y="107640"/>
            <a:ext cx="4775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ИГРЫ-ИМИТАЦИИ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2"/>
          <a:stretch/>
        </p:blipFill>
        <p:spPr>
          <a:xfrm>
            <a:off x="5813280" y="1295280"/>
            <a:ext cx="3540240" cy="26211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5" descr=""/>
          <p:cNvPicPr/>
          <p:nvPr/>
        </p:nvPicPr>
        <p:blipFill>
          <a:blip r:embed="rId3"/>
          <a:srcRect l="17203" t="55952" r="49232" b="3244"/>
          <a:stretch/>
        </p:blipFill>
        <p:spPr>
          <a:xfrm>
            <a:off x="3384720" y="4140360"/>
            <a:ext cx="3198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3461400" y="407880"/>
            <a:ext cx="1895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Calibri"/>
              </a:rPr>
              <a:t>Фор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2"/>
          <p:cNvSpPr/>
          <p:nvPr/>
        </p:nvSpPr>
        <p:spPr>
          <a:xfrm>
            <a:off x="1079640" y="1474920"/>
            <a:ext cx="849780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Calibri"/>
              </a:rPr>
              <a:t>театрализованное представл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гровое театрализованное представл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игровая пьес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Calibri"/>
              </a:rPr>
              <a:t>имитационно-игровая театрализац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3" descr="C:\Users\Инна\Desktop\i (5).jpg"/>
          <p:cNvPicPr/>
          <p:nvPr/>
        </p:nvPicPr>
        <p:blipFill>
          <a:blip r:embed="rId1"/>
          <a:srcRect l="22047" t="6326" r="0" b="0"/>
          <a:stretch/>
        </p:blipFill>
        <p:spPr>
          <a:xfrm>
            <a:off x="5977080" y="4594320"/>
            <a:ext cx="29509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20:09:02Z</dcterms:modified>
  <cp:revision>53</cp:revision>
  <dc:subject/>
  <dc:title>Театрализованная деятельность в детском саду</dc:title>
</cp:coreProperties>
</file>