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06C-A848-4471-8D51-2A1757AD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1A11-769C-4DDA-A38D-B22C86A4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172F2-D527-4638-8475-1E7E63D9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D9C7A-C5FD-4491-A71C-01957B99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01F0C-5C12-4E69-910B-2293CCE59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D52C43-E716-4401-A2D2-1BC90DE9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F2319-7E46-4A51-8F61-5DA5E616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2379F-1345-4C35-A3EE-ADBFFF61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F6507-A1F6-4286-AF69-CECC13A9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478C3-8FC8-41ED-9419-CE5497D65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54BC80-EC0A-4049-80BD-5DE3F54F7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AC9E55-C7E2-439F-8BBB-87E56A3B8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A249-B6B3-440F-B20C-8CB914BF3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96ED88-A614-48A7-B09D-AB3B7086D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55C0A-C0B2-40E6-8494-4E771DCF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327DC-1096-4881-A8BA-0CFA0AE6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6D6D8-5E8C-4BCC-9D71-183822BC5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CC936-1EAF-4EF5-BFDE-18FED1FFF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257DE-D284-4676-B1C1-6B58A4B0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129698-6725-4130-80FE-9CCDEB8E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BE3D51-ECE6-4738-93F6-76E8A2966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A5509-E744-4B2E-B250-2CBC63C5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D071BB-0C68-466B-902C-D6D05C113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74F3-108C-426B-A657-2D5C9ACD1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29664B-B172-4C7B-9D1A-312831320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03050-8404-400A-BB9B-CA41E291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D73879-B039-46B3-9514-42E4566B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721E0E-F3D7-473F-80C8-85024A25D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02837C-11CD-4F2C-A9CE-D1F755DB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721FAD-227B-4088-8407-A384D8813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8B0398-9CA1-4C0A-B05F-7656386E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D2721-6D7B-4974-B02C-D2A90130B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DBEEB-3AC5-4D16-8C60-47580F2A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5D42A2-D7B6-4031-BE6E-DD082B42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41D12-976C-4436-9445-CD3BBB3E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33063C-83C0-44B1-9A55-E1EB90EC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1636FB-006B-41BF-80D8-D7864B80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788661-39A6-4099-BCE3-D99933958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2DC09-703A-49BA-9825-C75A3859C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65CDD-61AA-4A9D-AA24-E7D339DC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BE31-9E08-4BE8-9BE8-1E7264577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99F67-E8EC-488E-A34F-1DBE849C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E56A-C499-4F3E-86AF-021A3C95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FD7EE-6FFA-4114-8CE4-AF2D706B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1286-FE22-4E9F-8CF2-43A1AC44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8B88-1F33-430B-A7DE-61E465F8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6AA54-E0D3-43CF-A6A5-103E7CE6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5D6C-A800-473E-A476-00110BEAB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7056-DC6A-4E85-8F39-AE8CAB210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9CC4-B13A-4BBA-BEB5-71BDC161E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C0016-12A3-4615-94FA-0673824DC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C380B-A77B-4C75-A812-065653CC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E5D3B-BFCC-40E0-B392-D3D8E769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A2539-80F5-4B43-8157-9B7C399B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8BC68-61E1-4EFF-BABD-FD1A12DF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6979-DC65-4AB2-BD72-A4E008599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01A24-5F94-4A2E-9D3D-373D4CA81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9B223-AEF5-4E32-A2E7-A2592049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924A4-8F97-475F-8655-BC1E93265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70A92A-7E0F-4A90-99F6-E8DCB64A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AC738-CAEB-4DB3-8DBF-8B44A277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FC65E-D912-487C-B6E0-A1623D4B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48CB9-5AC4-41E5-BD9B-578FCCCE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82419-42E1-4F99-A7F6-A23F0B35A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F470D-6977-4D56-94CF-A3DF9509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0074D-B1A0-4785-BE7A-3C367EDE1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0A6B-6E9C-40CA-A727-1E87F7A1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F2656-CE45-441A-A88D-3CEB61B1D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7B24B-49C9-4A1F-9DB2-3CEBCCDD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D23B1-5475-453F-B2CB-6FB95CEA7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4A3CD-51C9-4E54-8D13-BB33027D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2AC7B-140A-4524-9352-B03BE2BB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A5BB1-968B-4F1E-94BF-9133A58F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A93A0-CECD-4134-B077-3613A1A6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4C46F-62F9-444C-BD5A-B70791FBB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513F2-CE2D-4118-A9CA-C68D84EEF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CCDBD-E96B-4E73-A7DE-FB2360B2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D132-BE36-497D-8A03-46181F3A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69095-7FD9-4067-90F1-48974C54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61A1D-B8B9-4EE7-986B-99CBF347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C55C9-150B-4817-84D1-F8B7FE46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769A0D-0DA2-4BE2-A463-0E70D47AF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6360E-471A-459C-A424-A4984F78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BDDB4-828A-475C-84F2-BF5E9317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A73DB-CA4E-4874-9006-B10A9175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23BBA-AFB4-4D15-A150-3F1B3FFE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6B5B2D-7185-4BAD-AD11-1CF0296B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CCC05-E532-4A2E-8E6F-A7024AB32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6E80-D901-4B67-A863-4F4E7C66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BF4E8-DA26-486C-B131-DFCBAB9DB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8E4B0-DE71-4EB5-9D2D-ECBE7858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902DDC-01D1-4E51-8972-3F29C2AA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F74B9-97A6-4DAB-9372-569E8C40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DFF33-DEBC-46F6-9A4B-263C9A09B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23CCE-D0D6-471C-86B2-99D0E211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96DD6-A5DE-4CBF-90A5-F886BF48E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B0324-8ECF-46FF-B6F0-C0764A51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4ABBB-9C4C-4169-B8DB-0266677B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5BD86-EB44-4EF8-9BAD-E7608611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84BE-C181-44BF-AEB3-9D17ACDE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8FAA8-661E-4B22-9A04-7575308F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B7AA72-E6B3-418F-A452-09599F5C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354AF7-04C5-4031-A681-06B90666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255FC-172B-44EA-B9D0-FE2F4BAD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FDF75-E3BC-468E-965B-76C90758A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65A52-7594-4F08-9606-EB4ACB336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F84EF6-E831-4E4A-9B5C-13FBF74B1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EF108-E31B-49A5-8E22-438A7471A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2809B-B5CD-4C41-8F07-6B7596DA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1B9BC3-A65E-4AF6-B0D6-9E27600F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1B65-B785-46F4-B03F-84F77145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D2ECB9-21AA-4B1D-BF41-0F63075BA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AA296-D7EE-404E-8D95-4B4F1A93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458DC-9F73-4079-8E34-CBF341F4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3F565-7D47-4A1D-ACA8-0F325CF0B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D5FAA3-DAD2-4A59-AF03-236B87BE9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46ACD0-3A55-4752-8DD9-C353F943C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9070D-EB13-41D1-8389-221D1F97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C1E23-9BBA-4CDC-A66E-F504BBAF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B4B9D-D178-47E2-97EE-658CB8A3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3916E9-7959-4720-89C1-213BC459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635B-376E-4DEB-BEF8-5F17ACAD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BC214-B502-46AA-ADA6-7F91E60E1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3C0DC-AA3E-4ACD-A85A-5C10393E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C7191-6E36-465A-B8DB-C4D8FEDB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1A31E-C1F2-409E-AD82-D7076BCA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62A25-7A99-4AA2-8CDD-500A11A3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A2317-98E0-424C-BEB7-828EED93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14846-8FB3-403B-96EE-A3A71E4CA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90176C-9627-41D7-A699-B1C99A1A1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E4276C-94BF-442D-9E97-D2BEA897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AC8A38-87C5-4F97-B59E-38CA6513C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D5B2B2E-F68A-421F-B17D-D2A6A0DF07F4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590840" y="2036880"/>
            <a:ext cx="7245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DA0C73-EFF1-4237-A465-5B828E66FF72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7626240" y="880920"/>
            <a:ext cx="0" cy="513576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BEA19AC-7585-468D-AB5F-E3258ED9F0F3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641680" y="3889440"/>
            <a:ext cx="6194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641680" y="363600"/>
            <a:ext cx="34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581120" y="880560"/>
            <a:ext cx="884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BD2568B-8D92-46D3-A45F-FEF241751A08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590840" y="2036880"/>
            <a:ext cx="7245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27BD24-B4A9-45CE-9F61-D6E1405DA132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590840" y="4194000"/>
            <a:ext cx="61927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8948437-175F-4E5C-9830-B495E3820963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590840" y="2036880"/>
            <a:ext cx="7245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9DE345F-76B3-4EC7-909A-F7655BC2A0DA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590840" y="2036880"/>
            <a:ext cx="7245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C51DDD-6663-46B3-B6E8-C9BB1DBD3BD5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590840" y="2036880"/>
            <a:ext cx="7245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FCE902-A596-4D5A-AA65-3848714225BE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589040" y="3533760"/>
            <a:ext cx="26719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AE80A97-DA43-48D0-91E6-D1122DEE3E02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5508720" y="531720"/>
            <a:ext cx="3870360" cy="5675400"/>
            <a:chOff x="5508720" y="531720"/>
            <a:chExt cx="3870360" cy="56754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5508720" y="531720"/>
              <a:ext cx="3870360" cy="5675400"/>
              <a:chOff x="5508720" y="531720"/>
              <a:chExt cx="3870360" cy="56754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5508720" y="531720"/>
                <a:ext cx="3870360" cy="567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599080" y="544680"/>
                <a:ext cx="3673080" cy="541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890320" y="851760"/>
              <a:ext cx="3095280" cy="4796640"/>
              <a:chOff x="5890320" y="851760"/>
              <a:chExt cx="3095280" cy="47966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890320" y="851760"/>
                <a:ext cx="3095280" cy="479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928840" y="892080"/>
                <a:ext cx="3016080" cy="471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589040" y="3465360"/>
            <a:ext cx="3573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584000" y="6028920"/>
            <a:ext cx="35845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584000" y="350640"/>
            <a:ext cx="35845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D2398F-B9D1-4505-BADD-DD4B024AB55B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47280" y="107640"/>
            <a:ext cx="928836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i="1" lang="ru-RU" sz="2600" spc="-1" strike="noStrike">
                <a:solidFill>
                  <a:srgbClr val="6511a0"/>
                </a:solidFill>
                <a:latin typeface="Gill Sans MT"/>
              </a:rPr>
              <a:t>УПРАЖНЕНИЕ «РЯДОМ С ХУДОЖНИКОМ»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br>
              <a:rPr sz="2900"/>
            </a:br>
            <a:br>
              <a:rPr sz="29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Calibri"/>
              </a:rPr>
              <a:t>Ф. П. РЕШЕТНИКОВ «ОПЯТЬ ДВОЙКА» </a:t>
            </a:r>
            <a:br>
              <a:rPr sz="2900"/>
            </a:br>
            <a:br>
              <a:rPr sz="2900"/>
            </a:b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2" name="Рисунок 2" descr=""/>
          <p:cNvPicPr/>
          <p:nvPr/>
        </p:nvPicPr>
        <p:blipFill>
          <a:blip r:embed="rId1"/>
          <a:stretch/>
        </p:blipFill>
        <p:spPr>
          <a:xfrm>
            <a:off x="2519280" y="1547640"/>
            <a:ext cx="460872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4" name="Рисунок 2" descr=""/>
          <p:cNvPicPr/>
          <p:nvPr/>
        </p:nvPicPr>
        <p:blipFill>
          <a:blip r:embed="rId1"/>
          <a:stretch/>
        </p:blipFill>
        <p:spPr>
          <a:xfrm>
            <a:off x="431640" y="17640"/>
            <a:ext cx="9217080" cy="6642000"/>
          </a:xfrm>
          <a:prstGeom prst="rect">
            <a:avLst/>
          </a:prstGeom>
          <a:ln w="0">
            <a:noFill/>
          </a:ln>
        </p:spPr>
      </p:pic>
      <p:pic>
        <p:nvPicPr>
          <p:cNvPr id="505" name="Рисунок 5" descr="DSCN3497"/>
          <p:cNvPicPr/>
          <p:nvPr/>
        </p:nvPicPr>
        <p:blipFill>
          <a:blip r:embed="rId2"/>
          <a:srcRect l="0" t="29620" r="0" b="0"/>
          <a:stretch/>
        </p:blipFill>
        <p:spPr>
          <a:xfrm>
            <a:off x="647640" y="2266920"/>
            <a:ext cx="511344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Рисунок 2" descr=""/>
          <p:cNvPicPr/>
          <p:nvPr/>
        </p:nvPicPr>
        <p:blipFill>
          <a:blip r:embed="rId1"/>
          <a:stretch/>
        </p:blipFill>
        <p:spPr>
          <a:xfrm>
            <a:off x="576360" y="1327320"/>
            <a:ext cx="3240000" cy="2595240"/>
          </a:xfrm>
          <a:prstGeom prst="rect">
            <a:avLst/>
          </a:prstGeom>
          <a:ln w="0">
            <a:noFill/>
          </a:ln>
        </p:spPr>
      </p:pic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808360" y="107640"/>
            <a:ext cx="47750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i="1" lang="ru-RU" sz="4000" spc="-1" strike="noStrike">
                <a:solidFill>
                  <a:srgbClr val="6511a0"/>
                </a:solidFill>
                <a:latin typeface="Gill Sans MT"/>
              </a:rPr>
              <a:t>ИГРЫ-ИМИТАЦИИ</a:t>
            </a:r>
            <a:r>
              <a:rPr b="0" i="1" lang="ru-RU" sz="4000" spc="-1" strike="noStrike">
                <a:solidFill>
                  <a:srgbClr val="6511a0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8" name="Рисунок 4" descr=""/>
          <p:cNvPicPr/>
          <p:nvPr/>
        </p:nvPicPr>
        <p:blipFill>
          <a:blip r:embed="rId2"/>
          <a:stretch/>
        </p:blipFill>
        <p:spPr>
          <a:xfrm>
            <a:off x="5813280" y="1295280"/>
            <a:ext cx="3540240" cy="262116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5" descr=""/>
          <p:cNvPicPr/>
          <p:nvPr/>
        </p:nvPicPr>
        <p:blipFill>
          <a:blip r:embed="rId3"/>
          <a:srcRect l="17203" t="55952" r="49232" b="3244"/>
          <a:stretch/>
        </p:blipFill>
        <p:spPr>
          <a:xfrm>
            <a:off x="3384720" y="4140360"/>
            <a:ext cx="3198600" cy="23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рямоугольник 1"/>
          <p:cNvSpPr/>
          <p:nvPr/>
        </p:nvSpPr>
        <p:spPr>
          <a:xfrm>
            <a:off x="3461400" y="407880"/>
            <a:ext cx="18954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5c0f21"/>
                </a:solidFill>
                <a:latin typeface="Times New Roman"/>
                <a:ea typeface="Calibri"/>
              </a:rPr>
              <a:t>Форм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Прямоугольник 2"/>
          <p:cNvSpPr/>
          <p:nvPr/>
        </p:nvSpPr>
        <p:spPr>
          <a:xfrm>
            <a:off x="1079640" y="1474920"/>
            <a:ext cx="8497800" cy="40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5c0f21"/>
                </a:solidFill>
                <a:latin typeface="Times New Roman"/>
                <a:ea typeface="Calibri"/>
              </a:rPr>
              <a:t>театрализованное представлени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Calibri"/>
              </a:rPr>
              <a:t>игровое театрализованное представление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Calibri"/>
              </a:rPr>
              <a:t>игровая пьеса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Calibri"/>
              </a:rPr>
              <a:t>имитационно-игровая театрализац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3" descr="C:\Users\Инна\Desktop\i (5).jpg"/>
          <p:cNvPicPr/>
          <p:nvPr/>
        </p:nvPicPr>
        <p:blipFill>
          <a:blip r:embed="rId1"/>
          <a:srcRect l="22047" t="6326" r="0" b="0"/>
          <a:stretch/>
        </p:blipFill>
        <p:spPr>
          <a:xfrm>
            <a:off x="5977080" y="4594320"/>
            <a:ext cx="295092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ша</dc:creator>
  <dc:description/>
  <dc:language>en-US</dc:language>
  <cp:lastModifiedBy>gavrilovainna@outlook.com</cp:lastModifiedBy>
  <dcterms:modified xsi:type="dcterms:W3CDTF">2019-01-04T20:09:02Z</dcterms:modified>
  <cp:revision>53</cp:revision>
  <dc:subject/>
  <dc:title>Театрализованная деятельность в детском саду</dc:title>
</cp:coreProperties>
</file>