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16.gif" ContentType="image/gif"/>
  <Override PartName="/ppt/media/image8.png" ContentType="image/png"/>
  <Override PartName="/ppt/media/image14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74760" y="1092240"/>
            <a:ext cx="4795920" cy="39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054080" y="1092240"/>
            <a:ext cx="5237280" cy="39290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1136520" y="5408640"/>
            <a:ext cx="5075280" cy="436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Номер слайда 3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4EC9106-0D9C-4A0D-8A53-1588A6A0E80F}" type="slidenum">
              <a:rPr b="0" lang="ru-RU" sz="1800" spc="-1" strike="noStrike">
                <a:solidFill>
                  <a:srgbClr val="ffffff"/>
                </a:solidFill>
                <a:latin typeface="Arial"/>
                <a:ea typeface="msmincho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1A90-BDB6-4F4D-9B68-07CF3A1C2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065F-8C7E-4DFF-9239-A8D54A5C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05897-9008-45CA-9B21-3B0419C0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69177-728B-4494-8CD6-2991B6357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AAC09-FEAE-481F-954C-7171A1F1C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DBD43-6888-4A04-89CF-EC874513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C3FC3-D9CE-4CCD-99CE-95892EF8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4B68D-3BCD-4FC2-BAFD-37AC3718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0E345-7CE8-45DD-845F-70D91802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8ADF6-40E5-4601-A695-6B6128D5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E46E9-A711-46FA-899A-B4E31A88B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3FC82C-5D38-4999-B0FB-08A33B368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83D1-732A-4B4B-9383-ED574ED3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94907B-5BEE-4896-9195-97D55BCD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75ABB-1E5C-493C-B6FE-487B8D56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A06306-26CD-47DC-9DD0-783C8447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121FF-586D-49F5-AE2F-D4EB64330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E74D7-7711-4A30-B803-949E6FA26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039895-F2F9-48EA-9B24-A053173DD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9CA3E1-E75D-459D-8A3C-20188727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F8DE64-629D-46C0-AF15-14A20DA2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410E5A-C8B4-4FC1-A138-14AA5419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39059-BC25-46FF-8337-FA0BF042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AD1-2E72-47F0-9EBC-D1FC7CCD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D18C4F-8D21-4E6E-9121-E278FB208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F38EAA-57B5-4203-B44C-AD99D5AF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7317D4-3149-4558-A25D-1D657401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66767C-2527-400F-A9A4-CB3D1D55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84F14-40C6-4B79-BF45-9E66D32A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ED3EC-B7D0-4F31-84D6-C6A20CBD9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0AB0F-9215-4508-A7E8-BD1AF8950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67E476-D3EC-432C-9412-4FC981BB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39EBB-7C26-4A16-AB76-55F4C844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54A371-D607-4A7F-B0D0-0082131D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DCD53-821B-4A97-A3F8-201105FB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8E4E9-4E51-43C1-91D4-88053D24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12F3A-2B38-40D0-B42D-C4F4FA5CF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F84921-DC6B-496D-9D18-0791D3E98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A8A1-A717-4E73-8458-84D3B388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8DD69-535F-4A63-8E6E-1F7F69DA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D615-2B15-47D8-954A-916460B7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099D9-3A9C-4570-9B46-5E99BB326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AE9FE-FD0A-41FF-801A-8DDED500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39A1B-1AC3-44A0-9943-D430B6D2B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38E1-0E5B-4FC4-A93C-136785614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189F-10B2-4592-BE0E-41389DC8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DD3E-EAA0-4D85-97BD-F7B131A6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35FA-4356-4DC8-AE96-439F731C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7E46E-99EB-48E7-8283-301009CD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D901-0780-4A5D-9259-3939DF30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9FCFC-B483-429B-88B1-ED766E7F3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E7BDD-D384-4DDB-9E8C-8F9201C6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8400-ED7B-4A2E-9F54-D07D63A0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CCCFD-BEA8-4E4B-966E-EE807576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BE743-BDC1-4DD7-A8F3-F6826FA2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EE8-1940-4A28-B276-78A26F3D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1F3D94-D5FD-46D2-8BC4-A7C9A66A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06BB-D10F-456E-969F-1D657E243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BE03E-F4E2-4600-9211-D501830F6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FAF7-5593-4E57-8E7F-838A1139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FE5A5-4F7E-4AC5-B1C6-513178F55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FBF7F-4691-4273-8FCD-D81538B10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3E3F9-9D19-4949-9206-0324520AF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D316E-C426-4C7F-9FB3-71538FB39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627FD-E182-4CF7-9C1D-7AC191D46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2EC32-39D5-4807-A6E2-5CF53311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2665-0972-4468-91FE-C5AB9EE1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52A60-496F-41AE-BD56-1693FA53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755CD-EC9D-4AB1-901A-CBD58B94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693BC-6443-4380-B7B8-76B827E32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647C0-7B01-4808-97B2-EFF7EB51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AC3A1D-02EE-4E36-8AF7-17CEE1FF2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1CAF7E-880E-4F3D-9492-976E8807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7B926-C450-4052-8D6C-065494E4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9019F-D3B7-46FB-8D21-427093D7C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BD9CD-0138-4441-9292-E0B90269D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D9F7E-8426-4B77-8EAE-46A58FBF9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699-4DB5-4E56-8705-05B3C812B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F103F-A59C-4BB6-9DCA-4AC7F3093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7E7217-5874-4030-B995-C6C8B433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BAC13C-123A-47A2-A97A-51A9C3770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AE6EA-96BD-4051-BCC7-C87F03F1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EB6A4-0AFF-473B-8757-7E68510F6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D13FD-97B8-4A27-9299-0E651B77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675DE-4A90-4A9F-9565-17F62ABC8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03606-99F9-49F5-8CAE-4AB9A5B6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04316-03AC-4981-8372-74C13134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65C00-EDBD-4F9A-AD64-C3228177A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DE6-3FBA-47D3-AD4A-4C657458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1A532-5D95-40FD-8C56-D9FB5E5BB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1FFD6-CBB1-40D5-8C12-D1E7FB50C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CCF18-3DC4-4FF8-81DF-63C645A16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6653D-32E1-4D65-A23C-E8C49618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34EFD-04E0-414D-968E-AD896B48C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103B8-62AE-40BB-91FB-2841BD9BC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A5955-FE0B-406B-A685-87FE1617C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1967CB-0B2D-4301-9290-515A83ACA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7E9E6-9902-41E7-A65B-F7D6456E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F96B1-6AA7-45F2-B560-FAD6250C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EB3-F44D-4B73-BE74-4EB56FB9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7B2D8-AB07-4EB5-A9E2-B57E0F8E8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9340D-88A6-4AD9-A9EB-EFBAD7CC3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D858D-F792-47D9-9A5D-0553BD9F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C8846-4226-4037-AD07-9E7A73EC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EE5C7-7620-49BC-B9DC-A706BCBAE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86837-5EC0-4B86-A138-E7DC4266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9A50F-864C-4DE5-B24E-A747635B0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3C6D2-6980-4698-95A1-9E6DCFB5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5CF60-DA62-4816-A436-24E23522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7FFE2-AA72-403C-AC14-B71DE8D2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580E-0110-47F3-993A-64F3B6F5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65D30-A697-4F9A-9CDF-C2ECA8099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31948C-308A-4AA2-B3B6-A00F98D6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BA3D5-E430-462B-8763-E9A8B8AB8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AF3F81-9CE4-4B3A-B154-D23CD9B80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A7651A-9CCA-499C-8AB3-601B90E19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04FE3-853F-41AD-BAFE-35AFF97A7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30F4F-7EC0-4C5A-822E-07BBD43D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5CB10-AB34-4522-8085-393C7325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55CC0-33CA-4465-9D23-CB5EBDFA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071AA-E068-4118-9105-5A29E8A40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F5F5-B3EF-4F8E-ADD5-938EE9E52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590840" y="887400"/>
            <a:ext cx="724536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03F1A9-62BB-4CEA-B056-F7CBF59D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35A8EE-6DB1-43E2-AD1D-A9CB36567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1CF7FD-E783-4F49-B014-D204AD23F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57EFB-DED1-43CC-9CE9-8102A9C8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590840" y="4209120"/>
            <a:ext cx="72453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E682E6-79E6-44EE-803C-AF2484BC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303520" y="222228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59084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5303520" y="4209120"/>
            <a:ext cx="353556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3A0811-5B19-4E1A-8F59-4AC53CFF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0406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490440" y="222228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5908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40406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490440" y="4209120"/>
            <a:ext cx="2332800" cy="18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39D3B-B179-4B66-AF4D-03CC7AEB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86CBBF-7BCA-4CD3-BF37-5616BA69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42612-E965-4CC7-88D3-0D89C295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100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4AD4E-EE9F-4A20-9B25-726EF8AED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A15B125-2365-45E4-B5F8-576351083E4A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3019E30-DA3B-438D-93F7-79B05B95AB83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7626240" y="880920"/>
            <a:ext cx="0" cy="513576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FFEA3BD-3859-42B0-9EEF-4A3431B8675B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641680" y="3889440"/>
            <a:ext cx="6194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641680" y="363600"/>
            <a:ext cx="34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581120" y="880560"/>
            <a:ext cx="88416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DF1EE3-8248-4E30-A9C5-7BE9DEFD0F4D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392CCF-8EB6-4C0B-9B69-4FA51878B25B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590840" y="4194000"/>
            <a:ext cx="61927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8350EBA-E88D-42EE-AD59-9B488C63DC63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4B0212B-3F06-431A-BE55-A6304CE771AA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74F55F-1054-40BF-A498-1CF22A3A1E9E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590840" y="2036880"/>
            <a:ext cx="7245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97C32A-15F7-4EEA-ACC6-A909DFF17A45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589040" y="3533760"/>
            <a:ext cx="26719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6224760" y="363600"/>
            <a:ext cx="261144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590840" y="363600"/>
            <a:ext cx="4448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0E24BD7-9018-4C84-848F-70687989ECA5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222640"/>
            <a:ext cx="10080720" cy="44956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718320"/>
            <a:ext cx="10080720" cy="8539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724800"/>
            <a:ext cx="1008072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5508720" y="531720"/>
            <a:ext cx="3870360" cy="5675400"/>
            <a:chOff x="5508720" y="531720"/>
            <a:chExt cx="3870360" cy="56754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5508720" y="531720"/>
              <a:ext cx="3870360" cy="5675400"/>
              <a:chOff x="5508720" y="531720"/>
              <a:chExt cx="3870360" cy="56754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5508720" y="531720"/>
                <a:ext cx="3870360" cy="567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599080" y="544680"/>
                <a:ext cx="3673080" cy="541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890320" y="851760"/>
              <a:ext cx="3095280" cy="4796640"/>
              <a:chOff x="5890320" y="851760"/>
              <a:chExt cx="3095280" cy="47966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890320" y="851760"/>
                <a:ext cx="3095280" cy="47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928840" y="892080"/>
                <a:ext cx="3016080" cy="47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589040" y="3465360"/>
            <a:ext cx="35733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90840" y="887400"/>
            <a:ext cx="724536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590840" y="2222280"/>
            <a:ext cx="7245360" cy="38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55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1258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176364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2266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5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6" marL="2266920" indent="-25092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584000" y="6028920"/>
            <a:ext cx="35845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1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1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584000" y="350640"/>
            <a:ext cx="3584520" cy="3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538200" y="880560"/>
            <a:ext cx="87624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30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C43BF1-AD22-405C-AE01-D00ABED77364}" type="slidenum">
              <a:rPr b="0" lang="en-US" sz="30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4.jpeg"/><Relationship Id="rId9" Type="http://schemas.openxmlformats.org/officeDocument/2006/relationships/image" Target="../media/image16.gif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590840" y="108000"/>
            <a:ext cx="81295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3200" spc="-1" strike="noStrike">
                <a:solidFill>
                  <a:srgbClr val="6511a0"/>
                </a:solidFill>
                <a:latin typeface="Gill Sans MT"/>
              </a:rPr>
              <a:t>ИМИТАЦИОННО-ИГРОВАЯ ТЕАТРАЛИЗАЦИ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07" name="Picture 7" descr="C:\Users\Инна\Desktop\КОНФЕРЕНЦИЯ\i (3).jpg"/>
          <p:cNvPicPr/>
          <p:nvPr/>
        </p:nvPicPr>
        <p:blipFill>
          <a:blip r:embed="rId1"/>
          <a:stretch/>
        </p:blipFill>
        <p:spPr>
          <a:xfrm>
            <a:off x="4753080" y="2666880"/>
            <a:ext cx="4203720" cy="3335400"/>
          </a:xfrm>
          <a:prstGeom prst="rect">
            <a:avLst/>
          </a:prstGeom>
          <a:ln w="0">
            <a:noFill/>
          </a:ln>
        </p:spPr>
      </p:pic>
      <p:pic>
        <p:nvPicPr>
          <p:cNvPr id="508" name="Прямоугольник 2" descr=""/>
          <p:cNvPicPr/>
          <p:nvPr/>
        </p:nvPicPr>
        <p:blipFill>
          <a:blip r:embed="rId2"/>
          <a:stretch/>
        </p:blipFill>
        <p:spPr>
          <a:xfrm>
            <a:off x="-938160" y="1401840"/>
            <a:ext cx="72057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1439640" y="1973160"/>
            <a:ext cx="8188200" cy="380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0920" indent="-250920">
              <a:lnSpc>
                <a:spcPct val="120000"/>
              </a:lnSpc>
              <a:spcBef>
                <a:spcPts val="1100"/>
              </a:spcBef>
              <a:buClr>
                <a:srgbClr val="b71e42"/>
              </a:buClr>
              <a:buFont typeface="Arial"/>
              <a:buChar char="•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кль неожиданного содержания с элементами импровизированной игры</a:t>
            </a:r>
            <a:endParaRPr b="0" lang="en-US" sz="4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447640" y="887400"/>
            <a:ext cx="6388200" cy="115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lang="ru-RU" sz="4000" spc="-1" strike="noStrike">
                <a:solidFill>
                  <a:srgbClr val="5c0f21"/>
                </a:solidFill>
                <a:latin typeface="Times New Roman"/>
                <a:ea typeface="Times New Roman"/>
              </a:rPr>
              <a:t>ТЕАТР-ЭКСПРОМТ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1" name="Picture 2" descr="C:\Users\Инна\Desktop\Рисунок1.png"/>
          <p:cNvPicPr/>
          <p:nvPr/>
        </p:nvPicPr>
        <p:blipFill>
          <a:blip r:embed="rId1"/>
          <a:srcRect l="1793" t="25853" r="2868" b="0"/>
          <a:stretch/>
        </p:blipFill>
        <p:spPr>
          <a:xfrm>
            <a:off x="-144360" y="17640"/>
            <a:ext cx="10237680" cy="754200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" descr="C:\Users\Инна\Desktop\i (3).jpg"/>
          <p:cNvPicPr/>
          <p:nvPr/>
        </p:nvPicPr>
        <p:blipFill>
          <a:blip r:embed="rId2"/>
          <a:srcRect l="38181" t="25472" r="0" b="0"/>
          <a:stretch/>
        </p:blipFill>
        <p:spPr>
          <a:xfrm>
            <a:off x="2448000" y="4711680"/>
            <a:ext cx="51134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27640" y="178920"/>
            <a:ext cx="4386240" cy="5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4000" spc="-1" strike="noStrike">
                <a:solidFill>
                  <a:srgbClr val="6511a0"/>
                </a:solidFill>
                <a:latin typeface="Gill Sans MT"/>
              </a:rPr>
              <a:t>ТЕАТР - ЭКСПРОМТ</a:t>
            </a:r>
            <a:r>
              <a:rPr b="0" i="1" lang="ru-RU" sz="4000" spc="-1" strike="noStrike">
                <a:solidFill>
                  <a:srgbClr val="6511a0"/>
                </a:solidFill>
                <a:latin typeface="Gill Sans MT"/>
              </a:rPr>
              <a:t>  </a:t>
            </a:r>
            <a:br>
              <a:rPr sz="4000"/>
            </a:br>
            <a:r>
              <a:rPr b="0" i="1" lang="ru-RU" sz="4000" spc="-1" strike="noStrike">
                <a:solidFill>
                  <a:srgbClr val="6511a0"/>
                </a:solidFill>
                <a:latin typeface="Gill Sans MT"/>
              </a:rPr>
              <a:t> </a:t>
            </a:r>
            <a:r>
              <a:rPr b="1" i="1" lang="ru-RU" sz="4000" spc="-1" strike="noStrike">
                <a:solidFill>
                  <a:srgbClr val="6511a0"/>
                </a:solidFill>
                <a:latin typeface="Gill Sans MT"/>
              </a:rPr>
              <a:t>«Т Е Р Е М О К»</a:t>
            </a:r>
            <a:r>
              <a:rPr b="0" i="1" lang="ru-RU" sz="4000" spc="-1" strike="noStrike">
                <a:solidFill>
                  <a:srgbClr val="6511a0"/>
                </a:solidFill>
                <a:latin typeface="Gill Sans MT"/>
              </a:rPr>
              <a:t> 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4" name="Рисунок 3" descr=""/>
          <p:cNvPicPr/>
          <p:nvPr/>
        </p:nvPicPr>
        <p:blipFill>
          <a:blip r:embed="rId1"/>
          <a:srcRect l="15594" t="8811" r="5547" b="16777"/>
          <a:stretch/>
        </p:blipFill>
        <p:spPr>
          <a:xfrm>
            <a:off x="5513400" y="2357280"/>
            <a:ext cx="4457520" cy="3672000"/>
          </a:xfrm>
          <a:prstGeom prst="rect">
            <a:avLst/>
          </a:prstGeom>
          <a:ln w="0">
            <a:noFill/>
          </a:ln>
        </p:spPr>
      </p:pic>
      <p:sp>
        <p:nvSpPr>
          <p:cNvPr id="515" name="Овал 4"/>
          <p:cNvSpPr/>
          <p:nvPr/>
        </p:nvSpPr>
        <p:spPr>
          <a:xfrm rot="754800">
            <a:off x="50760" y="3013200"/>
            <a:ext cx="3394080" cy="91440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Медведь косолапый   (Ничего себе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Овал 5"/>
          <p:cNvSpPr/>
          <p:nvPr/>
        </p:nvSpPr>
        <p:spPr>
          <a:xfrm rot="3563400">
            <a:off x="1264320" y="1562760"/>
            <a:ext cx="2932200" cy="97488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ill Sans MT"/>
              </a:rPr>
              <a:t> </a:t>
            </a: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Т</a:t>
            </a:r>
            <a:r>
              <a:rPr b="1" lang="ru-RU" sz="2000" spc="-1" strike="noStrike">
                <a:solidFill>
                  <a:srgbClr val="6511a0"/>
                </a:solidFill>
                <a:latin typeface="Gill Sans MT"/>
              </a:rPr>
              <a:t>еремок (Скрип-скрип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Овал 6"/>
          <p:cNvSpPr/>
          <p:nvPr/>
        </p:nvSpPr>
        <p:spPr>
          <a:xfrm rot="19659000">
            <a:off x="633240" y="4587480"/>
            <a:ext cx="3249720" cy="91440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Волчок-серый бочок (Тыц-тыц-тыц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Овал 7"/>
          <p:cNvSpPr/>
          <p:nvPr/>
        </p:nvSpPr>
        <p:spPr>
          <a:xfrm rot="5662200">
            <a:off x="2360880" y="5347080"/>
            <a:ext cx="2973600" cy="85104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Лисичка-сестричка      (Тра-ля-ля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Овал 8"/>
          <p:cNvSpPr/>
          <p:nvPr/>
        </p:nvSpPr>
        <p:spPr>
          <a:xfrm rot="16887600">
            <a:off x="2810520" y="1198800"/>
            <a:ext cx="2976840" cy="91440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Мышка-норушка       (Ух, ты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Овал 9"/>
          <p:cNvSpPr/>
          <p:nvPr/>
        </p:nvSpPr>
        <p:spPr>
          <a:xfrm rot="19998600">
            <a:off x="4357440" y="2257200"/>
            <a:ext cx="3106800" cy="91440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Лягушка-квакушка (Квантересно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Овал 10"/>
          <p:cNvSpPr/>
          <p:nvPr/>
        </p:nvSpPr>
        <p:spPr>
          <a:xfrm rot="2523600">
            <a:off x="4046400" y="4630320"/>
            <a:ext cx="3206880" cy="914400"/>
          </a:xfrm>
          <a:prstGeom prst="ellipse">
            <a:avLst/>
          </a:prstGeom>
          <a:solidFill>
            <a:srgbClr val="dfdbd5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1" lang="ru-RU" sz="1800" spc="-1" strike="noStrike">
                <a:solidFill>
                  <a:srgbClr val="6511a0"/>
                </a:solidFill>
                <a:latin typeface="Gill Sans MT"/>
              </a:rPr>
              <a:t>Зайчик- побегайчик       (Вот это да!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Блок-схема: узел 11"/>
          <p:cNvSpPr/>
          <p:nvPr/>
        </p:nvSpPr>
        <p:spPr>
          <a:xfrm>
            <a:off x="3402000" y="3025800"/>
            <a:ext cx="1212840" cy="1284120"/>
          </a:xfrm>
          <a:prstGeom prst="flowChartConnector">
            <a:avLst/>
          </a:prstGeom>
          <a:solidFill>
            <a:srgbClr val="ffff00"/>
          </a:solidFill>
          <a:ln w="15840">
            <a:solidFill>
              <a:srgbClr val="8613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6511a0"/>
                </a:solidFill>
                <a:latin typeface="Gill Sans MT"/>
              </a:rPr>
              <a:t>теремо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6" descr=""/>
          <p:cNvPicPr/>
          <p:nvPr/>
        </p:nvPicPr>
        <p:blipFill>
          <a:blip r:embed="rId1"/>
          <a:srcRect l="32793" t="2215" r="30328" b="52299"/>
          <a:stretch/>
        </p:blipFill>
        <p:spPr>
          <a:xfrm>
            <a:off x="3294000" y="208080"/>
            <a:ext cx="3659400" cy="38098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24" name="Picture 3" descr=""/>
          <p:cNvPicPr/>
          <p:nvPr/>
        </p:nvPicPr>
        <p:blipFill>
          <a:blip r:embed="rId2"/>
          <a:srcRect l="13385" t="27640" r="13188" b="38978"/>
          <a:stretch/>
        </p:blipFill>
        <p:spPr>
          <a:xfrm>
            <a:off x="833400" y="4811760"/>
            <a:ext cx="8675640" cy="274788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" descr=""/>
          <p:cNvPicPr/>
          <p:nvPr/>
        </p:nvPicPr>
        <p:blipFill>
          <a:blip r:embed="rId3"/>
          <a:srcRect l="53169" t="63174" r="16203" b="1974"/>
          <a:stretch/>
        </p:blipFill>
        <p:spPr>
          <a:xfrm>
            <a:off x="833400" y="2033640"/>
            <a:ext cx="3095640" cy="2643120"/>
          </a:xfrm>
          <a:prstGeom prst="rect">
            <a:avLst/>
          </a:prstGeom>
          <a:ln w="57240">
            <a:solidFill>
              <a:srgbClr val="c00000"/>
            </a:solidFill>
            <a:miter/>
          </a:ln>
        </p:spPr>
      </p:pic>
      <p:pic>
        <p:nvPicPr>
          <p:cNvPr id="526" name="Picture 3" descr=""/>
          <p:cNvPicPr/>
          <p:nvPr/>
        </p:nvPicPr>
        <p:blipFill>
          <a:blip r:embed="rId4"/>
          <a:srcRect l="16416" t="63101" r="53350" b="976"/>
          <a:stretch/>
        </p:blipFill>
        <p:spPr>
          <a:xfrm>
            <a:off x="6469200" y="1954080"/>
            <a:ext cx="3314520" cy="2954520"/>
          </a:xfrm>
          <a:prstGeom prst="rect">
            <a:avLst/>
          </a:prstGeom>
          <a:ln w="9360">
            <a:solidFill>
              <a:srgbClr val="c00000"/>
            </a:solidFill>
            <a:miter/>
          </a:ln>
        </p:spPr>
      </p:pic>
      <p:pic>
        <p:nvPicPr>
          <p:cNvPr id="527" name="Picture 2" descr="C:\Users\Инна\Desktop\Рисунок1.png"/>
          <p:cNvPicPr/>
          <p:nvPr/>
        </p:nvPicPr>
        <p:blipFill>
          <a:blip r:embed="rId5"/>
          <a:srcRect l="0" t="25853" r="0" b="0"/>
          <a:stretch/>
        </p:blipFill>
        <p:spPr>
          <a:xfrm>
            <a:off x="-357120" y="0"/>
            <a:ext cx="1091412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230120" y="1267920"/>
            <a:ext cx="7473960" cy="31179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ВОРЧЕСКИХ ВАМ УСПЕХОВ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 ВОСПИТАНИИ ПОДРАСТАЮЩЕГО  ПОКОЛЕНИЯ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title"/>
          </p:nvPr>
        </p:nvSpPr>
        <p:spPr>
          <a:xfrm>
            <a:off x="2736360" y="3779640"/>
            <a:ext cx="5875560" cy="338436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0" i="1" lang="ru-RU" sz="2500" spc="-1" strike="noStrike">
                <a:solidFill>
                  <a:srgbClr val="c00000"/>
                </a:solidFill>
                <a:latin typeface="Gill Sans MT"/>
              </a:rPr>
              <a:t>ПУСТЬ КАЖДЫЙ ДЕНЬ И КАЖДЫЙ ЧАС</a:t>
            </a:r>
            <a:br>
              <a:rPr sz="2500"/>
            </a:br>
            <a:r>
              <a:rPr b="0" i="1" lang="ru-RU" sz="2500" spc="-1" strike="noStrike">
                <a:solidFill>
                  <a:srgbClr val="c00000"/>
                </a:solidFill>
                <a:latin typeface="Gill Sans MT"/>
              </a:rPr>
              <a:t>ВАМ НОВОЕ ДОБУДЕТ:</a:t>
            </a:r>
            <a:br>
              <a:rPr sz="2500"/>
            </a:br>
            <a:r>
              <a:rPr b="0" i="1" lang="ru-RU" sz="2500" spc="-1" strike="noStrike">
                <a:solidFill>
                  <a:srgbClr val="c00000"/>
                </a:solidFill>
                <a:latin typeface="Gill Sans MT"/>
              </a:rPr>
              <a:t>ПУСТЬ БУДЕТ ДОБРЫМ УМ У ВАС,</a:t>
            </a:r>
            <a:br>
              <a:rPr sz="2500"/>
            </a:br>
            <a:r>
              <a:rPr b="0" i="1" lang="ru-RU" sz="2500" spc="-1" strike="noStrike">
                <a:solidFill>
                  <a:srgbClr val="c00000"/>
                </a:solidFill>
                <a:latin typeface="Gill Sans MT"/>
              </a:rPr>
              <a:t>А СЕРДЦЕ МУДРЫМ БУДЕТ</a:t>
            </a:r>
            <a:r>
              <a:rPr b="0" lang="ru-RU" sz="2500" spc="-1" strike="noStrike">
                <a:solidFill>
                  <a:srgbClr val="c00000"/>
                </a:solidFill>
                <a:latin typeface="Gill Sans MT"/>
              </a:rPr>
              <a:t>.</a:t>
            </a:r>
            <a:br>
              <a:rPr sz="2500"/>
            </a:br>
            <a:br>
              <a:rPr sz="2500"/>
            </a:br>
            <a:r>
              <a:rPr b="0" i="1" lang="ru-RU" sz="2500" spc="-1" strike="noStrike">
                <a:solidFill>
                  <a:srgbClr val="c00000"/>
                </a:solidFill>
                <a:latin typeface="Gill Sans MT"/>
              </a:rPr>
              <a:t>С.МАРШАК</a:t>
            </a:r>
            <a:br>
              <a:rPr sz="5400"/>
            </a:b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" name="Picture 3" descr="C:\Users\Инна\Desktop\i (5).jpg"/>
          <p:cNvPicPr/>
          <p:nvPr/>
        </p:nvPicPr>
        <p:blipFill>
          <a:blip r:embed="rId1"/>
          <a:stretch/>
        </p:blipFill>
        <p:spPr>
          <a:xfrm>
            <a:off x="0" y="4970520"/>
            <a:ext cx="2500200" cy="2298600"/>
          </a:xfrm>
          <a:prstGeom prst="rect">
            <a:avLst/>
          </a:prstGeom>
          <a:ln w="0">
            <a:noFill/>
          </a:ln>
        </p:spPr>
      </p:pic>
      <p:pic>
        <p:nvPicPr>
          <p:cNvPr id="531" name="Рисунок 3" descr="1198011271_2.jpg"/>
          <p:cNvPicPr/>
          <p:nvPr/>
        </p:nvPicPr>
        <p:blipFill>
          <a:blip r:embed="rId2"/>
          <a:srcRect l="0" t="0" r="50223" b="0"/>
          <a:stretch/>
        </p:blipFill>
        <p:spPr>
          <a:xfrm>
            <a:off x="0" y="0"/>
            <a:ext cx="4103640" cy="7559640"/>
          </a:xfrm>
          <a:prstGeom prst="rect">
            <a:avLst/>
          </a:prstGeom>
          <a:ln w="0">
            <a:noFill/>
          </a:ln>
        </p:spPr>
      </p:pic>
      <p:pic>
        <p:nvPicPr>
          <p:cNvPr id="532" name="Рисунок 4" descr="1198011271_2.jpg"/>
          <p:cNvPicPr/>
          <p:nvPr/>
        </p:nvPicPr>
        <p:blipFill>
          <a:blip r:embed="rId3"/>
          <a:srcRect l="50223" t="0" r="0" b="0"/>
          <a:stretch/>
        </p:blipFill>
        <p:spPr>
          <a:xfrm>
            <a:off x="4103640" y="0"/>
            <a:ext cx="5977080" cy="7559640"/>
          </a:xfrm>
          <a:prstGeom prst="rect">
            <a:avLst/>
          </a:prstGeom>
          <a:ln w="0">
            <a:noFill/>
          </a:ln>
        </p:spPr>
      </p:pic>
      <p:pic>
        <p:nvPicPr>
          <p:cNvPr id="533" name="Рисунок 6" descr="1198011271_2.jpg"/>
          <p:cNvPicPr/>
          <p:nvPr/>
        </p:nvPicPr>
        <p:blipFill>
          <a:blip r:embed="rId4"/>
          <a:srcRect l="92229" t="0" r="0" b="0"/>
          <a:stretch/>
        </p:blipFill>
        <p:spPr>
          <a:xfrm>
            <a:off x="9293400" y="0"/>
            <a:ext cx="787320" cy="7559640"/>
          </a:xfrm>
          <a:prstGeom prst="rect">
            <a:avLst/>
          </a:prstGeom>
          <a:ln w="0">
            <a:noFill/>
          </a:ln>
        </p:spPr>
      </p:pic>
      <p:pic>
        <p:nvPicPr>
          <p:cNvPr id="534" name="Рисунок 7" descr="1198011271_2.jpg"/>
          <p:cNvPicPr/>
          <p:nvPr/>
        </p:nvPicPr>
        <p:blipFill>
          <a:blip r:embed="rId5"/>
          <a:srcRect l="50223" t="91533" r="0" b="0"/>
          <a:stretch/>
        </p:blipFill>
        <p:spPr>
          <a:xfrm>
            <a:off x="4883040" y="6919920"/>
            <a:ext cx="5197680" cy="639720"/>
          </a:xfrm>
          <a:prstGeom prst="rect">
            <a:avLst/>
          </a:prstGeom>
          <a:ln w="0">
            <a:noFill/>
          </a:ln>
        </p:spPr>
      </p:pic>
      <p:pic>
        <p:nvPicPr>
          <p:cNvPr id="535" name="Рисунок 8" descr="1198011271_2.jpg"/>
          <p:cNvPicPr/>
          <p:nvPr/>
        </p:nvPicPr>
        <p:blipFill>
          <a:blip r:embed="rId6"/>
          <a:srcRect l="0" t="91533" r="50223" b="0"/>
          <a:stretch/>
        </p:blipFill>
        <p:spPr>
          <a:xfrm>
            <a:off x="0" y="6919920"/>
            <a:ext cx="5197320" cy="639720"/>
          </a:xfrm>
          <a:prstGeom prst="rect">
            <a:avLst/>
          </a:prstGeom>
          <a:ln w="0">
            <a:noFill/>
          </a:ln>
        </p:spPr>
      </p:pic>
      <p:pic>
        <p:nvPicPr>
          <p:cNvPr id="536" name="Рисунок 10" descr="1198011271_2.jpg"/>
          <p:cNvPicPr/>
          <p:nvPr/>
        </p:nvPicPr>
        <p:blipFill>
          <a:blip r:embed="rId7"/>
          <a:srcRect l="50223" t="0" r="0" b="91817"/>
          <a:stretch/>
        </p:blipFill>
        <p:spPr>
          <a:xfrm>
            <a:off x="4883040" y="0"/>
            <a:ext cx="5197680" cy="619200"/>
          </a:xfrm>
          <a:prstGeom prst="rect">
            <a:avLst/>
          </a:prstGeom>
          <a:ln w="0">
            <a:noFill/>
          </a:ln>
        </p:spPr>
      </p:pic>
      <p:pic>
        <p:nvPicPr>
          <p:cNvPr id="537" name="Рисунок 11" descr="1198011271_2.jpg"/>
          <p:cNvPicPr/>
          <p:nvPr/>
        </p:nvPicPr>
        <p:blipFill>
          <a:blip r:embed="rId8"/>
          <a:srcRect l="0" t="0" r="50223" b="91817"/>
          <a:stretch/>
        </p:blipFill>
        <p:spPr>
          <a:xfrm>
            <a:off x="0" y="0"/>
            <a:ext cx="5197320" cy="619200"/>
          </a:xfrm>
          <a:prstGeom prst="rect">
            <a:avLst/>
          </a:prstGeom>
          <a:ln w="0">
            <a:noFill/>
          </a:ln>
        </p:spPr>
      </p:pic>
      <p:pic>
        <p:nvPicPr>
          <p:cNvPr id="538" name="Рисунок 13" descr="animated-gifs-buttons-62.gif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9056520" y="7265880"/>
            <a:ext cx="735120" cy="293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ша</dc:creator>
  <dc:description/>
  <dc:language>en-US</dc:language>
  <cp:lastModifiedBy>gavrilovainna@outlook.com</cp:lastModifiedBy>
  <dcterms:modified xsi:type="dcterms:W3CDTF">2019-01-04T20:06:59Z</dcterms:modified>
  <cp:revision>48</cp:revision>
  <dc:subject/>
  <dc:title>Театрализованная деятельность в детском саду</dc:title>
</cp:coreProperties>
</file>