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74760" y="1092240"/>
            <a:ext cx="47959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37280" cy="3929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D7E3EE6-62A2-4787-8D77-B12EBBDF7ADE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FE6-8CA5-4950-802D-7E122728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1CB-639E-47F6-A75A-48C95EB8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264EB-E851-4DB0-85FE-2717FA14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66DA2-7320-4960-B427-6295EDAF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33377-DC78-4380-A166-E98EA11E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85CD9-79EF-4ADD-AF68-F1C54B233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9194F-355C-48E1-91E3-A0DE2C09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5645E-690D-431A-B148-67FD583A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8C8A5B-EB58-41E8-83E4-51BB0C1F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A47D3-5F7B-4986-B5DD-E463854C5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1F997-9209-40FE-B3CE-EAC759F9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F10CE5-D6D3-4535-BD1B-1C033ADF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BBEC-0925-4C39-A541-0E1AC034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AA7DF-F163-4A29-8E4D-EB1EF1AF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6EF94A-E3E6-4E70-834F-7D16D5399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BC8DCE-BB35-4B92-A115-D0B24D60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2C913-3DB0-40FF-9DE5-95E87B0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C33F3-29F7-4C90-97E1-71FD07E2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6F786-08A9-4896-9B8A-E22211DC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1BF5E-83F1-4582-BDF1-0FEDB5BD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729D77-9717-48F9-900B-20934D1B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B90C2-C1F8-4A32-A184-5D054681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E56C3-6152-4873-B6D6-F40A7055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9800-A5EF-4743-94EA-CE8744A4C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30206-F4E1-4684-A335-978DBA1C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28A4-F308-4178-B4DA-8B739A53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3B907-1209-4185-8A1F-5142A64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AD4F5-8DA0-4F93-8CBB-EE974DDE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6522F-38AF-422B-8BF6-CCA04713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6F5985-1818-4C84-8078-7A69BCA27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BCF548-D1AA-49E3-A15D-A0DB38A1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0B6DA-E48C-4987-A356-D676CB64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593D-8B54-40A3-826C-8039D121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EBA978-34FA-4021-A0A4-01F3C731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1276-8483-4775-8197-9B0E662F8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DE9B4B-82F7-4FE9-BEA3-8FBDBF65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3DF3-2290-4D09-AE8B-9BF3109C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B6735-23C3-4183-967D-8216EC028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B9F3-A73C-494F-A334-3A6CC1E7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A4FE-DC1B-49C2-8D24-5F68C544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E284-08E2-47CD-9F97-B392D7058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2E2B3-8521-4413-8234-4E54379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B0D1-13FE-4800-85FE-55276F28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B4CB-1542-435A-A67A-EDDE236A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3E7-BC59-437B-9BB2-804C18F81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F41E-58D2-4BDC-8FDA-394ED38D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B8C5-D6A2-4640-8495-111C7F60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0ACE2-04F9-4679-B990-E24BC1F4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98A0-5835-4C98-A2CC-3226767D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5678F-4A8B-4667-8C72-C73FEF8FD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E7CE5-4D6D-4E7D-AEC0-C7FE0E057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474F8-DAD5-4923-A3BB-E63F74F3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6C96D-AFAE-40BF-8847-28AE5FB9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26C0A-7435-4C96-AC39-2D309D68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23221-A304-4643-9B35-295FD62C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B576-B100-43D9-B0D3-E730BACD2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D753-E8A7-4B2A-A3D3-CBA7D6856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45814-4505-42D7-9D79-EB6ACF6C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FF4EA-5CE0-4E68-9750-88E6B0C5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57CCE-2612-4171-B7CA-BB417945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A7E61-E559-4513-A396-B70190C8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4B52-642B-40A7-B123-211E459F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68B90-8628-4976-BDF1-DA44EC260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4A2DB-B2A4-49B0-9533-69A0EADE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08D0C-9270-4CCB-8343-D452FF04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6DC06-4B27-4F12-A901-BA48BAAE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E84-5050-490E-99C7-4B54E2009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75D5B-1911-4046-92B9-97E17109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CEAF-A445-4445-A86E-632DC6E4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C0077-E9F2-436B-B422-6D64FA18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C90C1-7261-447E-AE03-237EC574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72579-3C18-4556-8BAF-EE94D6C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CCF9-2D67-46C9-8F7E-19E61FF4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E7738-6BA9-49FC-BF01-A19364AC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45217-861C-4A1C-BBF6-53060FF2A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56F3D-EEA3-4761-B8F3-8C784A79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B2D3F-FC98-4ECD-AABC-37977257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7D46-67DE-4BE2-AB9C-60D70DDB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B7CA7-D963-4EF1-A642-A1EEEB4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ACFCE-D6D6-474F-8DD7-91B30FE7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4F5AD-F747-4B0A-AEA8-8ED974D8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BF385-AE49-42C4-96E0-A7ED4DEA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C3618-3964-4AEC-ACCB-451CA490D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A9B33-8777-49FC-98B2-18B20441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3E35-781D-46FB-B390-0643BF46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EBC5F-CCF1-411D-BB49-F2E31368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D992C1-5FD5-4C3F-AF8D-CEED147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E61FD-F2EB-4D8C-9C91-B91F39229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C1A-7DDA-4EAF-82CA-68E39BA6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46AAD-41C6-48C1-802D-9E9794E1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769EF-A48E-4865-B40C-9FE0B9ED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B6830-05D7-4D10-96F8-36BABF88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190E-9FE5-4EAA-A612-8CC059FF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242DF-FA93-488D-A568-F1358DC8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C414-8A0A-4383-8C3D-B5141AD9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D254A-F64B-4A4E-A26D-A6E1A4DD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47813-C69A-4BE9-B768-8C3099FE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E846-A545-4B29-93F0-8BDC6B5B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73DFF-7544-4431-B75D-2B465ED1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7E01-12E9-474D-B5C2-23ECA268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167134-C098-47E8-B106-02070797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AE5EE-5CB9-4E79-80E1-BD2F4FAB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8CE734-EFAF-4E12-8FDB-8E001090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7315A-2E96-40B0-8FB8-81A4CCEE2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1DB1D-64C3-4417-9B33-508065B9C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0AF01-8154-4211-A398-2084C0C1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12349-5AE3-4E4F-B2DB-EB4DEB094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44B16-2BAF-4135-B5DC-00EB7334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80CF9-CF4D-48E4-86FF-8B3BF770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2596B8-E1BE-447C-9C27-EE881422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5020-A592-43CA-9A78-21FC8ED3F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8C74E-79E9-4C1D-9358-C0F32567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6B8B-225A-4170-B83D-6E17757F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373ED-5591-4683-AC5C-7A847D424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D5548D-E0DD-4D33-B3E3-69DB21BB8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535DF-2276-4007-81EA-9D4B1835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7F2248-4B97-44BD-BAFE-A54649E9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D31A3-D703-4262-8D44-65149E02D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A4876-9FF9-48C0-97B4-A448B7D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E2073-0DD0-40A7-806B-97CE5089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D390E-D0F7-45A7-968E-8904BF91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E1EE-0033-442D-9B58-774EF53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6F100-8D4C-44DB-9E4F-57131700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08877-38C4-4E53-9F4A-D2068ADE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D8C2A-CB13-4ABB-8F31-843CA5D4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2E20C-6551-4879-9453-07411A83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664B1-EBC2-4EF8-AD2F-CAD728D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677BF2-2B4E-4D41-BE76-A3E20536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DE5437-EE73-4E37-B509-772D67C6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365FE-C14A-4CE6-96DF-534DF96DE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00ECF-D3B6-4CA0-85F6-AA5D63D8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F8C12-FBB2-4753-9B20-02E2072E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313CDB1-3FAE-4996-82A8-FCE0AF5B4E2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E90E8F2-456F-4079-88AC-CED29DF33E5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F42431-8C83-4122-B6DE-CD8DD22A867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9F29D2-283F-4FFD-AE3B-02AFAA9D817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5ABC58-F9F4-451A-9534-FD4406FE5A9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A34CDF-E1D4-4CB8-AC05-D115831398D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4FC83D-50AC-4118-B434-CDA98A048C4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7348A6-4528-439C-9B44-41FB2D3D2059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7F07C6-A77B-44A4-A016-B70BDD6453B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7843DB-A213-4D48-9376-D74AE326307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71C225-733A-4D1A-8D01-AE06972B488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4.jpeg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90840" y="108000"/>
            <a:ext cx="8129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6511a0"/>
                </a:solidFill>
                <a:latin typeface="Gill Sans MT"/>
              </a:rPr>
              <a:t>ИМИТАЦИОННО-ИГРОВАЯ ТЕАТРАЛИЗАЦ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7" name="Picture 7" descr="C:\Users\Инна\Desktop\КОНФЕРЕНЦИЯ\i (3).jpg"/>
          <p:cNvPicPr/>
          <p:nvPr/>
        </p:nvPicPr>
        <p:blipFill>
          <a:blip r:embed="rId1"/>
          <a:stretch/>
        </p:blipFill>
        <p:spPr>
          <a:xfrm>
            <a:off x="4753080" y="2666880"/>
            <a:ext cx="4203720" cy="333540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2" descr=""/>
          <p:cNvPicPr/>
          <p:nvPr/>
        </p:nvPicPr>
        <p:blipFill>
          <a:blip r:embed="rId2"/>
          <a:stretch/>
        </p:blipFill>
        <p:spPr>
          <a:xfrm>
            <a:off x="-938160" y="1401840"/>
            <a:ext cx="7205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439640" y="1973160"/>
            <a:ext cx="81882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неожиданного содержания с элементами импровизированной игры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47640" y="887400"/>
            <a:ext cx="63882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Times New Roman"/>
              </a:rPr>
              <a:t>ТЕАТР-ЭКСПРОМ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144360" y="17640"/>
            <a:ext cx="10237680" cy="754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Инна\Desktop\i (3).jpg"/>
          <p:cNvPicPr/>
          <p:nvPr/>
        </p:nvPicPr>
        <p:blipFill>
          <a:blip r:embed="rId2"/>
          <a:srcRect l="38181" t="25472" r="0" b="0"/>
          <a:stretch/>
        </p:blipFill>
        <p:spPr>
          <a:xfrm>
            <a:off x="2448000" y="4711680"/>
            <a:ext cx="5113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27640" y="178920"/>
            <a:ext cx="43862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ТЕАТР - ЭКСПРОМТ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 </a:t>
            </a:r>
            <a:br>
              <a:rPr sz="4000"/>
            </a:b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«Т Е Р Е М О К»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Рисунок 3" descr=""/>
          <p:cNvPicPr/>
          <p:nvPr/>
        </p:nvPicPr>
        <p:blipFill>
          <a:blip r:embed="rId1"/>
          <a:srcRect l="15594" t="8811" r="5547" b="16777"/>
          <a:stretch/>
        </p:blipFill>
        <p:spPr>
          <a:xfrm>
            <a:off x="5513400" y="2357280"/>
            <a:ext cx="4457520" cy="3672000"/>
          </a:xfrm>
          <a:prstGeom prst="rect">
            <a:avLst/>
          </a:prstGeom>
          <a:ln w="0">
            <a:noFill/>
          </a:ln>
        </p:spPr>
      </p:pic>
      <p:sp>
        <p:nvSpPr>
          <p:cNvPr id="515" name="Овал 4"/>
          <p:cNvSpPr/>
          <p:nvPr/>
        </p:nvSpPr>
        <p:spPr>
          <a:xfrm rot="754800">
            <a:off x="50760" y="3013200"/>
            <a:ext cx="339408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Медведь косолапый   (Ничего себе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Овал 5"/>
          <p:cNvSpPr/>
          <p:nvPr/>
        </p:nvSpPr>
        <p:spPr>
          <a:xfrm rot="3563400">
            <a:off x="1264320" y="1562760"/>
            <a:ext cx="2932200" cy="97488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 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Т</a:t>
            </a:r>
            <a:r>
              <a:rPr b="1" lang="ru-RU" sz="2000" spc="-1" strike="noStrike">
                <a:solidFill>
                  <a:srgbClr val="6511a0"/>
                </a:solidFill>
                <a:latin typeface="Gill Sans MT"/>
              </a:rPr>
              <a:t>еремок (Скрип-скрип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Овал 6"/>
          <p:cNvSpPr/>
          <p:nvPr/>
        </p:nvSpPr>
        <p:spPr>
          <a:xfrm rot="19659000">
            <a:off x="633240" y="4587480"/>
            <a:ext cx="324972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Волчок-серый бочок (Тыц-тыц-тыц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Овал 7"/>
          <p:cNvSpPr/>
          <p:nvPr/>
        </p:nvSpPr>
        <p:spPr>
          <a:xfrm rot="5662200">
            <a:off x="2360880" y="5347080"/>
            <a:ext cx="2973600" cy="85104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Лисичка-сестричка      (Тра-ля-ля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Овал 8"/>
          <p:cNvSpPr/>
          <p:nvPr/>
        </p:nvSpPr>
        <p:spPr>
          <a:xfrm rot="16887600">
            <a:off x="2810520" y="1198800"/>
            <a:ext cx="297684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Мышка-норушка       (Ух, ты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Овал 9"/>
          <p:cNvSpPr/>
          <p:nvPr/>
        </p:nvSpPr>
        <p:spPr>
          <a:xfrm rot="19998600">
            <a:off x="4357440" y="2257200"/>
            <a:ext cx="310680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Лягушка-квакушка (Квантересно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Овал 10"/>
          <p:cNvSpPr/>
          <p:nvPr/>
        </p:nvSpPr>
        <p:spPr>
          <a:xfrm rot="2523600">
            <a:off x="4046400" y="4630320"/>
            <a:ext cx="320688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Зайчик- побегайчик       (Вот это да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Блок-схема: узел 11"/>
          <p:cNvSpPr/>
          <p:nvPr/>
        </p:nvSpPr>
        <p:spPr>
          <a:xfrm>
            <a:off x="3402000" y="3025800"/>
            <a:ext cx="1212840" cy="1284120"/>
          </a:xfrm>
          <a:prstGeom prst="flowChartConnector">
            <a:avLst/>
          </a:prstGeom>
          <a:solidFill>
            <a:srgbClr val="ffff00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6511a0"/>
                </a:solidFill>
                <a:latin typeface="Gill Sans MT"/>
              </a:rPr>
              <a:t>терем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1"/>
          <a:srcRect l="32793" t="2215" r="30328" b="52299"/>
          <a:stretch/>
        </p:blipFill>
        <p:spPr>
          <a:xfrm>
            <a:off x="3294000" y="208080"/>
            <a:ext cx="3659400" cy="38098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24" name="Picture 3" descr=""/>
          <p:cNvPicPr/>
          <p:nvPr/>
        </p:nvPicPr>
        <p:blipFill>
          <a:blip r:embed="rId2"/>
          <a:srcRect l="13385" t="27640" r="13188" b="38978"/>
          <a:stretch/>
        </p:blipFill>
        <p:spPr>
          <a:xfrm>
            <a:off x="833400" y="4811760"/>
            <a:ext cx="8675640" cy="2747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"/>
          <p:cNvPicPr/>
          <p:nvPr/>
        </p:nvPicPr>
        <p:blipFill>
          <a:blip r:embed="rId3"/>
          <a:srcRect l="53169" t="63174" r="16203" b="1974"/>
          <a:stretch/>
        </p:blipFill>
        <p:spPr>
          <a:xfrm>
            <a:off x="833400" y="2033640"/>
            <a:ext cx="3095640" cy="26431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526" name="Picture 3" descr=""/>
          <p:cNvPicPr/>
          <p:nvPr/>
        </p:nvPicPr>
        <p:blipFill>
          <a:blip r:embed="rId4"/>
          <a:srcRect l="16416" t="63101" r="53350" b="976"/>
          <a:stretch/>
        </p:blipFill>
        <p:spPr>
          <a:xfrm>
            <a:off x="6469200" y="1954080"/>
            <a:ext cx="3314520" cy="2954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27" name="Picture 2" descr="C:\Users\Инна\Desktop\Рисунок1.png"/>
          <p:cNvPicPr/>
          <p:nvPr/>
        </p:nvPicPr>
        <p:blipFill>
          <a:blip r:embed="rId5"/>
          <a:srcRect l="0" t="25853" r="0" b="0"/>
          <a:stretch/>
        </p:blipFill>
        <p:spPr>
          <a:xfrm>
            <a:off x="-357120" y="0"/>
            <a:ext cx="109141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230120" y="1267920"/>
            <a:ext cx="7473960" cy="311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ОРЧЕСКИХ ВАМ УСПЕХ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ВОСПИТАНИИ ПОДРАСТАЮЩЕГО  ПОКОЛЕНИЯ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2736360" y="3779640"/>
            <a:ext cx="5875560" cy="3384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ПУСТЬ КАЖДЫЙ ДЕНЬ И КАЖДЫЙ ЧАС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ВАМ НОВОЕ ДОБУДЕТ: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ПУСТЬ БУДЕТ ДОБРЫМ УМ У ВАС,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А СЕРДЦЕ МУДРЫМ БУДЕТ</a:t>
            </a:r>
            <a:r>
              <a:rPr b="0" lang="ru-RU" sz="2500" spc="-1" strike="noStrike">
                <a:solidFill>
                  <a:srgbClr val="c00000"/>
                </a:solidFill>
                <a:latin typeface="Gill Sans MT"/>
              </a:rPr>
              <a:t>.</a:t>
            </a:r>
            <a:br>
              <a:rPr sz="2500"/>
            </a:b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С.МАРШАК</a:t>
            </a:r>
            <a:br>
              <a:rPr sz="54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3" descr="C:\Users\Инна\Desktop\i (5).jpg"/>
          <p:cNvPicPr/>
          <p:nvPr/>
        </p:nvPicPr>
        <p:blipFill>
          <a:blip r:embed="rId1"/>
          <a:stretch/>
        </p:blipFill>
        <p:spPr>
          <a:xfrm>
            <a:off x="0" y="4970520"/>
            <a:ext cx="2500200" cy="229860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3" descr="1198011271_2.jpg"/>
          <p:cNvPicPr/>
          <p:nvPr/>
        </p:nvPicPr>
        <p:blipFill>
          <a:blip r:embed="rId2"/>
          <a:srcRect l="0" t="0" r="50223" b="0"/>
          <a:stretch/>
        </p:blipFill>
        <p:spPr>
          <a:xfrm>
            <a:off x="0" y="0"/>
            <a:ext cx="4103640" cy="755964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1198011271_2.jpg"/>
          <p:cNvPicPr/>
          <p:nvPr/>
        </p:nvPicPr>
        <p:blipFill>
          <a:blip r:embed="rId3"/>
          <a:srcRect l="50223" t="0" r="0" b="0"/>
          <a:stretch/>
        </p:blipFill>
        <p:spPr>
          <a:xfrm>
            <a:off x="4103640" y="0"/>
            <a:ext cx="5977080" cy="75596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6" descr="1198011271_2.jpg"/>
          <p:cNvPicPr/>
          <p:nvPr/>
        </p:nvPicPr>
        <p:blipFill>
          <a:blip r:embed="rId4"/>
          <a:srcRect l="92229" t="0" r="0" b="0"/>
          <a:stretch/>
        </p:blipFill>
        <p:spPr>
          <a:xfrm>
            <a:off x="9293400" y="0"/>
            <a:ext cx="787320" cy="755964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1198011271_2.jpg"/>
          <p:cNvPicPr/>
          <p:nvPr/>
        </p:nvPicPr>
        <p:blipFill>
          <a:blip r:embed="rId5"/>
          <a:srcRect l="50223" t="91533" r="0" b="0"/>
          <a:stretch/>
        </p:blipFill>
        <p:spPr>
          <a:xfrm>
            <a:off x="4883040" y="6919920"/>
            <a:ext cx="5197680" cy="6397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8" descr="1198011271_2.jpg"/>
          <p:cNvPicPr/>
          <p:nvPr/>
        </p:nvPicPr>
        <p:blipFill>
          <a:blip r:embed="rId6"/>
          <a:srcRect l="0" t="91533" r="50223" b="0"/>
          <a:stretch/>
        </p:blipFill>
        <p:spPr>
          <a:xfrm>
            <a:off x="0" y="6919920"/>
            <a:ext cx="5197320" cy="6397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0" descr="1198011271_2.jpg"/>
          <p:cNvPicPr/>
          <p:nvPr/>
        </p:nvPicPr>
        <p:blipFill>
          <a:blip r:embed="rId7"/>
          <a:srcRect l="50223" t="0" r="0" b="91817"/>
          <a:stretch/>
        </p:blipFill>
        <p:spPr>
          <a:xfrm>
            <a:off x="4883040" y="0"/>
            <a:ext cx="5197680" cy="6192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11" descr="1198011271_2.jpg"/>
          <p:cNvPicPr/>
          <p:nvPr/>
        </p:nvPicPr>
        <p:blipFill>
          <a:blip r:embed="rId8"/>
          <a:srcRect l="0" t="0" r="50223" b="91817"/>
          <a:stretch/>
        </p:blipFill>
        <p:spPr>
          <a:xfrm>
            <a:off x="0" y="0"/>
            <a:ext cx="519732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13" descr="animated-gifs-buttons-62.gif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9056520" y="7265880"/>
            <a:ext cx="73512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20:06:59Z</dcterms:modified>
  <cp:revision>48</cp:revision>
  <dc:subject/>
  <dc:title>Театрализованная деятельность в детском саду</dc:title>
</cp:coreProperties>
</file>