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27.png" ContentType="image/png"/>
  <Override PartName="/ppt/media/image34.gif" ContentType="image/gif"/>
  <Override PartName="/ppt/media/image9.png" ContentType="image/png"/>
  <Override PartName="/ppt/media/image30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applause.wav" ContentType="audio/x-wav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43F8-D18A-4915-A215-4417740A8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F2C6-EEFC-457F-8A04-E671E3A30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14C8-E616-43CD-91B3-38E5DEEDC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D4E8-E5D8-4091-AEC1-DE52745B2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3706-1B21-4D8E-A167-5333AD8A0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0B5E-570F-4807-812A-DAF247F21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FCD3-CB22-41CA-A9C1-DCF94FC02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7734-669F-466E-A7F2-12435E313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8D01-4F92-42DF-B975-A1EBC47E6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7FA1-812B-4F47-BC8E-8739CAAC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36CE-B8D0-441B-BDD4-DDA5F09A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FED0-AA2F-4D92-9366-C0075510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DDA1D-741D-40CE-82AB-A0B32343B7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17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15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1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21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image" Target="../media/image34.gif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brd_borders_0177"/>
          <p:cNvPicPr/>
          <p:nvPr/>
        </p:nvPicPr>
        <p:blipFill>
          <a:blip r:embed="rId1"/>
          <a:srcRect l="2441" t="14921" r="3740" b="2677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WordArt 5"/>
          <p:cNvSpPr txBox="1"/>
          <p:nvPr/>
        </p:nvSpPr>
        <p:spPr>
          <a:xfrm>
            <a:off x="4284720" y="1557360"/>
            <a:ext cx="4608360" cy="42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Ч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ДЕТЁНЫШ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pic>
        <p:nvPicPr>
          <p:cNvPr id="45" name="Picture 6" descr="ANIMALS G"/>
          <p:cNvPicPr/>
          <p:nvPr/>
        </p:nvPicPr>
        <p:blipFill>
          <a:blip r:embed="rId2"/>
          <a:stretch/>
        </p:blipFill>
        <p:spPr>
          <a:xfrm>
            <a:off x="-468360" y="333360"/>
            <a:ext cx="5545080" cy="5545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"/>
          <p:cNvPicPr/>
          <p:nvPr/>
        </p:nvPicPr>
        <p:blipFill>
          <a:blip r:embed="rId3"/>
          <a:stretch/>
        </p:blipFill>
        <p:spPr>
          <a:xfrm>
            <a:off x="867564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553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brd_borders_0177"/>
          <p:cNvPicPr/>
          <p:nvPr/>
        </p:nvPicPr>
        <p:blipFill>
          <a:blip r:embed="rId1"/>
          <a:srcRect l="2441" t="14921" r="3740" b="2677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1DONKEY G 1"/>
          <p:cNvPicPr/>
          <p:nvPr/>
        </p:nvPicPr>
        <p:blipFill>
          <a:blip r:embed="rId2"/>
          <a:stretch/>
        </p:blipFill>
        <p:spPr>
          <a:xfrm>
            <a:off x="395280" y="692280"/>
            <a:ext cx="4680000" cy="4680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ANIM1561G"/>
          <p:cNvPicPr/>
          <p:nvPr/>
        </p:nvPicPr>
        <p:blipFill>
          <a:blip r:embed="rId3"/>
          <a:stretch/>
        </p:blipFill>
        <p:spPr>
          <a:xfrm>
            <a:off x="6286680" y="227664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"/>
          <p:cNvPicPr/>
          <p:nvPr/>
        </p:nvPicPr>
        <p:blipFill>
          <a:blip r:embed="rId4"/>
          <a:stretch/>
        </p:blipFill>
        <p:spPr>
          <a:xfrm>
            <a:off x="8604360" y="-3049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8">
            <a:hlinkClick r:id="" action="ppaction://hlinkshowjump?jump=nextslide"/>
          </p:cNvPr>
          <p:cNvSpPr/>
          <p:nvPr/>
        </p:nvSpPr>
        <p:spPr>
          <a:xfrm>
            <a:off x="8388360" y="6093000"/>
            <a:ext cx="755640" cy="76500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765000"/>
              <a:gd name="textAreaBottom" fmla="*/ 716040 h 765000"/>
            </a:gdLst>
            <a:ahLst/>
            <a:rect l="textAreaLeft" t="textAreaTop" r="textAreaRight" b="textAreaBottom"/>
            <a:pathLst>
              <a:path w="21600" h="21867">
                <a:moveTo>
                  <a:pt x="0" y="0"/>
                </a:moveTo>
                <a:lnTo>
                  <a:pt x="21600" y="0"/>
                </a:lnTo>
                <a:lnTo>
                  <a:pt x="21600" y="21867"/>
                </a:lnTo>
                <a:lnTo>
                  <a:pt x="0" y="21867"/>
                </a:lnTo>
                <a:close/>
              </a:path>
              <a:path fill="lightenLess" w="21600" h="2186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67">
                <a:moveTo>
                  <a:pt x="21600" y="0"/>
                </a:moveTo>
                <a:lnTo>
                  <a:pt x="21600" y="21867"/>
                </a:lnTo>
                <a:lnTo>
                  <a:pt x="20200" y="20467"/>
                </a:lnTo>
                <a:lnTo>
                  <a:pt x="20200" y="1400"/>
                </a:lnTo>
                <a:close/>
              </a:path>
              <a:path fill="darkenLess" w="21600" h="21867">
                <a:moveTo>
                  <a:pt x="21600" y="21867"/>
                </a:moveTo>
                <a:lnTo>
                  <a:pt x="0" y="21867"/>
                </a:lnTo>
                <a:lnTo>
                  <a:pt x="1400" y="20467"/>
                </a:lnTo>
                <a:lnTo>
                  <a:pt x="20200" y="20467"/>
                </a:lnTo>
                <a:close/>
              </a:path>
              <a:path fill="lighten" w="21600" h="21867">
                <a:moveTo>
                  <a:pt x="0" y="2186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67"/>
                </a:lnTo>
                <a:close/>
              </a:path>
              <a:path fill="darken" w="21600" h="21867">
                <a:moveTo>
                  <a:pt x="3794" y="3927"/>
                </a:moveTo>
                <a:lnTo>
                  <a:pt x="17806" y="10934"/>
                </a:lnTo>
                <a:lnTo>
                  <a:pt x="3794" y="1794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9">
            <a:hlinkClick r:id="" action="ppaction://hlinkshowjump?jump=firstslide"/>
          </p:cNvPr>
          <p:cNvSpPr/>
          <p:nvPr/>
        </p:nvSpPr>
        <p:spPr>
          <a:xfrm>
            <a:off x="7596360" y="6093000"/>
            <a:ext cx="792000" cy="765000"/>
          </a:xfrm>
          <a:custGeom>
            <a:avLst/>
            <a:gdLst>
              <a:gd name="textAreaLeft" fmla="*/ 49320 w 792000"/>
              <a:gd name="textAreaRight" fmla="*/ 742680 w 79200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2362" h="21600">
                <a:moveTo>
                  <a:pt x="0" y="0"/>
                </a:moveTo>
                <a:lnTo>
                  <a:pt x="22362" y="0"/>
                </a:lnTo>
                <a:lnTo>
                  <a:pt x="22362" y="21600"/>
                </a:lnTo>
                <a:lnTo>
                  <a:pt x="0" y="21600"/>
                </a:lnTo>
                <a:close/>
              </a:path>
              <a:path fill="lightenLess" w="22362" h="21600">
                <a:moveTo>
                  <a:pt x="0" y="0"/>
                </a:moveTo>
                <a:lnTo>
                  <a:pt x="22362" y="0"/>
                </a:lnTo>
                <a:lnTo>
                  <a:pt x="20962" y="1400"/>
                </a:lnTo>
                <a:lnTo>
                  <a:pt x="1400" y="1400"/>
                </a:lnTo>
                <a:close/>
              </a:path>
              <a:path fill="darken" w="22362" h="21600">
                <a:moveTo>
                  <a:pt x="22362" y="0"/>
                </a:moveTo>
                <a:lnTo>
                  <a:pt x="22362" y="21600"/>
                </a:lnTo>
                <a:lnTo>
                  <a:pt x="20962" y="20200"/>
                </a:lnTo>
                <a:lnTo>
                  <a:pt x="20962" y="1400"/>
                </a:lnTo>
                <a:close/>
              </a:path>
              <a:path fill="darkenLess" w="22362" h="21600">
                <a:moveTo>
                  <a:pt x="223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62" y="20200"/>
                </a:lnTo>
                <a:close/>
              </a:path>
              <a:path fill="lighten" w="223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62" h="21600">
                <a:moveTo>
                  <a:pt x="11181" y="3837"/>
                </a:moveTo>
                <a:lnTo>
                  <a:pt x="13757" y="6448"/>
                </a:lnTo>
                <a:lnTo>
                  <a:pt x="13757" y="4707"/>
                </a:lnTo>
                <a:lnTo>
                  <a:pt x="15533" y="4707"/>
                </a:lnTo>
                <a:lnTo>
                  <a:pt x="15533" y="8224"/>
                </a:lnTo>
                <a:lnTo>
                  <a:pt x="18144" y="10800"/>
                </a:lnTo>
                <a:lnTo>
                  <a:pt x="16490" y="10800"/>
                </a:lnTo>
                <a:lnTo>
                  <a:pt x="16490" y="17989"/>
                </a:lnTo>
                <a:lnTo>
                  <a:pt x="5872" y="17989"/>
                </a:lnTo>
                <a:lnTo>
                  <a:pt x="5872" y="10800"/>
                </a:lnTo>
                <a:lnTo>
                  <a:pt x="4218" y="10800"/>
                </a:lnTo>
                <a:close/>
              </a:path>
              <a:path fill="darkenLess" w="22362" h="21600">
                <a:moveTo>
                  <a:pt x="13757" y="6448"/>
                </a:moveTo>
                <a:lnTo>
                  <a:pt x="13757" y="4707"/>
                </a:lnTo>
                <a:lnTo>
                  <a:pt x="15533" y="4707"/>
                </a:lnTo>
                <a:lnTo>
                  <a:pt x="15533" y="8224"/>
                </a:lnTo>
                <a:close/>
              </a:path>
              <a:path fill="darkenLess" w="22362" h="21600">
                <a:moveTo>
                  <a:pt x="10258" y="14299"/>
                </a:moveTo>
                <a:lnTo>
                  <a:pt x="12104" y="14299"/>
                </a:lnTo>
                <a:lnTo>
                  <a:pt x="12104" y="17989"/>
                </a:lnTo>
                <a:lnTo>
                  <a:pt x="16490" y="17989"/>
                </a:lnTo>
                <a:lnTo>
                  <a:pt x="16490" y="10800"/>
                </a:lnTo>
                <a:lnTo>
                  <a:pt x="5872" y="10800"/>
                </a:lnTo>
                <a:lnTo>
                  <a:pt x="5872" y="17989"/>
                </a:lnTo>
                <a:lnTo>
                  <a:pt x="1025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0" descr=""/>
          <p:cNvPicPr/>
          <p:nvPr/>
        </p:nvPicPr>
        <p:blipFill>
          <a:blip r:embed="rId5"/>
          <a:stretch/>
        </p:blipFill>
        <p:spPr>
          <a:xfrm>
            <a:off x="7667640" y="-304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"/>
          <p:cNvPicPr/>
          <p:nvPr/>
        </p:nvPicPr>
        <p:blipFill>
          <a:blip r:embed="rId6"/>
          <a:stretch/>
        </p:blipFill>
        <p:spPr>
          <a:xfrm>
            <a:off x="680400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" dur="3135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" dur="431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14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6" dur="4250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brd_borders_0177"/>
          <p:cNvPicPr/>
          <p:nvPr/>
        </p:nvPicPr>
        <p:blipFill>
          <a:blip r:embed="rId1"/>
          <a:srcRect l="2441" t="14921" r="3740" b="2677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ANIM800 G 1"/>
          <p:cNvPicPr/>
          <p:nvPr/>
        </p:nvPicPr>
        <p:blipFill>
          <a:blip r:embed="rId2"/>
          <a:stretch/>
        </p:blipFill>
        <p:spPr>
          <a:xfrm>
            <a:off x="3143160" y="2000160"/>
            <a:ext cx="3516480" cy="35164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ANIM800 G"/>
          <p:cNvPicPr/>
          <p:nvPr/>
        </p:nvPicPr>
        <p:blipFill>
          <a:blip r:embed="rId3"/>
          <a:stretch/>
        </p:blipFill>
        <p:spPr>
          <a:xfrm>
            <a:off x="3059280" y="1916280"/>
            <a:ext cx="3722400" cy="372240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7">
            <a:hlinkClick r:id="" action="ppaction://hlinkshowjump?jump=nextslide"/>
          </p:cNvPr>
          <p:cNvSpPr/>
          <p:nvPr/>
        </p:nvSpPr>
        <p:spPr>
          <a:xfrm>
            <a:off x="8388360" y="6093000"/>
            <a:ext cx="755640" cy="76500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765000"/>
              <a:gd name="textAreaBottom" fmla="*/ 716040 h 765000"/>
            </a:gdLst>
            <a:ahLst/>
            <a:rect l="textAreaLeft" t="textAreaTop" r="textAreaRight" b="textAreaBottom"/>
            <a:pathLst>
              <a:path w="21600" h="21867">
                <a:moveTo>
                  <a:pt x="0" y="0"/>
                </a:moveTo>
                <a:lnTo>
                  <a:pt x="21600" y="0"/>
                </a:lnTo>
                <a:lnTo>
                  <a:pt x="21600" y="21867"/>
                </a:lnTo>
                <a:lnTo>
                  <a:pt x="0" y="21867"/>
                </a:lnTo>
                <a:close/>
              </a:path>
              <a:path fill="lightenLess" w="21600" h="2186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67">
                <a:moveTo>
                  <a:pt x="21600" y="0"/>
                </a:moveTo>
                <a:lnTo>
                  <a:pt x="21600" y="21867"/>
                </a:lnTo>
                <a:lnTo>
                  <a:pt x="20200" y="20467"/>
                </a:lnTo>
                <a:lnTo>
                  <a:pt x="20200" y="1400"/>
                </a:lnTo>
                <a:close/>
              </a:path>
              <a:path fill="darkenLess" w="21600" h="21867">
                <a:moveTo>
                  <a:pt x="21600" y="21867"/>
                </a:moveTo>
                <a:lnTo>
                  <a:pt x="0" y="21867"/>
                </a:lnTo>
                <a:lnTo>
                  <a:pt x="1400" y="20467"/>
                </a:lnTo>
                <a:lnTo>
                  <a:pt x="20200" y="20467"/>
                </a:lnTo>
                <a:close/>
              </a:path>
              <a:path fill="lighten" w="21600" h="21867">
                <a:moveTo>
                  <a:pt x="0" y="2186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67"/>
                </a:lnTo>
                <a:close/>
              </a:path>
              <a:path fill="darken" w="21600" h="21867">
                <a:moveTo>
                  <a:pt x="3794" y="3927"/>
                </a:moveTo>
                <a:lnTo>
                  <a:pt x="17806" y="10934"/>
                </a:lnTo>
                <a:lnTo>
                  <a:pt x="3794" y="1794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8">
            <a:hlinkClick r:id="" action="ppaction://hlinkshowjump?jump=firstslide"/>
          </p:cNvPr>
          <p:cNvSpPr/>
          <p:nvPr/>
        </p:nvSpPr>
        <p:spPr>
          <a:xfrm>
            <a:off x="7596360" y="6093000"/>
            <a:ext cx="792000" cy="765000"/>
          </a:xfrm>
          <a:custGeom>
            <a:avLst/>
            <a:gdLst>
              <a:gd name="textAreaLeft" fmla="*/ 49320 w 792000"/>
              <a:gd name="textAreaRight" fmla="*/ 742680 w 79200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2362" h="21600">
                <a:moveTo>
                  <a:pt x="0" y="0"/>
                </a:moveTo>
                <a:lnTo>
                  <a:pt x="22362" y="0"/>
                </a:lnTo>
                <a:lnTo>
                  <a:pt x="22362" y="21600"/>
                </a:lnTo>
                <a:lnTo>
                  <a:pt x="0" y="21600"/>
                </a:lnTo>
                <a:close/>
              </a:path>
              <a:path fill="lightenLess" w="22362" h="21600">
                <a:moveTo>
                  <a:pt x="0" y="0"/>
                </a:moveTo>
                <a:lnTo>
                  <a:pt x="22362" y="0"/>
                </a:lnTo>
                <a:lnTo>
                  <a:pt x="20962" y="1400"/>
                </a:lnTo>
                <a:lnTo>
                  <a:pt x="1400" y="1400"/>
                </a:lnTo>
                <a:close/>
              </a:path>
              <a:path fill="darken" w="22362" h="21600">
                <a:moveTo>
                  <a:pt x="22362" y="0"/>
                </a:moveTo>
                <a:lnTo>
                  <a:pt x="22362" y="21600"/>
                </a:lnTo>
                <a:lnTo>
                  <a:pt x="20962" y="20200"/>
                </a:lnTo>
                <a:lnTo>
                  <a:pt x="20962" y="1400"/>
                </a:lnTo>
                <a:close/>
              </a:path>
              <a:path fill="darkenLess" w="22362" h="21600">
                <a:moveTo>
                  <a:pt x="223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62" y="20200"/>
                </a:lnTo>
                <a:close/>
              </a:path>
              <a:path fill="lighten" w="223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62" h="21600">
                <a:moveTo>
                  <a:pt x="11181" y="3837"/>
                </a:moveTo>
                <a:lnTo>
                  <a:pt x="13757" y="6448"/>
                </a:lnTo>
                <a:lnTo>
                  <a:pt x="13757" y="4707"/>
                </a:lnTo>
                <a:lnTo>
                  <a:pt x="15533" y="4707"/>
                </a:lnTo>
                <a:lnTo>
                  <a:pt x="15533" y="8224"/>
                </a:lnTo>
                <a:lnTo>
                  <a:pt x="18144" y="10800"/>
                </a:lnTo>
                <a:lnTo>
                  <a:pt x="16490" y="10800"/>
                </a:lnTo>
                <a:lnTo>
                  <a:pt x="16490" y="17989"/>
                </a:lnTo>
                <a:lnTo>
                  <a:pt x="5872" y="17989"/>
                </a:lnTo>
                <a:lnTo>
                  <a:pt x="5872" y="10800"/>
                </a:lnTo>
                <a:lnTo>
                  <a:pt x="4218" y="10800"/>
                </a:lnTo>
                <a:close/>
              </a:path>
              <a:path fill="darkenLess" w="22362" h="21600">
                <a:moveTo>
                  <a:pt x="13757" y="6448"/>
                </a:moveTo>
                <a:lnTo>
                  <a:pt x="13757" y="4707"/>
                </a:lnTo>
                <a:lnTo>
                  <a:pt x="15533" y="4707"/>
                </a:lnTo>
                <a:lnTo>
                  <a:pt x="15533" y="8224"/>
                </a:lnTo>
                <a:close/>
              </a:path>
              <a:path fill="darkenLess" w="22362" h="21600">
                <a:moveTo>
                  <a:pt x="10258" y="14299"/>
                </a:moveTo>
                <a:lnTo>
                  <a:pt x="12104" y="14299"/>
                </a:lnTo>
                <a:lnTo>
                  <a:pt x="12104" y="17989"/>
                </a:lnTo>
                <a:lnTo>
                  <a:pt x="16490" y="17989"/>
                </a:lnTo>
                <a:lnTo>
                  <a:pt x="16490" y="10800"/>
                </a:lnTo>
                <a:lnTo>
                  <a:pt x="5872" y="10800"/>
                </a:lnTo>
                <a:lnTo>
                  <a:pt x="5872" y="17989"/>
                </a:lnTo>
                <a:lnTo>
                  <a:pt x="1025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0" descr=""/>
          <p:cNvPicPr/>
          <p:nvPr/>
        </p:nvPicPr>
        <p:blipFill>
          <a:blip r:embed="rId4"/>
          <a:stretch/>
        </p:blipFill>
        <p:spPr>
          <a:xfrm>
            <a:off x="8459640" y="-304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1" descr=""/>
          <p:cNvPicPr/>
          <p:nvPr/>
        </p:nvPicPr>
        <p:blipFill>
          <a:blip r:embed="rId5"/>
          <a:stretch/>
        </p:blipFill>
        <p:spPr>
          <a:xfrm>
            <a:off x="6372360" y="-3049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3" descr=""/>
          <p:cNvPicPr/>
          <p:nvPr/>
        </p:nvPicPr>
        <p:blipFill>
          <a:blip r:embed="rId6"/>
          <a:stretch/>
        </p:blipFill>
        <p:spPr>
          <a:xfrm>
            <a:off x="802800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2" dur="5434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434"/>
                            </p:stCondLst>
                            <p:childTnLst>
                              <p:par>
                                <p:cTn id="2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5" dur="13723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234" dur="2000" fill="hold"/>
                                        <p:tgtEl>
                                          <p:spTgt spid="1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35" nodeType="withEffect" fill="hold" presetClass="mediacall" presetID="1">
                                  <p:stCondLst>
                                    <p:cond delay="1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6" dur="3205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brd_borders_0177"/>
          <p:cNvPicPr/>
          <p:nvPr/>
        </p:nvPicPr>
        <p:blipFill>
          <a:blip r:embed="rId1"/>
          <a:srcRect l="2441" t="14921" r="3740" b="2677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ANIM1006 G 1"/>
          <p:cNvPicPr/>
          <p:nvPr/>
        </p:nvPicPr>
        <p:blipFill>
          <a:blip r:embed="rId2"/>
          <a:stretch/>
        </p:blipFill>
        <p:spPr>
          <a:xfrm>
            <a:off x="2771640" y="1052640"/>
            <a:ext cx="4248360" cy="4248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ANIM1006 G"/>
          <p:cNvPicPr/>
          <p:nvPr/>
        </p:nvPicPr>
        <p:blipFill>
          <a:blip r:embed="rId3"/>
          <a:stretch/>
        </p:blipFill>
        <p:spPr>
          <a:xfrm>
            <a:off x="2771640" y="1052640"/>
            <a:ext cx="4248360" cy="42480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7">
            <a:hlinkClick r:id="" action="ppaction://hlinkshowjump?jump=nextslide"/>
          </p:cNvPr>
          <p:cNvSpPr/>
          <p:nvPr/>
        </p:nvSpPr>
        <p:spPr>
          <a:xfrm>
            <a:off x="8388360" y="6093000"/>
            <a:ext cx="755640" cy="76500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765000"/>
              <a:gd name="textAreaBottom" fmla="*/ 716040 h 765000"/>
            </a:gdLst>
            <a:ahLst/>
            <a:rect l="textAreaLeft" t="textAreaTop" r="textAreaRight" b="textAreaBottom"/>
            <a:pathLst>
              <a:path w="21600" h="21867">
                <a:moveTo>
                  <a:pt x="0" y="0"/>
                </a:moveTo>
                <a:lnTo>
                  <a:pt x="21600" y="0"/>
                </a:lnTo>
                <a:lnTo>
                  <a:pt x="21600" y="21867"/>
                </a:lnTo>
                <a:lnTo>
                  <a:pt x="0" y="21867"/>
                </a:lnTo>
                <a:close/>
              </a:path>
              <a:path fill="lightenLess" w="21600" h="2186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67">
                <a:moveTo>
                  <a:pt x="21600" y="0"/>
                </a:moveTo>
                <a:lnTo>
                  <a:pt x="21600" y="21867"/>
                </a:lnTo>
                <a:lnTo>
                  <a:pt x="20200" y="20467"/>
                </a:lnTo>
                <a:lnTo>
                  <a:pt x="20200" y="1400"/>
                </a:lnTo>
                <a:close/>
              </a:path>
              <a:path fill="darkenLess" w="21600" h="21867">
                <a:moveTo>
                  <a:pt x="21600" y="21867"/>
                </a:moveTo>
                <a:lnTo>
                  <a:pt x="0" y="21867"/>
                </a:lnTo>
                <a:lnTo>
                  <a:pt x="1400" y="20467"/>
                </a:lnTo>
                <a:lnTo>
                  <a:pt x="20200" y="20467"/>
                </a:lnTo>
                <a:close/>
              </a:path>
              <a:path fill="lighten" w="21600" h="21867">
                <a:moveTo>
                  <a:pt x="0" y="2186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67"/>
                </a:lnTo>
                <a:close/>
              </a:path>
              <a:path fill="darken" w="21600" h="21867">
                <a:moveTo>
                  <a:pt x="3794" y="3927"/>
                </a:moveTo>
                <a:lnTo>
                  <a:pt x="17806" y="10934"/>
                </a:lnTo>
                <a:lnTo>
                  <a:pt x="3794" y="1794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8">
            <a:hlinkClick r:id="" action="ppaction://hlinkshowjump?jump=firstslide"/>
          </p:cNvPr>
          <p:cNvSpPr/>
          <p:nvPr/>
        </p:nvSpPr>
        <p:spPr>
          <a:xfrm>
            <a:off x="7596360" y="6093000"/>
            <a:ext cx="792000" cy="765000"/>
          </a:xfrm>
          <a:custGeom>
            <a:avLst/>
            <a:gdLst>
              <a:gd name="textAreaLeft" fmla="*/ 49320 w 792000"/>
              <a:gd name="textAreaRight" fmla="*/ 742680 w 79200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2362" h="21600">
                <a:moveTo>
                  <a:pt x="0" y="0"/>
                </a:moveTo>
                <a:lnTo>
                  <a:pt x="22362" y="0"/>
                </a:lnTo>
                <a:lnTo>
                  <a:pt x="22362" y="21600"/>
                </a:lnTo>
                <a:lnTo>
                  <a:pt x="0" y="21600"/>
                </a:lnTo>
                <a:close/>
              </a:path>
              <a:path fill="lightenLess" w="22362" h="21600">
                <a:moveTo>
                  <a:pt x="0" y="0"/>
                </a:moveTo>
                <a:lnTo>
                  <a:pt x="22362" y="0"/>
                </a:lnTo>
                <a:lnTo>
                  <a:pt x="20962" y="1400"/>
                </a:lnTo>
                <a:lnTo>
                  <a:pt x="1400" y="1400"/>
                </a:lnTo>
                <a:close/>
              </a:path>
              <a:path fill="darken" w="22362" h="21600">
                <a:moveTo>
                  <a:pt x="22362" y="0"/>
                </a:moveTo>
                <a:lnTo>
                  <a:pt x="22362" y="21600"/>
                </a:lnTo>
                <a:lnTo>
                  <a:pt x="20962" y="20200"/>
                </a:lnTo>
                <a:lnTo>
                  <a:pt x="20962" y="1400"/>
                </a:lnTo>
                <a:close/>
              </a:path>
              <a:path fill="darkenLess" w="22362" h="21600">
                <a:moveTo>
                  <a:pt x="223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62" y="20200"/>
                </a:lnTo>
                <a:close/>
              </a:path>
              <a:path fill="lighten" w="223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62" h="21600">
                <a:moveTo>
                  <a:pt x="11181" y="3837"/>
                </a:moveTo>
                <a:lnTo>
                  <a:pt x="13757" y="6448"/>
                </a:lnTo>
                <a:lnTo>
                  <a:pt x="13757" y="4707"/>
                </a:lnTo>
                <a:lnTo>
                  <a:pt x="15533" y="4707"/>
                </a:lnTo>
                <a:lnTo>
                  <a:pt x="15533" y="8224"/>
                </a:lnTo>
                <a:lnTo>
                  <a:pt x="18144" y="10800"/>
                </a:lnTo>
                <a:lnTo>
                  <a:pt x="16490" y="10800"/>
                </a:lnTo>
                <a:lnTo>
                  <a:pt x="16490" y="17989"/>
                </a:lnTo>
                <a:lnTo>
                  <a:pt x="5872" y="17989"/>
                </a:lnTo>
                <a:lnTo>
                  <a:pt x="5872" y="10800"/>
                </a:lnTo>
                <a:lnTo>
                  <a:pt x="4218" y="10800"/>
                </a:lnTo>
                <a:close/>
              </a:path>
              <a:path fill="darkenLess" w="22362" h="21600">
                <a:moveTo>
                  <a:pt x="13757" y="6448"/>
                </a:moveTo>
                <a:lnTo>
                  <a:pt x="13757" y="4707"/>
                </a:lnTo>
                <a:lnTo>
                  <a:pt x="15533" y="4707"/>
                </a:lnTo>
                <a:lnTo>
                  <a:pt x="15533" y="8224"/>
                </a:lnTo>
                <a:close/>
              </a:path>
              <a:path fill="darkenLess" w="22362" h="21600">
                <a:moveTo>
                  <a:pt x="10258" y="14299"/>
                </a:moveTo>
                <a:lnTo>
                  <a:pt x="12104" y="14299"/>
                </a:lnTo>
                <a:lnTo>
                  <a:pt x="12104" y="17989"/>
                </a:lnTo>
                <a:lnTo>
                  <a:pt x="16490" y="17989"/>
                </a:lnTo>
                <a:lnTo>
                  <a:pt x="16490" y="10800"/>
                </a:lnTo>
                <a:lnTo>
                  <a:pt x="5872" y="10800"/>
                </a:lnTo>
                <a:lnTo>
                  <a:pt x="5872" y="17989"/>
                </a:lnTo>
                <a:lnTo>
                  <a:pt x="1025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4"/>
          <a:stretch/>
        </p:blipFill>
        <p:spPr>
          <a:xfrm>
            <a:off x="8358120" y="-304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5"/>
          <a:stretch/>
        </p:blipFill>
        <p:spPr>
          <a:xfrm>
            <a:off x="6588000" y="-304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2" dur="4877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4877"/>
                            </p:stCondLst>
                            <p:childTnLst>
                              <p:par>
                                <p:cTn id="2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5" dur="12609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254" dur="2000" fill="hold"/>
                                        <p:tgtEl>
                                          <p:spTgt spid="1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5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6" dur="3483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brd_borders_0177"/>
          <p:cNvPicPr/>
          <p:nvPr/>
        </p:nvPicPr>
        <p:blipFill>
          <a:blip r:embed="rId1"/>
          <a:srcRect l="2441" t="14921" r="3740" b="2677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ANIM1374 G 1"/>
          <p:cNvPicPr/>
          <p:nvPr/>
        </p:nvPicPr>
        <p:blipFill>
          <a:blip r:embed="rId2"/>
          <a:stretch/>
        </p:blipFill>
        <p:spPr>
          <a:xfrm>
            <a:off x="3132000" y="1989000"/>
            <a:ext cx="3384720" cy="3384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ANIM1374 G"/>
          <p:cNvPicPr/>
          <p:nvPr/>
        </p:nvPicPr>
        <p:blipFill>
          <a:blip r:embed="rId3"/>
          <a:stretch/>
        </p:blipFill>
        <p:spPr>
          <a:xfrm>
            <a:off x="3059280" y="1916280"/>
            <a:ext cx="3527280" cy="352728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7">
            <a:hlinkClick r:id="" action="ppaction://hlinkshowjump?jump=nextslide"/>
          </p:cNvPr>
          <p:cNvSpPr/>
          <p:nvPr/>
        </p:nvSpPr>
        <p:spPr>
          <a:xfrm>
            <a:off x="8388360" y="6093000"/>
            <a:ext cx="755640" cy="76500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765000"/>
              <a:gd name="textAreaBottom" fmla="*/ 716040 h 765000"/>
            </a:gdLst>
            <a:ahLst/>
            <a:rect l="textAreaLeft" t="textAreaTop" r="textAreaRight" b="textAreaBottom"/>
            <a:pathLst>
              <a:path w="21600" h="21867">
                <a:moveTo>
                  <a:pt x="0" y="0"/>
                </a:moveTo>
                <a:lnTo>
                  <a:pt x="21600" y="0"/>
                </a:lnTo>
                <a:lnTo>
                  <a:pt x="21600" y="21867"/>
                </a:lnTo>
                <a:lnTo>
                  <a:pt x="0" y="21867"/>
                </a:lnTo>
                <a:close/>
              </a:path>
              <a:path fill="lightenLess" w="21600" h="2186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67">
                <a:moveTo>
                  <a:pt x="21600" y="0"/>
                </a:moveTo>
                <a:lnTo>
                  <a:pt x="21600" y="21867"/>
                </a:lnTo>
                <a:lnTo>
                  <a:pt x="20200" y="20467"/>
                </a:lnTo>
                <a:lnTo>
                  <a:pt x="20200" y="1400"/>
                </a:lnTo>
                <a:close/>
              </a:path>
              <a:path fill="darkenLess" w="21600" h="21867">
                <a:moveTo>
                  <a:pt x="21600" y="21867"/>
                </a:moveTo>
                <a:lnTo>
                  <a:pt x="0" y="21867"/>
                </a:lnTo>
                <a:lnTo>
                  <a:pt x="1400" y="20467"/>
                </a:lnTo>
                <a:lnTo>
                  <a:pt x="20200" y="20467"/>
                </a:lnTo>
                <a:close/>
              </a:path>
              <a:path fill="lighten" w="21600" h="21867">
                <a:moveTo>
                  <a:pt x="0" y="2186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67"/>
                </a:lnTo>
                <a:close/>
              </a:path>
              <a:path fill="darken" w="21600" h="21867">
                <a:moveTo>
                  <a:pt x="3794" y="3927"/>
                </a:moveTo>
                <a:lnTo>
                  <a:pt x="17806" y="10934"/>
                </a:lnTo>
                <a:lnTo>
                  <a:pt x="3794" y="1794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8">
            <a:hlinkClick r:id="" action="ppaction://hlinkshowjump?jump=firstslide"/>
          </p:cNvPr>
          <p:cNvSpPr/>
          <p:nvPr/>
        </p:nvSpPr>
        <p:spPr>
          <a:xfrm>
            <a:off x="7596360" y="6093000"/>
            <a:ext cx="792000" cy="765000"/>
          </a:xfrm>
          <a:custGeom>
            <a:avLst/>
            <a:gdLst>
              <a:gd name="textAreaLeft" fmla="*/ 49320 w 792000"/>
              <a:gd name="textAreaRight" fmla="*/ 742680 w 79200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2362" h="21600">
                <a:moveTo>
                  <a:pt x="0" y="0"/>
                </a:moveTo>
                <a:lnTo>
                  <a:pt x="22362" y="0"/>
                </a:lnTo>
                <a:lnTo>
                  <a:pt x="22362" y="21600"/>
                </a:lnTo>
                <a:lnTo>
                  <a:pt x="0" y="21600"/>
                </a:lnTo>
                <a:close/>
              </a:path>
              <a:path fill="lightenLess" w="22362" h="21600">
                <a:moveTo>
                  <a:pt x="0" y="0"/>
                </a:moveTo>
                <a:lnTo>
                  <a:pt x="22362" y="0"/>
                </a:lnTo>
                <a:lnTo>
                  <a:pt x="20962" y="1400"/>
                </a:lnTo>
                <a:lnTo>
                  <a:pt x="1400" y="1400"/>
                </a:lnTo>
                <a:close/>
              </a:path>
              <a:path fill="darken" w="22362" h="21600">
                <a:moveTo>
                  <a:pt x="22362" y="0"/>
                </a:moveTo>
                <a:lnTo>
                  <a:pt x="22362" y="21600"/>
                </a:lnTo>
                <a:lnTo>
                  <a:pt x="20962" y="20200"/>
                </a:lnTo>
                <a:lnTo>
                  <a:pt x="20962" y="1400"/>
                </a:lnTo>
                <a:close/>
              </a:path>
              <a:path fill="darkenLess" w="22362" h="21600">
                <a:moveTo>
                  <a:pt x="223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62" y="20200"/>
                </a:lnTo>
                <a:close/>
              </a:path>
              <a:path fill="lighten" w="223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62" h="21600">
                <a:moveTo>
                  <a:pt x="11181" y="3837"/>
                </a:moveTo>
                <a:lnTo>
                  <a:pt x="13757" y="6448"/>
                </a:lnTo>
                <a:lnTo>
                  <a:pt x="13757" y="4707"/>
                </a:lnTo>
                <a:lnTo>
                  <a:pt x="15533" y="4707"/>
                </a:lnTo>
                <a:lnTo>
                  <a:pt x="15533" y="8224"/>
                </a:lnTo>
                <a:lnTo>
                  <a:pt x="18144" y="10800"/>
                </a:lnTo>
                <a:lnTo>
                  <a:pt x="16490" y="10800"/>
                </a:lnTo>
                <a:lnTo>
                  <a:pt x="16490" y="17989"/>
                </a:lnTo>
                <a:lnTo>
                  <a:pt x="5872" y="17989"/>
                </a:lnTo>
                <a:lnTo>
                  <a:pt x="5872" y="10800"/>
                </a:lnTo>
                <a:lnTo>
                  <a:pt x="4218" y="10800"/>
                </a:lnTo>
                <a:close/>
              </a:path>
              <a:path fill="darkenLess" w="22362" h="21600">
                <a:moveTo>
                  <a:pt x="13757" y="6448"/>
                </a:moveTo>
                <a:lnTo>
                  <a:pt x="13757" y="4707"/>
                </a:lnTo>
                <a:lnTo>
                  <a:pt x="15533" y="4707"/>
                </a:lnTo>
                <a:lnTo>
                  <a:pt x="15533" y="8224"/>
                </a:lnTo>
                <a:close/>
              </a:path>
              <a:path fill="darkenLess" w="22362" h="21600">
                <a:moveTo>
                  <a:pt x="10258" y="14299"/>
                </a:moveTo>
                <a:lnTo>
                  <a:pt x="12104" y="14299"/>
                </a:lnTo>
                <a:lnTo>
                  <a:pt x="12104" y="17989"/>
                </a:lnTo>
                <a:lnTo>
                  <a:pt x="16490" y="17989"/>
                </a:lnTo>
                <a:lnTo>
                  <a:pt x="16490" y="10800"/>
                </a:lnTo>
                <a:lnTo>
                  <a:pt x="5872" y="10800"/>
                </a:lnTo>
                <a:lnTo>
                  <a:pt x="5872" y="17989"/>
                </a:lnTo>
                <a:lnTo>
                  <a:pt x="1025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9" descr=""/>
          <p:cNvPicPr/>
          <p:nvPr/>
        </p:nvPicPr>
        <p:blipFill>
          <a:blip r:embed="rId4"/>
          <a:stretch/>
        </p:blipFill>
        <p:spPr>
          <a:xfrm>
            <a:off x="8459640" y="-304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0" descr=""/>
          <p:cNvPicPr/>
          <p:nvPr/>
        </p:nvPicPr>
        <p:blipFill>
          <a:blip r:embed="rId5"/>
          <a:stretch/>
        </p:blipFill>
        <p:spPr>
          <a:xfrm>
            <a:off x="6659640" y="-3049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2" descr=""/>
          <p:cNvPicPr/>
          <p:nvPr/>
        </p:nvPicPr>
        <p:blipFill>
          <a:blip r:embed="rId6"/>
          <a:stretch/>
        </p:blipFill>
        <p:spPr>
          <a:xfrm>
            <a:off x="7380360" y="-3049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2" dur="5434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434"/>
                            </p:stCondLst>
                            <p:childTnLst>
                              <p:par>
                                <p:cTn id="2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5" dur="10798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274" dur="2000" fill="hold"/>
                                        <p:tgtEl>
                                          <p:spTgt spid="1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7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6" dur="5155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brd_borders_0177"/>
          <p:cNvPicPr/>
          <p:nvPr/>
        </p:nvPicPr>
        <p:blipFill>
          <a:blip r:embed="rId1"/>
          <a:srcRect l="2441" t="14921" r="3740" b="2677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ANIM1373 G 1"/>
          <p:cNvPicPr/>
          <p:nvPr/>
        </p:nvPicPr>
        <p:blipFill>
          <a:blip r:embed="rId2"/>
          <a:stretch/>
        </p:blipFill>
        <p:spPr>
          <a:xfrm>
            <a:off x="3132000" y="1773360"/>
            <a:ext cx="3300480" cy="33001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ANIM1373 G"/>
          <p:cNvPicPr/>
          <p:nvPr/>
        </p:nvPicPr>
        <p:blipFill>
          <a:blip r:embed="rId3"/>
          <a:stretch/>
        </p:blipFill>
        <p:spPr>
          <a:xfrm>
            <a:off x="3132000" y="1773360"/>
            <a:ext cx="3289320" cy="3289320"/>
          </a:xfrm>
          <a:prstGeom prst="rect">
            <a:avLst/>
          </a:prstGeom>
          <a:ln w="0">
            <a:noFill/>
          </a:ln>
        </p:spPr>
      </p:pic>
      <p:sp>
        <p:nvSpPr>
          <p:cNvPr id="172" name="AutoShape 7">
            <a:hlinkClick r:id="" action="ppaction://hlinkshowjump?jump=nextslide"/>
          </p:cNvPr>
          <p:cNvSpPr/>
          <p:nvPr/>
        </p:nvSpPr>
        <p:spPr>
          <a:xfrm>
            <a:off x="8388360" y="6093000"/>
            <a:ext cx="755640" cy="76500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765000"/>
              <a:gd name="textAreaBottom" fmla="*/ 716040 h 765000"/>
            </a:gdLst>
            <a:ahLst/>
            <a:rect l="textAreaLeft" t="textAreaTop" r="textAreaRight" b="textAreaBottom"/>
            <a:pathLst>
              <a:path w="21600" h="21867">
                <a:moveTo>
                  <a:pt x="0" y="0"/>
                </a:moveTo>
                <a:lnTo>
                  <a:pt x="21600" y="0"/>
                </a:lnTo>
                <a:lnTo>
                  <a:pt x="21600" y="21867"/>
                </a:lnTo>
                <a:lnTo>
                  <a:pt x="0" y="21867"/>
                </a:lnTo>
                <a:close/>
              </a:path>
              <a:path fill="lightenLess" w="21600" h="2186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67">
                <a:moveTo>
                  <a:pt x="21600" y="0"/>
                </a:moveTo>
                <a:lnTo>
                  <a:pt x="21600" y="21867"/>
                </a:lnTo>
                <a:lnTo>
                  <a:pt x="20200" y="20467"/>
                </a:lnTo>
                <a:lnTo>
                  <a:pt x="20200" y="1400"/>
                </a:lnTo>
                <a:close/>
              </a:path>
              <a:path fill="darkenLess" w="21600" h="21867">
                <a:moveTo>
                  <a:pt x="21600" y="21867"/>
                </a:moveTo>
                <a:lnTo>
                  <a:pt x="0" y="21867"/>
                </a:lnTo>
                <a:lnTo>
                  <a:pt x="1400" y="20467"/>
                </a:lnTo>
                <a:lnTo>
                  <a:pt x="20200" y="20467"/>
                </a:lnTo>
                <a:close/>
              </a:path>
              <a:path fill="lighten" w="21600" h="21867">
                <a:moveTo>
                  <a:pt x="0" y="2186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67"/>
                </a:lnTo>
                <a:close/>
              </a:path>
              <a:path fill="darken" w="21600" h="21867">
                <a:moveTo>
                  <a:pt x="3794" y="3927"/>
                </a:moveTo>
                <a:lnTo>
                  <a:pt x="17806" y="10934"/>
                </a:lnTo>
                <a:lnTo>
                  <a:pt x="3794" y="1794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8">
            <a:hlinkClick r:id="" action="ppaction://hlinkshowjump?jump=firstslide"/>
          </p:cNvPr>
          <p:cNvSpPr/>
          <p:nvPr/>
        </p:nvSpPr>
        <p:spPr>
          <a:xfrm>
            <a:off x="7596360" y="6093000"/>
            <a:ext cx="792000" cy="765000"/>
          </a:xfrm>
          <a:custGeom>
            <a:avLst/>
            <a:gdLst>
              <a:gd name="textAreaLeft" fmla="*/ 49320 w 792000"/>
              <a:gd name="textAreaRight" fmla="*/ 742680 w 79200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2362" h="21600">
                <a:moveTo>
                  <a:pt x="0" y="0"/>
                </a:moveTo>
                <a:lnTo>
                  <a:pt x="22362" y="0"/>
                </a:lnTo>
                <a:lnTo>
                  <a:pt x="22362" y="21600"/>
                </a:lnTo>
                <a:lnTo>
                  <a:pt x="0" y="21600"/>
                </a:lnTo>
                <a:close/>
              </a:path>
              <a:path fill="lightenLess" w="22362" h="21600">
                <a:moveTo>
                  <a:pt x="0" y="0"/>
                </a:moveTo>
                <a:lnTo>
                  <a:pt x="22362" y="0"/>
                </a:lnTo>
                <a:lnTo>
                  <a:pt x="20962" y="1400"/>
                </a:lnTo>
                <a:lnTo>
                  <a:pt x="1400" y="1400"/>
                </a:lnTo>
                <a:close/>
              </a:path>
              <a:path fill="darken" w="22362" h="21600">
                <a:moveTo>
                  <a:pt x="22362" y="0"/>
                </a:moveTo>
                <a:lnTo>
                  <a:pt x="22362" y="21600"/>
                </a:lnTo>
                <a:lnTo>
                  <a:pt x="20962" y="20200"/>
                </a:lnTo>
                <a:lnTo>
                  <a:pt x="20962" y="1400"/>
                </a:lnTo>
                <a:close/>
              </a:path>
              <a:path fill="darkenLess" w="22362" h="21600">
                <a:moveTo>
                  <a:pt x="223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62" y="20200"/>
                </a:lnTo>
                <a:close/>
              </a:path>
              <a:path fill="lighten" w="223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62" h="21600">
                <a:moveTo>
                  <a:pt x="11181" y="3837"/>
                </a:moveTo>
                <a:lnTo>
                  <a:pt x="13757" y="6448"/>
                </a:lnTo>
                <a:lnTo>
                  <a:pt x="13757" y="4707"/>
                </a:lnTo>
                <a:lnTo>
                  <a:pt x="15533" y="4707"/>
                </a:lnTo>
                <a:lnTo>
                  <a:pt x="15533" y="8224"/>
                </a:lnTo>
                <a:lnTo>
                  <a:pt x="18144" y="10800"/>
                </a:lnTo>
                <a:lnTo>
                  <a:pt x="16490" y="10800"/>
                </a:lnTo>
                <a:lnTo>
                  <a:pt x="16490" y="17989"/>
                </a:lnTo>
                <a:lnTo>
                  <a:pt x="5872" y="17989"/>
                </a:lnTo>
                <a:lnTo>
                  <a:pt x="5872" y="10800"/>
                </a:lnTo>
                <a:lnTo>
                  <a:pt x="4218" y="10800"/>
                </a:lnTo>
                <a:close/>
              </a:path>
              <a:path fill="darkenLess" w="22362" h="21600">
                <a:moveTo>
                  <a:pt x="13757" y="6448"/>
                </a:moveTo>
                <a:lnTo>
                  <a:pt x="13757" y="4707"/>
                </a:lnTo>
                <a:lnTo>
                  <a:pt x="15533" y="4707"/>
                </a:lnTo>
                <a:lnTo>
                  <a:pt x="15533" y="8224"/>
                </a:lnTo>
                <a:close/>
              </a:path>
              <a:path fill="darkenLess" w="22362" h="21600">
                <a:moveTo>
                  <a:pt x="10258" y="14299"/>
                </a:moveTo>
                <a:lnTo>
                  <a:pt x="12104" y="14299"/>
                </a:lnTo>
                <a:lnTo>
                  <a:pt x="12104" y="17989"/>
                </a:lnTo>
                <a:lnTo>
                  <a:pt x="16490" y="17989"/>
                </a:lnTo>
                <a:lnTo>
                  <a:pt x="16490" y="10800"/>
                </a:lnTo>
                <a:lnTo>
                  <a:pt x="5872" y="10800"/>
                </a:lnTo>
                <a:lnTo>
                  <a:pt x="5872" y="17989"/>
                </a:lnTo>
                <a:lnTo>
                  <a:pt x="1025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9" descr=""/>
          <p:cNvPicPr/>
          <p:nvPr/>
        </p:nvPicPr>
        <p:blipFill>
          <a:blip r:embed="rId4"/>
          <a:stretch/>
        </p:blipFill>
        <p:spPr>
          <a:xfrm>
            <a:off x="8388360" y="-304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"/>
          <p:cNvPicPr/>
          <p:nvPr/>
        </p:nvPicPr>
        <p:blipFill>
          <a:blip r:embed="rId5"/>
          <a:stretch/>
        </p:blipFill>
        <p:spPr>
          <a:xfrm>
            <a:off x="6732720" y="-3049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1" descr=""/>
          <p:cNvPicPr/>
          <p:nvPr/>
        </p:nvPicPr>
        <p:blipFill>
          <a:blip r:embed="rId6"/>
          <a:stretch/>
        </p:blipFill>
        <p:spPr>
          <a:xfrm>
            <a:off x="752472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2" dur="4877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877"/>
                            </p:stCondLst>
                            <p:childTnLst>
                              <p:par>
                                <p:cTn id="2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5" dur="11355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294" dur="2000" fill="hold"/>
                                        <p:tgtEl>
                                          <p:spTgt spid="1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9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6" dur="4389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brd_borders_0177"/>
          <p:cNvPicPr/>
          <p:nvPr/>
        </p:nvPicPr>
        <p:blipFill>
          <a:blip r:embed="rId1"/>
          <a:srcRect l="2441" t="14921" r="3740" b="2677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Свинья 1111"/>
          <p:cNvPicPr/>
          <p:nvPr/>
        </p:nvPicPr>
        <p:blipFill>
          <a:blip r:embed="rId2"/>
          <a:stretch/>
        </p:blipFill>
        <p:spPr>
          <a:xfrm>
            <a:off x="3143160" y="2000160"/>
            <a:ext cx="3373560" cy="33735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Свинья 111"/>
          <p:cNvPicPr/>
          <p:nvPr/>
        </p:nvPicPr>
        <p:blipFill>
          <a:blip r:embed="rId3"/>
          <a:stretch/>
        </p:blipFill>
        <p:spPr>
          <a:xfrm>
            <a:off x="3059280" y="1844640"/>
            <a:ext cx="3528720" cy="3529080"/>
          </a:xfrm>
          <a:prstGeom prst="rect">
            <a:avLst/>
          </a:prstGeom>
          <a:ln w="0">
            <a:noFill/>
          </a:ln>
        </p:spPr>
      </p:pic>
      <p:sp>
        <p:nvSpPr>
          <p:cNvPr id="182" name="AutoShape 7">
            <a:hlinkClick r:id="" action="ppaction://hlinkshowjump?jump=nextslide"/>
          </p:cNvPr>
          <p:cNvSpPr/>
          <p:nvPr/>
        </p:nvSpPr>
        <p:spPr>
          <a:xfrm>
            <a:off x="8388360" y="6093000"/>
            <a:ext cx="755640" cy="76500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765000"/>
              <a:gd name="textAreaBottom" fmla="*/ 716040 h 765000"/>
            </a:gdLst>
            <a:ahLst/>
            <a:rect l="textAreaLeft" t="textAreaTop" r="textAreaRight" b="textAreaBottom"/>
            <a:pathLst>
              <a:path w="21600" h="21867">
                <a:moveTo>
                  <a:pt x="0" y="0"/>
                </a:moveTo>
                <a:lnTo>
                  <a:pt x="21600" y="0"/>
                </a:lnTo>
                <a:lnTo>
                  <a:pt x="21600" y="21867"/>
                </a:lnTo>
                <a:lnTo>
                  <a:pt x="0" y="21867"/>
                </a:lnTo>
                <a:close/>
              </a:path>
              <a:path fill="lightenLess" w="21600" h="2186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67">
                <a:moveTo>
                  <a:pt x="21600" y="0"/>
                </a:moveTo>
                <a:lnTo>
                  <a:pt x="21600" y="21867"/>
                </a:lnTo>
                <a:lnTo>
                  <a:pt x="20200" y="20467"/>
                </a:lnTo>
                <a:lnTo>
                  <a:pt x="20200" y="1400"/>
                </a:lnTo>
                <a:close/>
              </a:path>
              <a:path fill="darkenLess" w="21600" h="21867">
                <a:moveTo>
                  <a:pt x="21600" y="21867"/>
                </a:moveTo>
                <a:lnTo>
                  <a:pt x="0" y="21867"/>
                </a:lnTo>
                <a:lnTo>
                  <a:pt x="1400" y="20467"/>
                </a:lnTo>
                <a:lnTo>
                  <a:pt x="20200" y="20467"/>
                </a:lnTo>
                <a:close/>
              </a:path>
              <a:path fill="lighten" w="21600" h="21867">
                <a:moveTo>
                  <a:pt x="0" y="2186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67"/>
                </a:lnTo>
                <a:close/>
              </a:path>
              <a:path fill="darken" w="21600" h="21867">
                <a:moveTo>
                  <a:pt x="3794" y="3927"/>
                </a:moveTo>
                <a:lnTo>
                  <a:pt x="17806" y="10934"/>
                </a:lnTo>
                <a:lnTo>
                  <a:pt x="3794" y="1794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8">
            <a:hlinkClick r:id="" action="ppaction://hlinkshowjump?jump=firstslide"/>
          </p:cNvPr>
          <p:cNvSpPr/>
          <p:nvPr/>
        </p:nvSpPr>
        <p:spPr>
          <a:xfrm>
            <a:off x="7596360" y="6093000"/>
            <a:ext cx="792000" cy="765000"/>
          </a:xfrm>
          <a:custGeom>
            <a:avLst/>
            <a:gdLst>
              <a:gd name="textAreaLeft" fmla="*/ 49320 w 792000"/>
              <a:gd name="textAreaRight" fmla="*/ 742680 w 79200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2362" h="21600">
                <a:moveTo>
                  <a:pt x="0" y="0"/>
                </a:moveTo>
                <a:lnTo>
                  <a:pt x="22362" y="0"/>
                </a:lnTo>
                <a:lnTo>
                  <a:pt x="22362" y="21600"/>
                </a:lnTo>
                <a:lnTo>
                  <a:pt x="0" y="21600"/>
                </a:lnTo>
                <a:close/>
              </a:path>
              <a:path fill="lightenLess" w="22362" h="21600">
                <a:moveTo>
                  <a:pt x="0" y="0"/>
                </a:moveTo>
                <a:lnTo>
                  <a:pt x="22362" y="0"/>
                </a:lnTo>
                <a:lnTo>
                  <a:pt x="20962" y="1400"/>
                </a:lnTo>
                <a:lnTo>
                  <a:pt x="1400" y="1400"/>
                </a:lnTo>
                <a:close/>
              </a:path>
              <a:path fill="darken" w="22362" h="21600">
                <a:moveTo>
                  <a:pt x="22362" y="0"/>
                </a:moveTo>
                <a:lnTo>
                  <a:pt x="22362" y="21600"/>
                </a:lnTo>
                <a:lnTo>
                  <a:pt x="20962" y="20200"/>
                </a:lnTo>
                <a:lnTo>
                  <a:pt x="20962" y="1400"/>
                </a:lnTo>
                <a:close/>
              </a:path>
              <a:path fill="darkenLess" w="22362" h="21600">
                <a:moveTo>
                  <a:pt x="223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62" y="20200"/>
                </a:lnTo>
                <a:close/>
              </a:path>
              <a:path fill="lighten" w="223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62" h="21600">
                <a:moveTo>
                  <a:pt x="11181" y="3837"/>
                </a:moveTo>
                <a:lnTo>
                  <a:pt x="13757" y="6448"/>
                </a:lnTo>
                <a:lnTo>
                  <a:pt x="13757" y="4707"/>
                </a:lnTo>
                <a:lnTo>
                  <a:pt x="15533" y="4707"/>
                </a:lnTo>
                <a:lnTo>
                  <a:pt x="15533" y="8224"/>
                </a:lnTo>
                <a:lnTo>
                  <a:pt x="18144" y="10800"/>
                </a:lnTo>
                <a:lnTo>
                  <a:pt x="16490" y="10800"/>
                </a:lnTo>
                <a:lnTo>
                  <a:pt x="16490" y="17989"/>
                </a:lnTo>
                <a:lnTo>
                  <a:pt x="5872" y="17989"/>
                </a:lnTo>
                <a:lnTo>
                  <a:pt x="5872" y="10800"/>
                </a:lnTo>
                <a:lnTo>
                  <a:pt x="4218" y="10800"/>
                </a:lnTo>
                <a:close/>
              </a:path>
              <a:path fill="darkenLess" w="22362" h="21600">
                <a:moveTo>
                  <a:pt x="13757" y="6448"/>
                </a:moveTo>
                <a:lnTo>
                  <a:pt x="13757" y="4707"/>
                </a:lnTo>
                <a:lnTo>
                  <a:pt x="15533" y="4707"/>
                </a:lnTo>
                <a:lnTo>
                  <a:pt x="15533" y="8224"/>
                </a:lnTo>
                <a:close/>
              </a:path>
              <a:path fill="darkenLess" w="22362" h="21600">
                <a:moveTo>
                  <a:pt x="10258" y="14299"/>
                </a:moveTo>
                <a:lnTo>
                  <a:pt x="12104" y="14299"/>
                </a:lnTo>
                <a:lnTo>
                  <a:pt x="12104" y="17989"/>
                </a:lnTo>
                <a:lnTo>
                  <a:pt x="16490" y="17989"/>
                </a:lnTo>
                <a:lnTo>
                  <a:pt x="16490" y="10800"/>
                </a:lnTo>
                <a:lnTo>
                  <a:pt x="5872" y="10800"/>
                </a:lnTo>
                <a:lnTo>
                  <a:pt x="5872" y="17989"/>
                </a:lnTo>
                <a:lnTo>
                  <a:pt x="1025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9" descr=""/>
          <p:cNvPicPr/>
          <p:nvPr/>
        </p:nvPicPr>
        <p:blipFill>
          <a:blip r:embed="rId4"/>
          <a:stretch/>
        </p:blipFill>
        <p:spPr>
          <a:xfrm>
            <a:off x="8459640" y="-304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0" descr=""/>
          <p:cNvPicPr/>
          <p:nvPr/>
        </p:nvPicPr>
        <p:blipFill>
          <a:blip r:embed="rId5"/>
          <a:stretch/>
        </p:blipFill>
        <p:spPr>
          <a:xfrm>
            <a:off x="6443640" y="-304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1" descr=""/>
          <p:cNvPicPr/>
          <p:nvPr/>
        </p:nvPicPr>
        <p:blipFill>
          <a:blip r:embed="rId6"/>
          <a:stretch/>
        </p:blipFill>
        <p:spPr>
          <a:xfrm>
            <a:off x="7308720" y="-531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2" dur="5434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434"/>
                            </p:stCondLst>
                            <p:childTnLst>
                              <p:par>
                                <p:cTn id="3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5" dur="10867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314" dur="2000" fill="hold"/>
                                        <p:tgtEl>
                                          <p:spTgt spid="1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1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6" dur="397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brd_borders_0177"/>
          <p:cNvPicPr/>
          <p:nvPr/>
        </p:nvPicPr>
        <p:blipFill>
          <a:blip r:embed="rId1"/>
          <a:srcRect l="2441" t="14921" r="3740" b="2677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RABBIT1 G 1 1"/>
          <p:cNvPicPr/>
          <p:nvPr/>
        </p:nvPicPr>
        <p:blipFill>
          <a:blip r:embed="rId2"/>
          <a:stretch/>
        </p:blipFill>
        <p:spPr>
          <a:xfrm>
            <a:off x="3143160" y="2000160"/>
            <a:ext cx="3084480" cy="30844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RABBIT1 G 1"/>
          <p:cNvPicPr/>
          <p:nvPr/>
        </p:nvPicPr>
        <p:blipFill>
          <a:blip r:embed="rId3"/>
          <a:stretch/>
        </p:blipFill>
        <p:spPr>
          <a:xfrm>
            <a:off x="3059280" y="1916280"/>
            <a:ext cx="3157200" cy="3157200"/>
          </a:xfrm>
          <a:prstGeom prst="rect">
            <a:avLst/>
          </a:prstGeom>
          <a:ln w="0">
            <a:noFill/>
          </a:ln>
        </p:spPr>
      </p:pic>
      <p:sp>
        <p:nvSpPr>
          <p:cNvPr id="192" name="AutoShape 7">
            <a:hlinkClick r:id="" action="ppaction://hlinkshowjump?jump=nextslide"/>
          </p:cNvPr>
          <p:cNvSpPr/>
          <p:nvPr/>
        </p:nvSpPr>
        <p:spPr>
          <a:xfrm>
            <a:off x="8388360" y="6093000"/>
            <a:ext cx="755640" cy="76500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765000"/>
              <a:gd name="textAreaBottom" fmla="*/ 716040 h 765000"/>
            </a:gdLst>
            <a:ahLst/>
            <a:rect l="textAreaLeft" t="textAreaTop" r="textAreaRight" b="textAreaBottom"/>
            <a:pathLst>
              <a:path w="21600" h="21867">
                <a:moveTo>
                  <a:pt x="0" y="0"/>
                </a:moveTo>
                <a:lnTo>
                  <a:pt x="21600" y="0"/>
                </a:lnTo>
                <a:lnTo>
                  <a:pt x="21600" y="21867"/>
                </a:lnTo>
                <a:lnTo>
                  <a:pt x="0" y="21867"/>
                </a:lnTo>
                <a:close/>
              </a:path>
              <a:path fill="lightenLess" w="21600" h="2186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67">
                <a:moveTo>
                  <a:pt x="21600" y="0"/>
                </a:moveTo>
                <a:lnTo>
                  <a:pt x="21600" y="21867"/>
                </a:lnTo>
                <a:lnTo>
                  <a:pt x="20200" y="20467"/>
                </a:lnTo>
                <a:lnTo>
                  <a:pt x="20200" y="1400"/>
                </a:lnTo>
                <a:close/>
              </a:path>
              <a:path fill="darkenLess" w="21600" h="21867">
                <a:moveTo>
                  <a:pt x="21600" y="21867"/>
                </a:moveTo>
                <a:lnTo>
                  <a:pt x="0" y="21867"/>
                </a:lnTo>
                <a:lnTo>
                  <a:pt x="1400" y="20467"/>
                </a:lnTo>
                <a:lnTo>
                  <a:pt x="20200" y="20467"/>
                </a:lnTo>
                <a:close/>
              </a:path>
              <a:path fill="lighten" w="21600" h="21867">
                <a:moveTo>
                  <a:pt x="0" y="2186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67"/>
                </a:lnTo>
                <a:close/>
              </a:path>
              <a:path fill="darken" w="21600" h="21867">
                <a:moveTo>
                  <a:pt x="3794" y="3927"/>
                </a:moveTo>
                <a:lnTo>
                  <a:pt x="17806" y="10934"/>
                </a:lnTo>
                <a:lnTo>
                  <a:pt x="3794" y="1794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8">
            <a:hlinkClick r:id="" action="ppaction://hlinkshowjump?jump=firstslide"/>
          </p:cNvPr>
          <p:cNvSpPr/>
          <p:nvPr/>
        </p:nvSpPr>
        <p:spPr>
          <a:xfrm>
            <a:off x="7596360" y="6093000"/>
            <a:ext cx="792000" cy="765000"/>
          </a:xfrm>
          <a:custGeom>
            <a:avLst/>
            <a:gdLst>
              <a:gd name="textAreaLeft" fmla="*/ 49320 w 792000"/>
              <a:gd name="textAreaRight" fmla="*/ 742680 w 79200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2362" h="21600">
                <a:moveTo>
                  <a:pt x="0" y="0"/>
                </a:moveTo>
                <a:lnTo>
                  <a:pt x="22362" y="0"/>
                </a:lnTo>
                <a:lnTo>
                  <a:pt x="22362" y="21600"/>
                </a:lnTo>
                <a:lnTo>
                  <a:pt x="0" y="21600"/>
                </a:lnTo>
                <a:close/>
              </a:path>
              <a:path fill="lightenLess" w="22362" h="21600">
                <a:moveTo>
                  <a:pt x="0" y="0"/>
                </a:moveTo>
                <a:lnTo>
                  <a:pt x="22362" y="0"/>
                </a:lnTo>
                <a:lnTo>
                  <a:pt x="20962" y="1400"/>
                </a:lnTo>
                <a:lnTo>
                  <a:pt x="1400" y="1400"/>
                </a:lnTo>
                <a:close/>
              </a:path>
              <a:path fill="darken" w="22362" h="21600">
                <a:moveTo>
                  <a:pt x="22362" y="0"/>
                </a:moveTo>
                <a:lnTo>
                  <a:pt x="22362" y="21600"/>
                </a:lnTo>
                <a:lnTo>
                  <a:pt x="20962" y="20200"/>
                </a:lnTo>
                <a:lnTo>
                  <a:pt x="20962" y="1400"/>
                </a:lnTo>
                <a:close/>
              </a:path>
              <a:path fill="darkenLess" w="22362" h="21600">
                <a:moveTo>
                  <a:pt x="223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62" y="20200"/>
                </a:lnTo>
                <a:close/>
              </a:path>
              <a:path fill="lighten" w="223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62" h="21600">
                <a:moveTo>
                  <a:pt x="11181" y="3837"/>
                </a:moveTo>
                <a:lnTo>
                  <a:pt x="13757" y="6448"/>
                </a:lnTo>
                <a:lnTo>
                  <a:pt x="13757" y="4707"/>
                </a:lnTo>
                <a:lnTo>
                  <a:pt x="15533" y="4707"/>
                </a:lnTo>
                <a:lnTo>
                  <a:pt x="15533" y="8224"/>
                </a:lnTo>
                <a:lnTo>
                  <a:pt x="18144" y="10800"/>
                </a:lnTo>
                <a:lnTo>
                  <a:pt x="16490" y="10800"/>
                </a:lnTo>
                <a:lnTo>
                  <a:pt x="16490" y="17989"/>
                </a:lnTo>
                <a:lnTo>
                  <a:pt x="5872" y="17989"/>
                </a:lnTo>
                <a:lnTo>
                  <a:pt x="5872" y="10800"/>
                </a:lnTo>
                <a:lnTo>
                  <a:pt x="4218" y="10800"/>
                </a:lnTo>
                <a:close/>
              </a:path>
              <a:path fill="darkenLess" w="22362" h="21600">
                <a:moveTo>
                  <a:pt x="13757" y="6448"/>
                </a:moveTo>
                <a:lnTo>
                  <a:pt x="13757" y="4707"/>
                </a:lnTo>
                <a:lnTo>
                  <a:pt x="15533" y="4707"/>
                </a:lnTo>
                <a:lnTo>
                  <a:pt x="15533" y="8224"/>
                </a:lnTo>
                <a:close/>
              </a:path>
              <a:path fill="darkenLess" w="22362" h="21600">
                <a:moveTo>
                  <a:pt x="10258" y="14299"/>
                </a:moveTo>
                <a:lnTo>
                  <a:pt x="12104" y="14299"/>
                </a:lnTo>
                <a:lnTo>
                  <a:pt x="12104" y="17989"/>
                </a:lnTo>
                <a:lnTo>
                  <a:pt x="16490" y="17989"/>
                </a:lnTo>
                <a:lnTo>
                  <a:pt x="16490" y="10800"/>
                </a:lnTo>
                <a:lnTo>
                  <a:pt x="5872" y="10800"/>
                </a:lnTo>
                <a:lnTo>
                  <a:pt x="5872" y="17989"/>
                </a:lnTo>
                <a:lnTo>
                  <a:pt x="1025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9" descr=""/>
          <p:cNvPicPr/>
          <p:nvPr/>
        </p:nvPicPr>
        <p:blipFill>
          <a:blip r:embed="rId4"/>
          <a:stretch/>
        </p:blipFill>
        <p:spPr>
          <a:xfrm>
            <a:off x="8388360" y="-304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0" descr=""/>
          <p:cNvPicPr/>
          <p:nvPr/>
        </p:nvPicPr>
        <p:blipFill>
          <a:blip r:embed="rId5"/>
          <a:stretch/>
        </p:blipFill>
        <p:spPr>
          <a:xfrm>
            <a:off x="6732720" y="-3049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1" descr=""/>
          <p:cNvPicPr/>
          <p:nvPr/>
        </p:nvPicPr>
        <p:blipFill>
          <a:blip r:embed="rId6"/>
          <a:stretch/>
        </p:blipFill>
        <p:spPr>
          <a:xfrm>
            <a:off x="7380360" y="-3049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2" dur="4877" fill="hold"/>
                                        <p:tgtEl>
                                          <p:spTgt spid="1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4877"/>
                            </p:stCondLst>
                            <p:childTnLst>
                              <p:par>
                                <p:cTn id="3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5" dur="7106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334" dur="2000" fill="hold"/>
                                        <p:tgtEl>
                                          <p:spTgt spid="1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3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6" dur="3832" fill="hold"/>
                                        <p:tgtEl>
                                          <p:spTgt spid="1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brd_borders_0177"/>
          <p:cNvPicPr/>
          <p:nvPr/>
        </p:nvPicPr>
        <p:blipFill>
          <a:blip r:embed="rId1"/>
          <a:srcRect l="2441" t="14921" r="3740" b="2677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ANIM1802 G 1"/>
          <p:cNvPicPr/>
          <p:nvPr/>
        </p:nvPicPr>
        <p:blipFill>
          <a:blip r:embed="rId2"/>
          <a:stretch/>
        </p:blipFill>
        <p:spPr>
          <a:xfrm>
            <a:off x="3143160" y="2000160"/>
            <a:ext cx="3084480" cy="30844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ANIM1802 G"/>
          <p:cNvPicPr/>
          <p:nvPr/>
        </p:nvPicPr>
        <p:blipFill>
          <a:blip r:embed="rId3"/>
          <a:stretch/>
        </p:blipFill>
        <p:spPr>
          <a:xfrm>
            <a:off x="3059280" y="1916280"/>
            <a:ext cx="3241440" cy="324144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7">
            <a:hlinkClick r:id="" action="ppaction://hlinkshowjump?jump=nextslide"/>
          </p:cNvPr>
          <p:cNvSpPr/>
          <p:nvPr/>
        </p:nvSpPr>
        <p:spPr>
          <a:xfrm>
            <a:off x="8388360" y="6093000"/>
            <a:ext cx="755640" cy="76500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765000"/>
              <a:gd name="textAreaBottom" fmla="*/ 716040 h 765000"/>
            </a:gdLst>
            <a:ahLst/>
            <a:rect l="textAreaLeft" t="textAreaTop" r="textAreaRight" b="textAreaBottom"/>
            <a:pathLst>
              <a:path w="21600" h="21867">
                <a:moveTo>
                  <a:pt x="0" y="0"/>
                </a:moveTo>
                <a:lnTo>
                  <a:pt x="21600" y="0"/>
                </a:lnTo>
                <a:lnTo>
                  <a:pt x="21600" y="21867"/>
                </a:lnTo>
                <a:lnTo>
                  <a:pt x="0" y="21867"/>
                </a:lnTo>
                <a:close/>
              </a:path>
              <a:path fill="lightenLess" w="21600" h="2186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67">
                <a:moveTo>
                  <a:pt x="21600" y="0"/>
                </a:moveTo>
                <a:lnTo>
                  <a:pt x="21600" y="21867"/>
                </a:lnTo>
                <a:lnTo>
                  <a:pt x="20200" y="20467"/>
                </a:lnTo>
                <a:lnTo>
                  <a:pt x="20200" y="1400"/>
                </a:lnTo>
                <a:close/>
              </a:path>
              <a:path fill="darkenLess" w="21600" h="21867">
                <a:moveTo>
                  <a:pt x="21600" y="21867"/>
                </a:moveTo>
                <a:lnTo>
                  <a:pt x="0" y="21867"/>
                </a:lnTo>
                <a:lnTo>
                  <a:pt x="1400" y="20467"/>
                </a:lnTo>
                <a:lnTo>
                  <a:pt x="20200" y="20467"/>
                </a:lnTo>
                <a:close/>
              </a:path>
              <a:path fill="lighten" w="21600" h="21867">
                <a:moveTo>
                  <a:pt x="0" y="2186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67"/>
                </a:lnTo>
                <a:close/>
              </a:path>
              <a:path fill="darken" w="21600" h="21867">
                <a:moveTo>
                  <a:pt x="3794" y="3927"/>
                </a:moveTo>
                <a:lnTo>
                  <a:pt x="17806" y="10934"/>
                </a:lnTo>
                <a:lnTo>
                  <a:pt x="3794" y="1794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8">
            <a:hlinkClick r:id="" action="ppaction://hlinkshowjump?jump=firstslide"/>
          </p:cNvPr>
          <p:cNvSpPr/>
          <p:nvPr/>
        </p:nvSpPr>
        <p:spPr>
          <a:xfrm>
            <a:off x="7596360" y="6093000"/>
            <a:ext cx="792000" cy="765000"/>
          </a:xfrm>
          <a:custGeom>
            <a:avLst/>
            <a:gdLst>
              <a:gd name="textAreaLeft" fmla="*/ 49320 w 792000"/>
              <a:gd name="textAreaRight" fmla="*/ 742680 w 79200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2362" h="21600">
                <a:moveTo>
                  <a:pt x="0" y="0"/>
                </a:moveTo>
                <a:lnTo>
                  <a:pt x="22362" y="0"/>
                </a:lnTo>
                <a:lnTo>
                  <a:pt x="22362" y="21600"/>
                </a:lnTo>
                <a:lnTo>
                  <a:pt x="0" y="21600"/>
                </a:lnTo>
                <a:close/>
              </a:path>
              <a:path fill="lightenLess" w="22362" h="21600">
                <a:moveTo>
                  <a:pt x="0" y="0"/>
                </a:moveTo>
                <a:lnTo>
                  <a:pt x="22362" y="0"/>
                </a:lnTo>
                <a:lnTo>
                  <a:pt x="20962" y="1400"/>
                </a:lnTo>
                <a:lnTo>
                  <a:pt x="1400" y="1400"/>
                </a:lnTo>
                <a:close/>
              </a:path>
              <a:path fill="darken" w="22362" h="21600">
                <a:moveTo>
                  <a:pt x="22362" y="0"/>
                </a:moveTo>
                <a:lnTo>
                  <a:pt x="22362" y="21600"/>
                </a:lnTo>
                <a:lnTo>
                  <a:pt x="20962" y="20200"/>
                </a:lnTo>
                <a:lnTo>
                  <a:pt x="20962" y="1400"/>
                </a:lnTo>
                <a:close/>
              </a:path>
              <a:path fill="darkenLess" w="22362" h="21600">
                <a:moveTo>
                  <a:pt x="223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62" y="20200"/>
                </a:lnTo>
                <a:close/>
              </a:path>
              <a:path fill="lighten" w="223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62" h="21600">
                <a:moveTo>
                  <a:pt x="11181" y="3837"/>
                </a:moveTo>
                <a:lnTo>
                  <a:pt x="13757" y="6448"/>
                </a:lnTo>
                <a:lnTo>
                  <a:pt x="13757" y="4707"/>
                </a:lnTo>
                <a:lnTo>
                  <a:pt x="15533" y="4707"/>
                </a:lnTo>
                <a:lnTo>
                  <a:pt x="15533" y="8224"/>
                </a:lnTo>
                <a:lnTo>
                  <a:pt x="18144" y="10800"/>
                </a:lnTo>
                <a:lnTo>
                  <a:pt x="16490" y="10800"/>
                </a:lnTo>
                <a:lnTo>
                  <a:pt x="16490" y="17989"/>
                </a:lnTo>
                <a:lnTo>
                  <a:pt x="5872" y="17989"/>
                </a:lnTo>
                <a:lnTo>
                  <a:pt x="5872" y="10800"/>
                </a:lnTo>
                <a:lnTo>
                  <a:pt x="4218" y="10800"/>
                </a:lnTo>
                <a:close/>
              </a:path>
              <a:path fill="darkenLess" w="22362" h="21600">
                <a:moveTo>
                  <a:pt x="13757" y="6448"/>
                </a:moveTo>
                <a:lnTo>
                  <a:pt x="13757" y="4707"/>
                </a:lnTo>
                <a:lnTo>
                  <a:pt x="15533" y="4707"/>
                </a:lnTo>
                <a:lnTo>
                  <a:pt x="15533" y="8224"/>
                </a:lnTo>
                <a:close/>
              </a:path>
              <a:path fill="darkenLess" w="22362" h="21600">
                <a:moveTo>
                  <a:pt x="10258" y="14299"/>
                </a:moveTo>
                <a:lnTo>
                  <a:pt x="12104" y="14299"/>
                </a:lnTo>
                <a:lnTo>
                  <a:pt x="12104" y="17989"/>
                </a:lnTo>
                <a:lnTo>
                  <a:pt x="16490" y="17989"/>
                </a:lnTo>
                <a:lnTo>
                  <a:pt x="16490" y="10800"/>
                </a:lnTo>
                <a:lnTo>
                  <a:pt x="5872" y="10800"/>
                </a:lnTo>
                <a:lnTo>
                  <a:pt x="5872" y="17989"/>
                </a:lnTo>
                <a:lnTo>
                  <a:pt x="1025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9" descr=""/>
          <p:cNvPicPr/>
          <p:nvPr/>
        </p:nvPicPr>
        <p:blipFill>
          <a:blip r:embed="rId4"/>
          <a:stretch/>
        </p:blipFill>
        <p:spPr>
          <a:xfrm>
            <a:off x="8459640" y="-304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0" descr=""/>
          <p:cNvPicPr/>
          <p:nvPr/>
        </p:nvPicPr>
        <p:blipFill>
          <a:blip r:embed="rId5"/>
          <a:stretch/>
        </p:blipFill>
        <p:spPr>
          <a:xfrm>
            <a:off x="6877080" y="-304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1" descr=""/>
          <p:cNvPicPr/>
          <p:nvPr/>
        </p:nvPicPr>
        <p:blipFill>
          <a:blip r:embed="rId6"/>
          <a:stretch/>
        </p:blipFill>
        <p:spPr>
          <a:xfrm>
            <a:off x="7524720" y="-458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2" dur="5434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434"/>
                            </p:stCondLst>
                            <p:childTnLst>
                              <p:par>
                                <p:cTn id="3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5" dur="11982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354" dur="2000" fill="hold"/>
                                        <p:tgtEl>
                                          <p:spTgt spid="2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5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6" dur="3275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4" descr="brd_borders_0177"/>
          <p:cNvPicPr/>
          <p:nvPr/>
        </p:nvPicPr>
        <p:blipFill>
          <a:blip r:embed="rId1"/>
          <a:srcRect l="2441" t="14921" r="3740" b="2677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6 33"/>
          <p:cNvPicPr/>
          <p:nvPr/>
        </p:nvPicPr>
        <p:blipFill>
          <a:blip r:embed="rId2"/>
          <a:stretch/>
        </p:blipFill>
        <p:spPr>
          <a:xfrm>
            <a:off x="2843280" y="1773360"/>
            <a:ext cx="3589200" cy="35892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6"/>
          <p:cNvPicPr/>
          <p:nvPr/>
        </p:nvPicPr>
        <p:blipFill>
          <a:blip r:embed="rId3"/>
          <a:stretch/>
        </p:blipFill>
        <p:spPr>
          <a:xfrm>
            <a:off x="2843280" y="1773360"/>
            <a:ext cx="3600360" cy="3600360"/>
          </a:xfrm>
          <a:prstGeom prst="rect">
            <a:avLst/>
          </a:prstGeom>
          <a:ln w="0">
            <a:noFill/>
          </a:ln>
        </p:spPr>
      </p:pic>
      <p:sp>
        <p:nvSpPr>
          <p:cNvPr id="212" name="AutoShape 7">
            <a:hlinkClick r:id="" action="ppaction://hlinkshowjump?jump=nextslide"/>
          </p:cNvPr>
          <p:cNvSpPr/>
          <p:nvPr/>
        </p:nvSpPr>
        <p:spPr>
          <a:xfrm>
            <a:off x="8388360" y="6093000"/>
            <a:ext cx="755640" cy="76500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765000"/>
              <a:gd name="textAreaBottom" fmla="*/ 716040 h 765000"/>
            </a:gdLst>
            <a:ahLst/>
            <a:rect l="textAreaLeft" t="textAreaTop" r="textAreaRight" b="textAreaBottom"/>
            <a:pathLst>
              <a:path w="21600" h="21867">
                <a:moveTo>
                  <a:pt x="0" y="0"/>
                </a:moveTo>
                <a:lnTo>
                  <a:pt x="21600" y="0"/>
                </a:lnTo>
                <a:lnTo>
                  <a:pt x="21600" y="21867"/>
                </a:lnTo>
                <a:lnTo>
                  <a:pt x="0" y="21867"/>
                </a:lnTo>
                <a:close/>
              </a:path>
              <a:path fill="lightenLess" w="21600" h="2186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67">
                <a:moveTo>
                  <a:pt x="21600" y="0"/>
                </a:moveTo>
                <a:lnTo>
                  <a:pt x="21600" y="21867"/>
                </a:lnTo>
                <a:lnTo>
                  <a:pt x="20200" y="20467"/>
                </a:lnTo>
                <a:lnTo>
                  <a:pt x="20200" y="1400"/>
                </a:lnTo>
                <a:close/>
              </a:path>
              <a:path fill="darkenLess" w="21600" h="21867">
                <a:moveTo>
                  <a:pt x="21600" y="21867"/>
                </a:moveTo>
                <a:lnTo>
                  <a:pt x="0" y="21867"/>
                </a:lnTo>
                <a:lnTo>
                  <a:pt x="1400" y="20467"/>
                </a:lnTo>
                <a:lnTo>
                  <a:pt x="20200" y="20467"/>
                </a:lnTo>
                <a:close/>
              </a:path>
              <a:path fill="lighten" w="21600" h="21867">
                <a:moveTo>
                  <a:pt x="0" y="2186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67"/>
                </a:lnTo>
                <a:close/>
              </a:path>
              <a:path fill="darken" w="21600" h="21867">
                <a:moveTo>
                  <a:pt x="3794" y="3927"/>
                </a:moveTo>
                <a:lnTo>
                  <a:pt x="17806" y="10934"/>
                </a:lnTo>
                <a:lnTo>
                  <a:pt x="3794" y="1794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8">
            <a:hlinkClick r:id="" action="ppaction://hlinkshowjump?jump=firstslide"/>
          </p:cNvPr>
          <p:cNvSpPr/>
          <p:nvPr/>
        </p:nvSpPr>
        <p:spPr>
          <a:xfrm>
            <a:off x="7596360" y="6093000"/>
            <a:ext cx="792000" cy="765000"/>
          </a:xfrm>
          <a:custGeom>
            <a:avLst/>
            <a:gdLst>
              <a:gd name="textAreaLeft" fmla="*/ 49320 w 792000"/>
              <a:gd name="textAreaRight" fmla="*/ 742680 w 79200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2362" h="21600">
                <a:moveTo>
                  <a:pt x="0" y="0"/>
                </a:moveTo>
                <a:lnTo>
                  <a:pt x="22362" y="0"/>
                </a:lnTo>
                <a:lnTo>
                  <a:pt x="22362" y="21600"/>
                </a:lnTo>
                <a:lnTo>
                  <a:pt x="0" y="21600"/>
                </a:lnTo>
                <a:close/>
              </a:path>
              <a:path fill="lightenLess" w="22362" h="21600">
                <a:moveTo>
                  <a:pt x="0" y="0"/>
                </a:moveTo>
                <a:lnTo>
                  <a:pt x="22362" y="0"/>
                </a:lnTo>
                <a:lnTo>
                  <a:pt x="20962" y="1400"/>
                </a:lnTo>
                <a:lnTo>
                  <a:pt x="1400" y="1400"/>
                </a:lnTo>
                <a:close/>
              </a:path>
              <a:path fill="darken" w="22362" h="21600">
                <a:moveTo>
                  <a:pt x="22362" y="0"/>
                </a:moveTo>
                <a:lnTo>
                  <a:pt x="22362" y="21600"/>
                </a:lnTo>
                <a:lnTo>
                  <a:pt x="20962" y="20200"/>
                </a:lnTo>
                <a:lnTo>
                  <a:pt x="20962" y="1400"/>
                </a:lnTo>
                <a:close/>
              </a:path>
              <a:path fill="darkenLess" w="22362" h="21600">
                <a:moveTo>
                  <a:pt x="223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62" y="20200"/>
                </a:lnTo>
                <a:close/>
              </a:path>
              <a:path fill="lighten" w="223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62" h="21600">
                <a:moveTo>
                  <a:pt x="11181" y="3837"/>
                </a:moveTo>
                <a:lnTo>
                  <a:pt x="13757" y="6448"/>
                </a:lnTo>
                <a:lnTo>
                  <a:pt x="13757" y="4707"/>
                </a:lnTo>
                <a:lnTo>
                  <a:pt x="15533" y="4707"/>
                </a:lnTo>
                <a:lnTo>
                  <a:pt x="15533" y="8224"/>
                </a:lnTo>
                <a:lnTo>
                  <a:pt x="18144" y="10800"/>
                </a:lnTo>
                <a:lnTo>
                  <a:pt x="16490" y="10800"/>
                </a:lnTo>
                <a:lnTo>
                  <a:pt x="16490" y="17989"/>
                </a:lnTo>
                <a:lnTo>
                  <a:pt x="5872" y="17989"/>
                </a:lnTo>
                <a:lnTo>
                  <a:pt x="5872" y="10800"/>
                </a:lnTo>
                <a:lnTo>
                  <a:pt x="4218" y="10800"/>
                </a:lnTo>
                <a:close/>
              </a:path>
              <a:path fill="darkenLess" w="22362" h="21600">
                <a:moveTo>
                  <a:pt x="13757" y="6448"/>
                </a:moveTo>
                <a:lnTo>
                  <a:pt x="13757" y="4707"/>
                </a:lnTo>
                <a:lnTo>
                  <a:pt x="15533" y="4707"/>
                </a:lnTo>
                <a:lnTo>
                  <a:pt x="15533" y="8224"/>
                </a:lnTo>
                <a:close/>
              </a:path>
              <a:path fill="darkenLess" w="22362" h="21600">
                <a:moveTo>
                  <a:pt x="10258" y="14299"/>
                </a:moveTo>
                <a:lnTo>
                  <a:pt x="12104" y="14299"/>
                </a:lnTo>
                <a:lnTo>
                  <a:pt x="12104" y="17989"/>
                </a:lnTo>
                <a:lnTo>
                  <a:pt x="16490" y="17989"/>
                </a:lnTo>
                <a:lnTo>
                  <a:pt x="16490" y="10800"/>
                </a:lnTo>
                <a:lnTo>
                  <a:pt x="5872" y="10800"/>
                </a:lnTo>
                <a:lnTo>
                  <a:pt x="5872" y="17989"/>
                </a:lnTo>
                <a:lnTo>
                  <a:pt x="1025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9" descr=""/>
          <p:cNvPicPr/>
          <p:nvPr/>
        </p:nvPicPr>
        <p:blipFill>
          <a:blip r:embed="rId4"/>
          <a:stretch/>
        </p:blipFill>
        <p:spPr>
          <a:xfrm>
            <a:off x="8388360" y="-304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"/>
          <p:cNvPicPr/>
          <p:nvPr/>
        </p:nvPicPr>
        <p:blipFill>
          <a:blip r:embed="rId5"/>
          <a:stretch/>
        </p:blipFill>
        <p:spPr>
          <a:xfrm>
            <a:off x="6732720" y="-3049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1" descr=""/>
          <p:cNvPicPr/>
          <p:nvPr/>
        </p:nvPicPr>
        <p:blipFill>
          <a:blip r:embed="rId6"/>
          <a:stretch/>
        </p:blipFill>
        <p:spPr>
          <a:xfrm>
            <a:off x="730872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2" dur="4877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4877"/>
                            </p:stCondLst>
                            <p:childTnLst>
                              <p:par>
                                <p:cTn id="3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5" dur="12957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374" dur="2000" fill="hold"/>
                                        <p:tgtEl>
                                          <p:spTgt spid="2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7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6" dur="3623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brd_borders_0177"/>
          <p:cNvPicPr/>
          <p:nvPr/>
        </p:nvPicPr>
        <p:blipFill>
          <a:blip r:embed="rId1"/>
          <a:srcRect l="2441" t="14921" r="3740" b="2677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ANIM1561G 1"/>
          <p:cNvPicPr/>
          <p:nvPr/>
        </p:nvPicPr>
        <p:blipFill>
          <a:blip r:embed="rId2"/>
          <a:stretch/>
        </p:blipFill>
        <p:spPr>
          <a:xfrm>
            <a:off x="2771640" y="1989000"/>
            <a:ext cx="3672000" cy="3672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ANIM1561G"/>
          <p:cNvPicPr/>
          <p:nvPr/>
        </p:nvPicPr>
        <p:blipFill>
          <a:blip r:embed="rId3"/>
          <a:stretch/>
        </p:blipFill>
        <p:spPr>
          <a:xfrm>
            <a:off x="2771640" y="1989000"/>
            <a:ext cx="3673440" cy="367344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7">
            <a:hlinkClick r:id="" action="ppaction://hlinkshowjump?jump=nextslide"/>
          </p:cNvPr>
          <p:cNvSpPr/>
          <p:nvPr/>
        </p:nvSpPr>
        <p:spPr>
          <a:xfrm>
            <a:off x="8388360" y="6093000"/>
            <a:ext cx="755640" cy="76500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765000"/>
              <a:gd name="textAreaBottom" fmla="*/ 716040 h 765000"/>
            </a:gdLst>
            <a:ahLst/>
            <a:rect l="textAreaLeft" t="textAreaTop" r="textAreaRight" b="textAreaBottom"/>
            <a:pathLst>
              <a:path w="21600" h="21867">
                <a:moveTo>
                  <a:pt x="0" y="0"/>
                </a:moveTo>
                <a:lnTo>
                  <a:pt x="21600" y="0"/>
                </a:lnTo>
                <a:lnTo>
                  <a:pt x="21600" y="21867"/>
                </a:lnTo>
                <a:lnTo>
                  <a:pt x="0" y="21867"/>
                </a:lnTo>
                <a:close/>
              </a:path>
              <a:path fill="lightenLess" w="21600" h="2186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67">
                <a:moveTo>
                  <a:pt x="21600" y="0"/>
                </a:moveTo>
                <a:lnTo>
                  <a:pt x="21600" y="21867"/>
                </a:lnTo>
                <a:lnTo>
                  <a:pt x="20200" y="20467"/>
                </a:lnTo>
                <a:lnTo>
                  <a:pt x="20200" y="1400"/>
                </a:lnTo>
                <a:close/>
              </a:path>
              <a:path fill="darkenLess" w="21600" h="21867">
                <a:moveTo>
                  <a:pt x="21600" y="21867"/>
                </a:moveTo>
                <a:lnTo>
                  <a:pt x="0" y="21867"/>
                </a:lnTo>
                <a:lnTo>
                  <a:pt x="1400" y="20467"/>
                </a:lnTo>
                <a:lnTo>
                  <a:pt x="20200" y="20467"/>
                </a:lnTo>
                <a:close/>
              </a:path>
              <a:path fill="lighten" w="21600" h="21867">
                <a:moveTo>
                  <a:pt x="0" y="2186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67"/>
                </a:lnTo>
                <a:close/>
              </a:path>
              <a:path fill="darken" w="21600" h="21867">
                <a:moveTo>
                  <a:pt x="3794" y="3927"/>
                </a:moveTo>
                <a:lnTo>
                  <a:pt x="17806" y="10934"/>
                </a:lnTo>
                <a:lnTo>
                  <a:pt x="3794" y="1794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8">
            <a:hlinkClick r:id="" action="ppaction://hlinkshowjump?jump=firstslide"/>
          </p:cNvPr>
          <p:cNvSpPr/>
          <p:nvPr/>
        </p:nvSpPr>
        <p:spPr>
          <a:xfrm>
            <a:off x="7596360" y="6093000"/>
            <a:ext cx="792000" cy="765000"/>
          </a:xfrm>
          <a:custGeom>
            <a:avLst/>
            <a:gdLst>
              <a:gd name="textAreaLeft" fmla="*/ 49320 w 792000"/>
              <a:gd name="textAreaRight" fmla="*/ 742680 w 79200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2362" h="21600">
                <a:moveTo>
                  <a:pt x="0" y="0"/>
                </a:moveTo>
                <a:lnTo>
                  <a:pt x="22362" y="0"/>
                </a:lnTo>
                <a:lnTo>
                  <a:pt x="22362" y="21600"/>
                </a:lnTo>
                <a:lnTo>
                  <a:pt x="0" y="21600"/>
                </a:lnTo>
                <a:close/>
              </a:path>
              <a:path fill="lightenLess" w="22362" h="21600">
                <a:moveTo>
                  <a:pt x="0" y="0"/>
                </a:moveTo>
                <a:lnTo>
                  <a:pt x="22362" y="0"/>
                </a:lnTo>
                <a:lnTo>
                  <a:pt x="20962" y="1400"/>
                </a:lnTo>
                <a:lnTo>
                  <a:pt x="1400" y="1400"/>
                </a:lnTo>
                <a:close/>
              </a:path>
              <a:path fill="darken" w="22362" h="21600">
                <a:moveTo>
                  <a:pt x="22362" y="0"/>
                </a:moveTo>
                <a:lnTo>
                  <a:pt x="22362" y="21600"/>
                </a:lnTo>
                <a:lnTo>
                  <a:pt x="20962" y="20200"/>
                </a:lnTo>
                <a:lnTo>
                  <a:pt x="20962" y="1400"/>
                </a:lnTo>
                <a:close/>
              </a:path>
              <a:path fill="darkenLess" w="22362" h="21600">
                <a:moveTo>
                  <a:pt x="223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62" y="20200"/>
                </a:lnTo>
                <a:close/>
              </a:path>
              <a:path fill="lighten" w="223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62" h="21600">
                <a:moveTo>
                  <a:pt x="11181" y="3837"/>
                </a:moveTo>
                <a:lnTo>
                  <a:pt x="13757" y="6448"/>
                </a:lnTo>
                <a:lnTo>
                  <a:pt x="13757" y="4707"/>
                </a:lnTo>
                <a:lnTo>
                  <a:pt x="15533" y="4707"/>
                </a:lnTo>
                <a:lnTo>
                  <a:pt x="15533" y="8224"/>
                </a:lnTo>
                <a:lnTo>
                  <a:pt x="18144" y="10800"/>
                </a:lnTo>
                <a:lnTo>
                  <a:pt x="16490" y="10800"/>
                </a:lnTo>
                <a:lnTo>
                  <a:pt x="16490" y="17989"/>
                </a:lnTo>
                <a:lnTo>
                  <a:pt x="5872" y="17989"/>
                </a:lnTo>
                <a:lnTo>
                  <a:pt x="5872" y="10800"/>
                </a:lnTo>
                <a:lnTo>
                  <a:pt x="4218" y="10800"/>
                </a:lnTo>
                <a:close/>
              </a:path>
              <a:path fill="darkenLess" w="22362" h="21600">
                <a:moveTo>
                  <a:pt x="13757" y="6448"/>
                </a:moveTo>
                <a:lnTo>
                  <a:pt x="13757" y="4707"/>
                </a:lnTo>
                <a:lnTo>
                  <a:pt x="15533" y="4707"/>
                </a:lnTo>
                <a:lnTo>
                  <a:pt x="15533" y="8224"/>
                </a:lnTo>
                <a:close/>
              </a:path>
              <a:path fill="darkenLess" w="22362" h="21600">
                <a:moveTo>
                  <a:pt x="10258" y="14299"/>
                </a:moveTo>
                <a:lnTo>
                  <a:pt x="12104" y="14299"/>
                </a:lnTo>
                <a:lnTo>
                  <a:pt x="12104" y="17989"/>
                </a:lnTo>
                <a:lnTo>
                  <a:pt x="16490" y="17989"/>
                </a:lnTo>
                <a:lnTo>
                  <a:pt x="16490" y="10800"/>
                </a:lnTo>
                <a:lnTo>
                  <a:pt x="5872" y="10800"/>
                </a:lnTo>
                <a:lnTo>
                  <a:pt x="5872" y="17989"/>
                </a:lnTo>
                <a:lnTo>
                  <a:pt x="1025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9" descr=""/>
          <p:cNvPicPr/>
          <p:nvPr/>
        </p:nvPicPr>
        <p:blipFill>
          <a:blip r:embed="rId4"/>
          <a:stretch/>
        </p:blipFill>
        <p:spPr>
          <a:xfrm>
            <a:off x="8459640" y="-304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0" descr=""/>
          <p:cNvPicPr/>
          <p:nvPr/>
        </p:nvPicPr>
        <p:blipFill>
          <a:blip r:embed="rId5"/>
          <a:stretch/>
        </p:blipFill>
        <p:spPr>
          <a:xfrm>
            <a:off x="6804000" y="-304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1" descr=""/>
          <p:cNvPicPr/>
          <p:nvPr/>
        </p:nvPicPr>
        <p:blipFill>
          <a:blip r:embed="rId6"/>
          <a:stretch/>
        </p:blipFill>
        <p:spPr>
          <a:xfrm>
            <a:off x="745164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2" dur="5434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434"/>
                            </p:stCondLst>
                            <p:childTnLst>
                              <p:par>
                                <p:cTn id="3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5" dur="12539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394" dur="2000" fill="hold"/>
                                        <p:tgtEl>
                                          <p:spTgt spid="2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9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6" dur="4250" fill="hold"/>
                                        <p:tgtEl>
                                          <p:spTgt spid="2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brd_borders_0177"/>
          <p:cNvPicPr/>
          <p:nvPr/>
        </p:nvPicPr>
        <p:blipFill>
          <a:blip r:embed="rId1"/>
          <a:srcRect l="2441" t="14921" r="3740" b="2677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ANIM1157 G"/>
          <p:cNvPicPr/>
          <p:nvPr/>
        </p:nvPicPr>
        <p:blipFill>
          <a:blip r:embed="rId2"/>
          <a:stretch/>
        </p:blipFill>
        <p:spPr>
          <a:xfrm>
            <a:off x="0" y="1125360"/>
            <a:ext cx="4643280" cy="4643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ANIM1373 G"/>
          <p:cNvPicPr/>
          <p:nvPr/>
        </p:nvPicPr>
        <p:blipFill>
          <a:blip r:embed="rId3"/>
          <a:stretch/>
        </p:blipFill>
        <p:spPr>
          <a:xfrm>
            <a:off x="6588000" y="299736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"/>
          <p:cNvPicPr/>
          <p:nvPr/>
        </p:nvPicPr>
        <p:blipFill>
          <a:blip r:embed="rId4"/>
          <a:stretch/>
        </p:blipFill>
        <p:spPr>
          <a:xfrm>
            <a:off x="8604360" y="-3049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"/>
          <p:cNvPicPr/>
          <p:nvPr/>
        </p:nvPicPr>
        <p:blipFill>
          <a:blip r:embed="rId5"/>
          <a:stretch/>
        </p:blipFill>
        <p:spPr>
          <a:xfrm>
            <a:off x="7524720" y="-304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"/>
          <p:cNvPicPr/>
          <p:nvPr/>
        </p:nvPicPr>
        <p:blipFill>
          <a:blip r:embed="rId6"/>
          <a:stretch/>
        </p:blipFill>
        <p:spPr>
          <a:xfrm>
            <a:off x="6732720" y="-3049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13">
            <a:hlinkClick r:id="" action="ppaction://hlinkshowjump?jump=nextslide"/>
          </p:cNvPr>
          <p:cNvSpPr/>
          <p:nvPr/>
        </p:nvSpPr>
        <p:spPr>
          <a:xfrm>
            <a:off x="8388360" y="6093000"/>
            <a:ext cx="755640" cy="76500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765000"/>
              <a:gd name="textAreaBottom" fmla="*/ 716040 h 765000"/>
            </a:gdLst>
            <a:ahLst/>
            <a:rect l="textAreaLeft" t="textAreaTop" r="textAreaRight" b="textAreaBottom"/>
            <a:pathLst>
              <a:path w="21600" h="21867">
                <a:moveTo>
                  <a:pt x="0" y="0"/>
                </a:moveTo>
                <a:lnTo>
                  <a:pt x="21600" y="0"/>
                </a:lnTo>
                <a:lnTo>
                  <a:pt x="21600" y="21867"/>
                </a:lnTo>
                <a:lnTo>
                  <a:pt x="0" y="21867"/>
                </a:lnTo>
                <a:close/>
              </a:path>
              <a:path fill="lightenLess" w="21600" h="2186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67">
                <a:moveTo>
                  <a:pt x="21600" y="0"/>
                </a:moveTo>
                <a:lnTo>
                  <a:pt x="21600" y="21867"/>
                </a:lnTo>
                <a:lnTo>
                  <a:pt x="20200" y="20467"/>
                </a:lnTo>
                <a:lnTo>
                  <a:pt x="20200" y="1400"/>
                </a:lnTo>
                <a:close/>
              </a:path>
              <a:path fill="darkenLess" w="21600" h="21867">
                <a:moveTo>
                  <a:pt x="21600" y="21867"/>
                </a:moveTo>
                <a:lnTo>
                  <a:pt x="0" y="21867"/>
                </a:lnTo>
                <a:lnTo>
                  <a:pt x="1400" y="20467"/>
                </a:lnTo>
                <a:lnTo>
                  <a:pt x="20200" y="20467"/>
                </a:lnTo>
                <a:close/>
              </a:path>
              <a:path fill="lighten" w="21600" h="21867">
                <a:moveTo>
                  <a:pt x="0" y="2186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67"/>
                </a:lnTo>
                <a:close/>
              </a:path>
              <a:path fill="darken" w="21600" h="21867">
                <a:moveTo>
                  <a:pt x="3794" y="3927"/>
                </a:moveTo>
                <a:lnTo>
                  <a:pt x="17806" y="10934"/>
                </a:lnTo>
                <a:lnTo>
                  <a:pt x="3794" y="1794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4">
            <a:hlinkClick r:id="" action="ppaction://hlinkshowjump?jump=firstslide"/>
          </p:cNvPr>
          <p:cNvSpPr/>
          <p:nvPr/>
        </p:nvSpPr>
        <p:spPr>
          <a:xfrm>
            <a:off x="7596360" y="6093000"/>
            <a:ext cx="792000" cy="765000"/>
          </a:xfrm>
          <a:custGeom>
            <a:avLst/>
            <a:gdLst>
              <a:gd name="textAreaLeft" fmla="*/ 49320 w 792000"/>
              <a:gd name="textAreaRight" fmla="*/ 742680 w 79200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2362" h="21600">
                <a:moveTo>
                  <a:pt x="0" y="0"/>
                </a:moveTo>
                <a:lnTo>
                  <a:pt x="22362" y="0"/>
                </a:lnTo>
                <a:lnTo>
                  <a:pt x="22362" y="21600"/>
                </a:lnTo>
                <a:lnTo>
                  <a:pt x="0" y="21600"/>
                </a:lnTo>
                <a:close/>
              </a:path>
              <a:path fill="lightenLess" w="22362" h="21600">
                <a:moveTo>
                  <a:pt x="0" y="0"/>
                </a:moveTo>
                <a:lnTo>
                  <a:pt x="22362" y="0"/>
                </a:lnTo>
                <a:lnTo>
                  <a:pt x="20962" y="1400"/>
                </a:lnTo>
                <a:lnTo>
                  <a:pt x="1400" y="1400"/>
                </a:lnTo>
                <a:close/>
              </a:path>
              <a:path fill="darken" w="22362" h="21600">
                <a:moveTo>
                  <a:pt x="22362" y="0"/>
                </a:moveTo>
                <a:lnTo>
                  <a:pt x="22362" y="21600"/>
                </a:lnTo>
                <a:lnTo>
                  <a:pt x="20962" y="20200"/>
                </a:lnTo>
                <a:lnTo>
                  <a:pt x="20962" y="1400"/>
                </a:lnTo>
                <a:close/>
              </a:path>
              <a:path fill="darkenLess" w="22362" h="21600">
                <a:moveTo>
                  <a:pt x="223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62" y="20200"/>
                </a:lnTo>
                <a:close/>
              </a:path>
              <a:path fill="lighten" w="223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62" h="21600">
                <a:moveTo>
                  <a:pt x="11181" y="3837"/>
                </a:moveTo>
                <a:lnTo>
                  <a:pt x="13757" y="6448"/>
                </a:lnTo>
                <a:lnTo>
                  <a:pt x="13757" y="4707"/>
                </a:lnTo>
                <a:lnTo>
                  <a:pt x="15533" y="4707"/>
                </a:lnTo>
                <a:lnTo>
                  <a:pt x="15533" y="8224"/>
                </a:lnTo>
                <a:lnTo>
                  <a:pt x="18144" y="10800"/>
                </a:lnTo>
                <a:lnTo>
                  <a:pt x="16490" y="10800"/>
                </a:lnTo>
                <a:lnTo>
                  <a:pt x="16490" y="17989"/>
                </a:lnTo>
                <a:lnTo>
                  <a:pt x="5872" y="17989"/>
                </a:lnTo>
                <a:lnTo>
                  <a:pt x="5872" y="10800"/>
                </a:lnTo>
                <a:lnTo>
                  <a:pt x="4218" y="10800"/>
                </a:lnTo>
                <a:close/>
              </a:path>
              <a:path fill="darkenLess" w="22362" h="21600">
                <a:moveTo>
                  <a:pt x="13757" y="6448"/>
                </a:moveTo>
                <a:lnTo>
                  <a:pt x="13757" y="4707"/>
                </a:lnTo>
                <a:lnTo>
                  <a:pt x="15533" y="4707"/>
                </a:lnTo>
                <a:lnTo>
                  <a:pt x="15533" y="8224"/>
                </a:lnTo>
                <a:close/>
              </a:path>
              <a:path fill="darkenLess" w="22362" h="21600">
                <a:moveTo>
                  <a:pt x="10258" y="14299"/>
                </a:moveTo>
                <a:lnTo>
                  <a:pt x="12104" y="14299"/>
                </a:lnTo>
                <a:lnTo>
                  <a:pt x="12104" y="17989"/>
                </a:lnTo>
                <a:lnTo>
                  <a:pt x="16490" y="17989"/>
                </a:lnTo>
                <a:lnTo>
                  <a:pt x="16490" y="10800"/>
                </a:lnTo>
                <a:lnTo>
                  <a:pt x="5872" y="10800"/>
                </a:lnTo>
                <a:lnTo>
                  <a:pt x="5872" y="17989"/>
                </a:lnTo>
                <a:lnTo>
                  <a:pt x="1025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135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4250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7037E-006 L -0.23229 -0.00509 E">
                                      <p:cBhvr>
                                        <p:cTn id="38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4389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brd_borders_0177"/>
          <p:cNvPicPr/>
          <p:nvPr/>
        </p:nvPicPr>
        <p:blipFill>
          <a:blip r:embed="rId1"/>
          <a:srcRect l="2441" t="14921" r="3740" b="2677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WordArt 5"/>
          <p:cNvSpPr txBox="1"/>
          <p:nvPr/>
        </p:nvSpPr>
        <p:spPr>
          <a:xfrm>
            <a:off x="971640" y="907920"/>
            <a:ext cx="727236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ОЛОДЦЫ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826920" y="5373720"/>
            <a:ext cx="7417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 Black"/>
              </a:rPr>
              <a:t>Презентация изготовлена Волковой И.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 Black"/>
              </a:rPr>
              <a:t>Для сайта </a:t>
            </a:r>
            <a:r>
              <a:rPr b="1" lang="en-US" sz="1800" spc="-1" strike="noStrike">
                <a:solidFill>
                  <a:srgbClr val="ff6600"/>
                </a:solidFill>
                <a:latin typeface="Arial Black"/>
              </a:rPr>
              <a:t>www.volchki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7" descr="AG00373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84720" y="3284640"/>
            <a:ext cx="172908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0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brd_borders_0177"/>
          <p:cNvPicPr/>
          <p:nvPr/>
        </p:nvPicPr>
        <p:blipFill>
          <a:blip r:embed="rId1"/>
          <a:srcRect l="2441" t="14921" r="3740" b="2677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TOYCAT G 1"/>
          <p:cNvPicPr/>
          <p:nvPr/>
        </p:nvPicPr>
        <p:blipFill>
          <a:blip r:embed="rId2"/>
          <a:stretch/>
        </p:blipFill>
        <p:spPr>
          <a:xfrm>
            <a:off x="0" y="1422360"/>
            <a:ext cx="5435640" cy="5435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ANIM800 G 4"/>
          <p:cNvPicPr/>
          <p:nvPr/>
        </p:nvPicPr>
        <p:blipFill>
          <a:blip r:embed="rId3"/>
          <a:stretch/>
        </p:blipFill>
        <p:spPr>
          <a:xfrm>
            <a:off x="7067520" y="3213000"/>
            <a:ext cx="2076480" cy="2076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"/>
          <p:cNvPicPr/>
          <p:nvPr/>
        </p:nvPicPr>
        <p:blipFill>
          <a:blip r:embed="rId4"/>
          <a:stretch/>
        </p:blipFill>
        <p:spPr>
          <a:xfrm>
            <a:off x="7380360" y="-3049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"/>
          <p:cNvPicPr/>
          <p:nvPr/>
        </p:nvPicPr>
        <p:blipFill>
          <a:blip r:embed="rId5"/>
          <a:stretch/>
        </p:blipFill>
        <p:spPr>
          <a:xfrm>
            <a:off x="6372360" y="-3049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10">
            <a:hlinkClick r:id="" action="ppaction://hlinkshowjump?jump=nextslide"/>
          </p:cNvPr>
          <p:cNvSpPr/>
          <p:nvPr/>
        </p:nvSpPr>
        <p:spPr>
          <a:xfrm>
            <a:off x="8388360" y="6093000"/>
            <a:ext cx="755640" cy="76500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765000"/>
              <a:gd name="textAreaBottom" fmla="*/ 716040 h 765000"/>
            </a:gdLst>
            <a:ahLst/>
            <a:rect l="textAreaLeft" t="textAreaTop" r="textAreaRight" b="textAreaBottom"/>
            <a:pathLst>
              <a:path w="21600" h="21867">
                <a:moveTo>
                  <a:pt x="0" y="0"/>
                </a:moveTo>
                <a:lnTo>
                  <a:pt x="21600" y="0"/>
                </a:lnTo>
                <a:lnTo>
                  <a:pt x="21600" y="21867"/>
                </a:lnTo>
                <a:lnTo>
                  <a:pt x="0" y="21867"/>
                </a:lnTo>
                <a:close/>
              </a:path>
              <a:path fill="lightenLess" w="21600" h="2186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67">
                <a:moveTo>
                  <a:pt x="21600" y="0"/>
                </a:moveTo>
                <a:lnTo>
                  <a:pt x="21600" y="21867"/>
                </a:lnTo>
                <a:lnTo>
                  <a:pt x="20200" y="20467"/>
                </a:lnTo>
                <a:lnTo>
                  <a:pt x="20200" y="1400"/>
                </a:lnTo>
                <a:close/>
              </a:path>
              <a:path fill="darkenLess" w="21600" h="21867">
                <a:moveTo>
                  <a:pt x="21600" y="21867"/>
                </a:moveTo>
                <a:lnTo>
                  <a:pt x="0" y="21867"/>
                </a:lnTo>
                <a:lnTo>
                  <a:pt x="1400" y="20467"/>
                </a:lnTo>
                <a:lnTo>
                  <a:pt x="20200" y="20467"/>
                </a:lnTo>
                <a:close/>
              </a:path>
              <a:path fill="lighten" w="21600" h="21867">
                <a:moveTo>
                  <a:pt x="0" y="2186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67"/>
                </a:lnTo>
                <a:close/>
              </a:path>
              <a:path fill="darken" w="21600" h="21867">
                <a:moveTo>
                  <a:pt x="3794" y="3927"/>
                </a:moveTo>
                <a:lnTo>
                  <a:pt x="17806" y="10934"/>
                </a:lnTo>
                <a:lnTo>
                  <a:pt x="3794" y="1794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1">
            <a:hlinkClick r:id="" action="ppaction://hlinkshowjump?jump=firstslide"/>
          </p:cNvPr>
          <p:cNvSpPr/>
          <p:nvPr/>
        </p:nvSpPr>
        <p:spPr>
          <a:xfrm>
            <a:off x="7596360" y="6093000"/>
            <a:ext cx="792000" cy="765000"/>
          </a:xfrm>
          <a:custGeom>
            <a:avLst/>
            <a:gdLst>
              <a:gd name="textAreaLeft" fmla="*/ 49320 w 792000"/>
              <a:gd name="textAreaRight" fmla="*/ 742680 w 79200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2362" h="21600">
                <a:moveTo>
                  <a:pt x="0" y="0"/>
                </a:moveTo>
                <a:lnTo>
                  <a:pt x="22362" y="0"/>
                </a:lnTo>
                <a:lnTo>
                  <a:pt x="22362" y="21600"/>
                </a:lnTo>
                <a:lnTo>
                  <a:pt x="0" y="21600"/>
                </a:lnTo>
                <a:close/>
              </a:path>
              <a:path fill="lightenLess" w="22362" h="21600">
                <a:moveTo>
                  <a:pt x="0" y="0"/>
                </a:moveTo>
                <a:lnTo>
                  <a:pt x="22362" y="0"/>
                </a:lnTo>
                <a:lnTo>
                  <a:pt x="20962" y="1400"/>
                </a:lnTo>
                <a:lnTo>
                  <a:pt x="1400" y="1400"/>
                </a:lnTo>
                <a:close/>
              </a:path>
              <a:path fill="darken" w="22362" h="21600">
                <a:moveTo>
                  <a:pt x="22362" y="0"/>
                </a:moveTo>
                <a:lnTo>
                  <a:pt x="22362" y="21600"/>
                </a:lnTo>
                <a:lnTo>
                  <a:pt x="20962" y="20200"/>
                </a:lnTo>
                <a:lnTo>
                  <a:pt x="20962" y="1400"/>
                </a:lnTo>
                <a:close/>
              </a:path>
              <a:path fill="darkenLess" w="22362" h="21600">
                <a:moveTo>
                  <a:pt x="223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62" y="20200"/>
                </a:lnTo>
                <a:close/>
              </a:path>
              <a:path fill="lighten" w="223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62" h="21600">
                <a:moveTo>
                  <a:pt x="11181" y="3837"/>
                </a:moveTo>
                <a:lnTo>
                  <a:pt x="13757" y="6448"/>
                </a:lnTo>
                <a:lnTo>
                  <a:pt x="13757" y="4707"/>
                </a:lnTo>
                <a:lnTo>
                  <a:pt x="15533" y="4707"/>
                </a:lnTo>
                <a:lnTo>
                  <a:pt x="15533" y="8224"/>
                </a:lnTo>
                <a:lnTo>
                  <a:pt x="18144" y="10800"/>
                </a:lnTo>
                <a:lnTo>
                  <a:pt x="16490" y="10800"/>
                </a:lnTo>
                <a:lnTo>
                  <a:pt x="16490" y="17989"/>
                </a:lnTo>
                <a:lnTo>
                  <a:pt x="5872" y="17989"/>
                </a:lnTo>
                <a:lnTo>
                  <a:pt x="5872" y="10800"/>
                </a:lnTo>
                <a:lnTo>
                  <a:pt x="4218" y="10800"/>
                </a:lnTo>
                <a:close/>
              </a:path>
              <a:path fill="darkenLess" w="22362" h="21600">
                <a:moveTo>
                  <a:pt x="13757" y="6448"/>
                </a:moveTo>
                <a:lnTo>
                  <a:pt x="13757" y="4707"/>
                </a:lnTo>
                <a:lnTo>
                  <a:pt x="15533" y="4707"/>
                </a:lnTo>
                <a:lnTo>
                  <a:pt x="15533" y="8224"/>
                </a:lnTo>
                <a:close/>
              </a:path>
              <a:path fill="darkenLess" w="22362" h="21600">
                <a:moveTo>
                  <a:pt x="10258" y="14299"/>
                </a:moveTo>
                <a:lnTo>
                  <a:pt x="12104" y="14299"/>
                </a:lnTo>
                <a:lnTo>
                  <a:pt x="12104" y="17989"/>
                </a:lnTo>
                <a:lnTo>
                  <a:pt x="16490" y="17989"/>
                </a:lnTo>
                <a:lnTo>
                  <a:pt x="16490" y="10800"/>
                </a:lnTo>
                <a:lnTo>
                  <a:pt x="5872" y="10800"/>
                </a:lnTo>
                <a:lnTo>
                  <a:pt x="5872" y="17989"/>
                </a:lnTo>
                <a:lnTo>
                  <a:pt x="1025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2" descr=""/>
          <p:cNvPicPr/>
          <p:nvPr/>
        </p:nvPicPr>
        <p:blipFill>
          <a:blip r:embed="rId6"/>
          <a:stretch/>
        </p:blipFill>
        <p:spPr>
          <a:xfrm>
            <a:off x="838836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3205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404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4.07407E-006 L -0.21597 0.00601 E">
                                      <p:cBhvr>
                                        <p:cTn id="60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3205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brd_borders_0177"/>
          <p:cNvPicPr/>
          <p:nvPr/>
        </p:nvPicPr>
        <p:blipFill>
          <a:blip r:embed="rId1"/>
          <a:srcRect l="2441" t="14921" r="3740" b="2677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11"/>
          <p:cNvPicPr/>
          <p:nvPr/>
        </p:nvPicPr>
        <p:blipFill>
          <a:blip r:embed="rId2"/>
          <a:stretch/>
        </p:blipFill>
        <p:spPr>
          <a:xfrm>
            <a:off x="-324000" y="808200"/>
            <a:ext cx="6050160" cy="6049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RABBIT1 G 1"/>
          <p:cNvPicPr/>
          <p:nvPr/>
        </p:nvPicPr>
        <p:blipFill>
          <a:blip r:embed="rId3"/>
          <a:stretch/>
        </p:blipFill>
        <p:spPr>
          <a:xfrm>
            <a:off x="7005600" y="3141720"/>
            <a:ext cx="2138400" cy="2138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4"/>
          <a:stretch/>
        </p:blipFill>
        <p:spPr>
          <a:xfrm>
            <a:off x="8604360" y="-3049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"/>
          <p:cNvPicPr/>
          <p:nvPr/>
        </p:nvPicPr>
        <p:blipFill>
          <a:blip r:embed="rId5"/>
          <a:stretch/>
        </p:blipFill>
        <p:spPr>
          <a:xfrm>
            <a:off x="7740720" y="-3049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"/>
          <p:cNvPicPr/>
          <p:nvPr/>
        </p:nvPicPr>
        <p:blipFill>
          <a:blip r:embed="rId6"/>
          <a:stretch/>
        </p:blipFill>
        <p:spPr>
          <a:xfrm>
            <a:off x="6732720" y="-3049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10">
            <a:hlinkClick r:id="" action="ppaction://hlinkshowjump?jump=nextslide"/>
          </p:cNvPr>
          <p:cNvSpPr/>
          <p:nvPr/>
        </p:nvSpPr>
        <p:spPr>
          <a:xfrm>
            <a:off x="8388360" y="6093000"/>
            <a:ext cx="755640" cy="76500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765000"/>
              <a:gd name="textAreaBottom" fmla="*/ 716040 h 765000"/>
            </a:gdLst>
            <a:ahLst/>
            <a:rect l="textAreaLeft" t="textAreaTop" r="textAreaRight" b="textAreaBottom"/>
            <a:pathLst>
              <a:path w="21600" h="21867">
                <a:moveTo>
                  <a:pt x="0" y="0"/>
                </a:moveTo>
                <a:lnTo>
                  <a:pt x="21600" y="0"/>
                </a:lnTo>
                <a:lnTo>
                  <a:pt x="21600" y="21867"/>
                </a:lnTo>
                <a:lnTo>
                  <a:pt x="0" y="21867"/>
                </a:lnTo>
                <a:close/>
              </a:path>
              <a:path fill="lightenLess" w="21600" h="2186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67">
                <a:moveTo>
                  <a:pt x="21600" y="0"/>
                </a:moveTo>
                <a:lnTo>
                  <a:pt x="21600" y="21867"/>
                </a:lnTo>
                <a:lnTo>
                  <a:pt x="20200" y="20467"/>
                </a:lnTo>
                <a:lnTo>
                  <a:pt x="20200" y="1400"/>
                </a:lnTo>
                <a:close/>
              </a:path>
              <a:path fill="darkenLess" w="21600" h="21867">
                <a:moveTo>
                  <a:pt x="21600" y="21867"/>
                </a:moveTo>
                <a:lnTo>
                  <a:pt x="0" y="21867"/>
                </a:lnTo>
                <a:lnTo>
                  <a:pt x="1400" y="20467"/>
                </a:lnTo>
                <a:lnTo>
                  <a:pt x="20200" y="20467"/>
                </a:lnTo>
                <a:close/>
              </a:path>
              <a:path fill="lighten" w="21600" h="21867">
                <a:moveTo>
                  <a:pt x="0" y="2186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67"/>
                </a:lnTo>
                <a:close/>
              </a:path>
              <a:path fill="darken" w="21600" h="21867">
                <a:moveTo>
                  <a:pt x="3794" y="3927"/>
                </a:moveTo>
                <a:lnTo>
                  <a:pt x="17806" y="10934"/>
                </a:lnTo>
                <a:lnTo>
                  <a:pt x="3794" y="1794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1">
            <a:hlinkClick r:id="" action="ppaction://hlinkshowjump?jump=firstslide"/>
          </p:cNvPr>
          <p:cNvSpPr/>
          <p:nvPr/>
        </p:nvSpPr>
        <p:spPr>
          <a:xfrm>
            <a:off x="7596360" y="6093000"/>
            <a:ext cx="792000" cy="765000"/>
          </a:xfrm>
          <a:custGeom>
            <a:avLst/>
            <a:gdLst>
              <a:gd name="textAreaLeft" fmla="*/ 49320 w 792000"/>
              <a:gd name="textAreaRight" fmla="*/ 742680 w 79200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2362" h="21600">
                <a:moveTo>
                  <a:pt x="0" y="0"/>
                </a:moveTo>
                <a:lnTo>
                  <a:pt x="22362" y="0"/>
                </a:lnTo>
                <a:lnTo>
                  <a:pt x="22362" y="21600"/>
                </a:lnTo>
                <a:lnTo>
                  <a:pt x="0" y="21600"/>
                </a:lnTo>
                <a:close/>
              </a:path>
              <a:path fill="lightenLess" w="22362" h="21600">
                <a:moveTo>
                  <a:pt x="0" y="0"/>
                </a:moveTo>
                <a:lnTo>
                  <a:pt x="22362" y="0"/>
                </a:lnTo>
                <a:lnTo>
                  <a:pt x="20962" y="1400"/>
                </a:lnTo>
                <a:lnTo>
                  <a:pt x="1400" y="1400"/>
                </a:lnTo>
                <a:close/>
              </a:path>
              <a:path fill="darken" w="22362" h="21600">
                <a:moveTo>
                  <a:pt x="22362" y="0"/>
                </a:moveTo>
                <a:lnTo>
                  <a:pt x="22362" y="21600"/>
                </a:lnTo>
                <a:lnTo>
                  <a:pt x="20962" y="20200"/>
                </a:lnTo>
                <a:lnTo>
                  <a:pt x="20962" y="1400"/>
                </a:lnTo>
                <a:close/>
              </a:path>
              <a:path fill="darkenLess" w="22362" h="21600">
                <a:moveTo>
                  <a:pt x="223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62" y="20200"/>
                </a:lnTo>
                <a:close/>
              </a:path>
              <a:path fill="lighten" w="223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62" h="21600">
                <a:moveTo>
                  <a:pt x="11181" y="3837"/>
                </a:moveTo>
                <a:lnTo>
                  <a:pt x="13757" y="6448"/>
                </a:lnTo>
                <a:lnTo>
                  <a:pt x="13757" y="4707"/>
                </a:lnTo>
                <a:lnTo>
                  <a:pt x="15533" y="4707"/>
                </a:lnTo>
                <a:lnTo>
                  <a:pt x="15533" y="8224"/>
                </a:lnTo>
                <a:lnTo>
                  <a:pt x="18144" y="10800"/>
                </a:lnTo>
                <a:lnTo>
                  <a:pt x="16490" y="10800"/>
                </a:lnTo>
                <a:lnTo>
                  <a:pt x="16490" y="17989"/>
                </a:lnTo>
                <a:lnTo>
                  <a:pt x="5872" y="17989"/>
                </a:lnTo>
                <a:lnTo>
                  <a:pt x="5872" y="10800"/>
                </a:lnTo>
                <a:lnTo>
                  <a:pt x="4218" y="10800"/>
                </a:lnTo>
                <a:close/>
              </a:path>
              <a:path fill="darkenLess" w="22362" h="21600">
                <a:moveTo>
                  <a:pt x="13757" y="6448"/>
                </a:moveTo>
                <a:lnTo>
                  <a:pt x="13757" y="4707"/>
                </a:lnTo>
                <a:lnTo>
                  <a:pt x="15533" y="4707"/>
                </a:lnTo>
                <a:lnTo>
                  <a:pt x="15533" y="8224"/>
                </a:lnTo>
                <a:close/>
              </a:path>
              <a:path fill="darkenLess" w="22362" h="21600">
                <a:moveTo>
                  <a:pt x="10258" y="14299"/>
                </a:moveTo>
                <a:lnTo>
                  <a:pt x="12104" y="14299"/>
                </a:lnTo>
                <a:lnTo>
                  <a:pt x="12104" y="17989"/>
                </a:lnTo>
                <a:lnTo>
                  <a:pt x="16490" y="17989"/>
                </a:lnTo>
                <a:lnTo>
                  <a:pt x="16490" y="10800"/>
                </a:lnTo>
                <a:lnTo>
                  <a:pt x="5872" y="10800"/>
                </a:lnTo>
                <a:lnTo>
                  <a:pt x="5872" y="17989"/>
                </a:lnTo>
                <a:lnTo>
                  <a:pt x="1025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3135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4250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7.40741E-007 L -0.18611 0.00185 E">
                                      <p:cBhvr>
                                        <p:cTn id="82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3832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brd_borders_0177"/>
          <p:cNvPicPr/>
          <p:nvPr/>
        </p:nvPicPr>
        <p:blipFill>
          <a:blip r:embed="rId1"/>
          <a:srcRect l="2441" t="14921" r="3740" b="2677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farm0007 G"/>
          <p:cNvPicPr/>
          <p:nvPr/>
        </p:nvPicPr>
        <p:blipFill>
          <a:blip r:embed="rId2"/>
          <a:stretch/>
        </p:blipFill>
        <p:spPr>
          <a:xfrm>
            <a:off x="0" y="692280"/>
            <a:ext cx="5148360" cy="514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ANIM1006 G 1111"/>
          <p:cNvPicPr/>
          <p:nvPr/>
        </p:nvPicPr>
        <p:blipFill>
          <a:blip r:embed="rId3"/>
          <a:stretch/>
        </p:blipFill>
        <p:spPr>
          <a:xfrm>
            <a:off x="6286680" y="2637000"/>
            <a:ext cx="2857320" cy="285732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8">
            <a:hlinkClick r:id="" action="ppaction://hlinkshowjump?jump=nextslide"/>
          </p:cNvPr>
          <p:cNvSpPr/>
          <p:nvPr/>
        </p:nvSpPr>
        <p:spPr>
          <a:xfrm>
            <a:off x="8388360" y="6093000"/>
            <a:ext cx="755640" cy="76500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765000"/>
              <a:gd name="textAreaBottom" fmla="*/ 716040 h 765000"/>
            </a:gdLst>
            <a:ahLst/>
            <a:rect l="textAreaLeft" t="textAreaTop" r="textAreaRight" b="textAreaBottom"/>
            <a:pathLst>
              <a:path w="21600" h="21867">
                <a:moveTo>
                  <a:pt x="0" y="0"/>
                </a:moveTo>
                <a:lnTo>
                  <a:pt x="21600" y="0"/>
                </a:lnTo>
                <a:lnTo>
                  <a:pt x="21600" y="21867"/>
                </a:lnTo>
                <a:lnTo>
                  <a:pt x="0" y="21867"/>
                </a:lnTo>
                <a:close/>
              </a:path>
              <a:path fill="lightenLess" w="21600" h="2186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67">
                <a:moveTo>
                  <a:pt x="21600" y="0"/>
                </a:moveTo>
                <a:lnTo>
                  <a:pt x="21600" y="21867"/>
                </a:lnTo>
                <a:lnTo>
                  <a:pt x="20200" y="20467"/>
                </a:lnTo>
                <a:lnTo>
                  <a:pt x="20200" y="1400"/>
                </a:lnTo>
                <a:close/>
              </a:path>
              <a:path fill="darkenLess" w="21600" h="21867">
                <a:moveTo>
                  <a:pt x="21600" y="21867"/>
                </a:moveTo>
                <a:lnTo>
                  <a:pt x="0" y="21867"/>
                </a:lnTo>
                <a:lnTo>
                  <a:pt x="1400" y="20467"/>
                </a:lnTo>
                <a:lnTo>
                  <a:pt x="20200" y="20467"/>
                </a:lnTo>
                <a:close/>
              </a:path>
              <a:path fill="lighten" w="21600" h="21867">
                <a:moveTo>
                  <a:pt x="0" y="2186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67"/>
                </a:lnTo>
                <a:close/>
              </a:path>
              <a:path fill="darken" w="21600" h="21867">
                <a:moveTo>
                  <a:pt x="3794" y="3927"/>
                </a:moveTo>
                <a:lnTo>
                  <a:pt x="17806" y="10934"/>
                </a:lnTo>
                <a:lnTo>
                  <a:pt x="3794" y="1794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9">
            <a:hlinkClick r:id="" action="ppaction://hlinkshowjump?jump=firstslide"/>
          </p:cNvPr>
          <p:cNvSpPr/>
          <p:nvPr/>
        </p:nvSpPr>
        <p:spPr>
          <a:xfrm>
            <a:off x="7596360" y="6093000"/>
            <a:ext cx="792000" cy="765000"/>
          </a:xfrm>
          <a:custGeom>
            <a:avLst/>
            <a:gdLst>
              <a:gd name="textAreaLeft" fmla="*/ 49320 w 792000"/>
              <a:gd name="textAreaRight" fmla="*/ 742680 w 79200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2362" h="21600">
                <a:moveTo>
                  <a:pt x="0" y="0"/>
                </a:moveTo>
                <a:lnTo>
                  <a:pt x="22362" y="0"/>
                </a:lnTo>
                <a:lnTo>
                  <a:pt x="22362" y="21600"/>
                </a:lnTo>
                <a:lnTo>
                  <a:pt x="0" y="21600"/>
                </a:lnTo>
                <a:close/>
              </a:path>
              <a:path fill="lightenLess" w="22362" h="21600">
                <a:moveTo>
                  <a:pt x="0" y="0"/>
                </a:moveTo>
                <a:lnTo>
                  <a:pt x="22362" y="0"/>
                </a:lnTo>
                <a:lnTo>
                  <a:pt x="20962" y="1400"/>
                </a:lnTo>
                <a:lnTo>
                  <a:pt x="1400" y="1400"/>
                </a:lnTo>
                <a:close/>
              </a:path>
              <a:path fill="darken" w="22362" h="21600">
                <a:moveTo>
                  <a:pt x="22362" y="0"/>
                </a:moveTo>
                <a:lnTo>
                  <a:pt x="22362" y="21600"/>
                </a:lnTo>
                <a:lnTo>
                  <a:pt x="20962" y="20200"/>
                </a:lnTo>
                <a:lnTo>
                  <a:pt x="20962" y="1400"/>
                </a:lnTo>
                <a:close/>
              </a:path>
              <a:path fill="darkenLess" w="22362" h="21600">
                <a:moveTo>
                  <a:pt x="223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62" y="20200"/>
                </a:lnTo>
                <a:close/>
              </a:path>
              <a:path fill="lighten" w="223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62" h="21600">
                <a:moveTo>
                  <a:pt x="11181" y="3837"/>
                </a:moveTo>
                <a:lnTo>
                  <a:pt x="13757" y="6448"/>
                </a:lnTo>
                <a:lnTo>
                  <a:pt x="13757" y="4707"/>
                </a:lnTo>
                <a:lnTo>
                  <a:pt x="15533" y="4707"/>
                </a:lnTo>
                <a:lnTo>
                  <a:pt x="15533" y="8224"/>
                </a:lnTo>
                <a:lnTo>
                  <a:pt x="18144" y="10800"/>
                </a:lnTo>
                <a:lnTo>
                  <a:pt x="16490" y="10800"/>
                </a:lnTo>
                <a:lnTo>
                  <a:pt x="16490" y="17989"/>
                </a:lnTo>
                <a:lnTo>
                  <a:pt x="5872" y="17989"/>
                </a:lnTo>
                <a:lnTo>
                  <a:pt x="5872" y="10800"/>
                </a:lnTo>
                <a:lnTo>
                  <a:pt x="4218" y="10800"/>
                </a:lnTo>
                <a:close/>
              </a:path>
              <a:path fill="darkenLess" w="22362" h="21600">
                <a:moveTo>
                  <a:pt x="13757" y="6448"/>
                </a:moveTo>
                <a:lnTo>
                  <a:pt x="13757" y="4707"/>
                </a:lnTo>
                <a:lnTo>
                  <a:pt x="15533" y="4707"/>
                </a:lnTo>
                <a:lnTo>
                  <a:pt x="15533" y="8224"/>
                </a:lnTo>
                <a:close/>
              </a:path>
              <a:path fill="darkenLess" w="22362" h="21600">
                <a:moveTo>
                  <a:pt x="10258" y="14299"/>
                </a:moveTo>
                <a:lnTo>
                  <a:pt x="12104" y="14299"/>
                </a:lnTo>
                <a:lnTo>
                  <a:pt x="12104" y="17989"/>
                </a:lnTo>
                <a:lnTo>
                  <a:pt x="16490" y="17989"/>
                </a:lnTo>
                <a:lnTo>
                  <a:pt x="16490" y="10800"/>
                </a:lnTo>
                <a:lnTo>
                  <a:pt x="5872" y="10800"/>
                </a:lnTo>
                <a:lnTo>
                  <a:pt x="5872" y="17989"/>
                </a:lnTo>
                <a:lnTo>
                  <a:pt x="1025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"/>
          <p:cNvPicPr/>
          <p:nvPr/>
        </p:nvPicPr>
        <p:blipFill>
          <a:blip r:embed="rId4"/>
          <a:stretch/>
        </p:blipFill>
        <p:spPr>
          <a:xfrm>
            <a:off x="7524720" y="-304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"/>
          <p:cNvPicPr/>
          <p:nvPr/>
        </p:nvPicPr>
        <p:blipFill>
          <a:blip r:embed="rId5"/>
          <a:stretch/>
        </p:blipFill>
        <p:spPr>
          <a:xfrm>
            <a:off x="6588000" y="-304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"/>
          <p:cNvPicPr/>
          <p:nvPr/>
        </p:nvPicPr>
        <p:blipFill>
          <a:blip r:embed="rId6"/>
          <a:stretch/>
        </p:blipFill>
        <p:spPr>
          <a:xfrm>
            <a:off x="838836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3205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3762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04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3483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brd_borders_0177"/>
          <p:cNvPicPr/>
          <p:nvPr/>
        </p:nvPicPr>
        <p:blipFill>
          <a:blip r:embed="rId1"/>
          <a:srcRect l="2441" t="14921" r="3740" b="2677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ANIM1778 П"/>
          <p:cNvPicPr/>
          <p:nvPr/>
        </p:nvPicPr>
        <p:blipFill>
          <a:blip r:embed="rId2"/>
          <a:stretch/>
        </p:blipFill>
        <p:spPr>
          <a:xfrm>
            <a:off x="0" y="692280"/>
            <a:ext cx="5111640" cy="5111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6"/>
          <p:cNvPicPr/>
          <p:nvPr/>
        </p:nvPicPr>
        <p:blipFill>
          <a:blip r:embed="rId3"/>
          <a:stretch/>
        </p:blipFill>
        <p:spPr>
          <a:xfrm>
            <a:off x="6084720" y="285264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"/>
          <p:cNvPicPr/>
          <p:nvPr/>
        </p:nvPicPr>
        <p:blipFill>
          <a:blip r:embed="rId4"/>
          <a:stretch/>
        </p:blipFill>
        <p:spPr>
          <a:xfrm>
            <a:off x="8604360" y="-3049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8">
            <a:hlinkClick r:id="" action="ppaction://hlinkshowjump?jump=nextslide"/>
          </p:cNvPr>
          <p:cNvSpPr/>
          <p:nvPr/>
        </p:nvSpPr>
        <p:spPr>
          <a:xfrm>
            <a:off x="8388360" y="6093000"/>
            <a:ext cx="755640" cy="76500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765000"/>
              <a:gd name="textAreaBottom" fmla="*/ 716040 h 765000"/>
            </a:gdLst>
            <a:ahLst/>
            <a:rect l="textAreaLeft" t="textAreaTop" r="textAreaRight" b="textAreaBottom"/>
            <a:pathLst>
              <a:path w="21600" h="21867">
                <a:moveTo>
                  <a:pt x="0" y="0"/>
                </a:moveTo>
                <a:lnTo>
                  <a:pt x="21600" y="0"/>
                </a:lnTo>
                <a:lnTo>
                  <a:pt x="21600" y="21867"/>
                </a:lnTo>
                <a:lnTo>
                  <a:pt x="0" y="21867"/>
                </a:lnTo>
                <a:close/>
              </a:path>
              <a:path fill="lightenLess" w="21600" h="2186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67">
                <a:moveTo>
                  <a:pt x="21600" y="0"/>
                </a:moveTo>
                <a:lnTo>
                  <a:pt x="21600" y="21867"/>
                </a:lnTo>
                <a:lnTo>
                  <a:pt x="20200" y="20467"/>
                </a:lnTo>
                <a:lnTo>
                  <a:pt x="20200" y="1400"/>
                </a:lnTo>
                <a:close/>
              </a:path>
              <a:path fill="darkenLess" w="21600" h="21867">
                <a:moveTo>
                  <a:pt x="21600" y="21867"/>
                </a:moveTo>
                <a:lnTo>
                  <a:pt x="0" y="21867"/>
                </a:lnTo>
                <a:lnTo>
                  <a:pt x="1400" y="20467"/>
                </a:lnTo>
                <a:lnTo>
                  <a:pt x="20200" y="20467"/>
                </a:lnTo>
                <a:close/>
              </a:path>
              <a:path fill="lighten" w="21600" h="21867">
                <a:moveTo>
                  <a:pt x="0" y="2186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67"/>
                </a:lnTo>
                <a:close/>
              </a:path>
              <a:path fill="darken" w="21600" h="21867">
                <a:moveTo>
                  <a:pt x="3794" y="3927"/>
                </a:moveTo>
                <a:lnTo>
                  <a:pt x="17806" y="10934"/>
                </a:lnTo>
                <a:lnTo>
                  <a:pt x="3794" y="1794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9">
            <a:hlinkClick r:id="" action="ppaction://hlinkshowjump?jump=firstslide"/>
          </p:cNvPr>
          <p:cNvSpPr/>
          <p:nvPr/>
        </p:nvSpPr>
        <p:spPr>
          <a:xfrm>
            <a:off x="7596360" y="6093000"/>
            <a:ext cx="792000" cy="765000"/>
          </a:xfrm>
          <a:custGeom>
            <a:avLst/>
            <a:gdLst>
              <a:gd name="textAreaLeft" fmla="*/ 49320 w 792000"/>
              <a:gd name="textAreaRight" fmla="*/ 742680 w 79200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2362" h="21600">
                <a:moveTo>
                  <a:pt x="0" y="0"/>
                </a:moveTo>
                <a:lnTo>
                  <a:pt x="22362" y="0"/>
                </a:lnTo>
                <a:lnTo>
                  <a:pt x="22362" y="21600"/>
                </a:lnTo>
                <a:lnTo>
                  <a:pt x="0" y="21600"/>
                </a:lnTo>
                <a:close/>
              </a:path>
              <a:path fill="lightenLess" w="22362" h="21600">
                <a:moveTo>
                  <a:pt x="0" y="0"/>
                </a:moveTo>
                <a:lnTo>
                  <a:pt x="22362" y="0"/>
                </a:lnTo>
                <a:lnTo>
                  <a:pt x="20962" y="1400"/>
                </a:lnTo>
                <a:lnTo>
                  <a:pt x="1400" y="1400"/>
                </a:lnTo>
                <a:close/>
              </a:path>
              <a:path fill="darken" w="22362" h="21600">
                <a:moveTo>
                  <a:pt x="22362" y="0"/>
                </a:moveTo>
                <a:lnTo>
                  <a:pt x="22362" y="21600"/>
                </a:lnTo>
                <a:lnTo>
                  <a:pt x="20962" y="20200"/>
                </a:lnTo>
                <a:lnTo>
                  <a:pt x="20962" y="1400"/>
                </a:lnTo>
                <a:close/>
              </a:path>
              <a:path fill="darkenLess" w="22362" h="21600">
                <a:moveTo>
                  <a:pt x="223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62" y="20200"/>
                </a:lnTo>
                <a:close/>
              </a:path>
              <a:path fill="lighten" w="223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62" h="21600">
                <a:moveTo>
                  <a:pt x="11181" y="3837"/>
                </a:moveTo>
                <a:lnTo>
                  <a:pt x="13757" y="6448"/>
                </a:lnTo>
                <a:lnTo>
                  <a:pt x="13757" y="4707"/>
                </a:lnTo>
                <a:lnTo>
                  <a:pt x="15533" y="4707"/>
                </a:lnTo>
                <a:lnTo>
                  <a:pt x="15533" y="8224"/>
                </a:lnTo>
                <a:lnTo>
                  <a:pt x="18144" y="10800"/>
                </a:lnTo>
                <a:lnTo>
                  <a:pt x="16490" y="10800"/>
                </a:lnTo>
                <a:lnTo>
                  <a:pt x="16490" y="17989"/>
                </a:lnTo>
                <a:lnTo>
                  <a:pt x="5872" y="17989"/>
                </a:lnTo>
                <a:lnTo>
                  <a:pt x="5872" y="10800"/>
                </a:lnTo>
                <a:lnTo>
                  <a:pt x="4218" y="10800"/>
                </a:lnTo>
                <a:close/>
              </a:path>
              <a:path fill="darkenLess" w="22362" h="21600">
                <a:moveTo>
                  <a:pt x="13757" y="6448"/>
                </a:moveTo>
                <a:lnTo>
                  <a:pt x="13757" y="4707"/>
                </a:lnTo>
                <a:lnTo>
                  <a:pt x="15533" y="4707"/>
                </a:lnTo>
                <a:lnTo>
                  <a:pt x="15533" y="8224"/>
                </a:lnTo>
                <a:close/>
              </a:path>
              <a:path fill="darkenLess" w="22362" h="21600">
                <a:moveTo>
                  <a:pt x="10258" y="14299"/>
                </a:moveTo>
                <a:lnTo>
                  <a:pt x="12104" y="14299"/>
                </a:lnTo>
                <a:lnTo>
                  <a:pt x="12104" y="17989"/>
                </a:lnTo>
                <a:lnTo>
                  <a:pt x="16490" y="17989"/>
                </a:lnTo>
                <a:lnTo>
                  <a:pt x="16490" y="10800"/>
                </a:lnTo>
                <a:lnTo>
                  <a:pt x="5872" y="10800"/>
                </a:lnTo>
                <a:lnTo>
                  <a:pt x="5872" y="17989"/>
                </a:lnTo>
                <a:lnTo>
                  <a:pt x="1025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0" descr=""/>
          <p:cNvPicPr/>
          <p:nvPr/>
        </p:nvPicPr>
        <p:blipFill>
          <a:blip r:embed="rId5"/>
          <a:stretch/>
        </p:blipFill>
        <p:spPr>
          <a:xfrm>
            <a:off x="7524720" y="-304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"/>
          <p:cNvPicPr/>
          <p:nvPr/>
        </p:nvPicPr>
        <p:blipFill>
          <a:blip r:embed="rId6"/>
          <a:stretch/>
        </p:blipFill>
        <p:spPr>
          <a:xfrm>
            <a:off x="6732720" y="-3049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3135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4528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26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3623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brd_borders_0177"/>
          <p:cNvPicPr/>
          <p:nvPr/>
        </p:nvPicPr>
        <p:blipFill>
          <a:blip r:embed="rId1"/>
          <a:srcRect l="2441" t="14921" r="3740" b="2677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ANIM1967 G 5"/>
          <p:cNvPicPr/>
          <p:nvPr/>
        </p:nvPicPr>
        <p:blipFill>
          <a:blip r:embed="rId2"/>
          <a:stretch/>
        </p:blipFill>
        <p:spPr>
          <a:xfrm>
            <a:off x="250920" y="1268280"/>
            <a:ext cx="4859280" cy="4859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ANIM1802 G"/>
          <p:cNvPicPr/>
          <p:nvPr/>
        </p:nvPicPr>
        <p:blipFill>
          <a:blip r:embed="rId3"/>
          <a:stretch/>
        </p:blipFill>
        <p:spPr>
          <a:xfrm>
            <a:off x="6227640" y="3357720"/>
            <a:ext cx="2303640" cy="230328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8">
            <a:hlinkClick r:id="" action="ppaction://hlinkshowjump?jump=nextslide"/>
          </p:cNvPr>
          <p:cNvSpPr/>
          <p:nvPr/>
        </p:nvSpPr>
        <p:spPr>
          <a:xfrm>
            <a:off x="8388360" y="6093000"/>
            <a:ext cx="755640" cy="76500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765000"/>
              <a:gd name="textAreaBottom" fmla="*/ 716040 h 765000"/>
            </a:gdLst>
            <a:ahLst/>
            <a:rect l="textAreaLeft" t="textAreaTop" r="textAreaRight" b="textAreaBottom"/>
            <a:pathLst>
              <a:path w="21600" h="21867">
                <a:moveTo>
                  <a:pt x="0" y="0"/>
                </a:moveTo>
                <a:lnTo>
                  <a:pt x="21600" y="0"/>
                </a:lnTo>
                <a:lnTo>
                  <a:pt x="21600" y="21867"/>
                </a:lnTo>
                <a:lnTo>
                  <a:pt x="0" y="21867"/>
                </a:lnTo>
                <a:close/>
              </a:path>
              <a:path fill="lightenLess" w="21600" h="2186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67">
                <a:moveTo>
                  <a:pt x="21600" y="0"/>
                </a:moveTo>
                <a:lnTo>
                  <a:pt x="21600" y="21867"/>
                </a:lnTo>
                <a:lnTo>
                  <a:pt x="20200" y="20467"/>
                </a:lnTo>
                <a:lnTo>
                  <a:pt x="20200" y="1400"/>
                </a:lnTo>
                <a:close/>
              </a:path>
              <a:path fill="darkenLess" w="21600" h="21867">
                <a:moveTo>
                  <a:pt x="21600" y="21867"/>
                </a:moveTo>
                <a:lnTo>
                  <a:pt x="0" y="21867"/>
                </a:lnTo>
                <a:lnTo>
                  <a:pt x="1400" y="20467"/>
                </a:lnTo>
                <a:lnTo>
                  <a:pt x="20200" y="20467"/>
                </a:lnTo>
                <a:close/>
              </a:path>
              <a:path fill="lighten" w="21600" h="21867">
                <a:moveTo>
                  <a:pt x="0" y="2186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67"/>
                </a:lnTo>
                <a:close/>
              </a:path>
              <a:path fill="darken" w="21600" h="21867">
                <a:moveTo>
                  <a:pt x="3794" y="3927"/>
                </a:moveTo>
                <a:lnTo>
                  <a:pt x="17806" y="10934"/>
                </a:lnTo>
                <a:lnTo>
                  <a:pt x="3794" y="1794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9">
            <a:hlinkClick r:id="" action="ppaction://hlinkshowjump?jump=firstslide"/>
          </p:cNvPr>
          <p:cNvSpPr/>
          <p:nvPr/>
        </p:nvSpPr>
        <p:spPr>
          <a:xfrm>
            <a:off x="7596360" y="6093000"/>
            <a:ext cx="792000" cy="765000"/>
          </a:xfrm>
          <a:custGeom>
            <a:avLst/>
            <a:gdLst>
              <a:gd name="textAreaLeft" fmla="*/ 49320 w 792000"/>
              <a:gd name="textAreaRight" fmla="*/ 742680 w 79200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2362" h="21600">
                <a:moveTo>
                  <a:pt x="0" y="0"/>
                </a:moveTo>
                <a:lnTo>
                  <a:pt x="22362" y="0"/>
                </a:lnTo>
                <a:lnTo>
                  <a:pt x="22362" y="21600"/>
                </a:lnTo>
                <a:lnTo>
                  <a:pt x="0" y="21600"/>
                </a:lnTo>
                <a:close/>
              </a:path>
              <a:path fill="lightenLess" w="22362" h="21600">
                <a:moveTo>
                  <a:pt x="0" y="0"/>
                </a:moveTo>
                <a:lnTo>
                  <a:pt x="22362" y="0"/>
                </a:lnTo>
                <a:lnTo>
                  <a:pt x="20962" y="1400"/>
                </a:lnTo>
                <a:lnTo>
                  <a:pt x="1400" y="1400"/>
                </a:lnTo>
                <a:close/>
              </a:path>
              <a:path fill="darken" w="22362" h="21600">
                <a:moveTo>
                  <a:pt x="22362" y="0"/>
                </a:moveTo>
                <a:lnTo>
                  <a:pt x="22362" y="21600"/>
                </a:lnTo>
                <a:lnTo>
                  <a:pt x="20962" y="20200"/>
                </a:lnTo>
                <a:lnTo>
                  <a:pt x="20962" y="1400"/>
                </a:lnTo>
                <a:close/>
              </a:path>
              <a:path fill="darkenLess" w="22362" h="21600">
                <a:moveTo>
                  <a:pt x="223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62" y="20200"/>
                </a:lnTo>
                <a:close/>
              </a:path>
              <a:path fill="lighten" w="223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62" h="21600">
                <a:moveTo>
                  <a:pt x="11181" y="3837"/>
                </a:moveTo>
                <a:lnTo>
                  <a:pt x="13757" y="6448"/>
                </a:lnTo>
                <a:lnTo>
                  <a:pt x="13757" y="4707"/>
                </a:lnTo>
                <a:lnTo>
                  <a:pt x="15533" y="4707"/>
                </a:lnTo>
                <a:lnTo>
                  <a:pt x="15533" y="8224"/>
                </a:lnTo>
                <a:lnTo>
                  <a:pt x="18144" y="10800"/>
                </a:lnTo>
                <a:lnTo>
                  <a:pt x="16490" y="10800"/>
                </a:lnTo>
                <a:lnTo>
                  <a:pt x="16490" y="17989"/>
                </a:lnTo>
                <a:lnTo>
                  <a:pt x="5872" y="17989"/>
                </a:lnTo>
                <a:lnTo>
                  <a:pt x="5872" y="10800"/>
                </a:lnTo>
                <a:lnTo>
                  <a:pt x="4218" y="10800"/>
                </a:lnTo>
                <a:close/>
              </a:path>
              <a:path fill="darkenLess" w="22362" h="21600">
                <a:moveTo>
                  <a:pt x="13757" y="6448"/>
                </a:moveTo>
                <a:lnTo>
                  <a:pt x="13757" y="4707"/>
                </a:lnTo>
                <a:lnTo>
                  <a:pt x="15533" y="4707"/>
                </a:lnTo>
                <a:lnTo>
                  <a:pt x="15533" y="8224"/>
                </a:lnTo>
                <a:close/>
              </a:path>
              <a:path fill="darkenLess" w="22362" h="21600">
                <a:moveTo>
                  <a:pt x="10258" y="14299"/>
                </a:moveTo>
                <a:lnTo>
                  <a:pt x="12104" y="14299"/>
                </a:lnTo>
                <a:lnTo>
                  <a:pt x="12104" y="17989"/>
                </a:lnTo>
                <a:lnTo>
                  <a:pt x="16490" y="17989"/>
                </a:lnTo>
                <a:lnTo>
                  <a:pt x="16490" y="10800"/>
                </a:lnTo>
                <a:lnTo>
                  <a:pt x="5872" y="10800"/>
                </a:lnTo>
                <a:lnTo>
                  <a:pt x="5872" y="17989"/>
                </a:lnTo>
                <a:lnTo>
                  <a:pt x="1025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0" descr=""/>
          <p:cNvPicPr/>
          <p:nvPr/>
        </p:nvPicPr>
        <p:blipFill>
          <a:blip r:embed="rId4"/>
          <a:stretch/>
        </p:blipFill>
        <p:spPr>
          <a:xfrm>
            <a:off x="7667640" y="-304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"/>
          <p:cNvPicPr/>
          <p:nvPr/>
        </p:nvPicPr>
        <p:blipFill>
          <a:blip r:embed="rId5"/>
          <a:stretch/>
        </p:blipFill>
        <p:spPr>
          <a:xfrm>
            <a:off x="6877080" y="-304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2" descr=""/>
          <p:cNvPicPr/>
          <p:nvPr/>
        </p:nvPicPr>
        <p:blipFill>
          <a:blip r:embed="rId6"/>
          <a:stretch/>
        </p:blipFill>
        <p:spPr>
          <a:xfrm>
            <a:off x="838836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3205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4459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48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3275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brd_borders_0177"/>
          <p:cNvPicPr/>
          <p:nvPr/>
        </p:nvPicPr>
        <p:blipFill>
          <a:blip r:embed="rId1"/>
          <a:srcRect l="2441" t="14921" r="3740" b="2677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ANIM1155 G"/>
          <p:cNvPicPr/>
          <p:nvPr/>
        </p:nvPicPr>
        <p:blipFill>
          <a:blip r:embed="rId2"/>
          <a:stretch/>
        </p:blipFill>
        <p:spPr>
          <a:xfrm>
            <a:off x="-181080" y="1062000"/>
            <a:ext cx="5616720" cy="5616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Свинья 111"/>
          <p:cNvPicPr/>
          <p:nvPr/>
        </p:nvPicPr>
        <p:blipFill>
          <a:blip r:embed="rId3"/>
          <a:stretch/>
        </p:blipFill>
        <p:spPr>
          <a:xfrm>
            <a:off x="7128000" y="342900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"/>
          <p:cNvPicPr/>
          <p:nvPr/>
        </p:nvPicPr>
        <p:blipFill>
          <a:blip r:embed="rId4"/>
          <a:stretch/>
        </p:blipFill>
        <p:spPr>
          <a:xfrm>
            <a:off x="8604360" y="-3049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8">
            <a:hlinkClick r:id="" action="ppaction://hlinkshowjump?jump=nextslide"/>
          </p:cNvPr>
          <p:cNvSpPr/>
          <p:nvPr/>
        </p:nvSpPr>
        <p:spPr>
          <a:xfrm>
            <a:off x="8388360" y="6093000"/>
            <a:ext cx="755640" cy="76500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765000"/>
              <a:gd name="textAreaBottom" fmla="*/ 716040 h 765000"/>
            </a:gdLst>
            <a:ahLst/>
            <a:rect l="textAreaLeft" t="textAreaTop" r="textAreaRight" b="textAreaBottom"/>
            <a:pathLst>
              <a:path w="21600" h="21867">
                <a:moveTo>
                  <a:pt x="0" y="0"/>
                </a:moveTo>
                <a:lnTo>
                  <a:pt x="21600" y="0"/>
                </a:lnTo>
                <a:lnTo>
                  <a:pt x="21600" y="21867"/>
                </a:lnTo>
                <a:lnTo>
                  <a:pt x="0" y="21867"/>
                </a:lnTo>
                <a:close/>
              </a:path>
              <a:path fill="lightenLess" w="21600" h="2186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67">
                <a:moveTo>
                  <a:pt x="21600" y="0"/>
                </a:moveTo>
                <a:lnTo>
                  <a:pt x="21600" y="21867"/>
                </a:lnTo>
                <a:lnTo>
                  <a:pt x="20200" y="20467"/>
                </a:lnTo>
                <a:lnTo>
                  <a:pt x="20200" y="1400"/>
                </a:lnTo>
                <a:close/>
              </a:path>
              <a:path fill="darkenLess" w="21600" h="21867">
                <a:moveTo>
                  <a:pt x="21600" y="21867"/>
                </a:moveTo>
                <a:lnTo>
                  <a:pt x="0" y="21867"/>
                </a:lnTo>
                <a:lnTo>
                  <a:pt x="1400" y="20467"/>
                </a:lnTo>
                <a:lnTo>
                  <a:pt x="20200" y="20467"/>
                </a:lnTo>
                <a:close/>
              </a:path>
              <a:path fill="lighten" w="21600" h="21867">
                <a:moveTo>
                  <a:pt x="0" y="2186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67"/>
                </a:lnTo>
                <a:close/>
              </a:path>
              <a:path fill="darken" w="21600" h="21867">
                <a:moveTo>
                  <a:pt x="3794" y="3927"/>
                </a:moveTo>
                <a:lnTo>
                  <a:pt x="17806" y="10934"/>
                </a:lnTo>
                <a:lnTo>
                  <a:pt x="3794" y="1794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9">
            <a:hlinkClick r:id="" action="ppaction://hlinkshowjump?jump=firstslide"/>
          </p:cNvPr>
          <p:cNvSpPr/>
          <p:nvPr/>
        </p:nvSpPr>
        <p:spPr>
          <a:xfrm>
            <a:off x="7596360" y="6093000"/>
            <a:ext cx="792000" cy="765000"/>
          </a:xfrm>
          <a:custGeom>
            <a:avLst/>
            <a:gdLst>
              <a:gd name="textAreaLeft" fmla="*/ 49320 w 792000"/>
              <a:gd name="textAreaRight" fmla="*/ 742680 w 79200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2362" h="21600">
                <a:moveTo>
                  <a:pt x="0" y="0"/>
                </a:moveTo>
                <a:lnTo>
                  <a:pt x="22362" y="0"/>
                </a:lnTo>
                <a:lnTo>
                  <a:pt x="22362" y="21600"/>
                </a:lnTo>
                <a:lnTo>
                  <a:pt x="0" y="21600"/>
                </a:lnTo>
                <a:close/>
              </a:path>
              <a:path fill="lightenLess" w="22362" h="21600">
                <a:moveTo>
                  <a:pt x="0" y="0"/>
                </a:moveTo>
                <a:lnTo>
                  <a:pt x="22362" y="0"/>
                </a:lnTo>
                <a:lnTo>
                  <a:pt x="20962" y="1400"/>
                </a:lnTo>
                <a:lnTo>
                  <a:pt x="1400" y="1400"/>
                </a:lnTo>
                <a:close/>
              </a:path>
              <a:path fill="darken" w="22362" h="21600">
                <a:moveTo>
                  <a:pt x="22362" y="0"/>
                </a:moveTo>
                <a:lnTo>
                  <a:pt x="22362" y="21600"/>
                </a:lnTo>
                <a:lnTo>
                  <a:pt x="20962" y="20200"/>
                </a:lnTo>
                <a:lnTo>
                  <a:pt x="20962" y="1400"/>
                </a:lnTo>
                <a:close/>
              </a:path>
              <a:path fill="darkenLess" w="22362" h="21600">
                <a:moveTo>
                  <a:pt x="223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62" y="20200"/>
                </a:lnTo>
                <a:close/>
              </a:path>
              <a:path fill="lighten" w="223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62" h="21600">
                <a:moveTo>
                  <a:pt x="11181" y="3837"/>
                </a:moveTo>
                <a:lnTo>
                  <a:pt x="13757" y="6448"/>
                </a:lnTo>
                <a:lnTo>
                  <a:pt x="13757" y="4707"/>
                </a:lnTo>
                <a:lnTo>
                  <a:pt x="15533" y="4707"/>
                </a:lnTo>
                <a:lnTo>
                  <a:pt x="15533" y="8224"/>
                </a:lnTo>
                <a:lnTo>
                  <a:pt x="18144" y="10800"/>
                </a:lnTo>
                <a:lnTo>
                  <a:pt x="16490" y="10800"/>
                </a:lnTo>
                <a:lnTo>
                  <a:pt x="16490" y="17989"/>
                </a:lnTo>
                <a:lnTo>
                  <a:pt x="5872" y="17989"/>
                </a:lnTo>
                <a:lnTo>
                  <a:pt x="5872" y="10800"/>
                </a:lnTo>
                <a:lnTo>
                  <a:pt x="4218" y="10800"/>
                </a:lnTo>
                <a:close/>
              </a:path>
              <a:path fill="darkenLess" w="22362" h="21600">
                <a:moveTo>
                  <a:pt x="13757" y="6448"/>
                </a:moveTo>
                <a:lnTo>
                  <a:pt x="13757" y="4707"/>
                </a:lnTo>
                <a:lnTo>
                  <a:pt x="15533" y="4707"/>
                </a:lnTo>
                <a:lnTo>
                  <a:pt x="15533" y="8224"/>
                </a:lnTo>
                <a:close/>
              </a:path>
              <a:path fill="darkenLess" w="22362" h="21600">
                <a:moveTo>
                  <a:pt x="10258" y="14299"/>
                </a:moveTo>
                <a:lnTo>
                  <a:pt x="12104" y="14299"/>
                </a:lnTo>
                <a:lnTo>
                  <a:pt x="12104" y="17989"/>
                </a:lnTo>
                <a:lnTo>
                  <a:pt x="16490" y="17989"/>
                </a:lnTo>
                <a:lnTo>
                  <a:pt x="16490" y="10800"/>
                </a:lnTo>
                <a:lnTo>
                  <a:pt x="5872" y="10800"/>
                </a:lnTo>
                <a:lnTo>
                  <a:pt x="5872" y="17989"/>
                </a:lnTo>
                <a:lnTo>
                  <a:pt x="1025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0" descr=""/>
          <p:cNvPicPr/>
          <p:nvPr/>
        </p:nvPicPr>
        <p:blipFill>
          <a:blip r:embed="rId5"/>
          <a:stretch/>
        </p:blipFill>
        <p:spPr>
          <a:xfrm>
            <a:off x="7596360" y="-3049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1" descr=""/>
          <p:cNvPicPr/>
          <p:nvPr/>
        </p:nvPicPr>
        <p:blipFill>
          <a:blip r:embed="rId6"/>
          <a:stretch/>
        </p:blipFill>
        <p:spPr>
          <a:xfrm>
            <a:off x="644364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3135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" dur="390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7.40741E-007 L -0.20868 -7.40741E-007 E">
                                      <p:cBhvr>
                                        <p:cTn id="170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2" dur="3971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brd_borders_0177"/>
          <p:cNvPicPr/>
          <p:nvPr/>
        </p:nvPicPr>
        <p:blipFill>
          <a:blip r:embed="rId1"/>
          <a:srcRect l="2441" t="14921" r="3740" b="2677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11111"/>
          <p:cNvPicPr/>
          <p:nvPr/>
        </p:nvPicPr>
        <p:blipFill>
          <a:blip r:embed="rId2"/>
          <a:stretch/>
        </p:blipFill>
        <p:spPr>
          <a:xfrm>
            <a:off x="250920" y="1125360"/>
            <a:ext cx="4537080" cy="4537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ANIM1374 G"/>
          <p:cNvPicPr/>
          <p:nvPr/>
        </p:nvPicPr>
        <p:blipFill>
          <a:blip r:embed="rId3"/>
          <a:stretch/>
        </p:blipFill>
        <p:spPr>
          <a:xfrm>
            <a:off x="6588000" y="2924280"/>
            <a:ext cx="2138400" cy="213840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8">
            <a:hlinkClick r:id="" action="ppaction://hlinkshowjump?jump=nextslide"/>
          </p:cNvPr>
          <p:cNvSpPr/>
          <p:nvPr/>
        </p:nvSpPr>
        <p:spPr>
          <a:xfrm>
            <a:off x="8388360" y="6093000"/>
            <a:ext cx="755640" cy="76500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765000"/>
              <a:gd name="textAreaBottom" fmla="*/ 716040 h 765000"/>
            </a:gdLst>
            <a:ahLst/>
            <a:rect l="textAreaLeft" t="textAreaTop" r="textAreaRight" b="textAreaBottom"/>
            <a:pathLst>
              <a:path w="21600" h="21867">
                <a:moveTo>
                  <a:pt x="0" y="0"/>
                </a:moveTo>
                <a:lnTo>
                  <a:pt x="21600" y="0"/>
                </a:lnTo>
                <a:lnTo>
                  <a:pt x="21600" y="21867"/>
                </a:lnTo>
                <a:lnTo>
                  <a:pt x="0" y="21867"/>
                </a:lnTo>
                <a:close/>
              </a:path>
              <a:path fill="lightenLess" w="21600" h="2186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67">
                <a:moveTo>
                  <a:pt x="21600" y="0"/>
                </a:moveTo>
                <a:lnTo>
                  <a:pt x="21600" y="21867"/>
                </a:lnTo>
                <a:lnTo>
                  <a:pt x="20200" y="20467"/>
                </a:lnTo>
                <a:lnTo>
                  <a:pt x="20200" y="1400"/>
                </a:lnTo>
                <a:close/>
              </a:path>
              <a:path fill="darkenLess" w="21600" h="21867">
                <a:moveTo>
                  <a:pt x="21600" y="21867"/>
                </a:moveTo>
                <a:lnTo>
                  <a:pt x="0" y="21867"/>
                </a:lnTo>
                <a:lnTo>
                  <a:pt x="1400" y="20467"/>
                </a:lnTo>
                <a:lnTo>
                  <a:pt x="20200" y="20467"/>
                </a:lnTo>
                <a:close/>
              </a:path>
              <a:path fill="lighten" w="21600" h="21867">
                <a:moveTo>
                  <a:pt x="0" y="2186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67"/>
                </a:lnTo>
                <a:close/>
              </a:path>
              <a:path fill="darken" w="21600" h="21867">
                <a:moveTo>
                  <a:pt x="3794" y="3927"/>
                </a:moveTo>
                <a:lnTo>
                  <a:pt x="17806" y="10934"/>
                </a:lnTo>
                <a:lnTo>
                  <a:pt x="3794" y="1794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9">
            <a:hlinkClick r:id="" action="ppaction://hlinkshowjump?jump=firstslide"/>
          </p:cNvPr>
          <p:cNvSpPr/>
          <p:nvPr/>
        </p:nvSpPr>
        <p:spPr>
          <a:xfrm>
            <a:off x="7596360" y="6093000"/>
            <a:ext cx="792000" cy="765000"/>
          </a:xfrm>
          <a:custGeom>
            <a:avLst/>
            <a:gdLst>
              <a:gd name="textAreaLeft" fmla="*/ 49320 w 792000"/>
              <a:gd name="textAreaRight" fmla="*/ 742680 w 79200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2362" h="21600">
                <a:moveTo>
                  <a:pt x="0" y="0"/>
                </a:moveTo>
                <a:lnTo>
                  <a:pt x="22362" y="0"/>
                </a:lnTo>
                <a:lnTo>
                  <a:pt x="22362" y="21600"/>
                </a:lnTo>
                <a:lnTo>
                  <a:pt x="0" y="21600"/>
                </a:lnTo>
                <a:close/>
              </a:path>
              <a:path fill="lightenLess" w="22362" h="21600">
                <a:moveTo>
                  <a:pt x="0" y="0"/>
                </a:moveTo>
                <a:lnTo>
                  <a:pt x="22362" y="0"/>
                </a:lnTo>
                <a:lnTo>
                  <a:pt x="20962" y="1400"/>
                </a:lnTo>
                <a:lnTo>
                  <a:pt x="1400" y="1400"/>
                </a:lnTo>
                <a:close/>
              </a:path>
              <a:path fill="darken" w="22362" h="21600">
                <a:moveTo>
                  <a:pt x="22362" y="0"/>
                </a:moveTo>
                <a:lnTo>
                  <a:pt x="22362" y="21600"/>
                </a:lnTo>
                <a:lnTo>
                  <a:pt x="20962" y="20200"/>
                </a:lnTo>
                <a:lnTo>
                  <a:pt x="20962" y="1400"/>
                </a:lnTo>
                <a:close/>
              </a:path>
              <a:path fill="darkenLess" w="22362" h="21600">
                <a:moveTo>
                  <a:pt x="223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62" y="20200"/>
                </a:lnTo>
                <a:close/>
              </a:path>
              <a:path fill="lighten" w="223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62" h="21600">
                <a:moveTo>
                  <a:pt x="11181" y="3837"/>
                </a:moveTo>
                <a:lnTo>
                  <a:pt x="13757" y="6448"/>
                </a:lnTo>
                <a:lnTo>
                  <a:pt x="13757" y="4707"/>
                </a:lnTo>
                <a:lnTo>
                  <a:pt x="15533" y="4707"/>
                </a:lnTo>
                <a:lnTo>
                  <a:pt x="15533" y="8224"/>
                </a:lnTo>
                <a:lnTo>
                  <a:pt x="18144" y="10800"/>
                </a:lnTo>
                <a:lnTo>
                  <a:pt x="16490" y="10800"/>
                </a:lnTo>
                <a:lnTo>
                  <a:pt x="16490" y="17989"/>
                </a:lnTo>
                <a:lnTo>
                  <a:pt x="5872" y="17989"/>
                </a:lnTo>
                <a:lnTo>
                  <a:pt x="5872" y="10800"/>
                </a:lnTo>
                <a:lnTo>
                  <a:pt x="4218" y="10800"/>
                </a:lnTo>
                <a:close/>
              </a:path>
              <a:path fill="darkenLess" w="22362" h="21600">
                <a:moveTo>
                  <a:pt x="13757" y="6448"/>
                </a:moveTo>
                <a:lnTo>
                  <a:pt x="13757" y="4707"/>
                </a:lnTo>
                <a:lnTo>
                  <a:pt x="15533" y="4707"/>
                </a:lnTo>
                <a:lnTo>
                  <a:pt x="15533" y="8224"/>
                </a:lnTo>
                <a:close/>
              </a:path>
              <a:path fill="darkenLess" w="22362" h="21600">
                <a:moveTo>
                  <a:pt x="10258" y="14299"/>
                </a:moveTo>
                <a:lnTo>
                  <a:pt x="12104" y="14299"/>
                </a:lnTo>
                <a:lnTo>
                  <a:pt x="12104" y="17989"/>
                </a:lnTo>
                <a:lnTo>
                  <a:pt x="16490" y="17989"/>
                </a:lnTo>
                <a:lnTo>
                  <a:pt x="16490" y="10800"/>
                </a:lnTo>
                <a:lnTo>
                  <a:pt x="5872" y="10800"/>
                </a:lnTo>
                <a:lnTo>
                  <a:pt x="5872" y="17989"/>
                </a:lnTo>
                <a:lnTo>
                  <a:pt x="1025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0" descr=""/>
          <p:cNvPicPr/>
          <p:nvPr/>
        </p:nvPicPr>
        <p:blipFill>
          <a:blip r:embed="rId4"/>
          <a:stretch/>
        </p:blipFill>
        <p:spPr>
          <a:xfrm>
            <a:off x="7667640" y="-304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"/>
          <p:cNvPicPr/>
          <p:nvPr/>
        </p:nvPicPr>
        <p:blipFill>
          <a:blip r:embed="rId5"/>
          <a:stretch/>
        </p:blipFill>
        <p:spPr>
          <a:xfrm>
            <a:off x="6659640" y="-3049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2" descr=""/>
          <p:cNvPicPr/>
          <p:nvPr/>
        </p:nvPicPr>
        <p:blipFill>
          <a:blip r:embed="rId6"/>
          <a:stretch/>
        </p:blipFill>
        <p:spPr>
          <a:xfrm>
            <a:off x="838836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3205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4459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92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" dur="5155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7T05:52:44Z</dcterms:created>
  <dc:creator>DJ_Diesel</dc:creator>
  <dc:description/>
  <dc:language>en-US</dc:language>
  <cp:lastModifiedBy>Логопед</cp:lastModifiedBy>
  <dcterms:modified xsi:type="dcterms:W3CDTF">2010-02-11T04:14:14Z</dcterms:modified>
  <cp:revision>16</cp:revision>
  <dc:subject/>
  <dc:title>Слайд 1</dc:title>
</cp:coreProperties>
</file>