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2FA3-2917-44C9-887A-A2F5861A5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4318-7B34-48DE-8966-1919A343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E447-CA40-4F5C-97EF-4F878F216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7C1-AF39-4783-A2D3-C59352D58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6F4C-B30D-4F1E-9A61-242B99E11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ACD3-427B-40C6-B809-6518F6B1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1C17-A324-40CD-AE9F-F56D939A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C1D89-C680-4921-8C40-C8BD70F0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CF03D-FE14-45ED-A675-4B9C36973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47D8-40FC-492C-A8E7-6F31999C1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6149-54FD-4F3D-A8B9-2B2C7B913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016-0653-4148-B09F-68389A70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80F78-8F99-433B-BF3F-BC27B744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7053-1E82-46B7-ABC6-A1A9C87A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019F7-CDC2-4756-A9CF-D8AA67C6F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4198-FF09-45A5-BB47-5F69938CE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99F5-97EC-48C7-8EE3-F1C6103A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D07-CFC5-4871-9C77-66FF8922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E079-07F1-4299-ABDB-97E2D81D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D416-17A2-49A4-80E5-B3023AA7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501-C178-4051-88B2-6196B0A9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6F5B-7EF5-483D-B436-1069F43F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07E9-ED01-4466-8728-3AD92565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DE61-898B-4EB4-A16B-BF0A3B3D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168B-D332-4244-95F1-B7C59C156FD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7B27-A444-450E-8EEA-F8875A7E4CB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Line 18"/>
          <p:cNvSpPr/>
          <p:nvPr/>
        </p:nvSpPr>
        <p:spPr>
          <a:xfrm>
            <a:off x="529272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1476360" y="0"/>
            <a:ext cx="54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02. 14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ff6600"/>
                </a:solidFill>
                <a:latin typeface="Comic Sans MS"/>
              </a:rPr>
              <a:t>Остато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ри делении всегда должен быть меньше </a:t>
            </a:r>
            <a:r>
              <a:rPr b="0" lang="ru-RU" sz="3200" spc="-1" strike="noStrike">
                <a:solidFill>
                  <a:srgbClr val="ff6600"/>
                </a:solidFill>
                <a:latin typeface="Comic Sans MS"/>
              </a:rPr>
              <a:t>делител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599840" y="304920"/>
            <a:ext cx="47242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Comic Sans MS"/>
              </a:rPr>
              <a:t>ПРАВИЛО 2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762120" y="3124080"/>
            <a:ext cx="761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3 :      = 3  (ост.   )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2745000" y="31240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7088400" y="31240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3963960" y="464832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cc"/>
                </a:solidFill>
                <a:latin typeface="Arial"/>
                <a:ea typeface="Arial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Picture 9" descr="pic2a"/>
          <p:cNvPicPr/>
          <p:nvPr/>
        </p:nvPicPr>
        <p:blipFill>
          <a:blip r:embed="rId1"/>
          <a:srcRect l="0" t="0" r="0" b="50008"/>
          <a:stretch/>
        </p:blipFill>
        <p:spPr>
          <a:xfrm>
            <a:off x="7924680" y="304920"/>
            <a:ext cx="1020960" cy="1143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pic1a"/>
          <p:cNvPicPr/>
          <p:nvPr/>
        </p:nvPicPr>
        <p:blipFill>
          <a:blip r:embed="rId2"/>
          <a:srcRect l="14536" t="0" r="0" b="55942"/>
          <a:stretch/>
        </p:blipFill>
        <p:spPr>
          <a:xfrm>
            <a:off x="228600" y="380880"/>
            <a:ext cx="103356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60"/>
                            </p:stCondLst>
                            <p:childTnLst>
                              <p:par>
                                <p:cTn id="25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0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1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2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63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960"/>
                            </p:stCondLst>
                            <p:childTnLst>
                              <p:par>
                                <p:cTn id="2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85185E-006 L -0.44392 0.23102 E">
                                      <p:cBhvr>
                                        <p:cTn id="266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960"/>
                            </p:stCondLst>
                            <p:childTnLst>
                              <p:par>
                                <p:cTn id="26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9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0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1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72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9960"/>
                            </p:stCondLst>
                            <p:childTnLst>
                              <p:par>
                                <p:cTn id="27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09827E-006 L 0.25608 0.23075 E">
                                      <p:cBhvr>
                                        <p:cTn id="275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1960"/>
                            </p:stCondLst>
                            <p:childTnLst>
                              <p:par>
                                <p:cTn id="2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Физкультминутка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3311640" cy="4968720"/>
          </a:xfrm>
          <a:prstGeom prst="rect">
            <a:avLst/>
          </a:prstGeom>
          <a:ln w="0">
            <a:noFill/>
          </a:ln>
        </p:spPr>
      </p:pic>
      <p:pic>
        <p:nvPicPr>
          <p:cNvPr id="249" name="04Страый жук.mp3" descr=""/>
          <p:cNvPicPr/>
          <p:nvPr/>
        </p:nvPicPr>
        <p:blipFill>
          <a:blip r:embed="rId2"/>
          <a:stretch/>
        </p:blipFill>
        <p:spPr>
          <a:xfrm>
            <a:off x="971640" y="2492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0253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85800" y="1828800"/>
          <a:ext cx="7696080" cy="31860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18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- во в одной тетрад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-во тетраде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щее кол-во лист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апомни фигур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ма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140360" y="1916280"/>
            <a:ext cx="1584000" cy="86508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1908000" y="1989000"/>
            <a:ext cx="1295640" cy="107964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6588000" y="2205000"/>
            <a:ext cx="1297080" cy="1079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971640" y="3357720"/>
            <a:ext cx="1800000" cy="934920"/>
          </a:xfrm>
          <a:prstGeom prst="parallelogram">
            <a:avLst>
              <a:gd name="adj" fmla="val 4813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3924360" y="3213000"/>
            <a:ext cx="1584360" cy="1511280"/>
          </a:xfrm>
          <a:prstGeom prst="diamond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6516720" y="3645000"/>
            <a:ext cx="1368360" cy="1296720"/>
          </a:xfrm>
          <a:custGeom>
            <a:avLst/>
            <a:gdLst>
              <a:gd name="textAreaLeft" fmla="*/ 285120 w 1368360"/>
              <a:gd name="textAreaRight" fmla="*/ 1083240 w 1368360"/>
              <a:gd name="textAreaTop" fmla="*/ 270000 h 1296720"/>
              <a:gd name="textAreaBottom" fmla="*/ 102672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акая фигура спряталась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ма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1979640" y="2060640"/>
            <a:ext cx="1008000" cy="108108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6156360" y="2060640"/>
            <a:ext cx="1440000" cy="12970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1403280" y="3860640"/>
            <a:ext cx="2016360" cy="865440"/>
          </a:xfrm>
          <a:prstGeom prst="parallelogram">
            <a:avLst>
              <a:gd name="adj" fmla="val 582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3780000" y="2133720"/>
            <a:ext cx="1441440" cy="1584360"/>
          </a:xfrm>
          <a:prstGeom prst="diamond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5867280" y="3789360"/>
            <a:ext cx="1366920" cy="1440000"/>
          </a:xfrm>
          <a:custGeom>
            <a:avLst/>
            <a:gdLst>
              <a:gd name="textAreaLeft" fmla="*/ 284760 w 1366920"/>
              <a:gd name="textAreaRight" fmla="*/ 1082160 w 1366920"/>
              <a:gd name="textAreaTop" fmla="*/ 299880 h 1440000"/>
              <a:gd name="textAreaBottom" fmla="*/ 11401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164"/>
          <p:cNvSpPr/>
          <p:nvPr/>
        </p:nvSpPr>
        <p:spPr>
          <a:xfrm>
            <a:off x="324000" y="4437000"/>
            <a:ext cx="2971800" cy="1067040"/>
          </a:xfrm>
          <a:custGeom>
            <a:avLst/>
            <a:gdLst>
              <a:gd name="textAreaLeft" fmla="*/ 434880 w 2971800"/>
              <a:gd name="textAreaRight" fmla="*/ 2536920 w 2971800"/>
              <a:gd name="textAreaTop" fmla="*/ 156240 h 1067040"/>
              <a:gd name="textAreaBottom" fmla="*/ 9108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164"/>
          <p:cNvSpPr/>
          <p:nvPr/>
        </p:nvSpPr>
        <p:spPr>
          <a:xfrm>
            <a:off x="6172200" y="4724280"/>
            <a:ext cx="2971800" cy="1067040"/>
          </a:xfrm>
          <a:custGeom>
            <a:avLst/>
            <a:gdLst>
              <a:gd name="textAreaLeft" fmla="*/ 434880 w 2971800"/>
              <a:gd name="textAreaRight" fmla="*/ 2536920 w 2971800"/>
              <a:gd name="textAreaTop" fmla="*/ 156240 h 1067040"/>
              <a:gd name="textAreaBottom" fmla="*/ 9108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164"/>
          <p:cNvSpPr/>
          <p:nvPr/>
        </p:nvSpPr>
        <p:spPr>
          <a:xfrm>
            <a:off x="3276720" y="5445000"/>
            <a:ext cx="2971800" cy="1067040"/>
          </a:xfrm>
          <a:custGeom>
            <a:avLst/>
            <a:gdLst>
              <a:gd name="textAreaLeft" fmla="*/ 434880 w 2971800"/>
              <a:gd name="textAreaRight" fmla="*/ 2536920 w 2971800"/>
              <a:gd name="textAreaTop" fmla="*/ 156240 h 1067040"/>
              <a:gd name="textAreaBottom" fmla="*/ 9108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1187280" y="414972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4379040" y="515772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7236000" y="4437000"/>
            <a:ext cx="7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30" descr="помидор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79280" y="189000"/>
            <a:ext cx="1192320" cy="1203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0" descr="помидор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1042920" y="2349360"/>
            <a:ext cx="1192320" cy="1203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0" descr="помидор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2340000" y="404640"/>
            <a:ext cx="1192320" cy="1203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0" descr="помидор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3635280" y="2349360"/>
            <a:ext cx="1192320" cy="1203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0" descr="помидор"/>
          <p:cNvPicPr/>
          <p:nvPr/>
        </p:nvPicPr>
        <p:blipFill>
          <a:blip r:embed="rId5">
            <a:lum contrast="36000"/>
          </a:blip>
          <a:stretch/>
        </p:blipFill>
        <p:spPr>
          <a:xfrm>
            <a:off x="6300720" y="2349360"/>
            <a:ext cx="1190520" cy="1203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0" descr="помидор"/>
          <p:cNvPicPr/>
          <p:nvPr/>
        </p:nvPicPr>
        <p:blipFill>
          <a:blip r:embed="rId6">
            <a:lum contrast="36000"/>
          </a:blip>
          <a:stretch/>
        </p:blipFill>
        <p:spPr>
          <a:xfrm>
            <a:off x="4643280" y="260280"/>
            <a:ext cx="1192320" cy="1203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0" descr="помидор"/>
          <p:cNvPicPr/>
          <p:nvPr/>
        </p:nvPicPr>
        <p:blipFill>
          <a:blip r:embed="rId7">
            <a:lum contrast="36000"/>
          </a:blip>
          <a:stretch/>
        </p:blipFill>
        <p:spPr>
          <a:xfrm>
            <a:off x="7164360" y="404640"/>
            <a:ext cx="1192320" cy="12034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7"/>
          <p:cNvSpPr/>
          <p:nvPr/>
        </p:nvSpPr>
        <p:spPr>
          <a:xfrm>
            <a:off x="826920" y="3500280"/>
            <a:ext cx="1944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24 : 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18"/>
          <p:cNvSpPr/>
          <p:nvPr/>
        </p:nvSpPr>
        <p:spPr>
          <a:xfrm>
            <a:off x="179280" y="1341360"/>
            <a:ext cx="158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35 :7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19"/>
          <p:cNvSpPr/>
          <p:nvPr/>
        </p:nvSpPr>
        <p:spPr>
          <a:xfrm>
            <a:off x="4500720" y="1484280"/>
            <a:ext cx="1584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36 : 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20"/>
          <p:cNvSpPr/>
          <p:nvPr/>
        </p:nvSpPr>
        <p:spPr>
          <a:xfrm>
            <a:off x="3492360" y="3500280"/>
            <a:ext cx="1871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27 : 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21"/>
          <p:cNvSpPr/>
          <p:nvPr/>
        </p:nvSpPr>
        <p:spPr>
          <a:xfrm>
            <a:off x="7164360" y="1557360"/>
            <a:ext cx="1440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24 : 6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22"/>
          <p:cNvSpPr/>
          <p:nvPr/>
        </p:nvSpPr>
        <p:spPr>
          <a:xfrm>
            <a:off x="2340000" y="1557360"/>
            <a:ext cx="1440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12 : 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23"/>
          <p:cNvSpPr/>
          <p:nvPr/>
        </p:nvSpPr>
        <p:spPr>
          <a:xfrm>
            <a:off x="6300720" y="3573360"/>
            <a:ext cx="1440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11 :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164"/>
          <p:cNvSpPr/>
          <p:nvPr/>
        </p:nvSpPr>
        <p:spPr>
          <a:xfrm>
            <a:off x="533520" y="3581280"/>
            <a:ext cx="2971800" cy="1067040"/>
          </a:xfrm>
          <a:custGeom>
            <a:avLst/>
            <a:gdLst>
              <a:gd name="textAreaLeft" fmla="*/ 434880 w 2971800"/>
              <a:gd name="textAreaRight" fmla="*/ 2536920 w 2971800"/>
              <a:gd name="textAreaTop" fmla="*/ 156240 h 1067040"/>
              <a:gd name="textAreaBottom" fmla="*/ 9108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AutoShape 164"/>
          <p:cNvSpPr/>
          <p:nvPr/>
        </p:nvSpPr>
        <p:spPr>
          <a:xfrm>
            <a:off x="2971800" y="5257800"/>
            <a:ext cx="3200400" cy="99072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145080 h 990720"/>
              <a:gd name="textAreaBottom" fmla="*/ 845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164"/>
          <p:cNvSpPr/>
          <p:nvPr/>
        </p:nvSpPr>
        <p:spPr>
          <a:xfrm>
            <a:off x="5410080" y="3657600"/>
            <a:ext cx="3124440" cy="990720"/>
          </a:xfrm>
          <a:custGeom>
            <a:avLst/>
            <a:gdLst>
              <a:gd name="textAreaLeft" fmla="*/ 457560 w 3124440"/>
              <a:gd name="textAreaRight" fmla="*/ 2666880 w 3124440"/>
              <a:gd name="textAreaTop" fmla="*/ 145080 h 990720"/>
              <a:gd name="textAreaBottom" fmla="*/ 845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24" descr="помидор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752480" y="60948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5" descr="помидор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762120" y="205740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6" descr="помидор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1600200" y="15238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помидор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2514600" y="22096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8" descr="помидор"/>
          <p:cNvPicPr/>
          <p:nvPr/>
        </p:nvPicPr>
        <p:blipFill>
          <a:blip r:embed="rId5">
            <a:lum contrast="36000"/>
          </a:blip>
          <a:stretch/>
        </p:blipFill>
        <p:spPr>
          <a:xfrm>
            <a:off x="4343400" y="45720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9" descr="помидор"/>
          <p:cNvPicPr/>
          <p:nvPr/>
        </p:nvPicPr>
        <p:blipFill>
          <a:blip r:embed="rId6">
            <a:lum contrast="36000"/>
          </a:blip>
          <a:stretch/>
        </p:blipFill>
        <p:spPr>
          <a:xfrm>
            <a:off x="4038480" y="198108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0" descr="помидор"/>
          <p:cNvPicPr/>
          <p:nvPr/>
        </p:nvPicPr>
        <p:blipFill>
          <a:blip r:embed="rId7">
            <a:lum contrast="36000"/>
          </a:blip>
          <a:stretch/>
        </p:blipFill>
        <p:spPr>
          <a:xfrm>
            <a:off x="5334120" y="213372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1" descr="помидор"/>
          <p:cNvPicPr/>
          <p:nvPr/>
        </p:nvPicPr>
        <p:blipFill>
          <a:blip r:embed="rId8">
            <a:lum contrast="36000"/>
          </a:blip>
          <a:stretch/>
        </p:blipFill>
        <p:spPr>
          <a:xfrm>
            <a:off x="2819520" y="6094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2" descr="помидор"/>
          <p:cNvPicPr/>
          <p:nvPr/>
        </p:nvPicPr>
        <p:blipFill>
          <a:blip r:embed="rId9">
            <a:lum contrast="36000"/>
          </a:blip>
          <a:stretch/>
        </p:blipFill>
        <p:spPr>
          <a:xfrm>
            <a:off x="5791320" y="6094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3" descr="помидор"/>
          <p:cNvPicPr/>
          <p:nvPr/>
        </p:nvPicPr>
        <p:blipFill>
          <a:blip r:embed="rId10">
            <a:lum contrast="36000"/>
          </a:blip>
          <a:stretch/>
        </p:blipFill>
        <p:spPr>
          <a:xfrm>
            <a:off x="6781680" y="182880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4" descr="помидор"/>
          <p:cNvPicPr/>
          <p:nvPr/>
        </p:nvPicPr>
        <p:blipFill>
          <a:blip r:embed="rId11">
            <a:lum contrast="36000"/>
          </a:blip>
          <a:stretch/>
        </p:blipFill>
        <p:spPr>
          <a:xfrm>
            <a:off x="7238880" y="838080"/>
            <a:ext cx="862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0"/>
          <p:cNvSpPr/>
          <p:nvPr/>
        </p:nvSpPr>
        <p:spPr>
          <a:xfrm>
            <a:off x="914400" y="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ложим помидоры в тарелки поровн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1"/>
          <p:cNvSpPr/>
          <p:nvPr/>
        </p:nvSpPr>
        <p:spPr>
          <a:xfrm>
            <a:off x="1219320" y="129528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1 : 3 = 3 (ост. 2)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42" descr="pic2a"/>
          <p:cNvPicPr/>
          <p:nvPr/>
        </p:nvPicPr>
        <p:blipFill>
          <a:blip r:embed="rId12"/>
          <a:srcRect l="0" t="0" r="0" b="50008"/>
          <a:stretch/>
        </p:blipFill>
        <p:spPr>
          <a:xfrm>
            <a:off x="8123400" y="762120"/>
            <a:ext cx="102060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3" descr="pic1a"/>
          <p:cNvPicPr/>
          <p:nvPr/>
        </p:nvPicPr>
        <p:blipFill>
          <a:blip r:embed="rId13"/>
          <a:srcRect l="14536" t="0" r="0" b="55942"/>
          <a:stretch/>
        </p:blipFill>
        <p:spPr>
          <a:xfrm>
            <a:off x="0" y="533520"/>
            <a:ext cx="103356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77457E-006 L 0.10295 0.23307 E">
                                      <p:cBhvr>
                                        <p:cTn id="136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50867E-006 L 0.01128 0.47723 E">
                                      <p:cBhvr>
                                        <p:cTn id="139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02312E-006 L -0.02205 0.26636 E">
                                      <p:cBhvr>
                                        <p:cTn id="142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91329E-006 L 0.09462 0.28856 E">
                                      <p:cBhvr>
                                        <p:cTn id="14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27746E-006 L 0.00295 0.45502 E">
                                      <p:cBhvr>
                                        <p:cTn id="149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8.09249E-007 L 0.03628 0.69919 E">
                                      <p:cBhvr>
                                        <p:cTn id="152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0231E-007 L -0.08039 0.39954 E">
                                      <p:cBhvr>
                                        <p:cTn id="156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27746E-006 L 0.07795 0.66589 E">
                                      <p:cBhvr>
                                        <p:cTn id="159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0231E-007 L -0.01372 0.39954 E">
                                      <p:cBhvr>
                                        <p:cTn id="162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936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Tahoma"/>
              </a:rPr>
              <a:t>«Деление с остатком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6" descr="яблоки"/>
          <p:cNvPicPr/>
          <p:nvPr/>
        </p:nvPicPr>
        <p:blipFill>
          <a:blip r:embed="rId1"/>
          <a:stretch/>
        </p:blipFill>
        <p:spPr>
          <a:xfrm>
            <a:off x="324000" y="0"/>
            <a:ext cx="4032000" cy="2492280"/>
          </a:xfrm>
          <a:prstGeom prst="rect">
            <a:avLst/>
          </a:prstGeom>
          <a:ln w="0">
            <a:noFill/>
          </a:ln>
        </p:spPr>
      </p:pic>
      <p:sp>
        <p:nvSpPr>
          <p:cNvPr id="209" name="Скругленный прямоугольник 3"/>
          <p:cNvSpPr/>
          <p:nvPr/>
        </p:nvSpPr>
        <p:spPr>
          <a:xfrm>
            <a:off x="1908000" y="3716280"/>
            <a:ext cx="4967640" cy="1143000"/>
          </a:xfrm>
          <a:prstGeom prst="roundRect">
            <a:avLst>
              <a:gd name="adj" fmla="val 16667"/>
            </a:avLst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15 : 4 = 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15 : 4 = 3 (ост.з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82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знакомить с приёмом деления с остатком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акреплять изученные приёмы внетабличного деления и умнож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WordArt 5"/>
          <p:cNvSpPr txBox="1"/>
          <p:nvPr/>
        </p:nvSpPr>
        <p:spPr>
          <a:xfrm>
            <a:off x="2195640" y="260280"/>
            <a:ext cx="4105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и урока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pic2a"/>
          <p:cNvPicPr/>
          <p:nvPr/>
        </p:nvPicPr>
        <p:blipFill>
          <a:blip r:embed="rId1"/>
          <a:srcRect l="0" t="0" r="0" b="50008"/>
          <a:stretch/>
        </p:blipFill>
        <p:spPr>
          <a:xfrm>
            <a:off x="7812000" y="304920"/>
            <a:ext cx="1133640" cy="1468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pic1a"/>
          <p:cNvPicPr/>
          <p:nvPr/>
        </p:nvPicPr>
        <p:blipFill>
          <a:blip r:embed="rId2"/>
          <a:srcRect l="14536" t="0" r="0" b="55942"/>
          <a:stretch/>
        </p:blipFill>
        <p:spPr>
          <a:xfrm>
            <a:off x="0" y="380880"/>
            <a:ext cx="1262160" cy="1463760"/>
          </a:xfrm>
          <a:prstGeom prst="rect">
            <a:avLst/>
          </a:prstGeom>
          <a:ln w="0">
            <a:noFill/>
          </a:ln>
        </p:spPr>
      </p:pic>
      <p:sp>
        <p:nvSpPr>
          <p:cNvPr id="214" name="Oval 9"/>
          <p:cNvSpPr/>
          <p:nvPr/>
        </p:nvSpPr>
        <p:spPr>
          <a:xfrm>
            <a:off x="7010280" y="1523880"/>
            <a:ext cx="83844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1752480" y="1447920"/>
            <a:ext cx="83844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1219320" y="220968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6019920" y="152388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13"/>
          <p:cNvSpPr/>
          <p:nvPr/>
        </p:nvSpPr>
        <p:spPr>
          <a:xfrm>
            <a:off x="4952880" y="1447920"/>
            <a:ext cx="83844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14"/>
          <p:cNvSpPr/>
          <p:nvPr/>
        </p:nvSpPr>
        <p:spPr>
          <a:xfrm>
            <a:off x="3886200" y="1447920"/>
            <a:ext cx="83808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15"/>
          <p:cNvSpPr/>
          <p:nvPr/>
        </p:nvSpPr>
        <p:spPr>
          <a:xfrm>
            <a:off x="2895480" y="1447920"/>
            <a:ext cx="83844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Oval 16"/>
          <p:cNvSpPr/>
          <p:nvPr/>
        </p:nvSpPr>
        <p:spPr>
          <a:xfrm>
            <a:off x="2362320" y="220968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Oval 17"/>
          <p:cNvSpPr/>
          <p:nvPr/>
        </p:nvSpPr>
        <p:spPr>
          <a:xfrm>
            <a:off x="3352680" y="2286000"/>
            <a:ext cx="83844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Oval 18"/>
          <p:cNvSpPr/>
          <p:nvPr/>
        </p:nvSpPr>
        <p:spPr>
          <a:xfrm>
            <a:off x="4419720" y="228600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19"/>
          <p:cNvSpPr/>
          <p:nvPr/>
        </p:nvSpPr>
        <p:spPr>
          <a:xfrm>
            <a:off x="5410080" y="2286000"/>
            <a:ext cx="83844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20"/>
          <p:cNvSpPr/>
          <p:nvPr/>
        </p:nvSpPr>
        <p:spPr>
          <a:xfrm>
            <a:off x="6477120" y="228600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21"/>
          <p:cNvSpPr/>
          <p:nvPr/>
        </p:nvSpPr>
        <p:spPr>
          <a:xfrm>
            <a:off x="7543800" y="228600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AutoShape 22"/>
          <p:cNvSpPr/>
          <p:nvPr/>
        </p:nvSpPr>
        <p:spPr>
          <a:xfrm>
            <a:off x="1332000" y="228600"/>
            <a:ext cx="5327640" cy="1255680"/>
          </a:xfrm>
          <a:prstGeom prst="cloudCallout">
            <a:avLst>
              <a:gd name="adj1" fmla="val -51736"/>
              <a:gd name="adj2" fmla="val 3798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но ли 13 шариков раздели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4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23"/>
          <p:cNvSpPr/>
          <p:nvPr/>
        </p:nvSpPr>
        <p:spPr>
          <a:xfrm>
            <a:off x="5580000" y="476280"/>
            <a:ext cx="2049480" cy="838080"/>
          </a:xfrm>
          <a:prstGeom prst="cloudCallout">
            <a:avLst>
              <a:gd name="adj1" fmla="val 81583"/>
              <a:gd name="adj2" fmla="val 37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думаю нет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2286000" y="33526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33520" y="4876920"/>
            <a:ext cx="822960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4495680" y="33526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27"/>
          <p:cNvSpPr/>
          <p:nvPr/>
        </p:nvSpPr>
        <p:spPr>
          <a:xfrm>
            <a:off x="6705720" y="33526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1219320" y="525780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3 : 4 = 3 (ост. 1)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4046E-006 L -0.1125 0.28856 E">
                                      <p:cBhvr>
                                        <p:cTn id="188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185E-006 L -0.0875 0.35514 E">
                                      <p:cBhvr>
                                        <p:cTn id="190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4046E-006 L -0.10417 0.23306 E">
                                      <p:cBhvr>
                                        <p:cTn id="192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6185E-006 L -0.06667 0.37734 E">
                                      <p:cBhvr>
                                        <p:cTn id="196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6185E-006 L -0.02916 0.36624 E">
                                      <p:cBhvr>
                                        <p:cTn id="198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93642E-007 L -0.04583 0.23306 E">
                                      <p:cBhvr>
                                        <p:cTn id="200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93642E-007 L 0.00416 0.25526 E">
                                      <p:cBhvr>
                                        <p:cTn id="204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185E-006 L 0.02083 0.36624 E">
                                      <p:cBhvr>
                                        <p:cTn id="20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93642E-007 L 0.05417 0.22196 E">
                                      <p:cBhvr>
                                        <p:cTn id="208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526E-006 L 0.07916 0.36624 E">
                                      <p:cBhvr>
                                        <p:cTn id="21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526E-006 L 0.1125 0.33294 E">
                                      <p:cBhvr>
                                        <p:cTn id="214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6.93642E-007 L 0.1 0.22196 E">
                                      <p:cBhvr>
                                        <p:cTn id="216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6.93642E-007 L 0.02917 -0.08879 E">
                                      <p:cBhvr>
                                        <p:cTn id="220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491976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Comic Sans MS"/>
              </a:rPr>
              <a:t>ПРАВИЛО 1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делении с остатком результат записывают двумя числами. Первое число называют неполным частным, второе – остатком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914400" y="4267080"/>
            <a:ext cx="76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3 : 4 =     (ост.   )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192920" y="42670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7012080" y="42670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120"/>
                            </p:stCondLst>
                            <p:childTnLst>
                              <p:par>
                                <p:cTn id="23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9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0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1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42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120"/>
                            </p:stCondLst>
                            <p:childTnLst>
                              <p:par>
                                <p:cTn id="24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5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6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7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48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5:51:22Z</dcterms:created>
  <dc:creator>Николай</dc:creator>
  <dc:description/>
  <dc:language>en-US</dc:language>
  <cp:lastModifiedBy>1</cp:lastModifiedBy>
  <dcterms:modified xsi:type="dcterms:W3CDTF">2014-02-18T08:40:25Z</dcterms:modified>
  <cp:revision>38</cp:revision>
  <dc:subject/>
  <dc:title>Слайд 1</dc:title>
</cp:coreProperties>
</file>