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5E0-9738-4F11-83D9-7CE1F6CC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F0F-A234-4026-819B-415630A8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C2F-381C-4C5B-8DF5-D9E7073B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9B7-81E9-4EAB-A98D-230261CF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184B6-E5AD-423C-B923-18A9A397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201AA-7956-4AD2-90BE-8B1B35A3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F6B53-A31E-4729-A1AA-1D39CD81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3CB9B-FF38-43AF-84A3-B63F7BCB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5E7C2-F92C-4368-B1B3-DB4A72C4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66621-1EB7-4CB5-954A-1528B52A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08CF9-8398-4CD9-9492-78D720CF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D0F-E0BF-4CF0-B0CB-FA86F691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B2A7B-818C-465E-8895-24C21701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0E211-5946-40BA-92E1-A81EEB2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6EDE3-7B98-41E9-80FF-F7A5DBFD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6754C-5A31-413B-8976-B90805D0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898F6-F99D-496D-8234-160D0AAB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E16F2-2E56-45BF-BCCB-4266A969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BCDB2-DF72-4F5F-910C-19DD9FE7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7F82D-FC50-4F6A-B1E8-F413959C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B305F-E4E9-4E01-AB67-B9AC57F0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5AD57-49E0-49F1-BD82-D06E78D5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11C-B554-4536-8103-121DBE64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48EEE-E675-423B-A970-34E6DF9F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47325-47B8-4A56-9E71-8FCC0210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FA260-6974-45D3-9205-8B2673BA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C258E-57C8-4CAB-B3AF-6AF7452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9C645-3D97-47CB-A685-0147CA1F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DE4E6-1B1C-4875-8D2B-C7A795DC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FF125-1811-4A50-B995-AAE46BC7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D12E2C-4EF5-4D96-8792-FAA95B41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C9896-8858-4CA6-87CC-0C1CDDBC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480DD-3017-4B42-8AAA-5954A950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F71-8714-40B5-8092-E34AF897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785F9-3BE2-4109-B0A9-80FD89AC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E5649-BBBC-4D05-92E8-02692C9F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46FBD6-1B54-4886-AE9E-54C721D2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24B24-C47E-4E48-9720-14B3AEB8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C20DE-1E35-487B-B178-9FE9BEBD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1051CB-5EBC-4B7A-8F84-ADD6FEF2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BE16E-DA5B-4EA0-AE67-7A972A34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C84B1-4D46-4B8B-BE9C-48BEC07F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82A1D-8101-4048-BF74-37EB11DA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952E2-5A85-46F6-87C4-1FAC53D0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C2D-CD12-41C1-A2C9-5B79F08D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2A1D1-F648-45E5-B8FC-D952E452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A66D5-7426-40F8-9B52-EEE5346B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C3C92-AAB3-4572-9DC2-6DD83651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299B7-D548-4098-B258-EAB7E7B4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33753-F308-4777-AF6D-FB117D56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33822-0BBD-47B2-BBBE-1C856992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56B4C-7E14-47BC-BB1A-46188BAD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4AB45-B1B0-4176-95B3-CE208311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32C3F-0136-41E9-9873-3CA86402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D662D-DE57-4EEC-8284-B97E214C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503-4951-49FC-B7AF-9D476CB6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34E7B-7812-48C9-A4A1-C769262F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D52A8-4A1B-440A-B6E7-9D682499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5E533-5542-4B8F-BE8E-D346D153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A93B3-6FE1-42FE-828C-89CB2122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7ECFE-D96D-4D44-8806-CEEA8C5B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6D043-474F-4FEE-BDCA-BF30CF39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BDCA4-FCFB-4159-B46B-1F00A7C9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A4A4D0-88B8-4B7F-BB32-4E87A33F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7C1AE-303A-4E57-9346-EC98AB9B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E9253-D2B0-41CF-9B52-BD83855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92E-98F8-4FD8-A531-DECC83E4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D3C2B-9D38-465A-987C-1DCE342B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2BED2-2A25-4FF0-9C8A-30E5F67A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C119B-DBA1-4200-B960-FF747D83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997-48BA-475A-A358-DA39A79F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8CE-2FDB-4CAD-90A5-A68D57AD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18B5-F2DA-497A-A0D2-016F694CABF8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E268-B406-4884-A767-F6E67E05B4B1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1EA5-79F2-47C3-9B67-4670758EABC1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4284-D5F7-4ABC-BCA9-329A9831D8D9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C743-E4FA-4F4D-970D-5669DA771665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7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43F6-A101-40B8-BBDA-C70B17AB6B3F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324000" y="671400"/>
            <a:ext cx="8351640" cy="540072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500040" y="142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КАК  ЗВЕРИ К ЗИМЕ ГОТОВЯТСЯ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5504760" y="627372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а: Гордеева С.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535280" cy="360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4356000" y="3141720"/>
            <a:ext cx="4395960" cy="327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7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7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7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7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E:\берога.jpeg"/>
          <p:cNvPicPr/>
          <p:nvPr/>
        </p:nvPicPr>
        <p:blipFill>
          <a:blip r:embed="rId1"/>
          <a:stretch/>
        </p:blipFill>
        <p:spPr>
          <a:xfrm>
            <a:off x="611280" y="476280"/>
            <a:ext cx="5040360" cy="3457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E:\медведь в бероге.jpg"/>
          <p:cNvPicPr/>
          <p:nvPr/>
        </p:nvPicPr>
        <p:blipFill>
          <a:blip r:embed="rId2"/>
          <a:stretch/>
        </p:blipFill>
        <p:spPr>
          <a:xfrm>
            <a:off x="4716360" y="2421000"/>
            <a:ext cx="4029120" cy="417204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"/>
          <p:cNvSpPr/>
          <p:nvPr/>
        </p:nvSpPr>
        <p:spPr>
          <a:xfrm>
            <a:off x="468360" y="4513320"/>
            <a:ext cx="403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Как на горке- снег, снег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И под горкой-снег, снег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И на елке – снег, сне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А под снегом спит мед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Тише, тише. Не шум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7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7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7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7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7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7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27000" y="31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E:\медведь в бероге.jpg"/>
          <p:cNvPicPr/>
          <p:nvPr/>
        </p:nvPicPr>
        <p:blipFill>
          <a:blip r:embed="rId2"/>
          <a:stretch/>
        </p:blipFill>
        <p:spPr>
          <a:xfrm>
            <a:off x="539640" y="4557600"/>
            <a:ext cx="3240360" cy="211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E:\заяц зимой.jpg"/>
          <p:cNvPicPr/>
          <p:nvPr/>
        </p:nvPicPr>
        <p:blipFill>
          <a:blip r:embed="rId3"/>
          <a:stretch/>
        </p:blipFill>
        <p:spPr>
          <a:xfrm>
            <a:off x="6084720" y="4152960"/>
            <a:ext cx="2808360" cy="2514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"/>
          <p:cNvPicPr/>
          <p:nvPr/>
        </p:nvPicPr>
        <p:blipFill>
          <a:blip r:embed="rId4"/>
          <a:stretch/>
        </p:blipFill>
        <p:spPr>
          <a:xfrm>
            <a:off x="3195720" y="836640"/>
            <a:ext cx="280836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476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СКОРО    НАСТУПИТ   ЗИМА,  ВЫПАДЕТ  СНЕГ  И  ЗВЕРЯМ БУДЕТ  ТРУДНО  НАЙТИ   СЕБЕ  ЕДУ.  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НЕ  БУДЕТ  НИ  ТРАВЫ, НИ  ГРИБОВ,  НИ ЯГОД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ДАВАЙТЕ  УЗНАЕМ,  КАК  ЗВЕРИ ГОТОВЯТСЯ  К  ЗИМЕ?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А  ДЛЯ  ЭТОГО  ОТПРАВИМСЯ   В  ЛЕС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 advTm="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E:\белка летом.jpg"/>
          <p:cNvPicPr/>
          <p:nvPr/>
        </p:nvPicPr>
        <p:blipFill>
          <a:blip r:embed="rId1"/>
          <a:stretch/>
        </p:blipFill>
        <p:spPr>
          <a:xfrm>
            <a:off x="250920" y="18900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1"/>
          <p:cNvSpPr/>
          <p:nvPr/>
        </p:nvSpPr>
        <p:spPr>
          <a:xfrm>
            <a:off x="2286000" y="1582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4932360" y="779400"/>
            <a:ext cx="37432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Лес осенний облет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Льется с веток листопа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Скоро белка поменя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Золотистый свой наряд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468360" y="4062240"/>
            <a:ext cx="318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Шубка зимняя на 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Станет серой, серебр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Хвостик белочки пушист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" descr="E:\белка зимой.jpg"/>
          <p:cNvPicPr/>
          <p:nvPr/>
        </p:nvPicPr>
        <p:blipFill>
          <a:blip r:embed="rId2"/>
          <a:stretch/>
        </p:blipFill>
        <p:spPr>
          <a:xfrm>
            <a:off x="3630600" y="2687760"/>
            <a:ext cx="5329080" cy="398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7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7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7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7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7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7" descr="E:\ягодки.jpg"/>
          <p:cNvPicPr/>
          <p:nvPr/>
        </p:nvPicPr>
        <p:blipFill>
          <a:blip r:embed="rId1"/>
          <a:stretch/>
        </p:blipFill>
        <p:spPr>
          <a:xfrm>
            <a:off x="673200" y="490680"/>
            <a:ext cx="3240000" cy="2361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E:\грибочки.jpeg"/>
          <p:cNvPicPr/>
          <p:nvPr/>
        </p:nvPicPr>
        <p:blipFill>
          <a:blip r:embed="rId2"/>
          <a:stretch/>
        </p:blipFill>
        <p:spPr>
          <a:xfrm>
            <a:off x="5292720" y="490680"/>
            <a:ext cx="3095640" cy="2361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E:\желуди.jpg"/>
          <p:cNvPicPr/>
          <p:nvPr/>
        </p:nvPicPr>
        <p:blipFill>
          <a:blip r:embed="rId3"/>
          <a:stretch/>
        </p:blipFill>
        <p:spPr>
          <a:xfrm>
            <a:off x="673200" y="3860640"/>
            <a:ext cx="3230640" cy="2030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E:\орехи.jpg"/>
          <p:cNvPicPr/>
          <p:nvPr/>
        </p:nvPicPr>
        <p:blipFill>
          <a:blip r:embed="rId4"/>
          <a:stretch/>
        </p:blipFill>
        <p:spPr>
          <a:xfrm>
            <a:off x="5292720" y="3843360"/>
            <a:ext cx="3095640" cy="2030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4716360" y="9079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Не страшна зима бел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и ее деткам- бельчатам  всю зиму они будут кормиться тем, что натаск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Белка осенью в дуп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2" descr="E:\еще бельчата.jpg"/>
          <p:cNvPicPr/>
          <p:nvPr/>
        </p:nvPicPr>
        <p:blipFill>
          <a:blip r:embed="rId1"/>
          <a:stretch/>
        </p:blipFill>
        <p:spPr>
          <a:xfrm>
            <a:off x="324000" y="404640"/>
            <a:ext cx="3960720" cy="3571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E:\бельчата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974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7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7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7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7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7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7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7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7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7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250920" y="571680"/>
            <a:ext cx="571500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5"/>
          <p:cNvSpPr/>
          <p:nvPr/>
        </p:nvSpPr>
        <p:spPr>
          <a:xfrm>
            <a:off x="468360" y="4394160"/>
            <a:ext cx="3408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Осенью меняет и заяц свою шубку серую летню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на белоснежную, теплую и пушисту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Вот и вся заячья подготовка к зи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2" descr="E:\заяц и зайченок зимой.jpg"/>
          <p:cNvPicPr/>
          <p:nvPr/>
        </p:nvPicPr>
        <p:blipFill>
          <a:blip r:embed="rId2"/>
          <a:stretch/>
        </p:blipFill>
        <p:spPr>
          <a:xfrm>
            <a:off x="4211640" y="2924280"/>
            <a:ext cx="466092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7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7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7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7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7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7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E:\заяц бежит.jpg"/>
          <p:cNvPicPr/>
          <p:nvPr/>
        </p:nvPicPr>
        <p:blipFill>
          <a:blip r:embed="rId1"/>
          <a:stretch/>
        </p:blipFill>
        <p:spPr>
          <a:xfrm>
            <a:off x="204840" y="333360"/>
            <a:ext cx="3214800" cy="2374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E:\заяц грызет кору..jpg"/>
          <p:cNvPicPr/>
          <p:nvPr/>
        </p:nvPicPr>
        <p:blipFill>
          <a:blip r:embed="rId2"/>
          <a:stretch/>
        </p:blipFill>
        <p:spPr>
          <a:xfrm>
            <a:off x="6156360" y="3141720"/>
            <a:ext cx="2736720" cy="3527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E:\заяц в снегу..jpg"/>
          <p:cNvPicPr/>
          <p:nvPr/>
        </p:nvPicPr>
        <p:blipFill>
          <a:blip r:embed="rId3"/>
          <a:stretch/>
        </p:blipFill>
        <p:spPr>
          <a:xfrm>
            <a:off x="468360" y="3141720"/>
            <a:ext cx="3767040" cy="26636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"/>
          <p:cNvSpPr/>
          <p:nvPr/>
        </p:nvSpPr>
        <p:spPr>
          <a:xfrm>
            <a:off x="4249440" y="765000"/>
            <a:ext cx="30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 косого нет берлоги,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Не нужна ему н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От врагов спасают ног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а от  голода- к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75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7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7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7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7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7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7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2286000" y="2274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250920" y="1486080"/>
            <a:ext cx="49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Он коричневый, лохмат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Угадайте-ка, ребя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Кто, построив теплый д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Спит всю зиму в доме том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E:\медведь.jpg"/>
          <p:cNvPicPr/>
          <p:nvPr/>
        </p:nvPicPr>
        <p:blipFill>
          <a:blip r:embed="rId1"/>
          <a:stretch/>
        </p:blipFill>
        <p:spPr>
          <a:xfrm>
            <a:off x="4140360" y="260280"/>
            <a:ext cx="4824360" cy="3313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E:\медвежата.jpg"/>
          <p:cNvPicPr/>
          <p:nvPr/>
        </p:nvPicPr>
        <p:blipFill>
          <a:blip r:embed="rId2"/>
          <a:stretch/>
        </p:blipFill>
        <p:spPr>
          <a:xfrm>
            <a:off x="395280" y="3141720"/>
            <a:ext cx="417672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7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5:35:41Z</dcterms:created>
  <dc:creator>SKORLEON</dc:creator>
  <dc:description/>
  <dc:language>en-US</dc:language>
  <cp:lastModifiedBy>Aser</cp:lastModifiedBy>
  <dcterms:modified xsi:type="dcterms:W3CDTF">2019-01-04T15:03:39Z</dcterms:modified>
  <cp:revision>32</cp:revision>
  <dc:subject/>
  <dc:title>КАК  ЗВЕРИ К ЗИМЕ ГОТОВЯТСЯ….</dc:title>
</cp:coreProperties>
</file>