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273-20CC-4404-B15F-C63AD3E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DF8-DE0F-4E9B-8512-E48367D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380-B2BE-4C49-A6E1-E2D62CF8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B2D-2989-4B62-A1AE-DC2B7E0D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EB9B9-704A-4E91-9D78-4C912B18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C81F1-9C26-4B75-B2B7-68B762E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37F71-9FF4-41FF-8BC4-F214715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3658-2C9B-4662-AF0D-D918AE79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B497D-EB52-499E-8CE9-A685EA2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B9CED-3B51-4163-9E76-8953E5E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961B8-7FBC-4429-991D-7511FD9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8C9-905C-4151-BCB4-88E77FC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3C30-11D4-4443-88A2-688CE2E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0B1D0-D5D5-46BC-82C6-223FFDE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7C0F8-B29F-4D86-BC8D-3809D01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B057-3DEB-43ED-A3F4-197FD76B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E990-77D2-415B-9D4A-B2849BF4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9DAAA-B65F-4D52-A73D-B6D7D1E3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F6CE0-3E51-4536-9C4F-8B431C7D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639EE-0A7D-4323-9BC3-CB8CD9A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28910-76B2-49F2-9267-5D9C277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467B-577A-4323-B304-81C7DF9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22B-4FDF-4DFD-92D0-3E0EF51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94ED8-F663-426C-9118-E199941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F671E-82FE-4175-B8E1-A29F8F1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1E27A-1D08-4986-9FFD-447A3AE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9ED39-F09F-4110-9C44-E2FAEF8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7EBFD-5006-458C-ADB7-81836C4A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9D2A2-6717-46A7-9BEC-1DDC035E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A8ADE-D2CD-4198-861F-088C8717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0EBE1-F8DF-4CCE-A2A5-1FD2D84D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1CDBB-4F15-46ED-8FF8-1E486A6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205D4-EDEF-4533-BB46-692E37C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D3A-EDEC-46BD-9A68-5C20EAD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E539F-F1C4-49E6-BA4D-9224CFB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0224F-28FB-4942-9790-F578529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9A790-EB0C-4EA5-80F2-E170935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2BD0C-A128-46D1-B837-9FAFFCF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B04FC-0AE9-41FC-8561-B5295EC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B646D-7729-41DD-942F-B99A236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1B525-E181-4A9A-BAA1-8686F66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7D29F-3E0F-48D5-9B4E-D08D66E8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5278A-9901-47CC-BDA2-AEC68FE9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9E243-72CD-43E9-AFF5-0D242C1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920-3B97-4C3F-8DA0-93756253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97D13-D896-4274-81F0-8EC2E49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4C638-8140-47C3-BBDE-95356182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55653-E7FB-41EE-A1A8-7A8CE99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52530-C925-439D-9AE4-1FCD5BE9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4BCB5-DE9B-4B09-8493-79E92B6D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889FC-D0B8-404D-9080-1A10CA1E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2F4FB-9086-4DDB-AB66-3666E32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B26FF-F638-4349-9AF9-FEDD8B47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A9EA4-3A84-411C-8DB7-76E22031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2F61D-ACD2-41B3-9840-677A455D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9FD-2256-415B-AFBC-577FC9BC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B48EC-B1B5-4B92-BBF9-A4BC95FE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9A028-C1B5-45E0-A48C-69D2A995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9DF2D-4B2C-464B-B9B5-A40F32C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AFCC0-17B8-4554-BF1E-93A14455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3656A-FFD4-4EFC-8E69-FCD20727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7BAFD-2ED3-4CE6-AFAE-BEBE809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1392D-16D0-4872-9892-22BE55D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FF56F-3BA9-4E32-9E4B-4D7A236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D2855-DDBA-4000-8B62-6D096310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3385A-A02E-450B-920B-368C047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EAD-5089-472E-B541-7B6C9AA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A0DEB-0A8F-4915-AAEF-A8A72278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DE3CF-1641-481B-BD2F-7C5FF76C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1FC53-FBA6-4F16-8713-8786F1D9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353-F0C9-4E45-B9F8-9115BD2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C14-8472-4991-84FE-3AC534B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DAD-D268-4EB3-B5C1-9773B595493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ED7D-7E53-4F4F-A74C-F155F7DA269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F093-94D4-4B5A-9DFB-C7367AB69C4B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096-671F-4D91-9057-F70F2B8B1CC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47F-8876-43EC-8788-04E7E2073F0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9B4-3671-42CC-9E29-8E6CA75C22C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324000" y="671400"/>
            <a:ext cx="8351640" cy="54007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500040" y="142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КАК  ЗВЕРИ К ЗИМЕ ГОТОВЯТС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5504760" y="6273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Гордеева С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535280" cy="360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395960" cy="32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7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7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7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7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E:\берога.jpeg"/>
          <p:cNvPicPr/>
          <p:nvPr/>
        </p:nvPicPr>
        <p:blipFill>
          <a:blip r:embed="rId1"/>
          <a:stretch/>
        </p:blipFill>
        <p:spPr>
          <a:xfrm>
            <a:off x="611280" y="476280"/>
            <a:ext cx="5040360" cy="3457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E:\медведь в бероге.jpg"/>
          <p:cNvPicPr/>
          <p:nvPr/>
        </p:nvPicPr>
        <p:blipFill>
          <a:blip r:embed="rId2"/>
          <a:stretch/>
        </p:blipFill>
        <p:spPr>
          <a:xfrm>
            <a:off x="4716360" y="2421000"/>
            <a:ext cx="4029120" cy="41720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"/>
          <p:cNvSpPr/>
          <p:nvPr/>
        </p:nvSpPr>
        <p:spPr>
          <a:xfrm>
            <a:off x="468360" y="4513320"/>
            <a:ext cx="40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Как на горке- снег, сн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под горкой-снег, сн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на елке – снег, с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А под снегом спит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Тише, тише. Не шум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7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7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7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7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2700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E:\медведь в бероге.jpg"/>
          <p:cNvPicPr/>
          <p:nvPr/>
        </p:nvPicPr>
        <p:blipFill>
          <a:blip r:embed="rId2"/>
          <a:stretch/>
        </p:blipFill>
        <p:spPr>
          <a:xfrm>
            <a:off x="539640" y="4557600"/>
            <a:ext cx="3240360" cy="211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E:\заяц зимой.jpg"/>
          <p:cNvPicPr/>
          <p:nvPr/>
        </p:nvPicPr>
        <p:blipFill>
          <a:blip r:embed="rId3"/>
          <a:stretch/>
        </p:blipFill>
        <p:spPr>
          <a:xfrm>
            <a:off x="6084720" y="4152960"/>
            <a:ext cx="2808360" cy="2514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4"/>
          <a:stretch/>
        </p:blipFill>
        <p:spPr>
          <a:xfrm>
            <a:off x="3195720" y="836640"/>
            <a:ext cx="2808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476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СКОРО    НАСТУПИТ   ЗИМА,  ВЫПАДЕТ  СНЕГ  И  ЗВЕРЯМ БУДЕТ  ТРУДНО  НАЙТИ   СЕБЕ  ЕДУ.  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НЕ  БУДЕТ  НИ  ТРАВЫ, НИ  ГРИБОВ,  НИ ЯГОД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ДАВАЙТЕ  УЗНАЕМ,  КАК  ЗВЕРИ ГОТОВЯТСЯ  К  ЗИМЕ?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А  ДЛЯ  ЭТОГО  ОТПРАВИМСЯ   В  ЛЕС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E:\белка летом.jpg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"/>
          <p:cNvSpPr/>
          <p:nvPr/>
        </p:nvSpPr>
        <p:spPr>
          <a:xfrm>
            <a:off x="2286000" y="158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4932360" y="779400"/>
            <a:ext cx="37432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Лес осенний облет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Льется с веток листопа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Скоро белка поменя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Золотистый свой наряд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468360" y="4062240"/>
            <a:ext cx="318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Шубка зимняя на 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Станет серой, серебр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Хвостик белочки пушист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E:\белка зимой.jpg"/>
          <p:cNvPicPr/>
          <p:nvPr/>
        </p:nvPicPr>
        <p:blipFill>
          <a:blip r:embed="rId2"/>
          <a:stretch/>
        </p:blipFill>
        <p:spPr>
          <a:xfrm>
            <a:off x="3630600" y="2687760"/>
            <a:ext cx="5329080" cy="398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7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7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7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E:\ягодки.jpg"/>
          <p:cNvPicPr/>
          <p:nvPr/>
        </p:nvPicPr>
        <p:blipFill>
          <a:blip r:embed="rId1"/>
          <a:stretch/>
        </p:blipFill>
        <p:spPr>
          <a:xfrm>
            <a:off x="673200" y="490680"/>
            <a:ext cx="3240000" cy="2361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E:\грибочки.jpeg"/>
          <p:cNvPicPr/>
          <p:nvPr/>
        </p:nvPicPr>
        <p:blipFill>
          <a:blip r:embed="rId2"/>
          <a:stretch/>
        </p:blipFill>
        <p:spPr>
          <a:xfrm>
            <a:off x="5292720" y="490680"/>
            <a:ext cx="3095640" cy="2361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E:\желуди.jpg"/>
          <p:cNvPicPr/>
          <p:nvPr/>
        </p:nvPicPr>
        <p:blipFill>
          <a:blip r:embed="rId3"/>
          <a:stretch/>
        </p:blipFill>
        <p:spPr>
          <a:xfrm>
            <a:off x="673200" y="3860640"/>
            <a:ext cx="3230640" cy="2030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E:\орехи.jpg"/>
          <p:cNvPicPr/>
          <p:nvPr/>
        </p:nvPicPr>
        <p:blipFill>
          <a:blip r:embed="rId4"/>
          <a:stretch/>
        </p:blipFill>
        <p:spPr>
          <a:xfrm>
            <a:off x="5292720" y="3843360"/>
            <a:ext cx="30956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4716360" y="907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е страшна зима бел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ее деткам- бельчатам  всю зиму они будут кормиться тем, что натаск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Белка осенью в дуп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E:\еще бельчата.jpg"/>
          <p:cNvPicPr/>
          <p:nvPr/>
        </p:nvPicPr>
        <p:blipFill>
          <a:blip r:embed="rId1"/>
          <a:stretch/>
        </p:blipFill>
        <p:spPr>
          <a:xfrm>
            <a:off x="324000" y="404640"/>
            <a:ext cx="3960720" cy="3571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E:\бельчата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974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7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7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7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250920" y="571680"/>
            <a:ext cx="571500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468360" y="4394160"/>
            <a:ext cx="3408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Осенью меняет и заяц свою шубку серую летню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на белоснежную, теплую и пушист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Вот и вся заячья подготовка к з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2" descr="E:\заяц и зайченок зимой.jpg"/>
          <p:cNvPicPr/>
          <p:nvPr/>
        </p:nvPicPr>
        <p:blipFill>
          <a:blip r:embed="rId2"/>
          <a:stretch/>
        </p:blipFill>
        <p:spPr>
          <a:xfrm>
            <a:off x="4211640" y="2924280"/>
            <a:ext cx="466092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7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E:\заяц бежит.jpg"/>
          <p:cNvPicPr/>
          <p:nvPr/>
        </p:nvPicPr>
        <p:blipFill>
          <a:blip r:embed="rId1"/>
          <a:stretch/>
        </p:blipFill>
        <p:spPr>
          <a:xfrm>
            <a:off x="204840" y="333360"/>
            <a:ext cx="3214800" cy="2374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E:\заяц грызет кору..jpg"/>
          <p:cNvPicPr/>
          <p:nvPr/>
        </p:nvPicPr>
        <p:blipFill>
          <a:blip r:embed="rId2"/>
          <a:stretch/>
        </p:blipFill>
        <p:spPr>
          <a:xfrm>
            <a:off x="6156360" y="3141720"/>
            <a:ext cx="2736720" cy="352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E:\заяц в снегу..jpg"/>
          <p:cNvPicPr/>
          <p:nvPr/>
        </p:nvPicPr>
        <p:blipFill>
          <a:blip r:embed="rId3"/>
          <a:stretch/>
        </p:blipFill>
        <p:spPr>
          <a:xfrm>
            <a:off x="468360" y="3141720"/>
            <a:ext cx="3767040" cy="2663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4249440" y="765000"/>
            <a:ext cx="30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 косого нет берлоги,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е нужна ему н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От врагов спасают ног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а от  голода- к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7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7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2286000" y="227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50920" y="148608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Он коричневый, лохмат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Угадайте-ка, ребя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Кто, построив теплый д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Спит всю зиму в доме том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E:\медведь.jpg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3313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E:\медвежата.jpg"/>
          <p:cNvPicPr/>
          <p:nvPr/>
        </p:nvPicPr>
        <p:blipFill>
          <a:blip r:embed="rId2"/>
          <a:stretch/>
        </p:blipFill>
        <p:spPr>
          <a:xfrm>
            <a:off x="395280" y="3141720"/>
            <a:ext cx="417672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5:35:41Z</dcterms:created>
  <dc:creator>SKORLEON</dc:creator>
  <dc:description/>
  <dc:language>en-US</dc:language>
  <cp:lastModifiedBy>Aser</cp:lastModifiedBy>
  <dcterms:modified xsi:type="dcterms:W3CDTF">2019-01-04T15:03:39Z</dcterms:modified>
  <cp:revision>32</cp:revision>
  <dc:subject/>
  <dc:title>КАК  ЗВЕРИ К ЗИМЕ ГОТОВЯТСЯ….</dc:title>
</cp:coreProperties>
</file>