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BB1-3CB3-49C2-B3DA-FD94E971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144-6B08-486F-B6D5-9E1CE6A9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918-5CFF-4009-9C3E-5650B422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394-E9AE-430D-9204-AD6D1BA2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1E85-B137-42B2-A278-344BBD10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10BD-B831-49BD-A404-0FDBA12A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EA38-667F-4831-AB8B-8140371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AA50-224E-4E0D-848F-77C8DFBE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004D-D6B1-4479-A9A2-5ED06532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9C2-C290-462B-9194-5383C382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8818-32CB-462C-95BD-AA02DF0B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017-2F2D-45AD-A78E-C09CB2C1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BC8D-BE3F-423D-A553-79A099BC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795A-117F-49D6-AC9B-B9A23B4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2F9-2DB6-49B3-BEDA-A5496A68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A0D9-C84F-4021-B25D-D310E6BF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1BFA-F860-4B5E-92AF-A3845EDF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F62-32C3-416F-B6DF-05D6EC5B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05C-315F-4063-B061-2A0A623B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0E9-97CA-4370-A7CB-D2B500C3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6D8-03A9-4D81-8138-13B9256D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67F-B91D-4256-AB1D-590469AA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4A1-1425-44E8-B523-8DB6FE0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565-3EE2-4343-9F98-00981CED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A1F7-A527-4C77-A11D-34FE6299DB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6C06-2F4D-490B-B57C-9AF16E9F31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20240"/>
            <a:ext cx="77724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Методическая разработка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тикуляционная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гимнастика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для постановки звука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Р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1280" y="5229360"/>
            <a:ext cx="640080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БУ ДО ЦППМСП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. Санкт –Петербур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Учитель-логопед Гроздова Ирина  Никола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2017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116000" y="333360"/>
            <a:ext cx="2835360" cy="3687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252000" y="4291920"/>
            <a:ext cx="40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будто варенье лежит на губе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ижу его «чашечкой» в ротик себ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8" descr="вкусное варенье"/>
          <p:cNvPicPr/>
          <p:nvPr/>
        </p:nvPicPr>
        <p:blipFill>
          <a:blip r:embed="rId2"/>
          <a:stretch/>
        </p:blipFill>
        <p:spPr>
          <a:xfrm>
            <a:off x="4952880" y="1916280"/>
            <a:ext cx="30276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00000" y="189000"/>
            <a:ext cx="2840040" cy="3681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323640" y="458100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— как кисточка мо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ею нёбо крашу 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маляр"/>
          <p:cNvPicPr/>
          <p:nvPr/>
        </p:nvPicPr>
        <p:blipFill>
          <a:blip r:embed="rId2"/>
          <a:stretch/>
        </p:blipFill>
        <p:spPr>
          <a:xfrm>
            <a:off x="5726160" y="1773360"/>
            <a:ext cx="259380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684360" y="620640"/>
            <a:ext cx="2840040" cy="3687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611280" y="4292280"/>
            <a:ext cx="273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т широко открываю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нёбу язык прижимаю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ыгает вниз язычок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раздаётся щелч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8" descr="лошадка"/>
          <p:cNvPicPr/>
          <p:nvPr/>
        </p:nvPicPr>
        <p:blipFill>
          <a:blip r:embed="rId2"/>
          <a:stretch/>
        </p:blipFill>
        <p:spPr>
          <a:xfrm>
            <a:off x="4716360" y="1052640"/>
            <a:ext cx="38419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72960" y="549360"/>
            <a:ext cx="3510000" cy="4527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"/>
          <p:cNvSpPr/>
          <p:nvPr/>
        </p:nvSpPr>
        <p:spPr>
          <a:xfrm>
            <a:off x="1044360" y="544464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зубами в бугоро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ёт широкий язычо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11" descr="барабанщик"/>
          <p:cNvPicPr/>
          <p:nvPr/>
        </p:nvPicPr>
        <p:blipFill>
          <a:blip r:embed="rId2"/>
          <a:stretch/>
        </p:blipFill>
        <p:spPr>
          <a:xfrm>
            <a:off x="4838760" y="2565360"/>
            <a:ext cx="4305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79280" y="692280"/>
            <a:ext cx="3313080" cy="4308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78920" y="5445000"/>
            <a:ext cx="33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о открою ро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то щёлкну я вот-во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сосу язык на нёб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юсть вниз — и вся учёб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8" descr="грибочек"/>
          <p:cNvPicPr/>
          <p:nvPr/>
        </p:nvPicPr>
        <p:blipFill>
          <a:blip r:embed="rId2"/>
          <a:stretch/>
        </p:blipFill>
        <p:spPr>
          <a:xfrm>
            <a:off x="4859280" y="2395440"/>
            <a:ext cx="42847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0920" y="333360"/>
            <a:ext cx="5154480" cy="3525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1404360" y="4797000"/>
            <a:ext cx="22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Чашкой» ввер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«горкой» вниз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нётся мой язык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тист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8" descr="качели"/>
          <p:cNvPicPr/>
          <p:nvPr/>
        </p:nvPicPr>
        <p:blipFill>
          <a:blip r:embed="rId2"/>
          <a:stretch/>
        </p:blipFill>
        <p:spPr>
          <a:xfrm>
            <a:off x="4994280" y="3089160"/>
            <a:ext cx="41497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1341000"/>
            <a:ext cx="6400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1.Т. А.Воробьева , О.И. Крупенчу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"Логопедические упражнения: Артикуляционная гимнасти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2.Н.В.Нищева    «Веселая артикуляционная гимнастика ФГОС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3. Е. М. Косинова «Большой логопедический учебник  с заданиями и упражнениями для самых маленьких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539640" y="333360"/>
            <a:ext cx="3459240" cy="4557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539640" y="5229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а Нева-рек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улыбка широ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бки все мои видны —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краёв и до дес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2" descr="заборчик"/>
          <p:cNvPicPr/>
          <p:nvPr/>
        </p:nvPicPr>
        <p:blipFill>
          <a:blip r:embed="rId2"/>
          <a:stretch/>
        </p:blipFill>
        <p:spPr>
          <a:xfrm>
            <a:off x="5076720" y="2565360"/>
            <a:ext cx="40672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00040" y="549360"/>
            <a:ext cx="3152880" cy="4092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-757080" y="5013000"/>
            <a:ext cx="62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слегка прикрою ро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бы — «хоботом» вперёд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леко я их тяну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при долгом звуке: у- у-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8" descr="слоник пьёт"/>
          <p:cNvPicPr/>
          <p:nvPr/>
        </p:nvPicPr>
        <p:blipFill>
          <a:blip r:embed="rId2"/>
          <a:stretch/>
        </p:blipFill>
        <p:spPr>
          <a:xfrm>
            <a:off x="4572000" y="1644480"/>
            <a:ext cx="391320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3520" y="333360"/>
            <a:ext cx="3571920" cy="4605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 flipV="1" rot="10783200">
            <a:off x="-684360" y="5299920"/>
            <a:ext cx="570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ыпается язык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о спать он не привык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спросил у подбородка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й, какая там погодк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19640" y="2060640"/>
            <a:ext cx="3673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11280" y="404640"/>
            <a:ext cx="284004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69440" y="486828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ыбнись, не будь груб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равствуй, верхняя губа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424400" y="549360"/>
            <a:ext cx="37638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755640" y="4762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-973080" y="4833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ом давить стараюсь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щёку сильно упираюс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алась моя ще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мешок у хомя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108400" y="2001960"/>
            <a:ext cx="347688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68360" y="333360"/>
            <a:ext cx="3498840" cy="4551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180360" y="580500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й язык совсем не глуп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дит кругом возле губ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3" descr="часики"/>
          <p:cNvPicPr/>
          <p:nvPr/>
        </p:nvPicPr>
        <p:blipFill>
          <a:blip r:embed="rId2"/>
          <a:stretch/>
        </p:blipFill>
        <p:spPr>
          <a:xfrm>
            <a:off x="5003640" y="3016080"/>
            <a:ext cx="3961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68360" y="260280"/>
            <a:ext cx="3884400" cy="5062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43280" y="2940120"/>
            <a:ext cx="4158000" cy="3504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"/>
          <p:cNvSpPr/>
          <p:nvPr/>
        </p:nvSpPr>
        <p:spPr>
          <a:xfrm>
            <a:off x="395640" y="5516280"/>
            <a:ext cx="29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вигаю свой язык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 лениться не привы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т кончика до корн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кусаю всё проворн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360360" y="476280"/>
            <a:ext cx="3451320" cy="44686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470160" y="49417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бки верхние снаруж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м почистить очень нужн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бки нижние — не хуже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же чистки просят друж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8" descr="чистим зубки"/>
          <p:cNvPicPr/>
          <p:nvPr/>
        </p:nvPicPr>
        <p:blipFill>
          <a:blip r:embed="rId2"/>
          <a:stretch/>
        </p:blipFill>
        <p:spPr>
          <a:xfrm>
            <a:off x="4746600" y="1557360"/>
            <a:ext cx="3645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9:30:02Z</dcterms:created>
  <dc:creator>Main</dc:creator>
  <dc:description/>
  <dc:language>en-US</dc:language>
  <cp:lastModifiedBy> </cp:lastModifiedBy>
  <dcterms:modified xsi:type="dcterms:W3CDTF">2019-01-04T20:05:59Z</dcterms:modified>
  <cp:revision>8</cp:revision>
  <dc:subject/>
  <dc:title>Артикуляторная  гимнастика</dc:title>
</cp:coreProperties>
</file>