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8AC-D3B8-4A47-ACA8-6019BD12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C74-3280-410C-805D-AE03C7A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0CF-77F8-4CB5-9B26-062AFAAC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AC5-5FFE-4DFC-BD63-013D7DAF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0C0-64F7-4458-8CFF-11CEF1CE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E9A-AEF1-489C-8122-BF1E943E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2C94-28A4-4858-8BBA-DDA2050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5191-AD44-42E6-A3BD-7169BC7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BC1-85DC-4DBF-86E4-D048C24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610C-9502-4935-94E0-4A875E05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1114-DE65-43E0-8B41-8E2CB2E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A92-B0C5-49E6-BAC0-1235844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CCC5-C3DD-48F8-86E8-89E6AF9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4C59-E124-42BD-85C2-ECBD9E6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BC1F-6016-43EE-A10C-6CA2DFA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DD6-C574-423D-94B2-709A8BC7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016-CF63-4842-AEAB-FEF7DFAE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354-7319-47A3-B52B-B5FFB103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3EA-AB1A-4D5E-ACBD-F08F95D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71F-0723-4E00-91C7-5B167B5D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1CF-CA56-4E34-9FA6-1C16AFDB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79B-E41D-4D3F-B8C1-762532F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867-ECF5-4458-9427-6FFD6EA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05-265E-45B7-896C-0338941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788-3B0E-4990-82DB-B25B828001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5B9-E7DC-42A6-BE4E-F05C6C416F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20240"/>
            <a:ext cx="77724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етодическая разработка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тикуляционная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гимнастика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для постановки звука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Р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1280" y="5229360"/>
            <a:ext cx="6400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БУ ДО ЦППМС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. Санкт –Петербур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читель-логопед Гроздова Ирина  Никола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2017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333360"/>
            <a:ext cx="2835360" cy="368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252000" y="4291920"/>
            <a:ext cx="40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будто варенье лежит на губе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ижу его «чашечкой» в ротик себ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8" descr="вкусное варенье"/>
          <p:cNvPicPr/>
          <p:nvPr/>
        </p:nvPicPr>
        <p:blipFill>
          <a:blip r:embed="rId2"/>
          <a:stretch/>
        </p:blipFill>
        <p:spPr>
          <a:xfrm>
            <a:off x="4952880" y="1916280"/>
            <a:ext cx="302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00000" y="189000"/>
            <a:ext cx="2840040" cy="3681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23640" y="458100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— как кисточка мо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ею нёбо крашу 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маляр"/>
          <p:cNvPicPr/>
          <p:nvPr/>
        </p:nvPicPr>
        <p:blipFill>
          <a:blip r:embed="rId2"/>
          <a:stretch/>
        </p:blipFill>
        <p:spPr>
          <a:xfrm>
            <a:off x="5726160" y="1773360"/>
            <a:ext cx="259380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84360" y="620640"/>
            <a:ext cx="2840040" cy="3687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611280" y="4292280"/>
            <a:ext cx="273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т широко открываю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нёбу язык прижима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ыгает вниз язычо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раздаётся щелч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8" descr="лошадка"/>
          <p:cNvPicPr/>
          <p:nvPr/>
        </p:nvPicPr>
        <p:blipFill>
          <a:blip r:embed="rId2"/>
          <a:stretch/>
        </p:blipFill>
        <p:spPr>
          <a:xfrm>
            <a:off x="4716360" y="1052640"/>
            <a:ext cx="3841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72960" y="549360"/>
            <a:ext cx="3510000" cy="4527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1044360" y="544464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зубами в бугоро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ёт широкий язычо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1" descr="барабанщик"/>
          <p:cNvPicPr/>
          <p:nvPr/>
        </p:nvPicPr>
        <p:blipFill>
          <a:blip r:embed="rId2"/>
          <a:stretch/>
        </p:blipFill>
        <p:spPr>
          <a:xfrm>
            <a:off x="4838760" y="2565360"/>
            <a:ext cx="4305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79280" y="692280"/>
            <a:ext cx="3313080" cy="4308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78920" y="5445000"/>
            <a:ext cx="33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 открою ро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то щёлкну я вот-во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сосу язык на нёб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юсть вниз — и вся учёб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8" descr="грибочек"/>
          <p:cNvPicPr/>
          <p:nvPr/>
        </p:nvPicPr>
        <p:blipFill>
          <a:blip r:embed="rId2"/>
          <a:stretch/>
        </p:blipFill>
        <p:spPr>
          <a:xfrm>
            <a:off x="4859280" y="2395440"/>
            <a:ext cx="4284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333360"/>
            <a:ext cx="5154480" cy="3525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1404360" y="4797000"/>
            <a:ext cx="22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ашкой» ввер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«горкой» вни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нётся мой язык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ис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8" descr="качели"/>
          <p:cNvPicPr/>
          <p:nvPr/>
        </p:nvPicPr>
        <p:blipFill>
          <a:blip r:embed="rId2"/>
          <a:stretch/>
        </p:blipFill>
        <p:spPr>
          <a:xfrm>
            <a:off x="4994280" y="3089160"/>
            <a:ext cx="41497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1341000"/>
            <a:ext cx="6400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1.Т. А.Воробьева , О.И. Крупенчу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"Логопедические упражнения: Артикуляционная гимнасти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2.Н.В.Нищева    «Веселая артикуляционная гимнастика ФГОС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3. Е. М. Косинова «Большой логопедический учебник  с заданиями и упражнениями для самых маленьких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39640" y="333360"/>
            <a:ext cx="3459240" cy="45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9640" y="5229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а Нева-рек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лыбка широ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все мои видны 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краёв и до дес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2" descr="заборчик"/>
          <p:cNvPicPr/>
          <p:nvPr/>
        </p:nvPicPr>
        <p:blipFill>
          <a:blip r:embed="rId2"/>
          <a:stretch/>
        </p:blipFill>
        <p:spPr>
          <a:xfrm>
            <a:off x="5076720" y="2565360"/>
            <a:ext cx="4067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00040" y="549360"/>
            <a:ext cx="3152880" cy="4092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-757080" y="5013000"/>
            <a:ext cx="62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слегка прикрою ро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бы — «хоботом» вперё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ко я их тяну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и долгом звуке: у- у-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слоник пьёт"/>
          <p:cNvPicPr/>
          <p:nvPr/>
        </p:nvPicPr>
        <p:blipFill>
          <a:blip r:embed="rId2"/>
          <a:stretch/>
        </p:blipFill>
        <p:spPr>
          <a:xfrm>
            <a:off x="4572000" y="1644480"/>
            <a:ext cx="39132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3520" y="333360"/>
            <a:ext cx="3571920" cy="4605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 flipV="1" rot="10783200">
            <a:off x="-684360" y="5299920"/>
            <a:ext cx="57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ыпается язык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 спать он не привы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просил у подбородк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й, какая там погодк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2060640"/>
            <a:ext cx="367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404640"/>
            <a:ext cx="284004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69440" y="48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ыбнись, не будь груб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ствуй, верхняя губа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424400" y="549360"/>
            <a:ext cx="37638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55640" y="4762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-973080" y="4833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ом давить стараюс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щёку сильно упираюс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алась моя ще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мешок у хомя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108400" y="2001960"/>
            <a:ext cx="34768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333360"/>
            <a:ext cx="3498840" cy="4551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180360" y="580500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й язык совсем не глуп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дит кругом возле гу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" descr="часики"/>
          <p:cNvPicPr/>
          <p:nvPr/>
        </p:nvPicPr>
        <p:blipFill>
          <a:blip r:embed="rId2"/>
          <a:stretch/>
        </p:blipFill>
        <p:spPr>
          <a:xfrm>
            <a:off x="5003640" y="3016080"/>
            <a:ext cx="3961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260280"/>
            <a:ext cx="3884400" cy="506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43280" y="2940120"/>
            <a:ext cx="4158000" cy="3504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"/>
          <p:cNvSpPr/>
          <p:nvPr/>
        </p:nvSpPr>
        <p:spPr>
          <a:xfrm>
            <a:off x="395640" y="5516280"/>
            <a:ext cx="29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вигаю свой язы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 лениться не привы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т кончика до кор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кусаю всё проворн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60360" y="476280"/>
            <a:ext cx="3451320" cy="4468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470160" y="49417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верхние снаруж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 почистить очень нужн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бки нижние — не хуже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же чистки просят друж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чистим зубки"/>
          <p:cNvPicPr/>
          <p:nvPr/>
        </p:nvPicPr>
        <p:blipFill>
          <a:blip r:embed="rId2"/>
          <a:stretch/>
        </p:blipFill>
        <p:spPr>
          <a:xfrm>
            <a:off x="4746600" y="1557360"/>
            <a:ext cx="3645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30:02Z</dcterms:created>
  <dc:creator>Main</dc:creator>
  <dc:description/>
  <dc:language>en-US</dc:language>
  <cp:lastModifiedBy> </cp:lastModifiedBy>
  <dcterms:modified xsi:type="dcterms:W3CDTF">2019-01-04T20:05:59Z</dcterms:modified>
  <cp:revision>8</cp:revision>
  <dc:subject/>
  <dc:title>Артикуляторная  гимнастика</dc:title>
</cp:coreProperties>
</file>