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6598-4437-42F4-9000-922463A5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B744-0D4D-4BFF-9303-08A15B34B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D2E-6913-4EC6-9C64-8D5B8E8E7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6A45-D789-4F11-AB91-5FECA357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A243-6B72-4BB3-811F-580FD51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9E6D-8B74-4E87-B723-5805B906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99AC-9A29-470A-BBC1-123A7EE7A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830F-DFB7-4C64-901F-52CB7A3A8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60E-A9D8-4A0E-B15B-62259194C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D86-E1F7-402D-86A4-50592F96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C46-E52C-46FF-849A-ACF13D9E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A8C1-E09B-4254-9F9D-987CF982E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847-5D06-49BB-859C-DB412884D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85840" y="826920"/>
            <a:ext cx="8643960" cy="5336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«Детские музыкальные инструмен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6" descr="75c9a963efcf.png"/>
          <p:cNvPicPr/>
          <p:nvPr/>
        </p:nvPicPr>
        <p:blipFill>
          <a:blip r:embed="rId3"/>
          <a:stretch/>
        </p:blipFill>
        <p:spPr>
          <a:xfrm>
            <a:off x="1500120" y="2214720"/>
            <a:ext cx="5997600" cy="34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3714840" y="21420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0" y="1000080"/>
            <a:ext cx="342900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неопределённой высоты звучания, состоящий из кожаной мембраны, натянутой на деревянный обод. К некоторым разновидностям бубнов подвешены металлические колокольчики, которые начинают звенеть, когда исполнитель ударяет по мембране бубна, потирает её или встряхивает весь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Рисунок 7" descr="бубен.jpg"/>
          <p:cNvPicPr/>
          <p:nvPr/>
        </p:nvPicPr>
        <p:blipFill>
          <a:blip r:embed="rId3"/>
          <a:stretch/>
        </p:blipFill>
        <p:spPr>
          <a:xfrm>
            <a:off x="3462480" y="1000080"/>
            <a:ext cx="5681520" cy="49435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2857680" y="14292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6"/>
          <p:cNvSpPr/>
          <p:nvPr/>
        </p:nvSpPr>
        <p:spPr>
          <a:xfrm>
            <a:off x="0" y="857160"/>
            <a:ext cx="6715080" cy="5580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ЩЕТ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народный музыкальный инструмент, идиофон, заменяющий хлопки в ладо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и состоят из набора 18 - 20 тонких дощечек (обычно дубовых) длиной 16 - 18 см. Они соединяются между собой плотной верёвкой, продетой в отверстия верхней части дощечек. Для разделения дощечек между ними вверху вставляются небольшие пластинки из дерева шириной приблизительно 2 с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уществует и другая конструкция трещетки - прямоугольный ящичек с помещённым внутри деревянным зубчатым колесом, прикреплённым к маленькой рукоятке. В одной из стенок этого ящичка делается прорез, в отверстии которого неподвижно укреплена тонкая упругая деревянная или металлическая пластин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щетка держится за веревку двумя руками, резкие или плавные движения позволяют издавать различные звуки. При этом руки находятся на уровне груди, головы, а иногда поднимаются чтобы привлечь внимание своим внешним ви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7" descr="трещетка.gif"/>
          <p:cNvPicPr/>
          <p:nvPr/>
        </p:nvPicPr>
        <p:blipFill>
          <a:blip r:embed="rId3"/>
          <a:stretch/>
        </p:blipFill>
        <p:spPr>
          <a:xfrm>
            <a:off x="6680160" y="114480"/>
            <a:ext cx="1028880" cy="98892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8" descr="трещетка.jpg"/>
          <p:cNvPicPr/>
          <p:nvPr/>
        </p:nvPicPr>
        <p:blipFill>
          <a:blip r:embed="rId4"/>
          <a:stretch/>
        </p:blipFill>
        <p:spPr>
          <a:xfrm>
            <a:off x="6572160" y="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9" descr="трещетка.gif"/>
          <p:cNvPicPr/>
          <p:nvPr/>
        </p:nvPicPr>
        <p:blipFill>
          <a:blip r:embed="rId5"/>
          <a:stretch/>
        </p:blipFill>
        <p:spPr>
          <a:xfrm>
            <a:off x="6443640" y="3735360"/>
            <a:ext cx="2452680" cy="2357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2500200" y="142920"/>
            <a:ext cx="41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6"/>
          <p:cNvSpPr/>
          <p:nvPr/>
        </p:nvSpPr>
        <p:spPr>
          <a:xfrm>
            <a:off x="0" y="736560"/>
            <a:ext cx="9144000" cy="3501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определённой высотой звучания. Инструмент обладает светлозвенящим тембром в пиано, блестящим и ярким — в форте. Колокольчики существуют в двух разновидностях: простые и клавиш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Простые колокольчики представляют собой набор настроенных по хроматизму металлических пластинок, размещённых в два ряда на деревянной раме трапециевидной формы. Расположение пластинок на них аналогично расположению белых и чёрных клавиш фортепиано. Применяемый диапазон колокольчиков — от третьей октавы до пятой октавы, на некоторых инструментах — шире. Играют на обычных колокольчиках двумя маленькими металлическими молоточками или деревянными палоч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В клавишных колокольчиках пластинки заключены в корпус наподобие маленького пианино, где имеется несложный механизм молоточков, передающий удары от клавиш к пластинкам (этот механизм схож с механизмом челесты). Клавишные колокольчики технически подвижнее простых, но проигрывают им в чистоте темб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7" descr="колокольчики.jpg"/>
          <p:cNvPicPr/>
          <p:nvPr/>
        </p:nvPicPr>
        <p:blipFill>
          <a:blip r:embed="rId3"/>
          <a:stretch/>
        </p:blipFill>
        <p:spPr>
          <a:xfrm>
            <a:off x="3429000" y="4160880"/>
            <a:ext cx="5160960" cy="26971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2786040" y="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6"/>
          <p:cNvSpPr/>
          <p:nvPr/>
        </p:nvSpPr>
        <p:spPr>
          <a:xfrm>
            <a:off x="0" y="611280"/>
            <a:ext cx="9144000" cy="423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— духовой музыкальный инструмент, русская разновидность многоствольчатой флейты, известной науке под названием «флейта Пана». Инструмент этот распространён в разных частях, у каждого народа для него свои наз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У русских первым обратил внимание на флейту Пана Гасри, давший весьма неточное её описание под названием свирель или свирелка. О кугиклах писал Дмитрюков в журнале «Московский телеграф» в 1831 году. На протяжении XIX в. в литературе время от времени встречается свидетельства об игре на кугиклах, особенно на территории Курской губер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угиклы представляют собой набор пустотелых трубок различной длины и диаметра с открытым верхним концом и закрытым нижним. Инструмент этот изготавливался обычно из стеблей куги (камыша), тростника, бамбука и т. д., дном служил узел ство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Monotype Corsiva"/>
              </a:rPr>
              <a:t>Комплект кугикл обычно состоит из 3—5 трубок одинакового диаметра, но разной длины. Трубки инструмента не скрепляются между собой, что позволяет их менять в зависимости от требуемого строя. Верхние, открытые концы инструмента располагаются на одной линии. Поднося их ко рту и поводя ими (или головой) из стороны в сторону, дуют на края срезов, извлекая, как правило, короткие, толчкообразные зву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7" descr="кугиклы.jpg"/>
          <p:cNvPicPr/>
          <p:nvPr/>
        </p:nvPicPr>
        <p:blipFill>
          <a:blip r:embed="rId3"/>
          <a:stretch/>
        </p:blipFill>
        <p:spPr>
          <a:xfrm>
            <a:off x="3214800" y="4497480"/>
            <a:ext cx="3571920" cy="23605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5"/>
          <p:cNvSpPr/>
          <p:nvPr/>
        </p:nvSpPr>
        <p:spPr>
          <a:xfrm>
            <a:off x="0" y="571680"/>
            <a:ext cx="6786720" cy="6677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БАРАБАН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ударный музыкальный инструмент, мембранофон. Распространён у большинства народов. Состоит из полого цилиндрического деревянного (или металлического) корпуса-резонатора или рамы, на которые с одной или двух сторон натянуты мембраны. Относительная высота звука может регулироваться натяжением мембран. Звук извлекают ударом по мембране деревянной колотушкой с мягким наконечником, палочкой, руками, а иногда и трени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звестно о существовании барабанов в древнем Шумере около 3000 лет до н.э. При раскопках в Месопотамии были найдены одни из древнейших ударных инструментов, сделанные в виде маленьких цилиндров, происхождение которых датируется третьим тысячелетием до нашей эры. С древнейших времён барабан использовался как сигнальный инструмент, а также для сопровождения ритуальных танцев, военных шествий, религиозных обрядов. В современную Европу барабаны попали с Ближнего Востока. Прототип малого (военного) барабана был заимствован у арабов в Испании и Палестине. О длительной истории развития инструмента свидетельствует и большое разнообразие его видов в наши дни. Известны барабаны различных форм и разме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3500280" y="0"/>
            <a:ext cx="27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7" descr="барабан.jpg"/>
          <p:cNvPicPr/>
          <p:nvPr/>
        </p:nvPicPr>
        <p:blipFill>
          <a:blip r:embed="rId3"/>
          <a:stretch/>
        </p:blipFill>
        <p:spPr>
          <a:xfrm>
            <a:off x="6643800" y="214200"/>
            <a:ext cx="2500200" cy="288288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Box 5"/>
          <p:cNvSpPr/>
          <p:nvPr/>
        </p:nvSpPr>
        <p:spPr>
          <a:xfrm>
            <a:off x="2500200" y="142920"/>
            <a:ext cx="41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6"/>
          <p:cNvSpPr/>
          <p:nvPr/>
        </p:nvSpPr>
        <p:spPr>
          <a:xfrm>
            <a:off x="0" y="1000080"/>
            <a:ext cx="9144000" cy="1923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ЕТАЛЛОФОН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— род музыкальных инструментов, основным элементом которых является ряд металлических пластин-клавиш, по которым для извлечения звука ударяют специальным молоточ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Один из видов металлофона — колокольч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ходный музыкальный инструмент — ксилофон, отличающийся от металлофона в основном материалом изготовления клавиш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Рисунок 7" descr="металлофон.jpg"/>
          <p:cNvPicPr/>
          <p:nvPr/>
        </p:nvPicPr>
        <p:blipFill>
          <a:blip r:embed="rId3"/>
          <a:stretch/>
        </p:blipFill>
        <p:spPr>
          <a:xfrm>
            <a:off x="1857240" y="2928960"/>
            <a:ext cx="5367600" cy="39290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500280" y="142920"/>
            <a:ext cx="250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6"/>
          <p:cNvSpPr/>
          <p:nvPr/>
        </p:nvSpPr>
        <p:spPr>
          <a:xfrm>
            <a:off x="0" y="896760"/>
            <a:ext cx="585792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РЕЛЬ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двуствольный духовой инструмент; род двуствольной продольной флейты. Один из стволов имеет обычно длину 300—350 мм, второй — 450—470 мм. В верхнем конце ствола — свистковое устройство, в нижней части — по 3 боковых отверстия для изменения высоты звуков. Стволы настроены между собой в кварту и дают в целом диатонический звукоряд в объёме септи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обыденном языке свирелью часто называют духовые инструменты типа одноствольных или двуствольных флей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7" descr="свирель.jpg"/>
          <p:cNvPicPr/>
          <p:nvPr/>
        </p:nvPicPr>
        <p:blipFill>
          <a:blip r:embed="rId3"/>
          <a:stretch/>
        </p:blipFill>
        <p:spPr>
          <a:xfrm>
            <a:off x="5929200" y="1428840"/>
            <a:ext cx="2714760" cy="3636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3500280" y="14292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0" y="785880"/>
            <a:ext cx="5000760" cy="6129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УДКА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русский народный музыкальный духовой инструмент, состоящий из бузинной тростины или камыша и имеющий несколько боковых отверстий, а для вдувания — мундштучок. Существуют двойные дудки: в две сложенные трубки дуют через один общий мундшт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Археологические раскопки свидетельствуют, что на костяных дудках играли задолго до нашей эры. В этнографических материалах XVIII и XIX вв. упоминаются деревянные и тростниковые дудоч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ревянная дудка может быть вырезана из ветки или сделана на токарном станке. На конце вырезается свисток или вставляется жалейка. В дудке выжигаются или сверлятся отверс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У тростниковой дудочки или жалейки язычок надрезается прямо на ней. Звук своеобразный, рез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8" descr="дудка.jpg"/>
          <p:cNvPicPr/>
          <p:nvPr/>
        </p:nvPicPr>
        <p:blipFill>
          <a:blip r:embed="rId3"/>
          <a:stretch/>
        </p:blipFill>
        <p:spPr>
          <a:xfrm>
            <a:off x="4857840" y="10717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TextBox 5"/>
          <p:cNvSpPr/>
          <p:nvPr/>
        </p:nvSpPr>
        <p:spPr>
          <a:xfrm>
            <a:off x="2786040" y="142920"/>
            <a:ext cx="371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0" y="1071720"/>
            <a:ext cx="5715000" cy="3385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СВИСТУЛЬКА –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детский игрушечный свисто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вистульки берут свое начало глубоко из древности и снова встречаются с нами в современности. Они нашли воплощение в жанре дымковской игрушки – мастера лепили их в форме птичек, козликов и барашков и дарили детям на праздники или продавали на больших ярмарк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В игрушках (обычно в хвостике) проделывали дырочку, куда нужно было дуть, и тогда получался мягкий, но в то же время слегка резкий зв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7" descr="свистульки.jpg"/>
          <p:cNvPicPr/>
          <p:nvPr/>
        </p:nvPicPr>
        <p:blipFill>
          <a:blip r:embed="rId3"/>
          <a:stretch/>
        </p:blipFill>
        <p:spPr>
          <a:xfrm>
            <a:off x="5072040" y="3803760"/>
            <a:ext cx="4071960" cy="305424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500040" y="785880"/>
            <a:ext cx="8072640" cy="131364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onotype Corsiva"/>
              </a:rPr>
              <a:t>Музыкальный инструмент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 — обычно, предмет, с помощью которого музыканты исполняют или импровизируют музыку или любые, в том числе и немузыкальные неорганизованные зву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6" descr="63b73ad28f45.png"/>
          <p:cNvPicPr/>
          <p:nvPr/>
        </p:nvPicPr>
        <p:blipFill>
          <a:blip r:embed="rId3"/>
          <a:stretch/>
        </p:blipFill>
        <p:spPr>
          <a:xfrm>
            <a:off x="2487600" y="2363760"/>
            <a:ext cx="4370400" cy="2708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5"/>
          <p:cNvSpPr/>
          <p:nvPr/>
        </p:nvSpPr>
        <p:spPr>
          <a:xfrm>
            <a:off x="2214720" y="142920"/>
            <a:ext cx="485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Музыкальны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6"/>
          <p:cNvSpPr/>
          <p:nvPr/>
        </p:nvSpPr>
        <p:spPr>
          <a:xfrm rot="1871400">
            <a:off x="2286000" y="642600"/>
            <a:ext cx="357120" cy="12859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трелка вниз 7"/>
          <p:cNvSpPr/>
          <p:nvPr/>
        </p:nvSpPr>
        <p:spPr>
          <a:xfrm rot="19465200">
            <a:off x="6777000" y="601200"/>
            <a:ext cx="357120" cy="1374840"/>
          </a:xfrm>
          <a:prstGeom prst="downArrow">
            <a:avLst>
              <a:gd name="adj1" fmla="val 56722"/>
              <a:gd name="adj2" fmla="val 5001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трелка вниз 9"/>
          <p:cNvSpPr/>
          <p:nvPr/>
        </p:nvSpPr>
        <p:spPr>
          <a:xfrm>
            <a:off x="4572000" y="762120"/>
            <a:ext cx="357120" cy="3666960"/>
          </a:xfrm>
          <a:prstGeom prst="downArrow">
            <a:avLst>
              <a:gd name="adj1" fmla="val 56722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1357200" y="2000160"/>
            <a:ext cx="142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трелка вниз 14"/>
          <p:cNvSpPr/>
          <p:nvPr/>
        </p:nvSpPr>
        <p:spPr>
          <a:xfrm rot="1339800">
            <a:off x="1250640" y="2426760"/>
            <a:ext cx="193680" cy="135756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трелка вниз 15"/>
          <p:cNvSpPr/>
          <p:nvPr/>
        </p:nvSpPr>
        <p:spPr>
          <a:xfrm rot="20568000">
            <a:off x="2625840" y="2426760"/>
            <a:ext cx="195120" cy="1357560"/>
          </a:xfrm>
          <a:prstGeom prst="downArrow">
            <a:avLst>
              <a:gd name="adj1" fmla="val 50000"/>
              <a:gd name="adj2" fmla="val 500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16"/>
          <p:cNvSpPr/>
          <p:nvPr/>
        </p:nvSpPr>
        <p:spPr>
          <a:xfrm>
            <a:off x="1928880" y="2500200"/>
            <a:ext cx="214200" cy="221472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7"/>
          <p:cNvSpPr/>
          <p:nvPr/>
        </p:nvSpPr>
        <p:spPr>
          <a:xfrm>
            <a:off x="357120" y="37861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М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1357200" y="4643280"/>
            <a:ext cx="142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Дух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214720" y="3786120"/>
            <a:ext cx="15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Яз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21"/>
          <p:cNvSpPr/>
          <p:nvPr/>
        </p:nvSpPr>
        <p:spPr>
          <a:xfrm>
            <a:off x="3896640" y="442908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тру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низ 22"/>
          <p:cNvSpPr/>
          <p:nvPr/>
        </p:nvSpPr>
        <p:spPr>
          <a:xfrm rot="2526600">
            <a:off x="3596760" y="4758840"/>
            <a:ext cx="322560" cy="1282680"/>
          </a:xfrm>
          <a:prstGeom prst="downArrow">
            <a:avLst>
              <a:gd name="adj1" fmla="val 50000"/>
              <a:gd name="adj2" fmla="val 4994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низ 23"/>
          <p:cNvSpPr/>
          <p:nvPr/>
        </p:nvSpPr>
        <p:spPr>
          <a:xfrm rot="19557600">
            <a:off x="5402160" y="4772160"/>
            <a:ext cx="316080" cy="1276200"/>
          </a:xfrm>
          <a:prstGeom prst="downArrow">
            <a:avLst>
              <a:gd name="adj1" fmla="val 50000"/>
              <a:gd name="adj2" fmla="val 4996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2571840" y="585792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Щип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5072040" y="58960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Смычк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7"/>
          <p:cNvSpPr/>
          <p:nvPr/>
        </p:nvSpPr>
        <p:spPr>
          <a:xfrm>
            <a:off x="6715080" y="2000160"/>
            <a:ext cx="157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Уд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1143000" y="214200"/>
            <a:ext cx="728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Детские инстр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Стрелка вниз 6"/>
          <p:cNvSpPr/>
          <p:nvPr/>
        </p:nvSpPr>
        <p:spPr>
          <a:xfrm rot="1166400">
            <a:off x="2930400" y="668160"/>
            <a:ext cx="428760" cy="19209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трелка вниз 7"/>
          <p:cNvSpPr/>
          <p:nvPr/>
        </p:nvSpPr>
        <p:spPr>
          <a:xfrm rot="20178000">
            <a:off x="6226200" y="644040"/>
            <a:ext cx="428760" cy="1922760"/>
          </a:xfrm>
          <a:prstGeom prst="downArrow">
            <a:avLst>
              <a:gd name="adj1" fmla="val 50000"/>
              <a:gd name="adj2" fmla="val 4999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16000" y="2619360"/>
            <a:ext cx="259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5364000" y="2602080"/>
            <a:ext cx="29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Немелодическ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785880" y="3071880"/>
            <a:ext cx="335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металлоф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р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дуд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свистуль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угик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5072040" y="3071880"/>
            <a:ext cx="3643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арел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уб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треще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колокольч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Monotype Corsiva"/>
              </a:rPr>
              <a:t>бараб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5"/>
          <p:cNvSpPr/>
          <p:nvPr/>
        </p:nvSpPr>
        <p:spPr>
          <a:xfrm>
            <a:off x="0" y="1209600"/>
            <a:ext cx="5072040" cy="311148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- кубинский народный ударный инструмент, две палочки из черного дерева разной толщины. По легенде эти палочки символизируют Мужчину и Женщину. При игре палочками ударяют друг о друга, при этом пальцы левой руки, держащие палочку, по которой ударяют, складываются особым образом, чтобы создать своеобразный резонатор. На кла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можно играть самые разнообразные ритмические рису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071800" y="357120"/>
            <a:ext cx="514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ЛАВ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Рисунок 8" descr="клавес.jpg"/>
          <p:cNvPicPr/>
          <p:nvPr/>
        </p:nvPicPr>
        <p:blipFill>
          <a:blip r:embed="rId3"/>
          <a:stretch/>
        </p:blipFill>
        <p:spPr>
          <a:xfrm>
            <a:off x="5000760" y="1104840"/>
            <a:ext cx="4143240" cy="3965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Box 5"/>
          <p:cNvSpPr/>
          <p:nvPr/>
        </p:nvSpPr>
        <p:spPr>
          <a:xfrm>
            <a:off x="2928960" y="214200"/>
            <a:ext cx="45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КОРОБОЧ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0" y="1143000"/>
            <a:ext cx="4929120" cy="6129000"/>
          </a:xfrm>
          <a:prstGeom prst="rect">
            <a:avLst/>
          </a:prstGeom>
          <a:solidFill>
            <a:srgbClr val="f8f8f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АЯ КОРОБОЧКА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ли </a:t>
            </a: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ВУД-БЛОК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— один из самых распространённых ударных музыкальных инструментов с неопределённой высотой звучания. Звучание инструмента — характерный цокающий зв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ет собой прямоугольный брусок звонкого, хорошо высушенного дерева. С одной стороны, ближе к верхней части бруска, выдолблена глубокая щель шириной около 1 см. На инструменте играют деревянными или пластиковыми палочками. В зависимости от размера коробочки, звук может быть выше или ниже, поэтому зачастую композиторы используют несколько вуд-блоков, звучащих по-раз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ообраз современного оркестрового инструмента распространён среди народов Дальнего Востока, Африки и Южной Амер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7" descr="коробочка.jpg"/>
          <p:cNvPicPr/>
          <p:nvPr/>
        </p:nvPicPr>
        <p:blipFill>
          <a:blip r:embed="rId3"/>
          <a:stretch/>
        </p:blipFill>
        <p:spPr>
          <a:xfrm>
            <a:off x="4857840" y="1714680"/>
            <a:ext cx="4286160" cy="30715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3071880" y="214200"/>
            <a:ext cx="36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6"/>
          <p:cNvSpPr/>
          <p:nvPr/>
        </p:nvSpPr>
        <p:spPr>
          <a:xfrm>
            <a:off x="0" y="1143000"/>
            <a:ext cx="5286240" cy="4239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АРЕЛКИ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с неопределенной высотой звучания. Тарелки известны с древнейших времен, встречаясь в Китае, Индии, позже в Греции и Тур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Представляют собой диск выпуклой формы, изготовленный из особых сплавов путем литья и последующей ковки. В центре тарелки имеется отверстие, предназначенное для закрепления инструмента на специальной стойке или для прикрепления рем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реди основных приемов игры: удары различными палочками и колотушками, удары тарелок друг о друга, игра смычком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тарелка.jpg"/>
          <p:cNvPicPr/>
          <p:nvPr/>
        </p:nvPicPr>
        <p:blipFill>
          <a:blip r:embed="rId3"/>
          <a:stretch/>
        </p:blipFill>
        <p:spPr>
          <a:xfrm>
            <a:off x="5357880" y="1285920"/>
            <a:ext cx="3786120" cy="3214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786040" y="2142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Рисунок 7" descr="треугольник.jpg"/>
          <p:cNvPicPr/>
          <p:nvPr/>
        </p:nvPicPr>
        <p:blipFill>
          <a:blip r:embed="rId3"/>
          <a:stretch/>
        </p:blipFill>
        <p:spPr>
          <a:xfrm>
            <a:off x="6372360" y="1341360"/>
            <a:ext cx="2736720" cy="280188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6"/>
          <p:cNvSpPr/>
          <p:nvPr/>
        </p:nvSpPr>
        <p:spPr>
          <a:xfrm>
            <a:off x="0" y="868320"/>
            <a:ext cx="6357960" cy="5854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ТРЕУГОЛЬНИК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 — ударный музыкальный инструмент в виде металлического прута (обычно из стали или алюминия), изогнутого в форме треугольника. Один из углов оставлен открытым (концы прута почти касаютс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Треугольник принадлежит к инструментам с неопределённой высотой звука, имеет блестящий и яркий тембр. Как правило, ему поручаются несложные ритмические фигуры и тремоло. Треугольник подвешивается за один из углов на тонкой проволоке или тесьме, которую держат в руке или прикрепляют к пюпитру. По треугольнику ударяют металлической (реже деревянной) палоч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С конца XVIII века треугольник — один из основных ударных инструментов симфонического оркестра. В сочинениях Гайдна, Моцарта и Бетховена он использовался для имитации так называемой «янычарской музыки». Одно из первых сочинений, в котором треугольнику поручена достаточно ответственная самостоятельная партия — Концерт № 1 для фортепиано с оркестром Ли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3" descr="29691469_28841729_27354182_18310189_1203403372_0a0b31ef7b1a.jpg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29691469_28841729_27354182_18310189_1203403372_0a0b31ef7b1a.jpg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714840" y="2142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ЛО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0" y="1166760"/>
            <a:ext cx="5286240" cy="4208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ДЕРЕВЯННЫЕ ЛОЖКИ </a:t>
            </a: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спользуются в славянской традиции как музыкальный инструмент. Игровой комплект составляет от 3 до 5 ложек, иногда разного размера. Звук извлекается путём ударения друг о друга задних сторон черпаков. Тембр звука зависит от способа звукоизвл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Обычно один исполнитель использует три ложки, две из которых закладываются между пальцами левой руки, а третья берётся в правую. Удары производятся третьей ложкой по двум в левой руке. Обычно для удобства удары производятся на руке или колене. Иногда к ложкам подвешивают бубенч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7" descr="ложка.jpg"/>
          <p:cNvPicPr/>
          <p:nvPr/>
        </p:nvPicPr>
        <p:blipFill>
          <a:blip r:embed="rId3"/>
          <a:stretch/>
        </p:blipFill>
        <p:spPr>
          <a:xfrm>
            <a:off x="5334120" y="1357200"/>
            <a:ext cx="3809880" cy="360072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18:06:56Z</dcterms:created>
  <dc:creator>Alessana</dc:creator>
  <dc:description/>
  <dc:language>en-US</dc:language>
  <cp:lastModifiedBy>норд</cp:lastModifiedBy>
  <dcterms:modified xsi:type="dcterms:W3CDTF">2019-01-04T11:07:31Z</dcterms:modified>
  <cp:revision>26</cp:revision>
  <dc:subject/>
  <dc:title>Слайд 1</dc:title>
</cp:coreProperties>
</file>