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926-E83F-43F7-930D-57CE103C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0D60-C75D-4161-A498-2CF84F0B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CA40-526A-4279-9428-A9E097C7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8965-DDBC-4049-9AC9-CFDEA393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F0E3-1DA9-4BB5-BD3E-13294662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D47D-BB3B-4E11-9A44-3B0D94F4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B45-4931-4767-8CBF-20F4B39C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79D5-2DAB-4B0C-B378-8F8FAB88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57A6-A529-4127-BDC3-C9E1DB11A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5163-3EB0-466E-A9FE-0387F788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B7A-2481-429F-8598-F57C0CD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2EDF-8366-4497-91A3-C3C5F2BD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ED39-A5FA-4333-9F97-F6101940DA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85840" y="826920"/>
            <a:ext cx="8643960" cy="5336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Детские 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75c9a963efcf.png"/>
          <p:cNvPicPr/>
          <p:nvPr/>
        </p:nvPicPr>
        <p:blipFill>
          <a:blip r:embed="rId3"/>
          <a:stretch/>
        </p:blipFill>
        <p:spPr>
          <a:xfrm>
            <a:off x="1500120" y="2214720"/>
            <a:ext cx="59976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3714840" y="214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0" y="1000080"/>
            <a:ext cx="342900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неопределённой высоты звучания, состоящий из кожаной мембраны, натянутой на деревянный обод. К некоторым разновидностям бубнов подвешены металлические колокольчики, которые начинают звенеть, когда исполнитель ударяет по мембране бубна, потирает её или встряхивает весь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бубен.jpg"/>
          <p:cNvPicPr/>
          <p:nvPr/>
        </p:nvPicPr>
        <p:blipFill>
          <a:blip r:embed="rId3"/>
          <a:stretch/>
        </p:blipFill>
        <p:spPr>
          <a:xfrm>
            <a:off x="3462480" y="1000080"/>
            <a:ext cx="5681520" cy="4943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2857680" y="14292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0" y="857160"/>
            <a:ext cx="6715080" cy="558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ЩЕТ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народный музыкальный инструмент, идиофон, заменяющий хлопки в лад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и состоят из набора 18 - 20 тонких дощечек (обычно дубовых) длиной 16 - 18 см. Они соединяются между собой плотной верёвкой, продетой в отверстия верхней части дощечек. Для разделения дощечек между ними вверху вставляются небольшие пластинки из дерева шириной приблизитель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уществует и другая конструкция трещетки - прямоугольный ящичек с помещённым внутри деревянным зубчатым колесом, прикреплённым к маленькой рукоятке. В одной из стенок этого ящичка делается прорез, в отверстии которого неподвижно укреплена тонкая упругая деревянная или металлическая пласт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а держится за веревку двумя руками, резкие или плавные движения позволяют издавать различные звуки. При этом руки находятся на уровне груди, головы, а иногда поднимаются чтобы привлечь внимание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трещетка.gif"/>
          <p:cNvPicPr/>
          <p:nvPr/>
        </p:nvPicPr>
        <p:blipFill>
          <a:blip r:embed="rId3"/>
          <a:stretch/>
        </p:blipFill>
        <p:spPr>
          <a:xfrm>
            <a:off x="6680160" y="114480"/>
            <a:ext cx="1028880" cy="9889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трещетка.jpg"/>
          <p:cNvPicPr/>
          <p:nvPr/>
        </p:nvPicPr>
        <p:blipFill>
          <a:blip r:embed="rId4"/>
          <a:stretch/>
        </p:blipFill>
        <p:spPr>
          <a:xfrm>
            <a:off x="6572160" y="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трещетка.gif"/>
          <p:cNvPicPr/>
          <p:nvPr/>
        </p:nvPicPr>
        <p:blipFill>
          <a:blip r:embed="rId5"/>
          <a:stretch/>
        </p:blipFill>
        <p:spPr>
          <a:xfrm>
            <a:off x="6443640" y="3735360"/>
            <a:ext cx="24526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2500200" y="1429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0" y="736560"/>
            <a:ext cx="9144000" cy="350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определённой высотой звучания. Инструмент обладает светлозвенящим тембром в пиано, блестящим и ярким — в форте. Колокольчики существуют в двух разновидностях: простые и клавиш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ростые колокольчики представляют собой набор настроенных по хроматизму металлических пластинок, размещённых в два ряда на деревянной раме трапециевидной формы. Расположение пластинок на них аналогично расположению белых и чёрных клавиш фортепиано. Применяемый диапазон колокольчиков — от третьей октавы до пятой октавы, на некоторых инструментах — шире. Играют на обычных колокольчиках двумя маленькими металлическими молоточками или деревянными палоч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клавишных колокольчиках пластинки заключены в корпус наподобие маленького пианино, где имеется несложный механизм молоточков, передающий удары от клавиш к пластинкам (этот механизм схож с механизмом челесты). Клавишные колокольчики технически подвижнее простых, но проигрывают им в чистоте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колокольчики.jpg"/>
          <p:cNvPicPr/>
          <p:nvPr/>
        </p:nvPicPr>
        <p:blipFill>
          <a:blip r:embed="rId3"/>
          <a:stretch/>
        </p:blipFill>
        <p:spPr>
          <a:xfrm>
            <a:off x="3429000" y="4160880"/>
            <a:ext cx="5160960" cy="269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2786040" y="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0" y="611280"/>
            <a:ext cx="9144000" cy="423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— духовой музыкальный инструмент, русская разновидность многоствольчатой флейты, известной науке под названием «флейта Пана». Инструмент этот распространён в разных частях, у каждого народа для него свои наз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У русских первым обратил внимание на флейту Пана Гасри, давший весьма неточное её описание под названием свирель или свирелка. О кугиклах писал Дмитрюков в журнале «Московский телеграф» в 1831 году. На протяжении XIX в. в литературе время от времени встречается свидетельства об игре на кугиклах, особенно на территории Курской губе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 д., дном служил узел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омплект кугикл обычно состоит из 3—5 трубок одинакового диаметра, но разной длины. Трубки инструмента не скрепляются между собой, что позволяет их менять в зависимости от требуемого строя. Верхние, открытые концы инструмента располагаются на одной линии. Поднося их ко рту и поводя ими (или головой) из стороны в сторону, дуют на края срезов, извлекая, как правило, короткие, толчкообразные зв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7" descr="кугиклы.jpg"/>
          <p:cNvPicPr/>
          <p:nvPr/>
        </p:nvPicPr>
        <p:blipFill>
          <a:blip r:embed="rId3"/>
          <a:stretch/>
        </p:blipFill>
        <p:spPr>
          <a:xfrm>
            <a:off x="3214800" y="4497480"/>
            <a:ext cx="3571920" cy="2360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571680"/>
            <a:ext cx="6786720" cy="6677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АРАБАН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ударный музыкальный инструмент, мембранофон. Распространён у большинства народов. Состоит из полого цилиндрического деревянного (или металлического) корпуса-резонатора или рамы, на которые с одной или двух сторон натянуты мембраны. Относительная высота звука может регулироваться натяжением мембран. Звук извлекают ударом по мембране деревянной колотушкой с мягким наконечником, палочкой, руками, а иногда и тр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вестно о существовании барабанов в древнем Шумере около 3000 лет до н.э. При раскопках в Месопотамии были найдены одни из древнейших ударных инструментов, сделанные в виде маленьких цилиндров, происхождение которых датируется третьим тысячелетием до нашей эры. С древнейших времён барабан использовался как сигнальный инструмент, а также для сопровождения ритуальных танцев, военных шествий, религиозных обрядов. В современную Европу барабаны попали с Ближнего Востока. Прототип малого (военного) барабана был заимствован у арабов в Испании и Палестине. О длительной истории развития инструмента свидетельствует и большое разнообразие его видов в наши дни. Известны барабаны различных форм и разм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500280" y="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7" descr="барабан.jpg"/>
          <p:cNvPicPr/>
          <p:nvPr/>
        </p:nvPicPr>
        <p:blipFill>
          <a:blip r:embed="rId3"/>
          <a:stretch/>
        </p:blipFill>
        <p:spPr>
          <a:xfrm>
            <a:off x="6643800" y="214200"/>
            <a:ext cx="2500200" cy="2882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500200" y="14292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0" y="1000080"/>
            <a:ext cx="914400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ЕТАЛЛОФОН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— род музыкальных инструментов, основным элементом которых является ряд металлических пластин-клавиш, по которым для извлечения звука ударяют специальным молот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ин из видов металлофона —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одный музыкальный инструмент — ксилофон, отличающийся от металлофона в основном материалом изготовления клав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металлофон.jpg"/>
          <p:cNvPicPr/>
          <p:nvPr/>
        </p:nvPicPr>
        <p:blipFill>
          <a:blip r:embed="rId3"/>
          <a:stretch/>
        </p:blipFill>
        <p:spPr>
          <a:xfrm>
            <a:off x="1857240" y="2928960"/>
            <a:ext cx="5367600" cy="39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500280" y="142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0" y="896760"/>
            <a:ext cx="585792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двуствольный духовой инструмент; род двуствольной продольной флейты. Один из стволов имеет обычно длину 300—350 мм, второй — 450—470 мм. В верхнем конце ствола — свистковое устройство, в нижней части — по 3 боковых отверстия для изменения высоты звуков. Стволы настроены между собой в кварту и дают в целом диатонический звукоряд в объёме септ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обыденном языке свирелью часто называют духовые инструменты типа одноствольных или двуствольных фле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свирель.jpg"/>
          <p:cNvPicPr/>
          <p:nvPr/>
        </p:nvPicPr>
        <p:blipFill>
          <a:blip r:embed="rId3"/>
          <a:stretch/>
        </p:blipFill>
        <p:spPr>
          <a:xfrm>
            <a:off x="5929200" y="1428840"/>
            <a:ext cx="2714760" cy="36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3500280" y="14292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0" y="785880"/>
            <a:ext cx="5000760" cy="612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УД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народный музыкальный духовой инструмент, состоящий из бузинной тростины или камыша и имеющий несколько боковых отверстий, а для вдувания — мундштучок. Существуют двойные дудки: в две сложенные трубки дуют через один общий мундшт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рхеологические раскопки свидетельствуют, что на костяных дудках играли задолго до нашей эры. В этнографических материалах XVIII и XIX вв. упоминаются деревянные и тростниковые д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янная дудка может быть вырезана из ветки или сделана на токарном станке. На конце вырезается свисток или вставляется жалейка. В дудке выжигаются или сверлятся отверс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 тростниковой дудочки или жалейки язычок надрезается прямо на ней. Звук своеобразный, рез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8" descr="дудка.jpg"/>
          <p:cNvPicPr/>
          <p:nvPr/>
        </p:nvPicPr>
        <p:blipFill>
          <a:blip r:embed="rId3"/>
          <a:stretch/>
        </p:blipFill>
        <p:spPr>
          <a:xfrm>
            <a:off x="485784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786040" y="1429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1071720"/>
            <a:ext cx="571500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СТУЛЬКА –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тский игрушечный свис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вистульки берут свое начало глубоко из древности и снова встречаются с нами в современности. Они нашли воплощение в жанре дымковской игрушки – мастера лепили их в форме птичек, козликов и барашков и дарили детям на праздники или продавали на больших ярмар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игрушках (обычно в хвостике) проделывали дырочку, куда нужно было дуть, и тогда получался мягкий, но в то же время слегка резки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7" descr="свистульки.jpg"/>
          <p:cNvPicPr/>
          <p:nvPr/>
        </p:nvPicPr>
        <p:blipFill>
          <a:blip r:embed="rId3"/>
          <a:stretch/>
        </p:blipFill>
        <p:spPr>
          <a:xfrm>
            <a:off x="507204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00040" y="785880"/>
            <a:ext cx="8072640" cy="131364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узыкальный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— обычно, предмет, с помощью которого музыканты исполняют или импровизируют музыку или любые, в том числе и немузыкальные неорганизов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63b73ad28f45.png"/>
          <p:cNvPicPr/>
          <p:nvPr/>
        </p:nvPicPr>
        <p:blipFill>
          <a:blip r:embed="rId3"/>
          <a:stretch/>
        </p:blipFill>
        <p:spPr>
          <a:xfrm>
            <a:off x="2487600" y="2363760"/>
            <a:ext cx="437040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214720" y="1429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6"/>
          <p:cNvSpPr/>
          <p:nvPr/>
        </p:nvSpPr>
        <p:spPr>
          <a:xfrm rot="1871400">
            <a:off x="2286000" y="642600"/>
            <a:ext cx="357120" cy="12859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7"/>
          <p:cNvSpPr/>
          <p:nvPr/>
        </p:nvSpPr>
        <p:spPr>
          <a:xfrm rot="19465200">
            <a:off x="6777000" y="601200"/>
            <a:ext cx="357120" cy="1374840"/>
          </a:xfrm>
          <a:prstGeom prst="downArrow">
            <a:avLst>
              <a:gd name="adj1" fmla="val 56722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>
            <a:off x="4572000" y="762120"/>
            <a:ext cx="357120" cy="3666960"/>
          </a:xfrm>
          <a:prstGeom prst="downArrow">
            <a:avLst>
              <a:gd name="adj1" fmla="val 56722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357200" y="20001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14"/>
          <p:cNvSpPr/>
          <p:nvPr/>
        </p:nvSpPr>
        <p:spPr>
          <a:xfrm rot="1339800">
            <a:off x="1250640" y="2426760"/>
            <a:ext cx="193680" cy="1357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5"/>
          <p:cNvSpPr/>
          <p:nvPr/>
        </p:nvSpPr>
        <p:spPr>
          <a:xfrm rot="20568000">
            <a:off x="2625840" y="2426760"/>
            <a:ext cx="195120" cy="13575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6"/>
          <p:cNvSpPr/>
          <p:nvPr/>
        </p:nvSpPr>
        <p:spPr>
          <a:xfrm>
            <a:off x="1928880" y="2500200"/>
            <a:ext cx="214200" cy="221472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357120" y="3786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357200" y="4643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214720" y="378612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з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3896640" y="442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р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22"/>
          <p:cNvSpPr/>
          <p:nvPr/>
        </p:nvSpPr>
        <p:spPr>
          <a:xfrm rot="2526600">
            <a:off x="3596760" y="4758840"/>
            <a:ext cx="322560" cy="128268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23"/>
          <p:cNvSpPr/>
          <p:nvPr/>
        </p:nvSpPr>
        <p:spPr>
          <a:xfrm rot="19557600">
            <a:off x="5402160" y="4772160"/>
            <a:ext cx="316080" cy="12762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2571840" y="5857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Щип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5072040" y="589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6715080" y="2000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143000" y="21420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тски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6"/>
          <p:cNvSpPr/>
          <p:nvPr/>
        </p:nvSpPr>
        <p:spPr>
          <a:xfrm rot="1166400">
            <a:off x="2930400" y="668160"/>
            <a:ext cx="428760" cy="1920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7"/>
          <p:cNvSpPr/>
          <p:nvPr/>
        </p:nvSpPr>
        <p:spPr>
          <a:xfrm rot="20178000">
            <a:off x="6226200" y="644040"/>
            <a:ext cx="428760" cy="1922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16000" y="26193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364000" y="260208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85880" y="307188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72040" y="30718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р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1209600"/>
            <a:ext cx="5072040" cy="311148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кубинский народный ударный инструмент, две палочки из черного дерева разной толщины. По легенде эти палочки символизируют Мужчину и Женщину. При игре палочками ударяют друг о друга, при этом пальцы левой руки, держащие палочку, по которой ударяют, складываются особым образом, чтобы создать своеобразный резонатор. На кла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можно играть самые разнообразные ритмически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071800" y="35712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клавес.jpg"/>
          <p:cNvPicPr/>
          <p:nvPr/>
        </p:nvPicPr>
        <p:blipFill>
          <a:blip r:embed="rId3"/>
          <a:stretch/>
        </p:blipFill>
        <p:spPr>
          <a:xfrm>
            <a:off x="5000760" y="1104840"/>
            <a:ext cx="4143240" cy="396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928960" y="2142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1143000"/>
            <a:ext cx="4929120" cy="612900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АЯ КОРОБОЧК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УД-БЛОК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один из самых распространённых ударных музыкальных инструментов с неопределённой высотой звучания. Звучание инструмента — характерный цокающий зв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ет собой прямоугольный брусок звонкого, хорошо высушенного дерева. С одной стороны, ближе к верхней части бруска, выдолблена глубокая щель шириной около 1 см. На инструменте играют деревянными или пластиковыми палочками. В зависимости от размера коробочки, звук может быть выше или ниже, поэтому зачастую композиторы используют несколько вуд-блоков, звучащих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образ современного оркестрового инструмента распространён среди народов Дальнего Востока, Африки и Юж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коробочка.jpg"/>
          <p:cNvPicPr/>
          <p:nvPr/>
        </p:nvPicPr>
        <p:blipFill>
          <a:blip r:embed="rId3"/>
          <a:stretch/>
        </p:blipFill>
        <p:spPr>
          <a:xfrm>
            <a:off x="4857840" y="1714680"/>
            <a:ext cx="428616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071880" y="21420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0" y="1143000"/>
            <a:ext cx="528624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неопределенной высотой звучания. Тарелки известны с древнейших времен, встречаясь в Китае, Индии, позже в Грец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ют собой диск выпуклой формы, изготовленный из особых сплавов путем литья и последующей ковки. В центре тарелки имеется отверстие, предназначенное для закрепления инструмента на специальной стойке или для прикрепления ре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реди основных приемов игры: удары различными палочками и колотушками, удары тарелок друг о друга, игра смычком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тарелка.jpg"/>
          <p:cNvPicPr/>
          <p:nvPr/>
        </p:nvPicPr>
        <p:blipFill>
          <a:blip r:embed="rId3"/>
          <a:stretch/>
        </p:blipFill>
        <p:spPr>
          <a:xfrm>
            <a:off x="5357880" y="12859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86040" y="2142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треугольник.jpg"/>
          <p:cNvPicPr/>
          <p:nvPr/>
        </p:nvPicPr>
        <p:blipFill>
          <a:blip r:embed="rId3"/>
          <a:stretch/>
        </p:blipFill>
        <p:spPr>
          <a:xfrm>
            <a:off x="6372360" y="1341360"/>
            <a:ext cx="2736720" cy="2801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0" y="868320"/>
            <a:ext cx="6357960" cy="5854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в виде металлического прута (обычно из стали или алюминия), изогнутого в форме треугольника. Один из углов оставлен открытым (концы прута почти касаю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угольник принадлежит к инструментам с неопределённой высотой звука, имеет блестящий и яркий тембр. Как правило, ему поручаются несложные ритмические фигуры и тремоло. Треугольник подвешивается за один из углов на тонкой проволоке или тесьме, которую держат в руке или прикрепляют к пюпитру. По треугольнику ударяют металлической (реже деревянной)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 конца XVIII века треугольник — один из основных ударных инструментов симфонического оркестра. В сочинениях Гайдна, Моцарта и Бетховена он использовался для имитации так называемой «янычарской музыки». Одно из первых сочинений, в котором треугольнику поручена достаточно ответственная самостоятельная партия — Концерт № 1 для фортепиано с оркестром 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714840" y="214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1166760"/>
            <a:ext cx="5286240" cy="4208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ЫЕ ЛОЖКИ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спользуются в славянской традиции как музыкальный инструмент. Игровой комплект составляет от 3 до 5 ложек, иногда разного размера. Звук извлекается путём ударения друг о друга задних сторон черпаков. Тембр звука зависит от способа звукои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ычно один исполнитель использует три ложки, две из которых закладываются между пальцами левой руки, а третья берётся в правую. Удары производятся третьей ложкой по двум в левой руке. Обычно для удобства удары производятся на руке или колене. Иногда к ложкам подвешивают бубенч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ложка.jpg"/>
          <p:cNvPicPr/>
          <p:nvPr/>
        </p:nvPicPr>
        <p:blipFill>
          <a:blip r:embed="rId3"/>
          <a:stretch/>
        </p:blipFill>
        <p:spPr>
          <a:xfrm>
            <a:off x="5334120" y="1357200"/>
            <a:ext cx="3809880" cy="360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06:56Z</dcterms:created>
  <dc:creator>Alessana</dc:creator>
  <dc:description/>
  <dc:language>en-US</dc:language>
  <cp:lastModifiedBy>норд</cp:lastModifiedBy>
  <dcterms:modified xsi:type="dcterms:W3CDTF">2019-01-04T11:07:31Z</dcterms:modified>
  <cp:revision>26</cp:revision>
  <dc:subject/>
  <dc:title>Слайд 1</dc:title>
</cp:coreProperties>
</file>