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9B7F-61A7-4C99-92E8-F5C106E069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D8D4A2-2AEE-45DB-AB97-1CF358B9E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D32-6D6E-4F9A-86AD-0E3313B8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ADD-400B-4EB8-9807-F2FCA33E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C57-717B-4B3D-BF5E-B6EB512D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FEB-FDA8-4802-8446-A8DF1BFD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A158-BF36-4383-A1C5-7394C7FB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7B50-06DB-4955-912A-B4E25218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FAF0-D517-4BB6-AAB5-9CEDB964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8316-8155-4C08-A909-4092176B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0926-714E-4558-A54D-B34C722F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13D8-5076-4E3C-B78B-81B558C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627D-8F8B-4546-8392-E156C9F7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594-7052-493C-8F73-6CEEF007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1F16-A4E2-4B80-A2AB-C71B963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483A-1003-4C49-99AD-EAF91671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2DF1-5A0C-42F0-B2B2-21BE2555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6C7-357A-4BE4-932D-89F3EA46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4051-E39F-476A-A667-A59C83D9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455-7F42-49F7-B0A3-486B1E5A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6B5-B7D6-4A12-8788-2FFC7D13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9FB-97A1-4CF1-911F-7801BCF8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A60-CE01-49EE-BA4E-65457C58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567-747F-4853-B54B-E82D606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495-869B-451F-B28C-CDB423B4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DEF-A10A-4DEC-8B23-1DF81ADE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A333-7303-4BCD-AAD5-D9741EF53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Оформляшки\5e226a3bbf95.png"/>
          <p:cNvPicPr/>
          <p:nvPr/>
        </p:nvPicPr>
        <p:blipFill>
          <a:blip r:embed="rId3"/>
          <a:srcRect l="-1804" t="0" r="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86B5-DC8B-4EDB-A5A5-A01BD2F5C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526040" y="1918800"/>
            <a:ext cx="580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Мониторин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образовательных дости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чальной 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Диаграмма 1" descr=""/>
          <p:cNvPicPr/>
          <p:nvPr/>
        </p:nvPicPr>
        <p:blipFill>
          <a:blip r:embed="rId1"/>
          <a:stretch/>
        </p:blipFill>
        <p:spPr>
          <a:xfrm>
            <a:off x="1071720" y="571680"/>
            <a:ext cx="7572240" cy="550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712160" y="333360"/>
            <a:ext cx="56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ый  мониторинг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124000" y="3933720"/>
            <a:ext cx="519120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тический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проверо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самостоятельные рабо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2124000" y="1989000"/>
            <a:ext cx="51847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зовый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диагнос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контрольные рабо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низ 5"/>
          <p:cNvSpPr/>
          <p:nvPr/>
        </p:nvSpPr>
        <p:spPr>
          <a:xfrm>
            <a:off x="4140360" y="1052640"/>
            <a:ext cx="792000" cy="863640"/>
          </a:xfrm>
          <a:prstGeom prst="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5840" y="571680"/>
          <a:ext cx="8429400" cy="5864040"/>
        </p:xfrm>
        <a:graphic>
          <a:graphicData uri="http://schemas.openxmlformats.org/drawingml/2006/table">
            <a:tbl>
              <a:tblPr/>
              <a:tblGrid>
                <a:gridCol w="1422360"/>
                <a:gridCol w="747720"/>
                <a:gridCol w="928800"/>
                <a:gridCol w="806400"/>
                <a:gridCol w="680760"/>
                <a:gridCol w="621000"/>
                <a:gridCol w="680760"/>
                <a:gridCol w="682920"/>
                <a:gridCol w="928440"/>
                <a:gridCol w="930240"/>
              </a:tblGrid>
              <a:tr h="168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пуск букв, слов,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буква  в начале 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ударные глас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мена  бу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-ш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нос 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  лиграф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189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рья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240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22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6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стя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15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н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2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240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дрей 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240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2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23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62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выпол.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Прямоугольник 2"/>
          <p:cNvSpPr/>
          <p:nvPr/>
        </p:nvSpPr>
        <p:spPr>
          <a:xfrm>
            <a:off x="1071720" y="14292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7564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ласс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Предмет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усский  язык      Контрольн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57120" y="714240"/>
          <a:ext cx="8501040" cy="5899320"/>
        </p:xfrm>
        <a:graphic>
          <a:graphicData uri="http://schemas.openxmlformats.org/drawingml/2006/table">
            <a:tbl>
              <a:tblPr/>
              <a:tblGrid>
                <a:gridCol w="1122480"/>
                <a:gridCol w="847800"/>
                <a:gridCol w="996840"/>
                <a:gridCol w="996840"/>
                <a:gridCol w="801720"/>
                <a:gridCol w="897120"/>
                <a:gridCol w="949320"/>
                <a:gridCol w="944280"/>
                <a:gridCol w="944640"/>
              </a:tblGrid>
              <a:tr h="19587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аю-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 и запись двузначных  чисел циф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ждение  значений числовых  выражений  в  пределах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ждение  значений числовых  выражений   столбиком  в  пределах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 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сь обозначения  треуг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 запись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а  н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в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е, соотв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ч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м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 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ша 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ва  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стя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на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дрей 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80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ша Ш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8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395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вып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Прямоугольник 2"/>
          <p:cNvSpPr/>
          <p:nvPr/>
        </p:nvSpPr>
        <p:spPr>
          <a:xfrm>
            <a:off x="1071720" y="14292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7564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ласс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Предмет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атематика     Контро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95280" y="928800"/>
          <a:ext cx="8391600" cy="2000160"/>
        </p:xfrm>
        <a:graphic>
          <a:graphicData uri="http://schemas.openxmlformats.org/drawingml/2006/table">
            <a:tbl>
              <a:tblPr/>
              <a:tblGrid>
                <a:gridCol w="1628640"/>
                <a:gridCol w="1297080"/>
                <a:gridCol w="1108080"/>
                <a:gridCol w="1709640"/>
                <a:gridCol w="1311480"/>
                <a:gridCol w="1336680"/>
              </a:tblGrid>
              <a:tr h="7156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ходя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у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у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ва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381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096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1"/>
          <p:cNvSpPr/>
          <p:nvPr/>
        </p:nvSpPr>
        <p:spPr>
          <a:xfrm>
            <a:off x="1332000" y="324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азов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ые работы по русскому язык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28760" y="3714840"/>
          <a:ext cx="8415360" cy="2495520"/>
        </p:xfrm>
        <a:graphic>
          <a:graphicData uri="http://schemas.openxmlformats.org/drawingml/2006/table">
            <a:tbl>
              <a:tblPr/>
              <a:tblGrid>
                <a:gridCol w="1633320"/>
                <a:gridCol w="1300320"/>
                <a:gridCol w="1066680"/>
                <a:gridCol w="1643040"/>
                <a:gridCol w="1432080"/>
                <a:gridCol w="1339920"/>
              </a:tblGrid>
              <a:tr h="98100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ходя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у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158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8276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130" name="Прямоугольник 4"/>
          <p:cNvSpPr/>
          <p:nvPr/>
        </p:nvSpPr>
        <p:spPr>
          <a:xfrm>
            <a:off x="1643040" y="31050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ые  работы  по  математик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398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85880" y="32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льный   анализ  сформиров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х УУД  по  русскому  языку   обучающихся  2 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 2016/2017 уч.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5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286480" cy="542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21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льный   анализ    сформиров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х  УУД  по  математике  обучающихся  2 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 1 полугодие  2016/2017 уч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500040" y="1214280"/>
          <a:ext cx="8286840" cy="542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14280"/>
                    <a:ext cx="828684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6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24000" y="1000080"/>
          <a:ext cx="6943680" cy="4556160"/>
        </p:xfrm>
        <a:graphic>
          <a:graphicData uri="http://schemas.openxmlformats.org/drawingml/2006/table">
            <a:tbl>
              <a:tblPr/>
              <a:tblGrid>
                <a:gridCol w="676080"/>
                <a:gridCol w="2581200"/>
                <a:gridCol w="1193760"/>
                <a:gridCol w="1297080"/>
                <a:gridCol w="1195560"/>
              </a:tblGrid>
              <a:tr h="70164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 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ша 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ва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стя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ина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ёна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дрей 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5100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7380360" y="2708280"/>
          <a:ext cx="1763640" cy="1224000"/>
        </p:xfrm>
        <a:graphic>
          <a:graphicData uri="http://schemas.openxmlformats.org/drawingml/2006/table">
            <a:tbl>
              <a:tblPr/>
              <a:tblGrid>
                <a:gridCol w="1763640"/>
              </a:tblGrid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справил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лодец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2" name="Rectangle 1"/>
          <p:cNvSpPr/>
          <p:nvPr/>
        </p:nvSpPr>
        <p:spPr>
          <a:xfrm>
            <a:off x="324000" y="302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иторинг успешности  обучающихся  2 класса по математик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ножение  числа  6  и деление   на 6. Шестая часть  числа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Диаграмма 1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7786800" cy="52149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928800" y="214200"/>
            <a:ext cx="71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иторинг  успешности  обучающихся  2 класса по математике  тема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ножение  числа  6  и деление   на 6. Шестая часть  числ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907920"/>
          <a:ext cx="8319960" cy="5123160"/>
        </p:xfrm>
        <a:graphic>
          <a:graphicData uri="http://schemas.openxmlformats.org/drawingml/2006/table">
            <a:tbl>
              <a:tblPr/>
              <a:tblGrid>
                <a:gridCol w="436320"/>
                <a:gridCol w="1892520"/>
                <a:gridCol w="1704960"/>
                <a:gridCol w="1674720"/>
                <a:gridCol w="1582560"/>
                <a:gridCol w="1028880"/>
              </a:tblGrid>
              <a:tr h="140184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 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четверт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201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уч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 1 кла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/2017 уч.г.    (2 кла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/2017 уч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2 кла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рья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 Л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98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тантин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н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дрей  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0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marL="85680">
                        <a:lnSpc>
                          <a:spcPct val="115000"/>
                        </a:lnSpc>
                        <a:tabLst>
                          <a:tab algn="l" pos="0"/>
                          <a:tab algn="l" pos="226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1"/>
          <p:cNvSpPr/>
          <p:nvPr/>
        </p:nvSpPr>
        <p:spPr>
          <a:xfrm>
            <a:off x="785880" y="2160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зорная ведомость динамики роста чтения обучающихся 1 - 2  класса                                   2015-2016,  2016 -2017 уч.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ниторинг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фессиональная деятельность по отслеживанию состояния или развития какого-либо предмета изучения, которая позволяет оценить результативность осуществляемой деятельности и принять своевременные и обоснованные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64296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54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бзорная ведомость динамики роста чтения обучающихся 1 - 2  класса                                   2015-2016,  2016 -2017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Диаграмма 4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539640" y="1073160"/>
            <a:ext cx="8136000" cy="4483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ктивную динамику образования ученика за определенный период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ь постоянно корректировать свою работу, исходя из анализа дина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ь знать и влиять на сильные и слабые стороны ученика и класса в це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тический контроль над качеством знаний, полученных учениками с учетом индивидуальных возможностей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11600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ный мониторинг позволяет получ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28760" y="714240"/>
          <a:ext cx="8358120" cy="5929560"/>
        </p:xfrm>
        <a:graphic>
          <a:graphicData uri="http://schemas.openxmlformats.org/drawingml/2006/table">
            <a:tbl>
              <a:tblPr/>
              <a:tblGrid>
                <a:gridCol w="2089080"/>
                <a:gridCol w="2090520"/>
                <a:gridCol w="2089440"/>
                <a:gridCol w="208908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ок  обучаю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ая ч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игнут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Алёна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Аня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достигла баз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Дарья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Яна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ладимир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Кирилл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Кристина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достигла баз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Константин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Полин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Алёна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Андрей 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Татьяна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Алексей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Кирилл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2"/>
          <p:cNvSpPr/>
          <p:nvPr/>
        </p:nvSpPr>
        <p:spPr>
          <a:xfrm>
            <a:off x="1071720" y="0"/>
            <a:ext cx="70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езультаты комплексной работы обучающихся 1 класса                                   2015-2016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Диаграмма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286480" cy="52149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2"/>
          <p:cNvSpPr/>
          <p:nvPr/>
        </p:nvSpPr>
        <p:spPr>
          <a:xfrm>
            <a:off x="1357200" y="2142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еделение  обучающихся класса по уровням  сформированности  учебной компетен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1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42960" y="1214280"/>
          <a:ext cx="8001000" cy="5072400"/>
        </p:xfrm>
        <a:graphic>
          <a:graphicData uri="http://schemas.openxmlformats.org/drawingml/2006/table">
            <a:tbl>
              <a:tblPr/>
              <a:tblGrid>
                <a:gridCol w="2185920"/>
                <a:gridCol w="1916280"/>
                <a:gridCol w="1657080"/>
                <a:gridCol w="2241720"/>
              </a:tblGrid>
              <a:tr h="7812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сок 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а.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рья. 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имир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тантин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н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ёна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дрей 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тьяна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ксей Ш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 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 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360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иторин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ых    достижений   личностных  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хся   1 класс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1"/>
          <p:cNvGraphicFramePr/>
          <p:nvPr/>
        </p:nvGraphicFramePr>
        <p:xfrm>
          <a:off x="285840" y="142920"/>
          <a:ext cx="8572320" cy="64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42920"/>
                    <a:ext cx="857232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3"/>
          <p:cNvSpPr/>
          <p:nvPr/>
        </p:nvSpPr>
        <p:spPr>
          <a:xfrm>
            <a:off x="0" y="51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Диаграмма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429760" cy="61437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214720" y="2858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714240" y="1000080"/>
          <a:ext cx="771552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000080"/>
                    <a:ext cx="771552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3"/>
          <p:cNvSpPr/>
          <p:nvPr/>
        </p:nvSpPr>
        <p:spPr>
          <a:xfrm>
            <a:off x="1500120" y="618840"/>
            <a:ext cx="671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УУД В СРАВНЕНИИ ПО КЛАСС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Диаграмма 1"/>
          <p:cNvGraphicFramePr/>
          <p:nvPr/>
        </p:nvGraphicFramePr>
        <p:xfrm>
          <a:off x="571680" y="1214280"/>
          <a:ext cx="7786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14280"/>
                    <a:ext cx="7786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46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35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развития  познавательных  У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класс  конец  уч.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Диаграмма 1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286480" cy="664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мониторинга уровня сформированности УУД: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ение объективной информации о состоянии и динамике уровня сформированности универсальных учебных действий у младших школьников в условиях реализации федеральных государственных стандартов нового поколения.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Диаграмма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43920" cy="5786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"/>
          <p:cNvSpPr/>
          <p:nvPr/>
        </p:nvSpPr>
        <p:spPr>
          <a:xfrm>
            <a:off x="207180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УУД про клас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"/>
          <p:cNvGraphicFramePr/>
          <p:nvPr/>
        </p:nvGraphicFramePr>
        <p:xfrm>
          <a:off x="285840" y="1143000"/>
          <a:ext cx="8429400" cy="55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143000"/>
                    <a:ext cx="84294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408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4305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развития  регулятивных У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класс  конец уч.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Диаграмма 1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8215200" cy="592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Диаграмма 2" descr=""/>
          <p:cNvPicPr/>
          <p:nvPr/>
        </p:nvPicPr>
        <p:blipFill>
          <a:blip r:embed="rId1"/>
          <a:stretch/>
        </p:blipFill>
        <p:spPr>
          <a:xfrm>
            <a:off x="857160" y="1420920"/>
            <a:ext cx="7572600" cy="46512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3"/>
          <p:cNvSpPr/>
          <p:nvPr/>
        </p:nvSpPr>
        <p:spPr>
          <a:xfrm>
            <a:off x="1285920" y="6429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развития  регулятивных УУД  по класс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Диаграмма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429760" cy="5715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2928960" y="2858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 класс начало учебного  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428760" y="285840"/>
            <a:ext cx="79293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ый подход  к отслеживанию планируемых  результатов позволяет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индивидуальные достижения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ить проблемы и скорректировать работу по достижению планируемых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уществлять преемственность между  начальной и основной школами в формировании и отслеживании результатов освоения основной образовательной программы начального обще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рректировать собственную деятельность и содержание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ординировать и согласовывать деятельность учителей разных предметов, обеспечивая современное качеств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611280" y="333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 организации мониторинга соблюдаю следующие усло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Горизонтальный свиток 8"/>
          <p:cNvSpPr/>
          <p:nvPr/>
        </p:nvSpPr>
        <p:spPr>
          <a:xfrm>
            <a:off x="684360" y="1268280"/>
            <a:ext cx="3958920" cy="122400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ительность во врем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Горизонтальный свиток 9"/>
          <p:cNvSpPr/>
          <p:nvPr/>
        </p:nvSpPr>
        <p:spPr>
          <a:xfrm>
            <a:off x="2195640" y="2565360"/>
            <a:ext cx="3456000" cy="122400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стемат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Горизонтальный свиток 10"/>
          <p:cNvSpPr/>
          <p:nvPr/>
        </p:nvSpPr>
        <p:spPr>
          <a:xfrm>
            <a:off x="3276720" y="3933720"/>
            <a:ext cx="3456000" cy="122400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авн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Горизонтальный свиток 11"/>
          <p:cNvSpPr/>
          <p:nvPr/>
        </p:nvSpPr>
        <p:spPr>
          <a:xfrm>
            <a:off x="4500720" y="5445000"/>
            <a:ext cx="3456000" cy="122400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гнутая влево стрелка 15"/>
          <p:cNvSpPr/>
          <p:nvPr/>
        </p:nvSpPr>
        <p:spPr>
          <a:xfrm flipH="1">
            <a:off x="5406480" y="1268280"/>
            <a:ext cx="849240" cy="1500480"/>
          </a:xfrm>
          <a:custGeom>
            <a:avLst/>
            <a:gdLst>
              <a:gd name="textAreaLeft" fmla="*/ 113760 w 849240"/>
              <a:gd name="textAreaRight" fmla="*/ 735480 w 849240"/>
              <a:gd name="textAreaTop" fmla="*/ 295200 h 1500480"/>
              <a:gd name="textAreaBottom" fmla="*/ 1099080 h 150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7" stAng="-5400000" swAng="-5400000"/>
                <a:lnTo>
                  <a:pt x="0" y="11565"/>
                </a:lnTo>
                <a:arcTo wR="21600" hR="8507" stAng="10800000" swAng="-2085413"/>
                <a:lnTo>
                  <a:pt x="10938" y="20491"/>
                </a:lnTo>
                <a:lnTo>
                  <a:pt x="21600" y="18543"/>
                </a:lnTo>
                <a:lnTo>
                  <a:pt x="10938" y="14377"/>
                </a:lnTo>
                <a:lnTo>
                  <a:pt x="10938" y="15905"/>
                </a:lnTo>
                <a:arcTo wR="21600" hR="8507" stAng="8714587" swAng="1838462"/>
                <a:lnTo>
                  <a:pt x="352" y="10036"/>
                </a:lnTo>
                <a:arcTo wR="21600" hR="8507" stAng="-10553049" swAng="5153049"/>
                <a:close/>
              </a:path>
              <a:path fill="darkenLess" w="21600" h="21600">
                <a:moveTo>
                  <a:pt x="21600" y="0"/>
                </a:moveTo>
                <a:arcTo wR="21600" hR="8507" stAng="-5400000" swAng="-5400000"/>
                <a:lnTo>
                  <a:pt x="0" y="8507"/>
                </a:lnTo>
                <a:arcTo wR="21600" hR="8507" stAng="10800000" swAng="-246951"/>
                <a:lnTo>
                  <a:pt x="352" y="10036"/>
                </a:lnTo>
                <a:arcTo wR="21600" hR="8507" stAng="-10553049" swAng="5153049"/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гнутая влево стрелка 16"/>
          <p:cNvSpPr/>
          <p:nvPr/>
        </p:nvSpPr>
        <p:spPr>
          <a:xfrm flipH="1" rot="20688600">
            <a:off x="6264720" y="2577960"/>
            <a:ext cx="855720" cy="1505160"/>
          </a:xfrm>
          <a:custGeom>
            <a:avLst/>
            <a:gdLst>
              <a:gd name="textAreaLeft" fmla="*/ 114480 w 855720"/>
              <a:gd name="textAreaRight" fmla="*/ 741240 w 855720"/>
              <a:gd name="textAreaTop" fmla="*/ 295920 h 1505160"/>
              <a:gd name="textAreaBottom" fmla="*/ 1102320 h 15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97" stAng="-5400000" swAng="-5400000"/>
                <a:lnTo>
                  <a:pt x="0" y="11568"/>
                </a:lnTo>
                <a:arcTo wR="21600" hR="8497" stAng="10800000" swAng="-2083520"/>
                <a:lnTo>
                  <a:pt x="10938" y="20493"/>
                </a:lnTo>
                <a:lnTo>
                  <a:pt x="21600" y="18530"/>
                </a:lnTo>
                <a:lnTo>
                  <a:pt x="10938" y="14352"/>
                </a:lnTo>
                <a:lnTo>
                  <a:pt x="10938" y="15887"/>
                </a:lnTo>
                <a:arcTo wR="21600" hR="8497" stAng="8716480" swAng="1835478"/>
                <a:lnTo>
                  <a:pt x="356" y="10033"/>
                </a:lnTo>
                <a:arcTo wR="21600" hR="8497" stAng="-10551958" swAng="5151958"/>
                <a:close/>
              </a:path>
              <a:path fill="darkenLess" w="21600" h="21600">
                <a:moveTo>
                  <a:pt x="21600" y="0"/>
                </a:moveTo>
                <a:arcTo wR="21600" hR="8497" stAng="-5400000" swAng="-5400000"/>
                <a:lnTo>
                  <a:pt x="0" y="8497"/>
                </a:lnTo>
                <a:arcTo wR="21600" hR="8497" stAng="10800000" swAng="-248042"/>
                <a:lnTo>
                  <a:pt x="356" y="10033"/>
                </a:lnTo>
                <a:arcTo wR="21600" hR="8497" stAng="-10551958" swAng="5151958"/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Выгнутая влево стрелка 17"/>
          <p:cNvSpPr/>
          <p:nvPr/>
        </p:nvSpPr>
        <p:spPr>
          <a:xfrm flipH="1" rot="20524800">
            <a:off x="7092720" y="4149720"/>
            <a:ext cx="855360" cy="1503360"/>
          </a:xfrm>
          <a:custGeom>
            <a:avLst/>
            <a:gdLst>
              <a:gd name="textAreaLeft" fmla="*/ 114480 w 855360"/>
              <a:gd name="textAreaRight" fmla="*/ 740880 w 855360"/>
              <a:gd name="textAreaTop" fmla="*/ 295560 h 1503360"/>
              <a:gd name="textAreaBottom" fmla="*/ 1100880 h 15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95" stAng="-5400000" swAng="-5400000"/>
                <a:lnTo>
                  <a:pt x="0" y="11568"/>
                </a:lnTo>
                <a:arcTo wR="21600" hR="8495" stAng="10800000" swAng="-2083141"/>
                <a:lnTo>
                  <a:pt x="10938" y="20493"/>
                </a:lnTo>
                <a:lnTo>
                  <a:pt x="21600" y="18527"/>
                </a:lnTo>
                <a:lnTo>
                  <a:pt x="10938" y="14346"/>
                </a:lnTo>
                <a:lnTo>
                  <a:pt x="10938" y="15883"/>
                </a:lnTo>
                <a:arcTo wR="21600" hR="8495" stAng="8716859" swAng="1834931"/>
                <a:lnTo>
                  <a:pt x="356" y="10032"/>
                </a:lnTo>
                <a:arcTo wR="21600" hR="8495" stAng="-10551790" swAng="5151790"/>
                <a:close/>
              </a:path>
              <a:path fill="darkenLess" w="21600" h="21600">
                <a:moveTo>
                  <a:pt x="21600" y="0"/>
                </a:moveTo>
                <a:arcTo wR="21600" hR="8495" stAng="-5400000" swAng="-5400000"/>
                <a:lnTo>
                  <a:pt x="0" y="8495"/>
                </a:lnTo>
                <a:arcTo wR="21600" hR="8495" stAng="10800000" swAng="-248210"/>
                <a:lnTo>
                  <a:pt x="356" y="10032"/>
                </a:lnTo>
                <a:arcTo wR="21600" hR="8495" stAng="-10551790" swAng="5151790"/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468360" y="333360"/>
            <a:ext cx="81360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проведении анализа работ пользуюс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Вертикальный свиток 15"/>
          <p:cNvSpPr/>
          <p:nvPr/>
        </p:nvSpPr>
        <p:spPr>
          <a:xfrm>
            <a:off x="2411280" y="1197000"/>
            <a:ext cx="4321440" cy="158436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овой аналитической справ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Вертикальный свиток 16"/>
          <p:cNvSpPr/>
          <p:nvPr/>
        </p:nvSpPr>
        <p:spPr>
          <a:xfrm>
            <a:off x="2916360" y="4653000"/>
            <a:ext cx="3168360" cy="122400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грам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Вертикальный свиток 17"/>
          <p:cNvSpPr/>
          <p:nvPr/>
        </p:nvSpPr>
        <p:spPr>
          <a:xfrm>
            <a:off x="6084720" y="2997360"/>
            <a:ext cx="2664000" cy="115236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ертикальный свиток 18"/>
          <p:cNvSpPr/>
          <p:nvPr/>
        </p:nvSpPr>
        <p:spPr>
          <a:xfrm>
            <a:off x="250920" y="2997360"/>
            <a:ext cx="2881080" cy="115236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Вертикальный свиток 19"/>
          <p:cNvSpPr/>
          <p:nvPr/>
        </p:nvSpPr>
        <p:spPr>
          <a:xfrm>
            <a:off x="3132000" y="2997360"/>
            <a:ext cx="2735280" cy="1152360"/>
          </a:xfrm>
          <a:prstGeom prst="verticalScroll">
            <a:avLst>
              <a:gd name="adj" fmla="val 12500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357120" y="28584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ая  диагностика  готовности   учащихся                                        1 класса  к  овладению грамотой  и  математи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7120" y="1000080"/>
          <a:ext cx="8358120" cy="5265720"/>
        </p:xfrm>
        <a:graphic>
          <a:graphicData uri="http://schemas.openxmlformats.org/drawingml/2006/table">
            <a:tbl>
              <a:tblPr/>
              <a:tblGrid>
                <a:gridCol w="614520"/>
                <a:gridCol w="981000"/>
                <a:gridCol w="911160"/>
                <a:gridCol w="981000"/>
                <a:gridCol w="798480"/>
                <a:gridCol w="812880"/>
                <a:gridCol w="717480"/>
                <a:gridCol w="841680"/>
                <a:gridCol w="771480"/>
                <a:gridCol w="928440"/>
              </a:tblGrid>
              <a:tr h="146376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ите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и выпол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фмет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сылки к овла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мение след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б. из 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б. 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б  из 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б.  из 2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б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б. из 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б.  из 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б. из 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gridSpan="9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  %         53 %                  100 %       53 %          92 %         38%         100 %        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28760" y="857160"/>
          <a:ext cx="8429400" cy="5454720"/>
        </p:xfrm>
        <a:graphic>
          <a:graphicData uri="http://schemas.openxmlformats.org/drawingml/2006/table">
            <a:tbl>
              <a:tblPr/>
              <a:tblGrid>
                <a:gridCol w="936360"/>
                <a:gridCol w="1322640"/>
                <a:gridCol w="1908000"/>
                <a:gridCol w="1468440"/>
                <a:gridCol w="1395360"/>
                <a:gridCol w="1398600"/>
              </a:tblGrid>
              <a:tr h="11620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бщ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развития ряда неречевых функций, лежащих в основе овладения грамот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интуитивных дочисловых предста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 баллов  из  22 возмож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. ИЗ 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.   ИЗ 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3Б. ИЗ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3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  ИЗ 6  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. ИЗ 7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. ИЗ  6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gridSpan="6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 БАЛЛ   ГОТОВНОСТИ    К  ОБУЧЕНИЮ    ПО  КЛАССУ -  13  Б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1"/>
          <p:cNvSpPr/>
          <p:nvPr/>
        </p:nvSpPr>
        <p:spPr>
          <a:xfrm>
            <a:off x="857160" y="216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 группы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ы показателей готовности к обучению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Диаграмма 1"/>
          <p:cNvGraphicFramePr/>
          <p:nvPr/>
        </p:nvGraphicFramePr>
        <p:xfrm>
          <a:off x="714240" y="1143000"/>
          <a:ext cx="771552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143000"/>
                    <a:ext cx="77155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Прямоугольник 2"/>
          <p:cNvSpPr/>
          <p:nvPr/>
        </p:nvSpPr>
        <p:spPr>
          <a:xfrm>
            <a:off x="3000240" y="21420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класс начало учебного 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Диаграмма 1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072280" cy="57862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2286000" y="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класс начало  учебного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5T04:42:04Z</dcterms:created>
  <dc:creator>DNS</dc:creator>
  <dc:description/>
  <dc:language>en-US</dc:language>
  <cp:lastModifiedBy>Учитель</cp:lastModifiedBy>
  <dcterms:modified xsi:type="dcterms:W3CDTF">2019-01-04T14:03:28Z</dcterms:modified>
  <cp:revision>128</cp:revision>
  <dc:subject/>
  <dc:title>Слайд 1</dc:title>
</cp:coreProperties>
</file>