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6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30.wmf" ContentType="image/x-wmf"/>
  <Override PartName="/ppt/media/image28.wmf" ContentType="image/x-wmf"/>
  <Override PartName="/ppt/media/image31.wmf" ContentType="image/x-wmf"/>
  <Override PartName="/ppt/media/image8.jpeg" ContentType="image/jpeg"/>
  <Override PartName="/ppt/media/image5.png" ContentType="image/png"/>
  <Override PartName="/ppt/media/image13.wmf" ContentType="image/x-wmf"/>
  <Override PartName="/ppt/media/image32.wmf" ContentType="image/x-wmf"/>
  <Override PartName="/ppt/media/image33.wmf" ContentType="image/x-wmf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10.png" ContentType="image/png"/>
  <Override PartName="/ppt/media/image1.jpeg" ContentType="image/jpeg"/>
  <Override PartName="/ppt/media/image12.wmf" ContentType="image/x-wmf"/>
  <Override PartName="/ppt/media/image4.png" ContentType="image/png"/>
  <Override PartName="/ppt/media/image2.png" ContentType="image/png"/>
  <Override PartName="/ppt/media/image14.wmf" ContentType="image/x-wmf"/>
  <Override PartName="/ppt/media/image16.jpeg" ContentType="image/jpeg"/>
  <Override PartName="/ppt/media/image35.wmf" ContentType="image/x-wmf"/>
  <Override PartName="/ppt/media/image18.jpeg" ContentType="image/jpeg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FBE-C2A2-4BC9-B25B-D64C0206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373-D9A4-4342-B5A9-FB46071B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645-762B-4D4F-A3E0-F3123B5C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310-7393-4ED9-AD4D-6829D969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117-79E3-40E3-849C-70627D97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E7C-767E-4176-B7F0-4F71DD2C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CF3-D5B5-4A3D-AF02-12D17D7A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48B-2D61-4FD8-A730-61BD6A4F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83C-3D13-4E5B-BEFF-3C99317D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EAD-FAEA-434A-B661-44732F3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AEC-CDC1-4C9B-A171-0B6A2451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61B-F1C4-462F-A3F5-40FB5DEF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F0FC-A8FB-4F68-87A5-DA62F2BE4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3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9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9.png"/><Relationship Id="rId22" Type="http://schemas.openxmlformats.org/officeDocument/2006/relationships/image" Target="../media/image17.jpeg"/><Relationship Id="rId23" Type="http://schemas.openxmlformats.org/officeDocument/2006/relationships/image" Target="../media/image16.jpe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13.wmf"/><Relationship Id="rId12" Type="http://schemas.openxmlformats.org/officeDocument/2006/relationships/image" Target="../media/image15.wmf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0.png"/><Relationship Id="rId20" Type="http://schemas.openxmlformats.org/officeDocument/2006/relationships/image" Target="../media/image19.wmf"/><Relationship Id="rId21" Type="http://schemas.openxmlformats.org/officeDocument/2006/relationships/image" Target="../media/image15.wmf"/><Relationship Id="rId22" Type="http://schemas.openxmlformats.org/officeDocument/2006/relationships/image" Target="../media/image18.jpeg"/><Relationship Id="rId23" Type="http://schemas.openxmlformats.org/officeDocument/2006/relationships/oleObject" Target="../embeddings/oleObject3.bin"/><Relationship Id="rId24" Type="http://schemas.openxmlformats.org/officeDocument/2006/relationships/image" Target="../media/image9.png"/><Relationship Id="rId25" Type="http://schemas.openxmlformats.org/officeDocument/2006/relationships/image" Target="../media/image17.jpeg"/><Relationship Id="rId26" Type="http://schemas.openxmlformats.org/officeDocument/2006/relationships/oleObject" Target="../embeddings/oleObject4.bin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png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image" Target="../media/image18.jpeg"/><Relationship Id="rId21" Type="http://schemas.openxmlformats.org/officeDocument/2006/relationships/oleObject" Target="../embeddings/oleObject3.bin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28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image" Target="../media/image23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20.wmf"/><Relationship Id="rId13" Type="http://schemas.openxmlformats.org/officeDocument/2006/relationships/image" Target="../media/image31.wmf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0.png"/><Relationship Id="rId19" Type="http://schemas.openxmlformats.org/officeDocument/2006/relationships/image" Target="../media/image32.wmf"/><Relationship Id="rId20" Type="http://schemas.openxmlformats.org/officeDocument/2006/relationships/image" Target="../media/image33.wmf"/><Relationship Id="rId21" Type="http://schemas.openxmlformats.org/officeDocument/2006/relationships/image" Target="../media/image33.wmf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2.bin"/><Relationship Id="rId24" Type="http://schemas.openxmlformats.org/officeDocument/2006/relationships/image" Target="../media/image9.png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4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3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9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9.png"/><Relationship Id="rId22" Type="http://schemas.openxmlformats.org/officeDocument/2006/relationships/image" Target="../media/image17.jpeg"/><Relationship Id="rId23" Type="http://schemas.openxmlformats.org/officeDocument/2006/relationships/image" Target="../media/image16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30000"/>
          </a:blip>
          <a:srcRect l="1922" t="1862" r="1941" b="11702"/>
          <a:stretch/>
        </p:blipFill>
        <p:spPr>
          <a:xfrm>
            <a:off x="36360" y="44280"/>
            <a:ext cx="9144000" cy="6858000"/>
          </a:xfrm>
          <a:prstGeom prst="rect">
            <a:avLst/>
          </a:prstGeom>
          <a:ln w="57240">
            <a:solidFill>
              <a:srgbClr val="a67f3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79280" y="3357720"/>
            <a:ext cx="867276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троение треугольника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трем элементам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647640" y="333360"/>
            <a:ext cx="7524720" cy="6149880"/>
            <a:chOff x="647640" y="333360"/>
            <a:chExt cx="7524720" cy="614988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647640" y="335772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647640" y="33336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-47520" y="5403960"/>
            <a:ext cx="9239040" cy="2570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rcRect l="0" t="34022" r="0" b="42803"/>
          <a:stretch/>
        </p:blipFill>
        <p:spPr>
          <a:xfrm>
            <a:off x="1774800" y="4795920"/>
            <a:ext cx="5533920" cy="1441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14560" y="5541840"/>
            <a:ext cx="52182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55054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rcRect l="-2150" t="0" r="1759" b="73796"/>
          <a:stretch/>
        </p:blipFill>
        <p:spPr>
          <a:xfrm>
            <a:off x="2843280" y="1798560"/>
            <a:ext cx="5546520" cy="1630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rcRect l="58069" t="150" r="3644" b="74381"/>
          <a:stretch/>
        </p:blipFill>
        <p:spPr>
          <a:xfrm>
            <a:off x="3132000" y="1844640"/>
            <a:ext cx="2735280" cy="1584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 flipH="1" flipV="1">
            <a:off x="5397120" y="1773360"/>
            <a:ext cx="1800360" cy="37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4477680" y="2395800"/>
            <a:ext cx="2742120" cy="31467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84720" y="2054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63640" y="5589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36000" y="5589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27640" y="5510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06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5744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164360" y="55054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7640" y="2349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49800" y="3278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80000" y="321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00000" y="333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ямая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точка В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00000" y="76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кружность (В; а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=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00000" y="119700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Окружность (С; в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кружность (В; 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1989000"/>
            <a:ext cx="31672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С  — иско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0920" y="3141720"/>
          <a:ext cx="495360" cy="23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3141720"/>
                    <a:ext cx="4953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4920" y="2852640"/>
          <a:ext cx="863640" cy="266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0" y="285264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0" y="5589720"/>
            <a:ext cx="3238560" cy="57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"/>
          <p:cNvGraphicFramePr/>
          <p:nvPr/>
        </p:nvGraphicFramePr>
        <p:xfrm>
          <a:off x="7236000" y="3141720"/>
          <a:ext cx="495000" cy="2349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36000" y="3141720"/>
                    <a:ext cx="4950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 flipV="1">
            <a:off x="2050920" y="1915920"/>
            <a:ext cx="165744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908000" y="2852640"/>
          <a:ext cx="863640" cy="266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08000" y="285264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 flipV="1">
            <a:off x="2014560" y="2409840"/>
            <a:ext cx="2448000" cy="3130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6"/>
          <a:stretch/>
        </p:blipFill>
        <p:spPr>
          <a:xfrm rot="18469200">
            <a:off x="1728000" y="4039560"/>
            <a:ext cx="3238560" cy="57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6877080" y="2852640"/>
          <a:ext cx="863640" cy="2660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77080" y="285264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" descr=""/>
          <p:cNvPicPr/>
          <p:nvPr/>
        </p:nvPicPr>
        <p:blipFill>
          <a:blip r:embed="rId19"/>
          <a:stretch/>
        </p:blipFill>
        <p:spPr>
          <a:xfrm rot="2909400">
            <a:off x="4104000" y="4042800"/>
            <a:ext cx="3238560" cy="5763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774072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245440" y="260280"/>
          <a:ext cx="658800" cy="204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245440" y="260280"/>
                    <a:ext cx="658800" cy="204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75" name="" descr=""/>
          <p:cNvPicPr/>
          <p:nvPr/>
        </p:nvPicPr>
        <p:blipFill>
          <a:blip r:embed="rId22"/>
          <a:srcRect l="27400" t="4724" r="31179" b="0"/>
          <a:stretch/>
        </p:blipFill>
        <p:spPr>
          <a:xfrm>
            <a:off x="8245440" y="2351160"/>
            <a:ext cx="64764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23"/>
          <a:srcRect l="26877" t="76" r="31076" b="0"/>
          <a:stretch/>
        </p:blipFill>
        <p:spPr>
          <a:xfrm>
            <a:off x="8244000" y="4405320"/>
            <a:ext cx="707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7" name=""/>
          <p:cNvSpPr/>
          <p:nvPr/>
        </p:nvSpPr>
        <p:spPr>
          <a:xfrm>
            <a:off x="4572000" y="551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600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7493"/>
                </a:moveTo>
                <a:lnTo>
                  <a:pt x="9232" y="7493"/>
                </a:lnTo>
                <a:lnTo>
                  <a:pt x="9232" y="12828"/>
                </a:lnTo>
                <a:cubicBezTo>
                  <a:pt x="9232" y="13751"/>
                  <a:pt x="10033" y="14482"/>
                  <a:pt x="11068" y="14482"/>
                </a:cubicBezTo>
                <a:lnTo>
                  <a:pt x="12731" y="14482"/>
                </a:lnTo>
                <a:cubicBezTo>
                  <a:pt x="13767" y="14482"/>
                  <a:pt x="14567" y="13751"/>
                  <a:pt x="14567" y="12828"/>
                </a:cubicBezTo>
                <a:lnTo>
                  <a:pt x="14567" y="7493"/>
                </a:lnTo>
                <a:lnTo>
                  <a:pt x="12731" y="7493"/>
                </a:lnTo>
                <a:lnTo>
                  <a:pt x="16238" y="3985"/>
                </a:lnTo>
                <a:lnTo>
                  <a:pt x="19911" y="7493"/>
                </a:lnTo>
                <a:lnTo>
                  <a:pt x="18075" y="7493"/>
                </a:lnTo>
                <a:lnTo>
                  <a:pt x="18075" y="12828"/>
                </a:lnTo>
                <a:cubicBezTo>
                  <a:pt x="18075" y="15596"/>
                  <a:pt x="15499" y="18155"/>
                  <a:pt x="12731" y="18155"/>
                </a:cubicBezTo>
                <a:lnTo>
                  <a:pt x="11068" y="18155"/>
                </a:lnTo>
                <a:cubicBezTo>
                  <a:pt x="8301" y="18155"/>
                  <a:pt x="5724" y="15596"/>
                  <a:pt x="5724" y="12828"/>
                </a:cubicBezTo>
                <a:close/>
              </a:path>
            </a:pathLst>
          </a:custGeom>
          <a:solidFill>
            <a:srgbClr val="cba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20"/>
                            </p:stCondLst>
                            <p:childTnLst>
                              <p:par>
                                <p:cTn id="9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9331"/>
          <a:stretch/>
        </p:blipFill>
        <p:spPr>
          <a:xfrm>
            <a:off x="0" y="888840"/>
            <a:ext cx="9144000" cy="621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162864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По двум сторонам и углу между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14172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По стороне и двум прилегающими уг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581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По трем сторо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565520" y="1628640"/>
            <a:ext cx="2886120" cy="120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565520" y="2924280"/>
            <a:ext cx="2886120" cy="131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565520" y="4365720"/>
            <a:ext cx="2886120" cy="12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Построение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7812000" y="645336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76360" y="333360"/>
            <a:ext cx="7524720" cy="6149880"/>
            <a:chOff x="576360" y="333360"/>
            <a:chExt cx="7524720" cy="614988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576360" y="335772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576360" y="33336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3529080" y="141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29080" y="1844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09800" y="90792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50520" y="1871280"/>
            <a:ext cx="4153680" cy="18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9440" y="20620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53080" y="20620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49440" y="1484280"/>
            <a:ext cx="5327640" cy="71280"/>
            <a:chOff x="649440" y="1484280"/>
            <a:chExt cx="5327640" cy="71280"/>
          </a:xfrm>
        </p:grpSpPr>
        <p:sp>
          <p:nvSpPr>
            <p:cNvPr id="62" name=""/>
            <p:cNvSpPr/>
            <p:nvPr/>
          </p:nvSpPr>
          <p:spPr>
            <a:xfrm>
              <a:off x="649440" y="1530360"/>
              <a:ext cx="5292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05800" y="14842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9440" y="14842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809800" y="2997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стро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3789360"/>
            <a:ext cx="2160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B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B=c, BC=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АВС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о двум сторонам и углу между н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907920"/>
            <a:ext cx="8136000" cy="5545440"/>
          </a:xfrm>
          <a:prstGeom prst="rect">
            <a:avLst/>
          </a:prstGeom>
          <a:noFill/>
          <a:ln w="57240">
            <a:solidFill>
              <a:srgbClr val="a6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26920" y="1982160"/>
            <a:ext cx="1873440" cy="1021320"/>
            <a:chOff x="826920" y="1982160"/>
            <a:chExt cx="1873440" cy="1021320"/>
          </a:xfrm>
        </p:grpSpPr>
        <p:sp>
          <p:nvSpPr>
            <p:cNvPr id="70" name=""/>
            <p:cNvSpPr/>
            <p:nvPr/>
          </p:nvSpPr>
          <p:spPr>
            <a:xfrm flipV="1">
              <a:off x="833400" y="1982160"/>
              <a:ext cx="995400" cy="10213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6920" y="2994120"/>
              <a:ext cx="1873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189080" y="21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2917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rcRect l="4814" t="10934" r="8497" b="-470"/>
          <a:stretch/>
        </p:blipFill>
        <p:spPr>
          <a:xfrm>
            <a:off x="2771640" y="3860640"/>
            <a:ext cx="2881440" cy="223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012000" y="907920"/>
            <a:ext cx="266364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427640" y="5510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47640" y="44280"/>
            <a:ext cx="7524720" cy="6149880"/>
            <a:chOff x="647640" y="44280"/>
            <a:chExt cx="7524720" cy="61498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47640" y="306864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647640" y="4428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900000" y="1159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оведем прямую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отложим на ней точку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476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тложим на прямой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трезок ВС, равны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1844640"/>
            <a:ext cx="3166920" cy="39888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С  — иско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4920" y="2708280"/>
          <a:ext cx="86364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270828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5445000"/>
            <a:ext cx="3238560" cy="576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74072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-468360" y="5300640"/>
            <a:ext cx="9239400" cy="257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rcRect l="57672" t="42137" r="29068" b="32413"/>
          <a:stretch/>
        </p:blipFill>
        <p:spPr>
          <a:xfrm>
            <a:off x="4859280" y="4576680"/>
            <a:ext cx="1225440" cy="1582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rcRect l="16365" t="1526" r="51672" b="45780"/>
          <a:stretch/>
        </p:blipFill>
        <p:spPr>
          <a:xfrm>
            <a:off x="1042920" y="2924280"/>
            <a:ext cx="2954520" cy="273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rcRect l="59834" t="-735" r="13299" b="83365"/>
          <a:stretch/>
        </p:blipFill>
        <p:spPr>
          <a:xfrm>
            <a:off x="3059280" y="1916280"/>
            <a:ext cx="1584000" cy="1081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5438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5438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5445000"/>
            <a:ext cx="4537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019040" y="2449080"/>
            <a:ext cx="1800360" cy="298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75480" y="53974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83664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Построим угол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, равный угл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16064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На луче 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ложим отрезок ВА, равный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500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3640" y="544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5094360" y="3801960"/>
            <a:ext cx="3744720" cy="10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rcRect l="16365" t="1526" r="51672" b="45780"/>
          <a:stretch/>
        </p:blipFill>
        <p:spPr>
          <a:xfrm>
            <a:off x="5364000" y="1346040"/>
            <a:ext cx="2954520" cy="273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rcRect l="13784" t="1972" r="53534" b="80792"/>
          <a:stretch/>
        </p:blipFill>
        <p:spPr>
          <a:xfrm>
            <a:off x="6589800" y="1851120"/>
            <a:ext cx="136692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3708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38307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88920" y="19954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644800" y="901440"/>
            <a:ext cx="2748600" cy="292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38196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7800" y="2571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3"/>
          <a:srcRect l="26877" t="76" r="31076" b="0"/>
          <a:stretch/>
        </p:blipFill>
        <p:spPr>
          <a:xfrm>
            <a:off x="8244000" y="4405320"/>
            <a:ext cx="707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14"/>
          <a:srcRect l="27400" t="4724" r="31179" b="0"/>
          <a:stretch/>
        </p:blipFill>
        <p:spPr>
          <a:xfrm>
            <a:off x="8245440" y="2351160"/>
            <a:ext cx="64764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14" name=""/>
          <p:cNvGraphicFramePr/>
          <p:nvPr/>
        </p:nvGraphicFramePr>
        <p:xfrm>
          <a:off x="8245440" y="260280"/>
          <a:ext cx="658800" cy="204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245440" y="260280"/>
                    <a:ext cx="658800" cy="204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64328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7"/>
          <a:srcRect l="34921" t="831" r="34845" b="926"/>
          <a:stretch/>
        </p:blipFill>
        <p:spPr>
          <a:xfrm>
            <a:off x="5435640" y="1916280"/>
            <a:ext cx="576360" cy="1871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rcRect l="34845" t="831" r="34921" b="926"/>
          <a:stretch/>
        </p:blipFill>
        <p:spPr>
          <a:xfrm>
            <a:off x="7524720" y="1916280"/>
            <a:ext cx="576360" cy="1871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164360" y="623736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7493"/>
                </a:moveTo>
                <a:lnTo>
                  <a:pt x="9232" y="7493"/>
                </a:lnTo>
                <a:lnTo>
                  <a:pt x="9232" y="12828"/>
                </a:lnTo>
                <a:cubicBezTo>
                  <a:pt x="9232" y="13751"/>
                  <a:pt x="10033" y="14482"/>
                  <a:pt x="11068" y="14482"/>
                </a:cubicBezTo>
                <a:lnTo>
                  <a:pt x="12731" y="14482"/>
                </a:lnTo>
                <a:cubicBezTo>
                  <a:pt x="13767" y="14482"/>
                  <a:pt x="14567" y="13751"/>
                  <a:pt x="14567" y="12828"/>
                </a:cubicBezTo>
                <a:lnTo>
                  <a:pt x="14567" y="7493"/>
                </a:lnTo>
                <a:lnTo>
                  <a:pt x="12731" y="7493"/>
                </a:lnTo>
                <a:lnTo>
                  <a:pt x="16238" y="3985"/>
                </a:lnTo>
                <a:lnTo>
                  <a:pt x="19911" y="7493"/>
                </a:lnTo>
                <a:lnTo>
                  <a:pt x="18075" y="7493"/>
                </a:lnTo>
                <a:lnTo>
                  <a:pt x="18075" y="12828"/>
                </a:lnTo>
                <a:cubicBezTo>
                  <a:pt x="18075" y="15596"/>
                  <a:pt x="15499" y="18155"/>
                  <a:pt x="12731" y="18155"/>
                </a:cubicBezTo>
                <a:lnTo>
                  <a:pt x="11068" y="18155"/>
                </a:lnTo>
                <a:cubicBezTo>
                  <a:pt x="8301" y="18155"/>
                  <a:pt x="5724" y="15596"/>
                  <a:pt x="5724" y="12828"/>
                </a:cubicBezTo>
                <a:close/>
              </a:path>
            </a:pathLst>
          </a:custGeom>
          <a:solidFill>
            <a:srgbClr val="cba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 rot="3540000">
            <a:off x="3083040" y="3902040"/>
            <a:ext cx="3249360" cy="579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1168560" y="1960560"/>
            <a:ext cx="7600680" cy="360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1"/>
          <a:srcRect l="13784" t="1972" r="53534" b="80792"/>
          <a:stretch/>
        </p:blipFill>
        <p:spPr>
          <a:xfrm>
            <a:off x="2268360" y="3429000"/>
            <a:ext cx="1366920" cy="72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1320480" y="2479320"/>
            <a:ext cx="2748600" cy="2929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2"/>
          <a:srcRect l="34845" t="831" r="34921" b="926"/>
          <a:stretch/>
        </p:blipFill>
        <p:spPr>
          <a:xfrm>
            <a:off x="3348000" y="3500280"/>
            <a:ext cx="576360" cy="18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27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11480" y="24433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60360" y="2708280"/>
          <a:ext cx="863640" cy="2660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60360" y="270828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25"/>
          <a:srcRect l="34921" t="831" r="34845" b="926"/>
          <a:stretch/>
        </p:blipFill>
        <p:spPr>
          <a:xfrm>
            <a:off x="1187280" y="3500280"/>
            <a:ext cx="576360" cy="18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403280" y="3284640"/>
          <a:ext cx="658800" cy="20397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403280" y="3284640"/>
                    <a:ext cx="6588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28"/>
          <a:stretch/>
        </p:blipFill>
        <p:spPr>
          <a:xfrm rot="18800400">
            <a:off x="1225080" y="4081320"/>
            <a:ext cx="29908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755880" y="5408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3974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68560" y="3573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576360" y="333360"/>
            <a:ext cx="7524720" cy="6149880"/>
            <a:chOff x="576360" y="333360"/>
            <a:chExt cx="7524720" cy="614988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576360" y="335772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76360" y="33336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327672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09800" y="90792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49440" y="2492280"/>
            <a:ext cx="5327640" cy="71280"/>
            <a:chOff x="649440" y="2492280"/>
            <a:chExt cx="5327640" cy="71280"/>
          </a:xfrm>
        </p:grpSpPr>
        <p:sp>
          <p:nvSpPr>
            <p:cNvPr id="143" name=""/>
            <p:cNvSpPr/>
            <p:nvPr/>
          </p:nvSpPr>
          <p:spPr>
            <a:xfrm>
              <a:off x="649440" y="2538360"/>
              <a:ext cx="5292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5800" y="24922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440" y="24922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809800" y="2997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стро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789360"/>
            <a:ext cx="216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B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C=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АВС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B=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о стороне и 2 прилегающим угл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907920"/>
            <a:ext cx="8136000" cy="5545440"/>
          </a:xfrm>
          <a:prstGeom prst="rect">
            <a:avLst/>
          </a:prstGeom>
          <a:noFill/>
          <a:ln w="57240">
            <a:solidFill>
              <a:srgbClr val="a6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4360" y="1190520"/>
            <a:ext cx="1873080" cy="1020960"/>
            <a:chOff x="684360" y="1190520"/>
            <a:chExt cx="1873080" cy="1020960"/>
          </a:xfrm>
        </p:grpSpPr>
        <p:sp>
          <p:nvSpPr>
            <p:cNvPr id="151" name=""/>
            <p:cNvSpPr/>
            <p:nvPr/>
          </p:nvSpPr>
          <p:spPr>
            <a:xfrm flipV="1">
              <a:off x="690840" y="1190520"/>
              <a:ext cx="995040" cy="10209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4360" y="2201760"/>
              <a:ext cx="1873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046160" y="134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2125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012000" y="907920"/>
            <a:ext cx="2663640" cy="5545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rcRect l="0" t="0" r="36371" b="60589"/>
          <a:stretch/>
        </p:blipFill>
        <p:spPr>
          <a:xfrm>
            <a:off x="4572000" y="1125360"/>
            <a:ext cx="1800360" cy="115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rcRect l="55126" t="0" r="0" b="0"/>
          <a:stretch/>
        </p:blipFill>
        <p:spPr>
          <a:xfrm>
            <a:off x="3706920" y="2133720"/>
            <a:ext cx="2052360" cy="237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43280" y="21985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556000" y="3778200"/>
            <a:ext cx="2962080" cy="2314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3280" y="386064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3860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427640" y="5510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47640" y="303120"/>
            <a:ext cx="7524720" cy="6149880"/>
            <a:chOff x="647640" y="303120"/>
            <a:chExt cx="7524720" cy="614988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647640" y="332748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647640" y="30312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900000" y="1159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оведем прямую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отложим на ней точку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тложим на ней отрезок ВС, равны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4920" y="2708280"/>
          <a:ext cx="86364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270828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5805360"/>
            <a:ext cx="3238560" cy="57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740720" y="5078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83664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Построим угол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, равный угл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5280" y="5583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rcRect l="26877" t="76" r="31076" b="0"/>
          <a:stretch/>
        </p:blipFill>
        <p:spPr>
          <a:xfrm>
            <a:off x="8244000" y="4405320"/>
            <a:ext cx="707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7"/>
          <a:srcRect l="27400" t="4724" r="31179" b="0"/>
          <a:stretch/>
        </p:blipFill>
        <p:spPr>
          <a:xfrm>
            <a:off x="8245440" y="2351160"/>
            <a:ext cx="64764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78" name=""/>
          <p:cNvGraphicFramePr/>
          <p:nvPr/>
        </p:nvGraphicFramePr>
        <p:xfrm>
          <a:off x="8245440" y="260280"/>
          <a:ext cx="658800" cy="204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45440" y="260280"/>
                    <a:ext cx="658800" cy="204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851280" y="1700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0" y="5326200"/>
            <a:ext cx="9239400" cy="257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rcRect l="89449" t="62859" r="-124" b="5468"/>
          <a:stretch/>
        </p:blipFill>
        <p:spPr>
          <a:xfrm>
            <a:off x="5435640" y="4437000"/>
            <a:ext cx="649080" cy="1728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rcRect l="57608" t="2243" r="273" b="45688"/>
          <a:stretch/>
        </p:blipFill>
        <p:spPr>
          <a:xfrm>
            <a:off x="1835280" y="4076640"/>
            <a:ext cx="1224000" cy="1513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rcRect l="0" t="400" r="42112" b="68615"/>
          <a:stretch/>
        </p:blipFill>
        <p:spPr>
          <a:xfrm>
            <a:off x="1582560" y="4076640"/>
            <a:ext cx="1549440" cy="865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5219640" y="1557360"/>
            <a:ext cx="2752920" cy="2219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rcRect l="40558" t="0" r="0" b="38315"/>
          <a:stretch/>
        </p:blipFill>
        <p:spPr>
          <a:xfrm>
            <a:off x="5076720" y="2212920"/>
            <a:ext cx="1727280" cy="1792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6"/>
          <a:srcRect l="0" t="0" r="5757" b="71285"/>
          <a:stretch/>
        </p:blipFill>
        <p:spPr>
          <a:xfrm>
            <a:off x="5289480" y="2266920"/>
            <a:ext cx="2522520" cy="801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03280" y="5654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01840" y="429264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63384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27840" y="2492280"/>
            <a:ext cx="7308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5451480"/>
            <a:ext cx="43545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558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6528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076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7"/>
          <a:srcRect l="34921" t="831" r="34845" b="926"/>
          <a:stretch/>
        </p:blipFill>
        <p:spPr>
          <a:xfrm>
            <a:off x="5148360" y="1700280"/>
            <a:ext cx="576000" cy="1871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93220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8"/>
          <a:srcRect l="34921" t="831" r="34845" b="926"/>
          <a:stretch/>
        </p:blipFill>
        <p:spPr>
          <a:xfrm>
            <a:off x="1476360" y="3500280"/>
            <a:ext cx="576360" cy="1872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9"/>
          <a:srcRect l="34845" t="831" r="34921" b="926"/>
          <a:stretch/>
        </p:blipFill>
        <p:spPr>
          <a:xfrm>
            <a:off x="6300720" y="1773360"/>
            <a:ext cx="576360" cy="1871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0"/>
          <a:srcRect l="34845" t="831" r="34921" b="926"/>
          <a:stretch/>
        </p:blipFill>
        <p:spPr>
          <a:xfrm>
            <a:off x="2484360" y="3500280"/>
            <a:ext cx="576360" cy="187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13440" y="198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77080" y="32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476360" y="2708280"/>
          <a:ext cx="863640" cy="2660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76360" y="270828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" descr=""/>
          <p:cNvPicPr/>
          <p:nvPr/>
        </p:nvPicPr>
        <p:blipFill>
          <a:blip r:embed="rId23"/>
          <a:stretch/>
        </p:blipFill>
        <p:spPr>
          <a:xfrm rot="18136200">
            <a:off x="1095840" y="4112280"/>
            <a:ext cx="323856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4"/>
          <a:stretch/>
        </p:blipFill>
        <p:spPr>
          <a:xfrm>
            <a:off x="1420920" y="2068560"/>
            <a:ext cx="43923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4" dur="25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5" dur="25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6" dur="250" autoRev="1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53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4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6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7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91" dur="25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2" dur="25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3" dur="25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31179" t="4724" r="27400" b="0"/>
          <a:stretch/>
        </p:blipFill>
        <p:spPr>
          <a:xfrm>
            <a:off x="7237440" y="1413000"/>
            <a:ext cx="647640" cy="1927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427640" y="5510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47640" y="303120"/>
            <a:ext cx="7524720" cy="6149880"/>
            <a:chOff x="647640" y="303120"/>
            <a:chExt cx="7524720" cy="614988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647640" y="332748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647640" y="30312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900000" y="1159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оведем прямую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отложим на ней точку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476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тложим на ней отрезок ВС, равны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40720" y="5078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036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83664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Построим угол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, равный угл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35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rcRect l="26877" t="76" r="31076" b="0"/>
          <a:stretch/>
        </p:blipFill>
        <p:spPr>
          <a:xfrm>
            <a:off x="8244000" y="4405320"/>
            <a:ext cx="707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5"/>
          <a:srcRect l="27400" t="4724" r="31179" b="0"/>
          <a:stretch/>
        </p:blipFill>
        <p:spPr>
          <a:xfrm>
            <a:off x="8244000" y="2349360"/>
            <a:ext cx="647640" cy="19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20" name=""/>
          <p:cNvGraphicFramePr/>
          <p:nvPr/>
        </p:nvGraphicFramePr>
        <p:xfrm>
          <a:off x="8245440" y="260280"/>
          <a:ext cx="658800" cy="2040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45440" y="260280"/>
                    <a:ext cx="658800" cy="204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3851280" y="1700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0" y="5326200"/>
            <a:ext cx="9239400" cy="257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9"/>
          <a:stretch/>
        </p:blipFill>
        <p:spPr>
          <a:xfrm>
            <a:off x="1420920" y="2068560"/>
            <a:ext cx="4392360" cy="3541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03280" y="5654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5451480"/>
            <a:ext cx="43545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5724360" y="1773360"/>
            <a:ext cx="2184480" cy="1720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372360" y="3327480"/>
            <a:ext cx="7272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1"/>
          <a:stretch/>
        </p:blipFill>
        <p:spPr>
          <a:xfrm>
            <a:off x="2195640" y="1773360"/>
            <a:ext cx="3848040" cy="3781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3203640" y="2637000"/>
            <a:ext cx="2828880" cy="2923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3"/>
          <a:stretch/>
        </p:blipFill>
        <p:spPr>
          <a:xfrm>
            <a:off x="1476360" y="2644920"/>
            <a:ext cx="1971720" cy="2923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123192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Построим угол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равный угл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8036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4000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528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92560" y="273384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4"/>
          <a:srcRect l="31179" t="4724" r="27400" b="0"/>
          <a:stretch/>
        </p:blipFill>
        <p:spPr>
          <a:xfrm>
            <a:off x="7093080" y="1413000"/>
            <a:ext cx="647640" cy="1927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13200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5"/>
          <a:srcRect l="31179" t="4724" r="27400" b="0"/>
          <a:stretch/>
        </p:blipFill>
        <p:spPr>
          <a:xfrm>
            <a:off x="5437080" y="3500280"/>
            <a:ext cx="647640" cy="1927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6"/>
          <a:srcRect l="27400" t="4724" r="31179" b="0"/>
          <a:stretch/>
        </p:blipFill>
        <p:spPr>
          <a:xfrm>
            <a:off x="6443640" y="1413000"/>
            <a:ext cx="647640" cy="1927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7"/>
          <a:srcRect l="27400" t="4724" r="31179" b="0"/>
          <a:stretch/>
        </p:blipFill>
        <p:spPr>
          <a:xfrm>
            <a:off x="4356000" y="3517920"/>
            <a:ext cx="647640" cy="1927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8"/>
          <a:stretch/>
        </p:blipFill>
        <p:spPr>
          <a:xfrm rot="2760000">
            <a:off x="2873160" y="4106160"/>
            <a:ext cx="3249720" cy="579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71640" y="1700280"/>
            <a:ext cx="3166920" cy="39888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С  — иско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9"/>
          <a:srcRect l="0" t="-252" r="54925" b="45080"/>
          <a:stretch/>
        </p:blipFill>
        <p:spPr>
          <a:xfrm>
            <a:off x="6315120" y="1844640"/>
            <a:ext cx="1352520" cy="165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rcRect l="15073" t="602" r="9637" b="66270"/>
          <a:stretch/>
        </p:blipFill>
        <p:spPr>
          <a:xfrm>
            <a:off x="5580000" y="2205000"/>
            <a:ext cx="1800360" cy="79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rcRect l="858" t="0" r="0" b="74718"/>
          <a:stretch/>
        </p:blipFill>
        <p:spPr>
          <a:xfrm>
            <a:off x="3348000" y="4264200"/>
            <a:ext cx="2370240" cy="604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rcRect l="0" t="1584" r="42340" b="45608"/>
          <a:stretch/>
        </p:blipFill>
        <p:spPr>
          <a:xfrm>
            <a:off x="4425840" y="4005360"/>
            <a:ext cx="1730520" cy="1584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49748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29120" y="440856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0760" y="541512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8292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00760" y="233856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796000" y="2781360"/>
          <a:ext cx="863640" cy="2660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96000" y="278136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7236000" y="623736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7493"/>
                </a:moveTo>
                <a:lnTo>
                  <a:pt x="9232" y="7493"/>
                </a:lnTo>
                <a:lnTo>
                  <a:pt x="9232" y="12828"/>
                </a:lnTo>
                <a:cubicBezTo>
                  <a:pt x="9232" y="13751"/>
                  <a:pt x="10033" y="14482"/>
                  <a:pt x="11068" y="14482"/>
                </a:cubicBezTo>
                <a:lnTo>
                  <a:pt x="12731" y="14482"/>
                </a:lnTo>
                <a:cubicBezTo>
                  <a:pt x="13767" y="14482"/>
                  <a:pt x="14567" y="13751"/>
                  <a:pt x="14567" y="12828"/>
                </a:cubicBezTo>
                <a:lnTo>
                  <a:pt x="14567" y="7493"/>
                </a:lnTo>
                <a:lnTo>
                  <a:pt x="12731" y="7493"/>
                </a:lnTo>
                <a:lnTo>
                  <a:pt x="16238" y="3985"/>
                </a:lnTo>
                <a:lnTo>
                  <a:pt x="19911" y="7493"/>
                </a:lnTo>
                <a:lnTo>
                  <a:pt x="18075" y="7493"/>
                </a:lnTo>
                <a:lnTo>
                  <a:pt x="18075" y="12828"/>
                </a:lnTo>
                <a:cubicBezTo>
                  <a:pt x="18075" y="15596"/>
                  <a:pt x="15499" y="18155"/>
                  <a:pt x="12731" y="18155"/>
                </a:cubicBezTo>
                <a:lnTo>
                  <a:pt x="11068" y="18155"/>
                </a:lnTo>
                <a:cubicBezTo>
                  <a:pt x="8301" y="18155"/>
                  <a:pt x="5724" y="15596"/>
                  <a:pt x="5724" y="12828"/>
                </a:cubicBezTo>
                <a:close/>
              </a:path>
            </a:pathLst>
          </a:custGeom>
          <a:solidFill>
            <a:srgbClr val="cba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37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9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66" dur="250" autoRev="1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7" dur="250" autoRev="1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8" dur="250" autoRev="1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92" dur="25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3" dur="25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4" dur="25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576360" y="333360"/>
            <a:ext cx="7524720" cy="6149880"/>
            <a:chOff x="576360" y="333360"/>
            <a:chExt cx="7524720" cy="61498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576360" y="335772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576360" y="33336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3529080" y="16956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29080" y="21272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29080" y="25588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09800" y="1125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49440" y="2062080"/>
            <a:ext cx="4174560" cy="71280"/>
            <a:chOff x="649440" y="2062080"/>
            <a:chExt cx="4174560" cy="71280"/>
          </a:xfrm>
        </p:grpSpPr>
        <p:sp>
          <p:nvSpPr>
            <p:cNvPr id="266" name=""/>
            <p:cNvSpPr/>
            <p:nvPr/>
          </p:nvSpPr>
          <p:spPr>
            <a:xfrm flipH="1">
              <a:off x="650160" y="2087640"/>
              <a:ext cx="4153320" cy="18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9440" y="20620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2720" y="20620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49440" y="2555640"/>
            <a:ext cx="4030200" cy="70920"/>
            <a:chOff x="649440" y="2555640"/>
            <a:chExt cx="4030200" cy="70920"/>
          </a:xfrm>
        </p:grpSpPr>
        <p:sp>
          <p:nvSpPr>
            <p:cNvPr id="270" name=""/>
            <p:cNvSpPr/>
            <p:nvPr/>
          </p:nvSpPr>
          <p:spPr>
            <a:xfrm>
              <a:off x="683640" y="2595960"/>
              <a:ext cx="3962880" cy="104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9440" y="2555640"/>
              <a:ext cx="71280" cy="7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08360" y="2555640"/>
              <a:ext cx="71280" cy="7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49440" y="1701720"/>
            <a:ext cx="5327640" cy="71280"/>
            <a:chOff x="649440" y="1701720"/>
            <a:chExt cx="5327640" cy="71280"/>
          </a:xfrm>
        </p:grpSpPr>
        <p:sp>
          <p:nvSpPr>
            <p:cNvPr id="274" name=""/>
            <p:cNvSpPr/>
            <p:nvPr/>
          </p:nvSpPr>
          <p:spPr>
            <a:xfrm>
              <a:off x="649440" y="1747800"/>
              <a:ext cx="5292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05800" y="170172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9440" y="170172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09800" y="2997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стро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09800" y="3789360"/>
            <a:ext cx="2049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B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B=c, BC=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rcRect l="352" t="34942" r="51594" b="30324"/>
          <a:stretch/>
        </p:blipFill>
        <p:spPr>
          <a:xfrm>
            <a:off x="3097080" y="3860640"/>
            <a:ext cx="216072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6012000" y="907920"/>
            <a:ext cx="2663640" cy="5545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50920" y="260280"/>
            <a:ext cx="8208720" cy="64260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о трем сторо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907920"/>
            <a:ext cx="8136000" cy="5545440"/>
          </a:xfrm>
          <a:prstGeom prst="rect">
            <a:avLst/>
          </a:prstGeom>
          <a:noFill/>
          <a:ln w="57240">
            <a:solidFill>
              <a:srgbClr val="a6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2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427640" y="5510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47640" y="44280"/>
            <a:ext cx="7524720" cy="6149880"/>
            <a:chOff x="647640" y="44280"/>
            <a:chExt cx="7524720" cy="614988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647640" y="3068640"/>
              <a:ext cx="7524720" cy="31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2"/>
            <a:stretch/>
          </p:blipFill>
          <p:spPr>
            <a:xfrm>
              <a:off x="647640" y="44280"/>
              <a:ext cx="7524720" cy="31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-47520" y="5403960"/>
            <a:ext cx="9239040" cy="2570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rcRect l="0" t="34022" r="0" b="42803"/>
          <a:stretch/>
        </p:blipFill>
        <p:spPr>
          <a:xfrm>
            <a:off x="1774800" y="4795920"/>
            <a:ext cx="5533920" cy="1441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014560" y="5541840"/>
            <a:ext cx="52182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79640" y="55054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5"/>
          <a:srcRect l="-2150" t="0" r="1759" b="73796"/>
          <a:stretch/>
        </p:blipFill>
        <p:spPr>
          <a:xfrm>
            <a:off x="2843280" y="1798560"/>
            <a:ext cx="5546520" cy="1630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rcRect l="58069" t="150" r="3644" b="74381"/>
          <a:stretch/>
        </p:blipFill>
        <p:spPr>
          <a:xfrm>
            <a:off x="3132000" y="1844640"/>
            <a:ext cx="2735280" cy="1584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flipH="1" flipV="1">
            <a:off x="5397120" y="1773360"/>
            <a:ext cx="1800360" cy="37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477680" y="2395800"/>
            <a:ext cx="2742120" cy="31467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84720" y="2054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63640" y="5589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36000" y="5589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27640" y="306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5744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64360" y="55054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27640" y="2349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49800" y="3278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80000" y="321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1159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Проведем прямую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отложим на ней точка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00000" y="476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тложим на ней отрезок ВС, равны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83664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Проведем окружность с центром в точке С и радиусом, равны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и окружность с центром  в точке В и радиусом , равным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00000" y="2421000"/>
            <a:ext cx="3167280" cy="398880"/>
          </a:xfrm>
          <a:prstGeom prst="rect">
            <a:avLst/>
          </a:prstGeom>
          <a:solidFill>
            <a:srgbClr val="e6d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С  — иско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050920" y="3141720"/>
          <a:ext cx="495360" cy="23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3141720"/>
                    <a:ext cx="4953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4920" y="2852640"/>
          <a:ext cx="863640" cy="266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0" y="285264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0" y="5589720"/>
            <a:ext cx="3238560" cy="57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7236000" y="3141720"/>
          <a:ext cx="495000" cy="2349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36000" y="3141720"/>
                    <a:ext cx="4950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 flipV="1">
            <a:off x="2050920" y="1915920"/>
            <a:ext cx="165744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908000" y="2852640"/>
          <a:ext cx="863640" cy="266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08000" y="285264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flipV="1">
            <a:off x="2014560" y="2409840"/>
            <a:ext cx="2448000" cy="3130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6"/>
          <a:stretch/>
        </p:blipFill>
        <p:spPr>
          <a:xfrm rot="18469200">
            <a:off x="1728000" y="4039560"/>
            <a:ext cx="3238560" cy="57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6877080" y="2565360"/>
          <a:ext cx="863640" cy="2660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77080" y="2565360"/>
                    <a:ext cx="86364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" name="" descr=""/>
          <p:cNvPicPr/>
          <p:nvPr/>
        </p:nvPicPr>
        <p:blipFill>
          <a:blip r:embed="rId19"/>
          <a:stretch/>
        </p:blipFill>
        <p:spPr>
          <a:xfrm rot="2909400">
            <a:off x="4104000" y="4042800"/>
            <a:ext cx="3238560" cy="576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74072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245440" y="260280"/>
          <a:ext cx="658800" cy="204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245440" y="260280"/>
                    <a:ext cx="658800" cy="204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26" name="" descr=""/>
          <p:cNvPicPr/>
          <p:nvPr/>
        </p:nvPicPr>
        <p:blipFill>
          <a:blip r:embed="rId22"/>
          <a:srcRect l="27400" t="4724" r="31179" b="0"/>
          <a:stretch/>
        </p:blipFill>
        <p:spPr>
          <a:xfrm>
            <a:off x="8245440" y="2351160"/>
            <a:ext cx="64764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23"/>
          <a:srcRect l="26877" t="76" r="31076" b="0"/>
          <a:stretch/>
        </p:blipFill>
        <p:spPr>
          <a:xfrm>
            <a:off x="8244000" y="4405320"/>
            <a:ext cx="707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8" name=""/>
          <p:cNvSpPr/>
          <p:nvPr/>
        </p:nvSpPr>
        <p:spPr>
          <a:xfrm>
            <a:off x="900000" y="1773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Точка А — одна из точек пересечения этих двух окру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5589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5589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6000" y="623736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7493"/>
                </a:moveTo>
                <a:lnTo>
                  <a:pt x="9232" y="7493"/>
                </a:lnTo>
                <a:lnTo>
                  <a:pt x="9232" y="12828"/>
                </a:lnTo>
                <a:cubicBezTo>
                  <a:pt x="9232" y="13751"/>
                  <a:pt x="10033" y="14482"/>
                  <a:pt x="11068" y="14482"/>
                </a:cubicBezTo>
                <a:lnTo>
                  <a:pt x="12731" y="14482"/>
                </a:lnTo>
                <a:cubicBezTo>
                  <a:pt x="13767" y="14482"/>
                  <a:pt x="14567" y="13751"/>
                  <a:pt x="14567" y="12828"/>
                </a:cubicBezTo>
                <a:lnTo>
                  <a:pt x="14567" y="7493"/>
                </a:lnTo>
                <a:lnTo>
                  <a:pt x="12731" y="7493"/>
                </a:lnTo>
                <a:lnTo>
                  <a:pt x="16238" y="3985"/>
                </a:lnTo>
                <a:lnTo>
                  <a:pt x="19911" y="7493"/>
                </a:lnTo>
                <a:lnTo>
                  <a:pt x="18075" y="7493"/>
                </a:lnTo>
                <a:lnTo>
                  <a:pt x="18075" y="12828"/>
                </a:lnTo>
                <a:cubicBezTo>
                  <a:pt x="18075" y="15596"/>
                  <a:pt x="15499" y="18155"/>
                  <a:pt x="12731" y="18155"/>
                </a:cubicBezTo>
                <a:lnTo>
                  <a:pt x="11068" y="18155"/>
                </a:lnTo>
                <a:cubicBezTo>
                  <a:pt x="8301" y="18155"/>
                  <a:pt x="5724" y="15596"/>
                  <a:pt x="5724" y="12828"/>
                </a:cubicBezTo>
                <a:close/>
              </a:path>
            </a:pathLst>
          </a:custGeom>
          <a:solidFill>
            <a:srgbClr val="cba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8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1:15:18Z</dcterms:created>
  <dc:creator>Kseniy</dc:creator>
  <dc:description/>
  <dc:language>en-US</dc:language>
  <cp:lastModifiedBy>Kseniy</cp:lastModifiedBy>
  <dcterms:modified xsi:type="dcterms:W3CDTF">2010-01-25T09:20:38Z</dcterms:modified>
  <cp:revision>35</cp:revision>
  <dc:subject/>
  <dc:title>Слайд 1</dc:title>
</cp:coreProperties>
</file>