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DEC9-A94E-4358-BCF6-7FF442A30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B757-9C65-49E2-B098-9A7364F5DA8D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31BB-7FC5-4B34-B787-E3D4C2F75863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264C-AA7B-4C3C-9185-9679AC495E01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76160" y="1295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Я</a:t>
            </a: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творческого опыта по теме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Развитие мелкой моторики через игровую деятельность детей с ЗПРР»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304920" y="2286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МДОУ детский сад компенсирующего вида №26 «Солнышко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447920" y="6019920"/>
            <a:ext cx="2665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Серпухов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4220640" y="53341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Воспитателя  Фёдоровой О.С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" name="Picture 6" descr="E:\федорова О.С\МОТОРИКА2\IMG_0017.JPG"/>
          <p:cNvPicPr/>
          <p:nvPr/>
        </p:nvPicPr>
        <p:blipFill>
          <a:blip r:embed="rId2"/>
          <a:stretch/>
        </p:blipFill>
        <p:spPr>
          <a:xfrm>
            <a:off x="4343400" y="1523880"/>
            <a:ext cx="3768840" cy="2827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crosoft Sans Serif"/>
              </a:rPr>
              <a:t>Технологи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7" name="Содержимое 4" descr=""/>
          <p:cNvPicPr/>
          <p:nvPr/>
        </p:nvPicPr>
        <p:blipFill>
          <a:blip r:embed="rId1"/>
          <a:stretch/>
        </p:blipFill>
        <p:spPr>
          <a:xfrm>
            <a:off x="828720" y="1816200"/>
            <a:ext cx="7785000" cy="4376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G_7774"/>
          <p:cNvPicPr/>
          <p:nvPr/>
        </p:nvPicPr>
        <p:blipFill>
          <a:blip r:embed="rId1"/>
          <a:stretch/>
        </p:blipFill>
        <p:spPr>
          <a:xfrm>
            <a:off x="1162080" y="1325520"/>
            <a:ext cx="7067520" cy="530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crosoft Sans Serif"/>
              </a:rPr>
              <a:t>Результативность педагогического опыта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7732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68580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crosoft Sans Serif"/>
              </a:rPr>
              <a:t>Результативность педагогического опыта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рекционная работа с детьми во время коррекционного часа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1066680" y="1347840"/>
            <a:ext cx="7010640" cy="526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IMG_7846"/>
          <p:cNvPicPr/>
          <p:nvPr/>
        </p:nvPicPr>
        <p:blipFill>
          <a:blip r:embed="rId1"/>
          <a:stretch/>
        </p:blipFill>
        <p:spPr>
          <a:xfrm>
            <a:off x="963720" y="1143000"/>
            <a:ext cx="7216560" cy="5168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685800" y="380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рекционная работа с детьми в режимных моментах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5fa5"/>
                </a:solidFill>
                <a:latin typeface="Times New Roman"/>
              </a:rPr>
              <a:t>Самостоятельная игровая деятельность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0" name="Picture 3" descr="IMG_7758"/>
          <p:cNvPicPr/>
          <p:nvPr/>
        </p:nvPicPr>
        <p:blipFill>
          <a:blip r:embed="rId1"/>
          <a:stretch/>
        </p:blipFill>
        <p:spPr>
          <a:xfrm>
            <a:off x="914400" y="1562040"/>
            <a:ext cx="6754680" cy="506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Picture 8" descr="IMG_7797"/>
          <p:cNvPicPr/>
          <p:nvPr/>
        </p:nvPicPr>
        <p:blipFill>
          <a:blip r:embed="rId1"/>
          <a:stretch/>
        </p:blipFill>
        <p:spPr>
          <a:xfrm>
            <a:off x="1222200" y="1417680"/>
            <a:ext cx="6697800" cy="502596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533520" y="152280"/>
            <a:ext cx="8458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fa5"/>
                </a:solidFill>
                <a:latin typeface="Microsoft Sans Serif"/>
              </a:rPr>
              <a:t>Взаимодействие с семьями детей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b3f6e"/>
                </a:solidFill>
                <a:latin typeface="Times New Roman"/>
              </a:rPr>
              <a:t>Образование родителей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6" name="Picture 9" descr="F:\Клуб 2013\P5310969.JPG"/>
          <p:cNvPicPr/>
          <p:nvPr/>
        </p:nvPicPr>
        <p:blipFill>
          <a:blip r:embed="rId1"/>
          <a:stretch/>
        </p:blipFill>
        <p:spPr>
          <a:xfrm>
            <a:off x="228600" y="1295280"/>
            <a:ext cx="8205840" cy="548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3f6e"/>
                </a:solidFill>
                <a:latin typeface="Times New Roman"/>
              </a:rPr>
              <a:t>Распространение педагогического опыта среди педагогов города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03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59d"/>
                </a:solidFill>
                <a:latin typeface="Microsoft Sans Serif"/>
              </a:rPr>
              <a:t>Актуальность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У детей с ЗПР наблюдаются отклонения в развитии двигательной сферы: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23800" y="1725480"/>
            <a:ext cx="8023320" cy="4767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43430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Благодарю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за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внимание!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5975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486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759d"/>
                </a:solidFill>
                <a:latin typeface="Microsoft Sans Serif"/>
              </a:rPr>
              <a:t>Гипотеза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Стимулируя мелкую моторику и активизируя тем самым  соответствующие отделы мозга,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мы активизируем и соседние зоны,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отвечающие за речь. 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59d"/>
                </a:solidFill>
                <a:latin typeface="Microsoft Sans Serif"/>
              </a:rPr>
              <a:t>Этапы работы по самообразова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542880" y="1262160"/>
            <a:ext cx="8051760" cy="5443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Ведущие специалисты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596880" y="1895400"/>
            <a:ext cx="785196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689040" y="639720"/>
            <a:ext cx="8010360" cy="5608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59d"/>
                </a:solidFill>
                <a:latin typeface="Times New Roman"/>
              </a:rPr>
              <a:t>Что способствует развитию</a:t>
            </a:r>
            <a:br>
              <a:rPr sz="3600"/>
            </a:br>
            <a:r>
              <a:rPr b="1" lang="ru-RU" sz="3600" spc="-1" strike="noStrike">
                <a:solidFill>
                  <a:srgbClr val="35759d"/>
                </a:solidFill>
                <a:latin typeface="Times New Roman"/>
              </a:rPr>
              <a:t>мелкой моторики?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1" name="AutoShape 5"/>
          <p:cNvSpPr/>
          <p:nvPr/>
        </p:nvSpPr>
        <p:spPr>
          <a:xfrm rot="5319000">
            <a:off x="2255760" y="2253960"/>
            <a:ext cx="723960" cy="495360"/>
          </a:xfrm>
          <a:custGeom>
            <a:avLst/>
            <a:gdLst>
              <a:gd name="textAreaLeft" fmla="*/ 0 w 723960"/>
              <a:gd name="textAreaRight" fmla="*/ 724320 w 7239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1ddf6"/>
              </a:gs>
              <a:gs pos="100000">
                <a:srgbClr val="167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5319000">
            <a:off x="2247840" y="3009600"/>
            <a:ext cx="723960" cy="495360"/>
          </a:xfrm>
          <a:custGeom>
            <a:avLst/>
            <a:gdLst>
              <a:gd name="textAreaLeft" fmla="*/ 0 w 723960"/>
              <a:gd name="textAreaRight" fmla="*/ 724320 w 7239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e0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5319000">
            <a:off x="2247840" y="3771720"/>
            <a:ext cx="723960" cy="495360"/>
          </a:xfrm>
          <a:custGeom>
            <a:avLst/>
            <a:gdLst>
              <a:gd name="textAreaLeft" fmla="*/ 0 w 723960"/>
              <a:gd name="textAreaRight" fmla="*/ 724320 w 7239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 rot="5319000">
            <a:off x="2255760" y="4692240"/>
            <a:ext cx="723600" cy="495360"/>
          </a:xfrm>
          <a:custGeom>
            <a:avLst/>
            <a:gdLst>
              <a:gd name="textAreaLeft" fmla="*/ 0 w 723600"/>
              <a:gd name="textAreaRight" fmla="*/ 723960 w 723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dc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 rot="5319000">
            <a:off x="2255760" y="5606640"/>
            <a:ext cx="723600" cy="495360"/>
          </a:xfrm>
          <a:custGeom>
            <a:avLst/>
            <a:gdLst>
              <a:gd name="textAreaLeft" fmla="*/ 0 w 723600"/>
              <a:gd name="textAreaRight" fmla="*/ 723960 w 723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8120" y="2133720"/>
            <a:ext cx="594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Пальчиковая гимнастика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8120" y="2971800"/>
            <a:ext cx="5943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Самомассаж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048120" y="3733920"/>
            <a:ext cx="594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Игры с мелкими предметами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71800" y="4572000"/>
            <a:ext cx="5943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Развитие графических навыков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8120" y="5562720"/>
            <a:ext cx="5715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Формирование навыков самообслуживания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24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Календарное планирование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219320"/>
          <a:ext cx="8077320" cy="535752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6024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речью (пальчиковая гимнастика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пал снег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вивать ловкость пальцев и кистей рук, производить точные движения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стые упражнения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ершенствование координации руки и глаза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92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 мелкими предметами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Весёлый снеговик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должать закреплять умения пользоваться способом обрывания; развивать ловкость пальцев и кистей рук;  согласованные действия зрительного и двигательного анализаторов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Лыжники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вивать мелкую моторику, плавные точные движения рук, гибкость пальцев, ритмичность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Забей шайбу в ворот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вивать мелкую моторику. точность выполнения движений, уровень переключаемости, полноты объёма движений пальцев рук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графических навыков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йди одинаковые рукавички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веди снежинку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ормировать правильный нажим руки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4"/>
          <p:cNvSpPr/>
          <p:nvPr/>
        </p:nvSpPr>
        <p:spPr>
          <a:xfrm>
            <a:off x="1905120" y="730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759d"/>
                </a:solidFill>
                <a:latin typeface="Arial"/>
                <a:ea typeface="Times New Roman"/>
              </a:rPr>
              <a:t>Лексическая тема«Зимние забавы»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759d"/>
                </a:solidFill>
                <a:latin typeface="Times New Roman"/>
              </a:rPr>
              <a:t>Разработка перспективного планирования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90720"/>
          <a:ext cx="8229600" cy="5410080"/>
        </p:xfrm>
        <a:graphic>
          <a:graphicData uri="http://schemas.openxmlformats.org/drawingml/2006/table">
            <a:tbl>
              <a:tblPr/>
              <a:tblGrid>
                <a:gridCol w="2114640"/>
                <a:gridCol w="3354120"/>
                <a:gridCol w="2760840"/>
              </a:tblGrid>
              <a:tr h="21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кварта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есть второе блюдо, правильно по назначению пользоваться столовыми приборами (вилкой) Закреплять умение пользоваться салфеткой по мере необходимости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Культура поведения во время еды»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: С. Махотин «Завтрак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Ровная спинк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Не забудь сказать спасибо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седа «Зачем необходимо завтракать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вание - раздева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умение самостоятельно поддерживать чистоту и порядок в своем шкафу для одежды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седа «Наводим порядок в шкафу для одежды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0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ыва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умения быстро и правильно умываться, насухо вытираться полотенцем, взяв его из шкафчика и развернув на ладошках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: А. Барто «Девочка чумазая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Чтобы зубки не болели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В гостях у Мойдодыр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Где живёт моё полотенце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7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рядке одежды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буви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просушивать и чистить свою одежду, мыть, протирать, чистить обувь. Учить пришивать оторвавшиеся пуговицы. Принимать участие в смене постельного белья: стелить чистую простыню, надевать чистую наволочку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Как заботиться о своей одежде»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: Д. Крупская «Чистота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Мы- помощники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Обувная полк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Просуши одежду и обувь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7:07:01Z</dcterms:created>
  <dc:creator>Пользователь</dc:creator>
  <dc:description/>
  <dc:language>en-US</dc:language>
  <cp:lastModifiedBy>User</cp:lastModifiedBy>
  <dcterms:modified xsi:type="dcterms:W3CDTF">2019-01-04T12:41:58Z</dcterms:modified>
  <cp:revision>113</cp:revision>
  <dc:subject/>
  <dc:title>Name of presentation</dc:title>
</cp:coreProperties>
</file>