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11.png" ContentType="image/png"/>
  <Override PartName="/ppt/media/image19.jpeg" ContentType="image/jpeg"/>
  <Override PartName="/ppt/media/image7.png" ContentType="image/pn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0F94-0A08-4177-BEA9-D4378C3E7D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7E58-83B5-465D-BF53-01822A6C9EF4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4629-99F9-482D-A0C8-707CB0AE1448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1218-B8C4-495B-B465-4CC265EE378E}" type="slidenum">
              <a:rPr b="0" lang="en-US" sz="12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808080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776160" y="129528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РЕЗЕНТАЦИЯ</a:t>
            </a: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404040"/>
                </a:solidFill>
                <a:latin typeface="Microsoft Sans Serif"/>
              </a:rPr>
              <a:t>творческого опыта по теме</a:t>
            </a:r>
            <a:endParaRPr b="0" lang="en-US" sz="2000" spc="-1" strike="noStrike">
              <a:solidFill>
                <a:srgbClr val="808080"/>
              </a:solidFill>
              <a:latin typeface="Microsoft Sans Serif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Развитие мелкой моторики через игровую деятельность детей с ЗПРР»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304920" y="22860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Arial"/>
              </a:rPr>
              <a:t>МДОУ детский сад компенсирующего вида №26 «Солнышко</a:t>
            </a:r>
            <a:r>
              <a:rPr b="1" lang="ru-RU" sz="2400" spc="-1" strike="noStrike">
                <a:solidFill>
                  <a:srgbClr val="80808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1447920" y="6019920"/>
            <a:ext cx="266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Серпухов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040"/>
                </a:solidFill>
                <a:latin typeface="Microsoft Sans Serif"/>
              </a:rPr>
              <a:t> 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Прямоугольник 5"/>
          <p:cNvSpPr/>
          <p:nvPr/>
        </p:nvSpPr>
        <p:spPr>
          <a:xfrm>
            <a:off x="4220640" y="5334120"/>
            <a:ext cx="43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4040"/>
                </a:solidFill>
                <a:latin typeface="Times New Roman"/>
              </a:rPr>
              <a:t>Воспитателя  Фёдоровой О.С.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49" name="Picture 6" descr="E:\федорова О.С\МОТОРИКА2\IMG_0017.JPG"/>
          <p:cNvPicPr/>
          <p:nvPr/>
        </p:nvPicPr>
        <p:blipFill>
          <a:blip r:embed="rId2"/>
          <a:stretch/>
        </p:blipFill>
        <p:spPr>
          <a:xfrm>
            <a:off x="4343400" y="1523880"/>
            <a:ext cx="3768840" cy="28274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crosoft Sans Serif"/>
              </a:rPr>
              <a:t>Технологии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77" name="Содержимое 4" descr=""/>
          <p:cNvPicPr/>
          <p:nvPr/>
        </p:nvPicPr>
        <p:blipFill>
          <a:blip r:embed="rId1"/>
          <a:stretch/>
        </p:blipFill>
        <p:spPr>
          <a:xfrm>
            <a:off x="828720" y="1816200"/>
            <a:ext cx="7785000" cy="43765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IMG_7774"/>
          <p:cNvPicPr/>
          <p:nvPr/>
        </p:nvPicPr>
        <p:blipFill>
          <a:blip r:embed="rId1"/>
          <a:stretch/>
        </p:blipFill>
        <p:spPr>
          <a:xfrm>
            <a:off x="1162080" y="1325520"/>
            <a:ext cx="7067520" cy="53006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Результативность педагогического опыта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09480" y="1371600"/>
            <a:ext cx="8077320" cy="525780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685800" y="380880"/>
            <a:ext cx="7315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icrosoft Sans Serif"/>
              </a:rPr>
              <a:t>Результативность педагогического опыта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ррекционная работа с детьми во время коррекционного часа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1066680" y="1347840"/>
            <a:ext cx="7010640" cy="52610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IMG_7846"/>
          <p:cNvPicPr/>
          <p:nvPr/>
        </p:nvPicPr>
        <p:blipFill>
          <a:blip r:embed="rId1"/>
          <a:stretch/>
        </p:blipFill>
        <p:spPr>
          <a:xfrm>
            <a:off x="963720" y="1143000"/>
            <a:ext cx="7216560" cy="516888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6"/>
          <p:cNvSpPr/>
          <p:nvPr/>
        </p:nvSpPr>
        <p:spPr>
          <a:xfrm>
            <a:off x="685800" y="3808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ррекционная работа с детьми в режимных моментах 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105fa5"/>
                </a:solidFill>
                <a:latin typeface="Times New Roman"/>
              </a:rPr>
              <a:t>Самостоятельная игровая деятельность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0" name="Picture 3" descr="IMG_7758"/>
          <p:cNvPicPr/>
          <p:nvPr/>
        </p:nvPicPr>
        <p:blipFill>
          <a:blip r:embed="rId1"/>
          <a:stretch/>
        </p:blipFill>
        <p:spPr>
          <a:xfrm>
            <a:off x="914400" y="1562040"/>
            <a:ext cx="6754680" cy="50673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914400" y="243828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Picture 8" descr="IMG_7797"/>
          <p:cNvPicPr/>
          <p:nvPr/>
        </p:nvPicPr>
        <p:blipFill>
          <a:blip r:embed="rId1"/>
          <a:stretch/>
        </p:blipFill>
        <p:spPr>
          <a:xfrm>
            <a:off x="1222200" y="1417680"/>
            <a:ext cx="6697800" cy="5025960"/>
          </a:xfrm>
          <a:prstGeom prst="rect">
            <a:avLst/>
          </a:prstGeom>
          <a:ln w="0">
            <a:noFill/>
          </a:ln>
        </p:spPr>
      </p:pic>
      <p:sp>
        <p:nvSpPr>
          <p:cNvPr id="94" name="Заголовок 1"/>
          <p:cNvSpPr/>
          <p:nvPr/>
        </p:nvSpPr>
        <p:spPr>
          <a:xfrm>
            <a:off x="533520" y="152280"/>
            <a:ext cx="8458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5fa5"/>
                </a:solidFill>
                <a:latin typeface="Microsoft Sans Serif"/>
              </a:rPr>
              <a:t>Взаимодействие с семьями детей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lang="ru-RU" sz="4000" spc="-1" strike="noStrike">
                <a:solidFill>
                  <a:srgbClr val="0b3f6e"/>
                </a:solidFill>
                <a:latin typeface="Times New Roman"/>
              </a:rPr>
              <a:t>Образование родителей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6" name="Picture 9" descr="F:\Клуб 2013\P5310969.JPG"/>
          <p:cNvPicPr/>
          <p:nvPr/>
        </p:nvPicPr>
        <p:blipFill>
          <a:blip r:embed="rId1"/>
          <a:stretch/>
        </p:blipFill>
        <p:spPr>
          <a:xfrm>
            <a:off x="228600" y="1295280"/>
            <a:ext cx="8205840" cy="548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7391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b3f6e"/>
                </a:solidFill>
                <a:latin typeface="Times New Roman"/>
              </a:rPr>
              <a:t>Распространение педагогического опыта среди педагогов города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703920" cy="5029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57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Microsoft Sans Serif"/>
              </a:rPr>
              <a:t>Актуальность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icrosoft Sans Serif"/>
              </a:rPr>
              <a:t>У детей с ЗПР наблюдаются отклонения в развитии двигательной сферы: </a:t>
            </a: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2" name="Схема 3" descr=""/>
          <p:cNvPicPr/>
          <p:nvPr/>
        </p:nvPicPr>
        <p:blipFill>
          <a:blip r:embed="rId1"/>
          <a:stretch/>
        </p:blipFill>
        <p:spPr>
          <a:xfrm>
            <a:off x="523800" y="1725480"/>
            <a:ext cx="8023320" cy="47674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4343040"/>
            <a:ext cx="70102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Благодарю 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за</a:t>
            </a:r>
            <a:br>
              <a:rPr sz="4000"/>
            </a:b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 внимание!</a:t>
            </a:r>
            <a:endParaRPr b="0" lang="en-US" sz="40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2209680" y="533520"/>
            <a:ext cx="4597560" cy="34480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54860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304920"/>
            <a:ext cx="7315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759d"/>
                </a:solidFill>
                <a:latin typeface="Microsoft Sans Serif"/>
              </a:rPr>
              <a:t>Гипотеза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Стимулируя мелкую моторику и активизируя тем самым  соответствующие отделы мозга,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мы активизируем и соседние зоны, 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icrosoft Sans Serif"/>
              </a:rPr>
              <a:t>отвечающие за речь. 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Microsoft Sans Serif"/>
              </a:rPr>
              <a:t>Этапы работы по самообразованию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6" name="Содержимое 3" descr=""/>
          <p:cNvPicPr/>
          <p:nvPr/>
        </p:nvPicPr>
        <p:blipFill>
          <a:blip r:embed="rId1"/>
          <a:stretch/>
        </p:blipFill>
        <p:spPr>
          <a:xfrm>
            <a:off x="542880" y="1262160"/>
            <a:ext cx="8051760" cy="544356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5759d"/>
                </a:solidFill>
                <a:latin typeface="Microsoft Sans Serif"/>
              </a:rPr>
              <a:t>Ведущие специалисты</a:t>
            </a:r>
            <a:endParaRPr b="0" lang="en-US" sz="4400" spc="-1" strike="noStrike">
              <a:solidFill>
                <a:srgbClr val="808080"/>
              </a:solidFill>
              <a:latin typeface="Microsoft Sans Serif"/>
            </a:endParaRPr>
          </a:p>
        </p:txBody>
      </p:sp>
      <p:pic>
        <p:nvPicPr>
          <p:cNvPr id="58" name="Содержимое 3" descr=""/>
          <p:cNvPicPr/>
          <p:nvPr/>
        </p:nvPicPr>
        <p:blipFill>
          <a:blip r:embed="rId1"/>
          <a:stretch/>
        </p:blipFill>
        <p:spPr>
          <a:xfrm>
            <a:off x="596880" y="1895400"/>
            <a:ext cx="7851960" cy="4365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Содержимое 3" descr=""/>
          <p:cNvPicPr/>
          <p:nvPr/>
        </p:nvPicPr>
        <p:blipFill>
          <a:blip r:embed="rId1"/>
          <a:stretch/>
        </p:blipFill>
        <p:spPr>
          <a:xfrm>
            <a:off x="689040" y="639720"/>
            <a:ext cx="8010360" cy="56088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760" y="456840"/>
            <a:ext cx="693396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5759d"/>
                </a:solidFill>
                <a:latin typeface="Times New Roman"/>
              </a:rPr>
              <a:t>Что способствует развитию</a:t>
            </a:r>
            <a:br>
              <a:rPr sz="3600"/>
            </a:br>
            <a:r>
              <a:rPr b="1" lang="ru-RU" sz="3600" spc="-1" strike="noStrike">
                <a:solidFill>
                  <a:srgbClr val="35759d"/>
                </a:solidFill>
                <a:latin typeface="Times New Roman"/>
              </a:rPr>
              <a:t>мелкой моторики?</a:t>
            </a:r>
            <a:endParaRPr b="0" lang="en-US" sz="3600" spc="-1" strike="noStrike">
              <a:solidFill>
                <a:srgbClr val="808080"/>
              </a:solidFill>
              <a:latin typeface="Microsoft Sans Serif"/>
            </a:endParaRPr>
          </a:p>
        </p:txBody>
      </p:sp>
      <p:sp>
        <p:nvSpPr>
          <p:cNvPr id="61" name="AutoShape 5"/>
          <p:cNvSpPr/>
          <p:nvPr/>
        </p:nvSpPr>
        <p:spPr>
          <a:xfrm rot="5319000">
            <a:off x="2255760" y="225396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c1ddf6"/>
              </a:gs>
              <a:gs pos="100000">
                <a:srgbClr val="167ed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5319000">
            <a:off x="2247840" y="300960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ee00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5319000">
            <a:off x="2247840" y="3771720"/>
            <a:ext cx="723960" cy="495360"/>
          </a:xfrm>
          <a:custGeom>
            <a:avLst/>
            <a:gdLst>
              <a:gd name="textAreaLeft" fmla="*/ 0 w 723960"/>
              <a:gd name="textAreaRight" fmla="*/ 724320 w 72396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AutoShape 8"/>
          <p:cNvSpPr/>
          <p:nvPr/>
        </p:nvSpPr>
        <p:spPr>
          <a:xfrm rot="5319000">
            <a:off x="2255760" y="4692240"/>
            <a:ext cx="723600" cy="495360"/>
          </a:xfrm>
          <a:custGeom>
            <a:avLst/>
            <a:gdLst>
              <a:gd name="textAreaLeft" fmla="*/ 0 w 723600"/>
              <a:gd name="textAreaRight" fmla="*/ 723960 w 723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2dc0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AutoShape 9"/>
          <p:cNvSpPr/>
          <p:nvPr/>
        </p:nvSpPr>
        <p:spPr>
          <a:xfrm rot="5319000">
            <a:off x="2255760" y="5606640"/>
            <a:ext cx="723600" cy="495360"/>
          </a:xfrm>
          <a:custGeom>
            <a:avLst/>
            <a:gdLst>
              <a:gd name="textAreaLeft" fmla="*/ 0 w 723600"/>
              <a:gd name="textAreaRight" fmla="*/ 723960 w 723600"/>
              <a:gd name="textAreaTop" fmla="*/ 0 h 495360"/>
              <a:gd name="textAreaBottom" fmla="*/ 495720 h 49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048120" y="2133720"/>
            <a:ext cx="594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Пальчиковая гимнастика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3048120" y="2971800"/>
            <a:ext cx="5943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Самомассаж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3048120" y="3733920"/>
            <a:ext cx="5943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00"/>
                </a:solidFill>
                <a:latin typeface="Times New Roman"/>
              </a:rPr>
              <a:t>Игры с мелкими предметами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2971800" y="4572000"/>
            <a:ext cx="5943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Развитие графических навыков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3048120" y="5562720"/>
            <a:ext cx="57150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imes New Roman"/>
              </a:rPr>
              <a:t>Формирование навыков самообслуживания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22400"/>
            <a:ext cx="73152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Times New Roman"/>
              </a:rPr>
              <a:t>Календарное планирование</a:t>
            </a:r>
            <a:endParaRPr b="0" lang="en-US" sz="32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219320"/>
          <a:ext cx="8077320" cy="5357520"/>
        </p:xfrm>
        <a:graphic>
          <a:graphicData uri="http://schemas.openxmlformats.org/drawingml/2006/table">
            <a:tbl>
              <a:tblPr/>
              <a:tblGrid>
                <a:gridCol w="4038480"/>
                <a:gridCol w="4038840"/>
              </a:tblGrid>
              <a:tr h="66024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речью (пальчиковая гимнастика)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Выпал снег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ловкость пальцев и кистей рук, производить точные движения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массаж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11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Простые упражнения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овершенствование координации руки и глаза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592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гры с  мелкими предметами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Весёлый снеговик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продолжать закреплять умения пользоваться способом обрывания; развивать ловкость пальцев и кистей рук;  согласованные действия зрительного и двигательного анализаторов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Лыжник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мелкую моторику, плавные точные движения рук, гибкость пальцев, ритмичность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Забей шайбу в ворот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развивать мелкую моторику. точность выполнения движений, уровень переключаемости, полноты объёма движений пальцев рук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lIns="59400" rIns="59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графических навыков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400" rIns="59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Найди одинаковые рукавички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веди снежинку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: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формировать правильный нажим руки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59400" marR="59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4"/>
          <p:cNvSpPr/>
          <p:nvPr/>
        </p:nvSpPr>
        <p:spPr>
          <a:xfrm>
            <a:off x="1905120" y="7300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759d"/>
                </a:solidFill>
                <a:latin typeface="Arial"/>
                <a:ea typeface="Times New Roman"/>
              </a:rPr>
              <a:t>Лексическая тема«Зимние забавы»</a:t>
            </a: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759d"/>
                </a:solidFill>
                <a:latin typeface="Times New Roman"/>
              </a:rPr>
              <a:t>Разработка перспективного планирования</a:t>
            </a:r>
            <a:endParaRPr b="0" lang="en-US" sz="2800" spc="-1" strike="noStrike">
              <a:solidFill>
                <a:srgbClr val="808080"/>
              </a:solidFill>
              <a:latin typeface="Microsoft Sans Serif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990720"/>
          <a:ext cx="8229600" cy="5410080"/>
        </p:xfrm>
        <a:graphic>
          <a:graphicData uri="http://schemas.openxmlformats.org/drawingml/2006/table">
            <a:tbl>
              <a:tblPr/>
              <a:tblGrid>
                <a:gridCol w="2114640"/>
                <a:gridCol w="3354120"/>
                <a:gridCol w="2760840"/>
              </a:tblGrid>
              <a:tr h="215640">
                <a:tc gridSpan="3"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торой кварта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2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т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есть второе блюдо, правильно по назначению пользоваться столовыми приборами (вилкой) Закреплять умение пользоваться салфеткой по мере необходимости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Культура поведения во время еды»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С. Махотин «Завтрак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Ровная спинк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Не забудь сказать спасибо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седа «Зачем необходимо завтракать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646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евание - раздев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умение самостоятельно поддерживать чистоту и порядок в своем шкафу для одежды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Беседа «Наводим порядок в шкафу для одежды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506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ывание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умения быстро и правильно умываться, насухо вытираться полотенцем, взяв его из шкафчика и развернув на ладошках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А. Барто «Девочка чумазая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Чтобы зубки не болел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В гостях у Мойдодыр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Где живёт моё полотенце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1317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порядке одежды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 обуви</a:t>
                      </a:r>
                      <a:endParaRPr b="0" lang="en-US" sz="16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просушивать и чистить свою одежду, мыть, протирать, чистить обувь. Учить пришивать оторвавшиеся пуговицы. Принимать участие в смене постельного белья: стелить чистую простыню, надевать чистую наволочку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Как заботиться о своей одежде».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Чтение: Д. Крупская «Чистота»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Беседа «Мы- помощники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/у. «Обувная полка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«Просуши одежду и обувь».</a:t>
                      </a:r>
                      <a:endParaRPr b="0" lang="en-US" sz="1400" spc="-1" strike="noStrike">
                        <a:solidFill>
                          <a:srgbClr val="80808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5T17:07:01Z</dcterms:created>
  <dc:creator>Пользователь</dc:creator>
  <dc:description/>
  <dc:language>en-US</dc:language>
  <cp:lastModifiedBy>User</cp:lastModifiedBy>
  <dcterms:modified xsi:type="dcterms:W3CDTF">2019-01-04T12:41:58Z</dcterms:modified>
  <cp:revision>113</cp:revision>
  <dc:subject/>
  <dc:title>Name of presentation</dc:title>
</cp:coreProperties>
</file>