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EAC-4E07-424D-952D-1B8D0EDA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3AF-DC4C-44B2-BCE8-CA1169C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0A0-4EBF-46A5-B426-5263744E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C8B-1621-4F3A-A09F-F45F539B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9B8-AF9B-4FA7-BDA1-8831CAA8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9629-7F86-4837-BE48-A3DCAEEA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C662-7BE3-4123-A74B-B99AE74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5A86-4262-4ACA-A765-0E5256B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833-A671-4238-9CC7-72F1AF39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1456-23DB-485A-95BE-D9B277D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896C-27FD-4800-94C1-E604FC5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BB8-988A-49DD-B9B3-39A97AC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B896-8A20-40E8-867D-0D15355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6999-963B-4278-AAB2-62B3797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EF4B-3E23-4BA5-A53E-D2B0DB8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4B3B-5D6F-4C59-B479-A7CA14D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BEC-AC63-4C99-A31F-7B9DDE4F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F2D-9DF1-4D01-A203-ACFF6CC3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F72-081C-45B7-9091-3B5D9885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499-B1BE-4354-ABC1-5D0ADFF7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649-13F9-4B26-9A8C-2BF8624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DB2-DF53-4919-BEF0-8F4E88B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D4D-56C2-44CF-A73F-4AE7E15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856-4FFA-4D66-A157-05A509E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6D6-3A8C-498D-9D25-F69037169E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507-401C-4E45-8AC0-1F93F71771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Математика в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Arial"/>
              </a:rPr>
              <a:t>Миф или реаль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042920" y="1557360"/>
            <a:ext cx="59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ицинский симпозиум.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704680" y="532116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Смирнова Татьяна Григор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учитель математики ГБОУ лицея № 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Не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6"/>
          <p:cNvSpPr txBox="1"/>
          <p:nvPr/>
        </p:nvSpPr>
        <p:spPr>
          <a:xfrm>
            <a:off x="1116000" y="549360"/>
            <a:ext cx="49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питокси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28360" y="2054160"/>
            <a:ext cx="667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1 пациент        2+4+6+8+10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2 пациент        1+2+4+8+16=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>
            <a:hlinkClick r:id="" action="ppaction://hlinkshowjump?jump=previousslide"/>
          </p:cNvPr>
          <p:cNvSpPr/>
          <p:nvPr/>
        </p:nvSpPr>
        <p:spPr>
          <a:xfrm>
            <a:off x="6732720" y="5084640"/>
            <a:ext cx="610920" cy="64944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49440"/>
              <a:gd name="textAreaBottom" fmla="*/ 609840 h 649440"/>
            </a:gdLst>
            <a:ahLst/>
            <a:rect l="textAreaLeft" t="textAreaTop" r="textAreaRight" b="textAreaBottom"/>
            <a:pathLst>
              <a:path w="21600" h="22961">
                <a:moveTo>
                  <a:pt x="0" y="0"/>
                </a:moveTo>
                <a:lnTo>
                  <a:pt x="21600" y="0"/>
                </a:lnTo>
                <a:lnTo>
                  <a:pt x="21600" y="22961"/>
                </a:lnTo>
                <a:lnTo>
                  <a:pt x="0" y="22961"/>
                </a:lnTo>
                <a:close/>
              </a:path>
              <a:path fill="lightenLess" w="21600" h="22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1">
                <a:moveTo>
                  <a:pt x="21600" y="0"/>
                </a:moveTo>
                <a:lnTo>
                  <a:pt x="21600" y="22961"/>
                </a:lnTo>
                <a:lnTo>
                  <a:pt x="20200" y="21561"/>
                </a:lnTo>
                <a:lnTo>
                  <a:pt x="20200" y="1400"/>
                </a:lnTo>
                <a:close/>
              </a:path>
              <a:path fill="darkenLess" w="21600" h="22961">
                <a:moveTo>
                  <a:pt x="21600" y="22961"/>
                </a:moveTo>
                <a:lnTo>
                  <a:pt x="0" y="22961"/>
                </a:lnTo>
                <a:lnTo>
                  <a:pt x="1400" y="21561"/>
                </a:lnTo>
                <a:lnTo>
                  <a:pt x="20200" y="21561"/>
                </a:lnTo>
                <a:close/>
              </a:path>
              <a:path fill="lighten" w="21600" h="22961">
                <a:moveTo>
                  <a:pt x="0" y="22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1"/>
                </a:lnTo>
                <a:close/>
              </a:path>
              <a:path fill="darken" w="21600" h="22961">
                <a:moveTo>
                  <a:pt x="3794" y="8173"/>
                </a:moveTo>
                <a:lnTo>
                  <a:pt x="7301" y="8173"/>
                </a:lnTo>
                <a:lnTo>
                  <a:pt x="7301" y="13509"/>
                </a:lnTo>
                <a:cubicBezTo>
                  <a:pt x="7301" y="14431"/>
                  <a:pt x="8102" y="15162"/>
                  <a:pt x="9138" y="15162"/>
                </a:cubicBezTo>
                <a:lnTo>
                  <a:pt x="10800" y="15162"/>
                </a:lnTo>
                <a:cubicBezTo>
                  <a:pt x="11836" y="15162"/>
                  <a:pt x="12636" y="14431"/>
                  <a:pt x="12636" y="13509"/>
                </a:cubicBezTo>
                <a:lnTo>
                  <a:pt x="12636" y="8173"/>
                </a:lnTo>
                <a:lnTo>
                  <a:pt x="10800" y="8173"/>
                </a:lnTo>
                <a:lnTo>
                  <a:pt x="14308" y="4666"/>
                </a:lnTo>
                <a:lnTo>
                  <a:pt x="17981" y="8173"/>
                </a:lnTo>
                <a:lnTo>
                  <a:pt x="16144" y="8173"/>
                </a:lnTo>
                <a:lnTo>
                  <a:pt x="16144" y="13509"/>
                </a:lnTo>
                <a:cubicBezTo>
                  <a:pt x="16144" y="16276"/>
                  <a:pt x="13568" y="18835"/>
                  <a:pt x="10800" y="18835"/>
                </a:cubicBezTo>
                <a:lnTo>
                  <a:pt x="9138" y="18835"/>
                </a:lnTo>
                <a:cubicBezTo>
                  <a:pt x="6370" y="18835"/>
                  <a:pt x="3794" y="16276"/>
                  <a:pt x="3794" y="13509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69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2;3;…40 ар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783400" y="25765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WordArt 4"/>
          <p:cNvSpPr txBox="1"/>
          <p:nvPr/>
        </p:nvSpPr>
        <p:spPr>
          <a:xfrm>
            <a:off x="395280" y="549360"/>
            <a:ext cx="71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епляем иммунит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2"/>
              <p:cNvSpPr txBox="1"/>
              <p:nvPr/>
            </p:nvSpPr>
            <p:spPr>
              <a:xfrm>
                <a:off x="596880" y="2378160"/>
                <a:ext cx="70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16"/>
          <p:cNvSpPr/>
          <p:nvPr/>
        </p:nvSpPr>
        <p:spPr>
          <a:xfrm>
            <a:off x="613080" y="328464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,38,…,2 ар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684360" y="3860640"/>
                <a:ext cx="410364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9"/>
              <p:cNvSpPr txBox="1"/>
              <p:nvPr/>
            </p:nvSpPr>
            <p:spPr>
              <a:xfrm>
                <a:off x="5508720" y="4005360"/>
                <a:ext cx="19303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мл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AutoShape 20">
            <a:hlinkClick r:id="" action="ppaction://hlinkshowjump?jump=previousslide"/>
          </p:cNvPr>
          <p:cNvSpPr/>
          <p:nvPr/>
        </p:nvSpPr>
        <p:spPr>
          <a:xfrm>
            <a:off x="6804000" y="573408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7493"/>
                </a:moveTo>
                <a:lnTo>
                  <a:pt x="10196" y="7493"/>
                </a:lnTo>
                <a:lnTo>
                  <a:pt x="10196" y="12828"/>
                </a:lnTo>
                <a:cubicBezTo>
                  <a:pt x="10196" y="13751"/>
                  <a:pt x="10997" y="14482"/>
                  <a:pt x="12033" y="14482"/>
                </a:cubicBezTo>
                <a:lnTo>
                  <a:pt x="13695" y="14482"/>
                </a:lnTo>
                <a:cubicBezTo>
                  <a:pt x="14731" y="14482"/>
                  <a:pt x="15531" y="13751"/>
                  <a:pt x="15531" y="12828"/>
                </a:cubicBezTo>
                <a:lnTo>
                  <a:pt x="15531" y="7493"/>
                </a:lnTo>
                <a:lnTo>
                  <a:pt x="13695" y="7493"/>
                </a:lnTo>
                <a:lnTo>
                  <a:pt x="17203" y="3985"/>
                </a:lnTo>
                <a:lnTo>
                  <a:pt x="20875" y="7493"/>
                </a:lnTo>
                <a:lnTo>
                  <a:pt x="19039" y="7493"/>
                </a:lnTo>
                <a:lnTo>
                  <a:pt x="19039" y="12828"/>
                </a:lnTo>
                <a:cubicBezTo>
                  <a:pt x="19039" y="15596"/>
                  <a:pt x="16463" y="18155"/>
                  <a:pt x="13695" y="18155"/>
                </a:cubicBezTo>
                <a:lnTo>
                  <a:pt x="12033" y="18155"/>
                </a:lnTo>
                <a:cubicBezTo>
                  <a:pt x="9265" y="18155"/>
                  <a:pt x="6688" y="15596"/>
                  <a:pt x="6688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5,25…   геом.про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468360" y="549360"/>
            <a:ext cx="676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говорим о грипп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826920" y="2852640"/>
                <a:ext cx="403236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∘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Text Box 8"/>
          <p:cNvSpPr/>
          <p:nvPr/>
        </p:nvSpPr>
        <p:spPr>
          <a:xfrm>
            <a:off x="952560" y="534204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>
            <a:hlinkClick r:id="" action="ppaction://hlinkshowjump?jump=previousslide"/>
          </p:cNvPr>
          <p:cNvSpPr/>
          <p:nvPr/>
        </p:nvSpPr>
        <p:spPr>
          <a:xfrm>
            <a:off x="6300720" y="544500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3794" y="8464"/>
                </a:moveTo>
                <a:lnTo>
                  <a:pt x="7301" y="8464"/>
                </a:lnTo>
                <a:lnTo>
                  <a:pt x="7301" y="13799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799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6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799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799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апля=0,1 мл, всего капель 50:0,1=500, на прием раз в день-250 м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3;5 ар п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395280" y="47628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ории - к практике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4067280" y="1773360"/>
                <a:ext cx="286380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8"/>
          <p:cNvSpPr/>
          <p:nvPr/>
        </p:nvSpPr>
        <p:spPr>
          <a:xfrm>
            <a:off x="698400" y="5938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953280" y="512460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>
            <a:hlinkClick r:id="" action="ppaction://hlinkshowjump?jump=previousslide"/>
          </p:cNvPr>
          <p:cNvSpPr/>
          <p:nvPr/>
        </p:nvSpPr>
        <p:spPr>
          <a:xfrm>
            <a:off x="6300720" y="5589720"/>
            <a:ext cx="609840" cy="753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53840"/>
              <a:gd name="textAreaBottom" fmla="*/ 714600 h 753840"/>
            </a:gdLst>
            <a:ahLst/>
            <a:rect l="textAreaLeft" t="textAreaTop" r="textAreaRight" b="textAreaBottom"/>
            <a:pathLst>
              <a:path w="21600" h="26697">
                <a:moveTo>
                  <a:pt x="0" y="0"/>
                </a:moveTo>
                <a:lnTo>
                  <a:pt x="21600" y="0"/>
                </a:lnTo>
                <a:lnTo>
                  <a:pt x="21600" y="26697"/>
                </a:lnTo>
                <a:lnTo>
                  <a:pt x="0" y="26697"/>
                </a:lnTo>
                <a:close/>
              </a:path>
              <a:path fill="lightenLess" w="21600" h="26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97">
                <a:moveTo>
                  <a:pt x="21600" y="0"/>
                </a:moveTo>
                <a:lnTo>
                  <a:pt x="21600" y="26697"/>
                </a:lnTo>
                <a:lnTo>
                  <a:pt x="20200" y="25297"/>
                </a:lnTo>
                <a:lnTo>
                  <a:pt x="20200" y="1400"/>
                </a:lnTo>
                <a:close/>
              </a:path>
              <a:path fill="darkenLess" w="21600" h="26697">
                <a:moveTo>
                  <a:pt x="21600" y="26697"/>
                </a:moveTo>
                <a:lnTo>
                  <a:pt x="0" y="26697"/>
                </a:lnTo>
                <a:lnTo>
                  <a:pt x="1400" y="25297"/>
                </a:lnTo>
                <a:lnTo>
                  <a:pt x="20200" y="25297"/>
                </a:lnTo>
                <a:close/>
              </a:path>
              <a:path fill="lighten" w="21600" h="26697">
                <a:moveTo>
                  <a:pt x="0" y="26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97"/>
                </a:lnTo>
                <a:close/>
              </a:path>
              <a:path fill="darken" w="21600" h="26697">
                <a:moveTo>
                  <a:pt x="3794" y="10041"/>
                </a:moveTo>
                <a:lnTo>
                  <a:pt x="7301" y="10041"/>
                </a:lnTo>
                <a:lnTo>
                  <a:pt x="7301" y="15377"/>
                </a:lnTo>
                <a:cubicBezTo>
                  <a:pt x="7301" y="16299"/>
                  <a:pt x="8102" y="17030"/>
                  <a:pt x="9138" y="17030"/>
                </a:cubicBezTo>
                <a:lnTo>
                  <a:pt x="10800" y="17030"/>
                </a:lnTo>
                <a:cubicBezTo>
                  <a:pt x="11836" y="17030"/>
                  <a:pt x="12636" y="16299"/>
                  <a:pt x="12636" y="15377"/>
                </a:cubicBezTo>
                <a:lnTo>
                  <a:pt x="12636" y="10041"/>
                </a:lnTo>
                <a:lnTo>
                  <a:pt x="10800" y="10041"/>
                </a:lnTo>
                <a:lnTo>
                  <a:pt x="14308" y="6534"/>
                </a:lnTo>
                <a:lnTo>
                  <a:pt x="17981" y="10041"/>
                </a:lnTo>
                <a:lnTo>
                  <a:pt x="16144" y="10041"/>
                </a:lnTo>
                <a:lnTo>
                  <a:pt x="16144" y="15377"/>
                </a:lnTo>
                <a:cubicBezTo>
                  <a:pt x="16144" y="18144"/>
                  <a:pt x="13568" y="20703"/>
                  <a:pt x="10800" y="20703"/>
                </a:cubicBezTo>
                <a:lnTo>
                  <a:pt x="9138" y="20703"/>
                </a:lnTo>
                <a:cubicBezTo>
                  <a:pt x="6370" y="20703"/>
                  <a:pt x="3794" y="18144"/>
                  <a:pt x="3794" y="15377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8;37,8;…;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468360" y="47628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жем пациенту!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468360" y="2349360"/>
                <a:ext cx="361800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Text Box 8"/>
          <p:cNvSpPr/>
          <p:nvPr/>
        </p:nvSpPr>
        <p:spPr>
          <a:xfrm>
            <a:off x="380160" y="3828960"/>
            <a:ext cx="330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36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 поху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*3=105 таб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>
            <a:hlinkClick r:id="" action="ppaction://hlinkshowjump?jump=previousslide"/>
          </p:cNvPr>
          <p:cNvSpPr/>
          <p:nvPr/>
        </p:nvSpPr>
        <p:spPr>
          <a:xfrm>
            <a:off x="594036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1.    3; 6; 12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2.    2; 4; 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3.    32; 16; 0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4.    32; 16; 8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5.    2; 2; 2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6.    0; 0; 0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лайд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395280" y="47628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вум пациентам назначено лечение укусами пчел. В течение 5 процедур придерживались таких схем ле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1 б                     2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1 сеанс         2 пчелы             1 пч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2 сеанс         4 пчелы             2 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3 сеанс         6 пчел               4 пч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Какой больной за 5 процедур получил большее количество апитокс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айд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611280" y="620640"/>
            <a:ext cx="640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питоксин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ля укрепления иммунитета больному следует принимать капли настойки прополиса. Начиная с 1 капли, больной должен увеличивать дозу каждый день на одну каплю. После того как больной примет 40 капель, ему следует уменьшать дозу каждый день на 2 капли в день. Сколько капель должен выпить больной и какова продолжительность курса лечения?                    Слайд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95280" y="549360"/>
            <a:ext cx="712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епляем иммунит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6600"/>
                </a:solidFill>
                <a:latin typeface="Arial"/>
              </a:rPr>
              <a:t>Ежедневно каждый болеющий гриппом человек может заразить 4 окружающих. В нашей школе 440 учеников, 38 учителей и 18 непедагогических работников. Через сколько дней заболеют все, если не обращаться к врачу? Слайд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468360" y="549360"/>
            <a:ext cx="676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говорим о грипп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и остеохондрозе позвоночника принимается настойка трилистника (арума, алоказии), которую принимают три раза в день по схеме: 1день-1 капля, 2 день-3 капли, 3 день-5 капель. Прием доводят до 52 капель. С этого момента принимают по 52 капле, пока не закончится вся настойка. На курс требуется 200 мл. На сколько дней хватит имеющегося препарат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айд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395280" y="476280"/>
            <a:ext cx="705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теории - к практик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«… всего три таблетки «Джу - Тао» в день – и вы теряете по двести граммов за де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- Я вешу 38 кг, но хочу похудеть до 31 кг. Сколько мне купить табл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лайд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468360" y="476280"/>
            <a:ext cx="68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жем пациенту!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684360" y="692280"/>
            <a:ext cx="65516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навреди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68"/>
          <p:cNvPicPr/>
          <p:nvPr/>
        </p:nvPicPr>
        <p:blipFill>
          <a:blip r:embed="rId3"/>
          <a:stretch/>
        </p:blipFill>
        <p:spPr>
          <a:xfrm>
            <a:off x="2624040" y="2349360"/>
            <a:ext cx="2559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3; 6; 12; …      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3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 2; 4; 6; … 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32; 16; 0;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3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 32; 16; 8; 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  2; 2; 2; … 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  0; 0; 0; …       ариф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1"/>
          <p:cNvSpPr txBox="1"/>
          <p:nvPr/>
        </p:nvSpPr>
        <p:spPr>
          <a:xfrm>
            <a:off x="395280" y="47628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AutoShape 13">
            <a:hlinkClick r:id="" action="ppaction://hlinkshowjump?jump=previousslide"/>
          </p:cNvPr>
          <p:cNvSpPr/>
          <p:nvPr/>
        </p:nvSpPr>
        <p:spPr>
          <a:xfrm>
            <a:off x="6877080" y="5445000"/>
            <a:ext cx="538200" cy="505080"/>
          </a:xfrm>
          <a:custGeom>
            <a:avLst/>
            <a:gdLst>
              <a:gd name="textAreaLeft" fmla="*/ 32760 w 538200"/>
              <a:gd name="textAreaRight" fmla="*/ 505800 w 5382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15" h="21600">
                <a:moveTo>
                  <a:pt x="4501" y="7493"/>
                </a:moveTo>
                <a:lnTo>
                  <a:pt x="8009" y="7493"/>
                </a:lnTo>
                <a:lnTo>
                  <a:pt x="8009" y="12828"/>
                </a:lnTo>
                <a:cubicBezTo>
                  <a:pt x="8009" y="13751"/>
                  <a:pt x="8810" y="14482"/>
                  <a:pt x="9845" y="14482"/>
                </a:cubicBezTo>
                <a:lnTo>
                  <a:pt x="11508" y="14482"/>
                </a:lnTo>
                <a:cubicBezTo>
                  <a:pt x="12543" y="14482"/>
                  <a:pt x="13344" y="13751"/>
                  <a:pt x="13344" y="12828"/>
                </a:cubicBezTo>
                <a:lnTo>
                  <a:pt x="13344" y="7493"/>
                </a:lnTo>
                <a:lnTo>
                  <a:pt x="11508" y="7493"/>
                </a:lnTo>
                <a:lnTo>
                  <a:pt x="15015" y="3985"/>
                </a:lnTo>
                <a:lnTo>
                  <a:pt x="18688" y="7493"/>
                </a:lnTo>
                <a:lnTo>
                  <a:pt x="16852" y="7493"/>
                </a:lnTo>
                <a:lnTo>
                  <a:pt x="16852" y="12828"/>
                </a:lnTo>
                <a:cubicBezTo>
                  <a:pt x="16852" y="15596"/>
                  <a:pt x="14275" y="18155"/>
                  <a:pt x="11508" y="18155"/>
                </a:cubicBezTo>
                <a:lnTo>
                  <a:pt x="9845" y="18155"/>
                </a:lnTo>
                <a:cubicBezTo>
                  <a:pt x="7078" y="18155"/>
                  <a:pt x="4501" y="15596"/>
                  <a:pt x="4501" y="12828"/>
                </a:cubicBez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10:56Z</dcterms:created>
  <dc:creator>Татьяна Григорьевна</dc:creator>
  <dc:description/>
  <dc:language>en-US</dc:language>
  <cp:lastModifiedBy>Некто</cp:lastModifiedBy>
  <dcterms:modified xsi:type="dcterms:W3CDTF">2019-01-04T18:02:17Z</dcterms:modified>
  <cp:revision>23</cp:revision>
  <dc:subject/>
  <dc:title>Слайд 1</dc:title>
</cp:coreProperties>
</file>