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5A9-8C0A-4FA5-8D5B-1B96486E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A5C3-0F2A-4BA8-8E52-78797CE2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0B4D-AAE8-417F-BE7A-CB9E043D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14D4-90F9-4CFA-A9C8-3AFC4E04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E150-C678-4DB9-BFFC-14C4844A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08CF-E64E-4D9D-AF3C-7C55EF65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2839-4E23-48DE-9DC4-CA2F1F18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B06D-4AF9-4968-9001-035C8530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5A49-C81F-4012-BE56-B87A5A24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6DF2-2AAB-4AFB-9AB0-B69F51D9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7557-0F6A-47D3-AB8A-DA9D4854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5B21-B6EB-416A-A49E-1F1860DB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C721-B843-4815-8713-8A75F64E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61A8-536B-415E-9B05-EE8D3F55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647E-1E1A-4128-813B-45D4737D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D635-374C-4828-A82F-A465A656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D1DA-429D-4686-A28E-77F600E0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29287-3E43-4B22-9592-8A39C934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D52E0-459E-4F5E-800C-C69869A4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B18EB-9C5B-4355-A8B7-172A2C90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0122D-A4B4-4CE6-8E64-5574F353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1AA28-7D2B-4CAE-91C6-D4DCB387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FFAC-0E09-4D2B-91D3-1DADBF7B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AE734-9C29-4C7C-B545-0CED8A8C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FAC2C-1E9B-416E-91D0-EFF0C8D3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A2687-C0D2-4BA7-AF78-5DEF2B78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C19B1-F83B-40F2-B639-166ECF12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F46C3-2A77-4C7B-9B0C-F638C5D5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0E294-225F-4F34-A22B-D669BE01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3B2D3-809E-4BF9-ABA2-DC3EEB91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1B806-E50E-44E2-9DA8-F366CC61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62811-2105-4FBD-A224-C691F651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BA2E7-80CF-4A02-A79C-6F270902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D0DF-7F33-4C8D-A9D3-1FF83769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02C04-B31B-4E6F-8019-22096F71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2E7E7-1937-498F-88C6-E5D9B538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8C34C-2BCD-4962-83A0-5AAC95AD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D2D2D-D49E-49E6-8AFE-BC327525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4ACB8-02D9-43B3-97D0-D5398218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E329A-4A2B-4FB6-9933-428C220D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4A42F-850C-4751-A4E8-CFBA664D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8DD8A-68C2-4157-926C-6577708F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61496-D548-4BA5-AB97-FCF6EBDD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483FC-1621-4201-A649-A742B932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52D-00E2-42F9-8309-98247663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D3603-F603-412F-AF75-696DA468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CEBA7-0D8A-415E-99E0-1C6D9ABA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BB51C-22C2-4C14-8D1E-20AE466E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90167-98D1-4EA8-AEAB-B4F21482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94170-0873-4462-A089-839B55C8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9B636-5C0B-4B80-B323-5A0D18F9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2EDE1-354F-49B5-A068-524B2ED1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4E3A6-7C69-4595-83A5-A750D50D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593AE-520A-4E1B-9D39-1CF18014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97E5A-894E-4A59-A68D-8A3EFF1F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47F-1EA1-41FE-95C3-1DC1B8EE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13F57-8046-4E66-8A4F-E8AF9F6A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5FEF-AB71-42C4-8EE9-6567ABAD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768D-226B-4938-9F70-00907C1D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4F61-6813-4139-A911-3DDBC52B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FE2E-4C84-4379-AE5C-CAB81091E8A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A4F4-5207-4375-A091-80E4255F201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112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1D63-2233-40AF-AA2F-2684692958B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58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CF48-A2F2-4F91-986E-4E52044CD0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202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2882-CE1B-4E1F-87E3-23EE82AA20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000" y="609480"/>
            <a:ext cx="8078760" cy="425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4360" y="549360"/>
            <a:ext cx="81356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Развитие игровой               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 деятельности   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 дошкольника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"/>
          <p:cNvSpPr/>
          <p:nvPr/>
        </p:nvSpPr>
        <p:spPr>
          <a:xfrm>
            <a:off x="1547640" y="4086360"/>
            <a:ext cx="6913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готовил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спитатель МБДОУ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ский сад №459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лова Ирина Вячеславовн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Овальная выноска 4"/>
          <p:cNvSpPr/>
          <p:nvPr/>
        </p:nvSpPr>
        <p:spPr>
          <a:xfrm>
            <a:off x="1403280" y="115920"/>
            <a:ext cx="6481800" cy="1882800"/>
          </a:xfrm>
          <a:prstGeom prst="wedgeEllipseCallout">
            <a:avLst>
              <a:gd name="adj1" fmla="val -24944"/>
              <a:gd name="adj2" fmla="val 44268"/>
            </a:avLst>
          </a:prstGeom>
          <a:solidFill>
            <a:srgbClr val="00cc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Использование в педагогическом процессе всего многообразия иг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Вертикальный свиток 9"/>
          <p:cNvSpPr/>
          <p:nvPr/>
        </p:nvSpPr>
        <p:spPr>
          <a:xfrm>
            <a:off x="4716360" y="2421000"/>
            <a:ext cx="3168720" cy="193032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Сюжетно-ролевые, режиссерские, театрализованны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Вертикальный свиток 10"/>
          <p:cNvSpPr/>
          <p:nvPr/>
        </p:nvSpPr>
        <p:spPr>
          <a:xfrm>
            <a:off x="539640" y="2349360"/>
            <a:ext cx="2952720" cy="2374920"/>
          </a:xfrm>
          <a:prstGeom prst="verticalScroll">
            <a:avLst>
              <a:gd name="adj" fmla="val 12768"/>
            </a:avLst>
          </a:prstGeom>
          <a:solidFill>
            <a:srgbClr val="00cc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Строительно-конструктивные, игры-экспериментирова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Вертикальный свиток 11"/>
          <p:cNvSpPr/>
          <p:nvPr/>
        </p:nvSpPr>
        <p:spPr>
          <a:xfrm>
            <a:off x="2843280" y="4581360"/>
            <a:ext cx="3097080" cy="2276640"/>
          </a:xfrm>
          <a:prstGeom prst="verticalScroll">
            <a:avLst>
              <a:gd name="adj" fmla="val 15620"/>
            </a:avLst>
          </a:prstGeom>
          <a:solidFill>
            <a:srgbClr val="00cc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игры-фантазии, дидактические, развивающ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Вертикальный свиток 11"/>
          <p:cNvSpPr/>
          <p:nvPr/>
        </p:nvSpPr>
        <p:spPr>
          <a:xfrm>
            <a:off x="6156360" y="4653000"/>
            <a:ext cx="2448000" cy="200196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Подвижные, спортивные</a:t>
            </a:r>
            <a:r>
              <a:rPr b="1" lang="en-US" sz="20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059560" y="444960"/>
            <a:ext cx="5169600" cy="1216800"/>
          </a:xfrm>
          <a:prstGeom prst="rect">
            <a:avLst/>
          </a:prstGeom>
          <a:solidFill>
            <a:srgbClr val="ffe39d"/>
          </a:solidFill>
          <a:ln w="25560">
            <a:solidFill>
              <a:srgbClr val="26697a"/>
            </a:solidFill>
            <a:miter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Обогащение жизненного опыта детей знаниями и впечатлениями, которые могут быть реализованы в игре, через разные источники информа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Блок-схема: перфолента 6"/>
          <p:cNvSpPr/>
          <p:nvPr/>
        </p:nvSpPr>
        <p:spPr>
          <a:xfrm>
            <a:off x="900000" y="2205000"/>
            <a:ext cx="3216240" cy="1513080"/>
          </a:xfrm>
          <a:prstGeom prst="flowChartPunchedTape">
            <a:avLst/>
          </a:prstGeom>
          <a:solidFill>
            <a:srgbClr val="ffe39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Экскурсии, посещение музеев и театр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Блок-схема: перфолента 7"/>
          <p:cNvSpPr/>
          <p:nvPr/>
        </p:nvSpPr>
        <p:spPr>
          <a:xfrm>
            <a:off x="5003640" y="2781360"/>
            <a:ext cx="3743640" cy="1869840"/>
          </a:xfrm>
          <a:prstGeom prst="flowChartPunchedTape">
            <a:avLst/>
          </a:prstGeom>
          <a:solidFill>
            <a:srgbClr val="ffe39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Встречи с интересными людьми, художественное слово, прогулки, наблюде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Блок-схема: перфолента 8"/>
          <p:cNvSpPr/>
          <p:nvPr/>
        </p:nvSpPr>
        <p:spPr>
          <a:xfrm>
            <a:off x="1979640" y="4797360"/>
            <a:ext cx="4537080" cy="2060640"/>
          </a:xfrm>
          <a:prstGeom prst="flowChartPunchedTape">
            <a:avLst/>
          </a:prstGeom>
          <a:solidFill>
            <a:srgbClr val="ffe39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Художественно-творческая деятельность, беседы, обсуждение событий и др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in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7-конечная звезда 6"/>
          <p:cNvSpPr/>
          <p:nvPr/>
        </p:nvSpPr>
        <p:spPr>
          <a:xfrm>
            <a:off x="2843280" y="1628640"/>
            <a:ext cx="3930480" cy="2928960"/>
          </a:xfrm>
          <a:prstGeom prst="pie">
            <a:avLst/>
          </a:prstGeom>
          <a:solidFill>
            <a:srgbClr val="ffc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словия для развития игровой деятель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Прямоугольник 3"/>
          <p:cNvSpPr/>
          <p:nvPr/>
        </p:nvSpPr>
        <p:spPr>
          <a:xfrm rot="21015600">
            <a:off x="5668560" y="331560"/>
            <a:ext cx="2921040" cy="1439640"/>
          </a:xfrm>
          <a:prstGeom prst="rect">
            <a:avLst/>
          </a:prstGeom>
          <a:solidFill>
            <a:srgbClr val="00cc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Построение развивающего пространств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Прямоугольник 5"/>
          <p:cNvSpPr/>
          <p:nvPr/>
        </p:nvSpPr>
        <p:spPr>
          <a:xfrm>
            <a:off x="324000" y="4724280"/>
            <a:ext cx="2589120" cy="1901880"/>
          </a:xfrm>
          <a:prstGeom prst="rect">
            <a:avLst/>
          </a:prstGeom>
          <a:solidFill>
            <a:srgbClr val="00cc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Наличие комфортного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мест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для каждого ребен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Прямоугольник 4"/>
          <p:cNvSpPr/>
          <p:nvPr/>
        </p:nvSpPr>
        <p:spPr>
          <a:xfrm flipH="1" rot="19969800">
            <a:off x="6442560" y="3500280"/>
            <a:ext cx="2295720" cy="1815840"/>
          </a:xfrm>
          <a:prstGeom prst="rect">
            <a:avLst/>
          </a:prstGeom>
          <a:solidFill>
            <a:srgbClr val="fff1c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Каждому возрасту своя игруш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Прямоугольник 4"/>
          <p:cNvSpPr/>
          <p:nvPr/>
        </p:nvSpPr>
        <p:spPr>
          <a:xfrm flipH="1" rot="1383000">
            <a:off x="249840" y="2491920"/>
            <a:ext cx="2466720" cy="1602000"/>
          </a:xfrm>
          <a:prstGeom prst="rect">
            <a:avLst/>
          </a:prstGeom>
          <a:solidFill>
            <a:srgbClr val="fff1c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Учет половых различий дет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Прямоугольник 4"/>
          <p:cNvSpPr/>
          <p:nvPr/>
        </p:nvSpPr>
        <p:spPr>
          <a:xfrm flipH="1" rot="42600">
            <a:off x="3708000" y="4869000"/>
            <a:ext cx="2578320" cy="1755720"/>
          </a:xfrm>
          <a:prstGeom prst="rect">
            <a:avLst/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Обеспечение условной изолирован-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Прямоугольник 4"/>
          <p:cNvSpPr/>
          <p:nvPr/>
        </p:nvSpPr>
        <p:spPr>
          <a:xfrm flipH="1" rot="21585000">
            <a:off x="1185120" y="260280"/>
            <a:ext cx="2854440" cy="1800360"/>
          </a:xfrm>
          <a:prstGeom prst="rect">
            <a:avLst/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Возможность самостоятельно менять игровую сред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in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059680" cy="5616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Таким образом, изучение психолого-педагогических условий развития игровой деятельности с включением своевременных научно-методических и практических достижений позволяет определить сильные и слабые стороны в организации игр, а также дать конкретные рекомендации практикам по дальнейшему совершенствованию педагогической поддержки игровой деятельности дошкольник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гры развиваются в следующей последовательности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Игры развиваются в следующей последовательности</a:t>
            </a:r>
            <a:br>
              <a:rPr sz="2600"/>
            </a:b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(Н.Я.Михайленко, Н.А. Короткова, Е.Е.Кравцова)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Н.Я.Михайленко, Н.А. Короткова, Е.Е.Кравцова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92720" y="2421000"/>
            <a:ext cx="3311640" cy="1512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Средний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дошкольный возраст-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ролевая игр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"/>
          <p:cNvSpPr/>
          <p:nvPr/>
        </p:nvSpPr>
        <p:spPr>
          <a:xfrm>
            <a:off x="2987640" y="4508640"/>
            <a:ext cx="3745080" cy="1873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Старший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дошкольный возраст-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Игра с правилами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режиссерская игра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игра-фантаз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"/>
          <p:cNvSpPr/>
          <p:nvPr/>
        </p:nvSpPr>
        <p:spPr>
          <a:xfrm>
            <a:off x="1332000" y="2492280"/>
            <a:ext cx="3311280" cy="1513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Младший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дошкольный возраст-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режиссерская игр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rcRect l="9694" t="0" r="0" b="-158"/>
          <a:stretch/>
        </p:blipFill>
        <p:spPr>
          <a:xfrm>
            <a:off x="250920" y="260280"/>
            <a:ext cx="4176720" cy="31431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879800" y="333360"/>
            <a:ext cx="4264200" cy="30243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250920" y="3789360"/>
            <a:ext cx="4098960" cy="27320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4788000" y="3789360"/>
            <a:ext cx="4176720" cy="2735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89156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600" spc="-1" strike="noStrike">
                <a:solidFill>
                  <a:srgbClr val="ffcc66"/>
                </a:solidFill>
                <a:latin typeface="Arial"/>
              </a:rPr>
              <a:t>     </a:t>
            </a:r>
            <a:br>
              <a:rPr sz="5600"/>
            </a:br>
            <a:br>
              <a:rPr sz="5600"/>
            </a:br>
            <a:r>
              <a:rPr b="0" i="1" lang="en-US" sz="56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1" lang="en-US" sz="6700" spc="-1" strike="noStrike">
                <a:solidFill>
                  <a:srgbClr val="ffffff"/>
                </a:solidFill>
                <a:latin typeface="Arial"/>
              </a:rPr>
              <a:t>Основные       </a:t>
            </a:r>
            <a:br>
              <a:rPr sz="6700"/>
            </a:br>
            <a:r>
              <a:rPr b="1" lang="en-US" sz="6700" spc="-1" strike="noStrike">
                <a:solidFill>
                  <a:srgbClr val="ffffff"/>
                </a:solidFill>
                <a:latin typeface="Arial"/>
              </a:rPr>
              <a:t>      аспекты </a:t>
            </a:r>
            <a:br>
              <a:rPr sz="6700"/>
            </a:br>
            <a:r>
              <a:rPr b="1" lang="en-US" sz="6700" spc="-1" strike="noStrike">
                <a:solidFill>
                  <a:srgbClr val="ffffff"/>
                </a:solidFill>
                <a:latin typeface="Arial"/>
              </a:rPr>
              <a:t>      игровой </a:t>
            </a:r>
            <a:br>
              <a:rPr sz="6700"/>
            </a:br>
            <a:r>
              <a:rPr b="1" lang="en-US" sz="6700" spc="-1" strike="noStrike">
                <a:solidFill>
                  <a:srgbClr val="ffffff"/>
                </a:solidFill>
                <a:latin typeface="Arial"/>
              </a:rPr>
              <a:t>  деятельности</a:t>
            </a:r>
            <a:endParaRPr b="0" lang="en-US" sz="67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Формирование оснований для развития детской игры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03280" y="1773360"/>
            <a:ext cx="7531200" cy="46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сед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алоги с детьм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ение художественной литератур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левые прогулки и экскурси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пользование технических средств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блюдения за играми других дете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пользование музыкального репертуа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авление альбомов, книг по теме игры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17884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одействие становлению   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игрового опыта ребенк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412040" cy="410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комство с атрибутам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комство с предметами-заместителям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игрового пространств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ражение типичных черт рол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ы-имитации, режиссёрские, конструктивные и подвижные игры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чной труд, изодеятель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324000" y="549360"/>
            <a:ext cx="8458920" cy="5254200"/>
            <a:chOff x="324000" y="549360"/>
            <a:chExt cx="8458920" cy="5254200"/>
          </a:xfrm>
        </p:grpSpPr>
        <p:cxnSp>
          <p:nvCxnSpPr>
            <p:cNvPr id="315" name="_s261136"/>
            <p:cNvCxnSpPr>
              <a:stCxn id="316" idx="0"/>
              <a:endCxn id="317" idx="2"/>
            </p:cNvCxnSpPr>
            <p:nvPr/>
          </p:nvCxnSpPr>
          <p:spPr>
            <a:xfrm flipV="1" rot="16200000">
              <a:off x="5672520" y="1529280"/>
              <a:ext cx="1051560" cy="3293280"/>
            </a:xfrm>
            <a:prstGeom prst="bentConnector3">
              <a:avLst>
                <a:gd name="adj1" fmla="val 139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8" name="_s261134"/>
            <p:cNvCxnSpPr>
              <a:stCxn id="319" idx="0"/>
              <a:endCxn id="317" idx="2"/>
            </p:cNvCxnSpPr>
            <p:nvPr/>
          </p:nvCxnSpPr>
          <p:spPr>
            <a:xfrm flipV="1" rot="16200000">
              <a:off x="4575600" y="2626200"/>
              <a:ext cx="1051560" cy="1099440"/>
            </a:xfrm>
            <a:prstGeom prst="bentConnector3">
              <a:avLst>
                <a:gd name="adj1" fmla="val 139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0" name="_s261133"/>
            <p:cNvCxnSpPr>
              <a:stCxn id="321" idx="0"/>
              <a:endCxn id="317" idx="2"/>
            </p:cNvCxnSpPr>
            <p:nvPr/>
          </p:nvCxnSpPr>
          <p:spPr>
            <a:xfrm flipH="1" flipV="1" rot="5400000">
              <a:off x="3479400" y="2628720"/>
              <a:ext cx="1051560" cy="1095120"/>
            </a:xfrm>
            <a:prstGeom prst="bentConnector3">
              <a:avLst>
                <a:gd name="adj1" fmla="val 139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2" name="_s261132"/>
            <p:cNvCxnSpPr>
              <a:stCxn id="323" idx="0"/>
              <a:endCxn id="317" idx="2"/>
            </p:cNvCxnSpPr>
            <p:nvPr/>
          </p:nvCxnSpPr>
          <p:spPr>
            <a:xfrm flipH="1" flipV="1" rot="5400000">
              <a:off x="2383560" y="1532880"/>
              <a:ext cx="1051560" cy="3286440"/>
            </a:xfrm>
            <a:prstGeom prst="bentConnector3">
              <a:avLst>
                <a:gd name="adj1" fmla="val 139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17" name="_s261128"/>
            <p:cNvSpPr/>
            <p:nvPr/>
          </p:nvSpPr>
          <p:spPr>
            <a:xfrm>
              <a:off x="3612240" y="549360"/>
              <a:ext cx="1880280" cy="2101680"/>
            </a:xfrm>
            <a:custGeom>
              <a:avLst/>
              <a:gdLst>
                <a:gd name="textAreaLeft" fmla="*/ 91800 w 1880280"/>
                <a:gd name="textAreaRight" fmla="*/ 1788480 w 1880280"/>
                <a:gd name="textAreaTop" fmla="*/ 91800 h 2101680"/>
                <a:gd name="textAreaBottom" fmla="*/ 2009880 h 2101680"/>
              </a:gdLst>
              <a:ahLst/>
              <a:rect l="textAreaLeft" t="textAreaTop" r="textAreaRight" b="textAreaBottom"/>
              <a:pathLst>
                <a:path w="21600" h="24143">
                  <a:moveTo>
                    <a:pt x="3600" y="0"/>
                  </a:moveTo>
                  <a:arcTo wR="3600" hR="3600" stAng="16200000" swAng="-5400000"/>
                  <a:lnTo>
                    <a:pt x="0" y="20543"/>
                  </a:lnTo>
                  <a:arcTo wR="3600" hR="3600" stAng="10800000" swAng="-5400000"/>
                  <a:lnTo>
                    <a:pt x="18000" y="241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Развитие 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коммуникативных 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умений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3" name="_s261129"/>
            <p:cNvSpPr/>
            <p:nvPr/>
          </p:nvSpPr>
          <p:spPr>
            <a:xfrm>
              <a:off x="324000" y="3701880"/>
              <a:ext cx="1880280" cy="2101680"/>
            </a:xfrm>
            <a:custGeom>
              <a:avLst/>
              <a:gdLst>
                <a:gd name="textAreaLeft" fmla="*/ 91800 w 1880280"/>
                <a:gd name="textAreaRight" fmla="*/ 1788480 w 1880280"/>
                <a:gd name="textAreaTop" fmla="*/ 91800 h 2101680"/>
                <a:gd name="textAreaBottom" fmla="*/ 2009880 h 2101680"/>
              </a:gdLst>
              <a:ahLst/>
              <a:rect l="textAreaLeft" t="textAreaTop" r="textAreaRight" b="textAreaBottom"/>
              <a:pathLst>
                <a:path w="21600" h="24143">
                  <a:moveTo>
                    <a:pt x="3600" y="0"/>
                  </a:moveTo>
                  <a:arcTo wR="3600" hR="3600" stAng="16200000" swAng="-5400000"/>
                  <a:lnTo>
                    <a:pt x="0" y="20543"/>
                  </a:lnTo>
                  <a:arcTo wR="3600" hR="3600" stAng="10800000" swAng="-5400000"/>
                  <a:lnTo>
                    <a:pt x="18000" y="241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Этические</a:t>
              </a:r>
              <a:r>
                <a:rPr b="0" lang="en-US" sz="1600" spc="-1" strike="noStrike">
                  <a:solidFill>
                    <a:srgbClr val="ffcc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беседы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1" name="_s261130"/>
            <p:cNvSpPr/>
            <p:nvPr/>
          </p:nvSpPr>
          <p:spPr>
            <a:xfrm>
              <a:off x="2517480" y="3701880"/>
              <a:ext cx="1880280" cy="2101680"/>
            </a:xfrm>
            <a:custGeom>
              <a:avLst/>
              <a:gdLst>
                <a:gd name="textAreaLeft" fmla="*/ 91800 w 1880280"/>
                <a:gd name="textAreaRight" fmla="*/ 1788480 w 1880280"/>
                <a:gd name="textAreaTop" fmla="*/ 91800 h 2101680"/>
                <a:gd name="textAreaBottom" fmla="*/ 2009880 h 2101680"/>
              </a:gdLst>
              <a:ahLst/>
              <a:rect l="textAreaLeft" t="textAreaTop" r="textAreaRight" b="textAreaBottom"/>
              <a:pathLst>
                <a:path w="21600" h="24143">
                  <a:moveTo>
                    <a:pt x="3600" y="0"/>
                  </a:moveTo>
                  <a:arcTo wR="3600" hR="3600" stAng="16200000" swAng="-5400000"/>
                  <a:lnTo>
                    <a:pt x="0" y="20543"/>
                  </a:lnTo>
                  <a:arcTo wR="3600" hR="3600" stAng="10800000" swAng="-5400000"/>
                  <a:lnTo>
                    <a:pt x="18000" y="241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Arial"/>
                </a:rPr>
                <a:t>Театрали-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Arial"/>
                </a:rPr>
                <a:t>зованные 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Arial"/>
                </a:rPr>
                <a:t>игры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19" name="_s261131"/>
            <p:cNvSpPr/>
            <p:nvPr/>
          </p:nvSpPr>
          <p:spPr>
            <a:xfrm>
              <a:off x="4711320" y="3701880"/>
              <a:ext cx="1880280" cy="2101680"/>
            </a:xfrm>
            <a:custGeom>
              <a:avLst/>
              <a:gdLst>
                <a:gd name="textAreaLeft" fmla="*/ 91800 w 1880280"/>
                <a:gd name="textAreaRight" fmla="*/ 1788480 w 1880280"/>
                <a:gd name="textAreaTop" fmla="*/ 91800 h 2101680"/>
                <a:gd name="textAreaBottom" fmla="*/ 2009880 h 2101680"/>
              </a:gdLst>
              <a:ahLst/>
              <a:rect l="textAreaLeft" t="textAreaTop" r="textAreaRight" b="textAreaBottom"/>
              <a:pathLst>
                <a:path w="21600" h="24143">
                  <a:moveTo>
                    <a:pt x="3600" y="0"/>
                  </a:moveTo>
                  <a:arcTo wR="3600" hR="3600" stAng="16200000" swAng="-5400000"/>
                  <a:lnTo>
                    <a:pt x="0" y="20543"/>
                  </a:lnTo>
                  <a:arcTo wR="3600" hR="3600" stAng="10800000" swAng="-5400000"/>
                  <a:lnTo>
                    <a:pt x="18000" y="241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Игры-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инсценировки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16" name="_s261135"/>
            <p:cNvSpPr/>
            <p:nvPr/>
          </p:nvSpPr>
          <p:spPr>
            <a:xfrm>
              <a:off x="6904800" y="3701880"/>
              <a:ext cx="1878120" cy="2101680"/>
            </a:xfrm>
            <a:custGeom>
              <a:avLst/>
              <a:gdLst>
                <a:gd name="textAreaLeft" fmla="*/ 91440 w 1878120"/>
                <a:gd name="textAreaRight" fmla="*/ 1786680 w 1878120"/>
                <a:gd name="textAreaTop" fmla="*/ 91440 h 2101680"/>
                <a:gd name="textAreaBottom" fmla="*/ 2010240 h 2101680"/>
              </a:gdLst>
              <a:ahLst/>
              <a:rect l="textAreaLeft" t="textAreaTop" r="textAreaRight" b="textAreaBottom"/>
              <a:pathLst>
                <a:path w="21600" h="24171">
                  <a:moveTo>
                    <a:pt x="3600" y="0"/>
                  </a:moveTo>
                  <a:arcTo wR="3600" hR="3600" stAng="16200000" swAng="-5400000"/>
                  <a:lnTo>
                    <a:pt x="0" y="20571"/>
                  </a:lnTo>
                  <a:arcTo wR="3600" hR="3600" stAng="10800000" swAng="-5400000"/>
                  <a:lnTo>
                    <a:pt x="18000" y="2417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Викторины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280" y="810720"/>
            <a:ext cx="800748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ТЕОРЕТИКИ ИГРЫ</a:t>
            </a:r>
            <a:endParaRPr b="0" lang="en-US" sz="4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365200" y="2136600"/>
            <a:ext cx="6089760" cy="3959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.В.Выготск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.Б.Элькони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Н.Леонтье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В.Запороже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С.Мухи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324000" y="476280"/>
            <a:ext cx="8458200" cy="5979240"/>
            <a:chOff x="324000" y="476280"/>
            <a:chExt cx="8458200" cy="5979240"/>
          </a:xfrm>
        </p:grpSpPr>
        <p:cxnSp>
          <p:nvCxnSpPr>
            <p:cNvPr id="325" name="_s246800"/>
            <p:cNvCxnSpPr>
              <a:stCxn id="326" idx="1"/>
              <a:endCxn id="327" idx="2"/>
            </p:cNvCxnSpPr>
            <p:nvPr/>
          </p:nvCxnSpPr>
          <p:spPr>
            <a:xfrm rot="10800000">
              <a:off x="2860560" y="1329480"/>
              <a:ext cx="846360" cy="4698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8" name="_s246798"/>
            <p:cNvCxnSpPr>
              <a:stCxn id="329" idx="1"/>
              <a:endCxn id="327" idx="2"/>
            </p:cNvCxnSpPr>
            <p:nvPr/>
          </p:nvCxnSpPr>
          <p:spPr>
            <a:xfrm rot="10800000">
              <a:off x="2860560" y="1329480"/>
              <a:ext cx="846360" cy="3420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0" name="_s246797"/>
            <p:cNvCxnSpPr>
              <a:stCxn id="331" idx="1"/>
              <a:endCxn id="327" idx="2"/>
            </p:cNvCxnSpPr>
            <p:nvPr/>
          </p:nvCxnSpPr>
          <p:spPr>
            <a:xfrm rot="10800000">
              <a:off x="2860560" y="1329480"/>
              <a:ext cx="846360" cy="2136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2" name="_s246796"/>
            <p:cNvCxnSpPr>
              <a:stCxn id="333" idx="1"/>
              <a:endCxn id="327" idx="2"/>
            </p:cNvCxnSpPr>
            <p:nvPr/>
          </p:nvCxnSpPr>
          <p:spPr>
            <a:xfrm rot="10800000">
              <a:off x="2860560" y="1329480"/>
              <a:ext cx="846360" cy="854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27" name="_s246792"/>
            <p:cNvSpPr/>
            <p:nvPr/>
          </p:nvSpPr>
          <p:spPr>
            <a:xfrm>
              <a:off x="324000" y="476280"/>
              <a:ext cx="5074920" cy="853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Роль взрослого </a:t>
              </a:r>
              <a:endParaRPr b="0" lang="en-US" sz="26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в игровой деятельности детей</a:t>
              </a:r>
              <a:endParaRPr b="0" lang="en-US" sz="2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33" name="_s246793"/>
            <p:cNvSpPr/>
            <p:nvPr/>
          </p:nvSpPr>
          <p:spPr>
            <a:xfrm>
              <a:off x="3707280" y="1757520"/>
              <a:ext cx="5074920" cy="853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Носитель игровых умений</a:t>
              </a:r>
              <a:endParaRPr b="0" lang="en-US" sz="2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31" name="_s246794"/>
            <p:cNvSpPr/>
            <p:nvPr/>
          </p:nvSpPr>
          <p:spPr>
            <a:xfrm>
              <a:off x="3707280" y="3038760"/>
              <a:ext cx="5074920" cy="853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Партнёр в игре</a:t>
              </a:r>
              <a:endParaRPr b="0" lang="en-US" sz="2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9" name="_s246795"/>
            <p:cNvSpPr/>
            <p:nvPr/>
          </p:nvSpPr>
          <p:spPr>
            <a:xfrm>
              <a:off x="3707280" y="4320000"/>
              <a:ext cx="5074920" cy="853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Помощник в организации </a:t>
              </a:r>
              <a:endParaRPr b="0" lang="en-US" sz="26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и регуляции игры</a:t>
              </a:r>
              <a:endParaRPr b="0" lang="en-US" sz="2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6" name="_s246799"/>
            <p:cNvSpPr/>
            <p:nvPr/>
          </p:nvSpPr>
          <p:spPr>
            <a:xfrm>
              <a:off x="3707280" y="5601600"/>
              <a:ext cx="5068440" cy="853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Наблюдатель</a:t>
              </a:r>
              <a:endParaRPr b="0" lang="en-US" sz="26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610920" y="549000"/>
            <a:ext cx="8243640" cy="5737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65040" indent="-282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Игра сама по себе универсальный стимулятор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лавное, в поддержании игрового интереса – чуткость, наблюдательность педагога, проявление творческого подхода в организации игры, умение заинтересовать ребенка игровым сюжето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84360" y="1273320"/>
            <a:ext cx="7775280" cy="4373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Игра – ведущая деятельность в  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период дошкольного возраста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01600" y="1981080"/>
            <a:ext cx="2970360" cy="1981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076720" y="2003400"/>
            <a:ext cx="2951280" cy="19400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2916360" y="4149720"/>
            <a:ext cx="3240000" cy="2427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50560" y="765000"/>
            <a:ext cx="8569080" cy="56167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нцепция дошкольного воспитания определяет игру как самоценную деятельность, дающую дошкольнику свободу выбора, возможность реализовать себя, достичь состояния эмоционального комфорта, причастности к детскому обществу, получить опыт взаимодействия. Именно в игре происходит становление ребенка как личности, его психическое развитие, формирование учебной и трудовой деятельност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1121040" y="336240"/>
            <a:ext cx="6973560" cy="6250320"/>
            <a:chOff x="1121040" y="336240"/>
            <a:chExt cx="6973560" cy="6250320"/>
          </a:xfrm>
        </p:grpSpPr>
        <p:sp>
          <p:nvSpPr>
            <p:cNvPr id="255" name="_s242770"/>
            <p:cNvSpPr/>
            <p:nvPr/>
          </p:nvSpPr>
          <p:spPr>
            <a:xfrm flipH="1" flipV="1">
              <a:off x="3371400" y="2355840"/>
              <a:ext cx="616680" cy="55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56" name="_s242769"/>
            <p:cNvSpPr/>
            <p:nvPr/>
          </p:nvSpPr>
          <p:spPr>
            <a:xfrm>
              <a:off x="1886040" y="1024200"/>
              <a:ext cx="1744200" cy="15634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Arial"/>
                </a:rPr>
                <a:t>театрализованные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57" name="_s242768"/>
            <p:cNvSpPr/>
            <p:nvPr/>
          </p:nvSpPr>
          <p:spPr>
            <a:xfrm flipH="1">
              <a:off x="2859840" y="3461760"/>
              <a:ext cx="87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58" name="_s242767"/>
            <p:cNvSpPr/>
            <p:nvPr/>
          </p:nvSpPr>
          <p:spPr>
            <a:xfrm>
              <a:off x="1121040" y="2679480"/>
              <a:ext cx="1744920" cy="15634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Arial"/>
                </a:rPr>
                <a:t>творческие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59" name="_s242766"/>
            <p:cNvSpPr/>
            <p:nvPr/>
          </p:nvSpPr>
          <p:spPr>
            <a:xfrm flipH="1">
              <a:off x="3371400" y="4014720"/>
              <a:ext cx="616680" cy="552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60" name="_s242765"/>
            <p:cNvSpPr/>
            <p:nvPr/>
          </p:nvSpPr>
          <p:spPr>
            <a:xfrm>
              <a:off x="1886040" y="4335120"/>
              <a:ext cx="1744200" cy="15642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Arial"/>
                </a:rPr>
                <a:t>познавательные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61" name="_s242764"/>
            <p:cNvSpPr/>
            <p:nvPr/>
          </p:nvSpPr>
          <p:spPr>
            <a:xfrm>
              <a:off x="4605480" y="4243320"/>
              <a:ext cx="0" cy="781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62" name="_s242763"/>
            <p:cNvSpPr/>
            <p:nvPr/>
          </p:nvSpPr>
          <p:spPr>
            <a:xfrm>
              <a:off x="3732840" y="5023080"/>
              <a:ext cx="1744920" cy="15634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Arial"/>
                </a:rPr>
                <a:t>дидактические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63" name="_s242762"/>
            <p:cNvSpPr/>
            <p:nvPr/>
          </p:nvSpPr>
          <p:spPr>
            <a:xfrm>
              <a:off x="5222160" y="4014720"/>
              <a:ext cx="616680" cy="552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64" name="_s242761"/>
            <p:cNvSpPr/>
            <p:nvPr/>
          </p:nvSpPr>
          <p:spPr>
            <a:xfrm>
              <a:off x="5582880" y="4338000"/>
              <a:ext cx="1744200" cy="15634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Arial"/>
                </a:rPr>
                <a:t>музыкальные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65" name="_s242760"/>
            <p:cNvSpPr/>
            <p:nvPr/>
          </p:nvSpPr>
          <p:spPr>
            <a:xfrm>
              <a:off x="5477760" y="3461760"/>
              <a:ext cx="871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66" name="_s242759"/>
            <p:cNvSpPr/>
            <p:nvPr/>
          </p:nvSpPr>
          <p:spPr>
            <a:xfrm>
              <a:off x="6349680" y="2679480"/>
              <a:ext cx="1744920" cy="15634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Arial"/>
                </a:rPr>
                <a:t>подражательные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67" name="_s242758"/>
            <p:cNvSpPr/>
            <p:nvPr/>
          </p:nvSpPr>
          <p:spPr>
            <a:xfrm flipV="1">
              <a:off x="5222160" y="2355840"/>
              <a:ext cx="616680" cy="55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68" name="_s242757"/>
            <p:cNvSpPr/>
            <p:nvPr/>
          </p:nvSpPr>
          <p:spPr>
            <a:xfrm>
              <a:off x="5582880" y="1021320"/>
              <a:ext cx="1744200" cy="15642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Arial"/>
                </a:rPr>
                <a:t>сюжетные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69" name="_s242756"/>
            <p:cNvSpPr/>
            <p:nvPr/>
          </p:nvSpPr>
          <p:spPr>
            <a:xfrm flipV="1">
              <a:off x="4605480" y="1899720"/>
              <a:ext cx="0" cy="781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0" name="_s242755"/>
            <p:cNvSpPr/>
            <p:nvPr/>
          </p:nvSpPr>
          <p:spPr>
            <a:xfrm>
              <a:off x="3732840" y="336240"/>
              <a:ext cx="1744920" cy="15634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Arial"/>
                </a:rPr>
                <a:t>подвижные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1" name="_s242754"/>
            <p:cNvSpPr/>
            <p:nvPr/>
          </p:nvSpPr>
          <p:spPr>
            <a:xfrm>
              <a:off x="3732840" y="2682000"/>
              <a:ext cx="1744920" cy="15642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33"/>
                  </a:solidFill>
                  <a:latin typeface="Arial"/>
                </a:rPr>
                <a:t>ВИДЫ</a:t>
              </a:r>
              <a:endParaRPr b="0" lang="en-US" sz="36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33"/>
                  </a:solidFill>
                  <a:latin typeface="Arial"/>
                </a:rPr>
                <a:t>ИГР</a:t>
              </a:r>
              <a:endParaRPr b="0" lang="en-US" sz="36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пулярность игр среди дете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28680" y="1341360"/>
          <a:ext cx="8515440" cy="53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341360"/>
                    <a:ext cx="8515440" cy="53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 rot="20718600">
            <a:off x="3492360" y="475920"/>
            <a:ext cx="3313080" cy="29322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rcRect l="9713" t="0" r="0" b="1843"/>
          <a:stretch/>
        </p:blipFill>
        <p:spPr>
          <a:xfrm rot="918000">
            <a:off x="536400" y="3479400"/>
            <a:ext cx="3640320" cy="26510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 rot="902400">
            <a:off x="5148360" y="4076280"/>
            <a:ext cx="3363840" cy="2238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2560" y="-544680"/>
            <a:ext cx="80805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889440" cy="2590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3816360" cy="25434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2268360" y="3213000"/>
            <a:ext cx="4753080" cy="3121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ФЕДЕРАЛЬНЫЕ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ГОСУДАРСТВЕННЫЕ                                   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ТРЕБОВАНИ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24000" y="3068640"/>
            <a:ext cx="8820000" cy="3456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К  СТРУКТУРЕ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ОСНОВНОЙ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ОБЩЕОБРАЗОВАТЕЛЬНОЙ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РОГРАММЫ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ДОШКОЛЬНОГО  ОБРАЗОВА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9-01-04T20:46:57Z</dcterms:modified>
  <cp:revision>35</cp:revision>
  <dc:subject/>
  <dc:title>Стимулирование игрового интереса  как условие и фактор развития дошкольника.</dc:title>
</cp:coreProperties>
</file>