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032-ED51-4E0F-B176-A5F8C165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915-750E-4CBA-9128-3187FAED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889-1BBF-454B-B8B2-71C718DF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070-A43A-465B-B89E-CC214819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4BF1-9A99-4A37-A8A5-528D7539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5D70-785A-4814-93E7-2B99FAD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BA64-127F-4307-881E-B27B2110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A43-7B25-4849-ADE9-2B2C0B27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092D-4221-4F27-8C68-DF40F9CA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161C-07E3-4CAF-BF83-994222E8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B4DE-BFED-48E7-96EB-6E2F93D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A77-FE9C-482F-82D4-727FD1C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545D-7DE5-40F9-B893-9ABEE228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B0B9-2223-4A83-A47A-1EDE69B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B105-B06A-44F3-8AF5-CFD9A614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99EE-FF63-4802-87E9-DFC91F8C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3335-AFA5-443F-B720-6D02867D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F084-4022-4211-88B3-DBE30092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C403-8B70-4FB1-8FEF-365ED11A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E204-4DA4-4195-919C-A277773E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2629-58AD-4383-B450-5CB4935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4BE4-89C4-4AB5-ADBC-E1D93AF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252-9F07-4B30-A29C-994D5773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E202-C9D4-4367-8DC1-88E5E43D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CACD-D410-43A3-BB69-A938196D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65F3-15D7-4F42-B394-FD6DC35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AD34-3455-45B4-9EAE-B029C15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E884-1375-4F50-9276-5257CD90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F087D-6590-4166-8CCE-F076CC76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2ECE-5AD5-4998-ACDB-0DBBAD07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998E-7B95-4FC4-8789-612D41DC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C1DC6-18BF-404E-9BB6-2859C8C2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914A-A70D-4348-8221-082FE400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ABE-8634-4A26-8E15-4D4AB834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38B32-0C26-4944-96A1-DA0F3E7E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942B-1FAA-4B10-B1A0-21A80E6A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F410-2AAB-42DC-A341-36736C41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CF103-879E-4A22-9F59-C665D798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187D-0D34-4B34-A941-D1DB103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142AB-6F50-40D2-96B8-E15E3844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44C77-8A1C-4C5C-9301-69C1617B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DEB4-01F8-472C-9496-60168363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3427-4FC9-46C8-90FF-7805C4AE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8A0B-7840-45CF-9CDC-48E04EE4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0A8-896E-4251-A5CB-A3F27BA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8FF7-A8ED-406D-A0D3-E1058DF3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BDB28-311D-4A64-B2FD-76B357DF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44B3-7DD0-4FFD-BB46-F51FD8BE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68F7-713F-426D-821B-3A1E5FD1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2A1A-0114-492C-A61B-B803DE09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C0D9-A743-46C1-884E-491DD34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1965-CDC0-4DF3-BFFB-65E9E75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D0609-108D-4910-8169-E35FE896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8406-201A-4114-A3AC-584255EC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BF7D6-0771-438B-992F-22AE23BC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99A-C8EE-440A-81BA-CB61FD78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D1DE-88DE-406A-8AC5-78B025A2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22B-02CD-4BF5-8D12-A9C9B4E0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984-FE1A-4E96-98CA-8BDD285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645-BD50-47A1-86DF-66A35FD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7275-63D8-4BD0-B1E7-578DF3E5A42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FC4F-AA66-48E5-9ED5-86F733F1A21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07F-4D18-4816-B0B8-CCBA00D5A6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5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C5FE-A5C6-442D-8951-D491C6C70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20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476-D43E-4B98-8B1D-73E5FCA84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8078760" cy="425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549360"/>
            <a:ext cx="81356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Развитие игровой              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деятельности  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дошкольник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408636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тель МБДОУ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ский сад №45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лова Ирина Вячеславов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Овальная выноска 4"/>
          <p:cNvSpPr/>
          <p:nvPr/>
        </p:nvSpPr>
        <p:spPr>
          <a:xfrm>
            <a:off x="1403280" y="115920"/>
            <a:ext cx="6481800" cy="1882800"/>
          </a:xfrm>
          <a:prstGeom prst="wedgeEllipseCallout">
            <a:avLst>
              <a:gd name="adj1" fmla="val -24944"/>
              <a:gd name="adj2" fmla="val 44268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спользование в педагогическом процессе всего многообразия иг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Вертикальный свиток 9"/>
          <p:cNvSpPr/>
          <p:nvPr/>
        </p:nvSpPr>
        <p:spPr>
          <a:xfrm>
            <a:off x="4716360" y="2421000"/>
            <a:ext cx="3168720" cy="193032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южетно-ролевые, режиссерские, театрализован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Вертикальный свиток 10"/>
          <p:cNvSpPr/>
          <p:nvPr/>
        </p:nvSpPr>
        <p:spPr>
          <a:xfrm>
            <a:off x="539640" y="2349360"/>
            <a:ext cx="2952720" cy="2374920"/>
          </a:xfrm>
          <a:prstGeom prst="verticalScroll">
            <a:avLst>
              <a:gd name="adj" fmla="val 12768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троительно-конструктивные, игры-экспериментир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Вертикальный свиток 11"/>
          <p:cNvSpPr/>
          <p:nvPr/>
        </p:nvSpPr>
        <p:spPr>
          <a:xfrm>
            <a:off x="2843280" y="4581360"/>
            <a:ext cx="3097080" cy="2276640"/>
          </a:xfrm>
          <a:prstGeom prst="verticalScroll">
            <a:avLst>
              <a:gd name="adj" fmla="val 15620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гры-фантазии, дидактические, развивающ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Вертикальный свиток 11"/>
          <p:cNvSpPr/>
          <p:nvPr/>
        </p:nvSpPr>
        <p:spPr>
          <a:xfrm>
            <a:off x="6156360" y="4653000"/>
            <a:ext cx="2448000" cy="200196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одвижные, спортивные</a:t>
            </a:r>
            <a:r>
              <a:rPr b="1" lang="en-US" sz="20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059560" y="444960"/>
            <a:ext cx="5169600" cy="1216800"/>
          </a:xfrm>
          <a:prstGeom prst="rect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богащение жизненного опыта детей знаниями и впечатлениями, которые могут быть реализованы в игре, через разные источники информ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Блок-схема: перфолента 6"/>
          <p:cNvSpPr/>
          <p:nvPr/>
        </p:nvSpPr>
        <p:spPr>
          <a:xfrm>
            <a:off x="900000" y="2205000"/>
            <a:ext cx="3216240" cy="151308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Экскурсии, посещение музеев и театр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Блок-схема: перфолента 7"/>
          <p:cNvSpPr/>
          <p:nvPr/>
        </p:nvSpPr>
        <p:spPr>
          <a:xfrm>
            <a:off x="5003640" y="2781360"/>
            <a:ext cx="3743640" cy="186984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стречи с интересными людьми, художественное слово, прогулки, наблюд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Блок-схема: перфолента 8"/>
          <p:cNvSpPr/>
          <p:nvPr/>
        </p:nvSpPr>
        <p:spPr>
          <a:xfrm>
            <a:off x="1979640" y="4797360"/>
            <a:ext cx="4537080" cy="206064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Художественно-творческая деятельность, беседы, обсуждение событий и д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7-конечная звезда 6"/>
          <p:cNvSpPr/>
          <p:nvPr/>
        </p:nvSpPr>
        <p:spPr>
          <a:xfrm>
            <a:off x="2843280" y="1628640"/>
            <a:ext cx="3930480" cy="2928960"/>
          </a:xfrm>
          <a:prstGeom prst="pie">
            <a:avLst/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ловия для развития игровой деятель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Прямоугольник 3"/>
          <p:cNvSpPr/>
          <p:nvPr/>
        </p:nvSpPr>
        <p:spPr>
          <a:xfrm rot="21015600">
            <a:off x="5668560" y="331560"/>
            <a:ext cx="2921040" cy="1439640"/>
          </a:xfrm>
          <a:prstGeom prst="rect">
            <a:avLst/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строение развивающего пространст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324000" y="4724280"/>
            <a:ext cx="2589120" cy="1901880"/>
          </a:xfrm>
          <a:prstGeom prst="rect">
            <a:avLst/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личие комфортног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ест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ля каждого ребен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Прямоугольник 4"/>
          <p:cNvSpPr/>
          <p:nvPr/>
        </p:nvSpPr>
        <p:spPr>
          <a:xfrm flipH="1" rot="19969800">
            <a:off x="6442560" y="3500280"/>
            <a:ext cx="2295720" cy="181584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аждому возрасту своя игруш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Прямоугольник 4"/>
          <p:cNvSpPr/>
          <p:nvPr/>
        </p:nvSpPr>
        <p:spPr>
          <a:xfrm flipH="1" rot="1383000">
            <a:off x="249840" y="2491920"/>
            <a:ext cx="2466720" cy="160200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чет половых различий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Прямоугольник 4"/>
          <p:cNvSpPr/>
          <p:nvPr/>
        </p:nvSpPr>
        <p:spPr>
          <a:xfrm flipH="1" rot="42600">
            <a:off x="3708000" y="4869000"/>
            <a:ext cx="2578320" cy="1755720"/>
          </a:xfrm>
          <a:prstGeom prst="rect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беспечение условной изолирован-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Прямоугольник 4"/>
          <p:cNvSpPr/>
          <p:nvPr/>
        </p:nvSpPr>
        <p:spPr>
          <a:xfrm flipH="1" rot="21585000">
            <a:off x="1185120" y="260280"/>
            <a:ext cx="2854440" cy="180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озможность самостоятельно менять игровую сред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059680" cy="561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Таким образом, изучение психолого-педагогических условий развития игровой деятельности с включением своевременных научно-методических и практических достижений позволяет определить сильные и слабые стороны в организации игр, а также дать конкретные рекомендации практикам по дальнейшему совершенствованию педагогической поддержки игровой деятельности дошкольни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гры развиваются в следующей последовательности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гры развиваются в следующей последовательности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(Н.Я.Михайленко, Н.А. Короткова, Е.Е.Кравцова)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Н.Я.Михайленко, Н.А. Короткова, Е.Е.Кравцова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2421000"/>
            <a:ext cx="3311640" cy="1512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редн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ошкольный возраст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ролевая игр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4508640"/>
            <a:ext cx="3745080" cy="1873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тарш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ошкольный возраст-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гра с правилам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режиссерская игра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гра-фантаз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"/>
          <p:cNvSpPr/>
          <p:nvPr/>
        </p:nvSpPr>
        <p:spPr>
          <a:xfrm>
            <a:off x="1332000" y="2492280"/>
            <a:ext cx="3311280" cy="1513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ладш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ошкольный возраст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режиссерская игр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rcRect l="9694" t="0" r="0" b="-158"/>
          <a:stretch/>
        </p:blipFill>
        <p:spPr>
          <a:xfrm>
            <a:off x="250920" y="260280"/>
            <a:ext cx="4176720" cy="3143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879800" y="333360"/>
            <a:ext cx="4264200" cy="3024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4098960" cy="273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788000" y="3789360"/>
            <a:ext cx="4176720" cy="273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8915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>
                <a:solidFill>
                  <a:srgbClr val="ffcc66"/>
                </a:solidFill>
                <a:latin typeface="Arial"/>
              </a:rPr>
              <a:t>     </a:t>
            </a:r>
            <a:br>
              <a:rPr sz="5600"/>
            </a:br>
            <a:br>
              <a:rPr sz="5600"/>
            </a:br>
            <a:r>
              <a:rPr b="0" i="1" lang="en-US" sz="56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US" sz="6700" spc="-1" strike="noStrike">
                <a:solidFill>
                  <a:srgbClr val="ffffff"/>
                </a:solidFill>
                <a:latin typeface="Arial"/>
              </a:rPr>
              <a:t>Основные       </a:t>
            </a:r>
            <a:br>
              <a:rPr sz="6700"/>
            </a:br>
            <a:r>
              <a:rPr b="1" lang="en-US" sz="6700" spc="-1" strike="noStrike">
                <a:solidFill>
                  <a:srgbClr val="ffffff"/>
                </a:solidFill>
                <a:latin typeface="Arial"/>
              </a:rPr>
              <a:t>      аспекты </a:t>
            </a:r>
            <a:br>
              <a:rPr sz="6700"/>
            </a:br>
            <a:r>
              <a:rPr b="1" lang="en-US" sz="6700" spc="-1" strike="noStrike">
                <a:solidFill>
                  <a:srgbClr val="ffffff"/>
                </a:solidFill>
                <a:latin typeface="Arial"/>
              </a:rPr>
              <a:t>      игровой </a:t>
            </a:r>
            <a:br>
              <a:rPr sz="6700"/>
            </a:br>
            <a:r>
              <a:rPr b="1" lang="en-US" sz="6700" spc="-1" strike="noStrike">
                <a:solidFill>
                  <a:srgbClr val="ffffff"/>
                </a:solidFill>
                <a:latin typeface="Arial"/>
              </a:rPr>
              <a:t>  деятельности</a:t>
            </a:r>
            <a:endParaRPr b="0" lang="en-US" sz="67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Формирование оснований для развития детской игры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531200" cy="46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се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алоги с деть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ение художественной литератур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евые прогулки и экскурси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ование технических средст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блюдения за играми других дет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ование музыкального репертуа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ение альбомов, книг по теме игры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1788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одействие становлению  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грового опыта ребенк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412040" cy="410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комство с атрибутам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комство с предметами-заместителям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игрового пространст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ажение типичных черт рол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ы-имитации, режиссёрские, конструктивные и подвижные игр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чной труд, изо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24000" y="549360"/>
            <a:ext cx="8458920" cy="5254200"/>
            <a:chOff x="324000" y="549360"/>
            <a:chExt cx="8458920" cy="5254200"/>
          </a:xfrm>
        </p:grpSpPr>
        <p:cxnSp>
          <p:nvCxnSpPr>
            <p:cNvPr id="315" name="_s261136"/>
            <p:cNvCxnSpPr>
              <a:stCxn id="316" idx="0"/>
              <a:endCxn id="317" idx="2"/>
            </p:cNvCxnSpPr>
            <p:nvPr/>
          </p:nvCxnSpPr>
          <p:spPr>
            <a:xfrm flipV="1" rot="16200000">
              <a:off x="5672520" y="1529280"/>
              <a:ext cx="1051560" cy="329328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261134"/>
            <p:cNvCxnSpPr>
              <a:stCxn id="319" idx="0"/>
              <a:endCxn id="317" idx="2"/>
            </p:cNvCxnSpPr>
            <p:nvPr/>
          </p:nvCxnSpPr>
          <p:spPr>
            <a:xfrm flipV="1" rot="16200000">
              <a:off x="4575600" y="2626200"/>
              <a:ext cx="1051560" cy="109944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0" name="_s261133"/>
            <p:cNvCxnSpPr>
              <a:stCxn id="321" idx="0"/>
              <a:endCxn id="317" idx="2"/>
            </p:cNvCxnSpPr>
            <p:nvPr/>
          </p:nvCxnSpPr>
          <p:spPr>
            <a:xfrm flipH="1" flipV="1" rot="5400000">
              <a:off x="3479400" y="2628720"/>
              <a:ext cx="1051560" cy="109512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2" name="_s261132"/>
            <p:cNvCxnSpPr>
              <a:stCxn id="323" idx="0"/>
              <a:endCxn id="317" idx="2"/>
            </p:cNvCxnSpPr>
            <p:nvPr/>
          </p:nvCxnSpPr>
          <p:spPr>
            <a:xfrm flipH="1" flipV="1" rot="5400000">
              <a:off x="2383560" y="1532880"/>
              <a:ext cx="1051560" cy="328644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7" name="_s261128"/>
            <p:cNvSpPr/>
            <p:nvPr/>
          </p:nvSpPr>
          <p:spPr>
            <a:xfrm>
              <a:off x="3612240" y="549360"/>
              <a:ext cx="1880280" cy="210168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101680"/>
                <a:gd name="textAreaBottom" fmla="*/ 2009880 h 2101680"/>
              </a:gdLst>
              <a:ahLst/>
              <a:rect l="textAreaLeft" t="textAreaTop" r="textAreaRight" b="textAreaBottom"/>
              <a:pathLst>
                <a:path w="21600" h="24143">
                  <a:moveTo>
                    <a:pt x="3600" y="0"/>
                  </a:moveTo>
                  <a:arcTo wR="3600" hR="3600" stAng="16200000" swAng="-5400000"/>
                  <a:lnTo>
                    <a:pt x="0" y="20543"/>
                  </a:lnTo>
                  <a:arcTo wR="3600" hR="3600" stAng="10800000" swAng="-5400000"/>
                  <a:lnTo>
                    <a:pt x="18000" y="24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Развитие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коммуникативных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умений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3" name="_s261129"/>
            <p:cNvSpPr/>
            <p:nvPr/>
          </p:nvSpPr>
          <p:spPr>
            <a:xfrm>
              <a:off x="324000" y="3701880"/>
              <a:ext cx="1880280" cy="210168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101680"/>
                <a:gd name="textAreaBottom" fmla="*/ 2009880 h 2101680"/>
              </a:gdLst>
              <a:ahLst/>
              <a:rect l="textAreaLeft" t="textAreaTop" r="textAreaRight" b="textAreaBottom"/>
              <a:pathLst>
                <a:path w="21600" h="24143">
                  <a:moveTo>
                    <a:pt x="3600" y="0"/>
                  </a:moveTo>
                  <a:arcTo wR="3600" hR="3600" stAng="16200000" swAng="-5400000"/>
                  <a:lnTo>
                    <a:pt x="0" y="20543"/>
                  </a:lnTo>
                  <a:arcTo wR="3600" hR="3600" stAng="10800000" swAng="-5400000"/>
                  <a:lnTo>
                    <a:pt x="18000" y="24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Этические</a:t>
              </a:r>
              <a:r>
                <a:rPr b="0" lang="en-US" sz="16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беседы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1" name="_s261130"/>
            <p:cNvSpPr/>
            <p:nvPr/>
          </p:nvSpPr>
          <p:spPr>
            <a:xfrm>
              <a:off x="2517480" y="3701880"/>
              <a:ext cx="1880280" cy="210168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101680"/>
                <a:gd name="textAreaBottom" fmla="*/ 2009880 h 2101680"/>
              </a:gdLst>
              <a:ahLst/>
              <a:rect l="textAreaLeft" t="textAreaTop" r="textAreaRight" b="textAreaBottom"/>
              <a:pathLst>
                <a:path w="21600" h="24143">
                  <a:moveTo>
                    <a:pt x="3600" y="0"/>
                  </a:moveTo>
                  <a:arcTo wR="3600" hR="3600" stAng="16200000" swAng="-5400000"/>
                  <a:lnTo>
                    <a:pt x="0" y="20543"/>
                  </a:lnTo>
                  <a:arcTo wR="3600" hR="3600" stAng="10800000" swAng="-5400000"/>
                  <a:lnTo>
                    <a:pt x="18000" y="24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Театрали-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зованные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игры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19" name="_s261131"/>
            <p:cNvSpPr/>
            <p:nvPr/>
          </p:nvSpPr>
          <p:spPr>
            <a:xfrm>
              <a:off x="4711320" y="3701880"/>
              <a:ext cx="1880280" cy="210168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101680"/>
                <a:gd name="textAreaBottom" fmla="*/ 2009880 h 2101680"/>
              </a:gdLst>
              <a:ahLst/>
              <a:rect l="textAreaLeft" t="textAreaTop" r="textAreaRight" b="textAreaBottom"/>
              <a:pathLst>
                <a:path w="21600" h="24143">
                  <a:moveTo>
                    <a:pt x="3600" y="0"/>
                  </a:moveTo>
                  <a:arcTo wR="3600" hR="3600" stAng="16200000" swAng="-5400000"/>
                  <a:lnTo>
                    <a:pt x="0" y="20543"/>
                  </a:lnTo>
                  <a:arcTo wR="3600" hR="3600" stAng="10800000" swAng="-5400000"/>
                  <a:lnTo>
                    <a:pt x="18000" y="24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Игры-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инсценировки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16" name="_s261135"/>
            <p:cNvSpPr/>
            <p:nvPr/>
          </p:nvSpPr>
          <p:spPr>
            <a:xfrm>
              <a:off x="6904800" y="3701880"/>
              <a:ext cx="1878120" cy="2101680"/>
            </a:xfrm>
            <a:custGeom>
              <a:avLst/>
              <a:gdLst>
                <a:gd name="textAreaLeft" fmla="*/ 91440 w 1878120"/>
                <a:gd name="textAreaRight" fmla="*/ 1786680 w 1878120"/>
                <a:gd name="textAreaTop" fmla="*/ 91440 h 2101680"/>
                <a:gd name="textAreaBottom" fmla="*/ 2010240 h 2101680"/>
              </a:gdLst>
              <a:ahLst/>
              <a:rect l="textAreaLeft" t="textAreaTop" r="textAreaRight" b="textAreaBottom"/>
              <a:pathLst>
                <a:path w="21600" h="24171">
                  <a:moveTo>
                    <a:pt x="3600" y="0"/>
                  </a:moveTo>
                  <a:arcTo wR="3600" hR="3600" stAng="16200000" swAng="-5400000"/>
                  <a:lnTo>
                    <a:pt x="0" y="20571"/>
                  </a:lnTo>
                  <a:arcTo wR="3600" hR="3600" stAng="10800000" swAng="-5400000"/>
                  <a:lnTo>
                    <a:pt x="18000" y="241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Викторины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280" y="810720"/>
            <a:ext cx="800748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ТЕОРЕТИКИ ИГРЫ</a:t>
            </a:r>
            <a:endParaRPr b="0" lang="en-US" sz="4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365200" y="2136600"/>
            <a:ext cx="6089760" cy="39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.В.Выготск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.Б.Элькони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Н.Леонтье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В.Запороже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С.Мухи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24000" y="476280"/>
            <a:ext cx="8458200" cy="5979240"/>
            <a:chOff x="324000" y="476280"/>
            <a:chExt cx="8458200" cy="5979240"/>
          </a:xfrm>
        </p:grpSpPr>
        <p:cxnSp>
          <p:nvCxnSpPr>
            <p:cNvPr id="325" name="_s246800"/>
            <p:cNvCxnSpPr>
              <a:stCxn id="326" idx="1"/>
              <a:endCxn id="327" idx="2"/>
            </p:cNvCxnSpPr>
            <p:nvPr/>
          </p:nvCxnSpPr>
          <p:spPr>
            <a:xfrm rot="10800000">
              <a:off x="2860560" y="1329480"/>
              <a:ext cx="846360" cy="4698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8" name="_s246798"/>
            <p:cNvCxnSpPr>
              <a:stCxn id="329" idx="1"/>
              <a:endCxn id="327" idx="2"/>
            </p:cNvCxnSpPr>
            <p:nvPr/>
          </p:nvCxnSpPr>
          <p:spPr>
            <a:xfrm rot="10800000">
              <a:off x="2860560" y="1329480"/>
              <a:ext cx="846360" cy="342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246797"/>
            <p:cNvCxnSpPr>
              <a:stCxn id="331" idx="1"/>
              <a:endCxn id="327" idx="2"/>
            </p:cNvCxnSpPr>
            <p:nvPr/>
          </p:nvCxnSpPr>
          <p:spPr>
            <a:xfrm rot="10800000">
              <a:off x="2860560" y="1329480"/>
              <a:ext cx="846360" cy="2136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246796"/>
            <p:cNvCxnSpPr>
              <a:stCxn id="333" idx="1"/>
              <a:endCxn id="327" idx="2"/>
            </p:cNvCxnSpPr>
            <p:nvPr/>
          </p:nvCxnSpPr>
          <p:spPr>
            <a:xfrm rot="10800000">
              <a:off x="2860560" y="1329480"/>
              <a:ext cx="846360" cy="854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7" name="_s246792"/>
            <p:cNvSpPr/>
            <p:nvPr/>
          </p:nvSpPr>
          <p:spPr>
            <a:xfrm>
              <a:off x="324000" y="47628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Роль взрослого 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в игровой деятельности детей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3" name="_s246793"/>
            <p:cNvSpPr/>
            <p:nvPr/>
          </p:nvSpPr>
          <p:spPr>
            <a:xfrm>
              <a:off x="3707280" y="175752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Носитель игровых умений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1" name="_s246794"/>
            <p:cNvSpPr/>
            <p:nvPr/>
          </p:nvSpPr>
          <p:spPr>
            <a:xfrm>
              <a:off x="3707280" y="303876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Партнёр в игре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9" name="_s246795"/>
            <p:cNvSpPr/>
            <p:nvPr/>
          </p:nvSpPr>
          <p:spPr>
            <a:xfrm>
              <a:off x="3707280" y="432000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Помощник в организации 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и регуляции игры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_s246799"/>
            <p:cNvSpPr/>
            <p:nvPr/>
          </p:nvSpPr>
          <p:spPr>
            <a:xfrm>
              <a:off x="3707280" y="5601600"/>
              <a:ext cx="506844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Наблюдатель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610920" y="549000"/>
            <a:ext cx="8243640" cy="573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гра сама по себе универсальный стимулятор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лавное, в поддержании игрового интереса – чуткость, наблюдательность педагога, проявление творческого подхода в организации игры, умение заинтересовать ребенка игровым сюжет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84360" y="1273320"/>
            <a:ext cx="7775280" cy="4373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гра – ведущая деятельность в  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период дошкольного возраст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01600" y="1981080"/>
            <a:ext cx="2970360" cy="1981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076720" y="2003400"/>
            <a:ext cx="2951280" cy="194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3240000" cy="242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0560" y="765000"/>
            <a:ext cx="8569080" cy="5616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нцепция дошкольного воспитания определяет игру как самоценную деятельность, дающую дошкольнику свободу выбора, возможность реализовать себя, достичь состояния эмоционального комфорта, причастности к детскому обществу, получить опыт взаимодействия. Именно в игре происходит становление ребенка как личности, его психическое развитие, формирование учебной и трудовой деятель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121040" y="336240"/>
            <a:ext cx="6973560" cy="6250320"/>
            <a:chOff x="1121040" y="336240"/>
            <a:chExt cx="6973560" cy="6250320"/>
          </a:xfrm>
        </p:grpSpPr>
        <p:sp>
          <p:nvSpPr>
            <p:cNvPr id="255" name="_s242770"/>
            <p:cNvSpPr/>
            <p:nvPr/>
          </p:nvSpPr>
          <p:spPr>
            <a:xfrm flipH="1" flipV="1">
              <a:off x="3371400" y="2355840"/>
              <a:ext cx="616680" cy="55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6" name="_s242769"/>
            <p:cNvSpPr/>
            <p:nvPr/>
          </p:nvSpPr>
          <p:spPr>
            <a:xfrm>
              <a:off x="1886040" y="1024200"/>
              <a:ext cx="174420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театрализован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7" name="_s242768"/>
            <p:cNvSpPr/>
            <p:nvPr/>
          </p:nvSpPr>
          <p:spPr>
            <a:xfrm flipH="1">
              <a:off x="2859840" y="3461760"/>
              <a:ext cx="87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8" name="_s242767"/>
            <p:cNvSpPr/>
            <p:nvPr/>
          </p:nvSpPr>
          <p:spPr>
            <a:xfrm>
              <a:off x="1121040" y="2679480"/>
              <a:ext cx="174492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творчески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9" name="_s242766"/>
            <p:cNvSpPr/>
            <p:nvPr/>
          </p:nvSpPr>
          <p:spPr>
            <a:xfrm flipH="1">
              <a:off x="3371400" y="4014720"/>
              <a:ext cx="616680" cy="552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0" name="_s242765"/>
            <p:cNvSpPr/>
            <p:nvPr/>
          </p:nvSpPr>
          <p:spPr>
            <a:xfrm>
              <a:off x="1886040" y="4335120"/>
              <a:ext cx="1744200" cy="1564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познаватель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1" name="_s242764"/>
            <p:cNvSpPr/>
            <p:nvPr/>
          </p:nvSpPr>
          <p:spPr>
            <a:xfrm>
              <a:off x="4605480" y="4243320"/>
              <a:ext cx="0" cy="78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2" name="_s242763"/>
            <p:cNvSpPr/>
            <p:nvPr/>
          </p:nvSpPr>
          <p:spPr>
            <a:xfrm>
              <a:off x="3732840" y="5023080"/>
              <a:ext cx="174492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дидактически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3" name="_s242762"/>
            <p:cNvSpPr/>
            <p:nvPr/>
          </p:nvSpPr>
          <p:spPr>
            <a:xfrm>
              <a:off x="5222160" y="4014720"/>
              <a:ext cx="616680" cy="552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4" name="_s242761"/>
            <p:cNvSpPr/>
            <p:nvPr/>
          </p:nvSpPr>
          <p:spPr>
            <a:xfrm>
              <a:off x="5582880" y="4338000"/>
              <a:ext cx="174420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музыкаль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5" name="_s242760"/>
            <p:cNvSpPr/>
            <p:nvPr/>
          </p:nvSpPr>
          <p:spPr>
            <a:xfrm>
              <a:off x="5477760" y="3461760"/>
              <a:ext cx="87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6" name="_s242759"/>
            <p:cNvSpPr/>
            <p:nvPr/>
          </p:nvSpPr>
          <p:spPr>
            <a:xfrm>
              <a:off x="6349680" y="2679480"/>
              <a:ext cx="174492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подражатель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7" name="_s242758"/>
            <p:cNvSpPr/>
            <p:nvPr/>
          </p:nvSpPr>
          <p:spPr>
            <a:xfrm flipV="1">
              <a:off x="5222160" y="2355840"/>
              <a:ext cx="616680" cy="55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8" name="_s242757"/>
            <p:cNvSpPr/>
            <p:nvPr/>
          </p:nvSpPr>
          <p:spPr>
            <a:xfrm>
              <a:off x="5582880" y="1021320"/>
              <a:ext cx="1744200" cy="1564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сюжет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9" name="_s242756"/>
            <p:cNvSpPr/>
            <p:nvPr/>
          </p:nvSpPr>
          <p:spPr>
            <a:xfrm flipV="1">
              <a:off x="4605480" y="1899720"/>
              <a:ext cx="0" cy="78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0" name="_s242755"/>
            <p:cNvSpPr/>
            <p:nvPr/>
          </p:nvSpPr>
          <p:spPr>
            <a:xfrm>
              <a:off x="3732840" y="336240"/>
              <a:ext cx="174492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подвиж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1" name="_s242754"/>
            <p:cNvSpPr/>
            <p:nvPr/>
          </p:nvSpPr>
          <p:spPr>
            <a:xfrm>
              <a:off x="3732840" y="2682000"/>
              <a:ext cx="1744920" cy="1564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33"/>
                  </a:solidFill>
                  <a:latin typeface="Arial"/>
                </a:rPr>
                <a:t>ВИДЫ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33"/>
                  </a:solidFill>
                  <a:latin typeface="Arial"/>
                </a:rPr>
                <a:t>ИГР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улярность игр среди дет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28680" y="1341360"/>
          <a:ext cx="8515440" cy="53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341360"/>
                    <a:ext cx="8515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 rot="20718600">
            <a:off x="3492360" y="475920"/>
            <a:ext cx="3313080" cy="2932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9713" t="0" r="0" b="1843"/>
          <a:stretch/>
        </p:blipFill>
        <p:spPr>
          <a:xfrm rot="918000">
            <a:off x="536400" y="3479400"/>
            <a:ext cx="3640320" cy="2651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 rot="902400">
            <a:off x="5148360" y="4076280"/>
            <a:ext cx="3363840" cy="2238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2560" y="-544680"/>
            <a:ext cx="8080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89440" cy="2590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16360" cy="2543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4753080" cy="312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ФЕДЕРАЛЬНЫЕ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ГОСУДАРСТВЕННЫЕ             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ТРЕБОВА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  СТРУКТУРЕ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СНОВНОЙ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БЩЕОБРАЗОВАТЕЛЬНОЙ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РОГРАММЫ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ОШКОЛЬНОГО  ОБРАЗОВ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1-04T20:46:57Z</dcterms:modified>
  <cp:revision>35</cp:revision>
  <dc:subject/>
  <dc:title>Стимулирование игрового интереса  как условие и фактор развития дошкольника.</dc:title>
</cp:coreProperties>
</file>