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C47-854E-4B81-9B74-158D9F38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FA4-4150-4BC2-9D11-CD171EC9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4E0-8CC8-4B86-9DB4-CA181C3F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3B3-8522-49AE-8CBC-52A912F1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CC6D-110E-4019-B23D-97041CDA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550F-C816-48A7-AF84-F626CE5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666E-8B7F-40F8-8845-3B7030C9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76BC-5ECF-4DD9-86AA-778D7AD0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4E3E-2A9C-4307-8963-0A218AA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DC20-3D55-4A9D-94BB-AE48039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F23-9801-46BB-BADA-0EB98BE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3D8-8E25-4D07-ABEA-CB483C91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3A1-9261-4000-881D-A5E023BB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24BA-B178-4BE7-85AE-9E8C8B9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E2F2-6F8C-45E9-9B8B-1C70BCF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7099-99F8-4AEE-B51F-CEC4983B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CC3E-9ED6-4556-8A68-38A7407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DB0-E80B-4800-9073-72D5F44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FBA-8ED3-40EA-BAF8-BCB341D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303-D050-404C-AE4E-DD30972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E19-8AC5-4AC5-8AF5-F7CB660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B00-B90B-41AE-9E4C-358BFB4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36C-53E1-43AE-975B-06085A2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7CB-35EF-4765-9993-AC63B4E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D89-7D2D-4905-8A26-37F4C8047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6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8"/>
          <p:cNvGrpSpPr/>
          <p:nvPr/>
        </p:nvGrpSpPr>
        <p:grpSpPr>
          <a:xfrm>
            <a:off x="1152360" y="3895560"/>
            <a:ext cx="5430960" cy="1962360"/>
            <a:chOff x="1152360" y="3895560"/>
            <a:chExt cx="5430960" cy="1962360"/>
          </a:xfrm>
        </p:grpSpPr>
        <p:pic>
          <p:nvPicPr>
            <p:cNvPr id="55" name="Скругленная прямоугольная выноска 8" descr=""/>
            <p:cNvPicPr/>
            <p:nvPr/>
          </p:nvPicPr>
          <p:blipFill>
            <a:blip r:embed="rId6"/>
            <a:stretch/>
          </p:blipFill>
          <p:spPr>
            <a:xfrm>
              <a:off x="1152360" y="3895560"/>
              <a:ext cx="54309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Выноска-облако 7"/>
          <p:cNvGrpSpPr/>
          <p:nvPr/>
        </p:nvGrpSpPr>
        <p:grpSpPr>
          <a:xfrm>
            <a:off x="792000" y="738360"/>
            <a:ext cx="7486920" cy="3071520"/>
            <a:chOff x="792000" y="738360"/>
            <a:chExt cx="7486920" cy="3071520"/>
          </a:xfrm>
        </p:grpSpPr>
        <p:pic>
          <p:nvPicPr>
            <p:cNvPr id="58" name="Выноска-облако 7" descr=""/>
            <p:cNvPicPr/>
            <p:nvPr/>
          </p:nvPicPr>
          <p:blipFill>
            <a:blip r:embed="rId7"/>
            <a:stretch/>
          </p:blipFill>
          <p:spPr>
            <a:xfrm>
              <a:off x="792000" y="738360"/>
              <a:ext cx="748692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9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994-CD7F-4D85-A580-48E90D568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азвития речи детей раннего возрас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85520" y="4005000"/>
            <a:ext cx="522612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оспитатель первой категории: Галиева Светлана Аснаф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ДОУ д/с «Берез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Aser\Desktop\разное\%D0%B2%D0%BE%D1%81%D0%BF%D0%B8%D1%82%D0%B0%D1%82%D0%B5%D0%BB%D1%8C-294x300.png"/>
          <p:cNvPicPr/>
          <p:nvPr/>
        </p:nvPicPr>
        <p:blipFill>
          <a:blip r:embed="rId1"/>
          <a:stretch/>
        </p:blipFill>
        <p:spPr>
          <a:xfrm>
            <a:off x="6126120" y="292428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ая соединительная линия 3"/>
          <p:cNvSpPr/>
          <p:nvPr/>
        </p:nvSpPr>
        <p:spPr>
          <a:xfrm>
            <a:off x="2268360" y="4797360"/>
            <a:ext cx="2951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evolong.ru/3573-thickbox_default/aaa3820.jpg"/>
          <p:cNvPicPr/>
          <p:nvPr/>
        </p:nvPicPr>
        <p:blipFill>
          <a:blip r:embed="rId1"/>
          <a:stretch/>
        </p:blipFill>
        <p:spPr>
          <a:xfrm>
            <a:off x="6300720" y="3857760"/>
            <a:ext cx="2374920" cy="25002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2286000" y="520560"/>
            <a:ext cx="45720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Пальчиковые игры с кольцами Су Дж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684360" y="1773360"/>
            <a:ext cx="6191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два – три – четыре – пять,    /разгибать пальцы по одному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ли пальцы погул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самый сильный, самый толстый и больш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для того, чтоб показы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самый длинный и стоит он в сере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безымянный, он избалованный са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изинчик, хоть и мал, очень ловок и уд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492120" y="476280"/>
            <a:ext cx="638964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ый меш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– шнур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бусинами, пугов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рищеп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maam.ru/upload/blogs/1c609e5e93fc83234a4820c71fa6faf2.jpg.jpg"/>
          <p:cNvPicPr/>
          <p:nvPr/>
        </p:nvPicPr>
        <p:blipFill>
          <a:blip r:embed="rId1"/>
          <a:stretch/>
        </p:blipFill>
        <p:spPr>
          <a:xfrm>
            <a:off x="4427640" y="3141720"/>
            <a:ext cx="4316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1258920" y="476280"/>
            <a:ext cx="655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астоль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68360" y="1628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сказка «Заюшкина избуш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Users\Галиева\Desktop\фото ясли презентации\CIMG4950.JPG"/>
          <p:cNvPicPr/>
          <p:nvPr/>
        </p:nvPicPr>
        <p:blipFill>
          <a:blip r:embed="rId1"/>
          <a:stretch/>
        </p:blipFill>
        <p:spPr>
          <a:xfrm>
            <a:off x="1214280" y="2394000"/>
            <a:ext cx="7215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475920"/>
            <a:ext cx="89647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324000" y="1125360"/>
            <a:ext cx="66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две руки природою д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е драгоценны и ну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дары от жизни приним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их с поклоном возвращ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х руках богатство ост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любовью к ближнему зов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detidoma.net/wp-content/uploads/2014/08/DSC_0142.jpg"/>
          <p:cNvPicPr/>
          <p:nvPr/>
        </p:nvPicPr>
        <p:blipFill>
          <a:blip r:embed="rId1"/>
          <a:stretch/>
        </p:blipFill>
        <p:spPr>
          <a:xfrm>
            <a:off x="5580000" y="4649760"/>
            <a:ext cx="304956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речевую акти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лушать и понимать речь взрослог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й эмоциональный ф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оображение и памя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ать память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ьчиковые игры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86048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й педагог Сухомлинский сказал «Истоки способностей и дарований детей — на кончиках их пальцев». Хотя задолго до этого наши наблюдательные предки заметили, что разминание, поглаживание и движение пальчиков влияют на умственное и речевое развитие малы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6510240" y="438120"/>
            <a:ext cx="2243160" cy="159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файлы\Анимашки\butterfly46.gif"/>
          <p:cNvPicPr/>
          <p:nvPr/>
        </p:nvPicPr>
        <p:blipFill>
          <a:blip r:embed="rId2"/>
          <a:stretch/>
        </p:blipFill>
        <p:spPr>
          <a:xfrm rot="19717200">
            <a:off x="7510320" y="566280"/>
            <a:ext cx="66204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Tanja\Рабочий стол\сад\images (3).jpg"/>
          <p:cNvPicPr/>
          <p:nvPr/>
        </p:nvPicPr>
        <p:blipFill>
          <a:blip r:embed="rId3"/>
          <a:stretch/>
        </p:blipFill>
        <p:spPr>
          <a:xfrm>
            <a:off x="493560" y="4737240"/>
            <a:ext cx="1603440" cy="2028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Tanja\Рабочий стол\сад\PA240027.jpg"/>
          <p:cNvPicPr/>
          <p:nvPr/>
        </p:nvPicPr>
        <p:blipFill>
          <a:blip r:embed="rId4"/>
          <a:stretch/>
        </p:blipFill>
        <p:spPr>
          <a:xfrm>
            <a:off x="6377040" y="491976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ценировка каких-либо рифмованных историй, сказок при помощи паль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84360" y="1916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я мелкую моторику и активизируя тем самым соответствующие отделы мозга, мы активизируем и соседние зоны, отвечающие за речь. Движение  организма и речевая моторика имеют единые механизмы, следовательно, развитие мелкой моторики рук напрямую влияют на 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частью работы по развитию мелкой моторики являются пальчико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иды пальчиковых иг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042920" y="1557360"/>
            <a:ext cx="639144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Пальчиковые игры с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Активные игры со стихотворным сопровож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Игры мани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Пальчиковые игры с элементами самомасс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Пальчиковые игры с музыкальным сопровож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54936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  <a:ea typeface="Arial"/>
              </a:rPr>
              <a:t>Пальчиковые игры с предметами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–</a:t>
            </a: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0" y="1844640"/>
            <a:ext cx="94330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) пальчиковые игры с карандашом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в руках дер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ть я с ним хо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в ладони вз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много пошур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ик я воз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менно каждый пальчик быть послушным нау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Tanja\Рабочий стол\сад\массажные-игры-для-детей.jpg"/>
          <p:cNvPicPr/>
          <p:nvPr/>
        </p:nvPicPr>
        <p:blipFill>
          <a:blip r:embed="rId1"/>
          <a:stretch/>
        </p:blipFill>
        <p:spPr>
          <a:xfrm>
            <a:off x="4095720" y="5334120"/>
            <a:ext cx="1744560" cy="135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Галиева\Desktop\фото ясли презентации\CIMG4922.JPG"/>
          <p:cNvPicPr/>
          <p:nvPr/>
        </p:nvPicPr>
        <p:blipFill>
          <a:blip r:embed="rId2"/>
          <a:stretch/>
        </p:blipFill>
        <p:spPr>
          <a:xfrm>
            <a:off x="4357800" y="1846440"/>
            <a:ext cx="4286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Активные игры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со стихотворным сопровождение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C:\Users\Галиева\Desktop\фото ясли презентации\CIMG4926.JPG"/>
          <p:cNvPicPr/>
          <p:nvPr/>
        </p:nvPicPr>
        <p:blipFill>
          <a:blip r:embed="rId1"/>
          <a:stretch/>
        </p:blipFill>
        <p:spPr>
          <a:xfrm>
            <a:off x="4821120" y="3143160"/>
            <a:ext cx="3965760" cy="30006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1143000" y="1785960"/>
            <a:ext cx="371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листочком жук просну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янулся и встряхну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ик, глазки и у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мыл с капелькой 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л на сонный лес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жужжал ж-ж-ж, и полет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жука не мало де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тел ,полетел, уст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равку сел и усну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1258920" y="476280"/>
            <a:ext cx="65530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речевым сопровожд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468360" y="16286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, 5 будем пальчики счи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гибаем пальчик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улак, а вот ладо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ать кулак и ладошк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дошку села кошка и крадется потихонь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адошке перебирая пальч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вигается другая ладош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мышка там жив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мышку стережет. Мя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 кошка царапать пальчиками ладош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последнее слово быстро спрятать ручки от кошк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324000" y="404640"/>
            <a:ext cx="617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Пальчиковые игры с элементами самомассаж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785880" y="1409760"/>
            <a:ext cx="705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мы используем массажные гладкие и колючие мячики. (Можно катать по ладошке, столу, коврику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 рукой катаю (правой ладонью катаем мячик по ле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д, вперёд его гоня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поглажу я ладошку будто я сметаю крошку. (гладим мячиком ладо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жму его немножко, как сжимает лапу кошка (сжимаем и разжимаем мяч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 я разожму и другой рукой нач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 наш отдохнёт и опять игру начнёт (повторяем то же самое другой рук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Users\Галиева\Desktop\фото ясли презентации\CIMG4889.JPG"/>
          <p:cNvPicPr/>
          <p:nvPr/>
        </p:nvPicPr>
        <p:blipFill>
          <a:blip r:embed="rId1"/>
          <a:stretch/>
        </p:blipFill>
        <p:spPr>
          <a:xfrm>
            <a:off x="3143160" y="4500720"/>
            <a:ext cx="4998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Чебыкина Л.В.</dc:creator>
  <dc:description/>
  <dc:language>en-US</dc:language>
  <cp:lastModifiedBy>Галиева</cp:lastModifiedBy>
  <dcterms:modified xsi:type="dcterms:W3CDTF">2018-12-28T10:11:43Z</dcterms:modified>
  <cp:revision>145</cp:revision>
  <dc:subject/>
  <dc:title>Презентация к докладу</dc:title>
</cp:coreProperties>
</file>