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gif" ContentType="image/gif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E614-B35A-4EE2-8942-6459F218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9579-1652-44BE-BBC2-AFF1AB97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804-9C91-4C9D-9401-FD2B29EF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22C3-324C-4BA3-AA67-C7285E01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8B65-0219-4C61-94A3-FA88B286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FC3F-7B02-46E7-9C70-93DA5A56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6842-6D9C-4AC0-9943-9DA9EF42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9B9B-C178-4767-ABB2-E43D3BEB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4BBF-C815-4CEF-96EC-A1067E26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9E80-76FA-4962-8668-E1743C0A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3AD3-CB97-439F-AA06-AB8F1CB7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AD80-3F28-4306-BE65-DBE438D4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7D05-C7FE-48E0-AC93-E834AFA3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7363-F305-4AB0-97EB-1D8CE202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9984-F1B4-4813-AEBD-F276ABBC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AF97-5506-49D0-8F65-2C6B9538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30AA-C1D4-425E-889B-D14B2C60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2792-FCA8-4BF2-B737-48010743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1018-32D9-4126-885E-C80964AA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E68-DE1D-4470-8591-4C138D8D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1EF9-22BD-4DDB-9386-A2801B9D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6AC-972E-4C74-9253-0B6C7F3B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B5FA-7D38-4DEB-9D30-AA24EDB7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C655-D5E6-4E86-8AAD-E8577F25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7"/>
          <p:cNvGrpSpPr/>
          <p:nvPr/>
        </p:nvGrpSpPr>
        <p:grpSpPr>
          <a:xfrm>
            <a:off x="365040" y="324000"/>
            <a:ext cx="8407440" cy="1260360"/>
            <a:chOff x="365040" y="324000"/>
            <a:chExt cx="8407440" cy="1260360"/>
          </a:xfrm>
        </p:grpSpPr>
        <p:pic>
          <p:nvPicPr>
            <p:cNvPr id="1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365040" y="324000"/>
              <a:ext cx="840744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428760" y="357120"/>
              <a:ext cx="828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6178-C75E-400B-9ADC-B454524A30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Прямоугольник 6"/>
          <p:cNvGrpSpPr/>
          <p:nvPr/>
        </p:nvGrpSpPr>
        <p:grpSpPr>
          <a:xfrm>
            <a:off x="-60480" y="-60480"/>
            <a:ext cx="9271080" cy="7058160"/>
            <a:chOff x="-60480" y="-60480"/>
            <a:chExt cx="9271080" cy="7058160"/>
          </a:xfrm>
        </p:grpSpPr>
        <p:pic>
          <p:nvPicPr>
            <p:cNvPr id="9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60480" y="-60480"/>
              <a:ext cx="9271080" cy="70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Прямоугольник 7"/>
          <p:cNvGrpSpPr/>
          <p:nvPr/>
        </p:nvGrpSpPr>
        <p:grpSpPr>
          <a:xfrm>
            <a:off x="365040" y="324000"/>
            <a:ext cx="8407440" cy="1260360"/>
            <a:chOff x="365040" y="324000"/>
            <a:chExt cx="8407440" cy="12603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365040" y="324000"/>
              <a:ext cx="840744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28760" y="357120"/>
              <a:ext cx="828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Прямоугольник 6"/>
          <p:cNvGrpSpPr/>
          <p:nvPr/>
        </p:nvGrpSpPr>
        <p:grpSpPr>
          <a:xfrm>
            <a:off x="-60480" y="-60480"/>
            <a:ext cx="9271080" cy="7058160"/>
            <a:chOff x="-60480" y="-60480"/>
            <a:chExt cx="9271080" cy="7058160"/>
          </a:xfrm>
        </p:grpSpPr>
        <p:pic>
          <p:nvPicPr>
            <p:cNvPr id="51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60480" y="-60480"/>
              <a:ext cx="9271080" cy="70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Рисунок 6" descr="wallpaper_19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" name="Скругленная прямоугольная выноска 8"/>
          <p:cNvGrpSpPr/>
          <p:nvPr/>
        </p:nvGrpSpPr>
        <p:grpSpPr>
          <a:xfrm>
            <a:off x="1152360" y="3895560"/>
            <a:ext cx="5430960" cy="1962360"/>
            <a:chOff x="1152360" y="3895560"/>
            <a:chExt cx="5430960" cy="1962360"/>
          </a:xfrm>
        </p:grpSpPr>
        <p:pic>
          <p:nvPicPr>
            <p:cNvPr id="55" name="Скругленная прямоугольная выноска 8" descr=""/>
            <p:cNvPicPr/>
            <p:nvPr/>
          </p:nvPicPr>
          <p:blipFill>
            <a:blip r:embed="rId6"/>
            <a:stretch/>
          </p:blipFill>
          <p:spPr>
            <a:xfrm>
              <a:off x="1152360" y="3895560"/>
              <a:ext cx="543096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305000" y="4019400"/>
              <a:ext cx="46767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Выноска-облако 7"/>
          <p:cNvGrpSpPr/>
          <p:nvPr/>
        </p:nvGrpSpPr>
        <p:grpSpPr>
          <a:xfrm>
            <a:off x="792000" y="738360"/>
            <a:ext cx="7486920" cy="3071520"/>
            <a:chOff x="792000" y="738360"/>
            <a:chExt cx="7486920" cy="3071520"/>
          </a:xfrm>
        </p:grpSpPr>
        <p:pic>
          <p:nvPicPr>
            <p:cNvPr id="58" name="Выноска-облако 7" descr=""/>
            <p:cNvPicPr/>
            <p:nvPr/>
          </p:nvPicPr>
          <p:blipFill>
            <a:blip r:embed="rId7"/>
            <a:stretch/>
          </p:blipFill>
          <p:spPr>
            <a:xfrm>
              <a:off x="792000" y="738360"/>
              <a:ext cx="7486920" cy="30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922400" y="1212840"/>
              <a:ext cx="4713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Прямоугольник 9"/>
          <p:cNvSpPr/>
          <p:nvPr/>
        </p:nvSpPr>
        <p:spPr>
          <a:xfrm>
            <a:off x="71280" y="71280"/>
            <a:ext cx="9001440" cy="6715440"/>
          </a:xfrm>
          <a:prstGeom prst="rect">
            <a:avLst/>
          </a:prstGeom>
          <a:noFill/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DCFC-7F28-4B80-8E53-A7C06CE532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Развития речи детей раннего возраст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85520" y="4005000"/>
            <a:ext cx="5226120" cy="20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Воспитатель первой категории: Галиева Светлана Аснаф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ДОУ д/с «Берез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Users\Aser\Desktop\разное\%D0%B2%D0%BE%D1%81%D0%BF%D0%B8%D1%82%D0%B0%D1%82%D0%B5%D0%BB%D1%8C-294x300.png"/>
          <p:cNvPicPr/>
          <p:nvPr/>
        </p:nvPicPr>
        <p:blipFill>
          <a:blip r:embed="rId1"/>
          <a:stretch/>
        </p:blipFill>
        <p:spPr>
          <a:xfrm>
            <a:off x="6126120" y="2924280"/>
            <a:ext cx="3024360" cy="35290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ая соединительная линия 3"/>
          <p:cNvSpPr/>
          <p:nvPr/>
        </p:nvSpPr>
        <p:spPr>
          <a:xfrm>
            <a:off x="2268360" y="4797360"/>
            <a:ext cx="2951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evolong.ru/3573-thickbox_default/aaa3820.jpg"/>
          <p:cNvPicPr/>
          <p:nvPr/>
        </p:nvPicPr>
        <p:blipFill>
          <a:blip r:embed="rId1"/>
          <a:stretch/>
        </p:blipFill>
        <p:spPr>
          <a:xfrm>
            <a:off x="6300720" y="3857760"/>
            <a:ext cx="2374920" cy="25002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1"/>
          <p:cNvSpPr/>
          <p:nvPr/>
        </p:nvSpPr>
        <p:spPr>
          <a:xfrm>
            <a:off x="2286000" y="520560"/>
            <a:ext cx="457200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3826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Gothic"/>
              </a:rPr>
              <a:t>Пальчиковые игры с кольцами Су Дж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684360" y="1773360"/>
            <a:ext cx="619128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– два – три – четыре – пять,    /разгибать пальцы по одному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ли пальцы погул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альчик самый сильный, самый толстый и больш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альчик для того, чтоб показыва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альчик самый длинный и стоит он в серед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альчик безымянный, он избалованный са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изинчик, хоть и мал, очень ловок и уда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492120" y="476280"/>
            <a:ext cx="6389640" cy="30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ый мешоче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– шнуров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бусинами, пугов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прищеп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www.maam.ru/upload/blogs/1c609e5e93fc83234a4820c71fa6faf2.jpg.jpg"/>
          <p:cNvPicPr/>
          <p:nvPr/>
        </p:nvPicPr>
        <p:blipFill>
          <a:blip r:embed="rId1"/>
          <a:stretch/>
        </p:blipFill>
        <p:spPr>
          <a:xfrm>
            <a:off x="4427640" y="3141720"/>
            <a:ext cx="43164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2"/>
          <p:cNvSpPr/>
          <p:nvPr/>
        </p:nvSpPr>
        <p:spPr>
          <a:xfrm>
            <a:off x="1258920" y="476280"/>
            <a:ext cx="65530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382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Настольный теа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468360" y="1628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ая народная сказка «Заюшкина избушк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C:\Users\Галиева\Desktop\фото ясли презентации\CIMG4950.JPG"/>
          <p:cNvPicPr/>
          <p:nvPr/>
        </p:nvPicPr>
        <p:blipFill>
          <a:blip r:embed="rId1"/>
          <a:stretch/>
        </p:blipFill>
        <p:spPr>
          <a:xfrm>
            <a:off x="1214280" y="2394000"/>
            <a:ext cx="72154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79280" y="475920"/>
            <a:ext cx="896472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10"/>
          <p:cNvSpPr/>
          <p:nvPr/>
        </p:nvSpPr>
        <p:spPr>
          <a:xfrm>
            <a:off x="324000" y="1125360"/>
            <a:ext cx="662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две руки природою да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бе драгоценны и нуж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дары от жизни приним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я их с поклоном возвращ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их руках богатство остае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любовью к ближнему зов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http://detidoma.net/wp-content/uploads/2014/08/DSC_0142.jpg"/>
          <p:cNvPicPr/>
          <p:nvPr/>
        </p:nvPicPr>
        <p:blipFill>
          <a:blip r:embed="rId1"/>
          <a:stretch/>
        </p:blipFill>
        <p:spPr>
          <a:xfrm>
            <a:off x="5580000" y="4649760"/>
            <a:ext cx="3049560" cy="2019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чи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речевую актив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слушать и понимать речь взрослог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благоприятный эмоциональный фо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воображение и памя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ать память реб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льчиковые игры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5280" y="186048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ый педагог Сухомлинский сказал «Истоки способностей и дарований детей — на кончиках их пальцев». Хотя задолго до этого наши наблюдательные предки заметили, что разминание, поглаживание и движение пальчиков влияют на умственное и речевое развитие малыш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6510240" y="438120"/>
            <a:ext cx="2243160" cy="159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D:\файлы\Анимашки\butterfly46.gif"/>
          <p:cNvPicPr/>
          <p:nvPr/>
        </p:nvPicPr>
        <p:blipFill>
          <a:blip r:embed="rId2"/>
          <a:stretch/>
        </p:blipFill>
        <p:spPr>
          <a:xfrm rot="19717200">
            <a:off x="7510320" y="566280"/>
            <a:ext cx="662040" cy="68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C:\Documents and Settings\Tanja\Рабочий стол\сад\images (3).jpg"/>
          <p:cNvPicPr/>
          <p:nvPr/>
        </p:nvPicPr>
        <p:blipFill>
          <a:blip r:embed="rId3"/>
          <a:stretch/>
        </p:blipFill>
        <p:spPr>
          <a:xfrm>
            <a:off x="493560" y="4737240"/>
            <a:ext cx="1603440" cy="2028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Documents and Settings\Tanja\Рабочий стол\сад\PA240027.jpg"/>
          <p:cNvPicPr/>
          <p:nvPr/>
        </p:nvPicPr>
        <p:blipFill>
          <a:blip r:embed="rId4"/>
          <a:stretch/>
        </p:blipFill>
        <p:spPr>
          <a:xfrm>
            <a:off x="6377040" y="4919760"/>
            <a:ext cx="2133720" cy="1663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овые игры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инсценировка каких-либо рифмованных историй, сказок при помощи пальце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5"/>
          <p:cNvSpPr/>
          <p:nvPr/>
        </p:nvSpPr>
        <p:spPr>
          <a:xfrm>
            <a:off x="684360" y="1916280"/>
            <a:ext cx="76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я мелкую моторику и активизируя тем самым соответствующие отделы мозга, мы активизируем и соседние зоны, отвечающие за речь. Движение  организма и речевая моторика имеют единые механизмы, следовательно, развитие мелкой моторики рук напрямую влияют на развитие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й частью работы по развитию мелкой моторики являются пальчиковые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иды пальчиковых иг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1042920" y="1557360"/>
            <a:ext cx="639144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1444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Пальчиковые игры с предме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1444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Активные игры со стихотворным сопровожд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1444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Игры мани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1444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Пальчиковые игры с элементами самомасса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-51444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Пальчиковые игры с музыкальным сопровожд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7400" y="549360"/>
            <a:ext cx="8229600" cy="25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7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Gothic"/>
                <a:ea typeface="Arial"/>
              </a:rPr>
              <a:t>Пальчиковые игры с предметами 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  <a:ea typeface="Arial"/>
              </a:rPr>
              <a:t>–</a:t>
            </a:r>
            <a:br>
              <a:rPr sz="20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0" y="1844640"/>
            <a:ext cx="9433080" cy="39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а) пальчиковые игры с карандашом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даш в руках держ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грать я с ним хо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даш в ладони взя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много пошурш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дашик я возь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менно каждый пальчик быть послушным нау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C:\Documents and Settings\Tanja\Рабочий стол\сад\массажные-игры-для-детей.jpg"/>
          <p:cNvPicPr/>
          <p:nvPr/>
        </p:nvPicPr>
        <p:blipFill>
          <a:blip r:embed="rId1"/>
          <a:stretch/>
        </p:blipFill>
        <p:spPr>
          <a:xfrm>
            <a:off x="4095720" y="5334120"/>
            <a:ext cx="1744560" cy="1358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:\Users\Галиева\Desktop\фото ясли презентации\CIMG4922.JPG"/>
          <p:cNvPicPr/>
          <p:nvPr/>
        </p:nvPicPr>
        <p:blipFill>
          <a:blip r:embed="rId2"/>
          <a:stretch/>
        </p:blipFill>
        <p:spPr>
          <a:xfrm>
            <a:off x="4357800" y="1846440"/>
            <a:ext cx="42861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Активные игры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со стихотворным сопровождение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C:\Users\Галиева\Desktop\фото ясли презентации\CIMG4926.JPG"/>
          <p:cNvPicPr/>
          <p:nvPr/>
        </p:nvPicPr>
        <p:blipFill>
          <a:blip r:embed="rId1"/>
          <a:stretch/>
        </p:blipFill>
        <p:spPr>
          <a:xfrm>
            <a:off x="4821120" y="3143160"/>
            <a:ext cx="3965760" cy="30006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1143000" y="1785960"/>
            <a:ext cx="371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листочком жук проснул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янулся и встряхнул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тик, глазки и ус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мыл с капелькой ро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мотрел на сонный лес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зажужжал ж-ж-ж, и полете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жука не мало де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етел ,полетел, уст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равку сел и усну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1258920" y="476280"/>
            <a:ext cx="6553080" cy="16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с речевым сопровожд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468360" y="162864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2, 3, 4, 5 будем пальчики счи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гибаем пальчик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кулак, а вот ладош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казать кулак и ладошку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адошку села кошка и крадется потихонь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ладошке перебирая пальчик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вигается другая ладошк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, мышка там живе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ка мышку стережет. Мяу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к кошка царапать пальчиками ладош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последнее слово быстро спрятать ручки от кошк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2"/>
          <p:cNvSpPr/>
          <p:nvPr/>
        </p:nvSpPr>
        <p:spPr>
          <a:xfrm>
            <a:off x="324000" y="404640"/>
            <a:ext cx="617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3826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Gothic"/>
              </a:rPr>
              <a:t>Пальчиковые игры с элементами самомассаж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4"/>
          <p:cNvSpPr/>
          <p:nvPr/>
        </p:nvSpPr>
        <p:spPr>
          <a:xfrm>
            <a:off x="785880" y="1409760"/>
            <a:ext cx="7057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мы используем массажные гладкие и колючие мячики. (Можно катать по ладошке, столу, коврику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бок рукой катаю (правой ладонью катаем мячик по лев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д, вперёд его гоня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 поглажу я ладошку будто я сметаю крошку. (гладим мячиком ладон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ожму его немножко, как сжимает лапу кошка (сжимаем и разжимаем мячи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бок я разожму и другой рукой нач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бок наш отдохнёт и опять игру начнёт (повторяем то же самое другой рук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C:\Users\Галиева\Desktop\фото ясли презентации\CIMG4889.JPG"/>
          <p:cNvPicPr/>
          <p:nvPr/>
        </p:nvPicPr>
        <p:blipFill>
          <a:blip r:embed="rId1"/>
          <a:stretch/>
        </p:blipFill>
        <p:spPr>
          <a:xfrm>
            <a:off x="3143160" y="4500720"/>
            <a:ext cx="499896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7:45:17Z</dcterms:created>
  <dc:creator>Чебыкина Л.В.</dc:creator>
  <dc:description/>
  <dc:language>en-US</dc:language>
  <cp:lastModifiedBy>Галиева</cp:lastModifiedBy>
  <dcterms:modified xsi:type="dcterms:W3CDTF">2018-12-28T10:11:43Z</dcterms:modified>
  <cp:revision>145</cp:revision>
  <dc:subject/>
  <dc:title>Презентация к докладу</dc:title>
</cp:coreProperties>
</file>