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13D-0B5E-4947-8F14-260F6E46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7C5-830E-43B4-8CE7-B0267DD7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10A-0C21-468B-A3FC-793C956F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2DF-1509-4DDD-BADF-7348CC06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77F9-5976-48DB-BC20-493438E4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179-A9E1-4B2D-BEA2-0B41E38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4D52-F434-4B9F-A9A7-A0B29AE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A8A-A4CE-42C7-ADFB-84E9B6F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356C-F1C7-430D-8C11-CEE41BD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200-5F30-4249-90AC-A81A9DB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D98-B883-4241-B72C-6486457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04D-585F-41B0-9603-82509FC9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877C-5753-4B12-BCA6-68283A4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CFC1-CCBC-4006-9FFB-AEE8042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8CCF-1B55-4E29-BD23-70F7958D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B2E-34D9-4E8B-B45C-27AC0A1E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DBF-BEE2-451F-A693-FC6DDE6A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2E0-6CD0-40E1-9361-6C2DF38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2E2-1D2A-4E51-A7B2-E5C3329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506-F1C4-4220-A5FC-AB7647A4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9C5-816C-4DD5-AFE1-B2830B1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D68-961D-433F-B870-F14992E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1C9-18F0-4FF9-98AE-0CD615E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B26-F95B-4197-80FF-5503F8DE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A85A-9C03-4201-B9E9-7DE2573FEA0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FB0-0A53-4E11-BCA0-352C0B75C6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1440" y="988560"/>
            <a:ext cx="83088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ФРАЗЕОЛОГИЗМЫ С КОМПОНЕНТОМ «СОБАКА» В РУССКОМ И АНГЛИЙСКОМ ЯЗЫКА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1972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тор  работы: Кругова Валерия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8 класс, МБОУ «Мазуров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ководитель: Лавринова Н.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151080" y="570564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зуров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sleeping dogs lie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е буди лихо, пока оно тих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dog has its day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будет и на нашей улице празд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the dogs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дти к чертя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 doesn’t eat dog 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волк волка не съест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og‘s dinner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беспорядок, бард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l off the dog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менить тему разгов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разеологизмы с одинаковым знач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sleeping dogs li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не будите спящую соба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re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устал, как соба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ght like cats and dog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жить, как кошка с собак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 in the manger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а на се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a dog with its tail tucked under -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  собака с поджатым хвос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Наталья\Desktop\КОНФЕРЕНЦИЯ 2018\340132_vot-gde-sobaka-zaryita-.jpg"/>
          <p:cNvPicPr/>
          <p:nvPr/>
        </p:nvPicPr>
        <p:blipFill>
          <a:blip r:embed="rId1"/>
          <a:stretch/>
        </p:blipFill>
        <p:spPr>
          <a:xfrm>
            <a:off x="228600" y="228600"/>
            <a:ext cx="7391520" cy="5486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533520" y="5943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т в чем дело, именно в этом истинная прич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Наталья\Desktop\КОНФЕРЕНЦИЯ 2018\Собака\-v9ezyy0h8Q.jpg"/>
          <p:cNvPicPr/>
          <p:nvPr/>
        </p:nvPicPr>
        <p:blipFill>
          <a:blip r:embed="rId1"/>
          <a:stretch/>
        </p:blipFill>
        <p:spPr>
          <a:xfrm>
            <a:off x="304920" y="228600"/>
            <a:ext cx="7391160" cy="5486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011240" y="601992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ливной дождь, льет как из вед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114300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к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685800" y="2333520"/>
            <a:ext cx="89154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Знаете ли вы, что такое фразеология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Часто ли вы используете в своей речи фразеологизмы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акие фразеологизмы с компонентом«собака» вы знаете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Зачем нужно использовать фразеологизмы в своей речи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ведите английские фразеологизмы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ery dog has its day –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ork like a dog -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og days –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raining like cats and dogs -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114300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к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838080" y="233352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Знаете ли вы, что такое фразеология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Часто ли вы используете в своей речи фразеологизмы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акие фразеологизмы с компонентом«собака» вы знаете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Зачем нужно использовать фразеологизмы в своей речи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ведите английские фразеологизмы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ery dog has its day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удет и на нашей улице праздник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ork like a dog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калывать, пахать как лошад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og days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ые жаркие летние дн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raining like cats and dogs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ьет как из ведр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Заключ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ким образом, в ходе написания исследовательской работы нами были рассмотрены понятие и особенности фразеологических единиц и выявлен  уровень  их понимания  учащимися нашей школы и частоты их использования в реч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практической части нашей работы показали, что учащиеся нашей школы достаточно  редко используют в своей речи идиомы, хотя они делают нашу речь более красочно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 переводе им трудно уловить смысл выражений, что усложняет понимание фраз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ы надеемся, что наша работа поможет в изучении английского языка и школьники хотя бы попытаются использовать такие удивительные обороты в своей практ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Наталья\Desktop\КОНФЕРЕНЦИЯ 2018\Собака\68689475d667ee6e81e06a79ea4561ad.jpg"/>
          <p:cNvPicPr/>
          <p:nvPr/>
        </p:nvPicPr>
        <p:blipFill>
          <a:blip r:embed="rId1"/>
          <a:stretch/>
        </p:blipFill>
        <p:spPr>
          <a:xfrm>
            <a:off x="152280" y="533520"/>
            <a:ext cx="8820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Наталья\Desktop\КОНФЕРЕНЦИЯ 2018\207026367_e53e63104d3bbb3c3d289f5e83ba5f6f_800.jpg"/>
          <p:cNvPicPr/>
          <p:nvPr/>
        </p:nvPicPr>
        <p:blipFill>
          <a:blip r:embed="rId1"/>
          <a:stretch/>
        </p:blipFill>
        <p:spPr>
          <a:xfrm>
            <a:off x="3468600" y="304920"/>
            <a:ext cx="5675400" cy="372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Наталья\Desktop\КОНФЕРЕНЦИЯ 2018\prichiny-byt-blagodarnym-vashej-sobake-21.jpg"/>
          <p:cNvPicPr/>
          <p:nvPr/>
        </p:nvPicPr>
        <p:blipFill>
          <a:blip r:embed="rId2"/>
          <a:stretch/>
        </p:blipFill>
        <p:spPr>
          <a:xfrm>
            <a:off x="152280" y="152280"/>
            <a:ext cx="3997440" cy="502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Наталья\Desktop\КОНФЕРЕНЦИЯ 2018\s-hozyaykoy.jpg"/>
          <p:cNvPicPr/>
          <p:nvPr/>
        </p:nvPicPr>
        <p:blipFill>
          <a:blip r:embed="rId3"/>
          <a:stretch/>
        </p:blipFill>
        <p:spPr>
          <a:xfrm>
            <a:off x="2362320" y="3124080"/>
            <a:ext cx="53337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Цель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2286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сследование и сравнение фразеологизмов с компонентом «собака» в русском и английском язык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дачи исследовательской работы</a:t>
            </a: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зучить фразеологизмы (идиомы) как устойчивые соче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Определить их характерные черты, сравнить особенности значений русских и английских иди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ыявить уровень понимания английских идиом и частоту их использования учащимися МБОУ «Мазуровская СОШ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762120" y="24382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разеологические единицы английского языка с компонентом «собак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зеология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учает устойчивые речевые обороты и выражения, которые воспроизводятся в речи как готовые и целостные единицы (считать ворон, остаться с носом, бить баклуши, жить как кошка с собакой и т.д.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C:\Users\Наталья\Desktop\КОНФЕРЕНЦИЯ 2018\Собака\koshka_sobaka.jpg"/>
          <p:cNvPicPr/>
          <p:nvPr/>
        </p:nvPicPr>
        <p:blipFill>
          <a:blip r:embed="rId1"/>
          <a:stretch/>
        </p:blipFill>
        <p:spPr>
          <a:xfrm>
            <a:off x="5334120" y="42670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1" lang="ru-RU" sz="9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+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Щенячьи не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чья преда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вероногий д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живет как на соб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у съесть (в каком-либо дел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Знать) где собака зары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39040" y="1062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 Antiqua"/>
              </a:rPr>
              <a:t>-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2096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у под х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с с тоб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лой (голодный, уставший) как соба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е – собачья смер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ушь собач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лая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 цепи сорва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обачи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шать всех собак (на кого-либо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8-03-06T10:28:52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