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D98-0C02-4CB6-BAC2-E236D327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953-D57E-4830-BA77-B25E077C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389-5024-4CC6-BA3A-81D0B8F7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928-FA91-47A7-BB30-E060FA63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3F88-DA9C-42F0-AF33-F12AC662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2C6-503D-4123-B1A5-2F51A8D6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423-8A39-47B1-B948-4644E313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69CF-850D-40B3-9592-27BE03B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7998-B153-4BA1-888F-65388FBB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FC04-DBE6-4163-B09E-8EA26E9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082-8247-44D5-9F5C-33B0809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656-4620-4C4A-96E9-1E486FD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F536-8795-4685-A5DD-6AB81B2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C77B-343D-4F88-92B9-A372D7D2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CB1E-FC58-4197-88BD-BAC4C2A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A8D-AA27-4F89-87B9-838449F8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16C-6882-4659-902A-2710FF79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888-6865-44AD-BA7E-96E89235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EE3-7034-45A6-BA2E-8B1F5AD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8A9-A1E0-438F-AAE5-FC47613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AF7-6F28-4E70-A9FE-0FB94E2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A20-85A3-4AC9-9A88-B97C0CF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538-3248-429D-8548-1CAAC8E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D55-22AB-46C2-94B2-1809CBD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91F-4B2E-400D-BF17-1B9866B7030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468-BB15-40AA-84F7-0729785BD9C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1440" y="988560"/>
            <a:ext cx="83088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ФРАЗЕОЛОГИЗМЫ С КОМПОНЕНТОМ «СОБАКА» В РУССКОМ И АНГЛИЙСКОМ ЯЗЫКА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1972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тор  работы: Кругова Валерия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8 класс, МБОУ «Мазуров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уководитель: Лавринова Н.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151080" y="570564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зуров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sleeping dogs lie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е буди лихо, пока оно тих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dog has its day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будет и на нашей улице празд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the dogs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дти к чертя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 doesn’t eat dog 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волк волка не съест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og‘s dinner 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беспорядок, бард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l off the dog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менить тему разгов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разеологизмы с одинаковым знач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 sleeping dogs li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не будите спящую соба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re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устал, как соба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ght like cats and dog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жить, как кошка с собак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 in the manger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а на се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a dog with its tail tucked under -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  собака с поджатым хвост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Наталья\Desktop\КОНФЕРЕНЦИЯ 2018\340132_vot-gde-sobaka-zaryita-.jpg"/>
          <p:cNvPicPr/>
          <p:nvPr/>
        </p:nvPicPr>
        <p:blipFill>
          <a:blip r:embed="rId1"/>
          <a:stretch/>
        </p:blipFill>
        <p:spPr>
          <a:xfrm>
            <a:off x="228600" y="228600"/>
            <a:ext cx="7391520" cy="5486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533520" y="5943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т в чем дело, именно в этом истинная прич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Наталья\Desktop\КОНФЕРЕНЦИЯ 2018\Собака\-v9ezyy0h8Q.jpg"/>
          <p:cNvPicPr/>
          <p:nvPr/>
        </p:nvPicPr>
        <p:blipFill>
          <a:blip r:embed="rId1"/>
          <a:stretch/>
        </p:blipFill>
        <p:spPr>
          <a:xfrm>
            <a:off x="304920" y="228600"/>
            <a:ext cx="7391160" cy="5486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011240" y="601992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ливной дождь, льет как из вед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114300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к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685800" y="2333520"/>
            <a:ext cx="89154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Знаете ли вы, что такое фразеология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Часто ли вы используете в своей речи фразеологизмы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акие фразеологизмы с компонентом«собака» вы знаете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Зачем нужно использовать фразеологизмы в своей речи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ведите английские фразеологизмы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ery dog has its day –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ork like a dog -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og days –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raining like cats and dogs -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114300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к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838080" y="233352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Знаете ли вы, что такое фразеология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Часто ли вы используете в своей речи фразеологизмы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акие фразеологизмы с компонентом«собака» вы знаете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Зачем нужно использовать фразеологизмы в своей речи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ведите английские фразеологизмы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very dog has its day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удет и на нашей улице праздник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ork like a dog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калывать, пахать как лошад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og days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ые жаркие летние дн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raining like cats and dogs – </a:t>
            </a: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ьет как из ведр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Заключ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ким образом, в ходе написания исследовательской работы нами были рассмотрены понятие и особенности фразеологических единиц и выявлен  уровень  их понимания  учащимися нашей школы и частоты их использования в реч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практической части нашей работы показали, что учащиеся нашей школы достаточно  редко используют в своей речи идиомы, хотя они делают нашу речь более красочно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 переводе им трудно уловить смысл выражений, что усложняет понимание фраз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ы надеемся, что наша работа поможет в изучении английского языка и школьники хотя бы попытаются использовать такие удивительные обороты в своей практ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Наталья\Desktop\КОНФЕРЕНЦИЯ 2018\Собака\68689475d667ee6e81e06a79ea4561ad.jpg"/>
          <p:cNvPicPr/>
          <p:nvPr/>
        </p:nvPicPr>
        <p:blipFill>
          <a:blip r:embed="rId1"/>
          <a:stretch/>
        </p:blipFill>
        <p:spPr>
          <a:xfrm>
            <a:off x="152280" y="533520"/>
            <a:ext cx="8820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Наталья\Desktop\КОНФЕРЕНЦИЯ 2018\207026367_e53e63104d3bbb3c3d289f5e83ba5f6f_800.jpg"/>
          <p:cNvPicPr/>
          <p:nvPr/>
        </p:nvPicPr>
        <p:blipFill>
          <a:blip r:embed="rId1"/>
          <a:stretch/>
        </p:blipFill>
        <p:spPr>
          <a:xfrm>
            <a:off x="3468600" y="304920"/>
            <a:ext cx="5675400" cy="372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Наталья\Desktop\КОНФЕРЕНЦИЯ 2018\prichiny-byt-blagodarnym-vashej-sobake-21.jpg"/>
          <p:cNvPicPr/>
          <p:nvPr/>
        </p:nvPicPr>
        <p:blipFill>
          <a:blip r:embed="rId2"/>
          <a:stretch/>
        </p:blipFill>
        <p:spPr>
          <a:xfrm>
            <a:off x="152280" y="152280"/>
            <a:ext cx="3997440" cy="502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Наталья\Desktop\КОНФЕРЕНЦИЯ 2018\s-hozyaykoy.jpg"/>
          <p:cNvPicPr/>
          <p:nvPr/>
        </p:nvPicPr>
        <p:blipFill>
          <a:blip r:embed="rId3"/>
          <a:stretch/>
        </p:blipFill>
        <p:spPr>
          <a:xfrm>
            <a:off x="2362320" y="3124080"/>
            <a:ext cx="53337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Цель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2286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сследование и сравнение фразеологизмов с компонентом «собака» в русском и английском язык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дачи исследовательской работы</a:t>
            </a:r>
            <a:r>
              <a:rPr b="1" lang="ru-RU" sz="36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зучить фразеологизмы (идиомы) как устойчивые соче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Определить их характерные черты, сравнить особенности значений русских и английских иди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ыявить уровень понимания английских идиом и частоту их использования учащимися МБОУ «Мазуровская СОШ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762120" y="24382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разеологические единицы английского языка с компонентом «собак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зеология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учает устойчивые речевые обороты и выражения, которые воспроизводятся в речи как готовые и целостные единицы (считать ворон, остаться с носом, бить баклуши, жить как кошка с собакой и т.д.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C:\Users\Наталья\Desktop\КОНФЕРЕНЦИЯ 2018\Собака\koshka_sobaka.jpg"/>
          <p:cNvPicPr/>
          <p:nvPr/>
        </p:nvPicPr>
        <p:blipFill>
          <a:blip r:embed="rId1"/>
          <a:stretch/>
        </p:blipFill>
        <p:spPr>
          <a:xfrm>
            <a:off x="5334120" y="42670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1" lang="ru-RU" sz="9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+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Щенячьи не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чья преда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вероногий д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живет как на соб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у съесть (в каком-либо дел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Знать) где собака зары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39040" y="1062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 Antiqua"/>
              </a:rPr>
              <a:t>-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2096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у под х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с с тоб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лой (голодный, уставший) как соба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аке – собачья смер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ушь собач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лая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 цепи сорва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обачи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шать всех собак (на кого-либо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8-03-06T10:28:52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