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78D-89E3-4899-A8FE-1CDA2217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561B-B972-4111-A820-2A64E093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BB5-3FB3-4C1E-BC6D-174D5094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06FF-62D4-4B51-8CBA-E22180B1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AC1F-3E2E-47AA-877C-82AB87B1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3FF-12D2-4C56-8447-3B608F09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86A-A45F-4F37-B800-010E5E23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7C9-9F7C-4618-AF6E-A297AFC3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ADB-401C-4E73-A9E9-BC11BF9E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C52A-DC64-4131-A5F0-264D5E14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9CB-07E9-4B5A-892B-DA7831B4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C987-864B-4309-9A8B-B80EE2F9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EF5E-27ED-4E31-862E-7CE8EE4BC5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116000" y="3920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елия современных мастеров Борка и Мез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 (394x288, 170Kb)"/>
          <p:cNvPicPr/>
          <p:nvPr/>
        </p:nvPicPr>
        <p:blipFill>
          <a:blip r:embed="rId1"/>
          <a:stretch/>
        </p:blipFill>
        <p:spPr>
          <a:xfrm>
            <a:off x="539640" y="1241280"/>
            <a:ext cx="4032360" cy="2457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4 (417x525, 261Kb)"/>
          <p:cNvPicPr/>
          <p:nvPr/>
        </p:nvPicPr>
        <p:blipFill>
          <a:blip r:embed="rId2"/>
          <a:stretch/>
        </p:blipFill>
        <p:spPr>
          <a:xfrm>
            <a:off x="395280" y="3645000"/>
            <a:ext cx="2322360" cy="2923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5148360" y="1197000"/>
            <a:ext cx="3671640" cy="2625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Картинки по запросу мезенская роспись изделия"/>
          <p:cNvPicPr/>
          <p:nvPr/>
        </p:nvPicPr>
        <p:blipFill>
          <a:blip r:embed="rId4"/>
          <a:stretch/>
        </p:blipFill>
        <p:spPr>
          <a:xfrm>
            <a:off x="5364000" y="3933720"/>
            <a:ext cx="3095640" cy="275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32000" y="-36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ходство и различие  рос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900000" y="907920"/>
            <a:ext cx="2735280" cy="5732640"/>
          </a:xfrm>
          <a:prstGeom prst="rect">
            <a:avLst/>
          </a:prstGeom>
          <a:ln w="0">
            <a:noFill/>
          </a:ln>
        </p:spPr>
      </p:pic>
      <p:pic>
        <p:nvPicPr>
          <p:cNvPr id="72" name="preview-image" descr="a10669db92e8db6ec4a60d0ed086e7b4"/>
          <p:cNvPicPr/>
          <p:nvPr/>
        </p:nvPicPr>
        <p:blipFill>
          <a:blip r:embed="rId2"/>
          <a:stretch/>
        </p:blipFill>
        <p:spPr>
          <a:xfrm>
            <a:off x="4643280" y="907920"/>
            <a:ext cx="338472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чение геометрических знаков орнамента Мез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Mwvd2OWIAAtrzw"/>
          <p:cNvPicPr/>
          <p:nvPr/>
        </p:nvPicPr>
        <p:blipFill>
          <a:blip r:embed="rId1"/>
          <a:stretch/>
        </p:blipFill>
        <p:spPr>
          <a:xfrm>
            <a:off x="971640" y="1220760"/>
            <a:ext cx="4011480" cy="4416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5937120" y="1317600"/>
            <a:ext cx="251784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55280" y="188640"/>
            <a:ext cx="8064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 геометрического орн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з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image011"/>
          <p:cNvPicPr/>
          <p:nvPr/>
        </p:nvPicPr>
        <p:blipFill>
          <a:blip r:embed="rId1"/>
          <a:stretch/>
        </p:blipFill>
        <p:spPr>
          <a:xfrm>
            <a:off x="1187280" y="1036800"/>
            <a:ext cx="3384720" cy="2608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ros40"/>
          <p:cNvPicPr/>
          <p:nvPr/>
        </p:nvPicPr>
        <p:blipFill>
          <a:blip r:embed="rId2"/>
          <a:stretch/>
        </p:blipFill>
        <p:spPr>
          <a:xfrm>
            <a:off x="4859280" y="1052640"/>
            <a:ext cx="3456000" cy="2601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150928195808"/>
          <p:cNvPicPr/>
          <p:nvPr/>
        </p:nvPicPr>
        <p:blipFill>
          <a:blip r:embed="rId3"/>
          <a:stretch/>
        </p:blipFill>
        <p:spPr>
          <a:xfrm>
            <a:off x="684360" y="4187880"/>
            <a:ext cx="2950920" cy="267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1742"/>
          <p:cNvPicPr/>
          <p:nvPr/>
        </p:nvPicPr>
        <p:blipFill>
          <a:blip r:embed="rId4"/>
          <a:stretch/>
        </p:blipFill>
        <p:spPr>
          <a:xfrm>
            <a:off x="3851280" y="4149720"/>
            <a:ext cx="2492280" cy="2708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мезенская-роспись-знаки-плодородия"/>
          <p:cNvPicPr/>
          <p:nvPr/>
        </p:nvPicPr>
        <p:blipFill>
          <a:blip r:embed="rId5"/>
          <a:stretch/>
        </p:blipFill>
        <p:spPr>
          <a:xfrm>
            <a:off x="6516720" y="4221000"/>
            <a:ext cx="23702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32000" y="-360"/>
            <a:ext cx="6400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ецкие уг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image012"/>
          <p:cNvPicPr/>
          <p:nvPr/>
        </p:nvPicPr>
        <p:blipFill>
          <a:blip r:embed="rId1"/>
          <a:stretch/>
        </p:blipFill>
        <p:spPr>
          <a:xfrm>
            <a:off x="1150920" y="1508040"/>
            <a:ext cx="68421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11600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зенские ром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мезенская-роспись-знаки-плодородия"/>
          <p:cNvPicPr/>
          <p:nvPr/>
        </p:nvPicPr>
        <p:blipFill>
          <a:blip r:embed="rId1"/>
          <a:stretch/>
        </p:blipFill>
        <p:spPr>
          <a:xfrm>
            <a:off x="1619280" y="1268280"/>
            <a:ext cx="54705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4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ок                                       Мез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4e589c2173ef8b166a79d92c6a2bd06f_i-4164"/>
          <p:cNvPicPr/>
          <p:nvPr/>
        </p:nvPicPr>
        <p:blipFill>
          <a:blip r:embed="rId1"/>
          <a:stretch/>
        </p:blipFill>
        <p:spPr>
          <a:xfrm>
            <a:off x="250920" y="1341360"/>
            <a:ext cx="4032000" cy="410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Похожее изображение"/>
          <p:cNvPicPr/>
          <p:nvPr/>
        </p:nvPicPr>
        <p:blipFill>
          <a:blip r:embed="rId2"/>
          <a:stretch/>
        </p:blipFill>
        <p:spPr>
          <a:xfrm>
            <a:off x="4572000" y="134136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32000" y="0"/>
            <a:ext cx="6400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нистые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з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74883291_boreckaya_rospis_7"/>
          <p:cNvPicPr/>
          <p:nvPr/>
        </p:nvPicPr>
        <p:blipFill>
          <a:blip r:embed="rId1"/>
          <a:stretch/>
        </p:blipFill>
        <p:spPr>
          <a:xfrm>
            <a:off x="971640" y="1413000"/>
            <a:ext cx="6913440" cy="2363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1742"/>
          <p:cNvPicPr/>
          <p:nvPr/>
        </p:nvPicPr>
        <p:blipFill>
          <a:blip r:embed="rId2"/>
          <a:stretch/>
        </p:blipFill>
        <p:spPr>
          <a:xfrm>
            <a:off x="4859280" y="5013360"/>
            <a:ext cx="4284720" cy="1190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150928195808"/>
          <p:cNvPicPr/>
          <p:nvPr/>
        </p:nvPicPr>
        <p:blipFill>
          <a:blip r:embed="rId3"/>
          <a:stretch/>
        </p:blipFill>
        <p:spPr>
          <a:xfrm>
            <a:off x="324000" y="5013360"/>
            <a:ext cx="45352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189000"/>
            <a:ext cx="640080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я гипотеза  подтвердилась: 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еометрического орнамен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орецкой и мезенской росписи есть сходства, а именно наличие геометрических фигур, таких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ямые и волнистые лин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четко очерченный кру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ромбы, квадраты, треугольн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присутствует симметр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40328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менитые северные пряники коз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Картинки по запросу козуля пряник мезень"/>
          <p:cNvPicPr/>
          <p:nvPr/>
        </p:nvPicPr>
        <p:blipFill>
          <a:blip r:embed="rId1"/>
          <a:stretch/>
        </p:blipFill>
        <p:spPr>
          <a:xfrm>
            <a:off x="755640" y="836640"/>
            <a:ext cx="763272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1052280"/>
            <a:ext cx="640080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-рес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s://ru.wikipedia.org/wiki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</a:rPr>
              <a:t>https://www.google.ru=иллюст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s://go.mail.ru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</a:rPr>
              <a:t>иллюст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32000" y="333000"/>
            <a:ext cx="64008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опроса школьников «Есть ли сходства в орнаме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ецкой и мезенской росписи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73486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ходство и различи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метрическог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намент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ецкой и мезенской роспис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3200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 муниципальн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Город Архангельск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редняя  школа № 35 имени Героя Советского Союза П.И.Галуш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курс исследовательских работ и проектов младших школьников «Я исследовател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80-летие со дня образования Архангель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4000" y="620280"/>
            <a:ext cx="7127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 выяснить, есть ли сходство и различие геометрического орнамента борецкой и мезенской росписе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87280" y="1341000"/>
            <a:ext cx="6400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изучить литературу по данной теме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собрать необходимый материал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сравнить фрагмент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еометрического орнамента мезенской и борецкой росписей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сделать выв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981000"/>
            <a:ext cx="64008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ипотеза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предположим, что у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ометрического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намента борецкой и мезенской росписи есть сход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0328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ние школы живописи и обучения грамоте при монастыр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Картинки по запросу древние школы живописи при монастырях"/>
          <p:cNvPicPr/>
          <p:nvPr/>
        </p:nvPicPr>
        <p:blipFill>
          <a:blip r:embed="rId1"/>
          <a:stretch/>
        </p:blipFill>
        <p:spPr>
          <a:xfrm>
            <a:off x="250920" y="836640"/>
            <a:ext cx="867564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7636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рфа Борец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Картинки по запросу марфа посадница"/>
          <p:cNvPicPr/>
          <p:nvPr/>
        </p:nvPicPr>
        <p:blipFill>
          <a:blip r:embed="rId1"/>
          <a:stretch/>
        </p:blipFill>
        <p:spPr>
          <a:xfrm>
            <a:off x="503280" y="876240"/>
            <a:ext cx="8137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34800" y="334800"/>
            <a:ext cx="8474400" cy="6188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ок                                               Мезен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76_s (459x309, 25Kb)"/>
          <p:cNvPicPr/>
          <p:nvPr/>
        </p:nvPicPr>
        <p:blipFill>
          <a:blip r:embed="rId1"/>
          <a:stretch/>
        </p:blipFill>
        <p:spPr>
          <a:xfrm>
            <a:off x="179280" y="404640"/>
            <a:ext cx="4176720" cy="281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xNUwo"/>
          <p:cNvPicPr/>
          <p:nvPr/>
        </p:nvPicPr>
        <p:blipFill>
          <a:blip r:embed="rId2"/>
          <a:stretch/>
        </p:blipFill>
        <p:spPr>
          <a:xfrm>
            <a:off x="1403280" y="3860640"/>
            <a:ext cx="1852560" cy="2997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61527fb30daea71cbf0789b27801933c (600x450, 274Kb)"/>
          <p:cNvPicPr/>
          <p:nvPr/>
        </p:nvPicPr>
        <p:blipFill>
          <a:blip r:embed="rId3"/>
          <a:stretch/>
        </p:blipFill>
        <p:spPr>
          <a:xfrm>
            <a:off x="4859280" y="333360"/>
            <a:ext cx="3960720" cy="2981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mezenskaya-rospis-02"/>
          <p:cNvPicPr/>
          <p:nvPr/>
        </p:nvPicPr>
        <p:blipFill>
          <a:blip r:embed="rId4"/>
          <a:stretch/>
        </p:blipFill>
        <p:spPr>
          <a:xfrm>
            <a:off x="5435640" y="3716280"/>
            <a:ext cx="23893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1T21:22:33Z</dcterms:created>
  <dc:creator>1</dc:creator>
  <dc:description/>
  <dc:language>en-US</dc:language>
  <cp:lastModifiedBy>АУШЕВА </cp:lastModifiedBy>
  <dcterms:modified xsi:type="dcterms:W3CDTF">2019-01-04T15:03:17Z</dcterms:modified>
  <cp:revision>13</cp:revision>
  <dc:subject/>
  <dc:title>Слайд 1</dc:title>
</cp:coreProperties>
</file>