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014-043A-4547-BF99-E5F9B43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ADC-DA32-4498-9A07-B3C692D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007-978C-4E3A-B3F9-B186BAAE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350-51C8-4365-8B37-56E01B99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E25-0727-4492-B9F3-47836D3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47A-9528-47D0-8E9D-5CAE286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9BF-28DA-45B5-9F7B-500428A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6C3-7FC5-41DE-911F-20FA0843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A68-D6F8-4C79-AB65-A35E428B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4F0-0C07-4F7E-8750-E921D01B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1BE-12F2-4B97-8928-6EE8AB1D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A6E-2E70-458C-9AD9-269D9C4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3A06-6E9C-4FC0-9BDD-742D9A628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116000" y="3920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 современных мастеров Борка и Мез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 (394x288, 170Kb)"/>
          <p:cNvPicPr/>
          <p:nvPr/>
        </p:nvPicPr>
        <p:blipFill>
          <a:blip r:embed="rId1"/>
          <a:stretch/>
        </p:blipFill>
        <p:spPr>
          <a:xfrm>
            <a:off x="539640" y="1241280"/>
            <a:ext cx="4032360" cy="24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4 (417x525, 261Kb)"/>
          <p:cNvPicPr/>
          <p:nvPr/>
        </p:nvPicPr>
        <p:blipFill>
          <a:blip r:embed="rId2"/>
          <a:stretch/>
        </p:blipFill>
        <p:spPr>
          <a:xfrm>
            <a:off x="395280" y="3645000"/>
            <a:ext cx="2322360" cy="29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671640" cy="262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Картинки по запросу мезенская роспись изделия"/>
          <p:cNvPicPr/>
          <p:nvPr/>
        </p:nvPicPr>
        <p:blipFill>
          <a:blip r:embed="rId4"/>
          <a:stretch/>
        </p:blipFill>
        <p:spPr>
          <a:xfrm>
            <a:off x="5364000" y="3933720"/>
            <a:ext cx="3095640" cy="275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-36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одство и различие  рос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900000" y="907920"/>
            <a:ext cx="2735280" cy="5732640"/>
          </a:xfrm>
          <a:prstGeom prst="rect">
            <a:avLst/>
          </a:prstGeom>
          <a:ln w="0">
            <a:noFill/>
          </a:ln>
        </p:spPr>
      </p:pic>
      <p:pic>
        <p:nvPicPr>
          <p:cNvPr id="72" name="preview-image" descr="a10669db92e8db6ec4a60d0ed086e7b4"/>
          <p:cNvPicPr/>
          <p:nvPr/>
        </p:nvPicPr>
        <p:blipFill>
          <a:blip r:embed="rId2"/>
          <a:stretch/>
        </p:blipFill>
        <p:spPr>
          <a:xfrm>
            <a:off x="4643280" y="907920"/>
            <a:ext cx="33847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 геометрических знаков орнамента Мез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Mwvd2OWIAAtrzw"/>
          <p:cNvPicPr/>
          <p:nvPr/>
        </p:nvPicPr>
        <p:blipFill>
          <a:blip r:embed="rId1"/>
          <a:stretch/>
        </p:blipFill>
        <p:spPr>
          <a:xfrm>
            <a:off x="971640" y="1220760"/>
            <a:ext cx="4011480" cy="441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937120" y="1317600"/>
            <a:ext cx="25178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5528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геометрического орн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011"/>
          <p:cNvPicPr/>
          <p:nvPr/>
        </p:nvPicPr>
        <p:blipFill>
          <a:blip r:embed="rId1"/>
          <a:stretch/>
        </p:blipFill>
        <p:spPr>
          <a:xfrm>
            <a:off x="1187280" y="1036800"/>
            <a:ext cx="3384720" cy="260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ros40"/>
          <p:cNvPicPr/>
          <p:nvPr/>
        </p:nvPicPr>
        <p:blipFill>
          <a:blip r:embed="rId2"/>
          <a:stretch/>
        </p:blipFill>
        <p:spPr>
          <a:xfrm>
            <a:off x="4859280" y="1052640"/>
            <a:ext cx="3456000" cy="260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50928195808"/>
          <p:cNvPicPr/>
          <p:nvPr/>
        </p:nvPicPr>
        <p:blipFill>
          <a:blip r:embed="rId3"/>
          <a:stretch/>
        </p:blipFill>
        <p:spPr>
          <a:xfrm>
            <a:off x="684360" y="4187880"/>
            <a:ext cx="2950920" cy="267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1742"/>
          <p:cNvPicPr/>
          <p:nvPr/>
        </p:nvPicPr>
        <p:blipFill>
          <a:blip r:embed="rId4"/>
          <a:stretch/>
        </p:blipFill>
        <p:spPr>
          <a:xfrm>
            <a:off x="3851280" y="4149720"/>
            <a:ext cx="2492280" cy="270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мезенская-роспись-знаки-плодородия"/>
          <p:cNvPicPr/>
          <p:nvPr/>
        </p:nvPicPr>
        <p:blipFill>
          <a:blip r:embed="rId5"/>
          <a:stretch/>
        </p:blipFill>
        <p:spPr>
          <a:xfrm>
            <a:off x="6516720" y="4221000"/>
            <a:ext cx="23702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-360"/>
            <a:ext cx="6400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ецкие уг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age012"/>
          <p:cNvPicPr/>
          <p:nvPr/>
        </p:nvPicPr>
        <p:blipFill>
          <a:blip r:embed="rId1"/>
          <a:stretch/>
        </p:blipFill>
        <p:spPr>
          <a:xfrm>
            <a:off x="1150920" y="1508040"/>
            <a:ext cx="68421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160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зенские ром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мезенская-роспись-знаки-плодородия"/>
          <p:cNvPicPr/>
          <p:nvPr/>
        </p:nvPicPr>
        <p:blipFill>
          <a:blip r:embed="rId1"/>
          <a:stretch/>
        </p:blipFill>
        <p:spPr>
          <a:xfrm>
            <a:off x="1619280" y="1268280"/>
            <a:ext cx="5470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ок                                       Ме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4e589c2173ef8b166a79d92c6a2bd06f_i-4164"/>
          <p:cNvPicPr/>
          <p:nvPr/>
        </p:nvPicPr>
        <p:blipFill>
          <a:blip r:embed="rId1"/>
          <a:stretch/>
        </p:blipFill>
        <p:spPr>
          <a:xfrm>
            <a:off x="250920" y="1341360"/>
            <a:ext cx="4032000" cy="41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Похожее изображение"/>
          <p:cNvPicPr/>
          <p:nvPr/>
        </p:nvPicPr>
        <p:blipFill>
          <a:blip r:embed="rId2"/>
          <a:stretch/>
        </p:blipFill>
        <p:spPr>
          <a:xfrm>
            <a:off x="4572000" y="13413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200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ист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4883291_boreckaya_rospis_7"/>
          <p:cNvPicPr/>
          <p:nvPr/>
        </p:nvPicPr>
        <p:blipFill>
          <a:blip r:embed="rId1"/>
          <a:stretch/>
        </p:blipFill>
        <p:spPr>
          <a:xfrm>
            <a:off x="971640" y="1413000"/>
            <a:ext cx="6913440" cy="236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742"/>
          <p:cNvPicPr/>
          <p:nvPr/>
        </p:nvPicPr>
        <p:blipFill>
          <a:blip r:embed="rId2"/>
          <a:stretch/>
        </p:blipFill>
        <p:spPr>
          <a:xfrm>
            <a:off x="4859280" y="5013360"/>
            <a:ext cx="4284720" cy="1190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50928195808"/>
          <p:cNvPicPr/>
          <p:nvPr/>
        </p:nvPicPr>
        <p:blipFill>
          <a:blip r:embed="rId3"/>
          <a:stretch/>
        </p:blipFill>
        <p:spPr>
          <a:xfrm>
            <a:off x="324000" y="5013360"/>
            <a:ext cx="45352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89000"/>
            <a:ext cx="64008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я гипотеза  подтвердилась: 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еометрического орнамен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рецкой и мезенской росписи есть сходства, а именно наличие геометрических фигур, таких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ые и волнистые ли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четко очерченный кру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омбы, квадраты, треугольн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рисутствует симметр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03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енитые северные пряники коз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артинки по запросу козуля пряник мезень"/>
          <p:cNvPicPr/>
          <p:nvPr/>
        </p:nvPicPr>
        <p:blipFill>
          <a:blip r:embed="rId1"/>
          <a:stretch/>
        </p:blipFill>
        <p:spPr>
          <a:xfrm>
            <a:off x="755640" y="836640"/>
            <a:ext cx="76327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-рес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s://ru.wikipedia.org/wiki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https://www.google.ru=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s://go.mail.ru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33300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опроса школьников «Есть ли сходства в орна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ецкой и мезенской роспис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73486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ходство и различ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метрическ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намен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ецкой и мезенской роспис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3200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муницип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род Архангельск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едняя  школа № 35 имени Героя Советского Союза П.И.Галу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исследовательских работ и проектов младших школьников «Я исследовате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80-летие со дня образования Архангель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620280"/>
            <a:ext cx="712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выяснить, есть ли сходство и различие геометрического орнамента борецкой и мезенской росписе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87280" y="134100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изучить литературу по данной теме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обрать необходимый материал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равнить фрагмент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ого орнамента мезенской и борецкой росписей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делать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981000"/>
            <a:ext cx="64008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потез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редположим, что у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ческог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намента борецкой и мезенской росписи есть схо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школы живописи и обучения грамоте при монастыр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и по запросу древние школы живописи при монастырях"/>
          <p:cNvPicPr/>
          <p:nvPr/>
        </p:nvPicPr>
        <p:blipFill>
          <a:blip r:embed="rId1"/>
          <a:stretch/>
        </p:blipFill>
        <p:spPr>
          <a:xfrm>
            <a:off x="250920" y="836640"/>
            <a:ext cx="8675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36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фа Борец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и по запросу марфа посадница"/>
          <p:cNvPicPr/>
          <p:nvPr/>
        </p:nvPicPr>
        <p:blipFill>
          <a:blip r:embed="rId1"/>
          <a:stretch/>
        </p:blipFill>
        <p:spPr>
          <a:xfrm>
            <a:off x="503280" y="876240"/>
            <a:ext cx="8137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ок                                               Мезен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6_s (459x309, 25Kb)"/>
          <p:cNvPicPr/>
          <p:nvPr/>
        </p:nvPicPr>
        <p:blipFill>
          <a:blip r:embed="rId1"/>
          <a:stretch/>
        </p:blipFill>
        <p:spPr>
          <a:xfrm>
            <a:off x="179280" y="404640"/>
            <a:ext cx="4176720" cy="281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xNUwo"/>
          <p:cNvPicPr/>
          <p:nvPr/>
        </p:nvPicPr>
        <p:blipFill>
          <a:blip r:embed="rId2"/>
          <a:stretch/>
        </p:blipFill>
        <p:spPr>
          <a:xfrm>
            <a:off x="1403280" y="3860640"/>
            <a:ext cx="1852560" cy="299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61527fb30daea71cbf0789b27801933c (600x450, 274Kb)"/>
          <p:cNvPicPr/>
          <p:nvPr/>
        </p:nvPicPr>
        <p:blipFill>
          <a:blip r:embed="rId3"/>
          <a:stretch/>
        </p:blipFill>
        <p:spPr>
          <a:xfrm>
            <a:off x="4859280" y="333360"/>
            <a:ext cx="3960720" cy="298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ezenskaya-rospis-02"/>
          <p:cNvPicPr/>
          <p:nvPr/>
        </p:nvPicPr>
        <p:blipFill>
          <a:blip r:embed="rId4"/>
          <a:stretch/>
        </p:blipFill>
        <p:spPr>
          <a:xfrm>
            <a:off x="5435640" y="3716280"/>
            <a:ext cx="23893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21:22:33Z</dcterms:created>
  <dc:creator>1</dc:creator>
  <dc:description/>
  <dc:language>en-US</dc:language>
  <cp:lastModifiedBy>АУШЕВА </cp:lastModifiedBy>
  <dcterms:modified xsi:type="dcterms:W3CDTF">2019-01-04T15:03:17Z</dcterms:modified>
  <cp:revision>13</cp:revision>
  <dc:subject/>
  <dc:title>Слайд 1</dc:title>
</cp:coreProperties>
</file>