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38A2-5ADF-4FEC-8F45-905C2A406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AB6A-9237-4F97-8D46-63F7D8A13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C68C-EF63-4D86-8FCE-3CE66C6BE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762B-7A08-46FB-BAFF-2D87B21A1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7E714-25A6-4806-9747-979185F47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B7F37-A6FD-44F0-8E48-4978DA483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49144-0C64-4669-B6FD-7696C1932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7C759-4EB1-4A66-9767-670DA4CA1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2A560-CC16-45B3-BE68-2AF62E557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71818-3630-4FDC-9401-8B5AA8FCA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D0D50-9561-4EFC-BCD2-1C18E141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E0AD-C0F0-4C0A-B1AF-71165D090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B1CCD-3C5D-4909-BDAC-4858364F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5BB03-4CA9-4359-92D8-C70F0C61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6A9D5-D6CD-4583-9F2F-2C32E56D1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8EFD0-BD48-404A-B557-FA8B2A9F3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4476C-FEC9-44C0-BF08-CA846B17F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B9CC7-5B2D-4804-A091-D93908DFB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34844-33B5-4F53-A7E3-5FE6DA751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BB191-B2D3-4048-BCCE-892E50B02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279A6-2C1F-4579-948C-9484D211C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259D0-E18C-4C2C-9794-38DEA521C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76A6-096B-47EA-A4FD-32113DD53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2A32F-2BEF-4F63-B8F0-00EDA6810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B6179-7405-4900-847B-A9AE8AF5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2F8D9-2CE3-4EE6-A344-58CCBD37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81706-EA50-498E-9486-D16D6E14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AFA72-2901-4823-8C42-4BB22F73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6D5FF-4731-433B-8E95-8C0B6E19A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DC664-5979-4247-98EF-C70B31326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63A6B-2285-4860-AA82-4B1E25439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3B23C-DC8A-4E8E-9DD3-385210B81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FC7DD-9D6C-4528-A9C5-C92667C25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5E8D-1F28-4E7A-A15B-C735DA175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BC01E-3679-4930-831B-79F88081E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1C30A-38AC-43BC-AC12-656EAE2F5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F9C2E-7012-4D80-A30B-9BA66AAD0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11E47-F4CD-4C7C-8AA3-47C185D9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41F43-B787-43BD-82C2-867953A0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24137-2A2E-43DC-9450-AD7B4152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3C70F-F874-4F46-94F6-5D38CD37B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F141A-24AD-49CE-A88D-4C359D56A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6F599-78D7-4AC3-9AC0-0EB0B08F8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B0B0E-A07F-4F1E-9982-4513E65B6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5D3E-23B7-4DFE-8181-5058CC9FE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8C2A8-6A34-4FBF-A5E6-37FC65483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2D86F-9642-4D88-8870-CD6B2F4BA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2C636-4BD0-46E8-A5A7-A9CF02930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0F65D-4777-4609-BCA4-66EAC9F5A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6FF1E-6E6E-419D-B43C-99808D390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1AE87-A456-4E13-8FE5-3DA435F4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B6893-1512-4788-AB53-228869DE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187D9-AAC0-4990-A73A-28865F2A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05356-3DD1-46F0-8F8B-52F543460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ACA2A-5AD5-44DF-A09F-E191F0AF1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6388-CE45-403C-95D5-385BA45B4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2EC43-ADF8-4326-A788-4B8323614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443BAE-0375-4AF5-A455-F763F22AB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E85AA-A0B8-46E6-9203-EB69E9A1C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2108B-00B4-4560-9A0F-4405E4A36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59372-0C47-42D8-8C45-6B43ACA3D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DFCB4-F30C-4D9D-8359-2EFF2A9E6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A2621-D758-4AB2-BC60-916076D3D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F2441-D219-43A3-8783-102B8F54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26668-6E8F-4E70-9754-B7BB494A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3BA22-1614-4602-AEEB-5F84565D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6B51-2708-49AC-B89E-62E7BEAF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176FF-9B51-4E9A-940E-33CDAB57A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DD762-D11A-4692-8ABE-DB5FB89D4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8547B-B900-4518-B5CD-C7417202A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8CCAC9-6AB1-4633-AEA2-9FE1F1A97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C1A11-396D-4087-9143-EA986C21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873E5-BE32-43D1-BFB5-F2FD591FF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EB00CC-0A5F-4BAE-9E7B-B0CEDC1A9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B37445-78D8-456C-803A-2CC07D0FD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04055-B2F3-4BCB-B818-C30E1AB37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E8215-EEF2-4D71-BE57-4E2F48CA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6213-174D-41F9-95A2-7ECA5133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85E3C-B4F8-4E37-9C31-87645BC6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9FFFE2-8CEF-424B-8A3C-9FB2AF4C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62E76-FEAB-42B8-9CD8-4C0FD5C3D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4E19E-5099-4205-BB06-D8ACA61AB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121CF5-C37D-46C2-8E53-2606391D1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6C7CE0-15EB-4B3C-B45B-A17B7FD43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3D9065-FC0D-425E-A54A-86A358009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5FA2D1-2089-4079-B14F-B0FB2FF11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34CDF-A628-4ACE-AEB5-7A6229C55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13AF30-569A-4832-98B3-5330A4064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32E9-3F61-4956-813A-47BFF8BD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514F03-A7F2-4641-8EF0-2D838925C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EC919A-2BCA-4700-8281-3945F990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303E5A-A43D-4E77-B85A-6D16CC5D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FEAAA-D8FA-4984-88ED-64BBCCF3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50339F-5189-4D1F-B8D5-128FF3E80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ED9773-74BD-41FC-B856-D156277B5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B319C1-4529-4630-B123-E3589AAC5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5A9C3-0BE1-47D7-A9C4-83F99D7E840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42389-574C-42BF-B54C-F02E64567B3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30BFC-FF5B-4AB0-A984-5690BAA1666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78D45-71F5-4441-B2D3-1116E8D188E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210D3-0439-487B-AC35-74B42AA0D1A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60201-1084-4A33-A231-5C154CFD51D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8A866-BDBE-46CA-9972-7570EFF5D50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45F41-AB60-4BC6-9917-5FA13DA90B8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6011640" y="764640"/>
            <a:ext cx="2305080" cy="4032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464646"/>
                </a:solidFill>
                <a:latin typeface="Lucida Sans Unicode"/>
              </a:rPr>
              <a:t>Иван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464646"/>
                </a:solidFill>
                <a:latin typeface="Lucida Sans Unicode"/>
              </a:rPr>
              <a:t>Сергеевич Тургенев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464646"/>
                </a:solidFill>
                <a:latin typeface="Lucida Sans Unicode"/>
              </a:rPr>
              <a:t>(1818-1883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1" name="Picture 5" descr="https://vsdn.ru/images/data/mus/70345_big_1407483385.jpg"/>
          <p:cNvPicPr/>
          <p:nvPr/>
        </p:nvPicPr>
        <p:blipFill>
          <a:blip r:embed="rId1"/>
          <a:stretch/>
        </p:blipFill>
        <p:spPr>
          <a:xfrm>
            <a:off x="1042920" y="333360"/>
            <a:ext cx="4105440" cy="55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емантика – это значение слова, словосочетания, оборота речи, которое возникает при употреблении язык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 конкретной ситуации, в контексте  смысл слова зависит не только от его лексического значения , но и от его звучания, интонации, места в предложении, сочетания с другими словам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о дни сомнений, во дни тягостных раздумий о судьбах моей родины, — ты один мне поддержка и опора, о великий, могучий, правдивый и свободный русский язык! Не будь тебя — как не впасть в отчаяние при виде всего, что совершается дома? Но нельзя верить, чтобы такой язык не был дан великому народу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Заголовок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85800" y="2565360"/>
            <a:ext cx="7772400" cy="22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лингвистическая дисциплина, изучающая слово и словарный состав языка, его функционирование и развитие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395280" y="155736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определить, что такое слово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419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классифицировать словарный состав языка по сочетательным и функциональным характеристикам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419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группировать слова по семантическим признакам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419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описать пути пополнения и развития словарного состава язык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419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выявить соотношение лексики и внеязыковой действительности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6836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номасиология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(onomon – 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имя, наименование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Lucida Sans Unicode"/>
              </a:rPr>
              <a:t>семасиология (</a:t>
            </a: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semasia</a:t>
            </a:r>
            <a:r>
              <a:rPr b="1" lang="ru-RU" sz="3600" spc="-1" strike="noStrike">
                <a:solidFill>
                  <a:srgbClr val="000000"/>
                </a:solidFill>
                <a:latin typeface="Lucida Sans Unicode"/>
              </a:rPr>
              <a:t> – значение)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фразеология (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hraseas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– выражение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номастика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nomastike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 – искусство давать имена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этимология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(etymon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 – истинное значение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лексикография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(lexikos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- слово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12640"/>
            <a:ext cx="82296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Лексическое значение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исторически образовавшаяся связь между звучанием слова и отображением в нашем сознании предмета или явления, обозначенного данным словом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Грамматическое значение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частеречная принадлежность, функции в предложении и в реч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404640"/>
            <a:ext cx="8229600" cy="605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          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Семантика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Один из основных разделов 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языкознания  - </a:t>
            </a:r>
            <a:r>
              <a:rPr b="1" lang="ru-RU" sz="3600" spc="-1" strike="noStrike">
                <a:solidFill>
                  <a:srgbClr val="000000"/>
                </a:solidFill>
                <a:latin typeface="Lucida Sans Unicode"/>
              </a:rPr>
              <a:t>семасиология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Семасиология изучает вопросы, так или иначе связанные со значением слова: многозначность, омонимы, синонимы (семантику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5T09:59:13Z</dcterms:created>
  <dc:creator>Marina Androsova</dc:creator>
  <dc:description/>
  <dc:language>en-US</dc:language>
  <cp:lastModifiedBy>RePack by SPecialiST</cp:lastModifiedBy>
  <dcterms:modified xsi:type="dcterms:W3CDTF">2019-01-05T08:52:34Z</dcterms:modified>
  <cp:revision>50</cp:revision>
  <dc:subject/>
  <dc:title>Лексикология</dc:title>
</cp:coreProperties>
</file>