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F6E1-B565-4803-9496-56A9BA19E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22EE-D0DA-49AD-9C95-F5EF528C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9794-D112-467C-AE8D-B641B208A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69BD-34F3-4A41-87C3-42BE9D0A2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BCEC-CE72-4762-B794-6372790CB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9520-4CC9-4EA6-A4A9-0395F6C4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BEC3-DD18-4F4A-AAD8-E150F8A8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F9EB-E598-495B-9C03-1760CBB9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D8D7-9691-4AD5-89E3-5784538A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C585-FD34-44D4-8780-A6AEB1F8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DBB1-973E-4FB7-B4B6-B78D8632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9C9A-CA7C-4426-903D-6D24CECE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D16F-EB61-430F-A485-62B5E534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3688-FD28-4881-AFC2-B1E8C01E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7E10-FC5E-4235-A0B1-EC6D6027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3B4A-7023-4B90-8CF3-368915930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43EA-B7CB-4969-A55F-3A2C788AC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A1D62-005B-4162-A27F-2BA44BEA9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F840D-9CBE-4908-8FF9-E5F7A4C9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43720-1280-4973-B40A-C6A22F1C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03E00-1182-4AEB-8535-98301BE3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886DC-FAB7-4BD4-AA8A-C5CA5965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5328-91CE-4586-9D06-632B3822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045C7-3C1B-462B-A1FE-13F305CA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A6D44-1C4F-46F8-8E1E-52A0EC2E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F10EE-7A3A-4A5A-A190-358155DA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EEC12-FBEF-4957-AD42-95AD9F5B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65B16-CBE4-4E95-A10E-1159005C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6B1E4-BBA8-4C45-9274-5B15BEAF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2BA07-B24E-41C5-A81F-019F3190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132B0-2A4F-4015-849F-9590C6649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0DD99-9197-4542-B522-7FAB6DA5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F6E50-8DC3-415C-B45F-984C0621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CDC4-A86E-4825-9319-C13FD0DF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CC23C-F6EA-4D3F-B47C-4DB0872A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2E6BA-0E22-47FA-A52E-C99561BF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9F3E0-2C9D-42AB-B850-03648B61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6E96B-4543-4F94-B6C4-C000EB8C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158A5-18A5-4055-A76C-BE6851DA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54C09-DFFD-4D34-85E7-BC433417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59693-8226-4A1D-8DB4-9413532B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551FC-2C78-46F8-9D8F-8D05261F5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101DA-5A5D-453C-B171-22F182087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57868-464D-4F39-91CC-BCDD25CEA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2282-9042-41A0-A1EE-D66DC9FF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61838-4F7E-4DD4-A84F-DA5475A3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C1095-869A-4457-B6FB-1932A942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40C1D-E0C7-4A72-9C08-6055C834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C21E8-F462-44F5-A074-2E256E59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8681D-B5A8-405C-97AD-8069921A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5C7C4-D719-4083-98F3-5DEB32A5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3F459-1BBB-45F3-B710-FC7A8CA1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D3B5B-10D6-45EE-884C-07DC0291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34F62-D50D-42FB-8FDA-8ABA5EB3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FDF81-DA20-4A06-925B-98885CAA8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9D54-9635-4B06-91BD-B452FF96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F4CD9-B025-4B32-9C6E-B18584A08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6712F-E6F7-44E7-A18B-9809BA5F4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6AF29-6C46-49AC-9709-07FD23BB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9B5D7-668F-4251-867D-F1D5E4B7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C893B-7B61-49A3-863E-6183B135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B7C5F-F969-4DF9-8D46-6D204648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90E52-4E2E-4774-B985-68421D2F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BE949-342F-4429-994C-8DE63798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6F777-9044-4CC9-B51F-AD51E02B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E8697-E194-4DC1-B289-D4D1D5B7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1AF4-E303-42A4-A6BF-0A6CEE26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A7BBD-1886-46C3-B053-EACC8FBB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35A93-5C34-4031-8D3E-FFFFDEEB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D67C2-4006-4AA8-8E29-41609166E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D955D-9651-4DCA-B2F8-352AB4B6C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4D95E-40D5-45E5-9810-EDBA550D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60717-0ED1-4D8B-A0A5-2AC0DD58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49279-1ECE-490D-8BBB-91378F79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44562-5084-44A3-B844-7A84B432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0AB10-D324-4C20-9660-0218F8E4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3F75A-6E84-47CA-9759-25BFC5A4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8A89-E11F-437F-AEC9-25400FB6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4A96C-7319-4CF3-9D9C-940F922B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C8982-E4F9-4B3A-94ED-A0B1BACB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96E06-2C60-4B9B-BF5B-2814D0F0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67D63-B014-4692-AA8F-49F0443B7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3B995-C43E-4957-9CAE-A50BAC12B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8821D-7CC4-408F-A430-A22DC1DD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D5470-2EBB-46F1-8C5D-5DCA012C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A2E53-1417-46E9-80D9-BE53C025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6E1F7-C813-48CC-AFEE-CEC0B6E8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9B923-53E6-46CD-B6F7-191F4C27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0A0F-CBF9-4187-BBDE-7AE0C4FE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70780-56B5-478D-B7F6-56D45D18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D41DF-34B3-4DC9-8547-1FAB7357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B7A88-8990-4D8C-8202-BBD417D2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7665E-FB68-4A4B-B0E3-0997A804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6BF73-9F08-4275-8400-B00D0271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A1CF4-BED8-44F6-AD3F-8D909787A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40DAD-A566-4785-A0C3-EC34D2760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A6E5-357D-4293-9C85-3D8BA55C830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CA1D-D5AC-4CEF-9702-46A8D1B614D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A44E-F73A-49EF-9967-F868EB473B8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A017-8122-4E5E-A714-A7C36EFD1F7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9B1F-C4F7-4CFA-9279-5EB6461C5D7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8291-F7E3-4ECD-BB8E-2550EF2BC0C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012C-8B96-406C-A8B7-ADCEB9EC368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6A49-9093-4F29-ADA0-91581409C02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6011640" y="764640"/>
            <a:ext cx="2305080" cy="4032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Иван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Сергеевич Тургене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(1818-1883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Picture 5" descr="https://vsdn.ru/images/data/mus/70345_big_1407483385.jpg"/>
          <p:cNvPicPr/>
          <p:nvPr/>
        </p:nvPicPr>
        <p:blipFill>
          <a:blip r:embed="rId1"/>
          <a:stretch/>
        </p:blipFill>
        <p:spPr>
          <a:xfrm>
            <a:off x="1042920" y="333360"/>
            <a:ext cx="410544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емантика – это значение слова, словосочетания, оборота речи, которое возникает при употреблении язык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конкретной ситуации, в контексте  смысл слова зависит не только от его лексического значения , но и от его звучания, интонации, места в предложении, сочетания с другими словам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о дни сомнений, во дни тягостных раздумий о судьбах моей родины, — ты один мне поддержка и опора, о великий, могучий, правдивый и свободный русский язык! Не будь тебя — как не впасть в отчаяние при виде всего, что совершается дома? Но нельзя верить, чтобы такой язык не был дан великому народу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Заголовок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85800" y="2565360"/>
            <a:ext cx="7772400" cy="22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лингвистическая дисциплина, изучающая слово и словарный состав языка, его функционирование и развитие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95280" y="15573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определить, что такое слово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19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классифицировать словарный состав языка по сочетательным и функциональным характеристикам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19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группировать слова по семантическим признакам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19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описать пути пополнения и развития словарного состава язык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19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выявить соотношение лексики и внеязыковой действительност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номасиология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(onomon – 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имя, наименование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Lucida Sans Unicode"/>
              </a:rPr>
              <a:t>семасиология (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semasia</a:t>
            </a:r>
            <a:r>
              <a:rPr b="1" lang="ru-RU" sz="3600" spc="-1" strike="noStrike">
                <a:solidFill>
                  <a:srgbClr val="000000"/>
                </a:solidFill>
                <a:latin typeface="Lucida Sans Unicode"/>
              </a:rPr>
              <a:t> – значение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фразеология 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hraseas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– выражение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номастика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nomastike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– искусство давать имена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этимология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(etymon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– истинное значение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лексикография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lexikos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- слово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1264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Лексическое значение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исторически образовавшаяся связь между звучанием слова и отображением в нашем сознании предмета или явления, обозначенного данным словом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Грамматическое значение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частеречная принадлежность, функции в предложении и в реч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404640"/>
            <a:ext cx="8229600" cy="605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     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Семантика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Один из основных разделов 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языкознания  - </a:t>
            </a:r>
            <a:r>
              <a:rPr b="1" lang="ru-RU" sz="3600" spc="-1" strike="noStrike">
                <a:solidFill>
                  <a:srgbClr val="000000"/>
                </a:solidFill>
                <a:latin typeface="Lucida Sans Unicode"/>
              </a:rPr>
              <a:t>семасиология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Семасиология изучает вопросы, так или иначе связанные со значением слова: многозначность, омонимы, синонимы (семантику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09:59:13Z</dcterms:created>
  <dc:creator>Marina Androsova</dc:creator>
  <dc:description/>
  <dc:language>en-US</dc:language>
  <cp:lastModifiedBy>RePack by SPecialiST</cp:lastModifiedBy>
  <dcterms:modified xsi:type="dcterms:W3CDTF">2019-01-05T08:52:34Z</dcterms:modified>
  <cp:revision>50</cp:revision>
  <dc:subject/>
  <dc:title>Лексикология</dc:title>
</cp:coreProperties>
</file>