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wmf" ContentType="image/x-wmf"/>
  <Override PartName="/ppt/media/image26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14.png" ContentType="image/png"/>
  <Override PartName="/ppt/media/image8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13.wmf" ContentType="image/x-wmf"/>
  <Override PartName="/ppt/media/image31.gif" ContentType="image/gif"/>
  <Override PartName="/ppt/media/image10.wmf" ContentType="image/x-wmf"/>
  <Override PartName="/ppt/media/image25.png" ContentType="image/png"/>
  <Override PartName="/ppt/media/image6.png" ContentType="image/png"/>
  <Override PartName="/ppt/media/image30.png" ContentType="image/png"/>
  <Override PartName="/ppt/media/image3.jpeg" ContentType="image/jpeg"/>
  <Override PartName="/ppt/media/image23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968-6410-49B4-9D0A-DEB01D5C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89E-C7B2-4DD4-A31A-3F72D110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949-C5D4-493C-A74C-D6E29B12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8E5-6198-47F9-820C-B6CD1A63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C81-C182-4107-A351-774B6415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8F1-1D50-4983-AF79-29D7A2CC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CE7C-5E84-413A-B35E-7E0E3AD5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4BC-EC4A-4EEB-A08C-51A5A1CE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499-C7CC-48F4-9B04-7398A8D2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28E-EC28-4704-8D1B-01DED011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ED5-1097-4AFB-A0DF-3903A951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F74-6681-427D-B58E-D66BBD66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C7D2-C638-463A-857F-CCB05BBFDE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png"/><Relationship Id="rId9" Type="http://schemas.openxmlformats.org/officeDocument/2006/relationships/hyperlink" Target="file:///tmp/home/.config/libreoffice/4/user/gallery/&#1091;&#1090;&#1102;&#1075;" TargetMode="External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33 из 83211"/>
          <p:cNvPicPr/>
          <p:nvPr/>
        </p:nvPicPr>
        <p:blipFill>
          <a:blip r:embed="rId1"/>
          <a:stretch/>
        </p:blipFill>
        <p:spPr>
          <a:xfrm rot="1590600">
            <a:off x="5724360" y="3429000"/>
            <a:ext cx="2308320" cy="3141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9280" y="1341360"/>
            <a:ext cx="8785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Будущий первоклассник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  <p:pic>
        <p:nvPicPr>
          <p:cNvPr id="43" name="" descr="Картинка 17 из 83211"/>
          <p:cNvPicPr/>
          <p:nvPr/>
        </p:nvPicPr>
        <p:blipFill>
          <a:blip r:embed="rId2"/>
          <a:stretch/>
        </p:blipFill>
        <p:spPr>
          <a:xfrm rot="20125200">
            <a:off x="1042920" y="3429000"/>
            <a:ext cx="2124000" cy="277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20 из 83211"/>
          <p:cNvPicPr/>
          <p:nvPr/>
        </p:nvPicPr>
        <p:blipFill>
          <a:blip r:embed="rId3"/>
          <a:stretch/>
        </p:blipFill>
        <p:spPr>
          <a:xfrm>
            <a:off x="3468600" y="3429000"/>
            <a:ext cx="2206800" cy="30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20320" y="1052640"/>
            <a:ext cx="595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Я ребятам верный друг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Заполняю их досу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Знает Сашка и Ариш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Верный друг, конечно…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32720" y="4248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35960" y="981360"/>
            <a:ext cx="627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Без меня не обойтис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Карандаш люблю и ки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Буду красочным пот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А зовут меня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Картинка 2 из 45375"/>
          <p:cNvPicPr/>
          <p:nvPr/>
        </p:nvPicPr>
        <p:blipFill>
          <a:blip r:embed="rId1"/>
          <a:stretch/>
        </p:blipFill>
        <p:spPr>
          <a:xfrm>
            <a:off x="1692360" y="3284640"/>
            <a:ext cx="508932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62520" y="1268640"/>
            <a:ext cx="652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На листах одна гуля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След свой яркий оставля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Знает каждый почемуч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Что зовусь всегда я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 rot="19070400">
            <a:off x="4862520" y="3639960"/>
            <a:ext cx="3457440" cy="26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80320" y="1341720"/>
            <a:ext cx="622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Я бываю разноцвет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И помощником отмен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Верный я товарищ ваш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Длинный, острый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19014600">
            <a:off x="3276360" y="2565000"/>
            <a:ext cx="384948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e4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65440" y="1125720"/>
            <a:ext cx="567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На уроках я важн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Вам для записей нуж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Попрошу меня не мя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Свою новую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2381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36320" y="1052640"/>
            <a:ext cx="621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Я храню в себе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Носят дети меня сз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До чего же я красавец!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Новый, полный книжек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2334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67640" y="1125720"/>
            <a:ext cx="642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Вмиг сотру любое сло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Раз и два, и все готов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Ваш резиновый проказни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А зовусь я просто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13704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46880" y="1268640"/>
            <a:ext cx="700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С ручкой каждый день друж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Карандаш в себе нош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Чтобы их не забыва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Ученик берет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rot="4930800">
            <a:off x="5497200" y="3151080"/>
            <a:ext cx="2430360" cy="34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89800" y="1413000"/>
            <a:ext cx="666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Ты бери меня все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В школу на урок тр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Чтоб держалось все скор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Пригодится только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21630" t="0" r="45996" b="0"/>
          <a:stretch/>
        </p:blipFill>
        <p:spPr>
          <a:xfrm rot="3013200">
            <a:off x="5668560" y="3628800"/>
            <a:ext cx="1295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Arial"/>
              </a:rPr>
              <a:t>Клятва читател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2063880" cy="2490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1164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Брать книги только чистыми рука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Не перегибать книгу при чт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Обернуть книгу, вложить в неё закла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5280" y="2060640"/>
          <a:ext cx="3529080" cy="320040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32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аш                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ра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076720" y="2060640"/>
          <a:ext cx="3382920" cy="3138480"/>
        </p:xfrm>
        <a:graphic>
          <a:graphicData uri="http://schemas.openxmlformats.org/drawingml/2006/table">
            <a:tbl>
              <a:tblPr/>
              <a:tblGrid>
                <a:gridCol w="3382920"/>
              </a:tblGrid>
              <a:tr h="31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тан     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п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 txBox="1"/>
          <p:nvPr/>
        </p:nvSpPr>
        <p:spPr>
          <a:xfrm>
            <a:off x="1547640" y="549360"/>
            <a:ext cx="58579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бери слова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289240" cy="228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256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каранд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19640" y="2852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капи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03280" y="2637000"/>
            <a:ext cx="6972480" cy="17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воклассник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2663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68360" y="333360"/>
            <a:ext cx="496908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ff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Ребусы</a:t>
            </a:r>
            <a:endParaRPr b="0" lang="en-US" sz="66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246400" cy="1466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87640" y="1628640"/>
            <a:ext cx="1486080" cy="2075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995640" y="4292640"/>
            <a:ext cx="1470240" cy="1512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08720" y="4292640"/>
            <a:ext cx="1879560" cy="151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308720" y="3573360"/>
            <a:ext cx="1835280" cy="281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572000" y="1700280"/>
            <a:ext cx="2193840" cy="180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6804000" y="1700280"/>
            <a:ext cx="2050920" cy="1760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0" y="4365720"/>
            <a:ext cx="2101680" cy="1374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050920" y="4508640"/>
            <a:ext cx="18399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700360" y="1197000"/>
          <a:ext cx="4392720" cy="456228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 в р у ч к а 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М р а н е ц и 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Т е б д р а т ь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Р у к п е л а 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 л а с м к и 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П а л ь г м о 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700360" y="1197000"/>
            <a:ext cx="4392720" cy="79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ру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1989000"/>
            <a:ext cx="439272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ран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2708280"/>
            <a:ext cx="4392720" cy="79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тетра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360" y="3500280"/>
            <a:ext cx="439272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пен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4221000"/>
            <a:ext cx="439272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лас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5013360"/>
            <a:ext cx="4392720" cy="79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альб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71640" y="189000"/>
            <a:ext cx="74008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квы заблудились</a:t>
            </a:r>
            <a:endParaRPr b="0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95280" y="1268280"/>
            <a:ext cx="8477280" cy="23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нужно в школе?</a:t>
            </a:r>
            <a:endParaRPr b="0" lang="en-US" sz="6600" spc="1" strike="noStrike">
              <a:ln w="9360">
                <a:solidFill>
                  <a:srgbClr val="ff3399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91120" y="2924280"/>
            <a:ext cx="31528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55640" y="2205000"/>
            <a:ext cx="76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моги буквам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1341360"/>
            <a:ext cx="1800000" cy="71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лу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6360" y="1341360"/>
            <a:ext cx="3671640" cy="71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колоколь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20000" y="1341360"/>
            <a:ext cx="1800000" cy="71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2421000"/>
            <a:ext cx="30243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расцв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2421000"/>
            <a:ext cx="30243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си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1413000"/>
            <a:ext cx="1800360" cy="718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лу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7440" y="2494080"/>
            <a:ext cx="3671640" cy="718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колоколь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1413000"/>
            <a:ext cx="1800360" cy="718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1413000"/>
            <a:ext cx="302400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расцв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3080" y="2494080"/>
            <a:ext cx="30243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си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1413000"/>
            <a:ext cx="1800360" cy="718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2492280"/>
            <a:ext cx="396108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колокольч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400536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07200" y="405360"/>
            <a:ext cx="5532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Знает каждый первокласс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Что учился он не зр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Прочитать любое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Может он из Азб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Вами я горжусь по пра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И свидетельствую в 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Одолеете все кни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Вслед за мной, за Азб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Картинка 1 из 1111"/>
          <p:cNvPicPr/>
          <p:nvPr/>
        </p:nvPicPr>
        <p:blipFill>
          <a:blip r:embed="rId1"/>
          <a:stretch/>
        </p:blipFill>
        <p:spPr>
          <a:xfrm>
            <a:off x="755640" y="1700280"/>
            <a:ext cx="28576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19:37Z</dcterms:created>
  <dc:creator>Ирина</dc:creator>
  <dc:description/>
  <dc:language>en-US</dc:language>
  <cp:lastModifiedBy>Михаил</cp:lastModifiedBy>
  <dcterms:modified xsi:type="dcterms:W3CDTF">2011-04-14T06:08:02Z</dcterms:modified>
  <cp:revision>9</cp:revision>
  <dc:subject/>
  <dc:title>Слайд 1</dc:title>
</cp:coreProperties>
</file>