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4D8-BF42-4579-924D-B4A89D7E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06E-8E33-414F-BA39-F0E758E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B3F-F3C0-41DB-AC41-C343E38F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64B-8A74-4026-967E-F01BB74F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8E9-498A-49CE-94AD-C3981911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C6F3-2DBE-4BBD-89E5-028EA76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D525-79E0-4131-AB86-E1ACDF0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07A-70D1-40FF-88A1-BBC459E2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AA2-7E6F-47E3-B43E-436AFC2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F68-0B27-463A-8C77-07AC1FDD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1299-B916-46EC-9A89-BEC5103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723-E181-4DBB-891D-863EC456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21C8-A46E-4DBD-A6D9-33B78F9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436-ECB3-46AF-8EB1-7CF3DB7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60F1-00B6-417B-ACF6-CA0BBBFF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5BD8-D9A8-4207-B4DA-C356E4AD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4C4E-BCCB-4BE7-B1D6-BBE1E5C9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CAC-2767-40CF-B2A6-ECC6C7B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78E-21CD-4D6E-A20C-2D7FC93D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A93-211E-45A7-A2D3-9B4E0FE1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E99-5AEB-42EB-BF90-D07D1FD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1E5-C9D4-4FFF-8B7B-38D3AE0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05F-E579-41C8-8AC1-DF16BEB1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1D5-2E0D-45AB-A8C1-B4716C3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A77-248C-4CD1-8DA0-1E8F8AADC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ECD-BE38-4851-A60F-09C97DF6CADC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DF7-2350-4C2A-8716-DCBD036A24D7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Литературно-музыкальная гостиная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«Час поэзии. Наступила весна!»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427640" y="3851280"/>
            <a:ext cx="44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995640" y="361440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ще природа не проснулась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сквозь редеющего сна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сну послышала она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ей невольно улыбнулась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.И.Тютчев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D8C-67E5-415F-8DD1-C506A45F24CC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643280" y="358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Calibri"/>
              </a:rPr>
              <a:t>«Подснежник»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Calibri"/>
              </a:rPr>
              <a:t>  (Е. Серова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8" name="Picture 5" descr="http://i061.radikal.ru/1002/37/c42884b8cc01.jpg"/>
          <p:cNvPicPr/>
          <p:nvPr/>
        </p:nvPicPr>
        <p:blipFill>
          <a:blip r:embed="rId1"/>
          <a:stretch/>
        </p:blipFill>
        <p:spPr>
          <a:xfrm>
            <a:off x="285840" y="285840"/>
            <a:ext cx="4095720" cy="5448240"/>
          </a:xfrm>
          <a:prstGeom prst="rect">
            <a:avLst/>
          </a:prstGeom>
          <a:ln w="0">
            <a:noFill/>
          </a:ln>
        </p:spPr>
      </p:pic>
      <p:pic>
        <p:nvPicPr>
          <p:cNvPr id="159" name="Petr-Il_ich-Chaykovskiy-Vremena-Goda-Aprel_-Podsnezhnik(muz-muz.net).mp3" descr=""/>
          <p:cNvPicPr/>
          <p:nvPr/>
        </p:nvPicPr>
        <p:blipFill>
          <a:blip r:embed="rId2"/>
          <a:stretch/>
        </p:blipFill>
        <p:spPr>
          <a:xfrm>
            <a:off x="3143160" y="6072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643280" y="881640"/>
            <a:ext cx="45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ыглянул подснежник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полутьме лесной -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аленький разведчик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осланный весной;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еще над лесо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ластвуют снега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лежат под снего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нные луга;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на спящей речке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еподвижен лед, -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з пришел разведчик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И весна придет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208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76C-E358-4755-8B45-603536B163AF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2" name="Picture 2" descr="Горюнова Надежда. Весенняя гроза"/>
          <p:cNvPicPr/>
          <p:nvPr/>
        </p:nvPicPr>
        <p:blipFill>
          <a:blip r:embed="rId1"/>
          <a:stretch/>
        </p:blipFill>
        <p:spPr>
          <a:xfrm>
            <a:off x="928800" y="571680"/>
            <a:ext cx="7429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1071720" y="928800"/>
            <a:ext cx="7615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Спасибо  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за  внимание!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D45-0DC8-4E79-8CEC-328D6C9E2788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39640" y="6443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28760" y="3500280"/>
            <a:ext cx="850104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онимы вешними лучами,                Улыбкой ясною природа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окрестных гор уже снега               Сквозь сон встречает утро года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бежали мутными ручьями             Синея, блещут небеса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потопленные луга.                       Еще прозрачные леса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Как будто пухом зеленеют…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Picture 4" descr="саврасов повеяло весной 1890-е"/>
          <p:cNvPicPr/>
          <p:nvPr/>
        </p:nvPicPr>
        <p:blipFill>
          <a:blip r:embed="rId1"/>
          <a:stretch/>
        </p:blipFill>
        <p:spPr>
          <a:xfrm>
            <a:off x="642960" y="214200"/>
            <a:ext cx="4000320" cy="3286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929120" y="50004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яло весною.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F33-4422-45A1-94D6-CA10B0C87360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Picture 2" descr="саврасов весна 1874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949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508720" y="4762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сна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35280" y="4508640"/>
            <a:ext cx="432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ж тает снег, бегут ручьи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окно повеяло весною…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свищут скоро соловьи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лес оденется листвою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508720" y="6491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.Н.Плещеев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Алексей Кондратьевич Саврасов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4" descr="Алексей Саврасов"/>
          <p:cNvPicPr/>
          <p:nvPr/>
        </p:nvPicPr>
        <p:blipFill>
          <a:blip r:embed="rId1"/>
          <a:stretch/>
        </p:blipFill>
        <p:spPr>
          <a:xfrm>
            <a:off x="2786040" y="1643040"/>
            <a:ext cx="3500640" cy="521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Picture 4" descr="grachi-prileteli"/>
          <p:cNvPicPr/>
          <p:nvPr/>
        </p:nvPicPr>
        <p:blipFill>
          <a:blip r:embed="rId1"/>
          <a:stretch/>
        </p:blipFill>
        <p:spPr>
          <a:xfrm>
            <a:off x="285840" y="214200"/>
            <a:ext cx="4532400" cy="5900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59292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ачи прилетели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429160" y="512280"/>
            <a:ext cx="33908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арту дремлется легко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крылис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ёрные дороги -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лнце греет горячо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в сугробе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 в берлоге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рту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ремлется легко…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.Новицкая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571920" y="52862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ртрет художник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саака Ильича Левитана. 1893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3" name="Picture 2" descr="http://www.centre.smr.ru/images/artists/levitan/levitan_big.jpg"/>
          <p:cNvPicPr/>
          <p:nvPr/>
        </p:nvPicPr>
        <p:blipFill>
          <a:blip r:embed="rId1"/>
          <a:stretch/>
        </p:blipFill>
        <p:spPr>
          <a:xfrm>
            <a:off x="3643200" y="642960"/>
            <a:ext cx="4643640" cy="4567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285840" y="857160"/>
            <a:ext cx="3143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Природу украшать не надо, но надо почувствовать ее суть…» (И.И.Левитан.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193-FC5F-4953-AA07-7C522DEDCC19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2" descr="март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000160" y="214200"/>
          <a:ext cx="3071880" cy="4572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артина  «Март»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d1df"/>
                      </a:solidFill>
                    </a:lnL>
                    <a:lnR w="5760">
                      <a:solidFill>
                        <a:srgbClr val="b3d1df"/>
                      </a:solidFill>
                    </a:lnR>
                    <a:lnT w="5760">
                      <a:solidFill>
                        <a:srgbClr val="b3d1df"/>
                      </a:solidFill>
                    </a:lnT>
                    <a:lnB w="18720">
                      <a:solidFill>
                        <a:srgbClr val="b3d1df"/>
                      </a:solidFill>
                    </a:lnB>
                    <a:solidFill>
                      <a:srgbClr val="5089a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426-68E0-420E-84B7-191FBD44F73B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Picture 4" descr="savrasov21ранняя весна 1888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6093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857840" y="2071800"/>
            <a:ext cx="36716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артовская пьеса  «Песня жаворонка». П.И. Чайковский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нняя весна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Picture 4" descr="savrasov21ранняя весна 1888"/>
          <p:cNvPicPr/>
          <p:nvPr/>
        </p:nvPicPr>
        <p:blipFill>
          <a:blip r:embed="rId2"/>
          <a:stretch/>
        </p:blipFill>
        <p:spPr>
          <a:xfrm>
            <a:off x="500040" y="285840"/>
            <a:ext cx="4103640" cy="6092640"/>
          </a:xfrm>
          <a:prstGeom prst="rect">
            <a:avLst/>
          </a:prstGeom>
          <a:ln w="0">
            <a:noFill/>
          </a:ln>
        </p:spPr>
      </p:pic>
      <p:pic>
        <p:nvPicPr>
          <p:cNvPr id="152" name="PI-Chaykovskiy-Vremena-goda-Pesnya-zhavoronkaMart(muzbaron.com).mp3" descr=""/>
          <p:cNvPicPr/>
          <p:nvPr/>
        </p:nvPicPr>
        <p:blipFill>
          <a:blip r:embed="rId3"/>
          <a:stretch/>
        </p:blipFill>
        <p:spPr>
          <a:xfrm>
            <a:off x="5715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97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7CD8-FD41-4538-A904-782041E9FD40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85716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артина И. Левитана  «Весна – большая вода»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Picture 2" descr="Картина Весна большая вода Левитан"/>
          <p:cNvPicPr/>
          <p:nvPr/>
        </p:nvPicPr>
        <p:blipFill>
          <a:blip r:embed="rId1"/>
          <a:stretch/>
        </p:blipFill>
        <p:spPr>
          <a:xfrm>
            <a:off x="928800" y="1000080"/>
            <a:ext cx="6786360" cy="585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5:43:27Z</dcterms:created>
  <dc:creator>Loner-XP</dc:creator>
  <dc:description/>
  <dc:language>en-US</dc:language>
  <cp:lastModifiedBy>Admin</cp:lastModifiedBy>
  <dcterms:modified xsi:type="dcterms:W3CDTF">2015-04-01T16:20:14Z</dcterms:modified>
  <cp:revision>23</cp:revision>
  <dc:subject/>
  <dc:title>Весна  в русской поэзии и живописи</dc:title>
</cp:coreProperties>
</file>