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7BA-8F1E-4B61-A1AF-DF8ADB78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4F0-701C-45B0-AA4C-567FC6D8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570-D432-4F32-BC62-13D95F59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4A9C-B74F-418F-BB7E-DA7C2369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61CF-1A9E-4AA7-8AF1-26186EAC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6B49-F02F-4F62-9B69-291AED3B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FDF9-70C4-4600-AE6F-D87373BE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B098-84BD-44A3-985F-84D791DB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27AB-05B3-47FB-8D19-8B168D59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BCA5-344C-4F82-B90F-5676B9AE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2612-AE40-4148-BE3F-E2E13D3B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116F-DFB1-40B7-B4BA-341BB3E2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41C2-607E-48B8-9241-4D4FB929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D8BE-86CD-481C-ABC1-8013FCF8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FD3D-162E-4B27-8060-AD50F271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B288-17B5-4296-8E65-FB8CD0E0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3ACC-44E5-451F-8BC5-6A66F2B9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526-F226-4F9C-B7E4-C9F9E6CF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BC6-67B8-4F7A-837A-04AD57AF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ED5-4F81-4A9D-B7E8-E125D10F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A13-CD09-462A-B62D-F4BB41AB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A69-382E-420A-8EC5-1C378754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A30-E26B-4655-B0A8-F14E9EB5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492-7BDE-445F-B928-720BE16D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1484-792B-493C-ABB4-43B1121E0A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FDD8-2900-42C5-8C6B-14F6D418DFDA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51E2-5FF3-4F8F-B2E4-8DB1A37C8B23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Литературно-музыкальная гостиная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«Час поэзии. Наступила весна!»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427640" y="3851280"/>
            <a:ext cx="446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995640" y="361440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ще природа не проснулась,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о сквозь редеющего сна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есну послышала она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 ей невольно улыбнулась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Ф.И.Тютчев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7C02-AAF7-4ED8-93F8-45F051B4C06A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643280" y="358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Calibri"/>
              </a:rPr>
              <a:t>«Подснежник»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Calibri"/>
              </a:rPr>
              <a:t>  (Е. Серова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8" name="Picture 5" descr="http://i061.radikal.ru/1002/37/c42884b8cc01.jpg"/>
          <p:cNvPicPr/>
          <p:nvPr/>
        </p:nvPicPr>
        <p:blipFill>
          <a:blip r:embed="rId1"/>
          <a:stretch/>
        </p:blipFill>
        <p:spPr>
          <a:xfrm>
            <a:off x="285840" y="285840"/>
            <a:ext cx="4095720" cy="5448240"/>
          </a:xfrm>
          <a:prstGeom prst="rect">
            <a:avLst/>
          </a:prstGeom>
          <a:ln w="0">
            <a:noFill/>
          </a:ln>
        </p:spPr>
      </p:pic>
      <p:pic>
        <p:nvPicPr>
          <p:cNvPr id="159" name="Petr-Il_ich-Chaykovskiy-Vremena-Goda-Aprel_-Podsnezhnik(muz-muz.net).mp3" descr=""/>
          <p:cNvPicPr/>
          <p:nvPr/>
        </p:nvPicPr>
        <p:blipFill>
          <a:blip r:embed="rId2"/>
          <a:stretch/>
        </p:blipFill>
        <p:spPr>
          <a:xfrm>
            <a:off x="3143160" y="60721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4643280" y="881640"/>
            <a:ext cx="450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Выглянул подснежник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В полутьме лесной -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Маленький разведчик,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Посланный весной;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Пусть еще над лесом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Властвуют снега,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Пусть лежат под снегом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Сонные луга;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Пусть на спящей речке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Неподвижен лед, -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Раз пришел разведчик,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И весна придет!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2088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1209-270B-42EF-994E-EF728C5B3DF7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2" name="Picture 2" descr="Горюнова Надежда. Весенняя гроза"/>
          <p:cNvPicPr/>
          <p:nvPr/>
        </p:nvPicPr>
        <p:blipFill>
          <a:blip r:embed="rId1"/>
          <a:stretch/>
        </p:blipFill>
        <p:spPr>
          <a:xfrm>
            <a:off x="928800" y="571680"/>
            <a:ext cx="742932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1"/>
          <p:cNvSpPr/>
          <p:nvPr/>
        </p:nvSpPr>
        <p:spPr>
          <a:xfrm>
            <a:off x="1071720" y="928800"/>
            <a:ext cx="761508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Times New Roman"/>
              </a:rPr>
              <a:t>Спасибо  </a:t>
            </a:r>
            <a:endParaRPr b="0" lang="en-US" sz="8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Times New Roman"/>
              </a:rPr>
              <a:t>за  внимание!</a:t>
            </a:r>
            <a:endParaRPr b="0" lang="en-US" sz="8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8DBD-02D8-463A-BD0F-D6075992EAAB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39640" y="64432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28760" y="3500280"/>
            <a:ext cx="8501040" cy="25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Гонимы вешними лучами,                Улыбкой ясною природа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 окрестных гор уже снега               Сквозь сон встречает утро года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бежали мутными ручьями             Синея, блещут небеса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 потопленные луга.                       Еще прозрачные леса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Как будто пухом зеленеют…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А.С.Пушкин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7" name="Picture 4" descr="саврасов повеяло весной 1890-е"/>
          <p:cNvPicPr/>
          <p:nvPr/>
        </p:nvPicPr>
        <p:blipFill>
          <a:blip r:embed="rId1"/>
          <a:stretch/>
        </p:blipFill>
        <p:spPr>
          <a:xfrm>
            <a:off x="642960" y="214200"/>
            <a:ext cx="4000320" cy="32860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8"/>
          <p:cNvSpPr/>
          <p:nvPr/>
        </p:nvSpPr>
        <p:spPr>
          <a:xfrm>
            <a:off x="4929120" y="50004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яло весною.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4974-81C6-4436-A75E-EF3A2FABA98D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0" name="Picture 2" descr="саврасов весна 1874"/>
          <p:cNvPicPr/>
          <p:nvPr/>
        </p:nvPicPr>
        <p:blipFill>
          <a:blip r:embed="rId1"/>
          <a:stretch/>
        </p:blipFill>
        <p:spPr>
          <a:xfrm>
            <a:off x="539640" y="404640"/>
            <a:ext cx="4896000" cy="3949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5508720" y="47628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сна.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635280" y="4508640"/>
            <a:ext cx="432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ж тает снег, бегут ручьи,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окно повеяло весною…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свищут скоро соловьи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 лес оденется листвою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508720" y="64911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А.Н.Плещеев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Алексей Кондратьевич Саврасов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4" descr="Алексей Саврасов"/>
          <p:cNvPicPr/>
          <p:nvPr/>
        </p:nvPicPr>
        <p:blipFill>
          <a:blip r:embed="rId1"/>
          <a:stretch/>
        </p:blipFill>
        <p:spPr>
          <a:xfrm>
            <a:off x="2786040" y="1643040"/>
            <a:ext cx="3500640" cy="521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8" name="Picture 4" descr="grachi-prileteli"/>
          <p:cNvPicPr/>
          <p:nvPr/>
        </p:nvPicPr>
        <p:blipFill>
          <a:blip r:embed="rId1"/>
          <a:stretch/>
        </p:blipFill>
        <p:spPr>
          <a:xfrm>
            <a:off x="285840" y="214200"/>
            <a:ext cx="4532400" cy="5900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68360" y="59292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рачи прилетели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429160" y="512280"/>
            <a:ext cx="33908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арту дремлется легко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скрылись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ёрные дороги -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олнце греет горячо,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о в сугробе,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 в берлоге,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рту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ремлется легко…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Г.Новицкая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3571920" y="52862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ртрет художника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Исаака Ильича Левитана. 1893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3" name="Picture 2" descr="http://www.centre.smr.ru/images/artists/levitan/levitan_big.jpg"/>
          <p:cNvPicPr/>
          <p:nvPr/>
        </p:nvPicPr>
        <p:blipFill>
          <a:blip r:embed="rId1"/>
          <a:stretch/>
        </p:blipFill>
        <p:spPr>
          <a:xfrm>
            <a:off x="3643200" y="642960"/>
            <a:ext cx="4643640" cy="45673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4"/>
          <p:cNvSpPr/>
          <p:nvPr/>
        </p:nvSpPr>
        <p:spPr>
          <a:xfrm>
            <a:off x="285840" y="857160"/>
            <a:ext cx="314316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«Природу украшать не надо, но надо почувствовать ее суть…» (И.И.Левитан.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32DD-AF52-42E7-85D8-A25AE8DCCE5E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6" name="Picture 2" descr="март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2000160" y="214200"/>
          <a:ext cx="3071880" cy="45720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артина  «Март»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d1df"/>
                      </a:solidFill>
                    </a:lnL>
                    <a:lnR w="5760">
                      <a:solidFill>
                        <a:srgbClr val="b3d1df"/>
                      </a:solidFill>
                    </a:lnR>
                    <a:lnT w="5760">
                      <a:solidFill>
                        <a:srgbClr val="b3d1df"/>
                      </a:solidFill>
                    </a:lnT>
                    <a:lnB w="18720">
                      <a:solidFill>
                        <a:srgbClr val="b3d1df"/>
                      </a:solidFill>
                    </a:lnB>
                    <a:solidFill>
                      <a:srgbClr val="5089a8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70F5-8E50-4794-83E8-60887C43B0A0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9" name="Picture 4" descr="savrasov21ранняя весна 1888"/>
          <p:cNvPicPr/>
          <p:nvPr/>
        </p:nvPicPr>
        <p:blipFill>
          <a:blip r:embed="rId1"/>
          <a:stretch/>
        </p:blipFill>
        <p:spPr>
          <a:xfrm>
            <a:off x="468360" y="260280"/>
            <a:ext cx="4103640" cy="6093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4857840" y="2071800"/>
            <a:ext cx="36716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Мартовская пьеса  «Песня жаворонка». П.И. Чайковский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нняя весна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1" name="Picture 4" descr="savrasov21ранняя весна 1888"/>
          <p:cNvPicPr/>
          <p:nvPr/>
        </p:nvPicPr>
        <p:blipFill>
          <a:blip r:embed="rId2"/>
          <a:stretch/>
        </p:blipFill>
        <p:spPr>
          <a:xfrm>
            <a:off x="500040" y="285840"/>
            <a:ext cx="4103640" cy="6092640"/>
          </a:xfrm>
          <a:prstGeom prst="rect">
            <a:avLst/>
          </a:prstGeom>
          <a:ln w="0">
            <a:noFill/>
          </a:ln>
        </p:spPr>
      </p:pic>
      <p:pic>
        <p:nvPicPr>
          <p:cNvPr id="152" name="PI-Chaykovskiy-Vremena-goda-Pesnya-zhavoronkaMart(muzbaron.com).mp3" descr=""/>
          <p:cNvPicPr/>
          <p:nvPr/>
        </p:nvPicPr>
        <p:blipFill>
          <a:blip r:embed="rId3"/>
          <a:stretch/>
        </p:blipFill>
        <p:spPr>
          <a:xfrm>
            <a:off x="57150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8972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DD84-3616-447F-A4C8-E0C19F275531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857160" y="4287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Картина И. Левитана  «Весна – большая вода»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5" name="Picture 2" descr="Картина Весна большая вода Левитан"/>
          <p:cNvPicPr/>
          <p:nvPr/>
        </p:nvPicPr>
        <p:blipFill>
          <a:blip r:embed="rId1"/>
          <a:stretch/>
        </p:blipFill>
        <p:spPr>
          <a:xfrm>
            <a:off x="928800" y="1000080"/>
            <a:ext cx="6786360" cy="585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5:43:27Z</dcterms:created>
  <dc:creator>Loner-XP</dc:creator>
  <dc:description/>
  <dc:language>en-US</dc:language>
  <cp:lastModifiedBy>Admin</cp:lastModifiedBy>
  <dcterms:modified xsi:type="dcterms:W3CDTF">2015-04-01T16:20:14Z</dcterms:modified>
  <cp:revision>23</cp:revision>
  <dc:subject/>
  <dc:title>Весна  в русской поэзии и живописи</dc:title>
</cp:coreProperties>
</file>