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9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8.gif" ContentType="image/gif"/>
  <Override PartName="/ppt/media/image6.gif" ContentType="image/gif"/>
  <Override PartName="/ppt/media/image5.jpeg" ContentType="image/jpeg"/>
  <Override PartName="/ppt/media/image7.gif" ContentType="image/gif"/>
  <Override PartName="/ppt/media/image3.jpeg" ContentType="image/jpeg"/>
  <Override PartName="/ppt/media/image12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01B6-07D2-4921-AE71-B17797AF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F03E-E2D8-43EB-8818-9F014004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24455-15A1-44A1-9614-2B6C65544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A7F5-9A9C-4AC5-9294-52F195FCF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EA0A-0D14-4ECB-888D-28218740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9B6-4D94-4AE3-B6A8-C87F4BDDB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631E-81A4-40C3-8038-FCD0ED6FD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2C53-E1F7-40E2-BD24-5EFE09450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46F48-4C33-48E0-8E10-C0F8FA7E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3019-AE9C-48B5-B522-84A4EA2D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D67F-9890-4E94-9F65-860468ED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CB89-DC2C-4BE3-8439-8C882CCF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E3F5-4E4D-433E-A613-C104EDCE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87689-A86E-49C9-A255-4D7030B46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8694-2199-4BAB-931A-7CDD5C35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4B51-DADB-492B-8C52-BFC5DCC4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99CC-5108-4069-9208-BEC3D67EB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4091-0C49-441E-9947-F4C933C2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A60-6504-4EA2-A4DD-F7EE8B4E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5996-7FB5-4FD2-8134-EBF23491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7219-1CA0-49D1-BE18-66AE0B00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428-7B5E-4CC6-BF24-EE520D589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C38-A107-4714-846A-A019E56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11DF-FE3D-4DD6-B1B9-EE4CEC3E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Oval 3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3FDDD-8BD2-4203-A149-7F7CAE5A841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Oval 3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6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8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60A0E-2AA5-41B1-B96B-D3577821CB43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image" Target="../media/image1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WordArt 10"/>
          <p:cNvSpPr txBox="1"/>
          <p:nvPr/>
        </p:nvSpPr>
        <p:spPr>
          <a:xfrm>
            <a:off x="142920" y="1285920"/>
            <a:ext cx="878688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9933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день     матери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9933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714680" y="35719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33cc"/>
                </a:solidFill>
                <a:latin typeface="Arial"/>
              </a:rPr>
              <a:t>29 ноябр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Monotype Corsiva"/>
              </a:rPr>
              <a:t>Подведем итоги игр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Содержимое 2" descr=""/>
          <p:cNvPicPr/>
          <p:nvPr/>
        </p:nvPicPr>
        <p:blipFill>
          <a:blip r:embed="rId1"/>
          <a:stretch/>
        </p:blipFill>
        <p:spPr>
          <a:xfrm>
            <a:off x="291960" y="2120760"/>
            <a:ext cx="8401320" cy="40179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C:\Documents and Settings\User\Мои документы\Лена\курсы\Курсы информ\Анимированные рисунки по темам\День рождения\1\99.gif"/>
          <p:cNvPicPr/>
          <p:nvPr/>
        </p:nvPicPr>
        <p:blipFill>
          <a:blip r:embed="rId2"/>
          <a:stretch/>
        </p:blipFill>
        <p:spPr>
          <a:xfrm>
            <a:off x="5857920" y="2500200"/>
            <a:ext cx="140652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cc"/>
                </a:solidFill>
                <a:latin typeface="Monotype Corsiva"/>
              </a:rPr>
              <a:t>Моя ма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днажды я сказал дpyзьям: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Hа свете много добpых мам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Hо не найти, pyчаюсь я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акyю мамy, как моя!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Она кyпила для меня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Hа колесиках коня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Саблю, кpаски и альбом...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Только pазве дело в том?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Я и так ее люблю,</a:t>
            </a:r>
            <a:br>
              <a:rPr sz="2800"/>
            </a:b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Мамy, мамочкy мою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156360" y="2276640"/>
            <a:ext cx="237636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66"/>
                </a:solidFill>
                <a:latin typeface="Monotype Corsiva"/>
              </a:rPr>
              <a:t>Не забудьте поздравить своих ма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Documents and Settings\User\Мои документы\Лена\курсы\Курсы информ\Анимированные рисунки по темам\День рождения\2\1.gif"/>
          <p:cNvPicPr/>
          <p:nvPr/>
        </p:nvPicPr>
        <p:blipFill>
          <a:blip r:embed="rId1"/>
          <a:stretch/>
        </p:blipFill>
        <p:spPr>
          <a:xfrm>
            <a:off x="3643200" y="3429000"/>
            <a:ext cx="1605240" cy="2408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C:\Documents and Settings\User\Мои документы\Лена\курсы\Курсы информ\Анимированные рисунки по темам\цветы\А- (13).gif"/>
          <p:cNvPicPr/>
          <p:nvPr/>
        </p:nvPicPr>
        <p:blipFill>
          <a:blip r:embed="rId2"/>
          <a:stretch/>
        </p:blipFill>
        <p:spPr>
          <a:xfrm>
            <a:off x="4786200" y="5000760"/>
            <a:ext cx="1524240" cy="11998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C:\Documents and Settings\User\Мои документы\Лена\курсы\Курсы информ\Анимированные рисунки по темам\цветы\А- (13).gif"/>
          <p:cNvPicPr/>
          <p:nvPr/>
        </p:nvPicPr>
        <p:blipFill>
          <a:blip r:embed="rId3"/>
          <a:stretch/>
        </p:blipFill>
        <p:spPr>
          <a:xfrm>
            <a:off x="2571840" y="5000760"/>
            <a:ext cx="1523880" cy="1199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User\Мои документы\Лена\курсы\Курсы информ\Анимированные рисунки по темам\цветы\А- (13).gif"/>
          <p:cNvPicPr/>
          <p:nvPr/>
        </p:nvPicPr>
        <p:blipFill>
          <a:blip r:embed="rId4"/>
          <a:stretch/>
        </p:blipFill>
        <p:spPr>
          <a:xfrm>
            <a:off x="1071720" y="5000760"/>
            <a:ext cx="1523880" cy="119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C:\Documents and Settings\User\Мои документы\Лена\курсы\Курсы информ\Анимированные рисунки по темам\цветы\А- (13).gif"/>
          <p:cNvPicPr/>
          <p:nvPr/>
        </p:nvPicPr>
        <p:blipFill>
          <a:blip r:embed="rId5"/>
          <a:stretch/>
        </p:blipFill>
        <p:spPr>
          <a:xfrm>
            <a:off x="6286680" y="5000760"/>
            <a:ext cx="15238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8"/>
          <p:cNvSpPr txBox="1"/>
          <p:nvPr/>
        </p:nvSpPr>
        <p:spPr>
          <a:xfrm>
            <a:off x="324000" y="907920"/>
            <a:ext cx="8351640" cy="489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Lef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33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357120" y="2500200"/>
            <a:ext cx="85010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800" spc="-1" strike="noStrike">
                <a:solidFill>
                  <a:srgbClr val="ff0066"/>
                </a:solidFill>
                <a:latin typeface="Monotype Corsiva"/>
              </a:rPr>
              <a:t>До новых встреч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1"/>
          <a:stretch/>
        </p:blipFill>
        <p:spPr>
          <a:xfrm>
            <a:off x="4071960" y="4857840"/>
            <a:ext cx="793800" cy="1066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2"/>
          <a:stretch/>
        </p:blipFill>
        <p:spPr>
          <a:xfrm>
            <a:off x="5000760" y="4643280"/>
            <a:ext cx="793440" cy="12765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3"/>
          <a:stretch/>
        </p:blipFill>
        <p:spPr>
          <a:xfrm>
            <a:off x="6000840" y="4714920"/>
            <a:ext cx="936360" cy="1276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4"/>
          <a:stretch/>
        </p:blipFill>
        <p:spPr>
          <a:xfrm>
            <a:off x="2928960" y="4714920"/>
            <a:ext cx="936720" cy="12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3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5"/>
          <a:stretch/>
        </p:blipFill>
        <p:spPr>
          <a:xfrm>
            <a:off x="1857240" y="4643280"/>
            <a:ext cx="865440" cy="12765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4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6"/>
          <a:stretch/>
        </p:blipFill>
        <p:spPr>
          <a:xfrm>
            <a:off x="6929280" y="4714920"/>
            <a:ext cx="936720" cy="1276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5" descr="C:\Documents and Settings\User\Мои документы\Лена\курсы\Курсы информ\Анимированные рисунки по темам\Руки\2\h25.gif"/>
          <p:cNvPicPr/>
          <p:nvPr/>
        </p:nvPicPr>
        <p:blipFill>
          <a:blip r:embed="rId7"/>
          <a:stretch/>
        </p:blipFill>
        <p:spPr>
          <a:xfrm>
            <a:off x="571680" y="4786200"/>
            <a:ext cx="1079280" cy="12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f0066"/>
                </a:solidFill>
                <a:latin typeface="Monotype Corsiva"/>
              </a:rPr>
              <a:t>Hаша мамоч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С кем пеpвым мы встpечаемся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pидя на белый свет, -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ак это наша мамочка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Ее милее нет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ся жизнь вокpyг нее вpащается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сь миp наш ею обогpет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есь век она стаpается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Hас yбеpечь от бед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Она - опоpа в доме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Хлопочет каждый час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никого нет кpоме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то так любил бы нас.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Так счастья ей побольше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жизни лет подольше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pадость ей в yдел,</a:t>
            </a:r>
            <a:br>
              <a:rPr sz="2000"/>
            </a:b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И меньше гpyстных дел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64000" y="1989000"/>
            <a:ext cx="21862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13840" y="3857760"/>
            <a:ext cx="839340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День матери — международный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Monotype Corsiva"/>
              </a:rPr>
              <a:t>праздник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честь </a:t>
            </a:r>
            <a:r>
              <a:rPr b="1" lang="ru-RU" sz="3600" spc="-1" strike="noStrike" u="sng">
                <a:solidFill>
                  <a:srgbClr val="0000ff"/>
                </a:solidFill>
                <a:uFillTx/>
                <a:latin typeface="Monotype Corsiva"/>
              </a:rPr>
              <a:t>матерей</a:t>
            </a:r>
            <a:r>
              <a:rPr b="1" lang="ru-RU" sz="3600" spc="-1" strike="noStrike">
                <a:solidFill>
                  <a:srgbClr val="0000ff"/>
                </a:solidFill>
                <a:latin typeface="Monotype Corsiva"/>
              </a:rPr>
              <a:t>. В этот день принято поздравлять всех мам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thumbnail[25]"/>
          <p:cNvPicPr/>
          <p:nvPr/>
        </p:nvPicPr>
        <p:blipFill>
          <a:blip r:embed="rId1"/>
          <a:stretch/>
        </p:blipFill>
        <p:spPr>
          <a:xfrm>
            <a:off x="3143160" y="571680"/>
            <a:ext cx="3500640" cy="28382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Малыш"/>
          <p:cNvPicPr/>
          <p:nvPr/>
        </p:nvPicPr>
        <p:blipFill>
          <a:blip r:embed="rId2"/>
          <a:stretch/>
        </p:blipFill>
        <p:spPr>
          <a:xfrm>
            <a:off x="357120" y="1000080"/>
            <a:ext cx="2505240" cy="2138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thumbnail[59]"/>
          <p:cNvPicPr/>
          <p:nvPr/>
        </p:nvPicPr>
        <p:blipFill>
          <a:blip r:embed="rId3"/>
          <a:stretch/>
        </p:blipFill>
        <p:spPr>
          <a:xfrm>
            <a:off x="6786720" y="642960"/>
            <a:ext cx="206352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280" y="27432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9933ff"/>
                </a:solidFill>
                <a:latin typeface="Monotype Corsiva"/>
              </a:rPr>
              <a:t>День матери в Росс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13840" y="4500360"/>
            <a:ext cx="8642520" cy="19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В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России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 праздник «День матери» учреждён в </a:t>
            </a:r>
            <a:r>
              <a:rPr b="0" lang="ru-RU" sz="2800" spc="-1" strike="noStrike" u="sng">
                <a:solidFill>
                  <a:srgbClr val="6600cc"/>
                </a:solidFill>
                <a:uFillTx/>
                <a:latin typeface="Arial"/>
              </a:rPr>
              <a:t>1998 году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. Этот праздник отмечается в последнее ноябрьское воскресень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0" descr="472_0460[1]"/>
          <p:cNvPicPr/>
          <p:nvPr/>
        </p:nvPicPr>
        <p:blipFill>
          <a:blip r:embed="rId1"/>
          <a:stretch/>
        </p:blipFill>
        <p:spPr>
          <a:xfrm>
            <a:off x="2771640" y="1268280"/>
            <a:ext cx="3446640" cy="28036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680" y="274320"/>
            <a:ext cx="81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0066"/>
                </a:solidFill>
                <a:latin typeface="Monotype Corsiva"/>
              </a:rPr>
              <a:t>А теперь поиграе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920" y="2286000"/>
            <a:ext cx="885816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Каждый ряд – это команда игро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За каждый правильный и полный ответ – команда получает одно очко</a:t>
            </a:r>
            <a:r>
              <a:rPr b="0" lang="ru-RU" sz="3600" spc="-1" strike="noStrike">
                <a:solidFill>
                  <a:srgbClr val="6600cc"/>
                </a:solidFill>
                <a:latin typeface="Arial"/>
              </a:rPr>
              <a:t>.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C:\Documents and Settings\User\Мои документы\Лена\курсы\Курсы информ\Анимированные рисунки по темам\Дети\3\KIDS01.gif"/>
          <p:cNvPicPr/>
          <p:nvPr/>
        </p:nvPicPr>
        <p:blipFill>
          <a:blip r:embed="rId1"/>
          <a:stretch/>
        </p:blipFill>
        <p:spPr>
          <a:xfrm>
            <a:off x="3714840" y="5072040"/>
            <a:ext cx="1857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Monotype Corsiva"/>
              </a:rPr>
              <a:t>Конкурс «Имен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00040" y="242856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На листе бумаги запишите как можно больше женских полных имен (5 минут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C:\Documents and Settings\User\Мои документы\Лена\курсы\Курсы информ\Анимированные рисунки по темам\Бабочки\B_Fly07.gif"/>
          <p:cNvPicPr/>
          <p:nvPr/>
        </p:nvPicPr>
        <p:blipFill>
          <a:blip r:embed="rId1"/>
          <a:stretch/>
        </p:blipFill>
        <p:spPr>
          <a:xfrm rot="20241600">
            <a:off x="6072120" y="4285800"/>
            <a:ext cx="1590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Monotype Corsiva"/>
              </a:rPr>
              <a:t>Конкурс «Самое-самое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357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Выберите из своего списка самое длинное женское и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cc"/>
                </a:solidFill>
                <a:latin typeface="Arial"/>
              </a:rPr>
              <a:t>Сколько букв в им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C:\Documents and Settings\User\Мои документы\Лена\курсы\Курсы информ\Анимированные рисунки по темам\Подарок\2\f35.gif"/>
          <p:cNvPicPr/>
          <p:nvPr/>
        </p:nvPicPr>
        <p:blipFill>
          <a:blip r:embed="rId1"/>
          <a:stretch/>
        </p:blipFill>
        <p:spPr>
          <a:xfrm>
            <a:off x="6929280" y="4286160"/>
            <a:ext cx="130968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66"/>
                </a:solidFill>
                <a:latin typeface="Monotype Corsiva"/>
              </a:rPr>
              <a:t>Конкурс «Составь слово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8760" y="2499840"/>
            <a:ext cx="822960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Составьте  и запишите новые слова из слова «Екатерина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У кого боль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C:\Documents and Settings\User\Мои документы\Лена\курсы\Курсы информ\Анимированные рисунки по темам\День рождения\1\balloons.gif"/>
          <p:cNvPicPr/>
          <p:nvPr/>
        </p:nvPicPr>
        <p:blipFill>
          <a:blip r:embed="rId1"/>
          <a:stretch/>
        </p:blipFill>
        <p:spPr>
          <a:xfrm>
            <a:off x="7000920" y="4705200"/>
            <a:ext cx="128592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66"/>
                </a:solidFill>
                <a:latin typeface="Monotype Corsiva"/>
              </a:rPr>
              <a:t>Конкурс «О маме с любовью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28760" y="2142720"/>
            <a:ext cx="82296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Опишите ваших мам с помощью прилагательны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cc"/>
                </a:solidFill>
                <a:latin typeface="Arial"/>
              </a:rPr>
              <a:t>У кого больш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C:\Documents and Settings\User\Мои документы\Лена\курсы\Курсы информ\Анимированные рисунки по темам\Сердце\3\VHEART20.gif"/>
          <p:cNvPicPr/>
          <p:nvPr/>
        </p:nvPicPr>
        <p:blipFill>
          <a:blip r:embed="rId1"/>
          <a:stretch/>
        </p:blipFill>
        <p:spPr>
          <a:xfrm>
            <a:off x="7072200" y="4429080"/>
            <a:ext cx="928800" cy="16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8T09:43:19Z</dcterms:created>
  <dc:creator>AdmiN</dc:creator>
  <dc:description/>
  <dc:language>en-US</dc:language>
  <cp:lastModifiedBy>kabinet60</cp:lastModifiedBy>
  <dcterms:modified xsi:type="dcterms:W3CDTF">2009-12-05T09:26:16Z</dcterms:modified>
  <cp:revision>42</cp:revision>
  <dc:subject/>
  <dc:title>Слайд 1</dc:title>
</cp:coreProperties>
</file>