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5.jpeg" ContentType="image/jpeg"/>
  <Override PartName="/ppt/media/image7.gif" ContentType="image/gif"/>
  <Override PartName="/ppt/media/image3.jpeg" ContentType="image/jpeg"/>
  <Override PartName="/ppt/media/image1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9995-2820-4C62-8685-B47C0927C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512-511D-4570-B191-3CEBF596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7AC-30C9-4F4C-A29A-CF1748AE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2CF9-B336-40EF-9EC9-9EE074E2B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214E-136C-4C3A-89C0-8DE0D152A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DDCA-AB29-409E-BC55-C0CF5C71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ED7A9-095F-429A-9C4D-2E2654E9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BD1F-372F-4E7F-B0D4-61A5CA84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67C1-B3C6-4570-A5E0-AF5DD449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3572-8467-40C9-B7F9-88DECDC6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FD4F-9B00-46ED-AD50-5729D3F7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1425-FDD4-4A73-BB3E-0F8E06D6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85445-EB24-4981-98B3-D8F358C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A341-F9DB-47FB-91C3-C9E70ADA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49BB0-3236-44C0-A640-CDCE335F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DF66-E70C-4EE7-8F31-C9BE0FA6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B2B8-767D-4BFF-82E0-7760C6B9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B49-A0C1-48E6-BFD9-6A402AE78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D8A-03D5-4C83-A3E6-8102D98E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602D-609E-49D1-9FEE-DFB20024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BDA9-4805-4AC0-AD41-FD037FF2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709C-0394-4667-9236-EE4ACFA8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7AAE-F5E1-4FD7-B0F6-0437F1DD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8115-0419-454F-BC9A-FD2DE8E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CD5A-4BED-4D2A-AAB3-4A4C4670C67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B709-DCE7-418D-8538-8CFFDEB5BA5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0"/>
          <p:cNvSpPr txBox="1"/>
          <p:nvPr/>
        </p:nvSpPr>
        <p:spPr>
          <a:xfrm>
            <a:off x="142920" y="1285920"/>
            <a:ext cx="87868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нь     матер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714680" y="35719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cc"/>
                </a:solidFill>
                <a:latin typeface="Arial"/>
              </a:rPr>
              <a:t>29 ноябр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Monotype Corsiva"/>
              </a:rPr>
              <a:t>Подведем итоги иг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одержимое 2" descr=""/>
          <p:cNvPicPr/>
          <p:nvPr/>
        </p:nvPicPr>
        <p:blipFill>
          <a:blip r:embed="rId1"/>
          <a:stretch/>
        </p:blipFill>
        <p:spPr>
          <a:xfrm>
            <a:off x="291960" y="2120760"/>
            <a:ext cx="8401320" cy="401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Documents and Settings\User\Мои документы\Лена\курсы\Курсы информ\Анимированные рисунки по темам\День рождения\1\99.gif"/>
          <p:cNvPicPr/>
          <p:nvPr/>
        </p:nvPicPr>
        <p:blipFill>
          <a:blip r:embed="rId2"/>
          <a:stretch/>
        </p:blipFill>
        <p:spPr>
          <a:xfrm>
            <a:off x="5857920" y="2500200"/>
            <a:ext cx="14065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Monotype Corsiva"/>
              </a:rPr>
              <a:t>Моя ма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днажды я сказал дpyзьям: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Hа свете много добpых мам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Hо не найти, pyчаюсь я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акyю мамy, как моя!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на кyпила для меня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Hа колесиках коня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аблю, кpаски и альбом...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олько pазве дело в том?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Я и так ее люблю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амy, мамочкy мо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56360" y="2276640"/>
            <a:ext cx="2376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Monotype Corsiva"/>
              </a:rPr>
              <a:t>Не забудьте поздравить своих ма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User\Мои документы\Лена\курсы\Курсы информ\Анимированные рисунки по темам\День рождения\2\1.gif"/>
          <p:cNvPicPr/>
          <p:nvPr/>
        </p:nvPicPr>
        <p:blipFill>
          <a:blip r:embed="rId1"/>
          <a:stretch/>
        </p:blipFill>
        <p:spPr>
          <a:xfrm>
            <a:off x="3643200" y="3429000"/>
            <a:ext cx="1605240" cy="24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Documents and Settings\User\Мои документы\Лена\курсы\Курсы информ\Анимированные рисунки по темам\цветы\А- (13).gif"/>
          <p:cNvPicPr/>
          <p:nvPr/>
        </p:nvPicPr>
        <p:blipFill>
          <a:blip r:embed="rId2"/>
          <a:stretch/>
        </p:blipFill>
        <p:spPr>
          <a:xfrm>
            <a:off x="4786200" y="5000760"/>
            <a:ext cx="1524240" cy="1199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Documents and Settings\User\Мои документы\Лена\курсы\Курсы информ\Анимированные рисунки по темам\цветы\А- (13).gif"/>
          <p:cNvPicPr/>
          <p:nvPr/>
        </p:nvPicPr>
        <p:blipFill>
          <a:blip r:embed="rId3"/>
          <a:stretch/>
        </p:blipFill>
        <p:spPr>
          <a:xfrm>
            <a:off x="2571840" y="5000760"/>
            <a:ext cx="1523880" cy="119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User\Мои документы\Лена\курсы\Курсы информ\Анимированные рисунки по темам\цветы\А- (13).gif"/>
          <p:cNvPicPr/>
          <p:nvPr/>
        </p:nvPicPr>
        <p:blipFill>
          <a:blip r:embed="rId4"/>
          <a:stretch/>
        </p:blipFill>
        <p:spPr>
          <a:xfrm>
            <a:off x="1071720" y="5000760"/>
            <a:ext cx="1523880" cy="1199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User\Мои документы\Лена\курсы\Курсы информ\Анимированные рисунки по темам\цветы\А- (13).gif"/>
          <p:cNvPicPr/>
          <p:nvPr/>
        </p:nvPicPr>
        <p:blipFill>
          <a:blip r:embed="rId5"/>
          <a:stretch/>
        </p:blipFill>
        <p:spPr>
          <a:xfrm>
            <a:off x="6286680" y="5000760"/>
            <a:ext cx="15238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8"/>
          <p:cNvSpPr txBox="1"/>
          <p:nvPr/>
        </p:nvSpPr>
        <p:spPr>
          <a:xfrm>
            <a:off x="324000" y="907920"/>
            <a:ext cx="835164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57120" y="250020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Monotype Corsiva"/>
              </a:rPr>
              <a:t>До новых встреч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1"/>
          <a:stretch/>
        </p:blipFill>
        <p:spPr>
          <a:xfrm>
            <a:off x="4071960" y="4857840"/>
            <a:ext cx="793800" cy="106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2"/>
          <a:stretch/>
        </p:blipFill>
        <p:spPr>
          <a:xfrm>
            <a:off x="5000760" y="4643280"/>
            <a:ext cx="793440" cy="127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3"/>
          <a:stretch/>
        </p:blipFill>
        <p:spPr>
          <a:xfrm>
            <a:off x="6000840" y="4714920"/>
            <a:ext cx="936360" cy="1276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4"/>
          <a:stretch/>
        </p:blipFill>
        <p:spPr>
          <a:xfrm>
            <a:off x="2928960" y="4714920"/>
            <a:ext cx="936720" cy="12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5"/>
          <a:stretch/>
        </p:blipFill>
        <p:spPr>
          <a:xfrm>
            <a:off x="1857240" y="4643280"/>
            <a:ext cx="865440" cy="1276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6"/>
          <a:stretch/>
        </p:blipFill>
        <p:spPr>
          <a:xfrm>
            <a:off x="6929280" y="4714920"/>
            <a:ext cx="93672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7"/>
          <a:stretch/>
        </p:blipFill>
        <p:spPr>
          <a:xfrm>
            <a:off x="571680" y="4786200"/>
            <a:ext cx="10792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Hаша мамоч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 кем пеpвым мы встpечаемся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pидя на белый свет, -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ак это наша мамочка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Ее милее нет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ся жизнь вокpyг нее вpащается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есь миp наш ею обогpет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есь век она стаpается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Hас yбеpечь от бед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на - опоpа в доме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Хлопочет каждый час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никого нет кpоме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то так любил бы нас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ак счастья ей побольше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жизни лет подольше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pадость ей в yдел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меньше гpyстных де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186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3840" y="3857760"/>
            <a:ext cx="8393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День матери — международный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Monotype Corsiva"/>
              </a:rPr>
              <a:t>праздник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честь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Monotype Corsiva"/>
              </a:rPr>
              <a:t>матерей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. В этот день принято поздравлять всех м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thumbnail[25]"/>
          <p:cNvPicPr/>
          <p:nvPr/>
        </p:nvPicPr>
        <p:blipFill>
          <a:blip r:embed="rId1"/>
          <a:stretch/>
        </p:blipFill>
        <p:spPr>
          <a:xfrm>
            <a:off x="3143160" y="571680"/>
            <a:ext cx="3500640" cy="2838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Малыш"/>
          <p:cNvPicPr/>
          <p:nvPr/>
        </p:nvPicPr>
        <p:blipFill>
          <a:blip r:embed="rId2"/>
          <a:stretch/>
        </p:blipFill>
        <p:spPr>
          <a:xfrm>
            <a:off x="357120" y="1000080"/>
            <a:ext cx="2505240" cy="213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thumbnail[59]"/>
          <p:cNvPicPr/>
          <p:nvPr/>
        </p:nvPicPr>
        <p:blipFill>
          <a:blip r:embed="rId3"/>
          <a:stretch/>
        </p:blipFill>
        <p:spPr>
          <a:xfrm>
            <a:off x="6786720" y="642960"/>
            <a:ext cx="20635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ff"/>
                </a:solidFill>
                <a:latin typeface="Monotype Corsiva"/>
              </a:rPr>
              <a:t>День матери в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840" y="4500360"/>
            <a:ext cx="864252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России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праздник «День матери» учреждён в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1998 году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. Этот праздник отмечается в последнее ноябрьское воскресен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0" descr="472_0460[1]"/>
          <p:cNvPicPr/>
          <p:nvPr/>
        </p:nvPicPr>
        <p:blipFill>
          <a:blip r:embed="rId1"/>
          <a:stretch/>
        </p:blipFill>
        <p:spPr>
          <a:xfrm>
            <a:off x="2771640" y="1268280"/>
            <a:ext cx="3446640" cy="2803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66"/>
                </a:solidFill>
                <a:latin typeface="Monotype Corsiva"/>
              </a:rPr>
              <a:t>А теперь поиграе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2286000"/>
            <a:ext cx="885816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Каждый ряд – это команда игро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За каждый правильный и полный ответ – команда получает одно очко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Documents and Settings\User\Мои документы\Лена\курсы\Курсы информ\Анимированные рисунки по темам\Дети\3\KIDS01.gif"/>
          <p:cNvPicPr/>
          <p:nvPr/>
        </p:nvPicPr>
        <p:blipFill>
          <a:blip r:embed="rId1"/>
          <a:stretch/>
        </p:blipFill>
        <p:spPr>
          <a:xfrm>
            <a:off x="3714840" y="507204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Monotype Corsiva"/>
              </a:rPr>
              <a:t>Конкурс «Имен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242856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На листе бумаги запишите как можно больше женских полных имен (5 мину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User\Мои документы\Лена\курсы\Курсы информ\Анимированные рисунки по темам\Бабочки\B_Fly07.gif"/>
          <p:cNvPicPr/>
          <p:nvPr/>
        </p:nvPicPr>
        <p:blipFill>
          <a:blip r:embed="rId1"/>
          <a:stretch/>
        </p:blipFill>
        <p:spPr>
          <a:xfrm rot="20241600">
            <a:off x="6072120" y="4285800"/>
            <a:ext cx="1590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Monotype Corsiva"/>
              </a:rPr>
              <a:t>Конкурс «Самое-само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ыберите из своего списка самое длинное женское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Сколько букв в и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User\Мои документы\Лена\курсы\Курсы информ\Анимированные рисунки по темам\Подарок\2\f35.gif"/>
          <p:cNvPicPr/>
          <p:nvPr/>
        </p:nvPicPr>
        <p:blipFill>
          <a:blip r:embed="rId1"/>
          <a:stretch/>
        </p:blipFill>
        <p:spPr>
          <a:xfrm>
            <a:off x="6929280" y="4286160"/>
            <a:ext cx="1309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Monotype Corsiva"/>
              </a:rPr>
              <a:t>Конкурс «Составь слово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499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Составьте  и запишите новые слова из слова «Екатерин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У кого больш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Documents and Settings\User\Мои документы\Лена\курсы\Курсы информ\Анимированные рисунки по темам\День рождения\1\balloons.gif"/>
          <p:cNvPicPr/>
          <p:nvPr/>
        </p:nvPicPr>
        <p:blipFill>
          <a:blip r:embed="rId1"/>
          <a:stretch/>
        </p:blipFill>
        <p:spPr>
          <a:xfrm>
            <a:off x="7000920" y="4705200"/>
            <a:ext cx="1285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Monotype Corsiva"/>
              </a:rPr>
              <a:t>Конкурс «О маме с любовью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2142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Опишите ваших мам с помощью прилагатель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У кого больш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User\Мои документы\Лена\курсы\Курсы информ\Анимированные рисунки по темам\Сердце\3\VHEART20.gif"/>
          <p:cNvPicPr/>
          <p:nvPr/>
        </p:nvPicPr>
        <p:blipFill>
          <a:blip r:embed="rId1"/>
          <a:stretch/>
        </p:blipFill>
        <p:spPr>
          <a:xfrm>
            <a:off x="7072200" y="4429080"/>
            <a:ext cx="928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09:43:19Z</dcterms:created>
  <dc:creator>AdmiN</dc:creator>
  <dc:description/>
  <dc:language>en-US</dc:language>
  <cp:lastModifiedBy>kabinet60</cp:lastModifiedBy>
  <dcterms:modified xsi:type="dcterms:W3CDTF">2009-12-05T09:26:16Z</dcterms:modified>
  <cp:revision>42</cp:revision>
  <dc:subject/>
  <dc:title>Слайд 1</dc:title>
</cp:coreProperties>
</file>