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2.jpeg" ContentType="image/jpeg"/>
  <Override PartName="/ppt/media/camera.wav" ContentType="audio/x-wav"/>
  <Override PartName="/ppt/media/image43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C23-7E44-43E1-9C5E-0A329B0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553-7A7B-40C6-81D0-4402B865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C9A-9987-4584-9DFD-93F8D147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372-579C-4ACD-83C5-023099C5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0A4-59D8-4DA8-BFEF-58C3DD24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F935-A083-4A3A-9F31-37CDE79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0156-294A-4516-ADE1-6240604F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5056-CCF8-4E75-A053-A724D7B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828-38D0-4658-A22E-B19049A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A42-F647-4B61-A96A-7DF6A60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D679-62CC-4751-8E86-39B00FC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AA0-D8F2-43E7-B0BC-80021F0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CF84-9146-44A8-9D1E-C9454E0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7A37-3A7B-406E-BD97-5DE4FE8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E9BB-A37D-4562-AE12-B665EB0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6B4-A546-4B0C-A82D-7E17F3E1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7B44-1A96-4985-993E-0EB22E3D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435-98FA-4D06-9F92-CC5C8AA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DBC-016D-4569-BA28-4706EBE3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77E-F84B-490B-BCAB-FD736B6D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DBC-9FA5-485A-9252-4AEF0CF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B21-A1E6-4146-9926-99A5CE7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3C7-449E-4A07-898F-C4E8FCA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C49-71BD-41BC-9195-40891EB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F1A8-7A7B-48C3-870B-0668D4BB035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8F6E-4135-4767-8860-520DA01ED1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ndschau-online.de/ks/images/mdsBild/1257159071578l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citylux.info/files/images/Universitet_Leipzig.jp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s49.radikal.ru/i125/0904/14/306e571e2884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bravointour.zp.ua/images/tours/big_burning_tour38.jp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9.radikal.ru/i125/0904/14/306e571e2884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ravointour.zp.ua/images/tours/big_burning_tour38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g-fotki.yandex.ru/get/3/vibpxhgglzd.2ce/0_c3be_df32a0c9_XL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57280"/>
            <a:ext cx="91440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Die Bundesrepublik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  Deutschla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6" descr="http://www.wocas.net/Portals/0/deutsche-Flagge.gif"/>
          <p:cNvPicPr/>
          <p:nvPr/>
        </p:nvPicPr>
        <p:blipFill>
          <a:blip r:embed="rId1"/>
          <a:stretch/>
        </p:blipFill>
        <p:spPr>
          <a:xfrm>
            <a:off x="928800" y="2142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755640" y="4869000"/>
            <a:ext cx="820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image1"/>
          <p:cNvPicPr/>
          <p:nvPr/>
        </p:nvPicPr>
        <p:blipFill>
          <a:blip r:embed="rId2"/>
          <a:stretch/>
        </p:blipFill>
        <p:spPr>
          <a:xfrm>
            <a:off x="6215040" y="214200"/>
            <a:ext cx="1731960" cy="2143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3482280" y="52293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: Богданова Т.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cc"/>
                </a:solidFill>
                <a:latin typeface="Tahoma"/>
              </a:rPr>
              <a:t>Leipzi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2560" y="4643280"/>
            <a:ext cx="9001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es Rathau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ie Universitätsbibliothek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2" descr="Картинка 39 из 302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1643040"/>
            <a:ext cx="2303640" cy="3071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Картинка 110 из 302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920" y="142884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артинка 125 из 30259"/>
          <p:cNvPicPr/>
          <p:nvPr/>
        </p:nvPicPr>
        <p:blipFill>
          <a:blip r:embed="rId5"/>
          <a:stretch/>
        </p:blipFill>
        <p:spPr>
          <a:xfrm>
            <a:off x="142920" y="1928880"/>
            <a:ext cx="32893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4786200"/>
            <a:ext cx="82296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eim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Картинка 16 из 8656"/>
          <p:cNvPicPr/>
          <p:nvPr/>
        </p:nvPicPr>
        <p:blipFill>
          <a:blip r:embed="rId1"/>
          <a:stretch/>
        </p:blipFill>
        <p:spPr>
          <a:xfrm>
            <a:off x="285840" y="1143000"/>
            <a:ext cx="3925800" cy="28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Картинка 42 из 8656"/>
          <p:cNvPicPr/>
          <p:nvPr/>
        </p:nvPicPr>
        <p:blipFill>
          <a:blip r:embed="rId2"/>
          <a:stretch/>
        </p:blipFill>
        <p:spPr>
          <a:xfrm>
            <a:off x="4500720" y="1058760"/>
            <a:ext cx="4433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Die größte Industriezentren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Картинка 6 из 71020"/>
          <p:cNvPicPr/>
          <p:nvPr/>
        </p:nvPicPr>
        <p:blipFill>
          <a:blip r:embed="rId1"/>
          <a:stretch/>
        </p:blipFill>
        <p:spPr>
          <a:xfrm>
            <a:off x="285840" y="857160"/>
            <a:ext cx="4572000" cy="3463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214280" y="39290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Картинка 110 из 30259"/>
          <p:cNvPicPr/>
          <p:nvPr/>
        </p:nvPicPr>
        <p:blipFill>
          <a:blip r:embed="rId2"/>
          <a:stretch/>
        </p:blipFill>
        <p:spPr>
          <a:xfrm>
            <a:off x="4929120" y="857160"/>
            <a:ext cx="2357640" cy="31435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521496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Leipz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image1"/>
          <p:cNvPicPr/>
          <p:nvPr/>
        </p:nvPicPr>
        <p:blipFill>
          <a:blip r:embed="rId3"/>
          <a:stretch/>
        </p:blipFill>
        <p:spPr>
          <a:xfrm>
            <a:off x="285840" y="4357800"/>
            <a:ext cx="4614840" cy="21430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357280" y="6072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ün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214200" y="14292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Natur des Landes ist sehr schön. Es gibt hier Wälder, Felder, Berge, Flüsse und Seen.  Wir können die bedeutendsten Berge, Flüsse, und Seen auf den Landkarte Deutschlands find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D:\альпийский вояж\альпийский вояж1\DSCN0501.JPG"/>
          <p:cNvPicPr/>
          <p:nvPr/>
        </p:nvPicPr>
        <p:blipFill>
          <a:blip r:embed="rId1"/>
          <a:stretch/>
        </p:blipFill>
        <p:spPr>
          <a:xfrm>
            <a:off x="0" y="10000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D:\альпийский вояж\альпийский вояж1\DSCN0508.JPG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:\альпийский вояж\альпийский вояж1\DSCN0544.JPG"/>
          <p:cNvPicPr/>
          <p:nvPr/>
        </p:nvPicPr>
        <p:blipFill>
          <a:blip r:embed="rId3"/>
          <a:stretch/>
        </p:blipFill>
        <p:spPr>
          <a:xfrm>
            <a:off x="3071880" y="928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D:\альпийский вояж\альпийский вояж1\DSCN0559.JPG"/>
          <p:cNvPicPr/>
          <p:nvPr/>
        </p:nvPicPr>
        <p:blipFill>
          <a:blip r:embed="rId4"/>
          <a:stretch/>
        </p:blipFill>
        <p:spPr>
          <a:xfrm>
            <a:off x="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D:\альпийский вояж\альпийский вояж1\DSCN0607.JPG"/>
          <p:cNvPicPr/>
          <p:nvPr/>
        </p:nvPicPr>
        <p:blipFill>
          <a:blip r:embed="rId5"/>
          <a:stretch/>
        </p:blipFill>
        <p:spPr>
          <a:xfrm>
            <a:off x="6072120" y="3357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D:\ГЕРМАНИЯ 2010\DSCN0181.JPG"/>
          <p:cNvPicPr/>
          <p:nvPr/>
        </p:nvPicPr>
        <p:blipFill>
          <a:blip r:embed="rId6"/>
          <a:stretch/>
        </p:blipFill>
        <p:spPr>
          <a:xfrm>
            <a:off x="3071880" y="3357720"/>
            <a:ext cx="2901960" cy="21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86240" y="214200"/>
            <a:ext cx="35006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größten Flüsse Deutschlands sind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er Rhei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      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Weser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Elbe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,             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Oder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und                    </a:t>
            </a: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die Donau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156360" y="4437000"/>
            <a:ext cx="29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r größte Se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er Bodens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image1"/>
          <p:cNvPicPr/>
          <p:nvPr/>
        </p:nvPicPr>
        <p:blipFill>
          <a:blip r:embed="rId1"/>
          <a:stretch/>
        </p:blipFill>
        <p:spPr>
          <a:xfrm>
            <a:off x="0" y="0"/>
            <a:ext cx="53053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Line 7"/>
          <p:cNvSpPr/>
          <p:nvPr/>
        </p:nvSpPr>
        <p:spPr>
          <a:xfrm flipV="1">
            <a:off x="2928960" y="2785680"/>
            <a:ext cx="2928960" cy="27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2224080" y="5367240"/>
            <a:ext cx="414324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571840" y="1500120"/>
            <a:ext cx="3214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642960" y="1213920"/>
            <a:ext cx="5143320" cy="17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2071800" y="1571400"/>
            <a:ext cx="37144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5000760" y="2428560"/>
            <a:ext cx="714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IMG_1040"/>
          <p:cNvPicPr/>
          <p:nvPr/>
        </p:nvPicPr>
        <p:blipFill>
          <a:blip r:embed="rId1"/>
          <a:stretch/>
        </p:blipFill>
        <p:spPr>
          <a:xfrm>
            <a:off x="2858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5500800" y="1214280"/>
            <a:ext cx="3500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5357880" y="2214720"/>
            <a:ext cx="3786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utschland hat viele Gebirge. Das si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Harz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Thüringer Wal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as Erzgebirg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er Schwarzwal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die Bayerische Alpe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r höchste Berg ist die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Zugspitz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(2962 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3"/>
          <p:cNvCxnSpPr/>
          <p:nvPr/>
        </p:nvCxnSpPr>
        <p:spPr>
          <a:xfrm flipH="1">
            <a:off x="3285720" y="3070800"/>
            <a:ext cx="2215440" cy="2149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4" name="Прямая со стрелкой 15"/>
          <p:cNvCxnSpPr/>
          <p:nvPr/>
        </p:nvCxnSpPr>
        <p:spPr>
          <a:xfrm flipH="1">
            <a:off x="3214440" y="3429000"/>
            <a:ext cx="2286720" cy="64332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5" name="Прямая со стрелкой 22"/>
          <p:cNvCxnSpPr/>
          <p:nvPr/>
        </p:nvCxnSpPr>
        <p:spPr>
          <a:xfrm flipH="1">
            <a:off x="4285440" y="3929040"/>
            <a:ext cx="1143720" cy="286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6" name="Прямая со стрелкой 24"/>
          <p:cNvCxnSpPr/>
          <p:nvPr/>
        </p:nvCxnSpPr>
        <p:spPr>
          <a:xfrm flipH="1">
            <a:off x="1642320" y="4570920"/>
            <a:ext cx="3786840" cy="1429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7" name="Прямая со стрелкой 31"/>
          <p:cNvCxnSpPr/>
          <p:nvPr/>
        </p:nvCxnSpPr>
        <p:spPr>
          <a:xfrm flipH="1">
            <a:off x="3428280" y="5142600"/>
            <a:ext cx="2072520" cy="128628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208" name="Прямая со стрелкой 33"/>
          <p:cNvCxnSpPr/>
          <p:nvPr/>
        </p:nvCxnSpPr>
        <p:spPr>
          <a:xfrm flipH="1">
            <a:off x="3142440" y="6429240"/>
            <a:ext cx="2429640" cy="2865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42920" y="214200"/>
          <a:ext cx="4500360" cy="628668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7132680">
                <a:tc>
                  <a:txBody>
                    <a:bodyPr lIns="0" rIns="0" tIns="0" bIns="0" anchor="t">
                      <a:noAutofit/>
                    </a:bodyPr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de-DE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Bildet die Satz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.Deutschland heißt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Sie vereinig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Die  Hauptstadt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Die Staatsflagge Deutschlands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Deutschland liegt in der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Di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 ist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Es gibt hier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Auf der Landkarte  können wir d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e 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chtigste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Industriezweige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Die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ndwirtschaft i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572000" y="142920"/>
          <a:ext cx="4357800" cy="713268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8229960">
                <a:tc>
                  <a:txBody>
                    <a:bodyPr lIns="0" rIns="0" tIns="0" bIns="0" anchor="t">
                      <a:noAutofit/>
                    </a:bodyPr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)hoch entwickel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) sind : chemische Industrie, Maschinenbau, Optik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c)16 </a:t>
                      </a: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ndesländ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) Bundesrepublik Deutschland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)schwarz -rot-gelb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) schö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) Wälder, Felder, Berge, Flusse und Seen seh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)Mitte Europa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) Berli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) Industrie-und Kulturzentre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000000"/>
                        </a:buClr>
                        <a:buSzPct val="58000"/>
                        <a:buFont typeface="Tahoma"/>
                        <a:buChar char="•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227160" y="572760"/>
            <a:ext cx="304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 .Deutschland heißt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57040" y="1001160"/>
            <a:ext cx="200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2. Sie vereini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9600" y="1429920"/>
            <a:ext cx="291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3. Die  Hauptstadt ist</a:t>
            </a: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9320" y="1858320"/>
            <a:ext cx="455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4. Die Staatsflagge Deutschlands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214200" y="2286000"/>
            <a:ext cx="350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5. Deutschland liegt in 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260280" y="2643120"/>
            <a:ext cx="21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6. Di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Natur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246960" y="3000240"/>
            <a:ext cx="212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7. Es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gibt h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228240" y="3429000"/>
            <a:ext cx="462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8.Auf der Landkarte  können wir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227160" y="421488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9.Die wichtigsten Industriezwei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231480" y="5000760"/>
            <a:ext cx="328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0. Di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Landwirtschaft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97160" y="1001160"/>
            <a:ext cx="231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16 Bundesländer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3301920" y="571680"/>
            <a:ext cx="371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desrepublik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936160" y="1429920"/>
            <a:ext cx="143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Berl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571920" y="2287080"/>
            <a:ext cx="264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Mitte Europas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428920" y="2644200"/>
            <a:ext cx="157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schö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761360" y="1858320"/>
            <a:ext cx="278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0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schwarz -rot-gel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857840" y="3431160"/>
            <a:ext cx="428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Wälder, Felder, Berge, Flusse und Seen se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6"/>
          <p:cNvSpPr/>
          <p:nvPr/>
        </p:nvSpPr>
        <p:spPr>
          <a:xfrm>
            <a:off x="2372400" y="3071880"/>
            <a:ext cx="382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- und Kulturzent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7"/>
          <p:cNvSpPr/>
          <p:nvPr/>
        </p:nvSpPr>
        <p:spPr>
          <a:xfrm>
            <a:off x="4572000" y="4214880"/>
            <a:ext cx="4143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sche Industrie, Maschinenbau, Opti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3505320" y="5001840"/>
            <a:ext cx="2657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hoch entwickel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5840" y="160020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М.Санникова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Deutsch. Schritte 4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ик немецкого языка для 8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В. Садомова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tsc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6 клас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 «Просвещение»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.Л.Бим, Л.В. Садомова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tsc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7 клас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 «Просвещение» 20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ые фотографии из путешествия по Германии в 201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24000" y="457200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utschland  liegt in der Mitte Europ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ine Nachbarn sind Dänemark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en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die Tschechis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publik, Österreich, Lichtenstein, die Schweiz, Frankreich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uxemburg, Belgien und die Niederl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Nordsee und die Ostsee bilden die natürliche Grenz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m No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IMG_1039"/>
          <p:cNvPicPr/>
          <p:nvPr/>
        </p:nvPicPr>
        <p:blipFill>
          <a:blip r:embed="rId1"/>
          <a:stretch/>
        </p:blipFill>
        <p:spPr>
          <a:xfrm>
            <a:off x="3044880" y="285840"/>
            <a:ext cx="3311640" cy="40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age1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071880" y="285840"/>
            <a:ext cx="3370320" cy="41432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6006240" y="1071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475960" y="264492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CHECHIS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PUBL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008960" y="21456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Ä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E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580720" y="3786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Ö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ERRE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295720" y="34293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RANKRE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936080" y="28580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UZEMBU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292920" y="414360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CHWE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21560" y="114336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IDERLAN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006360" y="5004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ORD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506200" y="286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OST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Hauptstadt  Deutschlands ist Berl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ie Staatsflagge ist schwarz - rot - gol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image1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429000" y="285840"/>
            <a:ext cx="4505400" cy="55213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7000920" y="17859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428760"/>
          <a:ext cx="3071880" cy="10000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4200" y="1428840"/>
          <a:ext cx="3071880" cy="71424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71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14200" y="2143080"/>
          <a:ext cx="3071880" cy="85716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47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e Wapp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2" descr="image1"/>
          <p:cNvPicPr/>
          <p:nvPr/>
        </p:nvPicPr>
        <p:blipFill>
          <a:blip r:embed="rId1"/>
          <a:stretch/>
        </p:blipFill>
        <p:spPr>
          <a:xfrm>
            <a:off x="2357280" y="1285920"/>
            <a:ext cx="4327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6160" y="188640"/>
            <a:ext cx="4857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utschland hat 16 Bundesländer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Jedes Bundesland hat sein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uptst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ayern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Münche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aden-Württemberg –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tuttgar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arland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Saarbrück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Rheinland-Pfalz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Mainz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ess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Wiesbad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Thüring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Erfurt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chsen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Dresd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achsen-Anhalt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Magdebur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ordrhein-Westfalen 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Düsseldorf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iedersachsen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-Hannove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randenburg -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Potsdam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Berli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Berli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reme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Breme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amburg-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Hamburg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chleswig-Holstein –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 Kiel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Mecklenburg-Vorpommern –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chwerin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image2"/>
          <p:cNvPicPr/>
          <p:nvPr/>
        </p:nvPicPr>
        <p:blipFill>
          <a:blip r:embed="rId1"/>
          <a:stretch/>
        </p:blipFill>
        <p:spPr>
          <a:xfrm>
            <a:off x="0" y="357120"/>
            <a:ext cx="4259160" cy="5929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2361600" y="5286240"/>
            <a:ext cx="95940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1291320" y="4786200"/>
            <a:ext cx="865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tuttga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2880" y="4357800"/>
            <a:ext cx="104796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Arial"/>
              </a:rPr>
              <a:t>Saarbrüc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291600" y="3071880"/>
            <a:ext cx="106308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üsseldorf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3"/>
          <p:cNvSpPr/>
          <p:nvPr/>
        </p:nvSpPr>
        <p:spPr>
          <a:xfrm>
            <a:off x="1859040" y="3143160"/>
            <a:ext cx="682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Erfu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3071880" y="3000240"/>
            <a:ext cx="1143000" cy="30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res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5"/>
          <p:cNvSpPr/>
          <p:nvPr/>
        </p:nvSpPr>
        <p:spPr>
          <a:xfrm>
            <a:off x="1361880" y="1428840"/>
            <a:ext cx="84960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1501920" y="2143080"/>
            <a:ext cx="84384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ann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717480" y="1714680"/>
            <a:ext cx="715680" cy="276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Arial"/>
              </a:rPr>
              <a:t>Bre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145960" y="1500120"/>
            <a:ext cx="808560" cy="276480"/>
          </a:xfrm>
          <a:prstGeom prst="rect">
            <a:avLst/>
          </a:prstGeom>
          <a:solidFill>
            <a:srgbClr val="ff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chwer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716040" y="3714840"/>
            <a:ext cx="945720" cy="276480"/>
          </a:xfrm>
          <a:prstGeom prst="rect">
            <a:avLst/>
          </a:prstGeom>
          <a:solidFill>
            <a:srgbClr val="985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esba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0"/>
          <p:cNvSpPr/>
          <p:nvPr/>
        </p:nvSpPr>
        <p:spPr>
          <a:xfrm>
            <a:off x="2860920" y="2286000"/>
            <a:ext cx="784080" cy="276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otsd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1573920" y="785880"/>
            <a:ext cx="435240" cy="276480"/>
          </a:xfrm>
          <a:prstGeom prst="rect">
            <a:avLst/>
          </a:prstGeom>
          <a:solidFill>
            <a:srgbClr val="985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Ki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2"/>
          <p:cNvSpPr/>
          <p:nvPr/>
        </p:nvSpPr>
        <p:spPr>
          <a:xfrm>
            <a:off x="646920" y="4071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2786040" y="2071800"/>
            <a:ext cx="6429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Ber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1930680" y="2357280"/>
            <a:ext cx="955080" cy="27648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gdebu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image1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857240" y="0"/>
            <a:ext cx="6059520" cy="686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mage1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357720" y="5143680"/>
            <a:ext cx="977760" cy="1417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mage1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143680" y="4572000"/>
            <a:ext cx="885600" cy="15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age1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6786720" y="1785960"/>
            <a:ext cx="57780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age1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5786280" y="1928880"/>
            <a:ext cx="75564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image1"/>
          <p:cNvPicPr/>
          <p:nvPr/>
        </p:nvPicPr>
        <p:blipFill>
          <a:blip r:embed="rId6">
            <a:lum contrast="40000"/>
          </a:blip>
          <a:stretch/>
        </p:blipFill>
        <p:spPr>
          <a:xfrm>
            <a:off x="3786120" y="1357200"/>
            <a:ext cx="500040" cy="87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mage1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4572000" y="1143000"/>
            <a:ext cx="500040" cy="906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image1"/>
          <p:cNvPicPr/>
          <p:nvPr/>
        </p:nvPicPr>
        <p:blipFill>
          <a:blip r:embed="rId8">
            <a:lum contrast="40000"/>
          </a:blip>
          <a:stretch/>
        </p:blipFill>
        <p:spPr>
          <a:xfrm>
            <a:off x="3857760" y="3143160"/>
            <a:ext cx="691920" cy="107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image1"/>
          <p:cNvPicPr/>
          <p:nvPr/>
        </p:nvPicPr>
        <p:blipFill>
          <a:blip r:embed="rId9">
            <a:lum contrast="40000"/>
          </a:blip>
          <a:stretch/>
        </p:blipFill>
        <p:spPr>
          <a:xfrm>
            <a:off x="5715000" y="571680"/>
            <a:ext cx="750960" cy="121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image1"/>
          <p:cNvPicPr/>
          <p:nvPr/>
        </p:nvPicPr>
        <p:blipFill>
          <a:blip r:embed="rId10">
            <a:lum contrast="40000"/>
          </a:blip>
          <a:stretch/>
        </p:blipFill>
        <p:spPr>
          <a:xfrm>
            <a:off x="2857680" y="1357200"/>
            <a:ext cx="741240" cy="857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image2"/>
          <p:cNvPicPr/>
          <p:nvPr/>
        </p:nvPicPr>
        <p:blipFill>
          <a:blip r:embed="rId11">
            <a:lum contrast="40000"/>
          </a:blip>
          <a:stretch/>
        </p:blipFill>
        <p:spPr>
          <a:xfrm>
            <a:off x="2643120" y="2357280"/>
            <a:ext cx="79056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image3"/>
          <p:cNvPicPr/>
          <p:nvPr/>
        </p:nvPicPr>
        <p:blipFill>
          <a:blip r:embed="rId12">
            <a:lum contrast="40000"/>
          </a:blip>
          <a:stretch/>
        </p:blipFill>
        <p:spPr>
          <a:xfrm>
            <a:off x="2286000" y="4643280"/>
            <a:ext cx="736560" cy="107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image1"/>
          <p:cNvPicPr/>
          <p:nvPr/>
        </p:nvPicPr>
        <p:blipFill>
          <a:blip r:embed="rId13">
            <a:lum contrast="40000"/>
          </a:blip>
          <a:stretch/>
        </p:blipFill>
        <p:spPr>
          <a:xfrm>
            <a:off x="5000760" y="2286000"/>
            <a:ext cx="74448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image2"/>
          <p:cNvPicPr/>
          <p:nvPr/>
        </p:nvPicPr>
        <p:blipFill>
          <a:blip r:embed="rId14">
            <a:lum contrast="40000"/>
          </a:blip>
          <a:stretch/>
        </p:blipFill>
        <p:spPr>
          <a:xfrm>
            <a:off x="4286160" y="0"/>
            <a:ext cx="657360" cy="10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image1"/>
          <p:cNvPicPr/>
          <p:nvPr/>
        </p:nvPicPr>
        <p:blipFill>
          <a:blip r:embed="rId15">
            <a:lum contrast="40000"/>
          </a:blip>
          <a:stretch/>
        </p:blipFill>
        <p:spPr>
          <a:xfrm>
            <a:off x="4929120" y="3214800"/>
            <a:ext cx="928800" cy="10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image2"/>
          <p:cNvPicPr/>
          <p:nvPr/>
        </p:nvPicPr>
        <p:blipFill>
          <a:blip r:embed="rId16">
            <a:lum contrast="40000"/>
          </a:blip>
          <a:stretch/>
        </p:blipFill>
        <p:spPr>
          <a:xfrm>
            <a:off x="6429240" y="3143160"/>
            <a:ext cx="893880" cy="121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image1"/>
          <p:cNvPicPr/>
          <p:nvPr/>
        </p:nvPicPr>
        <p:blipFill>
          <a:blip r:embed="rId17">
            <a:lum contrast="40000"/>
          </a:blip>
          <a:stretch/>
        </p:blipFill>
        <p:spPr>
          <a:xfrm>
            <a:off x="2786040" y="3786120"/>
            <a:ext cx="714240" cy="8571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5"/>
          <p:cNvSpPr/>
          <p:nvPr/>
        </p:nvSpPr>
        <p:spPr>
          <a:xfrm>
            <a:off x="0" y="4287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Jedes Land hat sein W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ie größte Kulturzentren sind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Bild: ErnserBild"/>
          <p:cNvPicPr/>
          <p:nvPr/>
        </p:nvPicPr>
        <p:blipFill>
          <a:blip r:embed="rId1"/>
          <a:stretch/>
        </p:blipFill>
        <p:spPr>
          <a:xfrm>
            <a:off x="3429000" y="642960"/>
            <a:ext cx="2714760" cy="300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9" descr="Branderburger Tor"/>
          <p:cNvPicPr/>
          <p:nvPr/>
        </p:nvPicPr>
        <p:blipFill>
          <a:blip r:embed="rId2"/>
          <a:stretch/>
        </p:blipFill>
        <p:spPr>
          <a:xfrm>
            <a:off x="214200" y="64296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00040" y="21430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li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143240" y="31431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öl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 flipV="1">
            <a:off x="6500880" y="23594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366920" y="60786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http://www.hickerphoto.com/data/media/181/ad_24324n.jpg"/>
          <p:cNvPicPr/>
          <p:nvPr/>
        </p:nvPicPr>
        <p:blipFill>
          <a:blip r:embed="rId3"/>
          <a:stretch/>
        </p:blipFill>
        <p:spPr>
          <a:xfrm>
            <a:off x="6294600" y="785880"/>
            <a:ext cx="2849400" cy="2143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6500880" y="2500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ünc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Картинка 6 из 710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571840"/>
            <a:ext cx="4143240" cy="3138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>
            <a:off x="1428840" y="5286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Картинка 38 из 3737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71960" y="3500280"/>
            <a:ext cx="4187880" cy="3143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3"/>
          <p:cNvSpPr/>
          <p:nvPr/>
        </p:nvSpPr>
        <p:spPr>
          <a:xfrm>
            <a:off x="7072200" y="61437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92876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Hamburg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Картинка 6 из 71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4640" y="785880"/>
            <a:ext cx="5186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5003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resden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Картинка 38 из 37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857160"/>
            <a:ext cx="4187880" cy="3143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Картинка 2 из 373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57160"/>
            <a:ext cx="42865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8:58:59Z</dcterms:created>
  <dc:creator>T.R.A.S.H.</dc:creator>
  <dc:description/>
  <dc:language>en-US</dc:language>
  <cp:lastModifiedBy>тат</cp:lastModifiedBy>
  <dcterms:modified xsi:type="dcterms:W3CDTF">2019-01-05T11:34:50Z</dcterms:modified>
  <cp:revision>108</cp:revision>
  <dc:subject/>
  <dc:title>Die    Bundesrepublik    Deutsch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