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17.gif" ContentType="image/gif"/>
  <Override PartName="/ppt/media/image16.png" ContentType="image/png"/>
  <Override PartName="/ppt/media/image10.png" ContentType="image/png"/>
  <Override PartName="/ppt/media/image3.jpeg" ContentType="image/jpeg"/>
  <Override PartName="/ppt/media/image15.gif" ContentType="image/gif"/>
  <Override PartName="/ppt/media/image7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5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E3B-A485-4009-B5E9-D20A45B351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027-4344-452B-97A7-65045AA98497}" type="slidenum">
              <a:rPr b="0" lang="ru-RU" sz="1200" spc="-1" strike="noStrike">
                <a:solidFill>
                  <a:srgbClr val="006e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047-DD87-420D-B2D0-914F76AA5C84}" type="slidenum">
              <a:rPr b="0" lang="ru-RU" sz="1200" spc="-1" strike="noStrike">
                <a:solidFill>
                  <a:srgbClr val="006e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680D-6154-42AE-A196-1779DFD8607D}" type="slidenum">
              <a:rPr b="0" lang="ru-RU" sz="1200" spc="-1" strike="noStrike">
                <a:solidFill>
                  <a:srgbClr val="006e6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22F-A0EB-4168-B99C-96891998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863-287C-45D7-A5D6-35FFD3DC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558-7001-45A8-8B25-0DD9C6AD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D7C-0EF6-4774-95AE-65196E73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4ADB-C15B-4CE9-AE2C-3FDEADB4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AD43-E8D1-4D60-B70C-CE4D176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25A1-6ADD-4B2A-87C4-DD0B04E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DD1-6CC2-424A-A9B1-F587889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CE49-CB26-4E02-8ECE-C84A213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2C9-C96B-465F-91FC-2DD1ABFF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CB6-F67F-4472-BE4B-CB219E7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3C5-478B-481A-85BC-7C01F05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A9C-7E92-48A3-AF2A-25695DD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DF3E-EC75-4EF9-8813-0035E3E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6087-6D0F-4F03-9B2C-EB32EAFA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9B87-D8B0-48E3-8919-180A1C60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BAAE-78BC-4397-86B2-CF98F735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AB52-EF66-4F62-9508-311089DE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8539-6A57-4844-BDA2-DBD0C5D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7D98-732F-47B4-8F1F-92FA83CB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BBA3-59E4-4B85-AE5C-73AD05D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2EE3-BB95-4042-9DCF-843D346A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39E-83EB-4FBD-B33F-E911919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2991-3E94-4B7E-85A8-EE25BFC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F52D-FE71-4B2D-82DC-BBE7DC6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EB9D-3C2A-4C26-930A-E12DD0A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758E-84A0-4F93-AC40-05950F2A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DE10-8043-42BC-BCB2-CDAED93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C2B5-4248-4202-84AA-57CCBD1C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D398-053B-43E8-9033-3090B65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323-4D40-47A9-9010-5225BEC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8B9-0D4E-4A36-8211-A898AF95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B42-346D-4682-8785-7C7A7FA8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D2D-C7D6-491A-9B86-76418B1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319-2E91-4363-8B31-C7571354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0C9-4948-4C87-A32A-016B959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a3a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23B7-47B2-4AE1-A844-C8B564B109D6}" type="slidenum">
              <a:rPr b="0" lang="en-US" sz="1200" spc="-1" strike="noStrike">
                <a:solidFill>
                  <a:srgbClr val="89a3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4E2-BDAB-45D4-9737-5DB80260FBF3}" type="slidenum">
              <a:rPr b="0" lang="ru-RU" sz="1200" spc="-1" strike="noStrike">
                <a:solidFill>
                  <a:srgbClr val="89a3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e6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e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6e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e6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a3a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2BA-BE85-4709-A257-008AABF043C7}" type="slidenum">
              <a:rPr b="0" lang="ru-RU" sz="1200" spc="-1" strike="noStrike">
                <a:solidFill>
                  <a:srgbClr val="89a3a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350"/>
                </a:solidFill>
                <a:latin typeface="Calibri"/>
              </a:rPr>
              <a:t>Интеллектуальная </a:t>
            </a:r>
            <a:br>
              <a:rPr sz="4800"/>
            </a:br>
            <a:r>
              <a:rPr b="1" lang="ru-RU" sz="4800" spc="-1" strike="noStrike">
                <a:solidFill>
                  <a:srgbClr val="005350"/>
                </a:solidFill>
                <a:latin typeface="Calibri"/>
              </a:rPr>
              <a:t>игра</a:t>
            </a:r>
            <a:endParaRPr b="0" lang="en-US" sz="4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350"/>
                </a:solidFill>
                <a:latin typeface="Calibri"/>
              </a:rPr>
              <a:t>«Физбой»</a:t>
            </a:r>
            <a:endParaRPr b="0" lang="en-US" sz="4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32" name="Picture 7" descr="36_14_2"/>
          <p:cNvPicPr/>
          <p:nvPr/>
        </p:nvPicPr>
        <p:blipFill>
          <a:blip r:embed="rId1"/>
          <a:stretch/>
        </p:blipFill>
        <p:spPr>
          <a:xfrm>
            <a:off x="7086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3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Все поведает, хоть и без языка, когда будет ясно, а когда - облака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Барометр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Клубится, а не дым, ложится, а не снег.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Туман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3.Им силу тока изменяют, если что-то в нем сдвигаю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Реостат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4.Книги читают, а грамоты не знаю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Очки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5.Был один Антошка, посмотрел в окошко - там второй Антошка! Что это за окошко? Куда смотрел Антошка?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Зеркало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56" name="Picture 4" descr="PENGUI_1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3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6.Висит груша - нельзя скушать.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(Лампочка)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7.Что с земли не поднимешь?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ень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8.Видно нет у нее ума: ест она себя сама. (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веча)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9.Чист и ясен, как алмаз,  дорог не бывает, он от матери рожден, сам ее рождае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Лед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10. Вечером наземь слетает, ночь на земле пребывает, утром опять улетает. (</a:t>
            </a:r>
            <a:r>
              <a:rPr b="1" lang="ru-RU" sz="2800" spc="-1" strike="noStrike">
                <a:solidFill>
                  <a:srgbClr val="4f44da"/>
                </a:solidFill>
                <a:latin typeface="Calibri"/>
              </a:rPr>
              <a:t>Роса</a:t>
            </a: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59" name="Picture 4" descr="PENGUI_1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 4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Согласны ли вы с тем, что... 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пишите рядом с вопросами «</a:t>
            </a:r>
            <a:r>
              <a:rPr b="1" lang="ru-RU" sz="2400" spc="-1" strike="noStrike">
                <a:solidFill>
                  <a:srgbClr val="2f0bb5"/>
                </a:solidFill>
                <a:latin typeface="Calibri"/>
              </a:rPr>
              <a:t>да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» или «</a:t>
            </a:r>
            <a:r>
              <a:rPr b="1" lang="ru-RU" sz="2400" spc="-1" strike="noStrike">
                <a:solidFill>
                  <a:srgbClr val="2f0bb5"/>
                </a:solidFill>
                <a:latin typeface="Calibri"/>
              </a:rPr>
              <a:t>нет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»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аждый правильный ответ приносит  1балл команде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 ...водяной пар имеет вид белых клубов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 ...удельная теплота сгорания пороха меньше, чем керосина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 ...холодная вода быстрее гасит огонь, чем кипяток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 ...в полном чайнике вода остывает медленнее, чем в неполном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 ...южный магнитный полюс Земли находится в Антарктиде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68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68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Конкурс № 4</a:t>
            </a:r>
            <a:br>
              <a:rPr sz="3200"/>
            </a:b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«Согласны ли вы с тем, что... 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...появление подъемной силы у движущегося крыла самолета объясняется действием закона Ома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 ...гигрометром измеряют влажность воздуха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 … в состав ядра атома входят электроны, протоны, нейтроны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9. …обычно на колбе электрической лампы, которая светит у каждого из вас в квартире, указывают ее электрические параметры  - силу тока, напряжение, мощность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….словами якорь, ротор и статор называют вращающиеся части электрической машины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4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 ...водяной пар имеет вид белых клубов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 ...удельная теплота сгорания пороха меньше, чем керосина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 ...холодная вода быстрее гасит огонь, чем кипяток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 ...в полном чайнике вода остывает медленнее, чем в неполном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 ...южный магнитный полюс Земли находится в Антарктиде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...появление подъемной силы у движущегося крыла самолета объясняется действием закона Ома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66" name="Picture 4" descr="черепаха веселая"/>
          <p:cNvPicPr/>
          <p:nvPr/>
        </p:nvPicPr>
        <p:blipFill>
          <a:blip r:embed="rId1"/>
          <a:stretch/>
        </p:blipFill>
        <p:spPr>
          <a:xfrm>
            <a:off x="7451640" y="765000"/>
            <a:ext cx="1513080" cy="13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e6b"/>
                </a:solidFill>
                <a:uFillTx/>
                <a:latin typeface="Calibri"/>
              </a:rPr>
              <a:t>Ответы к конкурсу №4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 ...гигрометром измеряют влажность воздуха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 …в состав ядра атома входят электроны, протоны, нейтроны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9. …обычно на колбе электрической лампы, которая светит у каждого из вас в квартире, указывают ее электрические параметры _ силу тока, напряжение, мощность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….словами якорь, ротор и статор называют вращающиеся части электрической машины? </a:t>
            </a:r>
            <a:r>
              <a:rPr b="1" lang="ru-RU" sz="2400" spc="-1" strike="noStrike">
                <a:solidFill>
                  <a:srgbClr val="4f44da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69" name="Picture 4" descr="PENGUI_1"/>
          <p:cNvPicPr/>
          <p:nvPr/>
        </p:nvPicPr>
        <p:blipFill>
          <a:blip r:embed="rId1"/>
          <a:stretch/>
        </p:blipFill>
        <p:spPr>
          <a:xfrm>
            <a:off x="5334120" y="41911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Конкурс №5</a:t>
            </a:r>
            <a:br>
              <a:rPr sz="3200"/>
            </a:b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«Знатоки физики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ать ответы на вопросы (каждый правильный ответ приносит 1балл команде):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Ускорится ли таяние льда в теплой комнате, если накрыть лед шубой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Капля воды, попав на раскаленную плиту, начинает на ней прыгать. Почему?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Почему мокрые пальцы примерзают зимой к металлическим предметам и не примерзают к деревянным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Что сильнее обжигает: пар, вырывающийся из носика кипящего чайника, или брызги самой воды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Почему изморозь (иней) на деревьях исчезает иногда без оттепели?</a:t>
            </a:r>
            <a:r>
              <a:rPr b="0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68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68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5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Если в мае или в сентябре днем было ясно, а вечером небо затянулось облаками, то следует ли ожидать ночью заморозка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Количество тепла, получаемое от солнечных лучей в течение года Арктикой, значительно больше, чем получаемой же площадью в Крыму. Почему же в Крыму летом жарко, а в Арктике холодно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Почему в мороз снег скрипит под ногами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9.Зачем при перевозке горючих жидкостей к корпусу автоцистерны прикрепляют цепь, которая при движении волочится по земле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.Для чего во всех электроприборах желательно ставить предохранители?</a:t>
            </a:r>
            <a:r>
              <a:rPr b="0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5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Ускорится ли таяние льда в теплой комнате, если накрыть лед шубой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Нет, шуба не греет. Она обладает плохой теплопроводностью, замедляет приток тепла ко льду и устраняет конвекцию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Капля воды, попав на раскаленную плиту, начинает на ней прыгать. Почему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Раскаленная плита, нагревая поверхность капли, образует вокруг нее оболочку пара, этот пар и подбрасывает каплю вверх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Почему мокрые пальцы примерзают зимой к металлическим предметам и не примерзают к деревянным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Металл, обладая большей, чем дерево, теплопроводностью, отводит от тонкой пленки воды теплоту настолько быстро, что она охлаждается ниже температуры плавления и замерзает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e6b"/>
                </a:solidFill>
                <a:uFillTx/>
                <a:latin typeface="Calibri"/>
              </a:rPr>
              <a:t>Ответы к конкурсу №5:</a:t>
            </a:r>
            <a:br>
              <a:rPr sz="3200"/>
            </a:br>
            <a:r>
              <a:rPr b="1" lang="ru-RU" sz="3200" spc="-1" strike="noStrike" u="sng">
                <a:solidFill>
                  <a:srgbClr val="006e6b"/>
                </a:solidFill>
                <a:uFillTx/>
                <a:latin typeface="Calibri"/>
              </a:rPr>
              <a:t>«Знатоки физики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Что сильнее обжигает: пар, вырывающийся из носика кипящего чайника, или брызги самой воды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? ( Пар обжигает значительно сильнее, т.к. коже отдается тепло, выделяющееся в процессе конденсации.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Почему изморозь (иней) на деревьях исчезает иногда без оттепели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Изморозь, или иней, - вода в кристаллическом состоянии, она испаряется при любой температуре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Если в мае или в сентябре днем было ясно, а вечером небо затянулось облаками, то следует ли ожидать ночью заморозка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Нет, потому что облака задерживают излучение Землей тепловых лучей, и сильного понижения температуры на поверхности Земли не происходит.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Эпиграф</a:t>
            </a:r>
            <a:r>
              <a:rPr b="1" lang="ru-RU" sz="4000" spc="-1" strike="noStrike">
                <a:solidFill>
                  <a:srgbClr val="00535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Человек страшится только того, 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чего не знает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знанием побеждается всякий страх»          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.Г.Белинский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5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Количество тепла, получаемое от солнечных лучей в течение года Арктикой, значительно больше, чем получаемой же площадью в Крыму. Почему же в Крыму летом жарко, а в Арктике холодно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Потому что в Арктике большая часть лучистой энергии, доставляемой солнечными лучами, не поглощается, а отражается снегом обратно.)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Почему в мороз снег скрипит под ногами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Ломаются сотни снежинок-кристалликов.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  <a:ea typeface="ＭＳ Ｐゴシック"/>
              </a:rPr>
              <a:t>9.Зачем при перевозке горючих жидкостей к корпусу автоцистерны прикрепляют цепь, которая при движении волочится по земле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?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(При перевозке в автоцистернах горючие жидкости взбалтываются и электризуются. Чтобы избежать появления искр и пожара, используют цепь, которая отводит заряды в землю)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5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Знатоки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0.Для чего во всех электроприборах желательно ставить предохранители?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Проще заменить предохранитель, сгоревший при превышении силы тока относительно допустимой, чем важную деталь, - сгорая, предохранитель размыкает электрическую цепь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82" name="Picture 4" descr="PENGUI_1"/>
          <p:cNvPicPr/>
          <p:nvPr/>
        </p:nvPicPr>
        <p:blipFill>
          <a:blip r:embed="rId1"/>
          <a:stretch/>
        </p:blipFill>
        <p:spPr>
          <a:xfrm>
            <a:off x="5943600" y="41911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6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Обгоним на задаче!» </a:t>
            </a:r>
            <a:br>
              <a:rPr sz="36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(10 б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Имеется оборудование: источник питания, амперметр, вольтметр, лампа на подставке, ключ, соединительные провода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Составить схему электрической цепи, позволяющей измерить сопротивление лампочки . Произведя необходимые измерения , рассчитать сопротивление лампочки и мощность тока в ней. Найти  работу тока в лампочке за 30 дней (в кВтч) и  стоимость израсходованной электроэнергии при тарифе 1,67 рублей за 1 кВтч, предполагая, что она горит в течение всех суток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9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1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6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Обгоним на задаче!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(12б)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762120" y="2057400"/>
            <a:ext cx="784836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Какое количество тепла пошло на приготовление в полярных условиях чая оленеводами из льда массой 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 кг, взятого при температуре -40°С, если учесть, что из чайника выкипело 200 г воды (потерями  теплоты, затраченной на нагревание окружающих тел, пренебречь). Построить график процессов, происходящих с веществом. 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емкость воды 4200 Дж/кг ° С,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емкость льда 2100 Дж/кг ° С,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та плавления льда 3,4×10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Дж/кг,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дельная теплота парообразования воды 2,3×10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Дж/кг.</a:t>
            </a:r>
            <a:endParaRPr b="0" lang="en-US" sz="24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e6b"/>
                </a:solidFill>
                <a:latin typeface="Calibri"/>
              </a:rPr>
              <a:t>Ответы к конкурсу №6 </a:t>
            </a:r>
            <a:br>
              <a:rPr sz="3200"/>
            </a:br>
            <a:r>
              <a:rPr b="1" lang="ru-RU" sz="3600" spc="-1" strike="noStrike">
                <a:solidFill>
                  <a:srgbClr val="006e6b"/>
                </a:solidFill>
                <a:latin typeface="Calibri"/>
              </a:rPr>
              <a:t>«Обгоним на задаче!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613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Задача №1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Решение: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Из закона Ома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R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U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/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P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I U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A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P t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Стоимость = тариф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90" name="Picture 4" descr="черепаха веселая"/>
          <p:cNvPicPr/>
          <p:nvPr/>
        </p:nvPicPr>
        <p:blipFill>
          <a:blip r:embed="rId1"/>
          <a:stretch/>
        </p:blipFill>
        <p:spPr>
          <a:xfrm>
            <a:off x="6934320" y="2514600"/>
            <a:ext cx="1752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6 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«Обгоним на задаче!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Решение: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с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(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–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) – количество теплоты, необходимое для нагревания льда до температуры плавления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λ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– количество теплоты, необходимое для плавления льда, взятого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при температуре плавления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(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–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t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 ) – количество теплоты,  необходимое для нагревания воды до температуры кипения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Q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L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× </a:t>
            </a:r>
            <a:r>
              <a:rPr b="1" lang="en-US" sz="2400" spc="-1" strike="noStrike">
                <a:solidFill>
                  <a:srgbClr val="1c0664"/>
                </a:solidFill>
                <a:latin typeface="Calibri"/>
              </a:rPr>
              <a:t>m</a:t>
            </a:r>
            <a:r>
              <a:rPr b="1" lang="ru-RU" sz="1800" spc="-1" strike="noStrike">
                <a:solidFill>
                  <a:srgbClr val="1c0664"/>
                </a:solidFill>
                <a:latin typeface="Calibri"/>
              </a:rPr>
              <a:t>в1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– количество теплоты, необходимое для превращения воды в пар без изменения  ее температуры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93" name="Picture 4" descr="PENGUI_1"/>
          <p:cNvPicPr/>
          <p:nvPr/>
        </p:nvPicPr>
        <p:blipFill>
          <a:blip r:embed="rId1"/>
          <a:stretch/>
        </p:blipFill>
        <p:spPr>
          <a:xfrm>
            <a:off x="6019920" y="426708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7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95" name="Picture 2" descr=" Якоби"/>
          <p:cNvPicPr/>
          <p:nvPr/>
        </p:nvPicPr>
        <p:blipFill>
          <a:blip r:embed="rId1"/>
          <a:stretch/>
        </p:blipFill>
        <p:spPr>
          <a:xfrm>
            <a:off x="1042920" y="1989000"/>
            <a:ext cx="1220760" cy="12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 Ампер"/>
          <p:cNvPicPr/>
          <p:nvPr/>
        </p:nvPicPr>
        <p:blipFill>
          <a:blip r:embed="rId2"/>
          <a:stretch/>
        </p:blipFill>
        <p:spPr>
          <a:xfrm>
            <a:off x="2411280" y="1989000"/>
            <a:ext cx="1148040" cy="127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 Вольта"/>
          <p:cNvPicPr/>
          <p:nvPr/>
        </p:nvPicPr>
        <p:blipFill>
          <a:blip r:embed="rId3"/>
          <a:stretch/>
        </p:blipFill>
        <p:spPr>
          <a:xfrm>
            <a:off x="3708360" y="1989000"/>
            <a:ext cx="1201680" cy="1330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 Ом"/>
          <p:cNvPicPr/>
          <p:nvPr/>
        </p:nvPicPr>
        <p:blipFill>
          <a:blip r:embed="rId4"/>
          <a:stretch/>
        </p:blipFill>
        <p:spPr>
          <a:xfrm>
            <a:off x="1042920" y="3645000"/>
            <a:ext cx="1138320" cy="1307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 Джоуль"/>
          <p:cNvPicPr/>
          <p:nvPr/>
        </p:nvPicPr>
        <p:blipFill>
          <a:blip r:embed="rId5"/>
          <a:stretch/>
        </p:blipFill>
        <p:spPr>
          <a:xfrm>
            <a:off x="5076720" y="2000160"/>
            <a:ext cx="1095480" cy="130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ленц"/>
          <p:cNvPicPr/>
          <p:nvPr/>
        </p:nvPicPr>
        <p:blipFill>
          <a:blip r:embed="rId6"/>
          <a:stretch/>
        </p:blipFill>
        <p:spPr>
          <a:xfrm>
            <a:off x="2340000" y="3716280"/>
            <a:ext cx="1127160" cy="128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Резерфорд"/>
          <p:cNvPicPr/>
          <p:nvPr/>
        </p:nvPicPr>
        <p:blipFill>
          <a:blip r:embed="rId7"/>
          <a:stretch/>
        </p:blipFill>
        <p:spPr>
          <a:xfrm>
            <a:off x="3564000" y="3645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 Кулон"/>
          <p:cNvPicPr/>
          <p:nvPr/>
        </p:nvPicPr>
        <p:blipFill>
          <a:blip r:embed="rId8"/>
          <a:stretch/>
        </p:blipFill>
        <p:spPr>
          <a:xfrm>
            <a:off x="6372360" y="2000160"/>
            <a:ext cx="111600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768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768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7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e6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(16 баллов) Ответы записывать в виде: Г.Галилей(1 – 3)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1.Французский физик и математик, который стал академиком в 39 лет. Ему принадлежит гипотеза о природе магнетизма, он ввел в физику понятие “электрический ток”. На его надгробном памятнике высечены слова: «Он был так же добр и так же прост, как и велик»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2.Он открыл теоретически и подтвердил на опыте закон, выражающий связь между силой тока в цепи, напряжением и сопротивлением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3.По профессии пивовар, он был прекрасным экспериментатором, исследовал законы выделения теплоты электрическим током, внёс большой вклад в кинетическую теорию газов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Calibri"/>
              </a:rPr>
              <a:t>Конкурс №7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Calibri"/>
              </a:rPr>
              <a:t>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4.Он был рыцарем Почётного легиона, получил звание сенатора и графа. Наполеон не упускал случая посетить заседания Французской академии наук, где он выступал. Он изобрёл электрическую батарею, пышно названную «короной сосудов»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5.Английский физик, почетный член Академии наук СССР и многих других академий. Ему принадлежат слова: “Теперь я знаю, как выглядит атом!”?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6. Французский физик, в 1785 г. экспериментально открыл закон взаимодействия заряженных тел. В честь его названа единица электрического заряда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7.Русский физик – один из основоположников электротехники. Прославился открытием закона, определяющего тепловое действие тока.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0664"/>
                </a:solidFill>
                <a:latin typeface="Calibri"/>
              </a:rPr>
              <a:t>8. Русский физик, академик. Построил первый электродвигатель, телеграфный аппарат, печатающий буквы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7</a:t>
            </a:r>
            <a:br>
              <a:rPr sz="3600"/>
            </a:b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 «Творцы физи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208" name="Picture 4" descr="PENGUI_1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 Якоби"/>
          <p:cNvPicPr/>
          <p:nvPr/>
        </p:nvPicPr>
        <p:blipFill>
          <a:blip r:embed="rId2"/>
          <a:stretch/>
        </p:blipFill>
        <p:spPr>
          <a:xfrm>
            <a:off x="1042920" y="1989000"/>
            <a:ext cx="1220760" cy="1297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 Ампер"/>
          <p:cNvPicPr/>
          <p:nvPr/>
        </p:nvPicPr>
        <p:blipFill>
          <a:blip r:embed="rId3"/>
          <a:stretch/>
        </p:blipFill>
        <p:spPr>
          <a:xfrm>
            <a:off x="2411280" y="1989000"/>
            <a:ext cx="1148040" cy="127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 Вольта"/>
          <p:cNvPicPr/>
          <p:nvPr/>
        </p:nvPicPr>
        <p:blipFill>
          <a:blip r:embed="rId4"/>
          <a:stretch/>
        </p:blipFill>
        <p:spPr>
          <a:xfrm>
            <a:off x="3708360" y="1989000"/>
            <a:ext cx="1201680" cy="1330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 Ом"/>
          <p:cNvPicPr/>
          <p:nvPr/>
        </p:nvPicPr>
        <p:blipFill>
          <a:blip r:embed="rId5"/>
          <a:stretch/>
        </p:blipFill>
        <p:spPr>
          <a:xfrm>
            <a:off x="1000080" y="3929040"/>
            <a:ext cx="1138320" cy="130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 Джоуль"/>
          <p:cNvPicPr/>
          <p:nvPr/>
        </p:nvPicPr>
        <p:blipFill>
          <a:blip r:embed="rId6"/>
          <a:stretch/>
        </p:blipFill>
        <p:spPr>
          <a:xfrm>
            <a:off x="5214960" y="2000160"/>
            <a:ext cx="1155600" cy="128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ленц"/>
          <p:cNvPicPr/>
          <p:nvPr/>
        </p:nvPicPr>
        <p:blipFill>
          <a:blip r:embed="rId7"/>
          <a:stretch/>
        </p:blipFill>
        <p:spPr>
          <a:xfrm>
            <a:off x="2571840" y="3929040"/>
            <a:ext cx="11271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Резерфорд"/>
          <p:cNvPicPr/>
          <p:nvPr/>
        </p:nvPicPr>
        <p:blipFill>
          <a:blip r:embed="rId8"/>
          <a:stretch/>
        </p:blipFill>
        <p:spPr>
          <a:xfrm>
            <a:off x="3981600" y="394344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 Кулон"/>
          <p:cNvPicPr/>
          <p:nvPr/>
        </p:nvPicPr>
        <p:blipFill>
          <a:blip r:embed="rId9"/>
          <a:stretch/>
        </p:blipFill>
        <p:spPr>
          <a:xfrm>
            <a:off x="6715080" y="2000160"/>
            <a:ext cx="1116000" cy="13082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3"/>
          <p:cNvSpPr/>
          <p:nvPr/>
        </p:nvSpPr>
        <p:spPr>
          <a:xfrm>
            <a:off x="2411280" y="3276720"/>
            <a:ext cx="12146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Андре-Мари Ампер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18" name="Прямоугольник 14"/>
          <p:cNvSpPr/>
          <p:nvPr/>
        </p:nvSpPr>
        <p:spPr>
          <a:xfrm>
            <a:off x="990720" y="5257800"/>
            <a:ext cx="121428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Георг Ом 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19" name="Прямоугольник 15"/>
          <p:cNvSpPr/>
          <p:nvPr/>
        </p:nvSpPr>
        <p:spPr>
          <a:xfrm>
            <a:off x="3635280" y="3276720"/>
            <a:ext cx="1428840" cy="36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Алессандро Вольта  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0" name="Прямоугольник 16"/>
          <p:cNvSpPr/>
          <p:nvPr/>
        </p:nvSpPr>
        <p:spPr>
          <a:xfrm>
            <a:off x="5181480" y="3276720"/>
            <a:ext cx="1214640" cy="36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Джеймс Джоуль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1" name="Прямоугольник 17"/>
          <p:cNvSpPr/>
          <p:nvPr/>
        </p:nvSpPr>
        <p:spPr>
          <a:xfrm>
            <a:off x="4067280" y="5257800"/>
            <a:ext cx="1357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Эрнест Резерфорд</a:t>
            </a:r>
            <a:r>
              <a:rPr b="1" lang="ru-RU" sz="1100" spc="-1" strike="noStrike">
                <a:solidFill>
                  <a:srgbClr val="006e6b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2" name="Прямоугольник 18"/>
          <p:cNvSpPr/>
          <p:nvPr/>
        </p:nvSpPr>
        <p:spPr>
          <a:xfrm>
            <a:off x="6629400" y="3276720"/>
            <a:ext cx="126684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Шарль Кулон 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2556000" y="5257800"/>
            <a:ext cx="1214280" cy="3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Эмилий Ленц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4" name="Прямоугольник 20"/>
          <p:cNvSpPr/>
          <p:nvPr/>
        </p:nvSpPr>
        <p:spPr>
          <a:xfrm>
            <a:off x="900000" y="3284640"/>
            <a:ext cx="13575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5350"/>
                </a:solidFill>
                <a:latin typeface="Calibri"/>
              </a:rPr>
              <a:t>Борис Семенович Якоби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228600" y="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e6b"/>
                </a:solidFill>
                <a:latin typeface="Times New Roman"/>
                <a:ea typeface="MS Mincho"/>
              </a:rPr>
              <a:t>3</a:t>
            </a:r>
            <a:endParaRPr b="0" lang="en-US" sz="12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 1</a:t>
            </a:r>
            <a:br>
              <a:rPr sz="3600"/>
            </a:b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Лабиринт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Физические величины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2 баллов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 №8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Кто- кого?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Написать формулы для расчета известных вам физических величин (7-8 класс).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Формулы, составленные из одинаковых физических величин, оцениваются как одна формула</a:t>
            </a:r>
            <a:r>
              <a:rPr b="0" lang="ru-RU" sz="32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в 1 балл.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пример: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ρ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=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/V, m=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 ρ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, V=m/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ρ</a:t>
            </a:r>
            <a:r>
              <a:rPr b="1" lang="ru-RU" sz="3200" spc="-1" strike="noStrike">
                <a:solidFill>
                  <a:srgbClr val="1c0664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(1 б)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e6b"/>
                </a:solidFill>
                <a:latin typeface="Times New Roman"/>
              </a:rPr>
              <a:t>Подведение итогов.</a:t>
            </a:r>
            <a:br>
              <a:rPr sz="3600"/>
            </a:b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1904760"/>
            <a:ext cx="6781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Жюри! 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т Вас в игре зависит очень много,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ы рассудите справедливо ход игры и строго.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ебята верят Вам, надеются на Вас!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2133720"/>
            <a:ext cx="8381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ебята!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И пусть преграды вас не остановят,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 новые миры к себе манят!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ам оставить след в науке стоит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 внести в открытия свой вклад!»</a:t>
            </a: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234" name="WordArt 4" descr=""/>
          <p:cNvPicPr/>
          <p:nvPr/>
        </p:nvPicPr>
        <p:blipFill>
          <a:blip r:embed="rId1"/>
          <a:stretch/>
        </p:blipFill>
        <p:spPr>
          <a:xfrm>
            <a:off x="682560" y="-79200"/>
            <a:ext cx="7400880" cy="2725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H:\смайлы.gif"/>
          <p:cNvPicPr/>
          <p:nvPr/>
        </p:nvPicPr>
        <p:blipFill>
          <a:blip r:embed="rId2"/>
          <a:stretch/>
        </p:blipFill>
        <p:spPr>
          <a:xfrm>
            <a:off x="762012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768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7" dur="768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9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1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e6b"/>
                </a:solidFill>
                <a:latin typeface="Calibri"/>
              </a:rPr>
              <a:t>Используемая литература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Горлова Л.А. Нетрадиционные уроки, внеурочные мероприятия по физике:7-11 классы.- М.;ВАКО,2006. – 176 с. – (Мастерская учителя)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Кибальченко А.Я., Кибальченко И.А.. Физика для увлечённых. – Ростов н/Д: «Феникс», 2005. – 188, [1] с. – (Библиотека школьника)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e6b"/>
                </a:solidFill>
                <a:latin typeface="Calibri"/>
              </a:rPr>
              <a:t>Наволокова Н.П. [и др.]; под общ. ред. Ненашева И.Ю.. Предметная неделя физики в школе – Ростов н/Д.: Феникс, 2006. – 272 с. – (Библиотека учителя)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e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лабиринте зашифровано 12 названий известных вам физических величин. Читать можно в любом направлении, кроме диагоналей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  <p:pic>
        <p:nvPicPr>
          <p:cNvPr id="139" name="Рисунок 1" descr="C:\Documents and Settings\1\Рабочий стол\сканирование.jpg"/>
          <p:cNvPicPr/>
          <p:nvPr/>
        </p:nvPicPr>
        <p:blipFill>
          <a:blip r:embed="rId1"/>
          <a:stretch/>
        </p:blipFill>
        <p:spPr>
          <a:xfrm>
            <a:off x="1187280" y="1484280"/>
            <a:ext cx="6624720" cy="5113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45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e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1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ремя, теплоемкость, давление, мощность, сила, плотность, работа, температура,  масса, путь,  скорость, вес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43" name="Picture 4" descr="PENGUI_1"/>
          <p:cNvPicPr/>
          <p:nvPr/>
        </p:nvPicPr>
        <p:blipFill>
          <a:blip r:embed="rId1"/>
          <a:stretch/>
        </p:blipFill>
        <p:spPr>
          <a:xfrm>
            <a:off x="4419720" y="373392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350"/>
                </a:solidFill>
                <a:latin typeface="Calibri"/>
              </a:rPr>
              <a:t>Конкурс №2</a:t>
            </a:r>
            <a:br>
              <a:rPr sz="3200"/>
            </a:br>
            <a:r>
              <a:rPr b="1" lang="ru-RU" sz="3200" spc="-1" strike="noStrike">
                <a:solidFill>
                  <a:srgbClr val="005350"/>
                </a:solidFill>
                <a:latin typeface="Calibri"/>
              </a:rPr>
              <a:t>«Всем известный метр...»</a:t>
            </a:r>
            <a:br>
              <a:rPr sz="3200"/>
            </a:br>
            <a:endParaRPr b="0" lang="en-US" sz="32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Словом «метр» оканчиваются физические измерительные приборы, применяемые не только в лабораториях ученых, в физкабинете школы, но и дома, в автомобилях, мастерских, фотолабораториях..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Вам предлагается отыскать как можно больше измерительных приборов, оканчивающихся этим словом, и указать, что ими измеряют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ример:          термометр  -  температура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5350"/>
                </a:solidFill>
                <a:uFillTx/>
                <a:latin typeface="Calibri"/>
              </a:rPr>
              <a:t>Ответы к конкурсу № 2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294920"/>
            <a:ext cx="611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e6b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инамометр – сила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етр – длина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пидометр – скорость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барометр – атмосферное   давление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анометр – давление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игрометр, психрометр – влажность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оздуха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;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электрометр – электрический заряд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амперметр – сила тока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ольтметр – напряжение;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аттметр - мощность  тока и 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др.</a:t>
            </a:r>
            <a:endParaRPr b="0" lang="en-US" sz="24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48" name="Picture 4" descr="черепаха веселая"/>
          <p:cNvPicPr/>
          <p:nvPr/>
        </p:nvPicPr>
        <p:blipFill>
          <a:blip r:embed="rId1"/>
          <a:stretch/>
        </p:blipFill>
        <p:spPr>
          <a:xfrm>
            <a:off x="6804000" y="1197000"/>
            <a:ext cx="16351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№3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Физические загад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аждый правильный ответ приносит  1балл команде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.Все поведает, хоть и без языка, когда будет ясно, а когда - облака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. Клубится, а не дым, ложится, а не снег.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.Им силу тока изменяют, если что-то в нем сдвигают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4.Книги читают, а грамоты не знают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5.Был один Антошка, посмотрел в окошко - там второй Антошка! Что это за окошко? Куда смотрел Антошка?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Конкурс№3</a:t>
            </a:r>
            <a:br>
              <a:rPr sz="3600"/>
            </a:br>
            <a:r>
              <a:rPr b="1" lang="ru-RU" sz="3600" spc="-1" strike="noStrike">
                <a:solidFill>
                  <a:srgbClr val="005350"/>
                </a:solidFill>
                <a:latin typeface="Calibri"/>
              </a:rPr>
              <a:t>«Физические загадки»</a:t>
            </a:r>
            <a:endParaRPr b="0" lang="en-US" sz="3600" spc="-1" strike="noStrike">
              <a:solidFill>
                <a:srgbClr val="006e6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6.Висит груша - нельзя скушать. 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7.Что с земли не поднимешь?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8.Видно нет у нее ума: ест она себя сама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9.Чист и ясен, как алмаз,  дорог не бывает, он от матери рожден, сам ее рождает. 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0664"/>
                </a:solidFill>
                <a:latin typeface="Calibri"/>
              </a:rPr>
              <a:t>10.Вечером наземь слетает, ночь на земле пребывает, утром опять улетает.</a:t>
            </a:r>
            <a:endParaRPr b="0" lang="en-US" sz="2800" spc="-1" strike="noStrike">
              <a:solidFill>
                <a:srgbClr val="006e6b"/>
              </a:solidFill>
              <a:latin typeface="Calibri"/>
            </a:endParaRPr>
          </a:p>
        </p:txBody>
      </p:sp>
      <p:pic>
        <p:nvPicPr>
          <p:cNvPr id="153" name="Picture 4" descr="d007"/>
          <p:cNvPicPr/>
          <p:nvPr/>
        </p:nvPicPr>
        <p:blipFill>
          <a:blip r:embed="rId1"/>
          <a:stretch/>
        </p:blipFill>
        <p:spPr>
          <a:xfrm>
            <a:off x="7543800" y="472428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</dc:creator>
  <dc:description/>
  <dc:language>en-US</dc:language>
  <cp:lastModifiedBy>a</cp:lastModifiedBy>
  <dcterms:modified xsi:type="dcterms:W3CDTF">2017-04-25T17:22:52Z</dcterms:modified>
  <cp:revision>80</cp:revision>
  <dc:subject/>
  <dc:title>Слайд 1</dc:title>
</cp:coreProperties>
</file>