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7E3-964B-4C96-A716-9BCB79EF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180-87B2-4AB0-BD9C-6E56971E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CD3-DF4F-4B3E-B571-21E4D801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D2D-469A-4236-9D58-00ADB430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2D6-A55F-4F59-A0D0-3485FCDE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25D-6D71-4C90-A459-791BFD30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445-9F70-4630-AC47-5BA4F352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C1B-CB04-4101-9AF9-73A61A40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511-DEFC-446D-9EF8-05D3642A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2C4-D2EB-4BD4-858E-CDC60527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A28-6DBE-4371-B6D0-B86AE1C8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444-73E4-4DC2-8868-42798900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311D-320B-42A5-9DBD-DB347C64F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5.beon.ru/96/62/456296/5/19269805/butterfly61.gif-" TargetMode="External"/><Relationship Id="rId2" Type="http://schemas.openxmlformats.org/officeDocument/2006/relationships/hyperlink" Target="http://i5.beon.ru/96/62/456296/5/19269805/butterfly61.gif-" TargetMode="External"/><Relationship Id="rId3" Type="http://schemas.openxmlformats.org/officeDocument/2006/relationships/hyperlink" Target="http://bestgif.narod.ru/&#1084;&#1072;&#1096;&#1080;&#1085;&#1072;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Электронные физкультминутки для г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15 Песенка друзей.mp3" descr=""/>
          <p:cNvPicPr/>
          <p:nvPr/>
        </p:nvPicPr>
        <p:blipFill>
          <a:blip r:embed="rId1"/>
          <a:stretch/>
        </p:blipFill>
        <p:spPr>
          <a:xfrm>
            <a:off x="9325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2"/>
          <p:cNvSpPr/>
          <p:nvPr/>
        </p:nvSpPr>
        <p:spPr>
          <a:xfrm>
            <a:off x="1835280" y="981000"/>
            <a:ext cx="5111640" cy="4896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3995640" y="476280"/>
            <a:ext cx="1297080" cy="1081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-0.00509 C 0.1342 -0.00509 0.26007 0.15139 0.26007 0.34398 C 0.26007 0.53657 0.1342 0.69305 -0.01996 0.69305 C -0.17396 0.69305 -0.29913 0.53657 -0.29913 0.34398 C -0.29913 0.15139 -0.17396 -0.00509 -0.01996 -0.00509 Z">
                                      <p:cBhvr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кораблик"/>
          <p:cNvPicPr/>
          <p:nvPr/>
        </p:nvPicPr>
        <p:blipFill>
          <a:blip r:embed="rId1"/>
          <a:stretch/>
        </p:blipFill>
        <p:spPr>
          <a:xfrm>
            <a:off x="2340000" y="1557360"/>
            <a:ext cx="286704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900000" y="981000"/>
            <a:ext cx="7488360" cy="46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bestgif"/>
          <p:cNvPicPr/>
          <p:nvPr/>
        </p:nvPicPr>
        <p:blipFill>
          <a:blip r:embed="rId1"/>
          <a:stretch/>
        </p:blipFill>
        <p:spPr>
          <a:xfrm>
            <a:off x="468360" y="189000"/>
            <a:ext cx="170820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18 -1.48148E-006 L 0.76389 -1.48148E-006 L 0.76389 0.67107 L -0.04618 0.67107 L -0.04618 -1.48148E-006 Z">
                                      <p:cBhvr>
                                        <p:cTn id="18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ANIMASHKI_327"/>
          <p:cNvPicPr/>
          <p:nvPr/>
        </p:nvPicPr>
        <p:blipFill>
          <a:blip r:embed="rId1"/>
          <a:stretch/>
        </p:blipFill>
        <p:spPr>
          <a:xfrm>
            <a:off x="-1332000" y="2997360"/>
            <a:ext cx="230364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0 L 1.16163 0 E">
                                      <p:cBhvr>
                                        <p:cTn id="2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2"/>
          <p:cNvGrpSpPr/>
          <p:nvPr/>
        </p:nvGrpSpPr>
        <p:grpSpPr>
          <a:xfrm>
            <a:off x="468360" y="7245360"/>
            <a:ext cx="1079280" cy="2880000"/>
            <a:chOff x="468360" y="7245360"/>
            <a:chExt cx="1079280" cy="2880000"/>
          </a:xfrm>
        </p:grpSpPr>
        <p:sp>
          <p:nvSpPr>
            <p:cNvPr id="52" name="Oval 6"/>
            <p:cNvSpPr/>
            <p:nvPr/>
          </p:nvSpPr>
          <p:spPr>
            <a:xfrm>
              <a:off x="468360" y="7245360"/>
              <a:ext cx="1079280" cy="18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" name="AutoShape 11"/>
            <p:cNvCxnSpPr>
              <a:stCxn id="52" idx="4"/>
            </p:cNvCxnSpPr>
            <p:nvPr/>
          </p:nvCxnSpPr>
          <p:spPr>
            <a:xfrm rot="5400000">
              <a:off x="448920" y="9567000"/>
              <a:ext cx="1008720" cy="108360"/>
            </a:xfrm>
            <a:prstGeom prst="curvedConnector5">
              <a:avLst>
                <a:gd name="adj1" fmla="val 49910"/>
                <a:gd name="adj2" fmla="val 50000"/>
                <a:gd name="adj3" fmla="val 49910"/>
              </a:avLst>
            </a:prstGeom>
            <a:ln w="9360">
              <a:solidFill>
                <a:srgbClr val="bbe0e3"/>
              </a:solidFill>
              <a:miter/>
            </a:ln>
          </p:spPr>
        </p:cxnSp>
      </p:grpSp>
      <p:grpSp>
        <p:nvGrpSpPr>
          <p:cNvPr id="54" name="Group 13"/>
          <p:cNvGrpSpPr/>
          <p:nvPr/>
        </p:nvGrpSpPr>
        <p:grpSpPr>
          <a:xfrm>
            <a:off x="2124000" y="7174080"/>
            <a:ext cx="1079640" cy="2880000"/>
            <a:chOff x="2124000" y="7174080"/>
            <a:chExt cx="1079640" cy="2880000"/>
          </a:xfrm>
        </p:grpSpPr>
        <p:sp>
          <p:nvSpPr>
            <p:cNvPr id="55" name="Oval 14"/>
            <p:cNvSpPr/>
            <p:nvPr/>
          </p:nvSpPr>
          <p:spPr>
            <a:xfrm>
              <a:off x="2124000" y="7174080"/>
              <a:ext cx="1079640" cy="1871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" name="AutoShape 15"/>
            <p:cNvCxnSpPr>
              <a:stCxn id="55" idx="4"/>
            </p:cNvCxnSpPr>
            <p:nvPr/>
          </p:nvCxnSpPr>
          <p:spPr>
            <a:xfrm rot="5400000">
              <a:off x="2105280" y="9495720"/>
              <a:ext cx="1008720" cy="108720"/>
            </a:xfrm>
            <a:prstGeom prst="curvedConnector5">
              <a:avLst>
                <a:gd name="adj1" fmla="val 49910"/>
                <a:gd name="adj2" fmla="val 49833"/>
                <a:gd name="adj3" fmla="val 49910"/>
              </a:avLst>
            </a:prstGeom>
            <a:ln w="9360">
              <a:solidFill>
                <a:srgbClr val="bbe0e3"/>
              </a:solidFill>
              <a:miter/>
            </a:ln>
          </p:spPr>
        </p:cxnSp>
      </p:grpSp>
      <p:grpSp>
        <p:nvGrpSpPr>
          <p:cNvPr id="57" name="Group 16"/>
          <p:cNvGrpSpPr/>
          <p:nvPr/>
        </p:nvGrpSpPr>
        <p:grpSpPr>
          <a:xfrm>
            <a:off x="3924360" y="7174080"/>
            <a:ext cx="1079280" cy="2880000"/>
            <a:chOff x="3924360" y="7174080"/>
            <a:chExt cx="1079280" cy="2880000"/>
          </a:xfrm>
        </p:grpSpPr>
        <p:sp>
          <p:nvSpPr>
            <p:cNvPr id="58" name="Oval 17"/>
            <p:cNvSpPr/>
            <p:nvPr/>
          </p:nvSpPr>
          <p:spPr>
            <a:xfrm>
              <a:off x="3924360" y="7174080"/>
              <a:ext cx="1079280" cy="18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" name="AutoShape 18"/>
            <p:cNvCxnSpPr>
              <a:stCxn id="58" idx="4"/>
            </p:cNvCxnSpPr>
            <p:nvPr/>
          </p:nvCxnSpPr>
          <p:spPr>
            <a:xfrm rot="5400000">
              <a:off x="3904920" y="9495720"/>
              <a:ext cx="1008720" cy="108360"/>
            </a:xfrm>
            <a:prstGeom prst="curvedConnector5">
              <a:avLst>
                <a:gd name="adj1" fmla="val 49910"/>
                <a:gd name="adj2" fmla="val 50000"/>
                <a:gd name="adj3" fmla="val 49910"/>
              </a:avLst>
            </a:prstGeom>
            <a:ln w="9360">
              <a:solidFill>
                <a:srgbClr val="33cccc"/>
              </a:solidFill>
              <a:miter/>
            </a:ln>
          </p:spPr>
        </p:cxnSp>
      </p:grpSp>
      <p:grpSp>
        <p:nvGrpSpPr>
          <p:cNvPr id="60" name="Group 19"/>
          <p:cNvGrpSpPr/>
          <p:nvPr/>
        </p:nvGrpSpPr>
        <p:grpSpPr>
          <a:xfrm>
            <a:off x="5651640" y="7174080"/>
            <a:ext cx="1079280" cy="2880000"/>
            <a:chOff x="5651640" y="7174080"/>
            <a:chExt cx="1079280" cy="2880000"/>
          </a:xfrm>
        </p:grpSpPr>
        <p:sp>
          <p:nvSpPr>
            <p:cNvPr id="61" name="Oval 20"/>
            <p:cNvSpPr/>
            <p:nvPr/>
          </p:nvSpPr>
          <p:spPr>
            <a:xfrm>
              <a:off x="5651640" y="7174080"/>
              <a:ext cx="1079280" cy="187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AutoShape 21"/>
            <p:cNvCxnSpPr>
              <a:stCxn id="61" idx="4"/>
            </p:cNvCxnSpPr>
            <p:nvPr/>
          </p:nvCxnSpPr>
          <p:spPr>
            <a:xfrm rot="5400000">
              <a:off x="5632200" y="9495720"/>
              <a:ext cx="1008720" cy="108360"/>
            </a:xfrm>
            <a:prstGeom prst="curvedConnector5">
              <a:avLst>
                <a:gd name="adj1" fmla="val 49910"/>
                <a:gd name="adj2" fmla="val 50000"/>
                <a:gd name="adj3" fmla="val 49910"/>
              </a:avLst>
            </a:prstGeom>
            <a:ln w="9360">
              <a:solidFill>
                <a:srgbClr val="bbe0e3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0.26644 L -0.0276 -1.48033 E">
                                      <p:cBhvr>
                                        <p:cTn id="30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26736 C -0.0151 -0.29144 0.00208 -0.25602 -0.01094 -0.27755 C -0.01319 -0.28102 -0.01337 -0.28796 -0.01649 -0.28958 C -0.02222 -0.29213 -0.02517 -0.29722 -0.03038 -0.30162 C -0.03889 -0.30857 -0.04705 -0.31343 -0.05399 -0.32361 C -0.05799 -0.34051 -0.05938 -0.35787 -0.06094 -0.3757 C -0.06094 -0.37894 -0.07483 -0.52338 -0.04427 -0.55208 C -0.03993 -0.56204 -0.03177 -0.56574 -0.02483 -0.57014 C -0.01684 -0.57593 -0.01007 -0.5838 -0.0026 -0.59028 C 0.00087 -0.59398 0.00521 -0.59491 0.00851 -0.59838 C 0.01493 -0.60556 0.0224 -0.61088 0.02795 -0.61829 C 0.02934 -0.62037 0.0309 -0.62246 0.03212 -0.62431 C 0.0342 -0.62824 0.03767 -0.63634 0.03767 -0.63611 C 0.03715 -0.64838 0.03733 -0.66088 0.03628 -0.67246 C 0.03437 -0.69421 0.03299 -0.675 0.02795 -0.69676 C 0.025 -0.70996 0.02222 -0.71736 0.01684 -0.72917 C 0.01528 -0.73218 0.01493 -0.73658 0.01406 -0.74074 C 0.01181 -0.75046 0.00851 -0.75949 0.00573 -0.76898 C -0.00469 -0.80278 -0.00833 -0.84005 -0.01649 -0.875 C -0.01597 -0.89028 -0.01632 -0.90579 -0.0151 -0.92107 C -0.01476 -0.92639 -0.00642 -0.93426 -0.00399 -0.93727 C 0.00295 -0.94583 0.01354 -0.94607 0.02101 -0.95324 C 0.02674 -0.9588 0.03264 -0.96621 0.03906 -0.96921 C 0.04167 -0.97315 0.04479 -0.97546 0.0474 -0.97963 C 0.05208 -0.98611 0.04878 -0.98403 0.05156 -0.99144 C 0.05312 -0.9956 0.05712 -1.00347 0.05712 -1.00324 C 0.05764 -1.00625 0.05799 -1.00857 0.05851 -1.01158 C 0.05937 -1.01551 0.06128 -1.02338 0.06128 -1.02315 C 0.06076 -1.03634 0.0625 -1.05023 0.05851 -1.06181 C 0.04774 -1.09259 0.0283 -1.12315 0.01128 -1.14792 C 0.00521 -1.15648 0.00868 -1.1463 0.00295 -1.15787 C -0.00712 -1.17801 -0.0158 -1.2 -0.02344 -1.22199 C -0.02622 -1.23033 -0.02969 -1.23727 -0.03177 -1.2463 C -0.03073 -1.2544 -0.03038 -1.2625 -0.02483 -1.26783 C -0.01406 -1.27824 -0.00417 -1.2757 0.00573 -1.29051 C 0.0092 -1.32037 0.0099 -1.32153 0.00573 -1.37014 C 0.00538 -1.375 0.00121 -1.37778 0.00017 -1.38218 C -0.00365 -1.39838 -0.0092 -1.4125 -0.01927 -1.42222 C -0.02292 -1.43843 -0.01736 -1.41945 -0.02483 -1.43033 C -0.02726 -1.4338 -0.02847 -1.43843 -0.03038 -1.44236 C -0.03125 -1.44445 -0.03316 -1.44838 -0.03316 -1.44815 C -0.03594 -1.46412 -0.03455 -1.45371 -0.03455 -1.48056 E">
                                      <p:cBhvr>
                                        <p:cTn id="3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22315 L 0.59462 -1.45949 E">
                                      <p:cBhvr>
                                        <p:cTn id="3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712 -0.72755 C 0.32292 -1.01482 0.12865 -1.26412 -0.1309 -1.28102 C -0.37916 -1.30208 -0.61076 -1.10926 -0.62639 -0.83033 C -0.64566 -0.57315 -0.48316 -0.33241 -0.25034 -0.31551 C -0.03854 -0.30208 0.16355 -0.46134 0.17917 -0.70139 C 0.19427 -0.92037 0.05868 -1.12685 -0.13819 -1.14398 C -0.32066 -1.15625 -0.49149 -1.02315 -0.50277 -0.82199 C -0.51458 -0.64167 -0.40607 -0.46551 -0.24305 -0.45695 C -0.096 -0.44421 0.04323 -0.54699 0.05521 -0.70996 C 0.0625 -0.85625 -0.0184 -0.99769 -0.14652 -1.00625 C -0.2585 -1.01482 -0.37118 -0.93727 -0.37916 -0.81273 C -0.38645 -0.70556 -0.32864 -0.60278 -0.23541 -0.59352 C -0.15781 -0.58588 -0.07725 -0.63264 -0.07239 -0.71829 C -0.06527 -0.7875 -0.096 -0.86065 -0.15434 -0.86898 C -0.20069 -0.86898 -0.24757 -0.85139 -0.25486 -0.80486 C -0.2585 -0.77408 -0.25034 -0.74421 -0.2276 -0.73171 C -0.21632 -0.72755 -0.20798 -0.72755 -0.19705 -0.73171 E">
                                      <p:cBhvr>
                                        <p:cTn id="39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butterfly61"/>
          <p:cNvPicPr/>
          <p:nvPr/>
        </p:nvPicPr>
        <p:blipFill>
          <a:blip r:embed="rId1"/>
          <a:stretch/>
        </p:blipFill>
        <p:spPr>
          <a:xfrm>
            <a:off x="-1116000" y="5805360"/>
            <a:ext cx="135396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7.77778E-006 1.48148E-006 C 0.00296 -0.01204 -0.00173 -0.02685 -0.00694 -0.03704 C -0.00781 -0.0419 -0.00885 -0.04699 -0.00972 -0.05185 C -0.01041 -0.05556 -0.01249 -0.06296 -0.01249 -0.06296 C -0.01197 -0.09815 -0.01197 -0.13333 -0.01111 -0.16852 C -0.01024 -0.20903 -0.00242 -0.27338 0.03334 -0.28519 C 0.03924 -0.29028 0.04601 -0.29213 0.05278 -0.29445 C 0.06876 -0.30857 0.08021 -0.29908 0.10417 -0.29815 C 0.11633 -0.29283 0.12726 -0.28727 0.13889 -0.27963 C 0.14601 -0.275 0.15209 -0.26829 0.15973 -0.26482 C 0.1691 -0.25533 0.18004 -0.24722 0.18889 -0.23704 C 0.19723 -0.22755 0.19098 -0.23125 0.19862 -0.22778 C 0.20278 -0.22338 0.20695 -0.21921 0.21112 -0.21482 C 0.21355 -0.21227 0.21685 -0.21158 0.21945 -0.20926 C 0.22084 -0.20787 0.22692 -0.20139 0.22917 -0.2 C 0.23525 -0.19583 0.24323 -0.19236 0.24862 -0.18704 C 0.25452 -0.18125 0.2606 -0.1757 0.26667 -0.17037 C 0.26823 -0.16898 0.26928 -0.16621 0.27084 -0.16482 C 0.27379 -0.16227 0.27744 -0.16158 0.28056 -0.15926 C 0.28959 -0.15255 0.29827 -0.14421 0.30834 -0.14074 C 0.3224 -0.12824 0.33751 -0.11736 0.35417 -0.11296 C 0.36233 -0.10579 0.37171 -0.10347 0.38056 -0.09815 C 0.38247 -0.09699 0.38421 -0.09537 0.38612 -0.09445 C 0.38976 -0.09283 0.39723 -0.09074 0.39723 -0.09074 C 0.41806 -0.09144 0.43907 -0.08843 0.45973 -0.09259 C 0.46893 -0.09445 0.47726 -0.12708 0.47917 -0.13704 C 0.47865 -0.15 0.47848 -0.16296 0.47778 -0.17593 C 0.47726 -0.18333 0.47379 -0.18935 0.47223 -0.1963 C 0.46789 -0.21667 0.45973 -0.23704 0.45278 -0.25556 C 0.45105 -0.26019 0.45139 -0.26366 0.45001 -0.26852 C 0.44549 -0.28496 0.44237 -0.30162 0.43889 -0.31852 C 0.43455 -0.34005 0.4257 -0.35833 0.42084 -0.37963 C 0.41494 -0.40556 0.4106 -0.43171 0.40417 -0.45741 C 0.40174 -0.4669 0.40157 -0.47732 0.40001 -0.48704 C 0.39896 -0.49329 0.39723 -0.50556 0.39723 -0.50556 C 0.3981 -0.54977 0.39567 -0.59792 0.42084 -0.63148 C 0.42292 -0.64005 0.42639 -0.64005 0.43195 -0.64445 C 0.44462 -0.65417 0.45712 -0.65695 0.47084 -0.66296 C 0.5033 -0.66227 0.53612 -0.6669 0.56806 -0.65926 C 0.57553 -0.65741 0.58264 -0.65347 0.59028 -0.65185 C 0.59219 -0.6507 0.59393 -0.64908 0.59584 -0.64815 C 0.59758 -0.64722 0.59966 -0.64722 0.60139 -0.6463 C 0.60851 -0.64236 0.61424 -0.63472 0.62084 -0.62963 C 0.62657 -0.62523 0.63403 -0.62222 0.63889 -0.61667 C 0.66442 -0.5875 0.68959 -0.55741 0.71806 -0.53333 C 0.72362 -0.52871 0.72744 -0.5206 0.73334 -0.51667 C 0.73594 -0.51482 0.73924 -0.51505 0.74167 -0.51296 C 0.7573 -0.49908 0.77188 -0.49005 0.78889 -0.47963 C 0.81389 -0.46458 0.83942 -0.45046 0.86667 -0.44445 C 0.88091 -0.43681 0.88646 -0.43958 0.90417 -0.44074 C 0.91511 -0.45046 0.91476 -0.45185 0.92084 -0.46667 C 0.9283 -0.48472 0.92205 -0.46389 0.92778 -0.48148 C 0.93004 -0.48843 0.93473 -0.50185 0.93473 -0.50185 C 0.93525 -0.50556 0.9356 -0.50949 0.93612 -0.51296 C 0.93698 -0.51921 0.93889 -0.53148 0.93889 -0.53148 C 0.93733 -0.58542 0.9415 -0.56574 0.93473 -0.59259 C 0.93143 -0.60556 0.92396 -0.61667 0.91806 -0.62778 C 0.90521 -0.65162 0.88924 -0.67199 0.87362 -0.69259 C 0.86233 -0.70764 0.85521 -0.72778 0.84584 -0.74445 C 0.84202 -0.75972 0.84827 -0.73658 0.83889 -0.75949 C 0.83733 -0.7632 0.83733 -0.76806 0.83612 -0.77222 C 0.83386 -0.78033 0.83039 -0.78681 0.82778 -0.79445 C 0.82483 -0.80347 0.82362 -0.81181 0.81945 -0.8206 C 0.81685 -0.83403 0.81424 -0.84722 0.81251 -0.86111 C 0.81511 -0.90463 0.81511 -0.94421 0.83889 -0.9757 C 0.84254 -0.98079 0.8408 -0.98333 0.84584 -0.98704 C 0.85417 -0.99329 0.86737 -0.9963 0.87639 -0.99815 C 0.88334 -0.99954 0.89011 -1.00347 0.89723 -1.00371 C 0.92501 -1.00486 0.95278 -1.00486 0.98056 -1.00556 C 0.99428 -1.01158 1.00782 -1.01667 1.02223 -1.01852 C 1.03907 -1.02408 1.05782 -1.02732 1.07501 -1.02963 C 1.09063 -1.03472 1.10469 -1.04375 1.11806 -1.05556 C 1.12223 -1.05926 1.12639 -1.06296 1.13056 -1.06667 C 1.13195 -1.06783 1.13473 -1.07037 1.13473 -1.07037 C 1.14254 -1.08611 1.1481 -1.10486 1.15834 -1.11852 E">
                                      <p:cBhvr>
                                        <p:cTn id="45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рыба"/>
          <p:cNvPicPr/>
          <p:nvPr/>
        </p:nvPicPr>
        <p:blipFill>
          <a:blip r:embed="rId1"/>
          <a:stretch/>
        </p:blipFill>
        <p:spPr>
          <a:xfrm>
            <a:off x="9144000" y="5429160"/>
            <a:ext cx="1285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C -0.00347 -0.00648 -0.00798 -0.01319 -0.01267 -0.01828 C -0.01423 -0.02453 -0.01649 -0.02662 -0.02014 -0.03102 C -0.02291 -0.04097 -0.02795 -0.05 -0.03264 -0.05833 C -0.03455 -0.06203 -0.03871 -0.06967 -0.03871 -0.06944 C -0.04114 -0.07777 -0.05295 -0.09213 -0.05885 -0.09838 C -0.06215 -0.11111 -0.05746 -0.09745 -0.0651 -0.10764 C -0.06875 -0.1125 -0.07118 -0.11852 -0.0743 -0.12407 C -0.07673 -0.12824 -0.08073 -0.13102 -0.0835 -0.13495 C -0.08854 -0.14259 -0.09149 -0.14699 -0.09896 -0.15139 C -0.10451 -0.1581 -0.11128 -0.16018 -0.11736 -0.1662 C -0.12239 -0.17083 -0.125 -0.17615 -0.13142 -0.1787 C -0.13975 -0.18842 -0.15468 -0.20717 -0.16528 -0.21157 C -0.17378 -0.22152 -0.1625 -0.20926 -0.17326 -0.21689 C -0.18368 -0.22453 -0.16753 -0.21736 -0.1809 -0.22245 C -0.18906 -0.22939 -0.19479 -0.23958 -0.20399 -0.24444 C -0.20694 -0.24606 -0.21007 -0.24699 -0.21337 -0.24791 C -0.21475 -0.24861 -0.21788 -0.24977 -0.21788 -0.24953 C -0.21927 -0.25115 -0.22083 -0.25277 -0.22257 -0.25347 C -0.22552 -0.25509 -0.23177 -0.25717 -0.23177 -0.25694 C -0.23593 -0.26041 -0.23975 -0.26736 -0.24409 -0.2699 C -0.24687 -0.27176 -0.2533 -0.27361 -0.2533 -0.27361 C -0.25486 -0.275 -0.25625 -0.27639 -0.25798 -0.27731 C -0.26093 -0.27893 -0.26736 -0.28078 -0.26736 -0.28055 C -0.26996 -0.2831 -0.27222 -0.28611 -0.27517 -0.28819 C -0.28142 -0.29259 -0.28906 -0.29421 -0.29514 -0.2993 C -0.2967 -0.3 -0.29791 -0.30185 -0.29965 -0.30277 C -0.3026 -0.30439 -0.30903 -0.30625 -0.30903 -0.30602 C -0.31614 -0.31527 -0.33698 -0.31898 -0.34757 -0.32268 C -0.35017 -0.32361 -0.35278 -0.32407 -0.35538 -0.32477 C -0.35955 -0.32569 -0.36771 -0.32824 -0.36771 -0.32801 C -0.38264 -0.33958 -0.43385 -0.33102 -0.45746 -0.31944 C -0.46302 -0.3162 -0.46718 -0.31227 -0.47274 -0.30995 C -0.48003 -0.30092 -0.49548 -0.30023 -0.50521 -0.29722 C -0.51493 -0.29421 -0.52361 -0.28819 -0.53298 -0.28449 C -0.54045 -0.275 -0.53073 -0.28611 -0.54062 -0.27893 C -0.54653 -0.275 -0.54948 -0.26875 -0.55607 -0.2662 C -0.55972 -0.26227 -0.56736 -0.25717 -0.57187 -0.25532 C -0.58871 -0.24097 -0.60989 -0.2368 -0.62882 -0.22615 C -0.64028 -0.21967 -0.65104 -0.21203 -0.66267 -0.20625 C -0.66771 -0.20347 -0.67343 -0.20231 -0.67812 -0.19884 C -0.68628 -0.19236 -0.69184 -0.18865 -0.70139 -0.18588 C -0.70642 -0.18194 -0.71093 -0.18078 -0.71684 -0.1787 C -0.72725 -0.16713 -0.7559 -0.1706 -0.76927 -0.16967 C -0.81632 -0.17037 -0.83941 -0.15972 -0.87291 -0.1787 C -0.87986 -0.1868 -0.88732 -0.19421 -0.89427 -0.20231 C -0.90052 -0.20949 -0.90486 -0.21967 -0.90989 -0.22777 C -0.91111 -0.22963 -0.91215 -0.23148 -0.91302 -0.23333 C -0.91371 -0.23518 -0.91354 -0.2375 -0.91441 -0.23889 C -0.91562 -0.2412 -0.91771 -0.24259 -0.91909 -0.24444 C -0.92031 -0.24606 -0.92118 -0.24791 -0.92222 -0.24977 C -0.92569 -0.25717 -0.92812 -0.26574 -0.93298 -0.27176 C -0.9335 -0.27361 -0.93385 -0.27546 -0.93455 -0.27731 C -0.93524 -0.27916 -0.93698 -0.28055 -0.93767 -0.28264 C -0.93854 -0.28449 -0.9408 -0.29791 -0.9408 -0.2993 C -0.9401 -0.32615 -0.94722 -0.37338 -0.92691 -0.39745 C -0.92222 -0.41481 -0.9184 -0.43865 -0.93003 -0.45231 C -0.93177 -0.45833 -0.93455 -0.46134 -0.93767 -0.46666 C -0.93941 -0.47291 -0.94218 -0.47592 -0.94548 -0.48125 C -0.94965 -0.49699 -0.94375 -0.47801 -0.95017 -0.49051 C -0.9526 -0.49537 -0.95364 -0.50185 -0.95607 -0.50671 C -0.96111 -0.51643 -0.96875 -0.52523 -0.97465 -0.53449 C -0.98003 -0.54213 -0.98142 -0.54838 -0.98854 -0.55416 C -0.99166 -0.56365 -0.99791 -0.57083 -1.00434 -0.57801 C -1.0092 -0.58379 -1.0118 -0.58958 -1.01823 -0.59421 C -1.02291 -0.60347 -1.02951 -0.60902 -1.03819 -0.61273 C -1.04809 -0.62129 -1.05694 -0.63379 -1.06892 -0.63819 C -1.07344 -0.64328 -1.07812 -0.64838 -1.0842 -0.65069 C -1.09427 -0.66273 -1.08941 -0.6581 -1.10121 -0.66736 C -1.10278 -0.66852 -1.1059 -0.67106 -1.1059 -0.67083 C -1.10868 -0.67639 -1.11163 -0.67939 -1.1151 -0.68379 C -1.11805 -0.69467 -1.12708 -0.69838 -1.13229 -0.7074 C -1.14184 -0.72477 -1.1526 -0.74004 -1.16441 -0.75486 C -1.16805 -0.7662 -1.17639 -0.77199 -1.18316 -0.78032 C -1.18368 -0.78217 -1.18368 -0.78426 -1.18455 -0.78564 C -1.1868 -0.78935 -1.19236 -0.7949 -1.19236 -0.7949 E">
                                      <p:cBhvr>
                                        <p:cTn id="51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Использованные Интернет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5.beon.ru/96/62/456296/5/19269805/butterfly61.gif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баб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41080" y="1988280"/>
            <a:ext cx="44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stgif.narod.ru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машина, алла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14880" y="2565360"/>
            <a:ext cx="58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kakadu.509.com1.ru/fotogal/anima/162.g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ры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nimo2.ucoz.ru/_ph/14/2/638102366.g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корабл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5:27:51Z</dcterms:created>
  <dc:creator>comp7</dc:creator>
  <dc:description/>
  <dc:language>en-US</dc:language>
  <cp:lastModifiedBy>User</cp:lastModifiedBy>
  <dcterms:modified xsi:type="dcterms:W3CDTF">2013-11-07T01:55:16Z</dcterms:modified>
  <cp:revision>12</cp:revision>
  <dc:subject/>
  <dc:title>Слайд 1</dc:title>
</cp:coreProperties>
</file>