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33A-0F79-4F16-B85C-389B34BF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817-0FF9-4E44-8DF7-58CC5D2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BCC-CB0C-46B6-900E-D3470C74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CEE-56D5-4ACC-AC0B-5C87837D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E83-73BC-4BEB-9EC5-A208EA1B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86D-5D2C-43D3-A32B-39C723AB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7CA-2290-4903-B2BE-0189146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4E1-C078-44D3-9969-EE5452E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F77-B033-456B-B46B-93CD9F5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AC2-0A3F-4390-927C-BD91FDA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E6D-88F5-4A19-9E0B-62FE0A91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46F-0BDC-43D0-B433-E44DC100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4185-1EFA-4177-BDDD-42B7372F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272-1439-4900-A91C-1709F74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1E6-DBBB-429D-AF1D-8DBE017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566-4D19-4921-9D9F-6B507CF6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435-4407-4D0E-819A-BCF1878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4703-663A-4B98-AEA6-AF17270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4F2-B831-4926-BA74-D375E51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D5E-8760-43E5-95D6-F179C6E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021-C342-40C2-BD6E-C8700FA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BF17-B7DD-43B9-B72E-88D7FB9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2A7-7211-4AD5-B4A1-9E51E57F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AF2-ECA1-4E5F-9827-B4E42E8F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EE4D-82CE-417C-B4CC-25960394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C6AE-3E3A-4D21-ACED-D11EC652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E0CA-7F74-4B30-92C7-8135E5D9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6AF7-9EE0-4B14-B58B-0EC1014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A00B-5FA6-4BC7-BB7D-37418DD5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ADDD-DB88-4652-9F55-7ADF4E0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FA8B-31FB-4F1C-A0AD-19B572F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7F3E-F5FB-4F65-90D0-B656568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45B7-D519-4524-AE7C-17C89CB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6353-BB23-4DA8-9BFA-695CC24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D07A-6E1B-440E-9740-09C26A27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DB4B-644C-4F5B-B212-CA1B9E6B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6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" name="Straight Connector 8"/>
          <p:cNvSpPr/>
          <p:nvPr/>
        </p:nvSpPr>
        <p:spPr>
          <a:xfrm>
            <a:off x="1371600" y="6019920"/>
            <a:ext cx="6934320" cy="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54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652-9641-48A2-B568-D424B113A85C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104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7" name="Round Diagonal Corner Rectangle 5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0" y="1479600"/>
              <a:ext cx="9144000" cy="316872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Rectangle 22"/>
            <p:cNvSpPr/>
            <p:nvPr/>
          </p:nvSpPr>
          <p:spPr>
            <a:xfrm>
              <a:off x="0" y="0"/>
              <a:ext cx="9144000" cy="1993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9" name="Rectangle 23"/>
            <p:cNvSpPr/>
            <p:nvPr/>
          </p:nvSpPr>
          <p:spPr>
            <a:xfrm>
              <a:off x="0" y="4648320"/>
              <a:ext cx="9144000" cy="2209680"/>
            </a:xfrm>
            <a:prstGeom prst="rect">
              <a:avLst/>
            </a:prstGeom>
            <a:solidFill>
              <a:srgbClr val="00000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0" name="Round Diagonal Corner Rectangle 24"/>
            <p:cNvSpPr/>
            <p:nvPr/>
          </p:nvSpPr>
          <p:spPr>
            <a:xfrm flipH="1">
              <a:off x="455400" y="457200"/>
              <a:ext cx="8229600" cy="5943600"/>
            </a:xfrm>
            <a:custGeom>
              <a:avLst/>
              <a:gdLst>
                <a:gd name="textAreaLeft" fmla="*/ 289800 w 8229600"/>
                <a:gd name="textAreaRight" fmla="*/ 7939800 w 8229600"/>
                <a:gd name="textAreaTop" fmla="*/ 290160 h 5943600"/>
                <a:gd name="textAreaBottom" fmla="*/ 5653440 h 5943600"/>
              </a:gdLst>
              <a:ahLst/>
              <a:rect l="textAreaLeft" t="textAreaTop" r="textAreaRight" b="textAreaBottom"/>
              <a:pathLst>
                <a:path w="8229600" h="5943600">
                  <a:moveTo>
                    <a:pt x="990620" y="0"/>
                  </a:moveTo>
                  <a:lnTo>
                    <a:pt x="8229600" y="0"/>
                  </a:lnTo>
                  <a:lnTo>
                    <a:pt x="8229600" y="4952980"/>
                  </a:lnTo>
                  <a:lnTo>
                    <a:pt x="8229600" y="4952980"/>
                  </a:lnTo>
                  <a:arcTo wR="990620" hR="990620" stAng="0" swAng="5400003"/>
                  <a:lnTo>
                    <a:pt x="0" y="5943600"/>
                  </a:lnTo>
                  <a:lnTo>
                    <a:pt x="0" y="990620"/>
                  </a:lnTo>
                  <a:lnTo>
                    <a:pt x="0" y="990620"/>
                  </a:lnTo>
                  <a:arcTo wR="990620" hR="990620" stAng="-10799997" swAng="5400003"/>
                  <a:close/>
                </a:path>
              </a:pathLst>
            </a:cu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1" name="Rectangle 25"/>
            <p:cNvSpPr/>
            <p:nvPr/>
          </p:nvSpPr>
          <p:spPr>
            <a:xfrm>
              <a:off x="0" y="1028520"/>
              <a:ext cx="9144000" cy="10332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246240" y="3444840"/>
            <a:ext cx="380880" cy="1387440"/>
            <a:chOff x="246240" y="3444840"/>
            <a:chExt cx="380880" cy="1387440"/>
          </a:xfrm>
        </p:grpSpPr>
        <p:sp>
          <p:nvSpPr>
            <p:cNvPr id="193" name="Oval 27"/>
            <p:cNvSpPr/>
            <p:nvPr/>
          </p:nvSpPr>
          <p:spPr>
            <a:xfrm>
              <a:off x="246240" y="4451400"/>
              <a:ext cx="380880" cy="380880"/>
            </a:xfrm>
            <a:prstGeom prst="ellipse">
              <a:avLst/>
            </a:prstGeom>
            <a:solidFill>
              <a:srgbClr val="ffffff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246240" y="394812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246240" y="3444840"/>
              <a:ext cx="380880" cy="380880"/>
            </a:xfrm>
            <a:prstGeom prst="ellipse">
              <a:avLst/>
            </a:prstGeom>
            <a:solidFill>
              <a:srgbClr val="000000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0B5-21EE-4BD7-AE4F-256A43624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AE9B-84B5-4EB3-8CA5-561021BA6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304920" y="1295280"/>
            <a:ext cx="3276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3581280" y="2514600"/>
            <a:ext cx="60984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572000" y="304920"/>
            <a:ext cx="5335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105520" y="1981080"/>
            <a:ext cx="1066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6477120" y="3808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248520" y="1143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6400800" y="1905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6248520" y="27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6553080" y="3505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553080" y="4343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0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6553080" y="51814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6248520" y="5867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5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Text Box 16"/>
          <p:cNvSpPr/>
          <p:nvPr/>
        </p:nvSpPr>
        <p:spPr>
          <a:xfrm rot="20775600">
            <a:off x="126000" y="3833640"/>
            <a:ext cx="8224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0000"/>
                </a:solidFill>
                <a:latin typeface="Arial"/>
              </a:rPr>
              <a:t>движение</a:t>
            </a:r>
            <a:endParaRPr b="0" lang="en-US" sz="129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Вини и Тигра"/>
          <p:cNvPicPr/>
          <p:nvPr/>
        </p:nvPicPr>
        <p:blipFill>
          <a:blip r:embed="rId2"/>
          <a:stretch/>
        </p:blipFill>
        <p:spPr>
          <a:xfrm>
            <a:off x="2743200" y="1447920"/>
            <a:ext cx="4105440" cy="35845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 rot="20853000">
            <a:off x="752760" y="896400"/>
            <a:ext cx="32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entury Gothic"/>
              </a:rPr>
              <a:t>Урок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Text Box 6"/>
          <p:cNvSpPr/>
          <p:nvPr/>
        </p:nvSpPr>
        <p:spPr>
          <a:xfrm rot="21324600">
            <a:off x="1523880" y="4800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entury Gothic"/>
              </a:rPr>
              <a:t>окончен!!!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7"/>
          <p:cNvSpPr/>
          <p:nvPr/>
        </p:nvSpPr>
        <p:spPr>
          <a:xfrm>
            <a:off x="990720" y="1371600"/>
            <a:ext cx="716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Bradley Hand ITC"/>
              </a:rPr>
              <a:t>Решение</a:t>
            </a:r>
            <a:r>
              <a:rPr b="1" lang="en-US" sz="8000" spc="-1" strike="noStrike">
                <a:solidFill>
                  <a:srgbClr val="0000ff"/>
                </a:solidFill>
                <a:latin typeface="Bradley Hand ITC"/>
              </a:rPr>
              <a:t> задач на движение</a:t>
            </a:r>
            <a:endParaRPr b="0" lang="en-US" sz="8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1066680" y="762120"/>
            <a:ext cx="601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V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=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700" spc="-1" strike="noStrike">
                <a:solidFill>
                  <a:srgbClr val="800080"/>
                </a:solidFill>
                <a:latin typeface="Arial"/>
              </a:rPr>
              <a:t>: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600200" y="45720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=V </a:t>
            </a:r>
            <a:r>
              <a:rPr b="0" i="1" lang="ru-RU" sz="8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i="1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600200" y="28195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Lucida Calligraphy"/>
              </a:rPr>
              <a:t>t </a:t>
            </a:r>
            <a:r>
              <a:rPr b="0" i="1" lang="en-US" sz="8800" spc="-1" strike="noStrike">
                <a:solidFill>
                  <a:srgbClr val="000000"/>
                </a:solidFill>
                <a:latin typeface="Lucida Calligraphy"/>
              </a:rPr>
              <a:t>= </a:t>
            </a:r>
            <a:r>
              <a:rPr b="0" lang="en-US" sz="9600" spc="-1" strike="noStrike">
                <a:solidFill>
                  <a:srgbClr val="000000"/>
                </a:solidFill>
                <a:latin typeface="Lucida Calligraphy"/>
              </a:rPr>
              <a:t>S </a:t>
            </a:r>
            <a:r>
              <a:rPr b="1" lang="ru-RU" sz="9600" spc="-1" strike="noStrike">
                <a:solidFill>
                  <a:srgbClr val="800080"/>
                </a:solidFill>
                <a:latin typeface="Lucida Calligraphy"/>
              </a:rPr>
              <a:t> : </a:t>
            </a:r>
            <a:r>
              <a:rPr b="0" i="1" lang="en-US" sz="9600" spc="-1" strike="noStrike">
                <a:solidFill>
                  <a:srgbClr val="000000"/>
                </a:solidFill>
                <a:latin typeface="Lucida Calligraphy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5334120" y="510552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MC900344848[1]"/>
          <p:cNvPicPr/>
          <p:nvPr/>
        </p:nvPicPr>
        <p:blipFill>
          <a:blip r:embed="rId2"/>
          <a:stretch/>
        </p:blipFill>
        <p:spPr>
          <a:xfrm>
            <a:off x="0" y="5162400"/>
            <a:ext cx="1454040" cy="16956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8"/>
          <p:cNvSpPr/>
          <p:nvPr/>
        </p:nvSpPr>
        <p:spPr>
          <a:xfrm>
            <a:off x="1219320" y="7621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   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S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1371600" y="25909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, м/мин, час, см, м, мм, мин, сек, м/ч, м/сек , км/мин.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6.76845E-006 C 0.01129 -0.00971 0.02084 -0.02128 0.03178 -0.03122 C 0.03786 -0.03677 0.04237 -0.04256 0.04949 -0.04533 C 0.05747 -0.0525 0.05383 -0.05042 0.06008 -0.0532 C 0.06459 -0.05736 0.06911 -0.05806 0.07414 -0.06106 C 0.07883 -0.06384 0.08126 -0.06638 0.08595 -0.07055 C 0.08803 -0.0724 0.09081 -0.07217 0.09289 -0.07355 C 0.09671 -0.0761 0.09931 -0.07818 0.10348 -0.0798 C 0.10591 -0.07934 0.10834 -0.0798 0.1106 -0.07841 C 0.11685 -0.07471 0.11858 -0.06176 0.12466 -0.05644 C 0.12674 -0.04811 0.12518 -0.05297 0.13056 -0.04233 C 0.13126 -0.04094 0.13108 -0.03886 0.13178 -0.03747 C 0.13508 -0.0296 0.13959 -0.02174 0.14358 -0.0141 C 0.14636 -0.00902 0.14879 0.00093 0.15174 0.00486 C 0.15556 0.00995 0.16112 0.01203 0.16598 0.01412 C 0.17171 0.01203 0.17553 0.00695 0.18126 0.00486 C 0.19011 -0.00763 0.179 0.00648 0.18942 -0.00161 C 0.1915 -0.00323 0.19793 -0.01017 0.20001 -0.01249 C 0.2047 -0.01781 0.20747 -0.02544 0.21181 -0.03122 C 0.21824 -0.05667 0.23039 -0.07934 0.23647 -0.10501 C 0.23733 -0.10848 0.23994 -0.11103 0.24115 -0.11427 C 0.24393 -0.1219 0.24584 -0.12745 0.24949 -0.13485 C 0.25105 -0.13786 0.25418 -0.14411 0.25418 -0.14411 C 0.25643 -0.1529 0.25869 -0.16146 0.26233 -0.16932 C 0.2639 -0.17719 0.26633 -0.18089 0.27067 -0.18644 C 0.27293 -0.19662 0.26997 -0.18551 0.27536 -0.19754 C 0.28074 -0.20957 0.28803 -0.2253 0.29879 -0.23039 C 0.30747 -0.22738 0.31581 -0.21697 0.3224 -0.20841 C 0.32483 -0.19916 0.32987 -0.19107 0.33178 -0.18181 C 0.33386 -0.17187 0.33664 -0.16331 0.3389 -0.15359 C 0.34046 -0.14642 0.34133 -0.13856 0.34358 -0.13162 C 0.34549 -0.12537 0.3481 -0.11959 0.34949 -0.11288 C 0.35331 -0.09484 0.35765 -0.07633 0.36355 -0.05944 C 0.36945 -0.04209 0.37622 -0.02382 0.39063 -0.01711 C 0.39515 -0.0111 0.39983 -0.0074 0.40591 -0.00462 C 0.42362 -0.0067 0.41893 -0.00485 0.43056 -0.01572 C 0.4389 -0.03238 0.44532 -0.04857 0.45053 -0.06731 C 0.45539 -0.08466 0.45539 -0.10686 0.46355 -0.12213 C 0.46789 -0.13902 0.47345 -0.15267 0.48473 -0.16308 C 0.48647 -0.17002 0.48855 -0.16909 0.49289 -0.17233 C 0.5007 -0.17811 0.50331 -0.18228 0.51181 -0.18482 C 0.51668 -0.18945 0.51963 -0.18991 0.52588 -0.1913 C 0.53247 -0.19083 0.53924 -0.19107 0.54584 -0.18968 C 0.55313 -0.18829 0.55695 -0.17603 0.56233 -0.17071 C 0.57657 -0.1566 0.5849 -0.13601 0.59063 -0.11427 C 0.59185 -0.10918 0.59237 -0.10339 0.59411 -0.09877 C 0.59723 -0.09067 0.60018 -0.08396 0.60244 -0.07517 C 0.60383 -0.07008 0.60834 -0.06106 0.60834 -0.06106 C 0.61112 -0.04973 0.61494 -0.04001 0.62119 -0.03122 C 0.62362 -0.02174 0.63299 -0.01249 0.63994 -0.00925 C 0.6422 -0.00948 0.65487 -0.00878 0.66008 -0.01249 C 0.66424 -0.01526 0.67067 -0.02498 0.67067 -0.02498 E">
                                      <p:cBhvr>
                                        <p:cTn id="74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66 -0.02475 C 0.67257 -0.03424 0.67709 -0.04187 0.679 -0.05135 C 0.68073 -0.05945 0.68004 -0.06015 0.68125 -0.07009 C 0.68334 -0.08582 0.68698 -0.10155 0.68959 -0.11728 C 0.69046 -0.13602 0.69098 -0.15406 0.69549 -0.1721 C 0.69723 -0.18714 0.69879 -0.20218 0.70018 -0.21744 C 0.70087 -0.24428 0.69809 -0.28221 0.70487 -0.30858 C 0.70747 -0.38122 0.70712 -0.36086 0.70712 -0.48254 C 0.70712 -0.50914 0.71059 -0.55748 0.69653 -0.58432 C 0.68976 -0.61277 0.67084 -0.6366 0.6507 -0.64863 C 0.6415 -0.65418 0.63108 -0.65533 0.62136 -0.65649 C 0.62014 -0.65603 0.61893 -0.6551 0.61771 -0.65487 C 0.60747 -0.65395 0.59723 -0.65533 0.58716 -0.65325 C 0.57934 -0.65163 0.56893 -0.63475 0.56476 -0.62665 C 0.5625 -0.61647 0.56546 -0.62781 0.56129 -0.61717 C 0.55816 -0.60907 0.5573 -0.59912 0.55539 -0.59056 C 0.55504 -0.58894 0.55452 -0.58756 0.55417 -0.58594 C 0.55382 -0.58386 0.55365 -0.58177 0.55313 -0.57969 C 0.55244 -0.57645 0.5507 -0.57021 0.5507 -0.57021 C 0.54948 -0.55934 0.54896 -0.54823 0.54723 -0.53736 C 0.54688 -0.52996 0.54653 -0.52279 0.54601 -0.51538 C 0.54445 -0.49202 0.54566 -0.51145 0.54358 -0.49665 C 0.54098 -0.47814 0.54167 -0.45061 0.52483 -0.44483 C 0.51615 -0.44761 0.51407 -0.44807 0.50834 -0.4557 C 0.50226 -0.47976 0.49844 -0.50289 0.49549 -0.52788 C 0.49323 -0.54638 0.4915 -0.56813 0.48369 -0.58432 C 0.48195 -0.59357 0.47952 -0.60306 0.47535 -0.61092 C 0.47153 -0.62896 0.46146 -0.64284 0.44827 -0.64863 C 0.44254 -0.64701 0.44011 -0.64516 0.43542 -0.64076 C 0.43125 -0.6329 0.42969 -0.62781 0.42605 -0.6204 C 0.42066 -0.59311 0.42136 -0.56419 0.41424 -0.53736 C 0.41146 -0.49804 0.41129 -0.45871 0.40834 -0.41962 C 0.40539 -0.38145 0.40903 -0.39625 0.40487 -0.38052 C 0.40382 -0.36988 0.40209 -0.36248 0.40018 -0.3523 C 0.39775 -0.33912 0.39566 -0.32131 0.38837 -0.31159 C 0.38646 -0.30442 0.38334 -0.29933 0.38004 -0.29309 C 0.37865 -0.29031 0.37535 -0.29077 0.37309 -0.28962 C 0.37188 -0.28915 0.36945 -0.288 0.36945 -0.288 C 0.36025 -0.29054 0.36563 -0.288 0.35539 -0.29748 C 0.35313 -0.29956 0.34827 -0.30373 0.34827 -0.30373 C 0.33959 -0.32154 0.33473 -0.3412 0.33073 -0.36179 C 0.32882 -0.38423 0.32917 -0.37705 0.3283 -0.40875 C 0.32761 -0.43373 0.3283 -0.45802 0.32483 -0.48254 C 0.32362 -0.49086 0.32136 -0.49919 0.32014 -0.50752 C 0.31754 -0.52626 0.3165 -0.54522 0.31424 -0.56396 C 0.31337 -0.5709 0.31129 -0.57715 0.31077 -0.58432 C 0.30921 -0.60514 0.30591 -0.63984 0.28716 -0.64539 C 0.28559 -0.64492 0.28386 -0.64516 0.28247 -0.644 C 0.28004 -0.64215 0.27205 -0.62873 0.27066 -0.62503 C 0.26875 -0.62017 0.26476 -0.61092 0.26476 -0.61092 C 0.26355 -0.60537 0.2625 -0.60167 0.26007 -0.59681 C 0.25695 -0.56882 0.26129 -0.60976 0.25782 -0.55934 C 0.2566 -0.54037 0.25261 -0.5214 0.24948 -0.50289 C 0.2474 -0.4904 0.24393 -0.47583 0.23542 -0.46843 C 0.23351 -0.46889 0.23125 -0.46843 0.22952 -0.46981 C 0.22518 -0.47328 0.22327 -0.48739 0.22136 -0.49341 C 0.21841 -0.50289 0.21528 -0.5133 0.21303 -0.52325 C 0.21077 -0.53343 0.20955 -0.54314 0.20608 -0.55286 C 0.20417 -0.56535 0.20209 -0.58015 0.19653 -0.59056 C 0.1948 -0.59843 0.19428 -0.6056 0.19063 -0.61254 C 0.18803 -0.62364 0.18924 -0.61878 0.18716 -0.62665 C 0.18629 -0.63012 0.18334 -0.63266 0.18247 -0.63613 C 0.18178 -0.63914 0.179 -0.64816 0.17778 -0.65024 C 0.17622 -0.65279 0.17292 -0.65395 0.17066 -0.65487 C 0.16476 -0.65279 0.16164 -0.65001 0.1566 -0.64539 C 0.15434 -0.6433 0.14948 -0.63914 0.14948 -0.63914 C 0.14723 -0.6329 0.14341 -0.62966 0.14132 -0.62341 C 0.13768 -0.61231 0.1349 -0.59935 0.13299 -0.58756 C 0.13091 -0.5746 0.1316 -0.56095 0.1283 -0.54823 C 0.12674 -0.51677 0.12691 -0.48138 0.11893 -0.45108 C 0.11598 -0.42887 0.11511 -0.40412 0.10712 -0.38376 C 0.10591 -0.37613 0.10434 -0.37197 0.10018 -0.36641 C 0.09497 -0.34629 0.08994 -0.33333 0.07778 -0.31946 C 0.07188 -0.31275 0.07709 -0.31575 0.07066 -0.31321 C 0.06806 -0.31668 0.06632 -0.32084 0.06372 -0.32408 C 0.05903 -0.33033 0.05296 -0.33472 0.04948 -0.34282 C 0.04497 -0.35346 0.04462 -0.36479 0.04132 -0.3759 C 0.03698 -0.3907 0.04063 -0.37266 0.03664 -0.39001 C 0.03386 -0.40227 0.03264 -0.41453 0.0283 -0.42609 C 0.02674 -0.43535 0.02448 -0.44414 0.02136 -0.4527 C 0.01789 -0.4749 0.01059 -0.49618 0.00712 -0.51839 C 0.00434 -0.53528 0.00087 -0.56558 -0.00572 -0.57969 C -0.00729 -0.5901 -0.00937 -0.60375 -0.01406 -0.61254 C -0.01579 -0.61994 -0.01666 -0.62642 -0.01996 -0.6329 C -0.02187 -0.64076 -0.02343 -0.64631 -0.02691 -0.65325 C -0.02812 -0.65927 -0.02708 -0.66019 -0.03159 -0.66274 C -0.03385 -0.66412 -0.03871 -0.66574 -0.03871 -0.66574 C -0.04513 -0.6632 -0.04895 -0.65256 -0.05277 -0.64539 C -0.05555 -0.64007 -0.05989 -0.6359 -0.06215 -0.62989 C -0.06545 -0.62087 -0.06666 -0.60976 -0.06927 -0.60005 C -0.07152 -0.57437 -0.07864 -0.55031 -0.08229 -0.52487 C -0.08402 -0.51307 -0.08385 -0.50058 -0.08576 -0.48878 C -0.08628 -0.48554 -0.08819 -0.4793 -0.08819 -0.4793 C -0.09027 -0.45339 -0.09635 -0.42818 -0.09982 -0.4025 C -0.10121 -0.39186 -0.10468 -0.38191 -0.10572 -0.37104 C -0.1085 -0.34328 -0.11059 -0.31622 -0.11163 -0.288 C -0.1125 -0.23572 -0.11371 -0.18367 -0.1151 -0.13139 C -0.11579 -0.10456 -0.1217 -0.07796 -0.12222 -0.05135 C -0.12256 -0.03354 -0.12222 -0.01596 -0.12222 0.00185 E">
                                      <p:cBhvr>
                                        <p:cTn id="77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0.00023 C 0.00277 0.00555 0.00555 0.00925 0.00954 0.01272 C 0.01458 0.02313 0.02083 0.02683 0.02951 0.02984 C 0.03385 0.03424 0.03888 0.03609 0.04357 0.03956 C 0.04965 0.04349 0.04461 0.04187 0.05069 0.04742 C 0.05781 0.05367 0.06822 0.0576 0.07656 0.0613 C 0.08749 0.06639 0.07551 0.06222 0.08472 0.06755 C 0.09461 0.07356 0.10364 0.07981 0.11406 0.08328 C 0.12239 0.09021 0.13055 0.0923 0.1401 0.09415 C 0.14392 0.096 0.14687 0.099 0.15069 0.10039 C 0.16145 0.10433 0.17256 0.10525 0.1835 0.10826 C 0.20468 0.11404 0.22551 0.11936 0.24704 0.12075 C 0.33159 0.1337 0.41735 0.13046 0.50242 0.1226 C 0.51631 0.11982 0.52951 0.11497 0.54357 0.11288 C 0.5736 0.10086 0.60364 0.08906 0.63419 0.07842 C 0.64114 0.0724 0.64947 0.0687 0.65538 0.05991 C 0.65833 0.05529 0.6585 0.05182 0.66006 0.04557 C 0.66128 0.04071 0.66649 0.03146 0.66822 0.02521 C 0.67065 0.01665 0.67117 0.00648 0.67534 -0.00116 C 0.6809 -0.03077 0.67916 -0.01619 0.67656 -0.07171 C 0.67499 -0.10479 0.66076 -0.12977 0.64235 -0.15013 C 0.60972 -0.18621 0.56579 -0.20102 0.52482 -0.2112 C 0.5111 -0.21467 0.49878 -0.21652 0.48472 -0.21744 C 0.4743 -0.22091 0.46353 -0.22184 0.45294 -0.22369 C 0.44461 -0.22762 0.43593 -0.22762 0.42708 -0.22855 C 0.41371 -0.23479 0.39843 -0.23618 0.38472 -0.23942 C 0.37065 -0.24589 0.35555 -0.24613 0.34114 -0.24728 C 0.31996 -0.25214 0.29965 -0.2644 0.27881 -0.26926 C 0.26058 -0.27782 0.24166 -0.28545 0.22239 -0.28799 C 0.21492 -0.29493 0.2052 -0.29447 0.19652 -0.29748 C 0.18663 -0.30095 0.17725 -0.30187 0.16718 -0.30372 C 0.15798 -0.30604 0.1493 -0.30974 0.1401 -0.31182 C 0.13558 -0.31552 0.13246 -0.31645 0.12708 -0.31807 C 0.11753 -0.32709 0.09722 -0.33703 0.08593 -0.34004 C 0.07656 -0.34744 0.06579 -0.3486 0.05538 -0.35253 C 0.05121 -0.35392 0.04756 -0.3567 0.04357 -0.35878 C 0.03958 -0.3641 0.03697 -0.3641 0.03176 -0.36641 C 0.02656 -0.37335 0.0177 -0.37798 0.01058 -0.38052 C 0.00555 -0.38538 0.00103 -0.387 -0.00348 -0.39301 C -0.00626 -0.39093 -0.00851 -0.38769 -0.01164 -0.38677 C -0.02153 -0.38515 -0.0165 -0.39047 -0.02119 -0.39463 C -0.02258 -0.39579 -0.02431 -0.39579 -0.02587 -0.39648 C -0.03178 -0.40435 -0.03664 -0.40782 -0.04237 -0.41499 C -0.0481 -0.42193 -0.05209 -0.43003 -0.05765 -0.43697 C -0.06129 -0.44691 -0.06511 -0.45663 -0.06824 -0.46681 C -0.06945 -0.47097 -0.07067 -0.47513 -0.07171 -0.4793 C -0.07258 -0.48254 -0.07414 -0.48878 -0.07414 -0.48878 C -0.07744 -0.53227 -0.0764 -0.59103 -0.03872 -0.60467 C 0.071 -0.64423 0.18871 -0.60583 0.30242 -0.60629 C 0.32395 -0.60861 0.34218 -0.60999 0.36475 -0.61092 C 0.37621 -0.61323 0.38749 -0.61531 0.39895 -0.61716 C 0.42117 -0.6248 0.45885 -0.62156 0.47517 -0.62202 C 0.50538 -0.62642 0.53055 -0.62364 0.56232 -0.62202 C 0.56788 -0.61948 0.57308 -0.6174 0.57881 -0.61578 C 0.58749 -0.60791 0.59513 -0.5982 0.60364 -0.59056 C 0.6059 -0.58131 0.60798 -0.57183 0.60954 -0.56234 C 0.60867 -0.53736 0.61006 -0.50451 0.59183 -0.48878 C 0.58645 -0.47814 0.5927 -0.48809 0.58593 -0.48254 C 0.58385 -0.48069 0.58211 -0.47791 0.58003 -0.47606 C 0.57638 -0.47282 0.57204 -0.47143 0.56822 -0.46843 C 0.56753 -0.46681 0.56718 -0.46472 0.56597 -0.46357 C 0.56458 -0.46241 0.56284 -0.46287 0.56128 -0.46195 C 0.55503 -0.45848 0.54895 -0.45501 0.54235 -0.4527 C 0.53385 -0.44483 0.52291 -0.43997 0.51301 -0.43535 C 0.51163 -0.43465 0.51076 -0.43303 0.50954 -0.43234 C 0.50833 -0.43165 0.50711 -0.43118 0.5059 -0.43072 C 0.50086 -0.42609 0.49635 -0.42401 0.49062 -0.42124 C 0.48749 -0.41985 0.48124 -0.41661 0.48124 -0.41661 C 0.4743 -0.40967 0.46683 -0.40898 0.45885 -0.40574 C 0.43715 -0.39718 0.46492 -0.40805 0.446 -0.3981 C 0.43906 -0.39417 0.43159 -0.39301 0.42482 -0.38839 C 0.41926 -0.38469 0.41197 -0.3833 0.40711 -0.37914 C 0.39201 -0.36572 0.37395 -0.36132 0.35746 -0.35253 C 0.34357 -0.34513 0.32951 -0.33889 0.31527 -0.33218 C 0.30329 -0.32616 0.29114 -0.31714 0.27881 -0.31344 C 0.27083 -0.30719 0.26197 -0.30442 0.25416 -0.29748 C 0.24478 -0.28938 0.23385 -0.28152 0.2236 -0.2755 C 0.2144 -0.27018 0.20451 -0.26694 0.19531 -0.26139 C 0.18211 -0.2533 0.16961 -0.24312 0.15659 -0.23479 C 0.14791 -0.22924 0.14079 -0.22068 0.13176 -0.21605 C 0.1269 -0.21097 0.12135 -0.20796 0.11631 -0.20333 C 0.10902 -0.19616 0.1019 -0.18806 0.09392 -0.18136 C 0.08697 -0.17534 0.07968 -0.17048 0.07291 -0.16424 C 0.0618 -0.15429 0.07551 -0.16655 0.06232 -0.15175 C 0.05538 -0.14411 0.04722 -0.14041 0.03888 -0.13625 C 0.03715 -0.13509 0.03593 -0.13255 0.03419 -0.13162 C 0.03281 -0.1307 0.03107 -0.13023 0.02951 -0.12977 C 0.021 -0.12237 0.02517 -0.12445 0.0177 -0.12191 C 0.01163 -0.11635 0.00485 -0.11358 -0.00105 -0.10803 C -0.01442 -0.09577 -0.02692 -0.08351 -0.04115 -0.07356 C -0.05278 -0.06546 -0.05018 -0.05852 -0.06355 -0.0532 C -0.06754 -0.04788 -0.07119 -0.04256 -0.07518 -0.03747 C -0.07657 -0.03562 -0.07865 -0.0347 -0.08004 -0.03285 C -0.08456 -0.02591 -0.08803 -0.01735 -0.09289 -0.01064 C -0.10331 0.00301 -0.08803 -0.02198 -0.10001 -0.00116 C -0.1014 0.00486 -0.10504 0.00717 -0.10695 0.01272 C -0.10799 0.01573 -0.10817 0.01943 -0.10938 0.02221 C -0.11129 0.02637 -0.11355 0.0303 -0.11528 0.0347 E">
                                      <p:cBhvr>
                                        <p:cTn id="80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38 0.03077 C 0.07569 0.02845 0.07604 0.02522 0.07326 0.01966 C 0.06545 -0.0148 0.05937 -0.0495 0.05104 -0.08374 C 0.04809 -0.096 0.04375 -0.1071 0.04149 -0.11982 C 0.03941 -0.13139 0.04184 -0.12075 0.03802 -0.13532 C 0.03767 -0.13694 0.0368 -0.14018 0.0368 -0.14018 C 0.03541 -0.15706 0.03229 -0.17349 0.0309 -0.19037 C 0.03003 -0.20078 0.02864 -0.2216 0.02864 -0.2216 C 0.02934 -0.25399 0.02847 -0.28452 0.03333 -0.31575 C 0.03472 -0.32523 0.03854 -0.3331 0.04045 -0.34235 C 0.04253 -0.35207 0.0467 -0.36641 0.05208 -0.37358 C 0.05468 -0.38353 0.05694 -0.39116 0.06267 -0.39879 C 0.06493 -0.40735 0.07066 -0.41452 0.07448 -0.42216 C 0.07986 -0.43326 0.08541 -0.44413 0.09097 -0.45524 C 0.09166 -0.45686 0.0934 -0.45709 0.09444 -0.45824 C 0.10052 -0.46542 0.10538 -0.47282 0.11215 -0.4786 C 0.11805 -0.4904 0.1335 -0.50358 0.14392 -0.50844 C 0.15017 -0.51492 0.15798 -0.51769 0.1651 -0.52255 C 0.16927 -0.52556 0.16771 -0.52625 0.17222 -0.5288 C 0.18593 -0.53689 0.20225 -0.54175 0.21684 -0.54615 C 0.23784 -0.55262 0.25798 -0.5635 0.27916 -0.56951 C 0.30694 -0.57737 0.34097 -0.57529 0.36736 -0.57599 C 0.38941 -0.57552 0.41128 -0.57576 0.43333 -0.57437 C 0.4335 -0.57437 0.44201 -0.57043 0.44392 -0.56951 C 0.45208 -0.56558 0.46111 -0.56257 0.46979 -0.56026 C 0.47847 -0.55424 0.48871 -0.5517 0.49809 -0.54777 C 0.50955 -0.54291 0.49288 -0.55008 0.50486 -0.54291 C 0.50989 -0.5399 0.51545 -0.53944 0.52014 -0.53666 C 0.5309 -0.53088 0.54149 -0.52463 0.55104 -0.51631 C 0.55659 -0.50636 0.56441 -0.49965 0.57222 -0.49271 C 0.58038 -0.48531 0.57725 -0.48554 0.58159 -0.4786 C 0.58524 -0.47282 0.58524 -0.47444 0.58975 -0.46935 C 0.59514 -0.46333 0.59809 -0.4557 0.60399 -0.45038 C 0.6085 -0.44159 0.61128 -0.43881 0.61684 -0.43164 C 0.62031 -0.42702 0.62066 -0.42285 0.62517 -0.41915 C 0.63038 -0.40481 0.63611 -0.39116 0.64149 -0.37682 C 0.64253 -0.37404 0.64409 -0.36248 0.64514 -0.35808 C 0.65017 -0.33796 0.6533 -0.31644 0.65573 -0.29539 C 0.65764 -0.26208 0.66458 -0.21027 0.65104 -0.18251 C 0.64861 -0.161 0.64479 -0.13208 0.63576 -0.11358 C 0.63385 -0.10386 0.6283 -0.09206 0.62396 -0.08374 C 0.61753 -0.07101 0.61267 -0.05598 0.60503 -0.04441 C 0.60503 -0.04441 0.59618 -0.03261 0.59444 -0.0303 C 0.59114 -0.02591 0.58906 -0.02151 0.58507 -0.01781 C 0.58246 -0.01249 0.57968 -0.00879 0.57569 -0.00532 C 0.57291 -2.35253000000022E-006 0.57118 0.0037 0.56632 0.00555 C 0.56198 0.00926 0.55694 0.01619 0.55208 0.01828 C 0.55052 0.0199 0.54878 0.02105 0.54739 0.0229 C 0.54635 0.02429 0.54618 0.02637 0.54514 0.02753 C 0.54271 0.03007 0.53941 0.03031 0.5368 0.03239 C 0.53107 0.03701 0.52552 0.04303 0.51927 0.0465 C 0.51024 0.05159 0.5 0.05251 0.49097 0.05737 C 0.48177 0.06223 0.47361 0.06662 0.46389 0.06847 C 0.44548 0.07588 0.42517 0.07773 0.40625 0.08096 C 0.39253 0.08305 0.37882 0.08675 0.3651 0.08883 C 0.35017 0.09484 0.33316 0.08929 0.31805 0.08559 C 0.296 0.08004 0.27465 0.07379 0.25208 0.07148 C 0.2309 0.06732 0.20989 0.06269 0.18854 0.06061 C 0.15486 0.0539 0.12135 0.03077 0.0875 0.03077 E">
                                      <p:cBhvr>
                                        <p:cTn id="83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80880" y="762120"/>
          <a:ext cx="8382240" cy="4698720"/>
        </p:xfrm>
        <a:graphic>
          <a:graphicData uri="http://schemas.openxmlformats.org/drawingml/2006/table">
            <a:tbl>
              <a:tblPr/>
              <a:tblGrid>
                <a:gridCol w="2954520"/>
                <a:gridCol w="1817640"/>
                <a:gridCol w="1351080"/>
                <a:gridCol w="2259000"/>
              </a:tblGrid>
              <a:tr h="1174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редняя 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9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66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46" descr="MC900214991[1]"/>
          <p:cNvPicPr/>
          <p:nvPr/>
        </p:nvPicPr>
        <p:blipFill>
          <a:blip r:embed="rId2"/>
          <a:stretch/>
        </p:blipFill>
        <p:spPr>
          <a:xfrm>
            <a:off x="457200" y="838080"/>
            <a:ext cx="1905120" cy="159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7" descr="MC900197731[1]"/>
          <p:cNvPicPr/>
          <p:nvPr/>
        </p:nvPicPr>
        <p:blipFill>
          <a:blip r:embed="rId3"/>
          <a:stretch/>
        </p:blipFill>
        <p:spPr>
          <a:xfrm>
            <a:off x="762120" y="4191120"/>
            <a:ext cx="2133360" cy="1023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8" descr="MC900053283[1]"/>
          <p:cNvPicPr/>
          <p:nvPr/>
        </p:nvPicPr>
        <p:blipFill>
          <a:blip r:embed="rId4"/>
          <a:stretch/>
        </p:blipFill>
        <p:spPr>
          <a:xfrm rot="445800">
            <a:off x="990360" y="2514600"/>
            <a:ext cx="18032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1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981080" y="2895480"/>
            <a:ext cx="6934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entury Gothic"/>
              </a:rPr>
              <a:t>Страница 56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1 ряд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4800" spc="-1" strike="noStrike">
                <a:solidFill>
                  <a:srgbClr val="800080"/>
                </a:solidFill>
                <a:latin typeface="Century Gothic"/>
              </a:rPr>
              <a:t> задача № 19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Gothic"/>
              </a:rPr>
              <a:t>2  ряд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4800" spc="-1" strike="noStrike">
                <a:solidFill>
                  <a:srgbClr val="800080"/>
                </a:solidFill>
                <a:latin typeface="Century Gothic"/>
              </a:rPr>
              <a:t>задача № 20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42" name="Picture 5" descr="Знайка"/>
          <p:cNvPicPr/>
          <p:nvPr/>
        </p:nvPicPr>
        <p:blipFill>
          <a:blip r:embed="rId2"/>
          <a:stretch/>
        </p:blipFill>
        <p:spPr>
          <a:xfrm>
            <a:off x="533520" y="3733920"/>
            <a:ext cx="1692000" cy="2511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380880" y="4572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man Old Style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4" descr="http://www.dr-invest.ru/khigigad/1332"/>
          <p:cNvPicPr/>
          <p:nvPr/>
        </p:nvPicPr>
        <p:blipFill>
          <a:blip r:embed="rId2"/>
          <a:srcRect l="0" t="11768" r="0" b="5884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609480" y="1066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entury Gothic"/>
              </a:rPr>
              <a:t>3  (14+8) : 2 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990720" y="1371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429000" y="1066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685800" y="1981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7  (12+ 9)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: 3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10666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581280" y="1981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762120" y="28954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82.000 – 4.730   8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36576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048120" y="2666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37.84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4572000" y="28954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44.160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762120" y="3809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93.000 – 8.691   7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12408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60.83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572000" y="3809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2.163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8380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f497d"/>
                </a:solidFill>
                <a:uFillTx/>
                <a:latin typeface="Century Gothic"/>
              </a:rPr>
              <a:t>15.828 : 4 =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124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entury Gothic"/>
              </a:rPr>
              <a:t>3.95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91440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7.981: 9 =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312408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109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3" name="Picture 24" descr="Гарфилд выглядывает"/>
          <p:cNvPicPr/>
          <p:nvPr/>
        </p:nvPicPr>
        <p:blipFill>
          <a:blip r:embed="rId2"/>
          <a:srcRect l="25424" t="7380" r="22033" b="5789"/>
          <a:stretch/>
        </p:blipFill>
        <p:spPr>
          <a:xfrm>
            <a:off x="5715000" y="380880"/>
            <a:ext cx="3429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Буратино за партой"/>
          <p:cNvPicPr/>
          <p:nvPr/>
        </p:nvPicPr>
        <p:blipFill>
          <a:blip r:embed="rId2"/>
          <a:stretch/>
        </p:blipFill>
        <p:spPr>
          <a:xfrm>
            <a:off x="609480" y="4114800"/>
            <a:ext cx="2664000" cy="2054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1447920" y="9144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00200" y="30481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№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24, 25 (2 ст)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7" name="Picture 7" descr="MC900441732[1]"/>
          <p:cNvPicPr/>
          <p:nvPr/>
        </p:nvPicPr>
        <p:blipFill>
          <a:blip r:embed="rId3"/>
          <a:stretch/>
        </p:blipFill>
        <p:spPr>
          <a:xfrm rot="925800">
            <a:off x="579096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1752480" y="17524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Стр. 56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5 -0.33819 C -0.52135 -0.33495 -0.51857 -0.33357 -0.51441 -0.33195 C -0.50694 -0.33472 -0.50052 -0.33935 -0.49323 -0.34282 C -0.48576 -0.33958 -0.49149 -0.33634 -0.48611 -0.33195 C -0.48264 -0.32917 -0.47604 -0.32802 -0.47205 -0.32709 C -0.45885 -0.3301 -0.44583 -0.33681 -0.43316 -0.34282 C -0.42326 -0.34051 -0.42066 -0.33426 -0.41198 -0.33033 C -0.4059 -0.33195 -0.40034 -0.33449 -0.39444 -0.33657 C -0.35764 -0.33449 -0.37343 -0.34097 -0.35781 -0.32709 C -0.33889 -0.32848 -0.32135 -0.3338 -0.3026 -0.33657 C -0.29826 -0.33611 -0.29375 -0.33657 -0.28958 -0.33495 C -0.28576 -0.33334 -0.28281 -0.32871 -0.27899 -0.32709 C -0.2743 -0.33149 -0.26892 -0.3331 -0.26371 -0.33657 C -0.2585 -0.34721 -0.25069 -0.34213 -0.24149 -0.3412 C -0.23784 -0.33819 -0.23437 -0.33657 -0.2309 -0.33334 C -0.21823 -0.33472 -0.20538 -0.33727 -0.19323 -0.34282 C -0.18489 -0.34166 -0.17882 -0.3412 -0.17205 -0.33495 C -0.1625 -0.33681 -0.15486 -0.34259 -0.14496 -0.34444 C -0.12621 -0.34259 -0.13107 -0.34259 -0.11788 -0.33657 C -0.1118 -0.34236 -0.10277 -0.34467 -0.09548 -0.34745 C -0.08055 -0.34629 -0.07586 -0.34444 -0.06145 -0.34606 C -0.05989 -0.34652 -0.05833 -0.34675 -0.05677 -0.34745 C -0.05434 -0.34837 -0.04965 -0.35068 -0.04965 -0.35045 C -0.03385 -0.3493 -0.02708 -0.34652 -0.01319 -0.34282 C -0.00573 -0.34328 0.00174 -0.34351 0.0092 -0.34444 C 0.01337 -0.3449 0.01719 -0.35045 0.02101 -0.3523 C 0.0224 -0.353 0.02882 -0.35485 0.03039 -0.35531 C 0.0448 -0.35369 0.03924 -0.35369 0.04914 -0.34907 C 0.05382 -0.34004 0.06528 -0.34074 0.07275 -0.33981 C 0.079 -0.34028 0.08525 -0.33981 0.0915 -0.3412 C 0.0941 -0.34166 0.09861 -0.34606 0.09861 -0.34583 E">
                                      <p:cBhvr>
                                        <p:cTn id="183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-0.14435 C -0.33385 -0.14388 -0.32604 -0.14435 -0.31823 -0.14296 C -0.29687 -0.13926 -0.33142 -0.13972 -0.31111 -0.1381 C -0.30052 -0.13718 -0.28993 -0.13718 -0.27934 -0.13671 C -0.275 -0.1307 -0.26996 -0.12815 -0.26406 -0.12561 C -0.23698 -0.12653 -0.21302 -0.12908 -0.18645 -0.12723 C -0.1783 -0.12769 -0.16996 -0.12746 -0.1618 -0.12885 C -0.16041 -0.12908 -0.15955 -0.13116 -0.15816 -0.13186 C -0.15139 -0.13509 -0.14409 -0.13671 -0.13698 -0.1381 C -0.09757 -0.13625 -0.10191 -0.13533 -0.05347 -0.1381 C -0.046 -0.13764 -0.03854 -0.13787 -0.03107 -0.13671 C -0.02864 -0.13625 -0.02639 -0.13463 -0.02413 -0.13347 C -0.02291 -0.13301 -0.02048 -0.13186 -0.02048 -0.13162 C -0.00225 -0.13324 0.01268 -0.13694 0.03004 -0.14296 C 0.06337 -0.1418 0.09688 -0.1381 0.13004 -0.1381 E">
                                      <p:cBhvr>
                                        <p:cTn id="191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40:56Z</dcterms:created>
  <dc:creator>Павел</dc:creator>
  <dc:description/>
  <dc:language>en-US</dc:language>
  <cp:lastModifiedBy>Пользователь Windows</cp:lastModifiedBy>
  <dcterms:modified xsi:type="dcterms:W3CDTF">2017-03-20T04:50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