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png" ContentType="image/png"/>
  <Override PartName="/ppt/media/image8.jpeg" ContentType="image/jpeg"/>
  <Override PartName="/ppt/media/chimes.wav" ContentType="audio/x-wav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EE07C-71BF-45E2-B2FC-47F0199F2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F23A4-C5BF-4B7D-B054-5897C56EB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9D32D-FC03-478B-896B-8AA39A728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16EAB-00DB-44DA-B723-FBFDC35C5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DD4A4-5440-47CE-A03A-C9A1291EE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790C1-2519-4368-B4C2-C1B0919A7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77D41-713A-42E4-9DA4-AD871D8DC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6D6E2-FFEB-453F-A79F-A0B5A80A1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5B268-02D6-41BC-9617-577FCB288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196EB-EF85-4AB4-8055-4BE9A52C0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F01BB-5F29-454B-9D82-1A740F0BF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23FED-0674-40E1-A578-8D6A0463A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883A7-729B-49CA-8C54-EF8804B007A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380880" y="1981080"/>
            <a:ext cx="8153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</a:t>
            </a:r>
            <a:r>
              <a:rPr b="1" i="1" lang="ru-RU" sz="8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«Моя Россия»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Заголовок 3"/>
          <p:cNvSpPr/>
          <p:nvPr/>
        </p:nvSpPr>
        <p:spPr>
          <a:xfrm>
            <a:off x="684360" y="4762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АОУ СОШ №3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Подзаголовок 4"/>
          <p:cNvSpPr/>
          <p:nvPr/>
        </p:nvSpPr>
        <p:spPr>
          <a:xfrm>
            <a:off x="1547640" y="371628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одготовил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учитель химии  Дорохова А.Н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Прямоугольник 4"/>
          <p:cNvSpPr/>
          <p:nvPr/>
        </p:nvSpPr>
        <p:spPr>
          <a:xfrm>
            <a:off x="1835280" y="5732640"/>
            <a:ext cx="59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г. Тамб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Arial"/>
              </a:rPr>
              <a:t>Москва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6" descr="http://www.utro.cz/_img.utro.cz/2011/02/09/615b.jpg"/>
          <p:cNvPicPr/>
          <p:nvPr/>
        </p:nvPicPr>
        <p:blipFill>
          <a:blip r:embed="rId1"/>
          <a:stretch/>
        </p:blipFill>
        <p:spPr>
          <a:xfrm>
            <a:off x="344520" y="1219320"/>
            <a:ext cx="844236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97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0" spc="-1" strike="noStrike">
                <a:solidFill>
                  <a:srgbClr val="ffff00"/>
                </a:solidFill>
                <a:latin typeface="Arial"/>
              </a:rPr>
              <a:t>Большая Родина - Россия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ff00"/>
                </a:solidFill>
                <a:latin typeface="Arial"/>
              </a:rPr>
              <a:t>МАЛАЯ РОДИНА – ГОРОД, УЛИЦА, ДОМ, ШКОЛА…</a:t>
            </a: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AutoShape 7"/>
          <p:cNvSpPr/>
          <p:nvPr/>
        </p:nvSpPr>
        <p:spPr>
          <a:xfrm>
            <a:off x="5257800" y="4724280"/>
            <a:ext cx="1143000" cy="1143000"/>
          </a:xfrm>
          <a:custGeom>
            <a:avLst/>
            <a:gdLst>
              <a:gd name="textAreaLeft" fmla="*/ 353160 w 1143000"/>
              <a:gd name="textAreaRight" fmla="*/ 789840 w 1143000"/>
              <a:gd name="textAreaTop" fmla="*/ 436680 h 1143000"/>
              <a:gd name="textAreaBottom" fmla="*/ 873360 h 1143000"/>
            </a:gdLst>
            <a:ahLst/>
            <a:rect l="textAreaLeft" t="textAreaTop" r="textAreaRight" b="textAreaBottom"/>
            <a:pathLst>
              <a:path w="1143000" h="1143000">
                <a:moveTo>
                  <a:pt x="1" y="436586"/>
                </a:moveTo>
                <a:lnTo>
                  <a:pt x="436590" y="436589"/>
                </a:lnTo>
                <a:lnTo>
                  <a:pt x="571500" y="0"/>
                </a:lnTo>
                <a:lnTo>
                  <a:pt x="706410" y="436589"/>
                </a:lnTo>
                <a:lnTo>
                  <a:pt x="1142999" y="436586"/>
                </a:lnTo>
                <a:lnTo>
                  <a:pt x="789790" y="706409"/>
                </a:lnTo>
                <a:lnTo>
                  <a:pt x="924707" y="1142996"/>
                </a:lnTo>
                <a:lnTo>
                  <a:pt x="571500" y="873168"/>
                </a:lnTo>
                <a:lnTo>
                  <a:pt x="218293" y="1142996"/>
                </a:lnTo>
                <a:lnTo>
                  <a:pt x="353210" y="706409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6"/>
          <p:cNvSpPr/>
          <p:nvPr/>
        </p:nvSpPr>
        <p:spPr>
          <a:xfrm>
            <a:off x="5867280" y="4191120"/>
            <a:ext cx="1295640" cy="1295280"/>
          </a:xfrm>
          <a:custGeom>
            <a:avLst/>
            <a:gdLst>
              <a:gd name="textAreaLeft" fmla="*/ 400320 w 1295640"/>
              <a:gd name="textAreaRight" fmla="*/ 895320 w 1295640"/>
              <a:gd name="textAreaTop" fmla="*/ 494640 h 1295280"/>
              <a:gd name="textAreaBottom" fmla="*/ 989640 h 1295280"/>
            </a:gdLst>
            <a:ahLst/>
            <a:rect l="textAreaLeft" t="textAreaTop" r="textAreaRight" b="textAreaBottom"/>
            <a:pathLst>
              <a:path w="1295400" h="1295400">
                <a:moveTo>
                  <a:pt x="1" y="494797"/>
                </a:moveTo>
                <a:lnTo>
                  <a:pt x="494802" y="494801"/>
                </a:lnTo>
                <a:lnTo>
                  <a:pt x="647700" y="0"/>
                </a:lnTo>
                <a:lnTo>
                  <a:pt x="800598" y="494801"/>
                </a:lnTo>
                <a:lnTo>
                  <a:pt x="1295399" y="494797"/>
                </a:lnTo>
                <a:lnTo>
                  <a:pt x="895095" y="800597"/>
                </a:lnTo>
                <a:lnTo>
                  <a:pt x="1048001" y="1295396"/>
                </a:lnTo>
                <a:lnTo>
                  <a:pt x="647700" y="989591"/>
                </a:lnTo>
                <a:lnTo>
                  <a:pt x="247399" y="1295396"/>
                </a:lnTo>
                <a:lnTo>
                  <a:pt x="400305" y="800597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WordArt 4"/>
          <p:cNvSpPr txBox="1"/>
          <p:nvPr/>
        </p:nvSpPr>
        <p:spPr>
          <a:xfrm>
            <a:off x="1219320" y="1066680"/>
            <a:ext cx="6019560" cy="411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50000">
                      <a:srgbClr val="ff3300"/>
                    </a:gs>
                    <a:gs pos="100000">
                      <a:srgbClr val="ffff00"/>
                    </a:gs>
                  </a:gsLst>
                  <a:lin ang="2700000"/>
                </a:gradFill>
                <a:latin typeface="Impact"/>
              </a:rPr>
              <a:t>"Звёздный  час"</a:t>
            </a:r>
            <a:endParaRPr b="0" lang="en-US" sz="9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50000">
                    <a:srgbClr val="ff3300"/>
                  </a:gs>
                  <a:gs pos="100000">
                    <a:srgbClr val="ffff00"/>
                  </a:gs>
                </a:gsLst>
                <a:lin ang="2700000"/>
              </a:gradFill>
              <a:latin typeface="Impact"/>
              <a:ea typeface="Impact"/>
            </a:endParaRPr>
          </a:p>
        </p:txBody>
      </p:sp>
      <p:sp>
        <p:nvSpPr>
          <p:cNvPr id="67" name="AutoShape 5"/>
          <p:cNvSpPr/>
          <p:nvPr/>
        </p:nvSpPr>
        <p:spPr>
          <a:xfrm>
            <a:off x="6553080" y="3581280"/>
            <a:ext cx="1524240" cy="1524240"/>
          </a:xfrm>
          <a:custGeom>
            <a:avLst/>
            <a:gdLst>
              <a:gd name="textAreaLeft" fmla="*/ 470880 w 1524240"/>
              <a:gd name="textAreaRight" fmla="*/ 1053360 w 1524240"/>
              <a:gd name="textAreaTop" fmla="*/ 582120 h 1524240"/>
              <a:gd name="textAreaBottom" fmla="*/ 1164600 h 1524240"/>
            </a:gdLst>
            <a:ahLst/>
            <a:rect l="textAreaLeft" t="textAreaTop" r="textAreaRight" b="textAreaBottom"/>
            <a:pathLst>
              <a:path w="1524000" h="1524000">
                <a:moveTo>
                  <a:pt x="2" y="582115"/>
                </a:moveTo>
                <a:lnTo>
                  <a:pt x="582119" y="582119"/>
                </a:lnTo>
                <a:lnTo>
                  <a:pt x="762000" y="0"/>
                </a:lnTo>
                <a:lnTo>
                  <a:pt x="941881" y="582119"/>
                </a:lnTo>
                <a:lnTo>
                  <a:pt x="1523998" y="582115"/>
                </a:lnTo>
                <a:lnTo>
                  <a:pt x="1053053" y="941879"/>
                </a:lnTo>
                <a:lnTo>
                  <a:pt x="1232942" y="1523995"/>
                </a:lnTo>
                <a:lnTo>
                  <a:pt x="762000" y="1164224"/>
                </a:lnTo>
                <a:lnTo>
                  <a:pt x="291058" y="1523995"/>
                </a:lnTo>
                <a:lnTo>
                  <a:pt x="470947" y="941879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9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3000"/>
                            </p:stCondLst>
                            <p:childTnLst>
                              <p:par>
                                <p:cTn id="2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4000"/>
                            </p:stCondLst>
                            <p:childTnLst>
                              <p:par>
                                <p:cTn id="3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AutoShape 5"/>
          <p:cNvSpPr/>
          <p:nvPr/>
        </p:nvSpPr>
        <p:spPr>
          <a:xfrm>
            <a:off x="1219320" y="380880"/>
            <a:ext cx="6553080" cy="5791320"/>
          </a:xfrm>
          <a:custGeom>
            <a:avLst/>
            <a:gdLst>
              <a:gd name="textAreaLeft" fmla="*/ 2025000 w 6553080"/>
              <a:gd name="textAreaRight" fmla="*/ 4528080 w 6553080"/>
              <a:gd name="textAreaTop" fmla="*/ 2212200 h 5791320"/>
              <a:gd name="textAreaBottom" fmla="*/ 4424400 h 5791320"/>
            </a:gdLst>
            <a:ahLst/>
            <a:rect l="textAreaLeft" t="textAreaTop" r="textAreaRight" b="textAreaBottom"/>
            <a:pathLst>
              <a:path w="6553200" h="5791200">
                <a:moveTo>
                  <a:pt x="7" y="2212035"/>
                </a:moveTo>
                <a:lnTo>
                  <a:pt x="2503114" y="2212051"/>
                </a:lnTo>
                <a:lnTo>
                  <a:pt x="3276600" y="0"/>
                </a:lnTo>
                <a:lnTo>
                  <a:pt x="4050086" y="2212051"/>
                </a:lnTo>
                <a:lnTo>
                  <a:pt x="6553193" y="2212035"/>
                </a:lnTo>
                <a:lnTo>
                  <a:pt x="4528129" y="3579141"/>
                </a:lnTo>
                <a:lnTo>
                  <a:pt x="5301652" y="5791181"/>
                </a:lnTo>
                <a:lnTo>
                  <a:pt x="3276600" y="4424053"/>
                </a:lnTo>
                <a:lnTo>
                  <a:pt x="1251548" y="5791181"/>
                </a:lnTo>
                <a:lnTo>
                  <a:pt x="2025071" y="3579141"/>
                </a:lnTo>
                <a:close/>
              </a:path>
            </a:pathLst>
          </a:cu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WordArt 4"/>
          <p:cNvSpPr txBox="1"/>
          <p:nvPr/>
        </p:nvSpPr>
        <p:spPr>
          <a:xfrm>
            <a:off x="3124080" y="2743200"/>
            <a:ext cx="266724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1" strike="noStrike">
                <a:ln w="57240">
                  <a:solidFill>
                    <a:srgbClr val="000000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1  тур</a:t>
            </a:r>
            <a:endParaRPr b="1" lang="en-US" sz="900" spc="1" strike="noStrike">
              <a:ln w="57240">
                <a:solidFill>
                  <a:srgbClr val="000000"/>
                </a:solidFill>
                <a:miter/>
              </a:ln>
              <a:solidFill>
                <a:srgbClr val="ff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8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8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8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8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4"/>
          <p:cNvSpPr/>
          <p:nvPr/>
        </p:nvSpPr>
        <p:spPr>
          <a:xfrm>
            <a:off x="914400" y="1981080"/>
            <a:ext cx="685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1.  «Маша и медведь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5"/>
          <p:cNvSpPr/>
          <p:nvPr/>
        </p:nvSpPr>
        <p:spPr>
          <a:xfrm>
            <a:off x="914400" y="3352680"/>
            <a:ext cx="685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2.  «Снегурочка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6"/>
          <p:cNvSpPr/>
          <p:nvPr/>
        </p:nvSpPr>
        <p:spPr>
          <a:xfrm>
            <a:off x="914400" y="4800600"/>
            <a:ext cx="685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3.  «Красная  шапочка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7"/>
          <p:cNvSpPr/>
          <p:nvPr/>
        </p:nvSpPr>
        <p:spPr>
          <a:xfrm>
            <a:off x="533520" y="533520"/>
            <a:ext cx="8076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000000"/>
                </a:solidFill>
                <a:uFillTx/>
                <a:latin typeface="Arial"/>
              </a:rPr>
              <a:t>Русские  народные сказк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500"/>
                            </p:stCondLst>
                            <p:childTnLst>
                              <p:par>
                                <p:cTn id="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6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77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4"/>
          <p:cNvSpPr/>
          <p:nvPr/>
        </p:nvSpPr>
        <p:spPr>
          <a:xfrm>
            <a:off x="533520" y="533520"/>
            <a:ext cx="8076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000000"/>
                </a:solidFill>
                <a:uFillTx/>
                <a:latin typeface="Arial"/>
              </a:rPr>
              <a:t>Настоящее имя царевны-лягушк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5"/>
          <p:cNvSpPr/>
          <p:nvPr/>
        </p:nvSpPr>
        <p:spPr>
          <a:xfrm>
            <a:off x="685800" y="4724280"/>
            <a:ext cx="7086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3.  Марья-царев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6"/>
          <p:cNvSpPr/>
          <p:nvPr/>
        </p:nvSpPr>
        <p:spPr>
          <a:xfrm>
            <a:off x="685800" y="3429000"/>
            <a:ext cx="7086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2.  Василиса Прекрасна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7"/>
          <p:cNvSpPr/>
          <p:nvPr/>
        </p:nvSpPr>
        <p:spPr>
          <a:xfrm>
            <a:off x="685800" y="2286000"/>
            <a:ext cx="7162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1.  Василиса Премудра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000"/>
                            </p:stCondLst>
                            <p:childTnLst>
                              <p:par>
                                <p:cTn id="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500"/>
                            </p:stCondLst>
                            <p:childTnLst>
                              <p:par>
                                <p:cTn id="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2000"/>
                            </p:stCondLst>
                            <p:childTnLst>
                              <p:par>
                                <p:cTn id="9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0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01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2"/>
          <p:cNvSpPr/>
          <p:nvPr/>
        </p:nvSpPr>
        <p:spPr>
          <a:xfrm>
            <a:off x="533520" y="228600"/>
            <a:ext cx="8076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000000"/>
                </a:solidFill>
                <a:uFillTx/>
                <a:latin typeface="Arial"/>
              </a:rPr>
              <a:t>Назовите сказки А.С.Пушкин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685800" y="4114800"/>
            <a:ext cx="6858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58840" indent="-1158840">
              <a:spcBef>
                <a:spcPts val="27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3.  «Сказка о мёртвой царевне и о семи богатырях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4"/>
          <p:cNvSpPr/>
          <p:nvPr/>
        </p:nvSpPr>
        <p:spPr>
          <a:xfrm>
            <a:off x="685800" y="3352680"/>
            <a:ext cx="7086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2.  «Дюймовочка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5"/>
          <p:cNvSpPr/>
          <p:nvPr/>
        </p:nvSpPr>
        <p:spPr>
          <a:xfrm>
            <a:off x="685800" y="1905120"/>
            <a:ext cx="6705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58840" indent="-1158840">
              <a:spcBef>
                <a:spcPts val="27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1.  «Сказка о золотом  петушке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4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25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7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28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AutoShape 2"/>
          <p:cNvSpPr/>
          <p:nvPr/>
        </p:nvSpPr>
        <p:spPr>
          <a:xfrm>
            <a:off x="1219320" y="380880"/>
            <a:ext cx="6553080" cy="5791320"/>
          </a:xfrm>
          <a:custGeom>
            <a:avLst/>
            <a:gdLst>
              <a:gd name="textAreaLeft" fmla="*/ 2025000 w 6553080"/>
              <a:gd name="textAreaRight" fmla="*/ 4528080 w 6553080"/>
              <a:gd name="textAreaTop" fmla="*/ 2212200 h 5791320"/>
              <a:gd name="textAreaBottom" fmla="*/ 4424400 h 5791320"/>
            </a:gdLst>
            <a:ahLst/>
            <a:rect l="textAreaLeft" t="textAreaTop" r="textAreaRight" b="textAreaBottom"/>
            <a:pathLst>
              <a:path w="6553200" h="5791200">
                <a:moveTo>
                  <a:pt x="7" y="2212035"/>
                </a:moveTo>
                <a:lnTo>
                  <a:pt x="2503114" y="2212051"/>
                </a:lnTo>
                <a:lnTo>
                  <a:pt x="3276600" y="0"/>
                </a:lnTo>
                <a:lnTo>
                  <a:pt x="4050086" y="2212051"/>
                </a:lnTo>
                <a:lnTo>
                  <a:pt x="6553193" y="2212035"/>
                </a:lnTo>
                <a:lnTo>
                  <a:pt x="4528129" y="3579141"/>
                </a:lnTo>
                <a:lnTo>
                  <a:pt x="5301652" y="5791181"/>
                </a:lnTo>
                <a:lnTo>
                  <a:pt x="3276600" y="4424053"/>
                </a:lnTo>
                <a:lnTo>
                  <a:pt x="1251548" y="5791181"/>
                </a:lnTo>
                <a:lnTo>
                  <a:pt x="2025071" y="3579141"/>
                </a:lnTo>
                <a:close/>
              </a:path>
            </a:pathLst>
          </a:cu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WordArt 3"/>
          <p:cNvSpPr txBox="1"/>
          <p:nvPr/>
        </p:nvSpPr>
        <p:spPr>
          <a:xfrm>
            <a:off x="3124080" y="2743200"/>
            <a:ext cx="266724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1" strike="noStrike">
                <a:ln w="57240">
                  <a:solidFill>
                    <a:srgbClr val="000000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2  тур</a:t>
            </a:r>
            <a:endParaRPr b="1" lang="en-US" sz="900" spc="1" strike="noStrike">
              <a:ln w="57240">
                <a:solidFill>
                  <a:srgbClr val="000000"/>
                </a:solidFill>
                <a:miter/>
              </a:ln>
              <a:solidFill>
                <a:srgbClr val="ff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8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8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8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8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2"/>
          <p:cNvSpPr/>
          <p:nvPr/>
        </p:nvSpPr>
        <p:spPr>
          <a:xfrm>
            <a:off x="533520" y="533520"/>
            <a:ext cx="8076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000000"/>
                </a:solidFill>
                <a:uFillTx/>
                <a:latin typeface="Arial"/>
              </a:rPr>
              <a:t>Столица первого русского государств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3"/>
          <p:cNvSpPr/>
          <p:nvPr/>
        </p:nvSpPr>
        <p:spPr>
          <a:xfrm>
            <a:off x="2057400" y="4419720"/>
            <a:ext cx="426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58840" indent="-1158840">
              <a:spcBef>
                <a:spcPts val="27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3.  Кие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2057400" y="3352680"/>
            <a:ext cx="4343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2.  Петербур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1981080" y="2286000"/>
            <a:ext cx="4267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58840" indent="-1158840">
              <a:spcBef>
                <a:spcPts val="27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1.  Моск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00"/>
                            </p:stCondLst>
                            <p:childTnLst>
                              <p:par>
                                <p:cTn id="1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8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69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http://i.ytimg.com/vi/qjmtPChjvfU/maxresdefault.jpg"/>
          <p:cNvPicPr/>
          <p:nvPr/>
        </p:nvPicPr>
        <p:blipFill>
          <a:blip r:embed="rId1"/>
          <a:stretch/>
        </p:blipFill>
        <p:spPr>
          <a:xfrm>
            <a:off x="1066680" y="1752480"/>
            <a:ext cx="6807240" cy="510552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3"/>
          <p:cNvSpPr/>
          <p:nvPr/>
        </p:nvSpPr>
        <p:spPr>
          <a:xfrm>
            <a:off x="457200" y="160200"/>
            <a:ext cx="5867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 поляне,  на  пригорк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  окном  среди  по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локурая  берёзка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мвол  Родины  мо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2"/>
          <p:cNvSpPr/>
          <p:nvPr/>
        </p:nvSpPr>
        <p:spPr>
          <a:xfrm>
            <a:off x="0" y="609480"/>
            <a:ext cx="899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000000"/>
                </a:solidFill>
                <a:uFillTx/>
                <a:latin typeface="Arial"/>
              </a:rPr>
              <a:t>Древнерусские сооружения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2743200" y="3809880"/>
            <a:ext cx="464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58840" indent="-1158840">
              <a:spcBef>
                <a:spcPts val="27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3.  Кремл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2743200" y="2743200"/>
            <a:ext cx="3809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2.  Мече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2743200" y="1752480"/>
            <a:ext cx="464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58840" indent="-1158840">
              <a:spcBef>
                <a:spcPts val="27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1.  Собо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2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93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5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96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2"/>
          <p:cNvSpPr/>
          <p:nvPr/>
        </p:nvSpPr>
        <p:spPr>
          <a:xfrm>
            <a:off x="533520" y="533520"/>
            <a:ext cx="8076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000000"/>
                </a:solidFill>
                <a:uFillTx/>
                <a:latin typeface="Arial"/>
              </a:rPr>
              <a:t>Жилой дом у русского народа называется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2590920" y="4495680"/>
            <a:ext cx="3047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3.  Юр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2590920" y="3429000"/>
            <a:ext cx="2666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2.  Изб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5"/>
          <p:cNvSpPr/>
          <p:nvPr/>
        </p:nvSpPr>
        <p:spPr>
          <a:xfrm>
            <a:off x="2590920" y="2438280"/>
            <a:ext cx="2590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1.  Ха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1000"/>
                            </p:stCondLst>
                            <p:childTnLst>
                              <p:par>
                                <p:cTn id="2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1500"/>
                            </p:stCondLst>
                            <p:childTnLst>
                              <p:par>
                                <p:cTn id="20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2000"/>
                            </p:stCondLst>
                            <p:childTnLst>
                              <p:par>
                                <p:cTn id="2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9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220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AutoShape 2"/>
          <p:cNvSpPr/>
          <p:nvPr/>
        </p:nvSpPr>
        <p:spPr>
          <a:xfrm>
            <a:off x="1219320" y="380880"/>
            <a:ext cx="6553080" cy="5791320"/>
          </a:xfrm>
          <a:custGeom>
            <a:avLst/>
            <a:gdLst>
              <a:gd name="textAreaLeft" fmla="*/ 2025000 w 6553080"/>
              <a:gd name="textAreaRight" fmla="*/ 4528080 w 6553080"/>
              <a:gd name="textAreaTop" fmla="*/ 2212200 h 5791320"/>
              <a:gd name="textAreaBottom" fmla="*/ 4424400 h 5791320"/>
            </a:gdLst>
            <a:ahLst/>
            <a:rect l="textAreaLeft" t="textAreaTop" r="textAreaRight" b="textAreaBottom"/>
            <a:pathLst>
              <a:path w="6553200" h="5791200">
                <a:moveTo>
                  <a:pt x="7" y="2212035"/>
                </a:moveTo>
                <a:lnTo>
                  <a:pt x="2503114" y="2212051"/>
                </a:lnTo>
                <a:lnTo>
                  <a:pt x="3276600" y="0"/>
                </a:lnTo>
                <a:lnTo>
                  <a:pt x="4050086" y="2212051"/>
                </a:lnTo>
                <a:lnTo>
                  <a:pt x="6553193" y="2212035"/>
                </a:lnTo>
                <a:lnTo>
                  <a:pt x="4528129" y="3579141"/>
                </a:lnTo>
                <a:lnTo>
                  <a:pt x="5301652" y="5791181"/>
                </a:lnTo>
                <a:lnTo>
                  <a:pt x="3276600" y="4424053"/>
                </a:lnTo>
                <a:lnTo>
                  <a:pt x="1251548" y="5791181"/>
                </a:lnTo>
                <a:lnTo>
                  <a:pt x="2025071" y="3579141"/>
                </a:lnTo>
                <a:close/>
              </a:path>
            </a:pathLst>
          </a:cu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WordArt 3"/>
          <p:cNvSpPr txBox="1"/>
          <p:nvPr/>
        </p:nvSpPr>
        <p:spPr>
          <a:xfrm>
            <a:off x="3124080" y="2743200"/>
            <a:ext cx="266724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1" strike="noStrike">
                <a:ln w="57240">
                  <a:solidFill>
                    <a:srgbClr val="000000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3  тур</a:t>
            </a:r>
            <a:endParaRPr b="1" lang="en-US" sz="900" spc="1" strike="noStrike">
              <a:ln w="57240">
                <a:solidFill>
                  <a:srgbClr val="000000"/>
                </a:solidFill>
                <a:miter/>
              </a:ln>
              <a:solidFill>
                <a:srgbClr val="ff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0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500"/>
                            </p:stCondLst>
                            <p:childTnLst>
                              <p:par>
                                <p:cTn id="22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8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8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8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8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2"/>
          <p:cNvSpPr/>
          <p:nvPr/>
        </p:nvSpPr>
        <p:spPr>
          <a:xfrm>
            <a:off x="152280" y="380880"/>
            <a:ext cx="8991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000000"/>
                </a:solidFill>
                <a:uFillTx/>
                <a:latin typeface="Arial"/>
              </a:rPr>
              <a:t>Праздник  проводов  русской  зим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2666880" y="4419720"/>
            <a:ext cx="586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58840" indent="-1158840">
              <a:spcBef>
                <a:spcPts val="27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3.  Крещ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2743200" y="3352680"/>
            <a:ext cx="4419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2.  Маслениц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2666880" y="2286000"/>
            <a:ext cx="464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58840" indent="-1158840">
              <a:spcBef>
                <a:spcPts val="27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1.  Рождеств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6"/>
          <p:cNvSpPr/>
          <p:nvPr/>
        </p:nvSpPr>
        <p:spPr>
          <a:xfrm>
            <a:off x="2743200" y="3352680"/>
            <a:ext cx="586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58840" indent="-1158840">
              <a:spcBef>
                <a:spcPts val="27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2.  Маслениц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0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000"/>
                            </p:stCondLst>
                            <p:childTnLst>
                              <p:par>
                                <p:cTn id="2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1500"/>
                            </p:stCondLst>
                            <p:childTnLst>
                              <p:par>
                                <p:cTn id="2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2000"/>
                            </p:stCondLst>
                            <p:childTnLst>
                              <p:par>
                                <p:cTn id="2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5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25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3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264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2"/>
          <p:cNvSpPr/>
          <p:nvPr/>
        </p:nvSpPr>
        <p:spPr>
          <a:xfrm>
            <a:off x="152280" y="457200"/>
            <a:ext cx="899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000000"/>
                </a:solidFill>
                <a:uFillTx/>
                <a:latin typeface="Arial"/>
              </a:rPr>
              <a:t>Блюда  русской  кухн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2743200" y="3809880"/>
            <a:ext cx="3124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58840" indent="-1158840">
              <a:spcBef>
                <a:spcPts val="27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3.  Блин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2743200" y="2743200"/>
            <a:ext cx="3809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2.  Ман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2743200" y="1752480"/>
            <a:ext cx="2895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58840" indent="-1158840">
              <a:spcBef>
                <a:spcPts val="27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1.  Щ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0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1000"/>
                            </p:stCondLst>
                            <p:childTnLst>
                              <p:par>
                                <p:cTn id="2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5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1500"/>
                            </p:stCondLst>
                            <p:childTnLst>
                              <p:par>
                                <p:cTn id="2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2000"/>
                            </p:stCondLst>
                            <p:childTnLst>
                              <p:par>
                                <p:cTn id="2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7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288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291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2"/>
          <p:cNvSpPr/>
          <p:nvPr/>
        </p:nvSpPr>
        <p:spPr>
          <a:xfrm>
            <a:off x="152280" y="228600"/>
            <a:ext cx="8991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000000"/>
                </a:solidFill>
                <a:uFillTx/>
                <a:latin typeface="Arial"/>
              </a:rPr>
              <a:t>Предметы  одежды  русских  женщин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3"/>
          <p:cNvSpPr/>
          <p:nvPr/>
        </p:nvSpPr>
        <p:spPr>
          <a:xfrm>
            <a:off x="2286000" y="4648320"/>
            <a:ext cx="3505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58840" indent="-1158840">
              <a:spcBef>
                <a:spcPts val="27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3.  Сапож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4"/>
          <p:cNvSpPr/>
          <p:nvPr/>
        </p:nvSpPr>
        <p:spPr>
          <a:xfrm>
            <a:off x="2286000" y="3276720"/>
            <a:ext cx="3809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2.  Сарафа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5"/>
          <p:cNvSpPr/>
          <p:nvPr/>
        </p:nvSpPr>
        <p:spPr>
          <a:xfrm>
            <a:off x="2286000" y="1981080"/>
            <a:ext cx="464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58840" indent="-1158840">
              <a:spcBef>
                <a:spcPts val="27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1.  Чалм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0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1000"/>
                            </p:stCondLst>
                            <p:childTnLst>
                              <p:par>
                                <p:cTn id="3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1500"/>
                            </p:stCondLst>
                            <p:childTnLst>
                              <p:par>
                                <p:cTn id="30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2000"/>
                            </p:stCondLst>
                            <p:childTnLst>
                              <p:par>
                                <p:cTn id="3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4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315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7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318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2"/>
          <p:cNvSpPr/>
          <p:nvPr/>
        </p:nvSpPr>
        <p:spPr>
          <a:xfrm>
            <a:off x="152280" y="228600"/>
            <a:ext cx="8991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000000"/>
                </a:solidFill>
                <a:uFillTx/>
                <a:latin typeface="Arial"/>
              </a:rPr>
              <a:t>Русские композиторы, прославившие  Россию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3"/>
          <p:cNvSpPr/>
          <p:nvPr/>
        </p:nvSpPr>
        <p:spPr>
          <a:xfrm>
            <a:off x="2362320" y="4648320"/>
            <a:ext cx="586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58840" indent="-1158840">
              <a:spcBef>
                <a:spcPts val="27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3.  Гри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2362320" y="3429000"/>
            <a:ext cx="4419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2.  Чайковск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5"/>
          <p:cNvSpPr/>
          <p:nvPr/>
        </p:nvSpPr>
        <p:spPr>
          <a:xfrm>
            <a:off x="2362320" y="2362320"/>
            <a:ext cx="4647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58840" indent="-1158840">
              <a:spcBef>
                <a:spcPts val="27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1.  Глин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0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1000"/>
                            </p:stCondLst>
                            <p:childTnLst>
                              <p:par>
                                <p:cTn id="3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1500"/>
                            </p:stCondLst>
                            <p:childTnLst>
                              <p:par>
                                <p:cTn id="33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1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342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4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345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2"/>
          <p:cNvSpPr/>
          <p:nvPr/>
        </p:nvSpPr>
        <p:spPr>
          <a:xfrm>
            <a:off x="152280" y="228600"/>
            <a:ext cx="8991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000000"/>
                </a:solidFill>
                <a:uFillTx/>
                <a:latin typeface="Arial"/>
              </a:rPr>
              <a:t>Полководцы  великой  отечественной  войн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2362320" y="4648320"/>
            <a:ext cx="586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58840" indent="-1158840">
              <a:spcBef>
                <a:spcPts val="27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3.  К.Черняховск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2362320" y="3429000"/>
            <a:ext cx="4419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2.  А. Сувор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2362320" y="2362320"/>
            <a:ext cx="4647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58840" indent="-1158840">
              <a:spcBef>
                <a:spcPts val="27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1.  К. Жук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0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100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500"/>
                            </p:stCondLst>
                            <p:childTnLst>
                              <p:par>
                                <p:cTn id="3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2000"/>
                            </p:stCondLst>
                            <p:childTnLst>
                              <p:par>
                                <p:cTn id="3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8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369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1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372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2"/>
          <p:cNvSpPr/>
          <p:nvPr/>
        </p:nvSpPr>
        <p:spPr>
          <a:xfrm>
            <a:off x="152280" y="228600"/>
            <a:ext cx="8991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000000"/>
                </a:solidFill>
                <a:uFillTx/>
                <a:latin typeface="Arial"/>
              </a:rPr>
              <a:t>Основатель  Российского  флот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2362320" y="4648320"/>
            <a:ext cx="586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58840" indent="-1158840">
              <a:spcBef>
                <a:spcPts val="27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3.  Николай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2362320" y="3429000"/>
            <a:ext cx="4419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2.  Пётр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5"/>
          <p:cNvSpPr/>
          <p:nvPr/>
        </p:nvSpPr>
        <p:spPr>
          <a:xfrm>
            <a:off x="2362320" y="2362320"/>
            <a:ext cx="4647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58840" indent="-1158840">
              <a:spcBef>
                <a:spcPts val="27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1.  Багратио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0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1000"/>
                            </p:stCondLst>
                            <p:childTnLst>
                              <p:par>
                                <p:cTn id="3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500"/>
                            </p:stCondLst>
                            <p:childTnLst>
                              <p:par>
                                <p:cTn id="3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2000"/>
                            </p:stCondLst>
                            <p:childTnLst>
                              <p:par>
                                <p:cTn id="3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1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5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396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AutoShape 2"/>
          <p:cNvSpPr/>
          <p:nvPr/>
        </p:nvSpPr>
        <p:spPr>
          <a:xfrm>
            <a:off x="1219320" y="380880"/>
            <a:ext cx="6553080" cy="5791320"/>
          </a:xfrm>
          <a:custGeom>
            <a:avLst/>
            <a:gdLst>
              <a:gd name="textAreaLeft" fmla="*/ 2025000 w 6553080"/>
              <a:gd name="textAreaRight" fmla="*/ 4528080 w 6553080"/>
              <a:gd name="textAreaTop" fmla="*/ 2212200 h 5791320"/>
              <a:gd name="textAreaBottom" fmla="*/ 4424400 h 5791320"/>
            </a:gdLst>
            <a:ahLst/>
            <a:rect l="textAreaLeft" t="textAreaTop" r="textAreaRight" b="textAreaBottom"/>
            <a:pathLst>
              <a:path w="6553200" h="5791200">
                <a:moveTo>
                  <a:pt x="7" y="2212035"/>
                </a:moveTo>
                <a:lnTo>
                  <a:pt x="2503114" y="2212051"/>
                </a:lnTo>
                <a:lnTo>
                  <a:pt x="3276600" y="0"/>
                </a:lnTo>
                <a:lnTo>
                  <a:pt x="4050086" y="2212051"/>
                </a:lnTo>
                <a:lnTo>
                  <a:pt x="6553193" y="2212035"/>
                </a:lnTo>
                <a:lnTo>
                  <a:pt x="4528129" y="3579141"/>
                </a:lnTo>
                <a:lnTo>
                  <a:pt x="5301652" y="5791181"/>
                </a:lnTo>
                <a:lnTo>
                  <a:pt x="3276600" y="4424053"/>
                </a:lnTo>
                <a:lnTo>
                  <a:pt x="1251548" y="5791181"/>
                </a:lnTo>
                <a:lnTo>
                  <a:pt x="2025071" y="3579141"/>
                </a:lnTo>
                <a:close/>
              </a:path>
            </a:pathLst>
          </a:cu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WordArt 3"/>
          <p:cNvSpPr txBox="1"/>
          <p:nvPr/>
        </p:nvSpPr>
        <p:spPr>
          <a:xfrm>
            <a:off x="3124080" y="2743200"/>
            <a:ext cx="266724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1" strike="noStrike">
                <a:ln w="57240">
                  <a:solidFill>
                    <a:srgbClr val="000000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Финал</a:t>
            </a:r>
            <a:endParaRPr b="1" lang="en-US" sz="900" spc="1" strike="noStrike">
              <a:ln w="57240">
                <a:solidFill>
                  <a:srgbClr val="000000"/>
                </a:solidFill>
                <a:miter/>
              </a:ln>
              <a:solidFill>
                <a:srgbClr val="ff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500"/>
                            </p:stCondLst>
                            <p:childTnLst>
                              <p:par>
                                <p:cTn id="40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8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8" dur="8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8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8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Росси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6" descr="http://russia.auto-maps.com/maps/detailed_administrative_map_of_Russia.jpg"/>
          <p:cNvPicPr/>
          <p:nvPr/>
        </p:nvPicPr>
        <p:blipFill>
          <a:blip r:embed="rId1"/>
          <a:stretch/>
        </p:blipFill>
        <p:spPr>
          <a:xfrm>
            <a:off x="0" y="1905120"/>
            <a:ext cx="91440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WordArt 2"/>
          <p:cNvSpPr txBox="1"/>
          <p:nvPr/>
        </p:nvSpPr>
        <p:spPr>
          <a:xfrm>
            <a:off x="457200" y="1905120"/>
            <a:ext cx="830592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ПРАВИТЕЛЬСТВО</a:t>
            </a:r>
            <a:endParaRPr b="1" lang="en-US" sz="9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0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1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1142640"/>
            <a:ext cx="3962160" cy="396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езидент Росс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C:\Users\Asus\Desktop\8a860052-2caa-405f-8d61-03df6b879a02.jpg"/>
          <p:cNvPicPr/>
          <p:nvPr/>
        </p:nvPicPr>
        <p:blipFill>
          <a:blip r:embed="rId1"/>
          <a:stretch/>
        </p:blipFill>
        <p:spPr>
          <a:xfrm>
            <a:off x="4370400" y="0"/>
            <a:ext cx="4773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0" spc="-1" strike="noStrike">
                <a:solidFill>
                  <a:srgbClr val="ffff00"/>
                </a:solidFill>
                <a:latin typeface="Arial"/>
              </a:rPr>
              <a:t>Герб, </a:t>
            </a:r>
            <a:br>
              <a:rPr sz="12000"/>
            </a:br>
            <a:r>
              <a:rPr b="0" lang="ru-RU" sz="12000" spc="-1" strike="noStrike">
                <a:solidFill>
                  <a:srgbClr val="ffff00"/>
                </a:solidFill>
                <a:latin typeface="Arial"/>
              </a:rPr>
              <a:t>     Гимн, </a:t>
            </a:r>
            <a:br>
              <a:rPr sz="12000"/>
            </a:br>
            <a:r>
              <a:rPr b="0" lang="ru-RU" sz="12000" spc="-1" strike="noStrike">
                <a:solidFill>
                  <a:srgbClr val="ffff00"/>
                </a:solidFill>
                <a:latin typeface="Arial"/>
              </a:rPr>
              <a:t>          Флаг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0" spc="-1" strike="noStrike">
                <a:solidFill>
                  <a:srgbClr val="ffff00"/>
                </a:solidFill>
                <a:latin typeface="Arial"/>
              </a:rPr>
              <a:t>Символика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Герб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" descr="http://content.foto.mail.ru/mail/pm999/_myphoto/s-2.png"/>
          <p:cNvPicPr/>
          <p:nvPr/>
        </p:nvPicPr>
        <p:blipFill>
          <a:blip r:embed="rId1"/>
          <a:stretch/>
        </p:blipFill>
        <p:spPr>
          <a:xfrm>
            <a:off x="2438280" y="1371600"/>
            <a:ext cx="4421160" cy="52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Arial"/>
              </a:rPr>
              <a:t>Флаг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http://avimar-tr.tripod.com/russia.gif"/>
          <p:cNvPicPr/>
          <p:nvPr/>
        </p:nvPicPr>
        <p:blipFill>
          <a:blip r:embed="rId1"/>
          <a:stretch/>
        </p:blipFill>
        <p:spPr>
          <a:xfrm>
            <a:off x="914400" y="1447920"/>
            <a:ext cx="7250040" cy="48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3124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Arial"/>
              </a:rPr>
              <a:t>Гимн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"/>
          <p:cNvSpPr/>
          <p:nvPr/>
        </p:nvSpPr>
        <p:spPr>
          <a:xfrm>
            <a:off x="3581280" y="-124560"/>
            <a:ext cx="4724640" cy="71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Россия - священная наша держава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Россия - любимая наша страна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Могучая воля, великая слава -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Твое достоянье на все времен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От южных морей до полярного кра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Раскинулись наши леса и пол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Одна ты на свете! Одна ты такая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Хранимая Богом родная земл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Широкий простор для мечты и для жизн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Грядущие нам открывают год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Нам силу дает наша верность Отчизн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Так было, так есть и так будет всегда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Славься, Отечество наше свободное -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Братских народов союз веково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Предками данная мудрость народна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Славься, страна! Мы гордимся тобой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Гимн России.mp3" descr=""/>
          <p:cNvPicPr/>
          <p:nvPr/>
        </p:nvPicPr>
        <p:blipFill>
          <a:blip r:embed="rId1"/>
          <a:stretch/>
        </p:blipFill>
        <p:spPr>
          <a:xfrm>
            <a:off x="1066680" y="5029200"/>
            <a:ext cx="7621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59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59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222932" fill="hold"/>
                                        <p:tgtEl>
                                          <p:spTgt spid="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sus</dc:creator>
  <dc:description/>
  <dc:language>en-US</dc:language>
  <cp:lastModifiedBy>Asus</cp:lastModifiedBy>
  <dcterms:modified xsi:type="dcterms:W3CDTF">2019-01-05T19:23:40Z</dcterms:modified>
  <cp:revision>4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