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F40-8E57-416B-A24F-57769C65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651-86E5-4788-AB7A-D5166E2E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4C3-4822-44B9-8616-3286D986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6DE-DC96-4997-9370-80CD17AA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BF9-D3CA-488E-9771-DE1A52D5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9D2-0ABF-4BE2-8FDB-E0BA3BD9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9D7-A4BE-4774-B929-5F0DDC64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2E9-EBD4-444A-BD13-DAD3CD8D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CA7-D0B5-4855-A940-E8BBA36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B67-CDDC-4CFA-8AD5-653910A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D4B-0B2E-4352-B300-29BB6C1C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C68-BED7-4E62-A1D7-E513B3F2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94C6-BDBB-4C52-97CA-4EDB9C186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0880" y="198108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Моя Россия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68436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ОУ СОШ №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4"/>
          <p:cNvSpPr/>
          <p:nvPr/>
        </p:nvSpPr>
        <p:spPr>
          <a:xfrm>
            <a:off x="1547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химии  Дорохова А.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835280" y="5732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. Тамб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оск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utro.cz/_img.utro.cz/2011/02/09/615b.jpg"/>
          <p:cNvPicPr/>
          <p:nvPr/>
        </p:nvPicPr>
        <p:blipFill>
          <a:blip r:embed="rId1"/>
          <a:stretch/>
        </p:blipFill>
        <p:spPr>
          <a:xfrm>
            <a:off x="344520" y="1219320"/>
            <a:ext cx="8442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Большая Родина - Россия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МАЛАЯ РОДИНА – ГОРОД, УЛИЦА, ДОМ, ШКОЛА…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7"/>
          <p:cNvSpPr/>
          <p:nvPr/>
        </p:nvSpPr>
        <p:spPr>
          <a:xfrm>
            <a:off x="5257800" y="4724280"/>
            <a:ext cx="1143000" cy="1143000"/>
          </a:xfrm>
          <a:custGeom>
            <a:avLst/>
            <a:gdLst>
              <a:gd name="textAreaLeft" fmla="*/ 353160 w 1143000"/>
              <a:gd name="textAreaRight" fmla="*/ 789840 w 11430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143000" h="1143000">
                <a:moveTo>
                  <a:pt x="1" y="436586"/>
                </a:moveTo>
                <a:lnTo>
                  <a:pt x="436590" y="436589"/>
                </a:lnTo>
                <a:lnTo>
                  <a:pt x="571500" y="0"/>
                </a:lnTo>
                <a:lnTo>
                  <a:pt x="706410" y="436589"/>
                </a:lnTo>
                <a:lnTo>
                  <a:pt x="1142999" y="436586"/>
                </a:lnTo>
                <a:lnTo>
                  <a:pt x="789790" y="706409"/>
                </a:lnTo>
                <a:lnTo>
                  <a:pt x="924707" y="1142996"/>
                </a:lnTo>
                <a:lnTo>
                  <a:pt x="571500" y="873168"/>
                </a:lnTo>
                <a:lnTo>
                  <a:pt x="218293" y="1142996"/>
                </a:lnTo>
                <a:lnTo>
                  <a:pt x="353210" y="70640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867280" y="4191120"/>
            <a:ext cx="1295640" cy="1295280"/>
          </a:xfrm>
          <a:custGeom>
            <a:avLst/>
            <a:gdLst>
              <a:gd name="textAreaLeft" fmla="*/ 400320 w 1295640"/>
              <a:gd name="textAreaRight" fmla="*/ 895320 w 129564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295400" h="1295400">
                <a:moveTo>
                  <a:pt x="1" y="494797"/>
                </a:moveTo>
                <a:lnTo>
                  <a:pt x="494802" y="494801"/>
                </a:lnTo>
                <a:lnTo>
                  <a:pt x="647700" y="0"/>
                </a:lnTo>
                <a:lnTo>
                  <a:pt x="800598" y="494801"/>
                </a:lnTo>
                <a:lnTo>
                  <a:pt x="1295399" y="494797"/>
                </a:lnTo>
                <a:lnTo>
                  <a:pt x="895095" y="800597"/>
                </a:lnTo>
                <a:lnTo>
                  <a:pt x="1048001" y="1295396"/>
                </a:lnTo>
                <a:lnTo>
                  <a:pt x="647700" y="989591"/>
                </a:lnTo>
                <a:lnTo>
                  <a:pt x="247399" y="1295396"/>
                </a:lnTo>
                <a:lnTo>
                  <a:pt x="400305" y="80059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1219320" y="1066680"/>
            <a:ext cx="60195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"Звёздный  час"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553080" y="3581280"/>
            <a:ext cx="1524240" cy="1524240"/>
          </a:xfrm>
          <a:custGeom>
            <a:avLst/>
            <a:gdLst>
              <a:gd name="textAreaLeft" fmla="*/ 470880 w 1524240"/>
              <a:gd name="textAreaRight" fmla="*/ 1053360 w 1524240"/>
              <a:gd name="textAreaTop" fmla="*/ 582120 h 1524240"/>
              <a:gd name="textAreaBottom" fmla="*/ 1164600 h 1524240"/>
            </a:gdLst>
            <a:ahLst/>
            <a:rect l="textAreaLeft" t="textAreaTop" r="textAreaRight" b="textAreaBottom"/>
            <a:pathLst>
              <a:path w="1524000" h="1524000">
                <a:moveTo>
                  <a:pt x="2" y="582115"/>
                </a:moveTo>
                <a:lnTo>
                  <a:pt x="582119" y="582119"/>
                </a:lnTo>
                <a:lnTo>
                  <a:pt x="762000" y="0"/>
                </a:lnTo>
                <a:lnTo>
                  <a:pt x="941881" y="582119"/>
                </a:lnTo>
                <a:lnTo>
                  <a:pt x="1523998" y="582115"/>
                </a:lnTo>
                <a:lnTo>
                  <a:pt x="1053053" y="941879"/>
                </a:lnTo>
                <a:lnTo>
                  <a:pt x="1232942" y="1523995"/>
                </a:lnTo>
                <a:lnTo>
                  <a:pt x="762000" y="1164224"/>
                </a:lnTo>
                <a:lnTo>
                  <a:pt x="291058" y="1523995"/>
                </a:lnTo>
                <a:lnTo>
                  <a:pt x="470947" y="9418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5"/>
          <p:cNvSpPr/>
          <p:nvPr/>
        </p:nvSpPr>
        <p:spPr>
          <a:xfrm>
            <a:off x="1219320" y="380880"/>
            <a:ext cx="6553080" cy="5791320"/>
          </a:xfrm>
          <a:custGeom>
            <a:avLst/>
            <a:gdLst>
              <a:gd name="textAreaLeft" fmla="*/ 2025000 w 6553080"/>
              <a:gd name="textAreaRight" fmla="*/ 4528080 w 6553080"/>
              <a:gd name="textAreaTop" fmla="*/ 2212200 h 5791320"/>
              <a:gd name="textAreaBottom" fmla="*/ 4424400 h 5791320"/>
            </a:gdLst>
            <a:ahLst/>
            <a:rect l="textAreaLeft" t="textAreaTop" r="textAreaRight" b="textAreaBottom"/>
            <a:pathLst>
              <a:path w="6553200" h="5791200">
                <a:moveTo>
                  <a:pt x="7" y="2212035"/>
                </a:moveTo>
                <a:lnTo>
                  <a:pt x="2503114" y="2212051"/>
                </a:lnTo>
                <a:lnTo>
                  <a:pt x="3276600" y="0"/>
                </a:lnTo>
                <a:lnTo>
                  <a:pt x="4050086" y="2212051"/>
                </a:lnTo>
                <a:lnTo>
                  <a:pt x="6553193" y="2212035"/>
                </a:lnTo>
                <a:lnTo>
                  <a:pt x="4528129" y="3579141"/>
                </a:lnTo>
                <a:lnTo>
                  <a:pt x="5301652" y="5791181"/>
                </a:lnTo>
                <a:lnTo>
                  <a:pt x="3276600" y="4424053"/>
                </a:lnTo>
                <a:lnTo>
                  <a:pt x="1251548" y="5791181"/>
                </a:lnTo>
                <a:lnTo>
                  <a:pt x="2025071" y="357914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3124080" y="2743200"/>
            <a:ext cx="2667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 тур</a:t>
            </a:r>
            <a:endParaRPr b="1" lang="en-US" sz="9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14400" y="19810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«Маша и медвед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14400" y="33526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«Снегур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4400" y="4800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«Красная  шап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3520" y="53352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усские  народные сказ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5335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астоящее имя царевны-лягуш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85800" y="47242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Марья-цар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85800" y="34290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Василиса Прекра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85800" y="22860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Василиса Премуд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3520" y="22860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азовите сказки А.С.Пушки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85800" y="411480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«Сказка о мёртвой царевне и о семи богатыр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85800" y="33526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«Дюймов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5800" y="190512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«Сказка о золотом  петуш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1219320" y="380880"/>
            <a:ext cx="6553080" cy="5791320"/>
          </a:xfrm>
          <a:custGeom>
            <a:avLst/>
            <a:gdLst>
              <a:gd name="textAreaLeft" fmla="*/ 2025000 w 6553080"/>
              <a:gd name="textAreaRight" fmla="*/ 4528080 w 6553080"/>
              <a:gd name="textAreaTop" fmla="*/ 2212200 h 5791320"/>
              <a:gd name="textAreaBottom" fmla="*/ 4424400 h 5791320"/>
            </a:gdLst>
            <a:ahLst/>
            <a:rect l="textAreaLeft" t="textAreaTop" r="textAreaRight" b="textAreaBottom"/>
            <a:pathLst>
              <a:path w="6553200" h="5791200">
                <a:moveTo>
                  <a:pt x="7" y="2212035"/>
                </a:moveTo>
                <a:lnTo>
                  <a:pt x="2503114" y="2212051"/>
                </a:lnTo>
                <a:lnTo>
                  <a:pt x="3276600" y="0"/>
                </a:lnTo>
                <a:lnTo>
                  <a:pt x="4050086" y="2212051"/>
                </a:lnTo>
                <a:lnTo>
                  <a:pt x="6553193" y="2212035"/>
                </a:lnTo>
                <a:lnTo>
                  <a:pt x="4528129" y="3579141"/>
                </a:lnTo>
                <a:lnTo>
                  <a:pt x="5301652" y="5791181"/>
                </a:lnTo>
                <a:lnTo>
                  <a:pt x="3276600" y="4424053"/>
                </a:lnTo>
                <a:lnTo>
                  <a:pt x="1251548" y="5791181"/>
                </a:lnTo>
                <a:lnTo>
                  <a:pt x="2025071" y="357914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124080" y="2743200"/>
            <a:ext cx="2667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 тур</a:t>
            </a:r>
            <a:endParaRPr b="1" lang="en-US" sz="9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33520" y="5335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толица первого русского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057400" y="44197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Ки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057400" y="33526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Петербу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981080" y="22860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i.ytimg.com/vi/qjmtPChjvfU/maxresdefault.jpg"/>
          <p:cNvPicPr/>
          <p:nvPr/>
        </p:nvPicPr>
        <p:blipFill>
          <a:blip r:embed="rId1"/>
          <a:stretch/>
        </p:blipFill>
        <p:spPr>
          <a:xfrm>
            <a:off x="1066680" y="175248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57200" y="16020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поляне,  на  пригор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 окном  среди 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урая  берёз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  Родины  мо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609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ревнерусские соору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743200" y="3809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3200" y="27432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Меч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743200" y="17524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5335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Жилой дом у русского народа называе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90920" y="44956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Ю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90920" y="34290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Из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90920" y="24382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Х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219320" y="380880"/>
            <a:ext cx="6553080" cy="5791320"/>
          </a:xfrm>
          <a:custGeom>
            <a:avLst/>
            <a:gdLst>
              <a:gd name="textAreaLeft" fmla="*/ 2025000 w 6553080"/>
              <a:gd name="textAreaRight" fmla="*/ 4528080 w 6553080"/>
              <a:gd name="textAreaTop" fmla="*/ 2212200 h 5791320"/>
              <a:gd name="textAreaBottom" fmla="*/ 4424400 h 5791320"/>
            </a:gdLst>
            <a:ahLst/>
            <a:rect l="textAreaLeft" t="textAreaTop" r="textAreaRight" b="textAreaBottom"/>
            <a:pathLst>
              <a:path w="6553200" h="5791200">
                <a:moveTo>
                  <a:pt x="7" y="2212035"/>
                </a:moveTo>
                <a:lnTo>
                  <a:pt x="2503114" y="2212051"/>
                </a:lnTo>
                <a:lnTo>
                  <a:pt x="3276600" y="0"/>
                </a:lnTo>
                <a:lnTo>
                  <a:pt x="4050086" y="2212051"/>
                </a:lnTo>
                <a:lnTo>
                  <a:pt x="6553193" y="2212035"/>
                </a:lnTo>
                <a:lnTo>
                  <a:pt x="4528129" y="3579141"/>
                </a:lnTo>
                <a:lnTo>
                  <a:pt x="5301652" y="5791181"/>
                </a:lnTo>
                <a:lnTo>
                  <a:pt x="3276600" y="4424053"/>
                </a:lnTo>
                <a:lnTo>
                  <a:pt x="1251548" y="5791181"/>
                </a:lnTo>
                <a:lnTo>
                  <a:pt x="2025071" y="357914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124080" y="2743200"/>
            <a:ext cx="2667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  тур</a:t>
            </a:r>
            <a:endParaRPr b="1" lang="en-US" sz="9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280" y="38088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аздник  проводов  русской  зи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666880" y="44197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Кре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743200" y="33526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Масл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66880" y="228600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Рожд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743200" y="33526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Масл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2280" y="45720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Блюда  русской  кух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743200" y="380988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Б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743200" y="27432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М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43200" y="17524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едметы  одежды  русских  женщи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0" y="46483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Сап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86000" y="32767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Сараф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0" y="19810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Чал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усские композиторы, прославившие  Росс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62320" y="46483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Гри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362320" y="342900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Чайк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362320" y="2362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Гл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ководцы  великой  отечественной  вой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362320" y="46483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К.Чернях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362320" y="342900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А. Сув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362320" y="2362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К. Жу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снователь  Российского  фл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362320" y="46483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Николай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362320" y="342900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Пёт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362320" y="2362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Баграт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1219320" y="380880"/>
            <a:ext cx="6553080" cy="5791320"/>
          </a:xfrm>
          <a:custGeom>
            <a:avLst/>
            <a:gdLst>
              <a:gd name="textAreaLeft" fmla="*/ 2025000 w 6553080"/>
              <a:gd name="textAreaRight" fmla="*/ 4528080 w 6553080"/>
              <a:gd name="textAreaTop" fmla="*/ 2212200 h 5791320"/>
              <a:gd name="textAreaBottom" fmla="*/ 4424400 h 5791320"/>
            </a:gdLst>
            <a:ahLst/>
            <a:rect l="textAreaLeft" t="textAreaTop" r="textAreaRight" b="textAreaBottom"/>
            <a:pathLst>
              <a:path w="6553200" h="5791200">
                <a:moveTo>
                  <a:pt x="7" y="2212035"/>
                </a:moveTo>
                <a:lnTo>
                  <a:pt x="2503114" y="2212051"/>
                </a:lnTo>
                <a:lnTo>
                  <a:pt x="3276600" y="0"/>
                </a:lnTo>
                <a:lnTo>
                  <a:pt x="4050086" y="2212051"/>
                </a:lnTo>
                <a:lnTo>
                  <a:pt x="6553193" y="2212035"/>
                </a:lnTo>
                <a:lnTo>
                  <a:pt x="4528129" y="3579141"/>
                </a:lnTo>
                <a:lnTo>
                  <a:pt x="5301652" y="5791181"/>
                </a:lnTo>
                <a:lnTo>
                  <a:pt x="3276600" y="4424053"/>
                </a:lnTo>
                <a:lnTo>
                  <a:pt x="1251548" y="5791181"/>
                </a:lnTo>
                <a:lnTo>
                  <a:pt x="2025071" y="357914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3124080" y="2743200"/>
            <a:ext cx="2667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нал</a:t>
            </a:r>
            <a:endParaRPr b="1" lang="en-US" sz="9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russia.auto-maps.com/maps/detailed_administrative_map_of_Russia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457200" y="190512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АВИТЕЛЬСТВО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396216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идент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Asus\Desktop\8a860052-2caa-405f-8d61-03df6b879a02.jpg"/>
          <p:cNvPicPr/>
          <p:nvPr/>
        </p:nvPicPr>
        <p:blipFill>
          <a:blip r:embed="rId1"/>
          <a:stretch/>
        </p:blipFill>
        <p:spPr>
          <a:xfrm>
            <a:off x="4370400" y="0"/>
            <a:ext cx="477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Герб, </a:t>
            </a:r>
            <a:br>
              <a:rPr sz="12000"/>
            </a:b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     Гимн, </a:t>
            </a:r>
            <a:br>
              <a:rPr sz="12000"/>
            </a:b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          Флаг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Символ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content.foto.mail.ru/mail/pm999/_myphoto/s-2.png"/>
          <p:cNvPicPr/>
          <p:nvPr/>
        </p:nvPicPr>
        <p:blipFill>
          <a:blip r:embed="rId1"/>
          <a:stretch/>
        </p:blipFill>
        <p:spPr>
          <a:xfrm>
            <a:off x="2438280" y="1371600"/>
            <a:ext cx="44211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ла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avimar-tr.tripod.com/russia.gif"/>
          <p:cNvPicPr/>
          <p:nvPr/>
        </p:nvPicPr>
        <p:blipFill>
          <a:blip r:embed="rId1"/>
          <a:stretch/>
        </p:blipFill>
        <p:spPr>
          <a:xfrm>
            <a:off x="914400" y="1447920"/>
            <a:ext cx="72500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Гим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581280" y="-124560"/>
            <a:ext cx="472464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ссия - священная наша держ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ссия - любимая наша стран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огучая воля, великая слав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вое достоянье на все врем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 южных морей до полярн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скинулись наши леса и п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дна ты на свете! Одна ты така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ранимая Богом родная зем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Широкий простор для мечты и для жиз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рядущие нам открывают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м силу дает наша верность Отчиз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ак было, так есть и так будет всег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Гимн России.mp3" descr=""/>
          <p:cNvPicPr/>
          <p:nvPr/>
        </p:nvPicPr>
        <p:blipFill>
          <a:blip r:embed="rId1"/>
          <a:stretch/>
        </p:blipFill>
        <p:spPr>
          <a:xfrm>
            <a:off x="1066680" y="50292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29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9-01-05T19:23:4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