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gif" ContentType="image/gif"/>
  <Override PartName="/ppt/media/image15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1563-8CE2-4666-BA07-2C4CC84097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874-2F05-4A2E-9385-B247CD38DB2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6D14-F4D7-4E0B-BE6E-901639499143}" type="slidenum">
              <a:rPr b="0" lang="ru-RU" sz="1200" spc="-1" strike="noStrike">
                <a:solidFill>
                  <a:srgbClr val="0033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9D7-3D96-482D-A5F8-4887FF81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426-FA5F-46C8-945A-DE081BC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15A-206A-4FE9-9B60-805034F8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990-5E58-44F5-B4F2-BE55BCFC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65AD-A5C7-4E88-A261-CECE2AE3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4C44-C063-41E4-9C46-86F3EBF6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2A19-84A0-40E1-AB76-EAF678F6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D12-5443-4AE5-AABF-DC0BC2A0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C6F7-31EA-4BE7-B9E1-CD19721E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8E5D-12F0-4BEE-9FB0-0363BBD2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FEAD-A0C3-42A3-B389-59AFC72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117-D258-4420-8F13-7B124FE8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AA7C-E1F4-4B39-B5AB-D560340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58B8-32C7-4FA6-84BF-5D6324F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D457-7B1F-462E-AC05-A0B4A12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CF48-318E-4884-B2FC-5CB0E350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6413-9D6D-49BF-AB9D-8F88DA77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E78-BAD3-4DC7-8EEE-9A83BE57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A59-BBE2-4A17-B49C-28338C94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863-0D65-4FF2-93B9-3925F842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9DB-95B5-4565-87AC-54E4A40A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F9F-761D-429D-8C1C-8FEEC742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676-BCF0-41B0-8926-2FFB1883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BD6-6F37-4ABC-842A-D07B8532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3955-9CD6-46FC-BE55-BE76E193075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7AD9-A8FD-40BA-A681-D68151DCB8D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miles.33b.ru/smile.90584.html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468360" y="260280"/>
            <a:ext cx="8280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фографической зорк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 обучающихс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рока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ого язы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635280" y="537372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ставил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зиева Жанна Иван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иводино 2017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564560" y="-153000"/>
            <a:ext cx="7273080" cy="421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, жила, нём, сова, старая </a:t>
            </a:r>
            <a:br>
              <a:rPr sz="36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на, только, по, ночам, вылетал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 flipV="1">
            <a:off x="1042920" y="550440"/>
            <a:ext cx="81010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533520"/>
          <a:ext cx="208080" cy="4875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8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1"/>
          <p:cNvSpPr/>
          <p:nvPr/>
        </p:nvSpPr>
        <p:spPr>
          <a:xfrm>
            <a:off x="1800" y="540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1547640" y="69228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Из слов составьте предложения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99600" y="112320"/>
            <a:ext cx="5931720" cy="154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овите безударные гласные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торые пропущены?</a:t>
            </a:r>
            <a:br>
              <a:rPr sz="18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Какие гласные ещё могут быть безударными?</a:t>
            </a:r>
            <a:r>
              <a:rPr b="0" lang="ru-RU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Arial"/>
              </a:rPr>
              <a:t>я и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03280" y="2276640"/>
            <a:ext cx="6048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ff3300"/>
                </a:solidFill>
                <a:latin typeface="Arial"/>
              </a:rPr>
              <a:t>е  о  а</a:t>
            </a:r>
            <a:endParaRPr b="0" lang="en-US" sz="10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66520" y="941040"/>
            <a:ext cx="771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ставь подходящи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 смыслу слоги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ОР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ОЛО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..М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ТРЕКО..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ЮТ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 ПО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 flipV="1" rot="10800000">
            <a:off x="2482560" y="505440"/>
            <a:ext cx="597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116000" y="298044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Ч…сто идут д…жди. Плохо без з…нта и пл…щ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 дв…ре лужи. Тихо кругом. Улетели из с…дов гр…чи и др…зд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чера они долго кружились над п…лями и х…лм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684360" y="333360"/>
            <a:ext cx="8064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те и выпишите слова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торые «спрятались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971640" y="2492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omic Sans MS"/>
              </a:rPr>
              <a:t>Мнсубботааяюшнаюкзснпятницабжмесяццжлгшзвторникчщэъгшщ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omic Sans MS"/>
              </a:rPr>
              <a:t>Понедельниккмювчерабгедфзо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omic Sans MS"/>
              </a:rPr>
              <a:t>Средаяюэъьмкнеделярсжчетвергхзчкзыемкхпвоскресеньеникфрсп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omic Sans MS"/>
              </a:rPr>
              <a:t>ноябрькжцум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2843280" y="2858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mic Sans MS"/>
              </a:rPr>
              <a:t>Проверяе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1042920" y="98100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Мн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суббота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яюшнаюкзсн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пятница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бж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месяц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цжлгшз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вторник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чщэъ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понедельник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кмю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вчера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бгедфз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среда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яюэъьмк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неделя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рсж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четверг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хзчкзыемкхп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воскресенье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никфрсп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ноябрь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кжцум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116000" y="3068640"/>
            <a:ext cx="60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Как назвать можно одним слово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Назовите лишние слова. Запишите дни по порядку дней не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42920" y="4292640"/>
            <a:ext cx="57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Понедельник, вторник, среда, четверг, пятница, суббота, воскресенье, – недел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140360" y="530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omic Sans MS"/>
              </a:rPr>
              <a:t>Со словом </a:t>
            </a: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МЕСЯЦ </a:t>
            </a:r>
            <a:r>
              <a:rPr b="1" i="1" lang="ru-RU" sz="1800" spc="-1" strike="noStrike">
                <a:solidFill>
                  <a:srgbClr val="7030a0"/>
                </a:solidFill>
                <a:latin typeface="Comic Sans MS"/>
              </a:rPr>
              <a:t>придумайте предлож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2357280" y="585792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omic Sans MS"/>
              </a:rPr>
              <a:t>В слове </a:t>
            </a:r>
            <a:r>
              <a:rPr b="1" i="1" lang="ru-RU" sz="2400" spc="-1" strike="noStrike">
                <a:solidFill>
                  <a:srgbClr val="00b050"/>
                </a:solidFill>
                <a:latin typeface="Comic Sans MS"/>
              </a:rPr>
              <a:t>ноябрь</a:t>
            </a: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i="1" lang="ru-RU" sz="1800" spc="-1" strike="noStrike">
                <a:solidFill>
                  <a:srgbClr val="7030a0"/>
                </a:solidFill>
                <a:latin typeface="Comic Sans MS"/>
              </a:rPr>
              <a:t>обозначьте звуки и букв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1763640" y="765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mic Sans MS"/>
              </a:rPr>
              <a:t>Прочитайте. Подумайте, какую букву надо вставить. Запишите слова в 2 столбика по орфограмм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85840" y="220500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   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Гр…за, р…синка, б…рёза, пл..та, с…рняки, гор..д, вр..дитель, ш..лун, к…пуста, к..вёр, т…шина, к…ртина, зап..х, в…дро, кр…вать, н…род, п…года, к…льцо, в…дичка, пом…дор, т…мнота, р…жок, ур…жай.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My private\картинки\Буквы и цифры\Буквы и цифры - 2\00.gif"/>
          <p:cNvPicPr/>
          <p:nvPr/>
        </p:nvPicPr>
        <p:blipFill>
          <a:blip r:embed="rId1"/>
          <a:stretch/>
        </p:blipFill>
        <p:spPr>
          <a:xfrm>
            <a:off x="8001000" y="5429160"/>
            <a:ext cx="808200" cy="83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:\My private\картинки\Буквы и цифры\Буквы и цифры - 2\aa.gif"/>
          <p:cNvPicPr/>
          <p:nvPr/>
        </p:nvPicPr>
        <p:blipFill>
          <a:blip r:embed="rId2"/>
          <a:stretch/>
        </p:blipFill>
        <p:spPr>
          <a:xfrm>
            <a:off x="5000760" y="5643720"/>
            <a:ext cx="817560" cy="1003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D:\My private\картинки\Буквы и цифры\Буквы и цифры - 2\ee.gif"/>
          <p:cNvPicPr/>
          <p:nvPr/>
        </p:nvPicPr>
        <p:blipFill>
          <a:blip r:embed="rId3"/>
          <a:stretch/>
        </p:blipFill>
        <p:spPr>
          <a:xfrm>
            <a:off x="2627280" y="5805360"/>
            <a:ext cx="884160" cy="8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/>
          <p:cNvSpPr/>
          <p:nvPr/>
        </p:nvSpPr>
        <p:spPr>
          <a:xfrm>
            <a:off x="1979640" y="69228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ПИСАТЬ ТОЛЬКО ТЕ СЛОВ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КОТОРЫХ ПРОПУЩЕНА  БУКВА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900000" y="2276640"/>
            <a:ext cx="75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ВТОБУС, Д…РОГА, Т…ВАРИЩ, Р…БОТА,…ВТОМОБИЛЬ,  П…ЛЬТО, ПЛ…ТОК, СТ…ЛИЦ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857160" y="414972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ВТОБУС, Р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БОТА,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ВТОМОБИЛЬ, П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ЛЬТО, П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ТОК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826920" y="981000"/>
            <a:ext cx="60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mic Sans MS"/>
              </a:rPr>
              <a:t>Спишите, вставьте пропущенные букв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826920" y="2637000"/>
            <a:ext cx="788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З…мой в л…су т…шина. На ду…ках и б…рё…ках л…жит пуш…стый с..жок. Вот упала с ве…ки мя…кая сне…ная ша…ка. По тро…ке б…жит на коро…ких ла…ках см…шная мы…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Picture 1" descr="D:\Мои документы2\картинки\Картинки - фото\Зима.jpg"/>
          <p:cNvPicPr/>
          <p:nvPr/>
        </p:nvPicPr>
        <p:blipFill>
          <a:blip r:embed="rId1"/>
          <a:stretch/>
        </p:blipFill>
        <p:spPr>
          <a:xfrm>
            <a:off x="7164360" y="260280"/>
            <a:ext cx="167184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826920" y="220500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З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мой в 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у т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шина. На ду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б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х и б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рёзках 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жит пуш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тый сн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жок. Вот упала с ве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и мя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г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я сне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ж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ная ша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. По тро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е бежит на коро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их ла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х см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шная мы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ш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500120" y="35712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Проверь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900000" y="4869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Во 2 предложении обозначить части реч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В 3 предложении подчеркнуть главные члены предлож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5" descr="D:\My private\картинки\природа\33.gif"/>
          <p:cNvPicPr/>
          <p:nvPr/>
        </p:nvPicPr>
        <p:blipFill>
          <a:blip r:embed="rId1"/>
          <a:stretch/>
        </p:blipFill>
        <p:spPr>
          <a:xfrm>
            <a:off x="7380360" y="18900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549360"/>
            <a:ext cx="223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900000" y="2492280"/>
            <a:ext cx="76327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Повысить грамотность и развить 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0033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орфографическую зоркость 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0033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у обучающихся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0033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на уроках русского языка.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00336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627280" y="692280"/>
            <a:ext cx="65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Найди и исправь ошибки. Запиши текст правильн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11280" y="2276640"/>
            <a:ext cx="85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Мы чясто ходим на соседний болшой прут лавить рыпку. Переходим его по шадкому масту. И вот мы на бирегу. На лугу у пруда растут галубые незабутки. В трафке прыгают кузнеч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12" descr="Кот-рыболов"/>
          <p:cNvPicPr/>
          <p:nvPr/>
        </p:nvPicPr>
        <p:blipFill>
          <a:blip r:embed="rId1"/>
          <a:stretch/>
        </p:blipFill>
        <p:spPr>
          <a:xfrm>
            <a:off x="3419640" y="4743360"/>
            <a:ext cx="264312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900000" y="2421000"/>
            <a:ext cx="78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Мы ч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то ходим на соседний бо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ь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шой пру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д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вить ры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б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у. Переходим его по ша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ому м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ту. И вот мы на б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регу. На лугу у пруда растут г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лубые незабу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д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и. В тра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в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е прыгают кузнеч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1857240" y="57168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Проверяем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0" descr="e81de1c8d2a53a30cdf5b2ce1acb0f8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44672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1928880" y="98100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omic Sans MS"/>
              </a:rPr>
              <a:t>Письмо по памят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763640" y="270828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Ветер по морю гуля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И кораблик подгоняет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Он плывёт себе в волна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На раздутых парусах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4" descr="D:\My private\картинки\Картинки__для__презентаций\Картинки  для  презентаций\galleon 2.gif"/>
          <p:cNvPicPr/>
          <p:nvPr/>
        </p:nvPicPr>
        <p:blipFill>
          <a:blip r:embed="rId1"/>
          <a:stretch/>
        </p:blipFill>
        <p:spPr>
          <a:xfrm>
            <a:off x="6659640" y="4581360"/>
            <a:ext cx="185724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2916360" y="4287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Письмо по памя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2627280" y="107172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Прочитайте, найдите ошиб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428840" y="2637000"/>
            <a:ext cx="6143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Харошо идти палями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без трапинок и даро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ветит солнышко над нами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дует тёплый витер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" descr="df6953e129c6"/>
          <p:cNvPicPr/>
          <p:nvPr/>
        </p:nvPicPr>
        <p:blipFill>
          <a:blip r:embed="rId1"/>
          <a:stretch/>
        </p:blipFill>
        <p:spPr>
          <a:xfrm>
            <a:off x="684360" y="620640"/>
            <a:ext cx="142848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2"/>
          <p:cNvSpPr/>
          <p:nvPr/>
        </p:nvSpPr>
        <p:spPr>
          <a:xfrm>
            <a:off x="3276720" y="42876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Письмо по памя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5" descr="df6953e129c6"/>
          <p:cNvPicPr/>
          <p:nvPr/>
        </p:nvPicPr>
        <p:blipFill>
          <a:blip r:embed="rId1"/>
          <a:stretch/>
        </p:blipFill>
        <p:spPr>
          <a:xfrm>
            <a:off x="684360" y="549360"/>
            <a:ext cx="1428480" cy="1433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1428840" y="2781360"/>
            <a:ext cx="6143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Х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р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шо идти п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лями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без тр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пин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к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и д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ро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г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ветит солнышко над нами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дует тёплый в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р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"/>
          <p:cNvSpPr/>
          <p:nvPr/>
        </p:nvSpPr>
        <p:spPr>
          <a:xfrm>
            <a:off x="826920" y="249228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Зима. Тишина в лесу. На снегу у куста большой след. Вот слева ещё следы. А если это медведь?. Нет, медведь спи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На ветке я вижу птичку. Это дрозд? Нет, это клёст. У него особый клю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н похож на клещ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132000" y="549360"/>
            <a:ext cx="551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 текст, выделите изученные орфограмм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13" descr="click?url=http%3A%2F%2Fwww"/>
          <p:cNvPicPr/>
          <p:nvPr/>
        </p:nvPicPr>
        <p:blipFill>
          <a:blip r:embed="rId1"/>
          <a:stretch/>
        </p:blipFill>
        <p:spPr>
          <a:xfrm>
            <a:off x="6786720" y="5000760"/>
            <a:ext cx="146988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1116000" y="765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Выпишите из текста слова с безударной гласной в корне сло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900000" y="22766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З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ма, т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шина, в л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су, на сн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гу, б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льшой, сл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ды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971640" y="335772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Выпишите из текста слова с сомнительной согласной в корне сло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 flipV="1" rot="10800000">
            <a:off x="900000" y="4653000"/>
            <a:ext cx="78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Сле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д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, медве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дь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, дроз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д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, клю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в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, похо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ж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Рабочий стол\для презентации\на през. 2.JPG"/>
          <p:cNvPicPr/>
          <p:nvPr/>
        </p:nvPicPr>
        <p:blipFill>
          <a:blip r:embed="rId1"/>
          <a:srcRect l="0" t="24803" r="0" b="0"/>
          <a:stretch/>
        </p:blipFill>
        <p:spPr>
          <a:xfrm>
            <a:off x="1332000" y="2421000"/>
            <a:ext cx="7235640" cy="40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зделите слова на группы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2" descr="C:\Documents and Settings\Admin\Рабочий стол\для презентации\28.JPG"/>
          <p:cNvPicPr/>
          <p:nvPr/>
        </p:nvPicPr>
        <p:blipFill>
          <a:blip r:embed="rId1"/>
          <a:srcRect l="0" t="21853" r="157" b="0"/>
          <a:stretch/>
        </p:blipFill>
        <p:spPr>
          <a:xfrm>
            <a:off x="1116000" y="2492280"/>
            <a:ext cx="777708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дакто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Picture 2" descr="C:\Documents and Settings\Admin\Рабочий стол\для презентации\на през. 5.JPG"/>
          <p:cNvPicPr/>
          <p:nvPr/>
        </p:nvPicPr>
        <p:blipFill>
          <a:blip r:embed="rId1"/>
          <a:srcRect l="0" t="21270" r="-51" b="0"/>
          <a:stretch/>
        </p:blipFill>
        <p:spPr>
          <a:xfrm>
            <a:off x="971640" y="2349360"/>
            <a:ext cx="7921440" cy="43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187280" y="218628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ирование орфографической зоркости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дна из главных задач уроков русского язык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 начальной школе,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ак как с ней связано приобретение орфографического навыка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155600" cy="14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Упражнение с элементами какограф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Дарагой друк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ишыт тибе Пьос. Как ты жывёш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Я лублу делать урок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61760" y="691920"/>
            <a:ext cx="8202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Найди опасное место»: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итель произносит слово, дети хлопают в ладоши, слыша звук, которому нельзя доверят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Светофор»: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кажите красный сигнал «светофора»,как только найдёте в слове «опасное место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Кто больше насобирает орфограмм?»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Дырявое письмо»: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сли звуку можно «доверять», обозначаем его буквой, если нет - пропускаем букву, оставляем сигнал опасности (затем к этому слову обязательно вернуться  и объяснить букву, непроверяемые написания найти в орфографическом словаре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61760" y="762120"/>
            <a:ext cx="792468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а внимание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вным в обучении  правописанию является орфографическое правило, его применение. Умение обнаруживать орфограммы, именуемые орфографической зоркостью, выступает базовым орфографическим умением, первейшим этапом при обучении правописанию, залогом грамотного письм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чины неуспеваемости обучающих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знание прави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нание правил, но неумение их применя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ся мало и плохо читают, при чтении допускают ошиб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тсутствует положительная мотивац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лохо развита память, мыслительные процессы протекают медлен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ачастую дети не получают помощи от родителей  и не контролируются и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1760" y="189000"/>
            <a:ext cx="7924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 Определить место, где возникла орфографическая задач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 Какой группе правил относится данная орфограм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В какой части слова находится орфограм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 Установить какую букву нужно проверить: гласную или согласну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 Определить в слове удар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6. Определить, проверяемая или непроверяемая орфограм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. Написать слово в соответствии с правил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042920" y="620640"/>
            <a:ext cx="566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ебования к упражнениям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2653200"/>
            <a:ext cx="845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должны быть по возможности самостоятельны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должны быть систематически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должны быть логические.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должны быть устные и письменны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хема 9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448480" cy="5919840"/>
          </a:xfrm>
          <a:prstGeom prst="rect">
            <a:avLst/>
          </a:prstGeom>
          <a:ln w="0">
            <a:noFill/>
          </a:ln>
        </p:spPr>
      </p:pic>
      <p:sp>
        <p:nvSpPr>
          <p:cNvPr id="115" name="Oval 39"/>
          <p:cNvSpPr/>
          <p:nvPr/>
        </p:nvSpPr>
        <p:spPr>
          <a:xfrm>
            <a:off x="900000" y="5300640"/>
            <a:ext cx="2016360" cy="127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бота с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ловарями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 flipH="1">
            <a:off x="2556000" y="3716280"/>
            <a:ext cx="1511280" cy="1728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Oval 41"/>
          <p:cNvSpPr/>
          <p:nvPr/>
        </p:nvSpPr>
        <p:spPr>
          <a:xfrm>
            <a:off x="6156360" y="5300640"/>
            <a:ext cx="2232000" cy="1297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бота над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шибками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6227640" y="0"/>
            <a:ext cx="2376720" cy="1484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рточки с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ндивидуальны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аданиями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4"/>
          <p:cNvSpPr/>
          <p:nvPr/>
        </p:nvSpPr>
        <p:spPr>
          <a:xfrm>
            <a:off x="5076720" y="3933720"/>
            <a:ext cx="1366920" cy="158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45"/>
          <p:cNvSpPr/>
          <p:nvPr/>
        </p:nvSpPr>
        <p:spPr>
          <a:xfrm flipH="1">
            <a:off x="5292360" y="1197000"/>
            <a:ext cx="1150920" cy="151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3"/>
          <p:cNvSpPr/>
          <p:nvPr/>
        </p:nvSpPr>
        <p:spPr>
          <a:xfrm>
            <a:off x="2195640" y="0"/>
            <a:ext cx="3816360" cy="2133720"/>
          </a:xfrm>
          <a:prstGeom prst="wedgeEllipseCallout">
            <a:avLst>
              <a:gd name="adj1" fmla="val 80949"/>
              <a:gd name="adj2" fmla="val 1428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ставь безударные гласные в корне слов. Напиши четыре предложения, используя данные с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476360" y="306864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одать, в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вях, л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али, п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натые, д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евьях, к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мушки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24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6:03:57Z</dcterms:created>
  <dc:creator>User</dc:creator>
  <dc:description/>
  <dc:language>en-US</dc:language>
  <cp:lastModifiedBy>1</cp:lastModifiedBy>
  <dcterms:modified xsi:type="dcterms:W3CDTF">2017-10-29T19:49:37Z</dcterms:modified>
  <cp:revision>38</cp:revision>
  <dc:subject/>
  <dc:title>Слайд 1</dc:title>
</cp:coreProperties>
</file>