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1.gif" ContentType="image/gif"/>
  <Override PartName="/ppt/media/image15.jpeg" ContentType="image/jpeg"/>
  <Override PartName="/ppt/media/image14.gif" ContentType="image/gif"/>
  <Override PartName="/ppt/media/image9.gif" ContentType="image/gif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DC92-8525-4914-B41F-3625580262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06D0-234C-4689-BC6F-1CED554C821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C16D-0445-43AD-859D-6E5C596B708E}" type="slidenum">
              <a:rPr b="0" lang="ru-RU" sz="1200" spc="-1" strike="noStrike">
                <a:solidFill>
                  <a:srgbClr val="0033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1AE-DF0D-495F-884F-B43293B1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E0A-54F8-4FDF-B952-A05F8B25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6C4-5644-47A7-B10A-2C9CB241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BC9-9A7F-4456-8BB1-6AF0FFCC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7CFA-06F5-44E5-BE7F-DF5182DE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6762-3F2E-4223-8E5A-92ADDF81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2DDF-B8B6-4445-BA35-CCAC4074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17AF-6BE3-4EC3-8FA9-8BC2DCCD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78B3-5552-44B5-A864-982EED3D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4E54-D294-48D0-9A1D-1ADD243E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7D17-5697-4934-BB83-546014A6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2204-C752-4341-AFBA-29952D22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5E38-503F-456D-905A-DD1B1DE2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0D59-C000-40D8-9611-58F66C9A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A05D-911E-4D1A-8B8B-81E8F8AC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A280-A80D-4BE7-924D-7AF397BC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1478-6E46-4B96-A6A5-00333179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CC7-1618-48FC-B48A-E02914B0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30F-57F0-443A-A0AF-1055A50C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EFE-A9D5-40FF-B869-C018C905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AD5-2A7E-48DF-A5EA-C443F145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956B-9CF0-40A9-8E3F-1BE53D3B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7C44-3251-474E-9CF3-D1D56FFB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ADD-516F-442F-801A-B600DC9A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459F-50D8-40B2-841B-79F51EB6CBB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8034-AA36-41DE-ADD3-CB0CCE4101D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miles.33b.ru/smile.90584.html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5"/>
          <p:cNvSpPr txBox="1"/>
          <p:nvPr/>
        </p:nvSpPr>
        <p:spPr>
          <a:xfrm>
            <a:off x="468360" y="260280"/>
            <a:ext cx="828036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вити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фографической зорк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  обучающихс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уроках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ского язы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635280" y="537372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ставил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азиева Жанна Иванов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иводино 2017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564560" y="-153000"/>
            <a:ext cx="7273080" cy="421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В, жила, нём, сова, старая </a:t>
            </a:r>
            <a:br>
              <a:rPr sz="36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Она, только, по, ночам, вылетала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 flipV="1">
            <a:off x="1042920" y="550440"/>
            <a:ext cx="81010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533520"/>
          <a:ext cx="208080" cy="4875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8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Rectangle 11"/>
          <p:cNvSpPr/>
          <p:nvPr/>
        </p:nvSpPr>
        <p:spPr>
          <a:xfrm>
            <a:off x="1800" y="540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1"/>
          <a:stretch/>
        </p:blipFill>
        <p:spPr>
          <a:xfrm>
            <a:off x="900000" y="4221000"/>
            <a:ext cx="2303640" cy="23036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3"/>
          <p:cNvSpPr/>
          <p:nvPr/>
        </p:nvSpPr>
        <p:spPr>
          <a:xfrm>
            <a:off x="1547640" y="69228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Из слов составьте предложения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099600" y="112320"/>
            <a:ext cx="5931720" cy="154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овите безударные гласные,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торые пропущены?</a:t>
            </a:r>
            <a:br>
              <a:rPr sz="18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Какие гласные ещё могут быть безударными?</a:t>
            </a:r>
            <a:r>
              <a:rPr b="0" lang="ru-RU" sz="8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3300"/>
                </a:solidFill>
                <a:latin typeface="Arial"/>
              </a:rPr>
              <a:t>я и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403280" y="2276640"/>
            <a:ext cx="6048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600" spc="-1" strike="noStrike">
                <a:solidFill>
                  <a:srgbClr val="ff3300"/>
                </a:solidFill>
                <a:latin typeface="Arial"/>
              </a:rPr>
              <a:t>е  о  а</a:t>
            </a:r>
            <a:endParaRPr b="0" lang="en-US" sz="10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66520" y="941040"/>
            <a:ext cx="771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ставь подходящие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о смыслу слоги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БОР   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ОЛО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...МА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ТРЕКО..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ЮТ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… ПОГ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 flipV="1" rot="10800000">
            <a:off x="2482560" y="505440"/>
            <a:ext cx="597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тавь пропущенные буквы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1116000" y="298044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Ч…сто идут д…жди. Плохо без з…нта и пл…щ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 дв…ре лужи. Тихо кругом. Улетели из с…дов гр…чи и др…зды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чера они долго кружились над п…лями и х…лмам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3"/>
          <p:cNvSpPr/>
          <p:nvPr/>
        </p:nvSpPr>
        <p:spPr>
          <a:xfrm>
            <a:off x="684360" y="333360"/>
            <a:ext cx="8064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йдите и выпишите слова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торые «спрятались»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971640" y="249228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Comic Sans MS"/>
              </a:rPr>
              <a:t>Мнсубботааяюшнаюкзснпятницабжмесяццжлгшзвторникчщэъгшщз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Comic Sans MS"/>
              </a:rPr>
              <a:t>Понедельниккмювчерабгедфзо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Comic Sans MS"/>
              </a:rPr>
              <a:t>Средаяюэъьмкнеделярсжчетвергхзчкзыемкхпвоскресеньеникфрсп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Comic Sans MS"/>
              </a:rPr>
              <a:t>ноябрькжцум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2"/>
          <p:cNvSpPr/>
          <p:nvPr/>
        </p:nvSpPr>
        <p:spPr>
          <a:xfrm>
            <a:off x="2843280" y="28584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omic Sans MS"/>
              </a:rPr>
              <a:t>Проверяе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1042920" y="98100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Мн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суббота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аяюшнаюкзсн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пятница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бж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месяц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цжлгшз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вторник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чщэъ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понедельник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кмю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вчера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бгедфз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среда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яюэъьмк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неделя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рсж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четверг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хзчкзыемкхп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воскресенье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никфрсп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ноябрь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кжцум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1116000" y="3068640"/>
            <a:ext cx="60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omic Sans MS"/>
              </a:rPr>
              <a:t>Как назвать можно одним словом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omic Sans MS"/>
              </a:rPr>
              <a:t>Назовите лишние слова. Запишите дни по порядку дней не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042920" y="4292640"/>
            <a:ext cx="57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Понедельник, вторник, среда, четверг, пятница, суббота, воскресенье, – недел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4140360" y="5300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omic Sans MS"/>
              </a:rPr>
              <a:t>Со словом </a:t>
            </a:r>
            <a:r>
              <a:rPr b="1" i="1" lang="ru-RU" sz="1800" spc="-1" strike="noStrike">
                <a:solidFill>
                  <a:srgbClr val="00b050"/>
                </a:solidFill>
                <a:latin typeface="Comic Sans MS"/>
              </a:rPr>
              <a:t>МЕСЯЦ </a:t>
            </a:r>
            <a:r>
              <a:rPr b="1" i="1" lang="ru-RU" sz="1800" spc="-1" strike="noStrike">
                <a:solidFill>
                  <a:srgbClr val="7030a0"/>
                </a:solidFill>
                <a:latin typeface="Comic Sans MS"/>
              </a:rPr>
              <a:t>придумайте предложени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2357280" y="5857920"/>
            <a:ext cx="45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omic Sans MS"/>
              </a:rPr>
              <a:t>В слове </a:t>
            </a:r>
            <a:r>
              <a:rPr b="1" i="1" lang="ru-RU" sz="2400" spc="-1" strike="noStrike">
                <a:solidFill>
                  <a:srgbClr val="00b050"/>
                </a:solidFill>
                <a:latin typeface="Comic Sans MS"/>
              </a:rPr>
              <a:t>ноябрь</a:t>
            </a:r>
            <a:r>
              <a:rPr b="1" i="1" lang="ru-RU" sz="1800" spc="-1" strike="noStrike">
                <a:solidFill>
                  <a:srgbClr val="00b050"/>
                </a:solidFill>
                <a:latin typeface="Comic Sans MS"/>
              </a:rPr>
              <a:t>  </a:t>
            </a:r>
            <a:r>
              <a:rPr b="1" i="1" lang="ru-RU" sz="1800" spc="-1" strike="noStrike">
                <a:solidFill>
                  <a:srgbClr val="7030a0"/>
                </a:solidFill>
                <a:latin typeface="Comic Sans MS"/>
              </a:rPr>
              <a:t>обозначьте звуки и букв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3"/>
          <p:cNvSpPr/>
          <p:nvPr/>
        </p:nvSpPr>
        <p:spPr>
          <a:xfrm>
            <a:off x="1763640" y="7650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omic Sans MS"/>
              </a:rPr>
              <a:t>Прочитайте. Подумайте, какую букву надо вставить. Запишите слова в 2 столбика по орфограмма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85840" y="2205000"/>
            <a:ext cx="88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     </a:t>
            </a:r>
            <a:r>
              <a:rPr b="1" i="1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Гр…за, р…синка, б…рёза, пл..та, с…рняки, гор..д, вр..дитель, ш..лун, к…пуста, к..вёр, т…шина, к…ртина, зап..х, в…дро, кр…вать, н…род, п…года, к…льцо, в…дичка, пом…дор, т…мнота, р…жок, ур…жай.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D:\My private\картинки\Буквы и цифры\Буквы и цифры - 2\00.gif"/>
          <p:cNvPicPr/>
          <p:nvPr/>
        </p:nvPicPr>
        <p:blipFill>
          <a:blip r:embed="rId1"/>
          <a:stretch/>
        </p:blipFill>
        <p:spPr>
          <a:xfrm>
            <a:off x="8001000" y="5429160"/>
            <a:ext cx="808200" cy="833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D:\My private\картинки\Буквы и цифры\Буквы и цифры - 2\aa.gif"/>
          <p:cNvPicPr/>
          <p:nvPr/>
        </p:nvPicPr>
        <p:blipFill>
          <a:blip r:embed="rId2"/>
          <a:stretch/>
        </p:blipFill>
        <p:spPr>
          <a:xfrm>
            <a:off x="5000760" y="5643720"/>
            <a:ext cx="817560" cy="1003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D:\My private\картинки\Буквы и цифры\Буквы и цифры - 2\ee.gif"/>
          <p:cNvPicPr/>
          <p:nvPr/>
        </p:nvPicPr>
        <p:blipFill>
          <a:blip r:embed="rId3"/>
          <a:stretch/>
        </p:blipFill>
        <p:spPr>
          <a:xfrm>
            <a:off x="2627280" y="5805360"/>
            <a:ext cx="884160" cy="8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5"/>
          <p:cNvSpPr/>
          <p:nvPr/>
        </p:nvSpPr>
        <p:spPr>
          <a:xfrm>
            <a:off x="1979640" y="692280"/>
            <a:ext cx="69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ПИСАТЬ ТОЛЬКО ТЕ СЛОВА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КОТОРЫХ ПРОПУЩЕНА  БУКВА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900000" y="2276640"/>
            <a:ext cx="75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…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ВТОБУС, Д…РОГА, Т…ВАРИЩ, Р…БОТА,…ВТОМОБИЛЬ,  П…ЛЬТО, ПЛ…ТОК, СТ…ЛИЦ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857160" y="414972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ВТОБУС, Р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БОТА, 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ВТОМОБИЛЬ, П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ЛЬТО, ПЛ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ТОК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826920" y="981000"/>
            <a:ext cx="60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omic Sans MS"/>
              </a:rPr>
              <a:t>Спишите, вставьте пропущенные букв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826920" y="2637000"/>
            <a:ext cx="788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З…мой в л…су т…шина. На ду…ках и б…рё…ках л…жит пуш…стый с..жок. Вот упала с ве…ки мя…кая сне…ная ша…ка. По тро…ке б…жит на коро…ких ла…ках см…шная мы…к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Picture 1" descr="D:\Мои документы2\картинки\Картинки - фото\Зима.jpg"/>
          <p:cNvPicPr/>
          <p:nvPr/>
        </p:nvPicPr>
        <p:blipFill>
          <a:blip r:embed="rId1"/>
          <a:stretch/>
        </p:blipFill>
        <p:spPr>
          <a:xfrm>
            <a:off x="7164360" y="260280"/>
            <a:ext cx="167184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826920" y="220500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З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мой в л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су т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шина. На ду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б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ах и б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рёзках л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жит пуш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стый сн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жок. Вот упала с ве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т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и мя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г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ая сне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ж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ная ша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п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а. По тро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п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е бежит на коро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т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их ла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п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ах см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шная мы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ш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500120" y="35712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mic Sans MS"/>
              </a:rPr>
              <a:t>Проверь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900000" y="4869000"/>
            <a:ext cx="82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omic Sans MS"/>
              </a:rPr>
              <a:t>Во 2 предложении обозначить части реч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omic Sans MS"/>
              </a:rPr>
              <a:t>В 3 предложении подчеркнуть главные члены предлож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5" descr="D:\My private\картинки\природа\33.gif"/>
          <p:cNvPicPr/>
          <p:nvPr/>
        </p:nvPicPr>
        <p:blipFill>
          <a:blip r:embed="rId1"/>
          <a:stretch/>
        </p:blipFill>
        <p:spPr>
          <a:xfrm>
            <a:off x="7380360" y="18900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549360"/>
            <a:ext cx="223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ь: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900000" y="2492280"/>
            <a:ext cx="763272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3366"/>
                </a:solidFill>
                <a:latin typeface="Times New Roman"/>
              </a:rPr>
              <a:t>Повысить грамотность и развить </a:t>
            </a:r>
            <a:endParaRPr b="0" lang="en-US" sz="2800" spc="1" strike="noStrike">
              <a:ln w="9360">
                <a:solidFill>
                  <a:srgbClr val="ff00ff"/>
                </a:solidFill>
                <a:miter/>
              </a:ln>
              <a:solidFill>
                <a:srgbClr val="0033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3366"/>
                </a:solidFill>
                <a:latin typeface="Times New Roman"/>
              </a:rPr>
              <a:t>орфографическую зоркость </a:t>
            </a:r>
            <a:endParaRPr b="0" lang="en-US" sz="2800" spc="1" strike="noStrike">
              <a:ln w="9360">
                <a:solidFill>
                  <a:srgbClr val="ff00ff"/>
                </a:solidFill>
                <a:miter/>
              </a:ln>
              <a:solidFill>
                <a:srgbClr val="0033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3366"/>
                </a:solidFill>
                <a:latin typeface="Times New Roman"/>
              </a:rPr>
              <a:t>у обучающихся</a:t>
            </a:r>
            <a:endParaRPr b="0" lang="en-US" sz="2800" spc="1" strike="noStrike">
              <a:ln w="9360">
                <a:solidFill>
                  <a:srgbClr val="ff00ff"/>
                </a:solidFill>
                <a:miter/>
              </a:ln>
              <a:solidFill>
                <a:srgbClr val="0033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3366"/>
                </a:solidFill>
                <a:latin typeface="Times New Roman"/>
              </a:rPr>
              <a:t>на уроках русского языка.</a:t>
            </a:r>
            <a:endParaRPr b="0" lang="en-US" sz="2800" spc="1" strike="noStrike">
              <a:ln w="9360">
                <a:solidFill>
                  <a:srgbClr val="ff00ff"/>
                </a:solidFill>
                <a:miter/>
              </a:ln>
              <a:solidFill>
                <a:srgbClr val="003366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2627280" y="692280"/>
            <a:ext cx="65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mic Sans MS"/>
              </a:rPr>
              <a:t>Найди и исправь ошибки. Запиши текст правильно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611280" y="2276640"/>
            <a:ext cx="85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Мы чясто ходим на соседний болшой прут лавить рыпку. Переходим его по шадкому масту. И вот мы на бирегу. На лугу у пруда растут галубые незабутки. В трафке прыгают кузнеч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12" descr="Кот-рыболов"/>
          <p:cNvPicPr/>
          <p:nvPr/>
        </p:nvPicPr>
        <p:blipFill>
          <a:blip r:embed="rId1"/>
          <a:stretch/>
        </p:blipFill>
        <p:spPr>
          <a:xfrm>
            <a:off x="3419640" y="4743360"/>
            <a:ext cx="264312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900000" y="2421000"/>
            <a:ext cx="788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Мы ч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сто ходим на соседний бол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ь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шой пру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д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 л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вить ры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б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у. Переходим его по ша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т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ому м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сту. И вот мы на б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регу. На лугу у пруда растут г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лубые незабу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д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и. В тра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в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ке прыгают кузнеч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1857240" y="571680"/>
            <a:ext cx="55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mic Sans MS"/>
              </a:rPr>
              <a:t>Проверяем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10" descr="e81de1c8d2a53a30cdf5b2ce1acb0f8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4446720"/>
            <a:ext cx="2411280" cy="24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2"/>
          <p:cNvSpPr/>
          <p:nvPr/>
        </p:nvSpPr>
        <p:spPr>
          <a:xfrm>
            <a:off x="1928880" y="98100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Comic Sans MS"/>
              </a:rPr>
              <a:t>Письмо по памяти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1763640" y="2708280"/>
            <a:ext cx="607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omic Sans MS"/>
              </a:rPr>
              <a:t>Ветер по морю гуляе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omic Sans MS"/>
              </a:rPr>
              <a:t>И кораблик подгоняет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omic Sans MS"/>
              </a:rPr>
              <a:t>Он плывёт себе в волнах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omic Sans MS"/>
              </a:rPr>
              <a:t>На раздутых парусах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Picture 4" descr="D:\My private\картинки\Картинки__для__презентаций\Картинки  для  презентаций\galleon 2.gif"/>
          <p:cNvPicPr/>
          <p:nvPr/>
        </p:nvPicPr>
        <p:blipFill>
          <a:blip r:embed="rId1"/>
          <a:stretch/>
        </p:blipFill>
        <p:spPr>
          <a:xfrm>
            <a:off x="6659640" y="4581360"/>
            <a:ext cx="1857240" cy="19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2"/>
          <p:cNvSpPr/>
          <p:nvPr/>
        </p:nvSpPr>
        <p:spPr>
          <a:xfrm>
            <a:off x="2916360" y="42876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mic Sans MS"/>
              </a:rPr>
              <a:t>Письмо по памя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2627280" y="107172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omic Sans MS"/>
              </a:rPr>
              <a:t>Прочитайте, найдите ошиб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1428840" y="2637000"/>
            <a:ext cx="6143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Харошо идти палями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без трапинок и даро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Светит солнышко над нами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дует тёплый витеро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Picture 5" descr="df6953e129c6"/>
          <p:cNvPicPr/>
          <p:nvPr/>
        </p:nvPicPr>
        <p:blipFill>
          <a:blip r:embed="rId1"/>
          <a:stretch/>
        </p:blipFill>
        <p:spPr>
          <a:xfrm>
            <a:off x="684360" y="620640"/>
            <a:ext cx="1428480" cy="14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2"/>
          <p:cNvSpPr/>
          <p:nvPr/>
        </p:nvSpPr>
        <p:spPr>
          <a:xfrm>
            <a:off x="3276720" y="42876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mic Sans MS"/>
              </a:rPr>
              <a:t>Письмо по памя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5" descr="df6953e129c6"/>
          <p:cNvPicPr/>
          <p:nvPr/>
        </p:nvPicPr>
        <p:blipFill>
          <a:blip r:embed="rId1"/>
          <a:stretch/>
        </p:blipFill>
        <p:spPr>
          <a:xfrm>
            <a:off x="684360" y="549360"/>
            <a:ext cx="1428480" cy="14335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"/>
          <p:cNvSpPr/>
          <p:nvPr/>
        </p:nvSpPr>
        <p:spPr>
          <a:xfrm>
            <a:off x="1428840" y="2781360"/>
            <a:ext cx="6143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Х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оро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шо идти п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лями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без тр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пин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ок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 и д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ро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г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Светит солнышко над нами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дует тёплый в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т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003366"/>
                </a:solidFill>
                <a:latin typeface="Comic Sans MS"/>
              </a:rPr>
              <a:t>ро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3"/>
          <p:cNvSpPr/>
          <p:nvPr/>
        </p:nvSpPr>
        <p:spPr>
          <a:xfrm>
            <a:off x="826920" y="2492280"/>
            <a:ext cx="79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Зима. Тишина в лесу. На снегу у куста большой след. Вот слева ещё следы. А если это медведь?. Нет, медведь спи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На ветке я вижу птичку. Это дрозд? Нет, это клёст. У него особый клю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Он похож на клещ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3132000" y="549360"/>
            <a:ext cx="551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ишите текст, выделите изученные орфограмм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Picture 13" descr="click?url=http%3A%2F%2Fwww"/>
          <p:cNvPicPr/>
          <p:nvPr/>
        </p:nvPicPr>
        <p:blipFill>
          <a:blip r:embed="rId1"/>
          <a:stretch/>
        </p:blipFill>
        <p:spPr>
          <a:xfrm>
            <a:off x="6786720" y="5000760"/>
            <a:ext cx="1469880" cy="13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1116000" y="765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Выпишите из текста слова с безударной гласной в корне сло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900000" y="227664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З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и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ма, т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и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шина, в л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е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су, на сн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е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гу, б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о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льшой, сл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е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ды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971640" y="335772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Выпишите из текста слова с сомнительной согласной в корне сло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 flipV="1" rot="10800000">
            <a:off x="900000" y="4653000"/>
            <a:ext cx="781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Сле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д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, медве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дь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, дроз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д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, клю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в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, похо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ж</a:t>
            </a: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Рабочий стол\для презентации\на през. 2.JPG"/>
          <p:cNvPicPr/>
          <p:nvPr/>
        </p:nvPicPr>
        <p:blipFill>
          <a:blip r:embed="rId1"/>
          <a:srcRect l="0" t="24803" r="0" b="0"/>
          <a:stretch/>
        </p:blipFill>
        <p:spPr>
          <a:xfrm>
            <a:off x="1332000" y="2421000"/>
            <a:ext cx="7235640" cy="40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азделите слова на группы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5" name="Picture 2" descr="C:\Documents and Settings\Admin\Рабочий стол\для презентации\28.JPG"/>
          <p:cNvPicPr/>
          <p:nvPr/>
        </p:nvPicPr>
        <p:blipFill>
          <a:blip r:embed="rId1"/>
          <a:srcRect l="0" t="21853" r="157" b="0"/>
          <a:stretch/>
        </p:blipFill>
        <p:spPr>
          <a:xfrm>
            <a:off x="1116000" y="2492280"/>
            <a:ext cx="7777080" cy="41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дактор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7" name="Picture 2" descr="C:\Documents and Settings\Admin\Рабочий стол\для презентации\на през. 5.JPG"/>
          <p:cNvPicPr/>
          <p:nvPr/>
        </p:nvPicPr>
        <p:blipFill>
          <a:blip r:embed="rId1"/>
          <a:srcRect l="0" t="21270" r="-51" b="0"/>
          <a:stretch/>
        </p:blipFill>
        <p:spPr>
          <a:xfrm>
            <a:off x="971640" y="2349360"/>
            <a:ext cx="7921440" cy="437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187280" y="2186280"/>
            <a:ext cx="76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ормирование орфографической зоркости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одна из главных задач уроков русского языка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 начальной школе,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ак как с ней связано приобретение орфографического навыка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7596360" y="404640"/>
            <a:ext cx="1155600" cy="14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Упражнение с элементами какографии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Дарагой друк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ишыт тибе Пьос. Как ты жывёш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Я лублу делать уроки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761760" y="691920"/>
            <a:ext cx="8202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«Найди опасное место»: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читель произносит слово, дети хлопают в ладоши, слыша звук, которому нельзя доверять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«Светофор»: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кажите красный сигнал «светофора»,как только найдёте в слове «опасное место»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«Кто больше насобирает орфограмм?»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«Дырявое письмо»: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если звуку можно «доверять», обозначаем его буквой, если нет - пропускаем букву, оставляем сигнал опасности (затем к этому слову обязательно вернуться  и объяснить букву, непроверяемые написания найти в орфографическом словаре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61760" y="762120"/>
            <a:ext cx="792468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пасибо 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за внимание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авным в обучении  правописанию является орфографическое правило, его применение. Умение обнаруживать орфограммы, именуемые орфографической зоркостью, выступает базовым орфографическим умением, первейшим этапом при обучении правописанию, залогом грамотного письм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чины неуспеваемости обучающихс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езнание прави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знание правил, но неумение их применя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бучающиеся мало и плохо читают, при чтении допускают ошиб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тсутствует положительная мотивац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лохо развита память, мыслительные процессы протекают медленн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зачастую дети не получают помощи от родителей  и не контролируются и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761760" y="189000"/>
            <a:ext cx="79246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ы работы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 Определить место, где возникла орфографическая задач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 Какой группе правил относится данная орфограмм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 В какой части слова находится орфограмм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. Установить какую букву нужно проверить: гласную или согласну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5. Определить в слове удар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6. Определить, проверяемая или непроверяемая орфограмм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7. Написать слово в соответствии с правил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1042920" y="620640"/>
            <a:ext cx="5667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ребования к упражнениям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2653200"/>
            <a:ext cx="845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пражнения должны быть по возможности самостоятельны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пражнения должны быть систематически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пражнения должны быть логические.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пражнения должны быть устные и письменны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хема 9" descr=""/>
          <p:cNvPicPr/>
          <p:nvPr/>
        </p:nvPicPr>
        <p:blipFill>
          <a:blip r:embed="rId1"/>
          <a:stretch/>
        </p:blipFill>
        <p:spPr>
          <a:xfrm>
            <a:off x="463680" y="328680"/>
            <a:ext cx="8448480" cy="5919840"/>
          </a:xfrm>
          <a:prstGeom prst="rect">
            <a:avLst/>
          </a:prstGeom>
          <a:ln w="0">
            <a:noFill/>
          </a:ln>
        </p:spPr>
      </p:pic>
      <p:sp>
        <p:nvSpPr>
          <p:cNvPr id="115" name="Oval 39"/>
          <p:cNvSpPr/>
          <p:nvPr/>
        </p:nvSpPr>
        <p:spPr>
          <a:xfrm>
            <a:off x="900000" y="5300640"/>
            <a:ext cx="2016360" cy="12747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абота с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ловарями</a:t>
            </a:r>
            <a:r>
              <a:rPr b="0" lang="ru-RU" sz="1800" spc="-1" strike="noStrike">
                <a:solidFill>
                  <a:srgbClr val="cc99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40"/>
          <p:cNvSpPr/>
          <p:nvPr/>
        </p:nvSpPr>
        <p:spPr>
          <a:xfrm flipH="1">
            <a:off x="2556000" y="3716280"/>
            <a:ext cx="1511280" cy="1728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Oval 41"/>
          <p:cNvSpPr/>
          <p:nvPr/>
        </p:nvSpPr>
        <p:spPr>
          <a:xfrm>
            <a:off x="6156360" y="5300640"/>
            <a:ext cx="2232000" cy="1297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абота над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шибками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Oval 43"/>
          <p:cNvSpPr/>
          <p:nvPr/>
        </p:nvSpPr>
        <p:spPr>
          <a:xfrm>
            <a:off x="6227640" y="0"/>
            <a:ext cx="2376720" cy="1484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рточки с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индивидуальным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заданиями</a:t>
            </a:r>
            <a:r>
              <a:rPr b="0" lang="ru-RU" sz="1800" spc="-1" strike="noStrike">
                <a:solidFill>
                  <a:srgbClr val="cc99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44"/>
          <p:cNvSpPr/>
          <p:nvPr/>
        </p:nvSpPr>
        <p:spPr>
          <a:xfrm>
            <a:off x="5076720" y="3933720"/>
            <a:ext cx="1366920" cy="1582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45"/>
          <p:cNvSpPr/>
          <p:nvPr/>
        </p:nvSpPr>
        <p:spPr>
          <a:xfrm flipH="1">
            <a:off x="5292360" y="1197000"/>
            <a:ext cx="1150920" cy="1511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3"/>
          <p:cNvSpPr/>
          <p:nvPr/>
        </p:nvSpPr>
        <p:spPr>
          <a:xfrm>
            <a:off x="2195640" y="0"/>
            <a:ext cx="3816360" cy="2133720"/>
          </a:xfrm>
          <a:prstGeom prst="wedgeEllipseCallout">
            <a:avLst>
              <a:gd name="adj1" fmla="val 80949"/>
              <a:gd name="adj2" fmla="val 14287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ставь безударные гласные в корне слов. Напиши четыре предложения, используя данные сл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476360" y="3068640"/>
            <a:ext cx="691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</a:t>
            </a: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лодать, в</a:t>
            </a: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вях, л</a:t>
            </a: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али, п</a:t>
            </a: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натые, д</a:t>
            </a: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евьях, к</a:t>
            </a: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мушки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______________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249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06:03:57Z</dcterms:created>
  <dc:creator>User</dc:creator>
  <dc:description/>
  <dc:language>en-US</dc:language>
  <cp:lastModifiedBy>1</cp:lastModifiedBy>
  <dcterms:modified xsi:type="dcterms:W3CDTF">2017-10-29T19:49:37Z</dcterms:modified>
  <cp:revision>38</cp:revision>
  <dc:subject/>
  <dc:title>Слайд 1</dc:title>
</cp:coreProperties>
</file>