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4544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52320" y="4001760"/>
            <a:ext cx="554544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0"/>
          </p:nvPr>
        </p:nvSpPr>
        <p:spPr>
          <a:xfrm>
            <a:off x="3881520" y="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0" y="868680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800"/>
            <a:ext cx="29685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D0AEB-08EE-4E15-B38A-61BD6F45CA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0120" cy="294156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652320" y="4002120"/>
            <a:ext cx="555012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52320" y="770040"/>
            <a:ext cx="5551560" cy="294300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652320" y="4002120"/>
            <a:ext cx="55515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0B20-7C9C-4031-9CCF-905E200F5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36CC-0EB8-4E57-A676-62325D1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B84C-A13C-41D6-9041-F51CDF69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92FB-65F9-4C52-92A3-6086C8BDE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F6B-2BE3-4C1A-B5E7-DAF72B834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FBA-AD52-4330-B183-F04E7E59C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EAF-FC60-486C-8404-ADF4B619F0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7B7-23CC-48F3-BAE6-C6040A46E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0FA-D3B9-477B-8A57-33FA64D58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2C4-0B6C-4155-8983-5941D52BB3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4AB-B3EF-4C68-982D-76B045B42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734D-0B3A-4393-BBC9-5BB36DAB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3EC-A0F6-46EE-8409-149F96B67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0A4-6BF9-4220-831D-9FEB7378C9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A6F-B2B8-4F31-987D-EBC56B3EA6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237-A421-4ABF-8CF4-C929BA182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760-960B-4B36-9949-B14F82CFEC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5A92-4E9F-45F7-8A0A-C91B7619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45EE-9F01-49EF-A2C5-BED6DCFA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A3D9-5273-4118-9BDE-222FFBB9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0017-2D64-4042-B54C-DCC916E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04BD-3D5D-4EC9-95EC-24ECC8F2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73F7-0AC9-48A7-8F28-E379120D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6CF1-3345-41BF-90B0-21882644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5CCD-8C57-4D90-B31C-BE2DA3D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C7AE-315D-4085-AE5D-3D7F04F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392B-50B5-484F-AF4F-35056A21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D53-ADEF-46D8-B9E8-11B5F743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191-EB79-4310-B056-A2C50940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A781-06D8-49A2-B26A-C01D6145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D30A-8EAE-4AF1-93F8-9CD646E5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7882-58DC-4ED6-A95C-5DA03FA2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DA92-0808-4C1A-AC9E-F68022D8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0A1C-41D8-4EA3-A31B-13974726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9B71-A5EC-4394-A29B-C00900B2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1A32-8476-40B9-8370-FB51D415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B6BC-D817-4A38-BE41-E829A9D5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A5E7-D55A-4F0F-BEE8-7BDBE25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3D03-F84A-4F81-9852-FC20588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3E02-FEF2-4E4D-84D8-00AFD17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2489-2736-4033-A008-860D6B63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6EAF-0D68-4DF9-B460-358C4676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712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6680" y="165420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712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6680" y="3727440"/>
            <a:ext cx="26470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DF25-69E7-43BC-984B-2BCE12F0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01C5-FDBD-49E1-A57C-B2E3F8D3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168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D918-AC20-46CE-A18D-FB2BEBCB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655D-FCA5-4E78-8AB6-53034B57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72744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7104-922A-4161-AABB-A89A8043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54200"/>
            <a:ext cx="401184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1680" cy="189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893F-FE82-4E80-8FDB-0E6B7D91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7992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600200"/>
            <a:ext cx="7992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AE092-D030-4FCF-9966-ED9001E453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7992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680" y="1600200"/>
            <a:ext cx="79927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8968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50101-9C91-4195-B25B-2E7EDCF8EAB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16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54200"/>
            <a:ext cx="822168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3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8780-F1FB-4993-9D47-7A5CD388B6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31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5384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3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3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5731C-6C87-4307-996C-0C0B0232DD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68360" y="2436840"/>
            <a:ext cx="3368880" cy="3971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249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327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пособы организации проблемного обучения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95640" y="3311280"/>
            <a:ext cx="395892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3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шина Л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81200" y="1158840"/>
            <a:ext cx="6948360" cy="4125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85880" y="50004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сто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32480" y="1328760"/>
            <a:ext cx="3006720" cy="3030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32480" y="3389400"/>
            <a:ext cx="3006720" cy="3030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4120" y="2168640"/>
            <a:ext cx="22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предметном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4232160"/>
            <a:ext cx="20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возрастно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549360"/>
            <a:ext cx="8785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облемность как принцип обучен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700280"/>
            <a:ext cx="8001000" cy="1512720"/>
          </a:xfrm>
          <a:prstGeom prst="rect">
            <a:avLst/>
          </a:prstGeom>
          <a:solidFill>
            <a:srgbClr val="eaead6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Droid Sans Fallback"/>
              </a:rPr>
              <a:t>Проблемная ситу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roid Sans Fallback"/>
              </a:rPr>
              <a:t> характеризует определенное психологическое состояние учащегося, возникающее в процессе выполнения задания, для которого нет готовых средств и которое требует усвоения новых знаний о предмете, способах или условиях его выполнения. Условием возникновения проблемной ситуации является необходимость в раскрытии нового отношения, свойства или способа действия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357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ы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005360"/>
            <a:ext cx="3025800" cy="2014200"/>
          </a:xfrm>
          <a:prstGeom prst="rect">
            <a:avLst/>
          </a:prstGeom>
          <a:solidFill>
            <a:srgbClr val="ffebb3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выполнения такого действия, при котором возникает познавательная потребность в новом неизвестном отношении, способе или условии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4005360"/>
            <a:ext cx="2106720" cy="1739880"/>
          </a:xfrm>
          <a:prstGeom prst="rect">
            <a:avLst/>
          </a:prstGeom>
          <a:solidFill>
            <a:srgbClr val="ffebb3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звестное, которое должно быть раскрыто в возникшей проблемной ситу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005360"/>
            <a:ext cx="2500200" cy="1739880"/>
          </a:xfrm>
          <a:prstGeom prst="rect">
            <a:avLst/>
          </a:prstGeom>
          <a:solidFill>
            <a:srgbClr val="ffebb3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и учащихся в выполнении поставленного задания, в анализе условий и открытии неизвес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14240" y="500040"/>
            <a:ext cx="796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авила создания </a:t>
            </a: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облемных ситуаций 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84280"/>
            <a:ext cx="8001000" cy="94284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еподаватель дает обучаемым практическое или теоретическое задание, выполняя которое, они должны получить новые знания или способы действий, которые надлежит усвоить по да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565360"/>
            <a:ext cx="8001000" cy="94284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3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агаемое учащимся проблемное задание должно соответствовать их интеллектуальным возможностям, т.е. быть достаточно трудным, но разрешим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645000"/>
            <a:ext cx="8001000" cy="58428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3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редъявлении проблемного задания преподаватель должен учитывать реальный уровень знаний обучае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365720"/>
            <a:ext cx="8001000" cy="84924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171720">
              <a:lnSpc>
                <a:spcPct val="100000"/>
              </a:lnSpc>
              <a:tabLst>
                <a:tab algn="l" pos="0"/>
                <a:tab algn="l" pos="3589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проблемных заданий могут выступать учебные задачи, вопросы,  практические задания, которые должны ставить обучаемых в проблем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171720">
              <a:lnSpc>
                <a:spcPct val="100000"/>
              </a:lnSpc>
              <a:tabLst>
                <a:tab algn="l" pos="0"/>
                <a:tab algn="l" pos="3589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5373720"/>
            <a:ext cx="8001000" cy="1285920"/>
          </a:xfrm>
          <a:prstGeom prst="rect">
            <a:avLst/>
          </a:prstGeom>
          <a:solidFill>
            <a:srgbClr val="eaead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39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обучаемые не смогли разобраться с проблемной ситуацией, то преподаватель должен сформулировать возникшую проблемную ситуацию и тем самым как бы зафиксировать ее, указать причины невыполнения задания и приступить к объяснению материала, необходимого для 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менение мотивирующих пример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66640" y="1523880"/>
            <a:ext cx="81630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ействия ученика при создании учителем проблемной  ситуации 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8520" y="1908000"/>
            <a:ext cx="882036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32040" y="765000"/>
            <a:ext cx="76006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остоинства и недостатки проблемного обучен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920" y="1782720"/>
            <a:ext cx="4079880" cy="4913280"/>
          </a:xfrm>
          <a:prstGeom prst="rect">
            <a:avLst/>
          </a:prstGeom>
          <a:solidFill>
            <a:srgbClr val="b7dee8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5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еньшей мере чем другие типы обучения применимо при формировании практических умений и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ует больших затрат времени для усвоения одного и того же объема знаний по сравнению с другими типам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еспечивает эффективного развития мыслительных способностей обучающихся потому, что базируется на закономерностях репродуктивного мышления, а не твор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25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760" y="1785960"/>
            <a:ext cx="3929040" cy="4910040"/>
          </a:xfrm>
          <a:prstGeom prst="rect">
            <a:avLst/>
          </a:prstGeom>
          <a:solidFill>
            <a:srgbClr val="b7dee8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5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5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особый тип мышления, глубину убеждений, прочность усвоения знаний и творческое их применение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 мотивации достижения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53352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мыслительные способности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14200"/>
            <a:ext cx="7467480" cy="5716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Функции проблемного об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4200" y="1214280"/>
            <a:ext cx="3929040" cy="500400"/>
          </a:xfrm>
          <a:prstGeom prst="rect">
            <a:avLst/>
          </a:prstGeom>
          <a:solidFill>
            <a:srgbClr val="eb6e5a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Об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1214280"/>
            <a:ext cx="3786120" cy="500400"/>
          </a:xfrm>
          <a:prstGeom prst="rect">
            <a:avLst/>
          </a:prstGeom>
          <a:solidFill>
            <a:srgbClr val="eb6e5a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Специ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4200" y="2286000"/>
            <a:ext cx="1714680" cy="228600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своение учащимися системы знаний и способов умственной и практ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/>
          <p:nvPr/>
        </p:nvCxnSpPr>
        <p:spPr>
          <a:xfrm flipH="1">
            <a:off x="1212120" y="1714320"/>
            <a:ext cx="964440" cy="5720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"/>
          <p:cNvSpPr/>
          <p:nvPr/>
        </p:nvSpPr>
        <p:spPr>
          <a:xfrm>
            <a:off x="2500200" y="2286000"/>
            <a:ext cx="2000520" cy="228600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Развитие познавательной  самостоятельнос-ти и творческих способностей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7840" y="2286000"/>
            <a:ext cx="1714320" cy="19288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оспитание навыков творческого усво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00920" y="2286000"/>
            <a:ext cx="1643040" cy="19288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оспитание навыков творческого примен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2960" y="4929120"/>
            <a:ext cx="3714840" cy="157176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Формирование диалектико-материалистического мышления,как основы мировоззрения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29120" y="4786200"/>
            <a:ext cx="3214800" cy="1714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Формирование и накопление опыта твор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/>
          <p:nvPr/>
        </p:nvCxnSpPr>
        <p:spPr>
          <a:xfrm>
            <a:off x="2143080" y="1714320"/>
            <a:ext cx="1216800" cy="5007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2" name=""/>
          <p:cNvCxnSpPr/>
          <p:nvPr/>
        </p:nvCxnSpPr>
        <p:spPr>
          <a:xfrm flipH="1" flipV="1">
            <a:off x="2177280" y="1713960"/>
            <a:ext cx="35640" cy="3215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3" name=""/>
          <p:cNvCxnSpPr/>
          <p:nvPr/>
        </p:nvCxnSpPr>
        <p:spPr>
          <a:xfrm flipH="1">
            <a:off x="6784200" y="1712880"/>
            <a:ext cx="2520" cy="3000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4" name=""/>
          <p:cNvCxnSpPr/>
          <p:nvPr/>
        </p:nvCxnSpPr>
        <p:spPr>
          <a:xfrm flipH="1">
            <a:off x="5857560" y="1714320"/>
            <a:ext cx="929520" cy="5720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5" name=""/>
          <p:cNvCxnSpPr/>
          <p:nvPr/>
        </p:nvCxnSpPr>
        <p:spPr>
          <a:xfrm>
            <a:off x="6786360" y="1714320"/>
            <a:ext cx="1035720" cy="5720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solidFill>
            <a:srgbClr val="acc1e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Условия реализации проблемной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040" y="1785960"/>
            <a:ext cx="3286080" cy="785880"/>
          </a:xfrm>
          <a:prstGeom prst="rect">
            <a:avLst/>
          </a:prstGeom>
          <a:solidFill>
            <a:srgbClr val="f8cfc8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Отбор самых актуальных,сущност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8800" y="278604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Определение особенностей проблемного обучения в различных видах учеб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4076640"/>
            <a:ext cx="4357800" cy="1000080"/>
          </a:xfrm>
          <a:prstGeom prst="rect">
            <a:avLst/>
          </a:prstGeom>
          <a:solidFill>
            <a:srgbClr val="eb6e5a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остроение оптимальной системы проблемного обучения, создание учебных и методических пособий и руково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71960" y="5357880"/>
            <a:ext cx="3857760" cy="1143000"/>
          </a:xfrm>
          <a:prstGeom prst="rect">
            <a:avLst/>
          </a:prstGeom>
          <a:solidFill>
            <a:srgbClr val="86211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Личностный подход и мастерство учителя,способные вызвать активную познавательную деятельность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/>
          <p:nvPr/>
        </p:nvCxnSpPr>
        <p:spPr>
          <a:xfrm flipH="1">
            <a:off x="3714120" y="1418760"/>
            <a:ext cx="477000" cy="36900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2" name=""/>
          <p:cNvCxnSpPr/>
          <p:nvPr/>
        </p:nvCxnSpPr>
        <p:spPr>
          <a:xfrm flipH="1" flipV="1">
            <a:off x="4190400" y="1417320"/>
            <a:ext cx="477000" cy="13802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3" name=""/>
          <p:cNvCxnSpPr/>
          <p:nvPr/>
        </p:nvCxnSpPr>
        <p:spPr>
          <a:xfrm flipH="1" flipV="1">
            <a:off x="4138200" y="1412640"/>
            <a:ext cx="1572480" cy="271512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4" name=""/>
          <p:cNvCxnSpPr/>
          <p:nvPr/>
        </p:nvCxnSpPr>
        <p:spPr>
          <a:xfrm>
            <a:off x="4190760" y="1417680"/>
            <a:ext cx="3763080" cy="40233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040" y="2786040"/>
            <a:ext cx="2286000" cy="1285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11640" y="357120"/>
            <a:ext cx="3887640" cy="1643040"/>
          </a:xfrm>
          <a:prstGeom prst="rect">
            <a:avLst/>
          </a:prstGeom>
          <a:solidFill>
            <a:srgbClr val="d0a80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робл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з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2637000"/>
            <a:ext cx="3816360" cy="15714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4797360"/>
            <a:ext cx="3816360" cy="157176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/>
          <p:nvPr/>
        </p:nvCxnSpPr>
        <p:spPr>
          <a:xfrm flipV="1">
            <a:off x="2785680" y="1758240"/>
            <a:ext cx="1996200" cy="166932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1" name=""/>
          <p:cNvCxnSpPr/>
          <p:nvPr/>
        </p:nvCxnSpPr>
        <p:spPr>
          <a:xfrm flipV="1">
            <a:off x="2786040" y="3422160"/>
            <a:ext cx="1497600" cy="720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2" name=""/>
          <p:cNvCxnSpPr/>
          <p:nvPr/>
        </p:nvCxnSpPr>
        <p:spPr>
          <a:xfrm>
            <a:off x="2843280" y="3428640"/>
            <a:ext cx="1999440" cy="160092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3" name=""/>
          <p:cNvSpPr/>
          <p:nvPr/>
        </p:nvSpPr>
        <p:spPr>
          <a:xfrm>
            <a:off x="4854600" y="72864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04000" y="1008000"/>
            <a:ext cx="1447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робл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з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4600" y="295272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27640" y="3311640"/>
            <a:ext cx="24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4600" y="4976640"/>
            <a:ext cx="3786120" cy="1071720"/>
          </a:xfrm>
          <a:prstGeom prst="rect">
            <a:avLst/>
          </a:prstGeom>
          <a:solidFill>
            <a:srgbClr val="f19e91"/>
          </a:solidFill>
          <a:ln w="25560">
            <a:solidFill>
              <a:srgbClr val="bb63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40240" y="5322960"/>
            <a:ext cx="221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79280" y="0"/>
          <a:ext cx="8786520" cy="7025760"/>
        </p:xfrm>
        <a:graphic>
          <a:graphicData uri="http://schemas.openxmlformats.org/drawingml/2006/table">
            <a:tbl>
              <a:tblPr/>
              <a:tblGrid>
                <a:gridCol w="4105800"/>
                <a:gridCol w="2232360"/>
                <a:gridCol w="2448360"/>
              </a:tblGrid>
              <a:tr h="52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проблемного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го и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вристическая 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25600">
                        <a:lnSpc>
                          <a:spcPct val="102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сновные этапы исследователь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цесс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ыявление неизвестных фак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лежащих исследованию; уточнение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ка проблемы; выдвижение гипотез; составление плана исслед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уществление исследовательского пла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еизвестных фактов и их связей с другими, проверка выдвинутых гипотез; формулировка результата; оценка значимости полученного нового знания, возможностей его приме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тличие исследовательского метод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ая проблема не является н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ин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2560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тимулы учащихся к провед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отличны от стимулов, побуждающих ученого к исследованию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раскрывает перед учащимися путь исследования, поиска и открытия новых знаний, готовя их тем самым к самостоятельному поиску в дальнейше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е изложение подготавливает базу для применения эвристического метода, а эвристический метод - для применения исследовательского метод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пень проблемности проявляется по-разному: цепочка вопросов, обращенных к опыту, знаниям, размышлениям учеников; «называние» темы , постановка проблемы, которую дети решают под руководством преподавателя, выдвигая гипотезу, формулируя возможные пути ее решения, совместно обсуждая ход и результаты решения, экспериментируя, подтверждая или опровергая выдвинутую гипотез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26920" y="1268280"/>
            <a:ext cx="7674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«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нать что-либо наизусть – все равно, что не знать ничего; это значит владеть тем, что дано лишь на хранение памя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М.Мон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00280" y="4286160"/>
            <a:ext cx="2021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Уровни проблемного об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0040" y="1500120"/>
            <a:ext cx="2571840" cy="1000080"/>
          </a:xfrm>
          <a:prstGeom prst="rect">
            <a:avLst/>
          </a:prstGeom>
          <a:solidFill>
            <a:srgbClr val="ff66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не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040" y="2928960"/>
            <a:ext cx="2571840" cy="9288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 полусамостоя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040" y="4357800"/>
            <a:ext cx="2571840" cy="92844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 самостоя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040" y="5715000"/>
            <a:ext cx="2571840" cy="857160"/>
          </a:xfrm>
          <a:prstGeom prst="rect">
            <a:avLst/>
          </a:prstGeom>
          <a:solidFill>
            <a:srgbClr val="99003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Уровень творческ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14840" y="1428840"/>
            <a:ext cx="4214880" cy="1143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осприятие учениками объяснения учителя, усвоение образца умственного действия в условиях проблем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14840" y="2857680"/>
            <a:ext cx="71280" cy="1071360"/>
          </a:xfrm>
          <a:custGeom>
            <a:avLst/>
            <a:gdLst/>
            <a:ahLst/>
            <a:rect l="l" t="t" r="r" b="b"/>
            <a:pathLst>
              <a:path stroke="0" w="2931" h="4415">
                <a:moveTo>
                  <a:pt x="1" y="1324"/>
                </a:moveTo>
                <a:lnTo>
                  <a:pt x="99" y="1489"/>
                </a:lnTo>
                <a:lnTo>
                  <a:pt x="2931" y="-2926"/>
                </a:lnTo>
                <a:close/>
              </a:path>
              <a:path fill="none" w="2931" h="4415">
                <a:moveTo>
                  <a:pt x="99" y="1489"/>
                </a:moveTo>
                <a:lnTo>
                  <a:pt x="1" y="1324"/>
                </a:lnTo>
              </a:path>
            </a:pathLst>
          </a:custGeom>
          <a:noFill/>
          <a:ln w="12600">
            <a:solidFill>
              <a:srgbClr val="ff6a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14840" y="2735280"/>
            <a:ext cx="4214880" cy="1193760"/>
          </a:xfrm>
          <a:prstGeom prst="rect">
            <a:avLst/>
          </a:prstGeom>
          <a:solidFill>
            <a:srgbClr val="cccc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Применение учениками прежних знаний в новой ситуации и участие в поиске способа решения поставленной учителем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4840" y="4032360"/>
            <a:ext cx="4214880" cy="146844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ыполнение учениками работ репродуктивно- поискового типа, применяя  прежние знания в новой ситуации,помощь учителя-незначитель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14840" y="5715000"/>
            <a:ext cx="4214880" cy="928800"/>
          </a:xfrm>
          <a:prstGeom prst="rect">
            <a:avLst/>
          </a:prstGeom>
          <a:solidFill>
            <a:srgbClr val="8a700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Выполнение учениками самостоятельных работ,требующих творческого во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/>
          <p:nvPr/>
        </p:nvCxnSpPr>
        <p:spPr>
          <a:xfrm>
            <a:off x="3071880" y="1999800"/>
            <a:ext cx="6433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1" name=""/>
          <p:cNvCxnSpPr/>
          <p:nvPr/>
        </p:nvCxnSpPr>
        <p:spPr>
          <a:xfrm>
            <a:off x="3071880" y="3394080"/>
            <a:ext cx="6433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2" name=""/>
          <p:cNvCxnSpPr/>
          <p:nvPr/>
        </p:nvCxnSpPr>
        <p:spPr>
          <a:xfrm>
            <a:off x="3071880" y="4857840"/>
            <a:ext cx="6433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3" name=""/>
          <p:cNvCxnSpPr/>
          <p:nvPr/>
        </p:nvCxnSpPr>
        <p:spPr>
          <a:xfrm>
            <a:off x="3060360" y="6165360"/>
            <a:ext cx="64836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Преимущества технологии проблемного об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Приобретение учащимися необходимой системы знаний, уме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Способствует достижению высокого уровня умствен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Формирует способности к самостоятельному добыванию знаний путем собственной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Развивает интерес к творческому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Обеспечивает прочные результаты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84360" y="2303640"/>
            <a:ext cx="61722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Применение на уроках  различных инновационных технологий, в том числе и проблемного обучения, помогают сделать уроки более яркими, разнообразными. У обучающихся развивается творческое воображение, повышается уровень мотивации к обучению, и , как следствие, повышается интерес к преподаваемому предмету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  <a:ea typeface="Droid Sans Fallb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929280" y="357120"/>
            <a:ext cx="171468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31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168200"/>
            <a:ext cx="8223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Радулова Е. Н. Создание проблемной ситуации // Открытая школа. -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диатулин В. С. Принцип проблемности в обучении // Школьные технологии. -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змайлова М. Р. Проблемный диалог на уроках обучения грамоте // Начальная школа плюс до и после. -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саева С. В. Использование элементов методики проблемного обучения на уроках развития речи в начальных классах // Школьный логопед. -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roid Sans Fallback"/>
              </a:rPr>
              <a:t>Ковалева Г. Я. Использование технологии проблемного обучения на уроках в начальных классах // Учительский журнал. -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7598d9"/>
          </a:solidFill>
          <a:ln w="9360">
            <a:solidFill>
              <a:srgbClr val="000000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Великие педагоги, внедрявшие идеи активизации познавательной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Ян Амос Каменский (1592 – 1670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Жан – Жак Руссо (1712 – 177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Константин Дмитриевич Ушинский (1824-1870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Александр Яковлевич Герд (1841-1888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Джон Дьюи (1859-1952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Б.Е.Рай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Т.В.Кудряв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А.М.Матю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М.И.Махм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В.О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Д.В.Вильк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А.А.Верби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Droid Sans Fallback"/>
              </a:rPr>
              <a:t>Л.Б.Рылова и многие другие современные 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7168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облемное обучен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2960" y="12859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стоянно ставит обучаемого в ситуацию задачи, решение которой непременно требует работы мышл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7840" y="3214800"/>
            <a:ext cx="28335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168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632523"/>
                </a:solidFill>
                <a:uFillTx/>
                <a:latin typeface="Arial"/>
                <a:ea typeface="Droid Sans Fallback"/>
              </a:rPr>
              <a:t>Пробл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адание, задача, теоретический или практический вопрос, требующий разре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731901"/>
                </a:solidFill>
                <a:uFillTx/>
                <a:latin typeface="Arial"/>
                <a:ea typeface="Droid Sans Fallback"/>
              </a:rPr>
              <a:t>проблемная ситуация в обучении</a:t>
            </a:r>
            <a:r>
              <a:rPr b="1" lang="ru-RU" sz="3200" spc="-1" strike="noStrike">
                <a:solidFill>
                  <a:srgbClr val="731901"/>
                </a:solidFill>
                <a:latin typeface="Arial"/>
                <a:ea typeface="Droid Sans Fallb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планированное, специа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адуманное сред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направленное на пробу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нтереса у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к обсуждаем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99280" y="3532320"/>
            <a:ext cx="192888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26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чины эффективност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143000"/>
            <a:ext cx="849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большая интеллектуальная активность учащегося, вызываемая познавательной потребностью – желанием найти искомое неизвестное, без которого он не сможет решить поставленную задач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нания усваиваются как некие общие закономерности или способы действий, позволяющие использовать их и впредь при решении широкого класса друг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1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168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Цели проблемного обучен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2960" y="1357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формировать у учащихся необходимую систему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остигнуть высокого уровня развития школьников, развития способности к самообучению, самообраз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формировать особый стиль умственной деятельности, исследовательскую активность и самостоятельность уча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Droid Sans Fallb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9280" y="333360"/>
            <a:ext cx="836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ущность проблемного обучения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4130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Droid Sans Fallback"/>
              </a:rPr>
              <a:t>   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Droid Sans Fallback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водится к тому, что в процессе обучения в корне изменяется характер и структура познавательной деятельности учащегося, приводящее к развитию творческого потенциала личности учащегося. Главным и характерным признаком проблемного обучения является проблемная ситу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71680" y="357120"/>
            <a:ext cx="815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нципы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Droid Sans Fallback"/>
              </a:rPr>
              <a:t>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вязь предмета изучения с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нцип дифференциации при решении творческ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тбор художественного материала по различным видам искусства, обусловленный возрастными особенностями и возможностям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личностная значимость изучаемого и сделанн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активное включение обучающихся в изучение различных сторон традиционн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учет и рассмотрение региональных особенностей, привычного детям природного окружения, национальных и народных художественных традиций, изучение истории родного кр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принцип единства восприятия и сози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развитие художественно-образн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Творческое освоение ИКТ  при решении художествен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11040"/>
                <a:tab algn="l" pos="75888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9:44:30Z</dcterms:created>
  <dc:creator>Татьяна</dc:creator>
  <dc:description/>
  <dc:language>en-US</dc:language>
  <cp:lastModifiedBy/>
  <dcterms:modified xsi:type="dcterms:W3CDTF">2017-12-04T14:12:28Z</dcterms:modified>
  <cp:revision>31</cp:revision>
  <dc:subject/>
  <dc:title>Проблемное 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