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4544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54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0"/>
          </p:nvPr>
        </p:nvSpPr>
        <p:spPr>
          <a:xfrm>
            <a:off x="3881520" y="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0" y="868680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80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09171-CEC4-4FBF-89E5-64F76E7F9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08B3-9C4D-4EC9-98D7-2EAC9CE6D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9884-4636-4542-B593-06D3CDF1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3182-2D51-4B58-B34E-33A23B4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0DB7-9E31-498C-8E90-C844ECC65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154-A239-4F50-AE08-556EACCC42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23D-A13B-4CCC-A460-33340CEF19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809-906C-4414-89B2-7908BA8840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2C7-9A5C-4CDB-9FE1-12045633F7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D5E-7EB9-4CA2-A800-95F4BCB505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D04-664B-49BB-8E80-7D8242BC1F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1EE-CB29-4F78-A1AC-3F5EAB089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BCCC-BAE3-4A1E-80F8-E023FCFD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5C4-26F3-4412-B88E-1880F2E25F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DB1-EB0D-4E00-8073-08604081D9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5A9-081D-4D0E-B833-47CE1BB84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E05-3C5B-4BFB-B72A-B7A992CE53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059-EE6F-4A75-B728-953019FD4C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BE2-D811-4C24-AFFC-844F90A8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693C-ED22-4F93-9353-1C34343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C107-EBAE-49E1-963B-6DF25768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48C-4493-4F7F-A839-76E9CA9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96F0-918C-4953-9A2D-FBB120EC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3909-3867-4E9A-8EAE-41237B8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E274-CAB1-44C7-BBDB-DCE3F95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CD9-291C-4DAC-8114-1CF9A2D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B60-36F7-432A-B1B2-F220331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8DEA-2525-48D1-ACE0-A946A7C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591-B03A-40E7-973C-F48175A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84F8-9E63-49AB-965A-EFA911C8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7F5-D294-4886-A475-8CEF9C29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49A9-D96E-4821-9193-CF56C0C6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A6CE-F1D1-4CB0-8B68-52F2DD45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F7E7-7C1D-4285-BF2A-A0EF30E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E445-6121-4907-ABB7-1F4C2FD3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B3D1-49EE-4FA6-9BA0-5E6264A2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C249-B31B-472F-BDA7-619E5941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9965-7A7E-455E-83E7-E891B96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E958-D81C-43FD-BD2C-FB4D4B1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FFA3-843C-4626-B40F-5B6ABB8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F35A-ED4E-4821-BC12-996603D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A828-46E2-4337-92E6-AF5DADD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AD27-AB9D-486D-93D5-C204526F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816A-78CD-4CB1-B403-9A2DA0CC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1548-5C47-40E9-9078-CDEDC8BA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1D62-09C5-4310-9B0B-877E5C05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3676-A265-4B21-A7B7-AA40086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2199-D236-4944-A53B-3E7898A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63B6-948B-4C7B-ADFF-402198E1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992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600200"/>
            <a:ext cx="7992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36990-9807-468F-BB29-154FFEEB0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992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680" y="1600200"/>
            <a:ext cx="7992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3748B-F6F5-4CB8-B89D-6CA010CFD1A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0A809-17D7-47D3-8D8D-53AA4C7756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31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5384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94E78-FAC7-44D5-9DDC-C4CF128B0C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68360" y="2436840"/>
            <a:ext cx="3368880" cy="3971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249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327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пособы организации проблемного обучения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95640" y="3311280"/>
            <a:ext cx="395892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ина Л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1200" y="1158840"/>
            <a:ext cx="6948360" cy="4125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85880" y="5000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32480" y="1328760"/>
            <a:ext cx="3006720" cy="3030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32480" y="3389400"/>
            <a:ext cx="3006720" cy="3030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549360"/>
            <a:ext cx="8785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ость как принцип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700280"/>
            <a:ext cx="8001000" cy="1512720"/>
          </a:xfrm>
          <a:prstGeom prst="rect">
            <a:avLst/>
          </a:prstGeom>
          <a:solidFill>
            <a:srgbClr val="eaead6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Droid Sans Fallback"/>
              </a:rPr>
              <a:t>Проблемная ситу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roid Sans Fallback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005360"/>
            <a:ext cx="3025800" cy="201420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005360"/>
            <a:ext cx="2500200" cy="173988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424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авила создания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ых ситуаций 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84280"/>
            <a:ext cx="8001000" cy="9428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1720">
              <a:lnSpc>
                <a:spcPct val="100000"/>
              </a:lnSpc>
              <a:tabLst>
                <a:tab algn="l" pos="0"/>
                <a:tab algn="l" pos="3589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1720">
              <a:lnSpc>
                <a:spcPct val="100000"/>
              </a:lnSpc>
              <a:tabLst>
                <a:tab algn="l" pos="0"/>
                <a:tab algn="l" pos="3589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менение мотивирующих пример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1630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йствия ученика при создании учителем проблемной  ситуации 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8520" y="1908000"/>
            <a:ext cx="882036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32040" y="765000"/>
            <a:ext cx="7600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остоинства и недостатки проблемного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920" y="1782720"/>
            <a:ext cx="4079880" cy="4913280"/>
          </a:xfrm>
          <a:prstGeom prst="rect">
            <a:avLst/>
          </a:prstGeom>
          <a:solidFill>
            <a:srgbClr val="b7dee8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25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760" y="1785960"/>
            <a:ext cx="3929040" cy="4910040"/>
          </a:xfrm>
          <a:prstGeom prst="rect">
            <a:avLst/>
          </a:prstGeom>
          <a:solidFill>
            <a:srgbClr val="b7dee8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14200"/>
            <a:ext cx="7467480" cy="571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Функци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1214280"/>
            <a:ext cx="3929040" cy="50040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б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1214280"/>
            <a:ext cx="3786120" cy="50040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Спе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4200" y="2286000"/>
            <a:ext cx="1714680" cy="228600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своение учащимися системы знаний и способов умственной и прак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 flipH="1">
            <a:off x="1212120" y="1714320"/>
            <a:ext cx="96444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"/>
          <p:cNvSpPr/>
          <p:nvPr/>
        </p:nvSpPr>
        <p:spPr>
          <a:xfrm>
            <a:off x="2500200" y="2286000"/>
            <a:ext cx="2000520" cy="228600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Развитие познавательной  самостоятельнос-ти и творческих способносте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7840" y="2286000"/>
            <a:ext cx="1714320" cy="1928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итание навыков творческого усво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00920" y="2286000"/>
            <a:ext cx="1643040" cy="1928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итание навыков творческого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2960" y="4929120"/>
            <a:ext cx="3714840" cy="157176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Формирование диалектико-материалистического мышления,как основы мировоззрения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29120" y="4786200"/>
            <a:ext cx="3214800" cy="1714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Формирование и накопление опыта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/>
          <p:nvPr/>
        </p:nvCxnSpPr>
        <p:spPr>
          <a:xfrm>
            <a:off x="2143080" y="1714320"/>
            <a:ext cx="1216800" cy="5007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2" name=""/>
          <p:cNvCxnSpPr/>
          <p:nvPr/>
        </p:nvCxnSpPr>
        <p:spPr>
          <a:xfrm flipH="1" flipV="1">
            <a:off x="2177280" y="1713960"/>
            <a:ext cx="35640" cy="3215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3" name=""/>
          <p:cNvCxnSpPr/>
          <p:nvPr/>
        </p:nvCxnSpPr>
        <p:spPr>
          <a:xfrm flipH="1">
            <a:off x="6784200" y="1712880"/>
            <a:ext cx="2520" cy="3000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4" name=""/>
          <p:cNvCxnSpPr/>
          <p:nvPr/>
        </p:nvCxnSpPr>
        <p:spPr>
          <a:xfrm flipH="1">
            <a:off x="5857560" y="1714320"/>
            <a:ext cx="92952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5" name=""/>
          <p:cNvCxnSpPr/>
          <p:nvPr/>
        </p:nvCxnSpPr>
        <p:spPr>
          <a:xfrm>
            <a:off x="6786360" y="1714320"/>
            <a:ext cx="103572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solidFill>
            <a:srgbClr val="acc1e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Условия реализации проблемной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040" y="1785960"/>
            <a:ext cx="3286080" cy="785880"/>
          </a:xfrm>
          <a:prstGeom prst="rect">
            <a:avLst/>
          </a:prstGeom>
          <a:solidFill>
            <a:srgbClr val="f8cfc8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тбор самых актуальных,сущност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27860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пределение особенностей проблемного обучения в различных видах учеб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4076640"/>
            <a:ext cx="4357800" cy="100008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остроение оптимальной системы проблемного обучения, создание учебных и методических пособий и руко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71960" y="5357880"/>
            <a:ext cx="3857760" cy="1143000"/>
          </a:xfrm>
          <a:prstGeom prst="rect">
            <a:avLst/>
          </a:prstGeom>
          <a:solidFill>
            <a:srgbClr val="86211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Личностный подход и мастерство учителя,способные вызвать активную познавательную деятельность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 flipH="1">
            <a:off x="3714120" y="1418760"/>
            <a:ext cx="477000" cy="36900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2" name=""/>
          <p:cNvCxnSpPr/>
          <p:nvPr/>
        </p:nvCxnSpPr>
        <p:spPr>
          <a:xfrm flipH="1" flipV="1">
            <a:off x="4190400" y="1417320"/>
            <a:ext cx="477000" cy="13802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3" name=""/>
          <p:cNvCxnSpPr/>
          <p:nvPr/>
        </p:nvCxnSpPr>
        <p:spPr>
          <a:xfrm flipH="1" flipV="1">
            <a:off x="4138200" y="1412640"/>
            <a:ext cx="1572480" cy="27151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4" name=""/>
          <p:cNvCxnSpPr/>
          <p:nvPr/>
        </p:nvCxnSpPr>
        <p:spPr>
          <a:xfrm>
            <a:off x="4190760" y="1417680"/>
            <a:ext cx="3763080" cy="40233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040" y="2786040"/>
            <a:ext cx="228600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11640" y="357120"/>
            <a:ext cx="3887640" cy="1643040"/>
          </a:xfrm>
          <a:prstGeom prst="rect">
            <a:avLst/>
          </a:prstGeom>
          <a:solidFill>
            <a:srgbClr val="d0a80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обл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2637000"/>
            <a:ext cx="3816360" cy="15714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4797360"/>
            <a:ext cx="3816360" cy="157176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/>
          <p:nvPr/>
        </p:nvCxnSpPr>
        <p:spPr>
          <a:xfrm flipV="1">
            <a:off x="2785680" y="1758240"/>
            <a:ext cx="1996200" cy="16693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1" name=""/>
          <p:cNvCxnSpPr/>
          <p:nvPr/>
        </p:nvCxnSpPr>
        <p:spPr>
          <a:xfrm flipV="1">
            <a:off x="2786040" y="3422160"/>
            <a:ext cx="1497600" cy="720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2" name=""/>
          <p:cNvCxnSpPr/>
          <p:nvPr/>
        </p:nvCxnSpPr>
        <p:spPr>
          <a:xfrm>
            <a:off x="2843280" y="3428640"/>
            <a:ext cx="1999440" cy="16009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3" name=""/>
          <p:cNvSpPr/>
          <p:nvPr/>
        </p:nvSpPr>
        <p:spPr>
          <a:xfrm>
            <a:off x="4854600" y="7286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04000" y="1008000"/>
            <a:ext cx="1447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обл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4600" y="295272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27640" y="3311640"/>
            <a:ext cx="24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4600" y="49766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40240" y="5322960"/>
            <a:ext cx="221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0"/>
          <a:ext cx="8786520" cy="7025760"/>
        </p:xfrm>
        <a:graphic>
          <a:graphicData uri="http://schemas.openxmlformats.org/drawingml/2006/table">
            <a:tbl>
              <a:tblPr/>
              <a:tblGrid>
                <a:gridCol w="4105800"/>
                <a:gridCol w="2232360"/>
                <a:gridCol w="2448360"/>
              </a:tblGrid>
              <a:tr h="52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25600"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1268280"/>
            <a:ext cx="7674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М.Мон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00280" y="428616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Уровн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0040" y="1500120"/>
            <a:ext cx="2571840" cy="1000080"/>
          </a:xfrm>
          <a:prstGeom prst="rect">
            <a:avLst/>
          </a:prstGeom>
          <a:solidFill>
            <a:srgbClr val="ff66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не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040" y="2928960"/>
            <a:ext cx="2571840" cy="9288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полусамостоя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040" y="4357800"/>
            <a:ext cx="2571840" cy="92844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самостоя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040" y="5715000"/>
            <a:ext cx="2571840" cy="857160"/>
          </a:xfrm>
          <a:prstGeom prst="rect">
            <a:avLst/>
          </a:prstGeom>
          <a:solidFill>
            <a:srgbClr val="99003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творческ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4840" y="1428840"/>
            <a:ext cx="4214880" cy="1143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риятие учениками объяснения учителя, усвоение образца умственного действия в условиях проблем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14840" y="2857680"/>
            <a:ext cx="71280" cy="1071360"/>
          </a:xfrm>
          <a:custGeom>
            <a:avLst/>
            <a:gdLst/>
            <a:ahLst/>
            <a:rect l="l" t="t" r="r" b="b"/>
            <a:pathLst>
              <a:path stroke="0" w="2931" h="4415">
                <a:moveTo>
                  <a:pt x="1" y="1324"/>
                </a:moveTo>
                <a:lnTo>
                  <a:pt x="99" y="1489"/>
                </a:lnTo>
                <a:lnTo>
                  <a:pt x="2931" y="-2926"/>
                </a:lnTo>
                <a:close/>
              </a:path>
              <a:path fill="none" w="2931" h="4415">
                <a:moveTo>
                  <a:pt x="99" y="1489"/>
                </a:moveTo>
                <a:lnTo>
                  <a:pt x="1" y="1324"/>
                </a:lnTo>
              </a:path>
            </a:pathLst>
          </a:custGeom>
          <a:noFill/>
          <a:ln w="12600">
            <a:solidFill>
              <a:srgbClr val="ff6a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14840" y="2735280"/>
            <a:ext cx="4214880" cy="1193760"/>
          </a:xfrm>
          <a:prstGeom prst="rect">
            <a:avLst/>
          </a:prstGeom>
          <a:solidFill>
            <a:srgbClr val="cccc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именение учениками прежних знаний в новой ситуации и участие в поиске способа решения поставленной учителем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4840" y="4032360"/>
            <a:ext cx="4214880" cy="146844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ыполнение учениками работ репродуктивно- поискового типа, применяя  прежние знания в новой ситуации,помощь учителя-незначитель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4840" y="5715000"/>
            <a:ext cx="4214880" cy="928800"/>
          </a:xfrm>
          <a:prstGeom prst="rect">
            <a:avLst/>
          </a:prstGeom>
          <a:solidFill>
            <a:srgbClr val="8a700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ыполнение учениками самостоятельных работ,требующих творческого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>
            <a:off x="3071880" y="1999800"/>
            <a:ext cx="6433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1" name=""/>
          <p:cNvCxnSpPr/>
          <p:nvPr/>
        </p:nvCxnSpPr>
        <p:spPr>
          <a:xfrm>
            <a:off x="3071880" y="3394080"/>
            <a:ext cx="6433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2" name=""/>
          <p:cNvCxnSpPr/>
          <p:nvPr/>
        </p:nvCxnSpPr>
        <p:spPr>
          <a:xfrm>
            <a:off x="3071880" y="4857840"/>
            <a:ext cx="6433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3" name=""/>
          <p:cNvCxnSpPr/>
          <p:nvPr/>
        </p:nvCxnSpPr>
        <p:spPr>
          <a:xfrm>
            <a:off x="3060360" y="6165360"/>
            <a:ext cx="64836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Преимущества технологи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Приобретение учащимися необходимой системы знаний,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Способствует достижению высокого уровня умствен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Формирует способности к самостоятельному добыванию знаний путем собственной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Развивает интерес к творческому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Обеспечивает прочные результаты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84360" y="2303640"/>
            <a:ext cx="61722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Применение на уроках  различных инновационных технологий, в том числе и проблемного обучения, помогают сделать уроки более яркими, разнообразными. У обучающихся развивается творческое воображение, повышается уровень мотивации к обучению, и , как следствие, повышается интерес к преподаваемому предмету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  <a:ea typeface="Droid Sans Fallb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171468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31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168200"/>
            <a:ext cx="8223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Радулова Е. Н. Создание проблемной ситуации // Открытая школа. -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диатулин В. С. Принцип проблемности в обучении // Школьные технологии. -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змайлова М. Р. Проблемный диалог на уроках обучения грамоте // Начальная школа плюс до и после. -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саева С. В. Использование элементов методики проблемного обучения на уроках развития речи в начальных классах // Школьный логопед. -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овалева Г. Я. Использование технологии проблемного обучения на уроках в начальных классах // Учительский журнал. -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7598d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Великие педагоги, внедрявшие идеи активизации познавательной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Ян Амос Каменский (1592 – 167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Жан – Жак Руссо (1712 – 177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Константин Дмитриевич Ушинский (1824-187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лександр Яковлевич Герд (1841-1888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Джон Дьюи (1859-195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Б.Е.Рай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Т.В.Кудря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.М.Матю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М.И.Махм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В.О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Д.В.Вильк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.А.Верби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Л.Б.Рылова и многие другие современные 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7168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ое обучен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7840" y="3214800"/>
            <a:ext cx="2833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168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632523"/>
                </a:solidFill>
                <a:uFillTx/>
                <a:latin typeface="Arial"/>
                <a:ea typeface="Droid Sans Fallback"/>
              </a:rPr>
              <a:t>Пробл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дание, задача, теоретический или практический вопрос, требующий раз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731901"/>
                </a:solidFill>
                <a:uFillTx/>
                <a:latin typeface="Arial"/>
                <a:ea typeface="Droid Sans Fallback"/>
              </a:rPr>
              <a:t>проблемная ситуация в обучении</a:t>
            </a:r>
            <a:r>
              <a:rPr b="1" lang="ru-RU" sz="3200" spc="-1" strike="noStrike">
                <a:solidFill>
                  <a:srgbClr val="731901"/>
                </a:solidFill>
                <a:latin typeface="Arial"/>
                <a:ea typeface="Droid Sans Fallb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ланированное, специа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думанное сред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направленное на проб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нтереса у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 обсужд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99280" y="3532320"/>
            <a:ext cx="192888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чины эффективност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1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168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Цели проблемного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2960" y="1357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формировать у учащихся необходимую систему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Droid Sans Fallb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9280" y="333360"/>
            <a:ext cx="836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ущность проблемного обучения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Droid Sans Fallback"/>
              </a:rPr>
              <a:t>  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Droid Sans Fallback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1680" y="357120"/>
            <a:ext cx="815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ы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вязь предмета изучения с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 дифференциации при решении твор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личностная значимость изучаемого и сделанн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активное включение обучающихся в изучение различных сторон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 единства восприятия и сози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развитие художественно-образн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Творческое освоение ИКТ  при решении художествен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dc:language>en-US</dc:language>
  <cp:lastModifiedBy/>
  <dcterms:modified xsi:type="dcterms:W3CDTF">2017-12-04T14:12:28Z</dcterms:modified>
  <cp:revision>31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