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28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14.jpeg" ContentType="image/jpeg"/>
  <Override PartName="/ppt/media/image33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23.png" ContentType="image/png"/>
  <Override PartName="/ppt/media/image13.jpeg" ContentType="image/jpeg"/>
  <Override PartName="/ppt/media/image31.png" ContentType="image/png"/>
  <Override PartName="/ppt/media/image34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comments/comment23.xml" ContentType="application/vnd.openxmlformats-officedocument.presentationml.comments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Учетная запись Майкрософт" initials="УзМ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presProps" Target="presProps.xml"/><Relationship Id="rId47" Type="http://schemas.openxmlformats.org/officeDocument/2006/relationships/commentAuthors" Target="commentAuthors.xml"/>
</Relationships>
</file>

<file path=ppt/comments/comment23.xml><?xml version="1.0" encoding="utf-8"?>
<p:cmLst xmlns:p="http://schemas.openxmlformats.org/presentationml/2006/main">
  <p:cm authorId="0" dt="2014-11-16T22:28:33.070000000" idx="1">
    <p:pos x="10" y="10"/>
    <p:text/>
  </p:cm>
</p:cmLst>
</file>

<file path=ppt/comments/comment24.xml><?xml version="1.0" encoding="utf-8"?>
<p:cmLst xmlns:p="http://schemas.openxmlformats.org/presentationml/2006/main">
  <p:cm authorId="0" dt="2014-11-16T22:28:33.070000000" idx="2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417D-E8D9-490B-B582-9BC2C2DA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C06A-F98C-4767-ABDE-48659928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B3BC3-CB7E-4A3E-BDD3-7C888B60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FA8C5-5461-4A59-A25B-053CA379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AA712-A0A1-4642-907A-AB6338CB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98433-7130-4058-BAAE-E6C8A6A8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3CF7A-7BDF-4A95-9DBE-D9FA8F48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EDFB9-2B14-4C49-9624-9124910A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30AAA-1D11-4CBD-AA70-69C9C4A1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E3251-37D8-472C-9C92-242FCE21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63F71-C03B-452A-91CC-DCA084F4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5F5B4-2260-4CAC-9946-38252EDC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7493-F6E6-459A-A1E7-13040453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5BF48-7824-457B-949F-5AACF4C5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52420-577E-4E61-B924-286AA04A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6876B-5AB6-4449-9F8D-D2C36BD3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B4CD8-453A-4266-92B3-A440BF97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046A5-7353-4CCB-B398-2648E1BD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A2493-77AB-4C6E-A850-F7745FD0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37FDF-54A6-4175-B1CA-9C37C8C1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A299E-A66F-4F85-B245-42096BCA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16C51-4A83-4634-84DC-6A396C6B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29D0D-5A4F-4611-81E1-9EA43069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2104-F0B7-4708-A9B3-F2933FE0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31C8E-ABEF-4759-BEF3-7D10AD56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2AF90-970E-412E-A2B9-514E32EB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39EC7-ABFF-49E9-9451-6A603DE2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1489A-F0AC-42A6-81BA-8E1533CB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D979A-49FF-4121-8513-E9853304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79C61-6568-4CBE-828A-1C9051C2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59641-EE06-40B8-BBA1-A7F666FE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B21D6-5AC3-4DA0-B306-C73DEF8D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1B127-A4EE-4DFA-9699-A8394417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371D4-BA45-4FD6-B1B9-458D416E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B347-E414-45A5-AE65-6DDD18F8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3134B-F5C6-4E2D-9163-8EC67216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6072B-883C-4CA6-B245-744C9650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0A74A-9C43-446F-8EE5-CD15C27B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32800-28E4-4536-824E-9C1F74AE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DEB16-77B7-4651-9D5F-48FD9003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ADFA9-7B1D-4D9F-9E97-70428DC2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6A223-B486-40FD-AF14-0C98ED44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DC85A-5B14-44CB-A454-B9E4E428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23CD1-D3C0-4D5D-80B5-C5535311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A094B-B558-4AEE-84BB-484B28AD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1805-4639-4EE5-BC78-CDFB264A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3D1C1-CBB9-4F54-98C4-E6E33D39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DC244-4097-4592-ADFA-A8CF8FC9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9A0F1-96B2-44FC-83F5-87DA31C0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5A0C0-3447-423F-9CD2-E45879E1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AAD59-F794-4789-AC4F-5A5CBEA0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CB4E-2D85-427D-BB59-15B40CFC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41E5-6008-44B0-A079-C384BF1B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8662-795B-409B-818D-F6AFCE42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33BF-8AB8-45A2-8824-C44D17C1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233A-FE91-40CB-BBC8-FFAC464E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E101-5482-4A6E-BDB4-5BE19634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E988-50E4-41EB-B5EF-AFC4B3D3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7D58-0B6B-4471-8D75-6E51CB07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1858-EB56-453D-A0A2-45655DE3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F790-6964-4E9D-91DF-889F8823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D970-0F7E-4789-8B54-AA3AE394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4CDD4-B388-4BDB-9939-9B61C6E2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7B6D8-C402-4639-9CFA-EF6B36B7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AD02E-2433-49C0-BCE0-E3C05B01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2BA50-EAB9-4D90-B895-11DC9EF7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8E091-E75E-4A12-BC3C-9245E42A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1220-3FB9-4E69-8015-BA51B1DB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30C7D-983F-43AA-8686-7D0C11D7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91153-1435-419A-BE98-FF0F0C12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67BDF-77F8-46B1-AE0E-62A059D8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B584A-5473-45ED-B8B7-218B2ED2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1A8FC-1AA9-4330-A3C7-BA427B79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E085D-8ED6-4685-BFC3-130AA692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C2771-963F-4CAA-9D8C-1C395D56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A1FB4-F69B-40EE-8CDD-7735B596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A06D0-6E1A-4541-AC98-35A50506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5C258-E1CF-4821-9A45-F09103EE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AFB9-BF27-4A90-BB8A-9D3D67E7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22432-8CB7-4355-A744-E7FAAE19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FDC76-808A-42BE-9F0D-71768199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BFA67-C795-4E43-B41B-50D34307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9B672-8F69-4A93-9CA8-41D30D88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A5381-94FB-4DD8-AB7F-DCCE3D55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FAFF7-B755-44E4-9814-C68221AC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F9E52-EBA5-4263-87E9-B6A00FD7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23B75-BA6C-4456-8F08-F2196E17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C8D59-7784-4AF8-BD11-0CEB51FE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42743-EC76-4A99-A6C3-7209A623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6C16-8AB9-426C-BECF-7ECCAB33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3869D-58ED-424F-B3D9-4FD973EC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3BBBE-CAC0-4620-9F36-3679F5D9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5313B-2878-45DE-B768-BF712194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708FA-92E9-41E0-9167-EFDAA432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DBDC8-DF97-4D7C-A8B2-7FA2A083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681D3-AA27-4737-BF42-E0C219BF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920F3-BD59-4F37-87BB-F11BE06D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D5088-AB61-46DA-B828-B07C9035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236F5-D356-45A0-9853-25F7B790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B5083-6EC9-4B3B-8A9C-67872A15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EF54-D3C5-4F15-A407-93836BC5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8C69C-ABD6-42FD-B262-8B0D1E84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616FB-F2A7-4ECB-A7B3-357A026F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29102-B295-4731-94F5-F4F3826A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BA07D-22A7-4F59-BE6C-8410B7BC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1A616-854A-47E4-9881-C66DAB1F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F144A-E55E-4B90-B335-6957C012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D2C92-F42D-4184-BC9C-4E0DFEE0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B0AEB-A64E-456F-BA7F-C4C64AD9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882A1-20DA-4BD5-BB5B-A1DBE985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AD194-CDDA-4F91-8E09-2E20F272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744-30FD-46FC-BAAA-923D75EA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46FC1-E453-4814-BFE2-8F337895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0E66B-3DBD-475E-9C8A-2264D66B5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9A5B9-486C-4C6A-8F2E-5E7995DC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3668E-A232-44A2-A26B-01181F55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08E8F-3098-491A-A139-401C4A77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4F5FE-83A4-45B0-950C-7B398CD7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D6F64-D8B3-4417-9FA3-AE7532D2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DB9A4-2CFA-4EFB-AE0A-5F8512D4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3C1B4-400A-4832-8E12-4AAEBF26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6BEF1-B2A1-4E05-A8D3-C3E9EB02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8ED4-4C6A-4716-9AC7-77F040B5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8C6C3-4CBF-416D-8887-7DA94157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5DA88-FB97-457E-BAED-6A7C1B7A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82736-06EC-4CBA-907B-8A48FF61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7E1E8-AEAE-48AF-902F-85A122B4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DE14B-F1A5-401B-80E1-8AC89759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7B3F7-F99A-4721-9244-B316B415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FC7F1-CCB1-4026-A90C-9F79065C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14F76-EC7F-4182-B2B7-0EDA5A2A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3D143-0656-42C5-A733-F541A350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CD16D-3986-431C-9412-56FA35DE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2CAC-F744-4951-9BC5-E24A22A8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A9B37-B4A8-435C-B9F9-5FF3BCEF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377DB-6FC5-4EF8-ADE8-89F49A78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9E3C3-D067-4DCF-BCFF-4007167D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C94D7-25E6-4F8E-885C-84F7BAF6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E8DCF-6CD9-4F33-8068-8D8C8C77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1B1AE-27F9-469A-A266-1A9431DA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018E1-0C4E-4C6E-8050-C0C4A99B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0BE27-0D48-4019-B829-5358CD0F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8F253-84F3-44AB-8CFD-9199D05D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20787-E929-471B-AD2A-02B90E5F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7124-8270-41A2-BF2F-8FB0E725D3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4BFF-0C7B-45B6-AF8B-01431E1BEB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68DF-0CBD-4BF4-BC57-44EA0F530C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9E67-B77A-454D-A173-63D91DCA69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5165-98F5-444D-85EF-451C1728CC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1CD9-388C-4113-A714-108488E440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4CEA-6F9D-4E5E-BA7E-3582395E8C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C9D7-0F9C-4132-AC09-130A4FF2CF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EE05-0B4C-4A64-BD00-72F225977E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4E10-5596-4F7D-9F8E-806978E143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B3F6-CB07-4424-A0F2-14B0C993E4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93FF-BB74-4970-87FA-37F7174321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comments" Target="../comments/comment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Box 1"/>
          <p:cNvSpPr/>
          <p:nvPr/>
        </p:nvSpPr>
        <p:spPr>
          <a:xfrm>
            <a:off x="2286000" y="152280"/>
            <a:ext cx="6705720" cy="42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то с детских лет занимается математикой, тот развивает внимание, тренирует свой мозг, свою волю, воспитывает настойчивость и упорство в достижении це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И. Маркуш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Box 2"/>
          <p:cNvSpPr/>
          <p:nvPr/>
        </p:nvSpPr>
        <p:spPr>
          <a:xfrm>
            <a:off x="1468080" y="609480"/>
            <a:ext cx="58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йдите площадь фигу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3"/>
          <p:cNvSpPr/>
          <p:nvPr/>
        </p:nvSpPr>
        <p:spPr>
          <a:xfrm>
            <a:off x="4572000" y="53341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4"/>
          <p:cNvSpPr/>
          <p:nvPr/>
        </p:nvSpPr>
        <p:spPr>
          <a:xfrm>
            <a:off x="5943600" y="538632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6 см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Рисунок 5" descr="pic.11"/>
          <p:cNvPicPr/>
          <p:nvPr/>
        </p:nvPicPr>
        <p:blipFill>
          <a:blip r:embed="rId1"/>
          <a:stretch/>
        </p:blipFill>
        <p:spPr>
          <a:xfrm>
            <a:off x="1371600" y="1905120"/>
            <a:ext cx="4719600" cy="3206520"/>
          </a:xfrm>
          <a:prstGeom prst="rect">
            <a:avLst/>
          </a:prstGeom>
          <a:ln w="0">
            <a:noFill/>
          </a:ln>
        </p:spPr>
      </p:pic>
      <p:sp>
        <p:nvSpPr>
          <p:cNvPr id="556" name="TextBox 6"/>
          <p:cNvSpPr/>
          <p:nvPr/>
        </p:nvSpPr>
        <p:spPr>
          <a:xfrm>
            <a:off x="1375560" y="1295280"/>
            <a:ext cx="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Управляющая кнопка: назад 7">
            <a:hlinkClick r:id="rId2" action="ppaction://hlinksldjump"/>
          </p:cNvPr>
          <p:cNvSpPr/>
          <p:nvPr/>
        </p:nvSpPr>
        <p:spPr>
          <a:xfrm>
            <a:off x="8534520" y="6095880"/>
            <a:ext cx="433440" cy="5860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86080"/>
              <a:gd name="textAreaBottom" fmla="*/ 558000 h 586080"/>
            </a:gdLst>
            <a:ahLst/>
            <a:rect l="textAreaLeft" t="textAreaTop" r="textAreaRight" b="textAreaBottom"/>
            <a:pathLst>
              <a:path w="21600" h="29200">
                <a:moveTo>
                  <a:pt x="0" y="0"/>
                </a:moveTo>
                <a:lnTo>
                  <a:pt x="21600" y="0"/>
                </a:lnTo>
                <a:lnTo>
                  <a:pt x="21600" y="29200"/>
                </a:lnTo>
                <a:lnTo>
                  <a:pt x="0" y="29200"/>
                </a:lnTo>
                <a:close/>
              </a:path>
              <a:path fill="lightenLess" w="21600" h="292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200">
                <a:moveTo>
                  <a:pt x="21600" y="0"/>
                </a:moveTo>
                <a:lnTo>
                  <a:pt x="21600" y="29200"/>
                </a:lnTo>
                <a:lnTo>
                  <a:pt x="20200" y="27800"/>
                </a:lnTo>
                <a:lnTo>
                  <a:pt x="20200" y="1400"/>
                </a:lnTo>
                <a:close/>
              </a:path>
              <a:path fill="darkenLess" w="21600" h="29200">
                <a:moveTo>
                  <a:pt x="21600" y="29200"/>
                </a:moveTo>
                <a:lnTo>
                  <a:pt x="0" y="29200"/>
                </a:lnTo>
                <a:lnTo>
                  <a:pt x="1400" y="27800"/>
                </a:lnTo>
                <a:lnTo>
                  <a:pt x="20200" y="27800"/>
                </a:lnTo>
                <a:close/>
              </a:path>
              <a:path fill="lighten" w="21600" h="29200">
                <a:moveTo>
                  <a:pt x="0" y="292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800"/>
                </a:lnTo>
                <a:close/>
              </a:path>
              <a:path fill="darken" w="21600" h="29200">
                <a:moveTo>
                  <a:pt x="3794" y="14600"/>
                </a:moveTo>
                <a:lnTo>
                  <a:pt x="17806" y="7594"/>
                </a:lnTo>
                <a:lnTo>
                  <a:pt x="17806" y="21607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2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13" descr=""/>
          <p:cNvPicPr/>
          <p:nvPr/>
        </p:nvPicPr>
        <p:blipFill>
          <a:blip r:embed="rId3"/>
          <a:stretch/>
        </p:blipFill>
        <p:spPr>
          <a:xfrm>
            <a:off x="6553080" y="2819520"/>
            <a:ext cx="2086200" cy="136512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15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3"/>
          <p:cNvSpPr/>
          <p:nvPr/>
        </p:nvSpPr>
        <p:spPr>
          <a:xfrm>
            <a:off x="2590920" y="2590920"/>
            <a:ext cx="0" cy="12189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ая соединительная линия 6"/>
          <p:cNvSpPr/>
          <p:nvPr/>
        </p:nvSpPr>
        <p:spPr>
          <a:xfrm>
            <a:off x="1981080" y="3809880"/>
            <a:ext cx="350532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5"/>
          <p:cNvSpPr/>
          <p:nvPr/>
        </p:nvSpPr>
        <p:spPr>
          <a:xfrm>
            <a:off x="2518200" y="30481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6"/>
          <p:cNvSpPr/>
          <p:nvPr/>
        </p:nvSpPr>
        <p:spPr>
          <a:xfrm>
            <a:off x="3204000" y="3886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Box 2"/>
          <p:cNvSpPr/>
          <p:nvPr/>
        </p:nvSpPr>
        <p:spPr>
          <a:xfrm>
            <a:off x="1544040" y="533520"/>
            <a:ext cx="58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йдите площадь фигу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3"/>
          <p:cNvSpPr/>
          <p:nvPr/>
        </p:nvSpPr>
        <p:spPr>
          <a:xfrm>
            <a:off x="4572000" y="53341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4"/>
          <p:cNvSpPr/>
          <p:nvPr/>
        </p:nvSpPr>
        <p:spPr>
          <a:xfrm>
            <a:off x="5943600" y="53863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2 см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Рисунок 6" descr="pic.97"/>
          <p:cNvPicPr/>
          <p:nvPr/>
        </p:nvPicPr>
        <p:blipFill>
          <a:blip r:embed="rId1"/>
          <a:stretch/>
        </p:blipFill>
        <p:spPr>
          <a:xfrm>
            <a:off x="1523880" y="1828800"/>
            <a:ext cx="4727520" cy="3206880"/>
          </a:xfrm>
          <a:prstGeom prst="rect">
            <a:avLst/>
          </a:prstGeom>
          <a:ln w="0">
            <a:noFill/>
          </a:ln>
        </p:spPr>
      </p:pic>
      <p:sp>
        <p:nvSpPr>
          <p:cNvPr id="572" name="TextBox 7"/>
          <p:cNvSpPr/>
          <p:nvPr/>
        </p:nvSpPr>
        <p:spPr>
          <a:xfrm>
            <a:off x="1451880" y="1219320"/>
            <a:ext cx="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Управляющая кнопка: назад 8">
            <a:hlinkClick r:id="rId2" action="ppaction://hlinksldjump"/>
          </p:cNvPr>
          <p:cNvSpPr/>
          <p:nvPr/>
        </p:nvSpPr>
        <p:spPr>
          <a:xfrm>
            <a:off x="8534520" y="6095880"/>
            <a:ext cx="433440" cy="5860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86080"/>
              <a:gd name="textAreaBottom" fmla="*/ 558000 h 586080"/>
            </a:gdLst>
            <a:ahLst/>
            <a:rect l="textAreaLeft" t="textAreaTop" r="textAreaRight" b="textAreaBottom"/>
            <a:pathLst>
              <a:path w="21600" h="29200">
                <a:moveTo>
                  <a:pt x="0" y="0"/>
                </a:moveTo>
                <a:lnTo>
                  <a:pt x="21600" y="0"/>
                </a:lnTo>
                <a:lnTo>
                  <a:pt x="21600" y="29200"/>
                </a:lnTo>
                <a:lnTo>
                  <a:pt x="0" y="29200"/>
                </a:lnTo>
                <a:close/>
              </a:path>
              <a:path fill="lightenLess" w="21600" h="292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200">
                <a:moveTo>
                  <a:pt x="21600" y="0"/>
                </a:moveTo>
                <a:lnTo>
                  <a:pt x="21600" y="29200"/>
                </a:lnTo>
                <a:lnTo>
                  <a:pt x="20200" y="27800"/>
                </a:lnTo>
                <a:lnTo>
                  <a:pt x="20200" y="1400"/>
                </a:lnTo>
                <a:close/>
              </a:path>
              <a:path fill="darkenLess" w="21600" h="29200">
                <a:moveTo>
                  <a:pt x="21600" y="29200"/>
                </a:moveTo>
                <a:lnTo>
                  <a:pt x="0" y="29200"/>
                </a:lnTo>
                <a:lnTo>
                  <a:pt x="1400" y="27800"/>
                </a:lnTo>
                <a:lnTo>
                  <a:pt x="20200" y="27800"/>
                </a:lnTo>
                <a:close/>
              </a:path>
              <a:path fill="lighten" w="21600" h="29200">
                <a:moveTo>
                  <a:pt x="0" y="292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800"/>
                </a:lnTo>
                <a:close/>
              </a:path>
              <a:path fill="darken" w="21600" h="29200">
                <a:moveTo>
                  <a:pt x="3794" y="14600"/>
                </a:moveTo>
                <a:lnTo>
                  <a:pt x="17806" y="7594"/>
                </a:lnTo>
                <a:lnTo>
                  <a:pt x="17806" y="21607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Группа 14"/>
          <p:cNvGrpSpPr/>
          <p:nvPr/>
        </p:nvGrpSpPr>
        <p:grpSpPr>
          <a:xfrm>
            <a:off x="1981080" y="2362320"/>
            <a:ext cx="3733920" cy="1579320"/>
            <a:chOff x="1981080" y="2362320"/>
            <a:chExt cx="3733920" cy="1579320"/>
          </a:xfrm>
        </p:grpSpPr>
        <p:sp>
          <p:nvSpPr>
            <p:cNvPr id="575" name="Прямая соединительная линия 9"/>
            <p:cNvSpPr/>
            <p:nvPr/>
          </p:nvSpPr>
          <p:spPr>
            <a:xfrm>
              <a:off x="1981080" y="2362320"/>
              <a:ext cx="0" cy="15793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Прямая соединительная линия 11"/>
            <p:cNvSpPr/>
            <p:nvPr/>
          </p:nvSpPr>
          <p:spPr>
            <a:xfrm>
              <a:off x="1981080" y="3429000"/>
              <a:ext cx="373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8" descr=""/>
          <p:cNvPicPr/>
          <p:nvPr/>
        </p:nvPicPr>
        <p:blipFill>
          <a:blip r:embed="rId3"/>
          <a:stretch/>
        </p:blipFill>
        <p:spPr>
          <a:xfrm>
            <a:off x="6629400" y="2514600"/>
            <a:ext cx="2255760" cy="147636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10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3"/>
          <p:cNvSpPr/>
          <p:nvPr/>
        </p:nvSpPr>
        <p:spPr>
          <a:xfrm>
            <a:off x="1600200" y="3048120"/>
            <a:ext cx="3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5"/>
          <p:cNvSpPr/>
          <p:nvPr/>
        </p:nvSpPr>
        <p:spPr>
          <a:xfrm>
            <a:off x="2594520" y="28195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Box 2"/>
          <p:cNvSpPr/>
          <p:nvPr/>
        </p:nvSpPr>
        <p:spPr>
          <a:xfrm>
            <a:off x="1703880" y="609480"/>
            <a:ext cx="546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йдите площадь фигу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3"/>
          <p:cNvSpPr/>
          <p:nvPr/>
        </p:nvSpPr>
        <p:spPr>
          <a:xfrm>
            <a:off x="4572000" y="53341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4"/>
          <p:cNvSpPr/>
          <p:nvPr/>
        </p:nvSpPr>
        <p:spPr>
          <a:xfrm>
            <a:off x="5943600" y="53863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6 см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Рисунок 5" descr="pic.1"/>
          <p:cNvPicPr/>
          <p:nvPr/>
        </p:nvPicPr>
        <p:blipFill>
          <a:blip r:embed="rId1"/>
          <a:stretch/>
        </p:blipFill>
        <p:spPr>
          <a:xfrm>
            <a:off x="1752480" y="2133720"/>
            <a:ext cx="4724640" cy="3047760"/>
          </a:xfrm>
          <a:prstGeom prst="rect">
            <a:avLst/>
          </a:prstGeom>
          <a:ln w="0">
            <a:noFill/>
          </a:ln>
        </p:spPr>
      </p:pic>
      <p:sp>
        <p:nvSpPr>
          <p:cNvPr id="586" name="TextBox 7"/>
          <p:cNvSpPr/>
          <p:nvPr/>
        </p:nvSpPr>
        <p:spPr>
          <a:xfrm>
            <a:off x="1832760" y="1447920"/>
            <a:ext cx="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Управляющая кнопка: назад 8">
            <a:hlinkClick r:id="rId2" action="ppaction://hlinksldjump"/>
          </p:cNvPr>
          <p:cNvSpPr/>
          <p:nvPr/>
        </p:nvSpPr>
        <p:spPr>
          <a:xfrm>
            <a:off x="8534520" y="6095880"/>
            <a:ext cx="433440" cy="5860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86080"/>
              <a:gd name="textAreaBottom" fmla="*/ 558000 h 586080"/>
            </a:gdLst>
            <a:ahLst/>
            <a:rect l="textAreaLeft" t="textAreaTop" r="textAreaRight" b="textAreaBottom"/>
            <a:pathLst>
              <a:path w="21600" h="29200">
                <a:moveTo>
                  <a:pt x="0" y="0"/>
                </a:moveTo>
                <a:lnTo>
                  <a:pt x="21600" y="0"/>
                </a:lnTo>
                <a:lnTo>
                  <a:pt x="21600" y="29200"/>
                </a:lnTo>
                <a:lnTo>
                  <a:pt x="0" y="29200"/>
                </a:lnTo>
                <a:close/>
              </a:path>
              <a:path fill="lightenLess" w="21600" h="292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200">
                <a:moveTo>
                  <a:pt x="21600" y="0"/>
                </a:moveTo>
                <a:lnTo>
                  <a:pt x="21600" y="29200"/>
                </a:lnTo>
                <a:lnTo>
                  <a:pt x="20200" y="27800"/>
                </a:lnTo>
                <a:lnTo>
                  <a:pt x="20200" y="1400"/>
                </a:lnTo>
                <a:close/>
              </a:path>
              <a:path fill="darkenLess" w="21600" h="29200">
                <a:moveTo>
                  <a:pt x="21600" y="29200"/>
                </a:moveTo>
                <a:lnTo>
                  <a:pt x="0" y="29200"/>
                </a:lnTo>
                <a:lnTo>
                  <a:pt x="1400" y="27800"/>
                </a:lnTo>
                <a:lnTo>
                  <a:pt x="20200" y="27800"/>
                </a:lnTo>
                <a:close/>
              </a:path>
              <a:path fill="lighten" w="21600" h="29200">
                <a:moveTo>
                  <a:pt x="0" y="292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800"/>
                </a:lnTo>
                <a:close/>
              </a:path>
              <a:path fill="darken" w="21600" h="29200">
                <a:moveTo>
                  <a:pt x="3794" y="14600"/>
                </a:moveTo>
                <a:lnTo>
                  <a:pt x="17806" y="7594"/>
                </a:lnTo>
                <a:lnTo>
                  <a:pt x="17806" y="21607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8" descr=""/>
          <p:cNvPicPr/>
          <p:nvPr/>
        </p:nvPicPr>
        <p:blipFill>
          <a:blip r:embed="rId3"/>
          <a:stretch/>
        </p:blipFill>
        <p:spPr>
          <a:xfrm>
            <a:off x="6781680" y="2666880"/>
            <a:ext cx="1789200" cy="117180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10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3"/>
          <p:cNvSpPr/>
          <p:nvPr/>
        </p:nvSpPr>
        <p:spPr>
          <a:xfrm>
            <a:off x="1832400" y="3124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6"/>
          <p:cNvSpPr/>
          <p:nvPr/>
        </p:nvSpPr>
        <p:spPr>
          <a:xfrm>
            <a:off x="3888720" y="4038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ая соединительная линия 12"/>
          <p:cNvSpPr/>
          <p:nvPr/>
        </p:nvSpPr>
        <p:spPr>
          <a:xfrm>
            <a:off x="2286000" y="2743200"/>
            <a:ext cx="0" cy="12477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ая соединительная линия 16"/>
          <p:cNvSpPr/>
          <p:nvPr/>
        </p:nvSpPr>
        <p:spPr>
          <a:xfrm>
            <a:off x="2819520" y="3962520"/>
            <a:ext cx="312408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ая соединительная линия 19"/>
          <p:cNvSpPr/>
          <p:nvPr/>
        </p:nvSpPr>
        <p:spPr>
          <a:xfrm>
            <a:off x="2286000" y="3962520"/>
            <a:ext cx="55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http://im2-tub-ru.yandex.net/i?id=05a508b7d425333f88dedb9293f43536-133-144&amp;n=21"/>
          <p:cNvPicPr/>
          <p:nvPr/>
        </p:nvPicPr>
        <p:blipFill>
          <a:blip r:embed="rId1"/>
          <a:stretch/>
        </p:blipFill>
        <p:spPr>
          <a:xfrm>
            <a:off x="1600200" y="1371600"/>
            <a:ext cx="6058080" cy="35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14" descr="Расстановка мебели в квартире студии - Мебель - статьи"/>
          <p:cNvPicPr/>
          <p:nvPr/>
        </p:nvPicPr>
        <p:blipFill>
          <a:blip r:embed="rId1"/>
          <a:stretch/>
        </p:blipFill>
        <p:spPr>
          <a:xfrm>
            <a:off x="1523880" y="762120"/>
            <a:ext cx="762012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http://im1-tub-ru.yandex.net/i?id=22070d89d70a8ceb63a5c1af171049c9-98-144&amp;n=21"/>
          <p:cNvPicPr/>
          <p:nvPr/>
        </p:nvPicPr>
        <p:blipFill>
          <a:blip r:embed="rId1"/>
          <a:stretch/>
        </p:blipFill>
        <p:spPr>
          <a:xfrm>
            <a:off x="2514600" y="152280"/>
            <a:ext cx="5257800" cy="313236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4" descr="http://im2-tub-ru.yandex.net/i?id=466382a8dc81bcc15d72c34cd81cb652-92-144&amp;n=21"/>
          <p:cNvPicPr/>
          <p:nvPr/>
        </p:nvPicPr>
        <p:blipFill>
          <a:blip r:embed="rId2"/>
          <a:stretch/>
        </p:blipFill>
        <p:spPr>
          <a:xfrm>
            <a:off x="990720" y="3429000"/>
            <a:ext cx="3886200" cy="29005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6" descr="http://im1-tub-ru.yandex.net/i?id=910ba4a98322b392b79b81eadb1c8860-35-144&amp;n=21"/>
          <p:cNvPicPr/>
          <p:nvPr/>
        </p:nvPicPr>
        <p:blipFill>
          <a:blip r:embed="rId3"/>
          <a:stretch/>
        </p:blipFill>
        <p:spPr>
          <a:xfrm>
            <a:off x="5105520" y="3429000"/>
            <a:ext cx="386064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2" descr="http://im2-tub-ru.yandex.net/i?id=3d92e17ff84822cea14e0af904850aa2-61-144&amp;n=21"/>
          <p:cNvPicPr/>
          <p:nvPr/>
        </p:nvPicPr>
        <p:blipFill>
          <a:blip r:embed="rId1"/>
          <a:stretch/>
        </p:blipFill>
        <p:spPr>
          <a:xfrm>
            <a:off x="1143000" y="228600"/>
            <a:ext cx="4929120" cy="25146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http://im0-tub-ru.yandex.net/i?id=92be0001fb910d24427768225356a1ef-82-144&amp;n=21"/>
          <p:cNvPicPr/>
          <p:nvPr/>
        </p:nvPicPr>
        <p:blipFill>
          <a:blip r:embed="rId2"/>
          <a:stretch/>
        </p:blipFill>
        <p:spPr>
          <a:xfrm>
            <a:off x="6095880" y="1600200"/>
            <a:ext cx="3048120" cy="36576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http://im0-tub-ru.yandex.net/i?id=0cc1dfbada1dbe5eb342798c3e1491e3-44-144&amp;n=21"/>
          <p:cNvPicPr/>
          <p:nvPr/>
        </p:nvPicPr>
        <p:blipFill>
          <a:blip r:embed="rId3"/>
          <a:stretch/>
        </p:blipFill>
        <p:spPr>
          <a:xfrm>
            <a:off x="1295280" y="3429000"/>
            <a:ext cx="4496040" cy="29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Без заголовка. Комментарии : Дневники на КП"/>
          <p:cNvPicPr/>
          <p:nvPr/>
        </p:nvPicPr>
        <p:blipFill>
          <a:blip r:embed="rId1"/>
          <a:stretch/>
        </p:blipFill>
        <p:spPr>
          <a:xfrm>
            <a:off x="1295280" y="228600"/>
            <a:ext cx="4724640" cy="37130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" descr="http://im3-tub-ru.yandex.net/i?id=7ce56b33109bf492827b1ae18c8996dc-02-144&amp;n=21"/>
          <p:cNvPicPr/>
          <p:nvPr/>
        </p:nvPicPr>
        <p:blipFill>
          <a:blip r:embed="rId2"/>
          <a:stretch/>
        </p:blipFill>
        <p:spPr>
          <a:xfrm>
            <a:off x="2666880" y="4343400"/>
            <a:ext cx="5832720" cy="22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Box 1"/>
          <p:cNvSpPr/>
          <p:nvPr/>
        </p:nvSpPr>
        <p:spPr>
          <a:xfrm>
            <a:off x="1689840" y="1600200"/>
            <a:ext cx="67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треугольн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Трубка в изобразительном искусстве - Страница 27 - Вокруг трубки - Клуб Курильщиков Трубки"/>
          <p:cNvPicPr/>
          <p:nvPr/>
        </p:nvPicPr>
        <p:blipFill>
          <a:blip r:embed="rId1"/>
          <a:stretch/>
        </p:blipFill>
        <p:spPr>
          <a:xfrm>
            <a:off x="2743200" y="2338560"/>
            <a:ext cx="6229440" cy="4519440"/>
          </a:xfrm>
          <a:prstGeom prst="rect">
            <a:avLst/>
          </a:prstGeom>
          <a:ln w="0">
            <a:noFill/>
          </a:ln>
        </p:spPr>
      </p:pic>
      <p:sp>
        <p:nvSpPr>
          <p:cNvPr id="608" name="TextBox 3"/>
          <p:cNvSpPr/>
          <p:nvPr/>
        </p:nvSpPr>
        <p:spPr>
          <a:xfrm>
            <a:off x="1066680" y="0"/>
            <a:ext cx="8077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л-был помещик. И было у него три сы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сыновья его не бездельничали, а к труду приучалис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умал он выделить им участки земли так,  чтобы среднему сыну земли досталось в два раза больше, а старшему – в три раза больше, чем младш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http://data.photo.sibnet.ru/upload/imggreat/122310676639.jpg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94" name="TextBox 2"/>
          <p:cNvSpPr/>
          <p:nvPr/>
        </p:nvSpPr>
        <p:spPr>
          <a:xfrm>
            <a:off x="998640" y="5288040"/>
            <a:ext cx="303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ас Сафронов «Кубическое представление о кружевнице», 199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Равнобедренный треугольник 2"/>
          <p:cNvSpPr/>
          <p:nvPr/>
        </p:nvSpPr>
        <p:spPr>
          <a:xfrm>
            <a:off x="990720" y="1676520"/>
            <a:ext cx="7619760" cy="4800600"/>
          </a:xfrm>
          <a:prstGeom prst="triangle">
            <a:avLst>
              <a:gd name="adj" fmla="val 75662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3"/>
          <p:cNvSpPr/>
          <p:nvPr/>
        </p:nvSpPr>
        <p:spPr>
          <a:xfrm>
            <a:off x="1235160" y="228600"/>
            <a:ext cx="41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ладшему сыну  - 1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ему сыну   - 2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ршему сыну   - 3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5"/>
          <p:cNvSpPr/>
          <p:nvPr/>
        </p:nvSpPr>
        <p:spPr>
          <a:xfrm>
            <a:off x="5795640" y="228600"/>
            <a:ext cx="7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Прямая соединительная линия 2"/>
          <p:cNvSpPr/>
          <p:nvPr/>
        </p:nvSpPr>
        <p:spPr>
          <a:xfrm flipH="1">
            <a:off x="1905120" y="1066680"/>
            <a:ext cx="1371600" cy="28958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ая соединительная линия 4"/>
          <p:cNvSpPr/>
          <p:nvPr/>
        </p:nvSpPr>
        <p:spPr>
          <a:xfrm>
            <a:off x="3276720" y="1066680"/>
            <a:ext cx="3047760" cy="28195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ая соединительная линия 6"/>
          <p:cNvSpPr/>
          <p:nvPr/>
        </p:nvSpPr>
        <p:spPr>
          <a:xfrm flipH="1">
            <a:off x="1905120" y="3886200"/>
            <a:ext cx="4419360" cy="763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ая соединительная линия 9"/>
          <p:cNvSpPr/>
          <p:nvPr/>
        </p:nvSpPr>
        <p:spPr>
          <a:xfrm flipV="1">
            <a:off x="1905120" y="1066680"/>
            <a:ext cx="4724280" cy="28958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ая соединительная линия 11"/>
          <p:cNvSpPr/>
          <p:nvPr/>
        </p:nvSpPr>
        <p:spPr>
          <a:xfrm flipH="1">
            <a:off x="6324120" y="1066680"/>
            <a:ext cx="304920" cy="28195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ая соединительная линия 13"/>
          <p:cNvSpPr/>
          <p:nvPr/>
        </p:nvSpPr>
        <p:spPr>
          <a:xfrm flipV="1">
            <a:off x="1905120" y="1066680"/>
            <a:ext cx="6476760" cy="289584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ая соединительная линия 15"/>
          <p:cNvSpPr/>
          <p:nvPr/>
        </p:nvSpPr>
        <p:spPr>
          <a:xfrm flipH="1">
            <a:off x="6324120" y="1066680"/>
            <a:ext cx="2057400" cy="281952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ая соединительная линия 17"/>
          <p:cNvSpPr/>
          <p:nvPr/>
        </p:nvSpPr>
        <p:spPr>
          <a:xfrm flipV="1">
            <a:off x="1905120" y="1066680"/>
            <a:ext cx="0" cy="289584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ая соединительная линия 19"/>
          <p:cNvSpPr/>
          <p:nvPr/>
        </p:nvSpPr>
        <p:spPr>
          <a:xfrm>
            <a:off x="1905120" y="1066680"/>
            <a:ext cx="4419360" cy="281952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ая соединительная линия 21"/>
          <p:cNvSpPr/>
          <p:nvPr/>
        </p:nvSpPr>
        <p:spPr>
          <a:xfrm>
            <a:off x="1066680" y="1066680"/>
            <a:ext cx="739152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22"/>
          <p:cNvSpPr/>
          <p:nvPr/>
        </p:nvSpPr>
        <p:spPr>
          <a:xfrm>
            <a:off x="1450440" y="3962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23"/>
          <p:cNvSpPr/>
          <p:nvPr/>
        </p:nvSpPr>
        <p:spPr>
          <a:xfrm>
            <a:off x="6175080" y="3886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24"/>
          <p:cNvSpPr/>
          <p:nvPr/>
        </p:nvSpPr>
        <p:spPr>
          <a:xfrm>
            <a:off x="1603440" y="60948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25"/>
          <p:cNvSpPr/>
          <p:nvPr/>
        </p:nvSpPr>
        <p:spPr>
          <a:xfrm>
            <a:off x="2975040" y="60948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26"/>
          <p:cNvSpPr/>
          <p:nvPr/>
        </p:nvSpPr>
        <p:spPr>
          <a:xfrm>
            <a:off x="6327720" y="60948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27"/>
          <p:cNvSpPr/>
          <p:nvPr/>
        </p:nvSpPr>
        <p:spPr>
          <a:xfrm>
            <a:off x="8309160" y="60948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28"/>
          <p:cNvSpPr/>
          <p:nvPr/>
        </p:nvSpPr>
        <p:spPr>
          <a:xfrm>
            <a:off x="7420320" y="0"/>
            <a:ext cx="15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29"/>
          <p:cNvSpPr/>
          <p:nvPr/>
        </p:nvSpPr>
        <p:spPr>
          <a:xfrm>
            <a:off x="1066680" y="4602240"/>
            <a:ext cx="80330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Проведите измерения, необходимые для вычис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ей данных треуг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дите и сравните площади треугольников, изображенных на черте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делайте выводы и объясните полученный результ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Box 1"/>
          <p:cNvSpPr/>
          <p:nvPr/>
        </p:nvSpPr>
        <p:spPr>
          <a:xfrm>
            <a:off x="7474320" y="76320"/>
            <a:ext cx="15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рямая соединительная линия 3"/>
          <p:cNvSpPr/>
          <p:nvPr/>
        </p:nvSpPr>
        <p:spPr>
          <a:xfrm flipV="1">
            <a:off x="1295280" y="1219320"/>
            <a:ext cx="2133720" cy="22096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Прямая соединительная линия 5"/>
          <p:cNvSpPr/>
          <p:nvPr/>
        </p:nvSpPr>
        <p:spPr>
          <a:xfrm>
            <a:off x="3429000" y="1219320"/>
            <a:ext cx="4800600" cy="22096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рямая соединительная линия 7"/>
          <p:cNvSpPr/>
          <p:nvPr/>
        </p:nvSpPr>
        <p:spPr>
          <a:xfrm>
            <a:off x="1295280" y="3429000"/>
            <a:ext cx="69627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8"/>
          <p:cNvSpPr/>
          <p:nvPr/>
        </p:nvSpPr>
        <p:spPr>
          <a:xfrm>
            <a:off x="960120" y="3657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9"/>
          <p:cNvSpPr/>
          <p:nvPr/>
        </p:nvSpPr>
        <p:spPr>
          <a:xfrm>
            <a:off x="3431880" y="838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0"/>
          <p:cNvSpPr/>
          <p:nvPr/>
        </p:nvSpPr>
        <p:spPr>
          <a:xfrm>
            <a:off x="8232480" y="3581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Прямая соединительная линия 12"/>
          <p:cNvSpPr/>
          <p:nvPr/>
        </p:nvSpPr>
        <p:spPr>
          <a:xfrm>
            <a:off x="3429000" y="1219320"/>
            <a:ext cx="1347840" cy="220968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13"/>
          <p:cNvSpPr/>
          <p:nvPr/>
        </p:nvSpPr>
        <p:spPr>
          <a:xfrm>
            <a:off x="4625280" y="3657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ая соединительная линия 15"/>
          <p:cNvSpPr/>
          <p:nvPr/>
        </p:nvSpPr>
        <p:spPr>
          <a:xfrm>
            <a:off x="3048120" y="3352680"/>
            <a:ext cx="0" cy="2286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ая соединительная линия 17"/>
          <p:cNvSpPr/>
          <p:nvPr/>
        </p:nvSpPr>
        <p:spPr>
          <a:xfrm>
            <a:off x="6248520" y="3352680"/>
            <a:ext cx="0" cy="2286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19"/>
          <p:cNvSpPr/>
          <p:nvPr/>
        </p:nvSpPr>
        <p:spPr>
          <a:xfrm>
            <a:off x="1066680" y="4411800"/>
            <a:ext cx="76964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вестно, что ВМ – медиана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Найдите и сравните площади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М и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ВС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этого проведите измерения, необходимые для вычис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ей данных треуг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делайте выводы и объясните полученный результ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Прямоугольник 1"/>
          <p:cNvSpPr/>
          <p:nvPr/>
        </p:nvSpPr>
        <p:spPr>
          <a:xfrm>
            <a:off x="7513200" y="76320"/>
            <a:ext cx="15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ая соединительная линия 4"/>
          <p:cNvSpPr/>
          <p:nvPr/>
        </p:nvSpPr>
        <p:spPr>
          <a:xfrm flipV="1">
            <a:off x="2133720" y="1523880"/>
            <a:ext cx="990360" cy="2286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ая соединительная линия 6"/>
          <p:cNvSpPr/>
          <p:nvPr/>
        </p:nvSpPr>
        <p:spPr>
          <a:xfrm>
            <a:off x="3124080" y="1523880"/>
            <a:ext cx="4419720" cy="2286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рямая соединительная линия 8"/>
          <p:cNvSpPr/>
          <p:nvPr/>
        </p:nvSpPr>
        <p:spPr>
          <a:xfrm>
            <a:off x="2133720" y="3809880"/>
            <a:ext cx="541008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9"/>
          <p:cNvSpPr/>
          <p:nvPr/>
        </p:nvSpPr>
        <p:spPr>
          <a:xfrm>
            <a:off x="1755000" y="3809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10"/>
          <p:cNvSpPr/>
          <p:nvPr/>
        </p:nvSpPr>
        <p:spPr>
          <a:xfrm>
            <a:off x="2974320" y="106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11"/>
          <p:cNvSpPr/>
          <p:nvPr/>
        </p:nvSpPr>
        <p:spPr>
          <a:xfrm>
            <a:off x="7622640" y="3809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13"/>
          <p:cNvSpPr/>
          <p:nvPr/>
        </p:nvSpPr>
        <p:spPr>
          <a:xfrm>
            <a:off x="1066680" y="4648320"/>
            <a:ext cx="784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вестно, чт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 = KL = L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Найдите и сравните площади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B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 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этого проведите измерения, необходимые для вычис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ей данных треуг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делайте выводы и объясните полученны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рямая соединительная линия 15"/>
          <p:cNvSpPr/>
          <p:nvPr/>
        </p:nvSpPr>
        <p:spPr>
          <a:xfrm flipH="1" flipV="1">
            <a:off x="3124080" y="1523520"/>
            <a:ext cx="744480" cy="23209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рямая соединительная линия 18"/>
          <p:cNvSpPr/>
          <p:nvPr/>
        </p:nvSpPr>
        <p:spPr>
          <a:xfrm>
            <a:off x="3124080" y="1523880"/>
            <a:ext cx="2544840" cy="23115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19"/>
          <p:cNvSpPr/>
          <p:nvPr/>
        </p:nvSpPr>
        <p:spPr>
          <a:xfrm>
            <a:off x="3661200" y="3809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20"/>
          <p:cNvSpPr/>
          <p:nvPr/>
        </p:nvSpPr>
        <p:spPr>
          <a:xfrm>
            <a:off x="5566320" y="380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Прямая соединительная линия 25"/>
          <p:cNvSpPr/>
          <p:nvPr/>
        </p:nvSpPr>
        <p:spPr>
          <a:xfrm>
            <a:off x="6400800" y="3733920"/>
            <a:ext cx="0" cy="2174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Прямая соединительная линия 27"/>
          <p:cNvSpPr/>
          <p:nvPr/>
        </p:nvSpPr>
        <p:spPr>
          <a:xfrm>
            <a:off x="3124080" y="3733920"/>
            <a:ext cx="0" cy="2268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ая соединительная линия 29"/>
          <p:cNvSpPr/>
          <p:nvPr/>
        </p:nvSpPr>
        <p:spPr>
          <a:xfrm>
            <a:off x="4876920" y="3657600"/>
            <a:ext cx="0" cy="22716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4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Прямоугольник 1"/>
          <p:cNvSpPr/>
          <p:nvPr/>
        </p:nvSpPr>
        <p:spPr>
          <a:xfrm>
            <a:off x="7570440" y="380880"/>
            <a:ext cx="15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Прямая соединительная линия 4"/>
          <p:cNvSpPr/>
          <p:nvPr/>
        </p:nvSpPr>
        <p:spPr>
          <a:xfrm flipV="1">
            <a:off x="1828800" y="1523880"/>
            <a:ext cx="990720" cy="2286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ая соединительная линия 6"/>
          <p:cNvSpPr/>
          <p:nvPr/>
        </p:nvSpPr>
        <p:spPr>
          <a:xfrm>
            <a:off x="2819520" y="1523880"/>
            <a:ext cx="4419360" cy="2286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ая соединительная линия 8"/>
          <p:cNvSpPr/>
          <p:nvPr/>
        </p:nvSpPr>
        <p:spPr>
          <a:xfrm>
            <a:off x="1828800" y="3809880"/>
            <a:ext cx="541008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9"/>
          <p:cNvSpPr/>
          <p:nvPr/>
        </p:nvSpPr>
        <p:spPr>
          <a:xfrm>
            <a:off x="1603080" y="3886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10"/>
          <p:cNvSpPr/>
          <p:nvPr/>
        </p:nvSpPr>
        <p:spPr>
          <a:xfrm>
            <a:off x="2593440" y="114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11"/>
          <p:cNvSpPr/>
          <p:nvPr/>
        </p:nvSpPr>
        <p:spPr>
          <a:xfrm>
            <a:off x="7089480" y="3886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13"/>
          <p:cNvSpPr/>
          <p:nvPr/>
        </p:nvSpPr>
        <p:spPr>
          <a:xfrm>
            <a:off x="1066680" y="4648320"/>
            <a:ext cx="7772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Найдите и сравните площади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К и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ВС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этого проведите измерения, необходимые для вычис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ей данных треуг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делайте выводы и объясните полученный результ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ая соединительная линия 15"/>
          <p:cNvSpPr/>
          <p:nvPr/>
        </p:nvSpPr>
        <p:spPr>
          <a:xfrm flipH="1" flipV="1">
            <a:off x="2819520" y="1523880"/>
            <a:ext cx="3047760" cy="23097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19"/>
          <p:cNvSpPr/>
          <p:nvPr/>
        </p:nvSpPr>
        <p:spPr>
          <a:xfrm>
            <a:off x="5640840" y="3886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Box 5"/>
          <p:cNvSpPr/>
          <p:nvPr/>
        </p:nvSpPr>
        <p:spPr>
          <a:xfrm>
            <a:off x="3050280" y="380880"/>
            <a:ext cx="30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в групп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3" descr=""/>
          <p:cNvPicPr/>
          <p:nvPr/>
        </p:nvPicPr>
        <p:blipFill>
          <a:blip r:embed="rId1"/>
          <a:stretch/>
        </p:blipFill>
        <p:spPr>
          <a:xfrm>
            <a:off x="1066680" y="4114800"/>
            <a:ext cx="3990960" cy="215568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2" descr=""/>
          <p:cNvPicPr/>
          <p:nvPr/>
        </p:nvPicPr>
        <p:blipFill>
          <a:blip r:embed="rId2"/>
          <a:stretch/>
        </p:blipFill>
        <p:spPr>
          <a:xfrm>
            <a:off x="5086440" y="4191120"/>
            <a:ext cx="4057560" cy="202860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5" descr=""/>
          <p:cNvPicPr/>
          <p:nvPr/>
        </p:nvPicPr>
        <p:blipFill>
          <a:blip r:embed="rId3"/>
          <a:stretch/>
        </p:blipFill>
        <p:spPr>
          <a:xfrm>
            <a:off x="1066680" y="1407960"/>
            <a:ext cx="3886200" cy="22161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4" descr=""/>
          <p:cNvPicPr/>
          <p:nvPr/>
        </p:nvPicPr>
        <p:blipFill>
          <a:blip r:embed="rId4"/>
          <a:stretch/>
        </p:blipFill>
        <p:spPr>
          <a:xfrm>
            <a:off x="4952880" y="1446120"/>
            <a:ext cx="4191120" cy="20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Равнобедренный треугольник 1"/>
          <p:cNvSpPr/>
          <p:nvPr/>
        </p:nvSpPr>
        <p:spPr>
          <a:xfrm>
            <a:off x="1447920" y="152280"/>
            <a:ext cx="914400" cy="13716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Равнобедренный треугольник 2"/>
          <p:cNvSpPr/>
          <p:nvPr/>
        </p:nvSpPr>
        <p:spPr>
          <a:xfrm>
            <a:off x="5638680" y="5105520"/>
            <a:ext cx="3276720" cy="1447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Равнобедренный треугольник 3"/>
          <p:cNvSpPr/>
          <p:nvPr/>
        </p:nvSpPr>
        <p:spPr>
          <a:xfrm>
            <a:off x="4876920" y="685800"/>
            <a:ext cx="2286000" cy="1752480"/>
          </a:xfrm>
          <a:prstGeom prst="triangle">
            <a:avLst>
              <a:gd name="adj" fmla="val 84463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Равнобедренный треугольник 4"/>
          <p:cNvSpPr/>
          <p:nvPr/>
        </p:nvSpPr>
        <p:spPr>
          <a:xfrm>
            <a:off x="3581280" y="2362320"/>
            <a:ext cx="1143000" cy="1676160"/>
          </a:xfrm>
          <a:prstGeom prst="triangle">
            <a:avLst>
              <a:gd name="adj" fmla="val 49366"/>
            </a:avLst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Равнобедренный треугольник 5"/>
          <p:cNvSpPr/>
          <p:nvPr/>
        </p:nvSpPr>
        <p:spPr>
          <a:xfrm flipV="1" rot="10800000">
            <a:off x="1752120" y="2362320"/>
            <a:ext cx="1600200" cy="2286000"/>
          </a:xfrm>
          <a:prstGeom prst="triangle">
            <a:avLst>
              <a:gd name="adj" fmla="val 18463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Равнобедренный треугольник 6"/>
          <p:cNvSpPr/>
          <p:nvPr/>
        </p:nvSpPr>
        <p:spPr>
          <a:xfrm>
            <a:off x="6705720" y="2590920"/>
            <a:ext cx="1828800" cy="16002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Равнобедренный треугольник 7"/>
          <p:cNvSpPr/>
          <p:nvPr/>
        </p:nvSpPr>
        <p:spPr>
          <a:xfrm flipV="1" rot="10800000">
            <a:off x="7467120" y="151200"/>
            <a:ext cx="1676520" cy="2210040"/>
          </a:xfrm>
          <a:prstGeom prst="triangle">
            <a:avLst>
              <a:gd name="adj" fmla="val 80704"/>
            </a:avLst>
          </a:prstGeom>
          <a:solidFill>
            <a:srgbClr val="ff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Равнобедренный треугольник 8"/>
          <p:cNvSpPr/>
          <p:nvPr/>
        </p:nvSpPr>
        <p:spPr>
          <a:xfrm>
            <a:off x="1066680" y="6019920"/>
            <a:ext cx="3886200" cy="83808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Равнобедренный треугольник 9"/>
          <p:cNvSpPr/>
          <p:nvPr/>
        </p:nvSpPr>
        <p:spPr>
          <a:xfrm>
            <a:off x="2743200" y="0"/>
            <a:ext cx="2819520" cy="1752480"/>
          </a:xfrm>
          <a:prstGeom prst="triangle">
            <a:avLst>
              <a:gd name="adj" fmla="val 16065"/>
            </a:avLst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Равнобедренный треугольник 10"/>
          <p:cNvSpPr/>
          <p:nvPr/>
        </p:nvSpPr>
        <p:spPr>
          <a:xfrm>
            <a:off x="8534520" y="4191120"/>
            <a:ext cx="609480" cy="1523880"/>
          </a:xfrm>
          <a:prstGeom prst="triangle">
            <a:avLst>
              <a:gd name="adj" fmla="val 50000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Равнобедренный треугольник 11"/>
          <p:cNvSpPr/>
          <p:nvPr/>
        </p:nvSpPr>
        <p:spPr>
          <a:xfrm>
            <a:off x="4114800" y="4952880"/>
            <a:ext cx="1676520" cy="1371600"/>
          </a:xfrm>
          <a:prstGeom prst="triangle">
            <a:avLst>
              <a:gd name="adj" fmla="val 16620"/>
            </a:avLst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Равнобедренный треугольник 12"/>
          <p:cNvSpPr/>
          <p:nvPr/>
        </p:nvSpPr>
        <p:spPr>
          <a:xfrm>
            <a:off x="1143000" y="4419720"/>
            <a:ext cx="1676520" cy="1371600"/>
          </a:xfrm>
          <a:prstGeom prst="triangle">
            <a:avLst>
              <a:gd name="adj" fmla="val 338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Равнобедренный треугольник 15"/>
          <p:cNvSpPr/>
          <p:nvPr/>
        </p:nvSpPr>
        <p:spPr>
          <a:xfrm>
            <a:off x="1143000" y="1676520"/>
            <a:ext cx="1295280" cy="1523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Равнобедренный треугольник 16"/>
          <p:cNvSpPr/>
          <p:nvPr/>
        </p:nvSpPr>
        <p:spPr>
          <a:xfrm>
            <a:off x="4343400" y="3124080"/>
            <a:ext cx="1676520" cy="1600200"/>
          </a:xfrm>
          <a:prstGeom prst="triangle">
            <a:avLst>
              <a:gd name="adj" fmla="val 90301"/>
            </a:avLst>
          </a:prstGeom>
          <a:solidFill>
            <a:srgbClr val="7f7f7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Равнобедренный треугольник 2"/>
          <p:cNvSpPr/>
          <p:nvPr/>
        </p:nvSpPr>
        <p:spPr>
          <a:xfrm>
            <a:off x="1219320" y="1676520"/>
            <a:ext cx="7619760" cy="4800600"/>
          </a:xfrm>
          <a:prstGeom prst="triangle">
            <a:avLst>
              <a:gd name="adj" fmla="val 75662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3"/>
          <p:cNvSpPr/>
          <p:nvPr/>
        </p:nvSpPr>
        <p:spPr>
          <a:xfrm>
            <a:off x="1158840" y="228600"/>
            <a:ext cx="41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ладшему сыну  - 1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ему сыну   - 2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ршему сыну   - 3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5"/>
          <p:cNvSpPr/>
          <p:nvPr/>
        </p:nvSpPr>
        <p:spPr>
          <a:xfrm>
            <a:off x="5414760" y="228600"/>
            <a:ext cx="7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Прямая соединительная линия 10"/>
          <p:cNvSpPr/>
          <p:nvPr/>
        </p:nvSpPr>
        <p:spPr>
          <a:xfrm>
            <a:off x="5029200" y="6400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Прямая соединительная линия 12"/>
          <p:cNvSpPr/>
          <p:nvPr/>
        </p:nvSpPr>
        <p:spPr>
          <a:xfrm>
            <a:off x="6324480" y="6400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Прямая соединительная линия 14"/>
          <p:cNvSpPr/>
          <p:nvPr/>
        </p:nvSpPr>
        <p:spPr>
          <a:xfrm>
            <a:off x="7620120" y="6400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Прямая соединительная линия 22"/>
          <p:cNvSpPr/>
          <p:nvPr/>
        </p:nvSpPr>
        <p:spPr>
          <a:xfrm>
            <a:off x="3733920" y="6400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Прямая соединительная линия 28"/>
          <p:cNvSpPr/>
          <p:nvPr/>
        </p:nvSpPr>
        <p:spPr>
          <a:xfrm>
            <a:off x="2438280" y="6400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Прямая соединительная линия 30"/>
          <p:cNvSpPr/>
          <p:nvPr/>
        </p:nvSpPr>
        <p:spPr>
          <a:xfrm flipH="1">
            <a:off x="2438280" y="1676520"/>
            <a:ext cx="454680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Прямая соединительная линия 32"/>
          <p:cNvSpPr/>
          <p:nvPr/>
        </p:nvSpPr>
        <p:spPr>
          <a:xfrm flipH="1">
            <a:off x="3733560" y="1676520"/>
            <a:ext cx="3251160" cy="4800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Прямая соединительная линия 34"/>
          <p:cNvSpPr/>
          <p:nvPr/>
        </p:nvSpPr>
        <p:spPr>
          <a:xfrm flipH="1">
            <a:off x="5028840" y="1676520"/>
            <a:ext cx="195588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Прямая соединительная линия 36"/>
          <p:cNvSpPr/>
          <p:nvPr/>
        </p:nvSpPr>
        <p:spPr>
          <a:xfrm flipH="1">
            <a:off x="6324120" y="1676520"/>
            <a:ext cx="66060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Прямая соединительная линия 38"/>
          <p:cNvSpPr/>
          <p:nvPr/>
        </p:nvSpPr>
        <p:spPr>
          <a:xfrm>
            <a:off x="6985080" y="1676520"/>
            <a:ext cx="63504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Прямая соединительная линия 42"/>
          <p:cNvSpPr/>
          <p:nvPr/>
        </p:nvSpPr>
        <p:spPr>
          <a:xfrm>
            <a:off x="6985080" y="1676520"/>
            <a:ext cx="635040" cy="4800600"/>
          </a:xfrm>
          <a:prstGeom prst="line">
            <a:avLst/>
          </a:prstGeom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ая соединительная линия 44"/>
          <p:cNvSpPr/>
          <p:nvPr/>
        </p:nvSpPr>
        <p:spPr>
          <a:xfrm flipH="1">
            <a:off x="5028840" y="1676520"/>
            <a:ext cx="1955880" cy="4800600"/>
          </a:xfrm>
          <a:prstGeom prst="line">
            <a:avLst/>
          </a:prstGeom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Box 1"/>
          <p:cNvSpPr/>
          <p:nvPr/>
        </p:nvSpPr>
        <p:spPr>
          <a:xfrm>
            <a:off x="1157040" y="304920"/>
            <a:ext cx="649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дств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у треугольников равные высо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 их площади относятся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осн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Равнобедренный треугольник 2"/>
          <p:cNvSpPr/>
          <p:nvPr/>
        </p:nvSpPr>
        <p:spPr>
          <a:xfrm>
            <a:off x="2895480" y="2590920"/>
            <a:ext cx="5791320" cy="3200400"/>
          </a:xfrm>
          <a:prstGeom prst="triangle">
            <a:avLst>
              <a:gd name="adj" fmla="val 21921"/>
            </a:avLst>
          </a:prstGeom>
          <a:solidFill>
            <a:srgbClr val="72bfc5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Прямая соединительная линия 4"/>
          <p:cNvSpPr/>
          <p:nvPr/>
        </p:nvSpPr>
        <p:spPr>
          <a:xfrm>
            <a:off x="4165560" y="2590920"/>
            <a:ext cx="1015920" cy="32004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Прямая соединительная линия 6"/>
          <p:cNvSpPr/>
          <p:nvPr/>
        </p:nvSpPr>
        <p:spPr>
          <a:xfrm flipH="1">
            <a:off x="4165200" y="2590920"/>
            <a:ext cx="25560" cy="3200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Прямая соединительная линия 18"/>
          <p:cNvSpPr/>
          <p:nvPr/>
        </p:nvSpPr>
        <p:spPr>
          <a:xfrm>
            <a:off x="4191120" y="5486400"/>
            <a:ext cx="30456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Прямая соединительная линия 20"/>
          <p:cNvSpPr/>
          <p:nvPr/>
        </p:nvSpPr>
        <p:spPr>
          <a:xfrm>
            <a:off x="4495680" y="5486400"/>
            <a:ext cx="0" cy="3049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23"/>
          <p:cNvSpPr/>
          <p:nvPr/>
        </p:nvSpPr>
        <p:spPr>
          <a:xfrm>
            <a:off x="2441520" y="5943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24"/>
          <p:cNvSpPr/>
          <p:nvPr/>
        </p:nvSpPr>
        <p:spPr>
          <a:xfrm>
            <a:off x="3965760" y="1981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25"/>
          <p:cNvSpPr/>
          <p:nvPr/>
        </p:nvSpPr>
        <p:spPr>
          <a:xfrm>
            <a:off x="8461080" y="5943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26"/>
          <p:cNvSpPr/>
          <p:nvPr/>
        </p:nvSpPr>
        <p:spPr>
          <a:xfrm>
            <a:off x="4956120" y="5943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27"/>
          <p:cNvSpPr/>
          <p:nvPr/>
        </p:nvSpPr>
        <p:spPr>
          <a:xfrm>
            <a:off x="3889080" y="5943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2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205452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" descr=""/>
          <p:cNvPicPr/>
          <p:nvPr/>
        </p:nvPicPr>
        <p:blipFill>
          <a:blip r:embed="rId1"/>
          <a:stretch/>
        </p:blipFill>
        <p:spPr>
          <a:xfrm>
            <a:off x="2057400" y="2590920"/>
            <a:ext cx="6186600" cy="3171600"/>
          </a:xfrm>
          <a:prstGeom prst="rect">
            <a:avLst/>
          </a:prstGeom>
          <a:ln w="0">
            <a:noFill/>
          </a:ln>
        </p:spPr>
      </p:pic>
      <p:sp>
        <p:nvSpPr>
          <p:cNvPr id="714" name="TextBox 1"/>
          <p:cNvSpPr/>
          <p:nvPr/>
        </p:nvSpPr>
        <p:spPr>
          <a:xfrm>
            <a:off x="1143000" y="30492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дств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иана треугольника делит его на два равновеликих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3"/>
          <p:cNvSpPr/>
          <p:nvPr/>
        </p:nvSpPr>
        <p:spPr>
          <a:xfrm>
            <a:off x="3737160" y="4038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4"/>
          <p:cNvSpPr/>
          <p:nvPr/>
        </p:nvSpPr>
        <p:spPr>
          <a:xfrm>
            <a:off x="5261040" y="4038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http://www.nikas.nichost.ru/files/1348/photo1543.jpg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6864480"/>
          </a:xfrm>
          <a:prstGeom prst="rect">
            <a:avLst/>
          </a:prstGeom>
          <a:ln w="0">
            <a:noFill/>
          </a:ln>
        </p:spPr>
      </p:pic>
      <p:sp>
        <p:nvSpPr>
          <p:cNvPr id="496" name="TextBox 2"/>
          <p:cNvSpPr/>
          <p:nvPr/>
        </p:nvSpPr>
        <p:spPr>
          <a:xfrm>
            <a:off x="990720" y="4919760"/>
            <a:ext cx="3039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ас Сафронов «Кубический сюжет на тему Дон Кихота и Санчо Панса», 200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3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6386760" cy="5779800"/>
          </a:xfrm>
          <a:prstGeom prst="rect">
            <a:avLst/>
          </a:prstGeom>
          <a:ln w="0">
            <a:noFill/>
          </a:ln>
        </p:spPr>
      </p:pic>
      <p:sp>
        <p:nvSpPr>
          <p:cNvPr id="718" name="TextBox 3"/>
          <p:cNvSpPr/>
          <p:nvPr/>
        </p:nvSpPr>
        <p:spPr>
          <a:xfrm>
            <a:off x="7105320" y="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2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8077320" cy="3571920"/>
          </a:xfrm>
          <a:prstGeom prst="rect">
            <a:avLst/>
          </a:prstGeom>
          <a:ln w="0">
            <a:noFill/>
          </a:ln>
        </p:spPr>
      </p:pic>
      <p:sp>
        <p:nvSpPr>
          <p:cNvPr id="720" name="TextBox 2"/>
          <p:cNvSpPr/>
          <p:nvPr/>
        </p:nvSpPr>
        <p:spPr>
          <a:xfrm>
            <a:off x="1237680" y="15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3"/>
          <p:cNvSpPr/>
          <p:nvPr/>
        </p:nvSpPr>
        <p:spPr>
          <a:xfrm>
            <a:off x="1374480" y="685800"/>
            <a:ext cx="55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читать параграф 52, решить в тетради задач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Овал 28"/>
          <p:cNvGrpSpPr/>
          <p:nvPr/>
        </p:nvGrpSpPr>
        <p:grpSpPr>
          <a:xfrm>
            <a:off x="4552920" y="5010120"/>
            <a:ext cx="1592280" cy="1658880"/>
            <a:chOff x="4552920" y="5010120"/>
            <a:chExt cx="1592280" cy="1658880"/>
          </a:xfrm>
        </p:grpSpPr>
        <p:pic>
          <p:nvPicPr>
            <p:cNvPr id="723" name="Овал 28" descr=""/>
            <p:cNvPicPr/>
            <p:nvPr/>
          </p:nvPicPr>
          <p:blipFill>
            <a:blip r:embed="rId1"/>
            <a:stretch/>
          </p:blipFill>
          <p:spPr>
            <a:xfrm>
              <a:off x="4552920" y="5010120"/>
              <a:ext cx="159228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 rot="10800000">
              <a:off x="4798800" y="5267160"/>
              <a:ext cx="109836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Овал 25"/>
          <p:cNvGrpSpPr/>
          <p:nvPr/>
        </p:nvGrpSpPr>
        <p:grpSpPr>
          <a:xfrm>
            <a:off x="7321680" y="4950000"/>
            <a:ext cx="1590480" cy="1663560"/>
            <a:chOff x="7321680" y="4950000"/>
            <a:chExt cx="1590480" cy="1663560"/>
          </a:xfrm>
        </p:grpSpPr>
        <p:pic>
          <p:nvPicPr>
            <p:cNvPr id="726" name="Овал 25" descr=""/>
            <p:cNvPicPr/>
            <p:nvPr/>
          </p:nvPicPr>
          <p:blipFill>
            <a:blip r:embed="rId2"/>
            <a:stretch/>
          </p:blipFill>
          <p:spPr>
            <a:xfrm>
              <a:off x="7321680" y="4950000"/>
              <a:ext cx="1590480" cy="16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 rot="10800000">
              <a:off x="7567200" y="5208480"/>
              <a:ext cx="109692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Овал 27"/>
          <p:cNvGrpSpPr/>
          <p:nvPr/>
        </p:nvGrpSpPr>
        <p:grpSpPr>
          <a:xfrm>
            <a:off x="7570800" y="3840120"/>
            <a:ext cx="1592280" cy="1658880"/>
            <a:chOff x="7570800" y="3840120"/>
            <a:chExt cx="1592280" cy="1658880"/>
          </a:xfrm>
        </p:grpSpPr>
        <p:pic>
          <p:nvPicPr>
            <p:cNvPr id="729" name="Овал 27" descr=""/>
            <p:cNvPicPr/>
            <p:nvPr/>
          </p:nvPicPr>
          <p:blipFill>
            <a:blip r:embed="rId3"/>
            <a:stretch/>
          </p:blipFill>
          <p:spPr>
            <a:xfrm>
              <a:off x="7570800" y="3840120"/>
              <a:ext cx="159228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 rot="10800000">
              <a:off x="7818120" y="4094280"/>
              <a:ext cx="1098360" cy="11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Овал 26"/>
          <p:cNvGrpSpPr/>
          <p:nvPr/>
        </p:nvGrpSpPr>
        <p:grpSpPr>
          <a:xfrm>
            <a:off x="7753320" y="2712960"/>
            <a:ext cx="1592280" cy="1663920"/>
            <a:chOff x="7753320" y="2712960"/>
            <a:chExt cx="1592280" cy="1663920"/>
          </a:xfrm>
        </p:grpSpPr>
        <p:pic>
          <p:nvPicPr>
            <p:cNvPr id="732" name="Овал 26" descr=""/>
            <p:cNvPicPr/>
            <p:nvPr/>
          </p:nvPicPr>
          <p:blipFill>
            <a:blip r:embed="rId4"/>
            <a:stretch/>
          </p:blipFill>
          <p:spPr>
            <a:xfrm>
              <a:off x="7753320" y="2712960"/>
              <a:ext cx="1592280" cy="16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 rot="10800000">
              <a:off x="8002440" y="2971800"/>
              <a:ext cx="109728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Овал 4"/>
          <p:cNvGrpSpPr/>
          <p:nvPr/>
        </p:nvGrpSpPr>
        <p:grpSpPr>
          <a:xfrm>
            <a:off x="5973840" y="4932360"/>
            <a:ext cx="1590480" cy="1657440"/>
            <a:chOff x="5973840" y="4932360"/>
            <a:chExt cx="1590480" cy="1657440"/>
          </a:xfrm>
        </p:grpSpPr>
        <p:pic>
          <p:nvPicPr>
            <p:cNvPr id="735" name="Овал 4" descr=""/>
            <p:cNvPicPr/>
            <p:nvPr/>
          </p:nvPicPr>
          <p:blipFill>
            <a:blip r:embed="rId5"/>
            <a:stretch/>
          </p:blipFill>
          <p:spPr>
            <a:xfrm>
              <a:off x="5973840" y="4932360"/>
              <a:ext cx="159048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 rot="10800000">
              <a:off x="6221160" y="5184720"/>
              <a:ext cx="1096920" cy="11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Овал 19"/>
          <p:cNvGrpSpPr/>
          <p:nvPr/>
        </p:nvGrpSpPr>
        <p:grpSpPr>
          <a:xfrm>
            <a:off x="5900760" y="3743280"/>
            <a:ext cx="1590480" cy="1657440"/>
            <a:chOff x="5900760" y="3743280"/>
            <a:chExt cx="1590480" cy="1657440"/>
          </a:xfrm>
        </p:grpSpPr>
        <p:pic>
          <p:nvPicPr>
            <p:cNvPr id="738" name="Овал 19" descr=""/>
            <p:cNvPicPr/>
            <p:nvPr/>
          </p:nvPicPr>
          <p:blipFill>
            <a:blip r:embed="rId6"/>
            <a:stretch/>
          </p:blipFill>
          <p:spPr>
            <a:xfrm>
              <a:off x="5900760" y="3743280"/>
              <a:ext cx="159048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 rot="10800000">
              <a:off x="6148080" y="4000680"/>
              <a:ext cx="1098360" cy="11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Овал 24"/>
          <p:cNvGrpSpPr/>
          <p:nvPr/>
        </p:nvGrpSpPr>
        <p:grpSpPr>
          <a:xfrm>
            <a:off x="4175280" y="4022640"/>
            <a:ext cx="1585800" cy="1658880"/>
            <a:chOff x="4175280" y="4022640"/>
            <a:chExt cx="1585800" cy="1658880"/>
          </a:xfrm>
        </p:grpSpPr>
        <p:pic>
          <p:nvPicPr>
            <p:cNvPr id="741" name="Овал 24" descr=""/>
            <p:cNvPicPr/>
            <p:nvPr/>
          </p:nvPicPr>
          <p:blipFill>
            <a:blip r:embed="rId7"/>
            <a:stretch/>
          </p:blipFill>
          <p:spPr>
            <a:xfrm>
              <a:off x="4175280" y="4022640"/>
              <a:ext cx="158580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 rot="10800000">
              <a:off x="4417920" y="4276800"/>
              <a:ext cx="109872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3" name="Picture 2" descr="http://utem.org.ua/assets/uploads/images/tiny/109296900_voprositelnuyy_znak_zelenuyy_chelovechek.jpg"/>
          <p:cNvPicPr/>
          <p:nvPr/>
        </p:nvPicPr>
        <p:blipFill>
          <a:blip r:embed="rId8"/>
          <a:stretch/>
        </p:blipFill>
        <p:spPr>
          <a:xfrm>
            <a:off x="371520" y="2571840"/>
            <a:ext cx="4475160" cy="4603680"/>
          </a:xfrm>
          <a:prstGeom prst="rect">
            <a:avLst/>
          </a:prstGeom>
          <a:ln w="0">
            <a:noFill/>
          </a:ln>
        </p:spPr>
      </p:pic>
      <p:grpSp>
        <p:nvGrpSpPr>
          <p:cNvPr id="744" name="Овал 22"/>
          <p:cNvGrpSpPr/>
          <p:nvPr/>
        </p:nvGrpSpPr>
        <p:grpSpPr>
          <a:xfrm>
            <a:off x="3718080" y="2876400"/>
            <a:ext cx="1585800" cy="1659240"/>
            <a:chOff x="3718080" y="2876400"/>
            <a:chExt cx="1585800" cy="1659240"/>
          </a:xfrm>
        </p:grpSpPr>
        <p:pic>
          <p:nvPicPr>
            <p:cNvPr id="745" name="Овал 22" descr=""/>
            <p:cNvPicPr/>
            <p:nvPr/>
          </p:nvPicPr>
          <p:blipFill>
            <a:blip r:embed="rId9"/>
            <a:stretch/>
          </p:blipFill>
          <p:spPr>
            <a:xfrm>
              <a:off x="3718080" y="2876400"/>
              <a:ext cx="1585800" cy="165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"/>
            <p:cNvSpPr/>
            <p:nvPr/>
          </p:nvSpPr>
          <p:spPr>
            <a:xfrm rot="10800000">
              <a:off x="3960720" y="3133800"/>
              <a:ext cx="109872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Овал 20"/>
          <p:cNvGrpSpPr/>
          <p:nvPr/>
        </p:nvGrpSpPr>
        <p:grpSpPr>
          <a:xfrm>
            <a:off x="5834160" y="2481120"/>
            <a:ext cx="1584360" cy="1657440"/>
            <a:chOff x="5834160" y="2481120"/>
            <a:chExt cx="1584360" cy="1657440"/>
          </a:xfrm>
        </p:grpSpPr>
        <p:pic>
          <p:nvPicPr>
            <p:cNvPr id="748" name="Овал 20" descr=""/>
            <p:cNvPicPr/>
            <p:nvPr/>
          </p:nvPicPr>
          <p:blipFill>
            <a:blip r:embed="rId10"/>
            <a:stretch/>
          </p:blipFill>
          <p:spPr>
            <a:xfrm>
              <a:off x="5834160" y="2481120"/>
              <a:ext cx="1584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 rot="10800000">
              <a:off x="6078240" y="2735280"/>
              <a:ext cx="109692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TextBox 2"/>
          <p:cNvSpPr/>
          <p:nvPr/>
        </p:nvSpPr>
        <p:spPr>
          <a:xfrm>
            <a:off x="1041480" y="0"/>
            <a:ext cx="810252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ли тебе интересно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ли урок полезе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(а) ли ты активен(на)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л ли ты новые знани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а ли обстановка на уроке     доброжелательн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олилиния 6"/>
          <p:cNvSpPr/>
          <p:nvPr/>
        </p:nvSpPr>
        <p:spPr>
          <a:xfrm>
            <a:off x="4343400" y="3581280"/>
            <a:ext cx="252360" cy="401760"/>
          </a:xfrm>
          <a:custGeom>
            <a:avLst/>
            <a:gdLst/>
            <a:ahLst/>
            <a:rect l="l" t="t" r="r" b="b"/>
            <a:pathLst>
              <a:path w="267287" h="553330">
                <a:moveTo>
                  <a:pt x="0" y="63305"/>
                </a:moveTo>
                <a:cubicBezTo>
                  <a:pt x="69166" y="188742"/>
                  <a:pt x="138333" y="314179"/>
                  <a:pt x="168813" y="386862"/>
                </a:cubicBezTo>
                <a:cubicBezTo>
                  <a:pt x="199293" y="459545"/>
                  <a:pt x="168812" y="553330"/>
                  <a:pt x="182880" y="499404"/>
                </a:cubicBezTo>
                <a:cubicBezTo>
                  <a:pt x="196948" y="445478"/>
                  <a:pt x="239151" y="126610"/>
                  <a:pt x="253219" y="63305"/>
                </a:cubicBezTo>
                <a:cubicBezTo>
                  <a:pt x="267287" y="0"/>
                  <a:pt x="267287" y="110198"/>
                  <a:pt x="267287" y="119576"/>
                </a:cubicBezTo>
                <a:cubicBezTo>
                  <a:pt x="267287" y="128954"/>
                  <a:pt x="260253" y="124265"/>
                  <a:pt x="253219" y="119576"/>
                </a:cubicBez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Полилиния 8"/>
          <p:cNvSpPr/>
          <p:nvPr/>
        </p:nvSpPr>
        <p:spPr>
          <a:xfrm>
            <a:off x="4626000" y="4226040"/>
            <a:ext cx="252360" cy="399960"/>
          </a:xfrm>
          <a:custGeom>
            <a:avLst/>
            <a:gdLst/>
            <a:ahLst/>
            <a:rect l="l" t="t" r="r" b="b"/>
            <a:pathLst>
              <a:path w="267287" h="553330">
                <a:moveTo>
                  <a:pt x="0" y="63305"/>
                </a:moveTo>
                <a:cubicBezTo>
                  <a:pt x="69166" y="188742"/>
                  <a:pt x="138333" y="314179"/>
                  <a:pt x="168813" y="386862"/>
                </a:cubicBezTo>
                <a:cubicBezTo>
                  <a:pt x="199293" y="459545"/>
                  <a:pt x="168812" y="553330"/>
                  <a:pt x="182880" y="499404"/>
                </a:cubicBezTo>
                <a:cubicBezTo>
                  <a:pt x="196948" y="445478"/>
                  <a:pt x="239151" y="126610"/>
                  <a:pt x="253219" y="63305"/>
                </a:cubicBezTo>
                <a:cubicBezTo>
                  <a:pt x="267287" y="0"/>
                  <a:pt x="267287" y="110198"/>
                  <a:pt x="267287" y="119576"/>
                </a:cubicBezTo>
                <a:cubicBezTo>
                  <a:pt x="267287" y="128954"/>
                  <a:pt x="260253" y="124265"/>
                  <a:pt x="253219" y="119576"/>
                </a:cubicBez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Полилиния 9"/>
          <p:cNvSpPr/>
          <p:nvPr/>
        </p:nvSpPr>
        <p:spPr>
          <a:xfrm>
            <a:off x="4890960" y="4714920"/>
            <a:ext cx="252720" cy="401760"/>
          </a:xfrm>
          <a:custGeom>
            <a:avLst/>
            <a:gdLst/>
            <a:ahLst/>
            <a:rect l="l" t="t" r="r" b="b"/>
            <a:pathLst>
              <a:path w="267287" h="553330">
                <a:moveTo>
                  <a:pt x="0" y="63305"/>
                </a:moveTo>
                <a:cubicBezTo>
                  <a:pt x="69166" y="188742"/>
                  <a:pt x="138333" y="314179"/>
                  <a:pt x="168813" y="386862"/>
                </a:cubicBezTo>
                <a:cubicBezTo>
                  <a:pt x="199293" y="459545"/>
                  <a:pt x="168812" y="553330"/>
                  <a:pt x="182880" y="499404"/>
                </a:cubicBezTo>
                <a:cubicBezTo>
                  <a:pt x="196948" y="445478"/>
                  <a:pt x="239151" y="126610"/>
                  <a:pt x="253219" y="63305"/>
                </a:cubicBezTo>
                <a:cubicBezTo>
                  <a:pt x="267287" y="0"/>
                  <a:pt x="267287" y="110198"/>
                  <a:pt x="267287" y="119576"/>
                </a:cubicBezTo>
                <a:cubicBezTo>
                  <a:pt x="267287" y="128954"/>
                  <a:pt x="260253" y="124265"/>
                  <a:pt x="253219" y="119576"/>
                </a:cubicBez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Полилиния 10"/>
          <p:cNvSpPr/>
          <p:nvPr/>
        </p:nvSpPr>
        <p:spPr>
          <a:xfrm>
            <a:off x="5141880" y="5205240"/>
            <a:ext cx="252360" cy="400320"/>
          </a:xfrm>
          <a:custGeom>
            <a:avLst/>
            <a:gdLst/>
            <a:ahLst/>
            <a:rect l="l" t="t" r="r" b="b"/>
            <a:pathLst>
              <a:path w="267287" h="553330">
                <a:moveTo>
                  <a:pt x="0" y="63305"/>
                </a:moveTo>
                <a:cubicBezTo>
                  <a:pt x="69166" y="188742"/>
                  <a:pt x="138333" y="314179"/>
                  <a:pt x="168813" y="386862"/>
                </a:cubicBezTo>
                <a:cubicBezTo>
                  <a:pt x="199293" y="459545"/>
                  <a:pt x="168812" y="553330"/>
                  <a:pt x="182880" y="499404"/>
                </a:cubicBezTo>
                <a:cubicBezTo>
                  <a:pt x="196948" y="445478"/>
                  <a:pt x="239151" y="126610"/>
                  <a:pt x="253219" y="63305"/>
                </a:cubicBezTo>
                <a:cubicBezTo>
                  <a:pt x="267287" y="0"/>
                  <a:pt x="267287" y="110198"/>
                  <a:pt x="267287" y="119576"/>
                </a:cubicBezTo>
                <a:cubicBezTo>
                  <a:pt x="267287" y="128954"/>
                  <a:pt x="260253" y="124265"/>
                  <a:pt x="253219" y="119576"/>
                </a:cubicBez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Полилиния 11"/>
          <p:cNvSpPr/>
          <p:nvPr/>
        </p:nvSpPr>
        <p:spPr>
          <a:xfrm>
            <a:off x="5410080" y="5715000"/>
            <a:ext cx="254160" cy="401760"/>
          </a:xfrm>
          <a:custGeom>
            <a:avLst/>
            <a:gdLst/>
            <a:ahLst/>
            <a:rect l="l" t="t" r="r" b="b"/>
            <a:pathLst>
              <a:path w="267287" h="553330">
                <a:moveTo>
                  <a:pt x="0" y="63305"/>
                </a:moveTo>
                <a:cubicBezTo>
                  <a:pt x="69166" y="188742"/>
                  <a:pt x="138333" y="314179"/>
                  <a:pt x="168813" y="386862"/>
                </a:cubicBezTo>
                <a:cubicBezTo>
                  <a:pt x="199293" y="459545"/>
                  <a:pt x="168812" y="553330"/>
                  <a:pt x="182880" y="499404"/>
                </a:cubicBezTo>
                <a:cubicBezTo>
                  <a:pt x="196948" y="445478"/>
                  <a:pt x="239151" y="126610"/>
                  <a:pt x="253219" y="63305"/>
                </a:cubicBezTo>
                <a:cubicBezTo>
                  <a:pt x="267287" y="0"/>
                  <a:pt x="267287" y="110198"/>
                  <a:pt x="267287" y="119576"/>
                </a:cubicBezTo>
                <a:cubicBezTo>
                  <a:pt x="267287" y="128954"/>
                  <a:pt x="260253" y="124265"/>
                  <a:pt x="253219" y="119576"/>
                </a:cubicBez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Полилиния 12"/>
          <p:cNvSpPr/>
          <p:nvPr/>
        </p:nvSpPr>
        <p:spPr>
          <a:xfrm>
            <a:off x="6510240" y="3352680"/>
            <a:ext cx="254160" cy="401760"/>
          </a:xfrm>
          <a:custGeom>
            <a:avLst/>
            <a:gdLst/>
            <a:ahLst/>
            <a:rect l="l" t="t" r="r" b="b"/>
            <a:pathLst>
              <a:path w="267287" h="553330">
                <a:moveTo>
                  <a:pt x="0" y="63305"/>
                </a:moveTo>
                <a:cubicBezTo>
                  <a:pt x="69166" y="188742"/>
                  <a:pt x="138333" y="314179"/>
                  <a:pt x="168813" y="386862"/>
                </a:cubicBezTo>
                <a:cubicBezTo>
                  <a:pt x="199293" y="459545"/>
                  <a:pt x="168812" y="553330"/>
                  <a:pt x="182880" y="499404"/>
                </a:cubicBezTo>
                <a:cubicBezTo>
                  <a:pt x="196948" y="445478"/>
                  <a:pt x="239151" y="126610"/>
                  <a:pt x="253219" y="63305"/>
                </a:cubicBezTo>
                <a:cubicBezTo>
                  <a:pt x="267287" y="0"/>
                  <a:pt x="267287" y="110198"/>
                  <a:pt x="267287" y="119576"/>
                </a:cubicBezTo>
                <a:cubicBezTo>
                  <a:pt x="267287" y="128954"/>
                  <a:pt x="260253" y="124265"/>
                  <a:pt x="253219" y="119576"/>
                </a:cubicBez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Полилиния 13"/>
          <p:cNvSpPr/>
          <p:nvPr/>
        </p:nvSpPr>
        <p:spPr>
          <a:xfrm>
            <a:off x="6564240" y="5518080"/>
            <a:ext cx="254160" cy="399960"/>
          </a:xfrm>
          <a:custGeom>
            <a:avLst/>
            <a:gdLst/>
            <a:ahLst/>
            <a:rect l="l" t="t" r="r" b="b"/>
            <a:pathLst>
              <a:path w="267287" h="553330">
                <a:moveTo>
                  <a:pt x="0" y="63305"/>
                </a:moveTo>
                <a:cubicBezTo>
                  <a:pt x="69166" y="188742"/>
                  <a:pt x="138333" y="314179"/>
                  <a:pt x="168813" y="386862"/>
                </a:cubicBezTo>
                <a:cubicBezTo>
                  <a:pt x="199293" y="459545"/>
                  <a:pt x="168812" y="553330"/>
                  <a:pt x="182880" y="499404"/>
                </a:cubicBezTo>
                <a:cubicBezTo>
                  <a:pt x="196948" y="445478"/>
                  <a:pt x="239151" y="126610"/>
                  <a:pt x="253219" y="63305"/>
                </a:cubicBezTo>
                <a:cubicBezTo>
                  <a:pt x="267287" y="0"/>
                  <a:pt x="267287" y="110198"/>
                  <a:pt x="267287" y="119576"/>
                </a:cubicBezTo>
                <a:cubicBezTo>
                  <a:pt x="267287" y="128954"/>
                  <a:pt x="260253" y="124265"/>
                  <a:pt x="253219" y="119576"/>
                </a:cubicBez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Полилиния 14"/>
          <p:cNvSpPr/>
          <p:nvPr/>
        </p:nvSpPr>
        <p:spPr>
          <a:xfrm>
            <a:off x="6534000" y="4010040"/>
            <a:ext cx="252720" cy="399960"/>
          </a:xfrm>
          <a:custGeom>
            <a:avLst/>
            <a:gdLst/>
            <a:ahLst/>
            <a:rect l="l" t="t" r="r" b="b"/>
            <a:pathLst>
              <a:path w="267287" h="553330">
                <a:moveTo>
                  <a:pt x="0" y="63305"/>
                </a:moveTo>
                <a:cubicBezTo>
                  <a:pt x="69166" y="188742"/>
                  <a:pt x="138333" y="314179"/>
                  <a:pt x="168813" y="386862"/>
                </a:cubicBezTo>
                <a:cubicBezTo>
                  <a:pt x="199293" y="459545"/>
                  <a:pt x="168812" y="553330"/>
                  <a:pt x="182880" y="499404"/>
                </a:cubicBezTo>
                <a:cubicBezTo>
                  <a:pt x="196948" y="445478"/>
                  <a:pt x="239151" y="126610"/>
                  <a:pt x="253219" y="63305"/>
                </a:cubicBezTo>
                <a:cubicBezTo>
                  <a:pt x="267287" y="0"/>
                  <a:pt x="267287" y="110198"/>
                  <a:pt x="267287" y="119576"/>
                </a:cubicBezTo>
                <a:cubicBezTo>
                  <a:pt x="267287" y="128954"/>
                  <a:pt x="260253" y="124265"/>
                  <a:pt x="253219" y="119576"/>
                </a:cubicBez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Полилиния 15"/>
          <p:cNvSpPr/>
          <p:nvPr/>
        </p:nvSpPr>
        <p:spPr>
          <a:xfrm>
            <a:off x="6546960" y="4751280"/>
            <a:ext cx="252360" cy="401760"/>
          </a:xfrm>
          <a:custGeom>
            <a:avLst/>
            <a:gdLst/>
            <a:ahLst/>
            <a:rect l="l" t="t" r="r" b="b"/>
            <a:pathLst>
              <a:path w="267287" h="553330">
                <a:moveTo>
                  <a:pt x="0" y="63305"/>
                </a:moveTo>
                <a:cubicBezTo>
                  <a:pt x="69166" y="188742"/>
                  <a:pt x="138333" y="314179"/>
                  <a:pt x="168813" y="386862"/>
                </a:cubicBezTo>
                <a:cubicBezTo>
                  <a:pt x="199293" y="459545"/>
                  <a:pt x="168812" y="553330"/>
                  <a:pt x="182880" y="499404"/>
                </a:cubicBezTo>
                <a:cubicBezTo>
                  <a:pt x="196948" y="445478"/>
                  <a:pt x="239151" y="126610"/>
                  <a:pt x="253219" y="63305"/>
                </a:cubicBezTo>
                <a:cubicBezTo>
                  <a:pt x="267287" y="0"/>
                  <a:pt x="267287" y="110198"/>
                  <a:pt x="267287" y="119576"/>
                </a:cubicBezTo>
                <a:cubicBezTo>
                  <a:pt x="267287" y="128954"/>
                  <a:pt x="260253" y="124265"/>
                  <a:pt x="253219" y="119576"/>
                </a:cubicBez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Полилиния 16"/>
          <p:cNvSpPr/>
          <p:nvPr/>
        </p:nvSpPr>
        <p:spPr>
          <a:xfrm>
            <a:off x="8352000" y="3478320"/>
            <a:ext cx="252360" cy="401400"/>
          </a:xfrm>
          <a:custGeom>
            <a:avLst/>
            <a:gdLst/>
            <a:ahLst/>
            <a:rect l="l" t="t" r="r" b="b"/>
            <a:pathLst>
              <a:path w="267287" h="553330">
                <a:moveTo>
                  <a:pt x="0" y="63305"/>
                </a:moveTo>
                <a:cubicBezTo>
                  <a:pt x="69166" y="188742"/>
                  <a:pt x="138333" y="314179"/>
                  <a:pt x="168813" y="386862"/>
                </a:cubicBezTo>
                <a:cubicBezTo>
                  <a:pt x="199293" y="459545"/>
                  <a:pt x="168812" y="553330"/>
                  <a:pt x="182880" y="499404"/>
                </a:cubicBezTo>
                <a:cubicBezTo>
                  <a:pt x="196948" y="445478"/>
                  <a:pt x="239151" y="126610"/>
                  <a:pt x="253219" y="63305"/>
                </a:cubicBezTo>
                <a:cubicBezTo>
                  <a:pt x="267287" y="0"/>
                  <a:pt x="267287" y="110198"/>
                  <a:pt x="267287" y="119576"/>
                </a:cubicBezTo>
                <a:cubicBezTo>
                  <a:pt x="267287" y="128954"/>
                  <a:pt x="260253" y="124265"/>
                  <a:pt x="253219" y="119576"/>
                </a:cubicBez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Полилиния 17"/>
          <p:cNvSpPr/>
          <p:nvPr/>
        </p:nvSpPr>
        <p:spPr>
          <a:xfrm>
            <a:off x="8196120" y="4346640"/>
            <a:ext cx="252720" cy="399960"/>
          </a:xfrm>
          <a:custGeom>
            <a:avLst/>
            <a:gdLst/>
            <a:ahLst/>
            <a:rect l="l" t="t" r="r" b="b"/>
            <a:pathLst>
              <a:path w="267287" h="553330">
                <a:moveTo>
                  <a:pt x="0" y="63305"/>
                </a:moveTo>
                <a:cubicBezTo>
                  <a:pt x="69166" y="188742"/>
                  <a:pt x="138333" y="314179"/>
                  <a:pt x="168813" y="386862"/>
                </a:cubicBezTo>
                <a:cubicBezTo>
                  <a:pt x="199293" y="459545"/>
                  <a:pt x="168812" y="553330"/>
                  <a:pt x="182880" y="499404"/>
                </a:cubicBezTo>
                <a:cubicBezTo>
                  <a:pt x="196948" y="445478"/>
                  <a:pt x="239151" y="126610"/>
                  <a:pt x="253219" y="63305"/>
                </a:cubicBezTo>
                <a:cubicBezTo>
                  <a:pt x="267287" y="0"/>
                  <a:pt x="267287" y="110198"/>
                  <a:pt x="267287" y="119576"/>
                </a:cubicBezTo>
                <a:cubicBezTo>
                  <a:pt x="267287" y="128954"/>
                  <a:pt x="260253" y="124265"/>
                  <a:pt x="253219" y="119576"/>
                </a:cubicBez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Полилиния 18"/>
          <p:cNvSpPr/>
          <p:nvPr/>
        </p:nvSpPr>
        <p:spPr>
          <a:xfrm>
            <a:off x="7937640" y="5442120"/>
            <a:ext cx="253800" cy="399960"/>
          </a:xfrm>
          <a:custGeom>
            <a:avLst/>
            <a:gdLst/>
            <a:ahLst/>
            <a:rect l="l" t="t" r="r" b="b"/>
            <a:pathLst>
              <a:path w="267287" h="553330">
                <a:moveTo>
                  <a:pt x="0" y="63305"/>
                </a:moveTo>
                <a:cubicBezTo>
                  <a:pt x="69166" y="188742"/>
                  <a:pt x="138333" y="314179"/>
                  <a:pt x="168813" y="386862"/>
                </a:cubicBezTo>
                <a:cubicBezTo>
                  <a:pt x="199293" y="459545"/>
                  <a:pt x="168812" y="553330"/>
                  <a:pt x="182880" y="499404"/>
                </a:cubicBezTo>
                <a:cubicBezTo>
                  <a:pt x="196948" y="445478"/>
                  <a:pt x="239151" y="126610"/>
                  <a:pt x="253219" y="63305"/>
                </a:cubicBezTo>
                <a:cubicBezTo>
                  <a:pt x="267287" y="0"/>
                  <a:pt x="267287" y="110198"/>
                  <a:pt x="267287" y="119576"/>
                </a:cubicBezTo>
                <a:cubicBezTo>
                  <a:pt x="267287" y="128954"/>
                  <a:pt x="260253" y="124265"/>
                  <a:pt x="253219" y="119576"/>
                </a:cubicBez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2" descr="http://nikas.ru/files/1348/photo1541.jpg"/>
          <p:cNvPicPr/>
          <p:nvPr/>
        </p:nvPicPr>
        <p:blipFill>
          <a:blip r:embed="rId1"/>
          <a:stretch/>
        </p:blipFill>
        <p:spPr>
          <a:xfrm>
            <a:off x="2895480" y="-4680"/>
            <a:ext cx="6248520" cy="6394320"/>
          </a:xfrm>
          <a:prstGeom prst="rect">
            <a:avLst/>
          </a:prstGeom>
          <a:ln w="0">
            <a:noFill/>
          </a:ln>
        </p:spPr>
      </p:pic>
      <p:sp>
        <p:nvSpPr>
          <p:cNvPr id="498" name="TextBox 2"/>
          <p:cNvSpPr/>
          <p:nvPr/>
        </p:nvSpPr>
        <p:spPr>
          <a:xfrm>
            <a:off x="1066680" y="4919760"/>
            <a:ext cx="243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ас Сафронов «Двойной портрет в кубизме», 200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Прямоугольник 1"/>
          <p:cNvSpPr/>
          <p:nvPr/>
        </p:nvSpPr>
        <p:spPr>
          <a:xfrm>
            <a:off x="1365120" y="1279440"/>
            <a:ext cx="75121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уби́зм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— модернистское направление в изобразительном искусстве, прежде всего в живописи, зародившееся в начале XX века во Франции и характеризующееся использованием подчёркнуто геометризованных условных фор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http://nikas.ru/files/1348/photo1541.jpg"/>
          <p:cNvPicPr/>
          <p:nvPr/>
        </p:nvPicPr>
        <p:blipFill>
          <a:blip r:embed="rId1"/>
          <a:stretch/>
        </p:blipFill>
        <p:spPr>
          <a:xfrm>
            <a:off x="2438280" y="-4680"/>
            <a:ext cx="6705720" cy="6862680"/>
          </a:xfrm>
          <a:prstGeom prst="rect">
            <a:avLst/>
          </a:prstGeom>
          <a:ln w="0">
            <a:noFill/>
          </a:ln>
        </p:spPr>
      </p:pic>
      <p:sp>
        <p:nvSpPr>
          <p:cNvPr id="501" name="Прямая соединительная линия 4"/>
          <p:cNvSpPr/>
          <p:nvPr/>
        </p:nvSpPr>
        <p:spPr>
          <a:xfrm flipV="1">
            <a:off x="2438280" y="-360"/>
            <a:ext cx="1371600" cy="160020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ая соединительная линия 6"/>
          <p:cNvSpPr/>
          <p:nvPr/>
        </p:nvSpPr>
        <p:spPr>
          <a:xfrm>
            <a:off x="3809880" y="0"/>
            <a:ext cx="76320" cy="68580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ая соединительная линия 8"/>
          <p:cNvSpPr/>
          <p:nvPr/>
        </p:nvSpPr>
        <p:spPr>
          <a:xfrm flipH="1">
            <a:off x="2438280" y="685800"/>
            <a:ext cx="1447920" cy="91440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Прямая соединительная линия 1"/>
          <p:cNvSpPr/>
          <p:nvPr/>
        </p:nvSpPr>
        <p:spPr>
          <a:xfrm flipV="1">
            <a:off x="2819520" y="1371600"/>
            <a:ext cx="3047760" cy="419112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ая соединительная линия 2"/>
          <p:cNvSpPr/>
          <p:nvPr/>
        </p:nvSpPr>
        <p:spPr>
          <a:xfrm>
            <a:off x="5867280" y="1371600"/>
            <a:ext cx="152640" cy="198108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ая соединительная линия 3"/>
          <p:cNvSpPr/>
          <p:nvPr/>
        </p:nvSpPr>
        <p:spPr>
          <a:xfrm flipH="1">
            <a:off x="2819520" y="3352680"/>
            <a:ext cx="3200400" cy="221004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ая соединительная линия 16"/>
          <p:cNvSpPr/>
          <p:nvPr/>
        </p:nvSpPr>
        <p:spPr>
          <a:xfrm flipV="1">
            <a:off x="2819520" y="3352320"/>
            <a:ext cx="3200400" cy="2210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ая соединительная линия 18"/>
          <p:cNvSpPr/>
          <p:nvPr/>
        </p:nvSpPr>
        <p:spPr>
          <a:xfrm flipV="1">
            <a:off x="2819520" y="1371600"/>
            <a:ext cx="3047760" cy="4191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ая соединительная линия 20"/>
          <p:cNvSpPr/>
          <p:nvPr/>
        </p:nvSpPr>
        <p:spPr>
          <a:xfrm>
            <a:off x="5867280" y="1371600"/>
            <a:ext cx="152640" cy="1981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ая соединительная линия 22"/>
          <p:cNvSpPr/>
          <p:nvPr/>
        </p:nvSpPr>
        <p:spPr>
          <a:xfrm flipH="1" flipV="1">
            <a:off x="4952880" y="2590920"/>
            <a:ext cx="1067040" cy="76176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ая соединительная линия 52"/>
          <p:cNvSpPr/>
          <p:nvPr/>
        </p:nvSpPr>
        <p:spPr>
          <a:xfrm flipV="1">
            <a:off x="6019920" y="2133720"/>
            <a:ext cx="1904760" cy="121896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54"/>
          <p:cNvSpPr/>
          <p:nvPr/>
        </p:nvSpPr>
        <p:spPr>
          <a:xfrm>
            <a:off x="5867280" y="1371600"/>
            <a:ext cx="838440" cy="152388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ая соединительная линия 56"/>
          <p:cNvSpPr/>
          <p:nvPr/>
        </p:nvSpPr>
        <p:spPr>
          <a:xfrm>
            <a:off x="6019920" y="3352680"/>
            <a:ext cx="152280" cy="251460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ая соединительная линия 58"/>
          <p:cNvSpPr/>
          <p:nvPr/>
        </p:nvSpPr>
        <p:spPr>
          <a:xfrm flipV="1">
            <a:off x="2819520" y="5333760"/>
            <a:ext cx="3352680" cy="2286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2"/>
          <p:cNvSpPr/>
          <p:nvPr/>
        </p:nvSpPr>
        <p:spPr>
          <a:xfrm>
            <a:off x="2517480" y="5791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3"/>
          <p:cNvSpPr/>
          <p:nvPr/>
        </p:nvSpPr>
        <p:spPr>
          <a:xfrm>
            <a:off x="5108040" y="1371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14"/>
          <p:cNvSpPr/>
          <p:nvPr/>
        </p:nvSpPr>
        <p:spPr>
          <a:xfrm>
            <a:off x="6095880" y="3429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Прямоугольный треугольник 1"/>
          <p:cNvSpPr/>
          <p:nvPr/>
        </p:nvSpPr>
        <p:spPr>
          <a:xfrm>
            <a:off x="6858000" y="2209680"/>
            <a:ext cx="1486080" cy="1836720"/>
          </a:xfrm>
          <a:prstGeom prst="rtTriangl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TextBox 2" descr=""/>
          <p:cNvPicPr/>
          <p:nvPr/>
        </p:nvPicPr>
        <p:blipFill>
          <a:blip r:embed="rId1"/>
          <a:stretch/>
        </p:blipFill>
        <p:spPr>
          <a:xfrm>
            <a:off x="6924600" y="4645080"/>
            <a:ext cx="1560600" cy="987480"/>
          </a:xfrm>
          <a:prstGeom prst="rect">
            <a:avLst/>
          </a:prstGeom>
          <a:ln w="0">
            <a:noFill/>
          </a:ln>
        </p:spPr>
      </p:pic>
      <p:sp>
        <p:nvSpPr>
          <p:cNvPr id="520" name="TextBox 3"/>
          <p:cNvSpPr/>
          <p:nvPr/>
        </p:nvSpPr>
        <p:spPr>
          <a:xfrm>
            <a:off x="7318080" y="4038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4"/>
          <p:cNvSpPr/>
          <p:nvPr/>
        </p:nvSpPr>
        <p:spPr>
          <a:xfrm>
            <a:off x="6479640" y="31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Группа 20"/>
          <p:cNvGrpSpPr/>
          <p:nvPr/>
        </p:nvGrpSpPr>
        <p:grpSpPr>
          <a:xfrm>
            <a:off x="2057400" y="1752120"/>
            <a:ext cx="2819520" cy="1830960"/>
            <a:chOff x="2057400" y="1752120"/>
            <a:chExt cx="2819520" cy="1830960"/>
          </a:xfrm>
        </p:grpSpPr>
        <p:sp>
          <p:nvSpPr>
            <p:cNvPr id="523" name="Прямая соединительная линия 6"/>
            <p:cNvSpPr/>
            <p:nvPr/>
          </p:nvSpPr>
          <p:spPr>
            <a:xfrm>
              <a:off x="2057400" y="3581640"/>
              <a:ext cx="2819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Прямая соединительная линия 7"/>
            <p:cNvSpPr/>
            <p:nvPr/>
          </p:nvSpPr>
          <p:spPr>
            <a:xfrm flipV="1">
              <a:off x="2057400" y="1752120"/>
              <a:ext cx="2092320" cy="182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Прямая соединительная линия 8"/>
            <p:cNvSpPr/>
            <p:nvPr/>
          </p:nvSpPr>
          <p:spPr>
            <a:xfrm>
              <a:off x="4149360" y="1752480"/>
              <a:ext cx="726840" cy="182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Прямая соединительная линия 9"/>
          <p:cNvSpPr/>
          <p:nvPr/>
        </p:nvSpPr>
        <p:spPr>
          <a:xfrm>
            <a:off x="4114800" y="175248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ая соединительная линия 10"/>
          <p:cNvSpPr/>
          <p:nvPr/>
        </p:nvSpPr>
        <p:spPr>
          <a:xfrm flipV="1">
            <a:off x="4267080" y="3352320"/>
            <a:ext cx="0" cy="22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ая соединительная линия 11"/>
          <p:cNvSpPr/>
          <p:nvPr/>
        </p:nvSpPr>
        <p:spPr>
          <a:xfrm>
            <a:off x="4114800" y="33526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14"/>
          <p:cNvSpPr/>
          <p:nvPr/>
        </p:nvSpPr>
        <p:spPr>
          <a:xfrm>
            <a:off x="3736440" y="2666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15"/>
          <p:cNvSpPr/>
          <p:nvPr/>
        </p:nvSpPr>
        <p:spPr>
          <a:xfrm>
            <a:off x="343188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8" descr=""/>
          <p:cNvPicPr/>
          <p:nvPr/>
        </p:nvPicPr>
        <p:blipFill>
          <a:blip r:embed="rId2"/>
          <a:stretch/>
        </p:blipFill>
        <p:spPr>
          <a:xfrm>
            <a:off x="2819520" y="4267080"/>
            <a:ext cx="1523880" cy="997200"/>
          </a:xfrm>
          <a:prstGeom prst="rect">
            <a:avLst/>
          </a:prstGeom>
          <a:ln w="0">
            <a:noFill/>
          </a:ln>
        </p:spPr>
      </p:pic>
      <p:sp>
        <p:nvSpPr>
          <p:cNvPr id="532" name="Прямая соединительная линия 17"/>
          <p:cNvSpPr/>
          <p:nvPr/>
        </p:nvSpPr>
        <p:spPr>
          <a:xfrm>
            <a:off x="7010280" y="3809880"/>
            <a:ext cx="0" cy="22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ая соединительная линия 18"/>
          <p:cNvSpPr/>
          <p:nvPr/>
        </p:nvSpPr>
        <p:spPr>
          <a:xfrm>
            <a:off x="6858000" y="38098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10"/>
          <p:cNvSpPr/>
          <p:nvPr/>
        </p:nvSpPr>
        <p:spPr>
          <a:xfrm>
            <a:off x="2370960" y="380880"/>
            <a:ext cx="53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лощадь треуголь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Рисунок 1" descr="pic.6"/>
          <p:cNvPicPr/>
          <p:nvPr/>
        </p:nvPicPr>
        <p:blipFill>
          <a:blip r:embed="rId1"/>
          <a:stretch/>
        </p:blipFill>
        <p:spPr>
          <a:xfrm>
            <a:off x="1371600" y="1752480"/>
            <a:ext cx="4800600" cy="3522960"/>
          </a:xfrm>
          <a:prstGeom prst="rect">
            <a:avLst/>
          </a:prstGeom>
          <a:ln w="0">
            <a:noFill/>
          </a:ln>
        </p:spPr>
      </p:pic>
      <p:sp>
        <p:nvSpPr>
          <p:cNvPr id="536" name="TextBox 2"/>
          <p:cNvSpPr/>
          <p:nvPr/>
        </p:nvSpPr>
        <p:spPr>
          <a:xfrm>
            <a:off x="1620360" y="457200"/>
            <a:ext cx="58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йдите площадь фигу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3"/>
          <p:cNvSpPr/>
          <p:nvPr/>
        </p:nvSpPr>
        <p:spPr>
          <a:xfrm>
            <a:off x="4572000" y="53341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4"/>
          <p:cNvSpPr/>
          <p:nvPr/>
        </p:nvSpPr>
        <p:spPr>
          <a:xfrm>
            <a:off x="5943600" y="538632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6 см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6"/>
          <p:cNvSpPr/>
          <p:nvPr/>
        </p:nvSpPr>
        <p:spPr>
          <a:xfrm>
            <a:off x="1527840" y="1219320"/>
            <a:ext cx="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Управляющая кнопка: назад 7">
            <a:hlinkClick r:id="" action="ppaction://hlinkshowjump?jump=previousslide"/>
          </p:cNvPr>
          <p:cNvSpPr/>
          <p:nvPr/>
        </p:nvSpPr>
        <p:spPr>
          <a:xfrm>
            <a:off x="8534520" y="6095880"/>
            <a:ext cx="433440" cy="5860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86080"/>
              <a:gd name="textAreaBottom" fmla="*/ 558000 h 586080"/>
            </a:gdLst>
            <a:ahLst/>
            <a:rect l="textAreaLeft" t="textAreaTop" r="textAreaRight" b="textAreaBottom"/>
            <a:pathLst>
              <a:path w="21600" h="29200">
                <a:moveTo>
                  <a:pt x="0" y="0"/>
                </a:moveTo>
                <a:lnTo>
                  <a:pt x="21600" y="0"/>
                </a:lnTo>
                <a:lnTo>
                  <a:pt x="21600" y="29200"/>
                </a:lnTo>
                <a:lnTo>
                  <a:pt x="0" y="29200"/>
                </a:lnTo>
                <a:close/>
              </a:path>
              <a:path fill="lightenLess" w="21600" h="292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200">
                <a:moveTo>
                  <a:pt x="21600" y="0"/>
                </a:moveTo>
                <a:lnTo>
                  <a:pt x="21600" y="29200"/>
                </a:lnTo>
                <a:lnTo>
                  <a:pt x="20200" y="27800"/>
                </a:lnTo>
                <a:lnTo>
                  <a:pt x="20200" y="1400"/>
                </a:lnTo>
                <a:close/>
              </a:path>
              <a:path fill="darkenLess" w="21600" h="29200">
                <a:moveTo>
                  <a:pt x="21600" y="29200"/>
                </a:moveTo>
                <a:lnTo>
                  <a:pt x="0" y="29200"/>
                </a:lnTo>
                <a:lnTo>
                  <a:pt x="1400" y="27800"/>
                </a:lnTo>
                <a:lnTo>
                  <a:pt x="20200" y="27800"/>
                </a:lnTo>
                <a:close/>
              </a:path>
              <a:path fill="lighten" w="21600" h="29200">
                <a:moveTo>
                  <a:pt x="0" y="292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800"/>
                </a:lnTo>
                <a:close/>
              </a:path>
              <a:path fill="darken" w="21600" h="29200">
                <a:moveTo>
                  <a:pt x="3794" y="14600"/>
                </a:moveTo>
                <a:lnTo>
                  <a:pt x="17806" y="7594"/>
                </a:lnTo>
                <a:lnTo>
                  <a:pt x="17806" y="21607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2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5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16" descr=""/>
          <p:cNvPicPr/>
          <p:nvPr/>
        </p:nvPicPr>
        <p:blipFill>
          <a:blip r:embed="rId2"/>
          <a:stretch/>
        </p:blipFill>
        <p:spPr>
          <a:xfrm>
            <a:off x="6553080" y="2819520"/>
            <a:ext cx="2238480" cy="1465200"/>
          </a:xfrm>
          <a:prstGeom prst="rect">
            <a:avLst/>
          </a:prstGeom>
          <a:ln w="0">
            <a:noFill/>
          </a:ln>
        </p:spPr>
      </p:pic>
      <p:sp>
        <p:nvSpPr>
          <p:cNvPr id="548" name="Прямая соединительная линия 6"/>
          <p:cNvSpPr/>
          <p:nvPr/>
        </p:nvSpPr>
        <p:spPr>
          <a:xfrm>
            <a:off x="1981080" y="2514600"/>
            <a:ext cx="0" cy="13716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ая соединительная линия 10"/>
          <p:cNvSpPr/>
          <p:nvPr/>
        </p:nvSpPr>
        <p:spPr>
          <a:xfrm>
            <a:off x="1981080" y="3886200"/>
            <a:ext cx="36198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2"/>
          <p:cNvSpPr/>
          <p:nvPr/>
        </p:nvSpPr>
        <p:spPr>
          <a:xfrm>
            <a:off x="1451160" y="2895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13"/>
          <p:cNvSpPr/>
          <p:nvPr/>
        </p:nvSpPr>
        <p:spPr>
          <a:xfrm>
            <a:off x="3280320" y="40384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us-1_000</dc:creator>
  <dc:description/>
  <dc:language>en-US</dc:language>
  <cp:lastModifiedBy>206</cp:lastModifiedBy>
  <dcterms:modified xsi:type="dcterms:W3CDTF">2016-05-07T07:56:37Z</dcterms:modified>
  <cp:revision>1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