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2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9.wmf" ContentType="image/x-wmf"/>
  <Override PartName="/ppt/media/image21.jpeg" ContentType="image/jpeg"/>
  <Override PartName="/ppt/media/image20.png" ContentType="image/png"/>
  <Override PartName="/ppt/media/image2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56E-6CC1-4773-B003-24EF210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A48-8561-4069-A6DA-C41FFFD9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6AD-8F9C-4C15-BDF0-1BF169C7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900-2E48-4478-8350-D069C78B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26F-A141-4471-85BA-13831DB3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7C96-8A1D-43CD-AFC5-2D48AAFA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481-75F8-4D64-8E3D-425EEB1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2402-4FD9-45BA-8514-CEC882C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5235-FD02-4F6E-8A2E-3A84612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C82-3558-45CF-A266-F58021DD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468-BA97-48E0-A403-06921B9C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025-CFC6-4D42-B98B-C9F2FF09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4C8-7AEC-4315-8A5D-64CB64D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55B-7651-4D85-B11D-9991531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EE4-42F3-4BBC-AAC1-D4FE02A9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A7C-C21F-4676-9F7F-7E755816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6F2-29FE-412F-82D7-55FA95A5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A9C0-5313-409A-8BA0-7B7893D1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B050-DA26-4BC7-9DAE-C438E7C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C2A9-EFBE-4AEE-BDE7-7AE7B57C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8143-783C-4FDA-A91E-F6036A8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56BD-3ADC-4864-92CA-D7051B6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2E6-3AB8-4F1C-B41A-1BD96A60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3A81-D0F4-4FA5-8A4A-A8F8D78F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C00F-FB7A-47DA-8CB8-0D288F7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12B2-6930-4ACB-9349-B935FDC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03A2-4B10-4EE7-B81B-549EE05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2595-BFE3-4FA0-94FF-70BDFF9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323A-B312-4B5E-85B6-CF49D66C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A0C5-54E6-4E07-A7F3-4339B9B3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62B1-77B1-43F4-B2DC-B51AD2FC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649C-F3B1-4E68-B24E-E28085F7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FA4A-AAD3-44DA-B034-9710C761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A60-98B6-4FE2-9AE1-15838AA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D8A9-F940-43C5-9645-0D21800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344D-FC59-4B63-BB3E-938F892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558F-99A6-478B-85A6-0418C051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B5D5-0E19-4F74-92B4-89D02BAD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0CBB-D7AA-4D34-9F97-D26E0B7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1D6CA-7DF1-4696-9E3D-AA7B9E8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8245-1785-432E-8CC0-125BCCA2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B8AF-F481-4F94-B368-A98ED136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E12B-3433-461A-A7BC-41F9A11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FEA-BBB8-4B6D-8C5E-4FE9D492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B79-96BF-437B-A8C7-5612858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7D1-9D22-439C-B404-7ECCFD9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658-6733-4AC1-8C9B-5ADEB48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443-8003-43DD-8AD4-28B4095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BEA-97F6-4E65-B265-E01928A47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C9F-9702-4041-AE09-B830F8F64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C70-A1C6-4280-A9E9-75B8C95F1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078-55EC-40A7-8117-DF4DE1176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2120" y="706320"/>
            <a:ext cx="7736040" cy="23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"/>
              </a:rPr>
              <a:t>Правильные и неправильные дро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701440" y="3886200"/>
            <a:ext cx="609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Смирнова Татьяна Григорьевна, учитель математики ГБОУ лицея №344 Не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826920" y="4046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Дан ряд дроб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684360" y="1268280"/>
                <a:ext cx="539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1476360" y="1268280"/>
                <a:ext cx="5526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2195640" y="1268280"/>
                <a:ext cx="714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3132000" y="1268280"/>
                <a:ext cx="64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4859280" y="1268280"/>
                <a:ext cx="785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Text Box 8"/>
          <p:cNvSpPr/>
          <p:nvPr/>
        </p:nvSpPr>
        <p:spPr>
          <a:xfrm>
            <a:off x="539640" y="249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ая из дробей лишня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498840" y="2924280"/>
            <a:ext cx="58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68a6"/>
                </a:solidFill>
                <a:latin typeface="Times New Roman"/>
              </a:rPr>
              <a:t>Числитель больше знамен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716360" y="3716280"/>
            <a:ext cx="685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7"/>
              <p:cNvSpPr txBox="1"/>
              <p:nvPr/>
            </p:nvSpPr>
            <p:spPr>
              <a:xfrm>
                <a:off x="4788000" y="3716280"/>
                <a:ext cx="6094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1" name="Object 18"/>
          <p:cNvGraphicFramePr/>
          <p:nvPr/>
        </p:nvGraphicFramePr>
        <p:xfrm>
          <a:off x="595440" y="3716280"/>
          <a:ext cx="7189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3716280"/>
                    <a:ext cx="7189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Object 19"/>
          <p:cNvGraphicFramePr/>
          <p:nvPr/>
        </p:nvGraphicFramePr>
        <p:xfrm>
          <a:off x="1403280" y="3716280"/>
          <a:ext cx="55260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3716280"/>
                    <a:ext cx="55260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5" name="Object 20"/>
          <p:cNvGraphicFramePr/>
          <p:nvPr/>
        </p:nvGraphicFramePr>
        <p:xfrm>
          <a:off x="2189160" y="3716280"/>
          <a:ext cx="58428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3716280"/>
                    <a:ext cx="58428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7" name="Object 21"/>
          <p:cNvGraphicFramePr/>
          <p:nvPr/>
        </p:nvGraphicFramePr>
        <p:xfrm>
          <a:off x="2987640" y="3716280"/>
          <a:ext cx="639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3716280"/>
                    <a:ext cx="6397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9" name="Object 22"/>
          <p:cNvGraphicFramePr/>
          <p:nvPr/>
        </p:nvGraphicFramePr>
        <p:xfrm>
          <a:off x="3795840" y="3716280"/>
          <a:ext cx="752400" cy="100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0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95840" y="3716280"/>
                    <a:ext cx="75240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1" name="Text Box 23"/>
          <p:cNvSpPr/>
          <p:nvPr/>
        </p:nvSpPr>
        <p:spPr>
          <a:xfrm>
            <a:off x="595440" y="4898880"/>
            <a:ext cx="81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ая из дробей лишня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643200" y="5473800"/>
            <a:ext cx="590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68a6"/>
                </a:solidFill>
                <a:latin typeface="Times New Roman"/>
              </a:rPr>
              <a:t>Числитель равен знамена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3995640" y="1268280"/>
            <a:ext cx="685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7"/>
              <p:cNvSpPr txBox="1"/>
              <p:nvPr/>
            </p:nvSpPr>
            <p:spPr>
              <a:xfrm>
                <a:off x="4067280" y="1268280"/>
                <a:ext cx="476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116E-006 L 0.26667 0.08879 E">
                                      <p:cBhvr>
                                        <p:cTn id="32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31214E-007 L 0.21666 0.05549 E">
                                      <p:cBhvr>
                                        <p:cTn id="67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аспределите дроби на три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538200" y="1847880"/>
                <a:ext cx="6476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843280" y="1844640"/>
                <a:ext cx="936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619280" y="1844640"/>
                <a:ext cx="917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427640" y="1844640"/>
                <a:ext cx="9349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5867280" y="1844640"/>
                <a:ext cx="10810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1619280" y="4005360"/>
                <a:ext cx="792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2916360" y="4005360"/>
                <a:ext cx="11523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0"/>
              <p:cNvSpPr txBox="1"/>
              <p:nvPr/>
            </p:nvSpPr>
            <p:spPr>
              <a:xfrm>
                <a:off x="4500720" y="4005360"/>
                <a:ext cx="9363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5724360" y="4005360"/>
                <a:ext cx="107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466560" y="4043520"/>
                <a:ext cx="790920" cy="16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Organization Chart 3"/>
          <p:cNvGrpSpPr/>
          <p:nvPr/>
        </p:nvGrpSpPr>
        <p:grpSpPr>
          <a:xfrm>
            <a:off x="179280" y="1327320"/>
            <a:ext cx="8640000" cy="4262400"/>
            <a:chOff x="179280" y="1327320"/>
            <a:chExt cx="8640000" cy="4262400"/>
          </a:xfrm>
        </p:grpSpPr>
        <p:cxnSp>
          <p:nvCxnSpPr>
            <p:cNvPr id="258" name="_s5939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5898240" y="754200"/>
              <a:ext cx="229320" cy="302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59397"/>
            <p:cNvCxnSpPr>
              <a:stCxn id="262" idx="0"/>
              <a:endCxn id="260" idx="2"/>
            </p:cNvCxnSpPr>
            <p:nvPr/>
          </p:nvCxnSpPr>
          <p:spPr>
            <a:xfrm flipV="1">
              <a:off x="4500720" y="2152080"/>
              <a:ext cx="32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59398"/>
            <p:cNvCxnSpPr>
              <a:stCxn id="264" idx="0"/>
              <a:endCxn id="260" idx="2"/>
            </p:cNvCxnSpPr>
            <p:nvPr/>
          </p:nvCxnSpPr>
          <p:spPr>
            <a:xfrm flipH="1" flipV="1" rot="5400000">
              <a:off x="2873880" y="754200"/>
              <a:ext cx="229320" cy="302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0" name="_s59399"/>
            <p:cNvSpPr/>
            <p:nvPr/>
          </p:nvSpPr>
          <p:spPr>
            <a:xfrm>
              <a:off x="2924280" y="1327320"/>
              <a:ext cx="3150360" cy="825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ОБЫКНО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ДРОБ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59400"/>
            <p:cNvSpPr/>
            <p:nvPr/>
          </p:nvSpPr>
          <p:spPr>
            <a:xfrm>
              <a:off x="179280" y="2381400"/>
              <a:ext cx="259200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59401"/>
            <p:cNvSpPr/>
            <p:nvPr/>
          </p:nvSpPr>
          <p:spPr>
            <a:xfrm>
              <a:off x="3203640" y="2381400"/>
              <a:ext cx="259200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59402"/>
            <p:cNvSpPr/>
            <p:nvPr/>
          </p:nvSpPr>
          <p:spPr>
            <a:xfrm>
              <a:off x="6228000" y="2381400"/>
              <a:ext cx="2591280" cy="1535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рав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наменател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12"/>
                <p:cNvSpPr txBox="1"/>
                <p:nvPr/>
              </p:nvSpPr>
              <p:spPr>
                <a:xfrm>
                  <a:off x="248400" y="4149720"/>
                  <a:ext cx="58536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6" name="Object 13"/>
              <p:cNvSpPr txBox="1"/>
              <p:nvPr/>
            </p:nvSpPr>
            <p:spPr>
              <a:xfrm>
                <a:off x="825480" y="4114800"/>
                <a:ext cx="57636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1401840" y="4189320"/>
                <a:ext cx="5032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1906560" y="4189320"/>
                <a:ext cx="7412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3132000" y="4005360"/>
                <a:ext cx="9352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7"/>
              <p:cNvSpPr txBox="1"/>
              <p:nvPr/>
            </p:nvSpPr>
            <p:spPr>
              <a:xfrm>
                <a:off x="3995640" y="4005360"/>
                <a:ext cx="936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8"/>
              <p:cNvSpPr txBox="1"/>
              <p:nvPr/>
            </p:nvSpPr>
            <p:spPr>
              <a:xfrm>
                <a:off x="4788000" y="4005360"/>
                <a:ext cx="647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9"/>
              <p:cNvSpPr txBox="1"/>
              <p:nvPr/>
            </p:nvSpPr>
            <p:spPr>
              <a:xfrm>
                <a:off x="6300720" y="4005360"/>
                <a:ext cx="647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0"/>
              <p:cNvSpPr txBox="1"/>
              <p:nvPr/>
            </p:nvSpPr>
            <p:spPr>
              <a:xfrm>
                <a:off x="7740720" y="4005360"/>
                <a:ext cx="863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1"/>
              <p:cNvSpPr txBox="1"/>
              <p:nvPr/>
            </p:nvSpPr>
            <p:spPr>
              <a:xfrm>
                <a:off x="7020000" y="4005360"/>
                <a:ext cx="7905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22"/>
          <p:cNvSpPr/>
          <p:nvPr/>
        </p:nvSpPr>
        <p:spPr>
          <a:xfrm rot="16200000">
            <a:off x="1295280" y="4471920"/>
            <a:ext cx="285840" cy="2374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3"/>
          <p:cNvSpPr/>
          <p:nvPr/>
        </p:nvSpPr>
        <p:spPr>
          <a:xfrm rot="16200000">
            <a:off x="5652000" y="2924640"/>
            <a:ext cx="432000" cy="547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2031840" y="24685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760" y="428760"/>
            <a:ext cx="814392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называется прави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называется неправи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авильные и неправильны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200160" y="3816360"/>
            <a:ext cx="894384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Изображение дробей на координатном лу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метьте на координатном луче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Что общего у данных дроб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Что показывает знамена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Отрезок какой длины удобно взять в качестве единичного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ие из дробей являются правильными, а какие -  неправиль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354400" y="2289240"/>
                <a:ext cx="71748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3330720" y="2333520"/>
                <a:ext cx="7189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270320" y="2332080"/>
                <a:ext cx="7192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5175360" y="2360520"/>
                <a:ext cx="7189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6012000" y="2332080"/>
                <a:ext cx="7189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Picture 9" descr="CRAYONS"/>
          <p:cNvPicPr/>
          <p:nvPr/>
        </p:nvPicPr>
        <p:blipFill>
          <a:blip r:embed="rId2"/>
          <a:stretch/>
        </p:blipFill>
        <p:spPr>
          <a:xfrm flipH="1">
            <a:off x="407520" y="2244600"/>
            <a:ext cx="14446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44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равните дроби с един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 расположены дроби по отношению к един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делайте соответствующие записи и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2552760" y="3165480"/>
                <a:ext cx="482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984400" y="3165480"/>
                <a:ext cx="4399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Line 7"/>
          <p:cNvSpPr/>
          <p:nvPr/>
        </p:nvSpPr>
        <p:spPr>
          <a:xfrm>
            <a:off x="971640" y="407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1332000" y="414972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V="1">
            <a:off x="97164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V="1">
            <a:off x="1692360" y="400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411280" y="41482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24112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313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385128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457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529272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601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817236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8820000" y="41497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AutoShape 21"/>
          <p:cNvCxnSpPr/>
          <p:nvPr/>
        </p:nvCxnSpPr>
        <p:spPr>
          <a:xfrm>
            <a:off x="250920" y="4220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307" name="Object 22"/>
              <p:cNvSpPr txBox="1"/>
              <p:nvPr/>
            </p:nvSpPr>
            <p:spPr>
              <a:xfrm>
                <a:off x="3344760" y="3165480"/>
                <a:ext cx="463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3"/>
              <p:cNvSpPr txBox="1"/>
              <p:nvPr/>
            </p:nvSpPr>
            <p:spPr>
              <a:xfrm>
                <a:off x="4716360" y="3197160"/>
                <a:ext cx="378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Line 24"/>
          <p:cNvSpPr/>
          <p:nvPr/>
        </p:nvSpPr>
        <p:spPr>
          <a:xfrm>
            <a:off x="324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97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205092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270036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341964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3492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0"/>
          <p:cNvSpPr/>
          <p:nvPr/>
        </p:nvSpPr>
        <p:spPr>
          <a:xfrm>
            <a:off x="421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457200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2"/>
          <p:cNvSpPr/>
          <p:nvPr/>
        </p:nvSpPr>
        <p:spPr>
          <a:xfrm>
            <a:off x="313200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>
            <a:off x="971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457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5292720" y="3860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>
            <a:off x="97164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971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>
            <a:off x="565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 flipH="1">
            <a:off x="971640" y="4149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2771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2941200" y="4324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3"/>
          <p:cNvSpPr/>
          <p:nvPr/>
        </p:nvSpPr>
        <p:spPr>
          <a:xfrm>
            <a:off x="5003640" y="4324320"/>
            <a:ext cx="5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755640" y="4292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78228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>
            <a:off x="12589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7"/>
          <p:cNvSpPr/>
          <p:nvPr/>
        </p:nvSpPr>
        <p:spPr>
          <a:xfrm flipH="1">
            <a:off x="269964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8"/>
          <p:cNvSpPr/>
          <p:nvPr/>
        </p:nvSpPr>
        <p:spPr>
          <a:xfrm flipH="1">
            <a:off x="305856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49"/>
          <p:cNvSpPr/>
          <p:nvPr/>
        </p:nvSpPr>
        <p:spPr>
          <a:xfrm flipH="1">
            <a:off x="341892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50"/>
          <p:cNvSpPr/>
          <p:nvPr/>
        </p:nvSpPr>
        <p:spPr>
          <a:xfrm flipH="1">
            <a:off x="485856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1"/>
          <p:cNvSpPr/>
          <p:nvPr/>
        </p:nvSpPr>
        <p:spPr>
          <a:xfrm>
            <a:off x="133200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>
            <a:off x="277164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53"/>
          <p:cNvSpPr/>
          <p:nvPr/>
        </p:nvSpPr>
        <p:spPr>
          <a:xfrm flipH="1">
            <a:off x="1237680" y="4076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133200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>
            <a:off x="493236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3492360" y="422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7"/>
          <p:cNvSpPr/>
          <p:nvPr/>
        </p:nvSpPr>
        <p:spPr>
          <a:xfrm>
            <a:off x="7648560" y="21225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7864560" y="233856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38400" y="3124080"/>
          <a:ext cx="268200" cy="7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0" y="3124080"/>
                    <a:ext cx="2682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равните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1476360" y="1628640"/>
                <a:ext cx="7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8"/>
              <p:cNvSpPr txBox="1"/>
              <p:nvPr/>
            </p:nvSpPr>
            <p:spPr>
              <a:xfrm>
                <a:off x="1403280" y="2637000"/>
                <a:ext cx="77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1476360" y="3573360"/>
                <a:ext cx="7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0"/>
              <p:cNvSpPr txBox="1"/>
              <p:nvPr/>
            </p:nvSpPr>
            <p:spPr>
              <a:xfrm>
                <a:off x="2125800" y="4508640"/>
                <a:ext cx="5871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1"/>
              <p:cNvSpPr txBox="1"/>
              <p:nvPr/>
            </p:nvSpPr>
            <p:spPr>
              <a:xfrm>
                <a:off x="2155680" y="5500800"/>
                <a:ext cx="578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2"/>
              <p:cNvSpPr txBox="1"/>
              <p:nvPr/>
            </p:nvSpPr>
            <p:spPr>
              <a:xfrm>
                <a:off x="5508720" y="1700280"/>
                <a:ext cx="877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3"/>
              <p:cNvSpPr txBox="1"/>
              <p:nvPr/>
            </p:nvSpPr>
            <p:spPr>
              <a:xfrm>
                <a:off x="5580000" y="2637000"/>
                <a:ext cx="79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4"/>
              <p:cNvSpPr txBox="1"/>
              <p:nvPr/>
            </p:nvSpPr>
            <p:spPr>
              <a:xfrm>
                <a:off x="5651640" y="3573360"/>
                <a:ext cx="71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5"/>
              <p:cNvSpPr txBox="1"/>
              <p:nvPr/>
            </p:nvSpPr>
            <p:spPr>
              <a:xfrm>
                <a:off x="6329520" y="4478400"/>
                <a:ext cx="603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6"/>
              <p:cNvSpPr txBox="1"/>
              <p:nvPr/>
            </p:nvSpPr>
            <p:spPr>
              <a:xfrm>
                <a:off x="5653080" y="5446800"/>
                <a:ext cx="828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99680" y="214200"/>
            <a:ext cx="818676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ледующие дроби на координатной прям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зовите 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овите не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равните правильные дроби с един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равните неправильные дроби с едини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Сравните правильные дроби и неправильные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109520" y="2257560"/>
            <a:ext cx="3718080" cy="1066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ы три числа :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1;  12; 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только эти числа сост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ые дроб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неправильны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9" descr=""/>
          <p:cNvPicPr/>
          <p:nvPr/>
        </p:nvPicPr>
        <p:blipFill>
          <a:blip r:embed="rId2"/>
          <a:stretch/>
        </p:blipFill>
        <p:spPr>
          <a:xfrm>
            <a:off x="5572080" y="3929040"/>
            <a:ext cx="270504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" descr="F:\ВСЕ для презентаций\аним\Новая папка\01.gif"/>
          <p:cNvPicPr/>
          <p:nvPr/>
        </p:nvPicPr>
        <p:blipFill>
          <a:blip r:embed="rId3"/>
          <a:stretch/>
        </p:blipFill>
        <p:spPr>
          <a:xfrm>
            <a:off x="5398920" y="2838600"/>
            <a:ext cx="3286440" cy="3643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те тест уст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ли числитель больше знаменателя, то дроб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 правильная;   б) неправильная;    в) обыкно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Если числитель меньше знаменателя, то дроб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 правильная;   б) неправильная;    в) обыкно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Дробь       будет неправильной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8a6"/>
                </a:solidFill>
                <a:latin typeface="Arial"/>
              </a:rPr>
              <a:t>а)с=6;             б)с=3;              в)с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йдите два значения а, при которых дробь                будет неправильной и  меньше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1676520" y="3282840"/>
                <a:ext cx="366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7"/>
              <p:cNvSpPr txBox="1"/>
              <p:nvPr/>
            </p:nvSpPr>
            <p:spPr>
              <a:xfrm>
                <a:off x="7088040" y="4289400"/>
                <a:ext cx="4701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8"/>
              <p:cNvSpPr txBox="1"/>
              <p:nvPr/>
            </p:nvSpPr>
            <p:spPr>
              <a:xfrm>
                <a:off x="5292720" y="5229360"/>
                <a:ext cx="441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Line 9"/>
          <p:cNvSpPr/>
          <p:nvPr/>
        </p:nvSpPr>
        <p:spPr>
          <a:xfrm>
            <a:off x="2860560" y="1816200"/>
            <a:ext cx="223200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368280" y="3170160"/>
            <a:ext cx="223200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2484360" y="4437000"/>
            <a:ext cx="792360" cy="0"/>
          </a:xfrm>
          <a:prstGeom prst="line">
            <a:avLst/>
          </a:prstGeom>
          <a:ln w="38160">
            <a:solidFill>
              <a:srgbClr val="be2c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понятиями «правильная» и «неправильная» дроб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изображать дроби на координатном луч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сравнивать правильные и неправильные дроб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 правила сравнения обыкновенных дроб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жняться в решении основных видов задач « на дроб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911240" y="3149640"/>
            <a:ext cx="46688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320" y="375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те задания (устно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9120" y="1549080"/>
            <a:ext cx="5300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читайте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овите числител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овите знаменател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оказывает знаменатель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оказывает числитель дро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7613640" y="2021040"/>
                <a:ext cx="803160" cy="30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Саша и Миша пошли на выставку кошек. Саша подсчитал, что всего кошек было 60. Миша подсчитал, что 20 кошек были полосатыми, 30 кошек были белыми, 10 кошек – че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акую часть общего количества составляли кошки каждой расцве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КАШАК"/>
          <p:cNvPicPr/>
          <p:nvPr/>
        </p:nvPicPr>
        <p:blipFill>
          <a:blip r:embed="rId2"/>
          <a:stretch/>
        </p:blipFill>
        <p:spPr>
          <a:xfrm>
            <a:off x="687708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8160" y="113508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тя Верхоглядкин – отличный хоккеист. Недавно он принял участие в матче за честь школы. Игра продолжалась два периода по 30 минут. Третью часть матча Витя подбирал себе клюшку, коньки и одевался в хоккейную форму,                           матча он сидел на скамейке  запасных. Остальное время Витя играл. Сколько шайб он заброс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582480" y="3614760"/>
            <a:ext cx="14292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3500280" y="4786200"/>
            <a:ext cx="2428920" cy="1857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55760" y="274680"/>
            <a:ext cx="8226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160" y="259920"/>
            <a:ext cx="82263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Выполним ли план Незнай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084320"/>
            <a:ext cx="864072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езнайка решил начать новую жизнь и составил себе такой режим на су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чтение книг -      часть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совершение добрых дел -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прием пищи -   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занятия спортом -       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на сон – 8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632040" y="2035080"/>
                <a:ext cx="432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5519880" y="2852640"/>
                <a:ext cx="502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3687840" y="3720960"/>
                <a:ext cx="436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4640400" y="4540320"/>
                <a:ext cx="544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7" name="Picture 10" descr="STUDENT1"/>
          <p:cNvPicPr/>
          <p:nvPr/>
        </p:nvPicPr>
        <p:blipFill>
          <a:blip r:embed="rId2"/>
          <a:stretch/>
        </p:blipFill>
        <p:spPr>
          <a:xfrm>
            <a:off x="7020000" y="4724280"/>
            <a:ext cx="1677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Геометр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еются геометрические фигуры. Всего их 3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 всех фигу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 всех фигу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авляют        всех фигу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тальные фигуры -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квадратов среди фигу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675320" y="1817640"/>
                <a:ext cx="488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Oval 4"/>
          <p:cNvSpPr/>
          <p:nvPr/>
        </p:nvSpPr>
        <p:spPr>
          <a:xfrm>
            <a:off x="668160" y="217656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51000" y="3111480"/>
            <a:ext cx="1295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826920" y="3933720"/>
            <a:ext cx="936720" cy="71928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022800" y="4815000"/>
            <a:ext cx="64944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4557600" y="2843280"/>
                <a:ext cx="507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4692600" y="3860640"/>
                <a:ext cx="5032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равнить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580000" y="1197000"/>
                <a:ext cx="10479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395280" y="2708280"/>
                <a:ext cx="1116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474920" y="2725560"/>
                <a:ext cx="974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380880" y="1077840"/>
                <a:ext cx="1116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1476360" y="1125360"/>
                <a:ext cx="9111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6516720" y="1197000"/>
                <a:ext cx="7272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5576760" y="2800440"/>
                <a:ext cx="8812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1619280" y="4653000"/>
                <a:ext cx="720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5621400" y="4613400"/>
          <a:ext cx="81432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4613400"/>
                    <a:ext cx="8143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688080" y="4595760"/>
          <a:ext cx="506520" cy="130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88080" y="4595760"/>
                    <a:ext cx="5065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0120" y="4741920"/>
          <a:ext cx="712800" cy="129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120" y="4741920"/>
                    <a:ext cx="71280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575400" y="2786040"/>
          <a:ext cx="738360" cy="143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75400" y="2786040"/>
                    <a:ext cx="73836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2590920"/>
            <a:ext cx="82580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2" descr=""/>
          <p:cNvPicPr/>
          <p:nvPr/>
        </p:nvPicPr>
        <p:blipFill>
          <a:blip r:embed="rId2"/>
          <a:stretch/>
        </p:blipFill>
        <p:spPr>
          <a:xfrm>
            <a:off x="1149480" y="2344680"/>
            <a:ext cx="6761160" cy="230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455760" y="797040"/>
            <a:ext cx="8226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Расположить дроби в порядке возраст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48:13Z</dcterms:created>
  <dc:creator>qwerty</dc:creator>
  <dc:description/>
  <dc:language>en-US</dc:language>
  <cp:lastModifiedBy>Смирнова</cp:lastModifiedBy>
  <dcterms:modified xsi:type="dcterms:W3CDTF">2014-01-17T20:30:00Z</dcterms:modified>
  <cp:revision>16</cp:revision>
  <dc:subject/>
  <dc:title>Слайд 1</dc:title>
</cp:coreProperties>
</file>