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4ED015-CA36-4B71-8F8D-0092B8B0460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9FC397-2C03-4313-AE08-F7443E0A0C2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7040" cy="12479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0377AC-53C7-418F-B775-10425D64C17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A7AE-73BA-4E9A-B46C-FE507D95B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466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19C4-11A4-40C5-94C0-F77539F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05B3-192A-4584-BAF8-A2358A0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60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18208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60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946680"/>
            <a:ext cx="250308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C2B1-68CF-4FAF-A812-8D65E3425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A598-3957-4B45-B594-395FBC3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304C-2BE4-45F2-B2CD-B5251EE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A762-02B0-4A11-9F91-2FA03608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18FB-BD15-45A3-AFFD-0806F1E5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152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D38F-A404-4D4C-AD16-BCF5BA68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AD21-1329-4FA7-918E-4DF47A8F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466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C7FA-010E-422B-B22B-A73B5C44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820880"/>
            <a:ext cx="379332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46680"/>
            <a:ext cx="7773840" cy="19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E184-9F7F-4CD2-BFDB-6D1164D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9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EB27D9-E199-4A54-A5D4-6D6C6E5949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9280" y="0"/>
            <a:ext cx="43196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заимосвязь и преемственность начального и основного общего образования в условиях внедрения ФГ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655280" y="485784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№1» Захаро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УД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широком значении термин «универсальные учебные действия» означ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мение 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40000" y="907560"/>
            <a:ext cx="4824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и более узком (психологическом) значении этот термин можно определить как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совокупность способов действия учащегося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ограмм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 Unicode MS"/>
              </a:rPr>
              <a:t> формирования УУД</a:t>
            </a:r>
            <a:br>
              <a:rPr sz="3200"/>
            </a:br>
            <a:r>
              <a:rPr b="1" lang="ru-RU" sz="3300" spc="-1" strike="noStrike">
                <a:solidFill>
                  <a:srgbClr val="ffffff"/>
                </a:solidFill>
                <a:latin typeface="Cambria"/>
                <a:ea typeface="Arial Unicode MS"/>
              </a:rPr>
              <a:t>включает в себя:</a:t>
            </a:r>
            <a:br>
              <a:rPr sz="3300"/>
            </a:br>
            <a:endParaRPr b="0" lang="en-US" sz="33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ценностные ориентиры содержания образования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характеристики УУД и типовые задачи их формирования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mbria"/>
                <a:ea typeface="Arial Unicode MS"/>
              </a:rPr>
              <a:t>преемственность УУД при переходе от начального к  общему образованию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Регулятивные УУД  - Целеполагание, планирование,  осуществление учебных действий, прогнозирование, контроль и самоконтроль, коррекция, оценка, саморегуляц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ознавательные  УУД - Общеучебные, знаково-символические, информационные, логическ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Коммуникативные УУД - Инициативное сотрудничество, планирование учебного сотрудничества, взаимодействие, управление коммуникаци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редметные результаты  - Определены с учетом содержания учебных предмет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НОО и ФГОС ООО -  преемственность и развит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етапредметные результаты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-6480" y="712800"/>
            <a:ext cx="89060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356000" y="549360"/>
            <a:ext cx="4788000" cy="630864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Cambria"/>
              </a:rPr>
              <a:t>Основная 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432d23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любящий свой край и свою Родину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знающий свой родной язык, уважающий свой народ, его культуру и духовные трад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ющий 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и принимающий ценности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человеческой жизни,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семьи, гражданского общества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многонационального российского народа, челове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432d23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активно и заинтересованно познающий мир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ющий ценность труда, науки и твор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умеющий учиться, осознающий важность образования и самообразования для жизни и деятельности, способный применять полученные знания на практи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социально активный,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уважающий закон и правопорядок, </a:t>
            </a: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соизмеряющий свои поступки с нравственными ценностями, осознающий свои обязанности перед семьей, обществом, Оте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уважающий других людей; умеющий вести конструктивный диалог, достигать взаимопонимания, сотрудничать для достижения общих результа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сознанно</a:t>
            </a:r>
            <a:r>
              <a:rPr b="0" lang="ru-RU" sz="1600" spc="-1" strike="noStrike">
                <a:solidFill>
                  <a:srgbClr val="432d23"/>
                </a:solidFill>
                <a:latin typeface="Cambria"/>
              </a:rPr>
              <a:t> выполняющий правила здорового и безопасного для себя и окружающих образа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ambria"/>
              </a:rPr>
              <a:t>ориентирующийся в мире профессий, понимающий значение профессиональной деятельности для челове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620640"/>
            <a:ext cx="4140360" cy="623736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ачаль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любящий свой народ, свой край и свою Род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уважающий и принимающий ценности семьи и об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любознательный, активно и заинтересованно познающий ми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владеющий основами умения учиться, способный к организации собственн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готовый самостоятельно действовать и отвечать за свои поступки перед семьей и общ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доброжелательный, умеющий слушать и слышать собеседника,   обосновывать    свою позицию, высказывать  свое м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2015"/>
                </a:solidFill>
                <a:latin typeface="Tahoma"/>
              </a:rPr>
              <a:t>выполняющий правила здорового и безопасного для себя и</a:t>
            </a:r>
            <a:r>
              <a:rPr b="0" lang="ru-RU" sz="1600" spc="-1" strike="noStrike">
                <a:solidFill>
                  <a:srgbClr val="432d23"/>
                </a:solidFill>
                <a:latin typeface="Tahoma"/>
              </a:rPr>
              <a:t>  окружающих    образа жизни</a:t>
            </a:r>
            <a:r>
              <a:rPr b="0" lang="ru-RU" sz="1600" spc="-1" strike="noStrike">
                <a:solidFill>
                  <a:srgbClr val="432d23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692360" y="-243000"/>
            <a:ext cx="6700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ртреты выпуск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ddd9c3"/>
                </a:solidFill>
                <a:latin typeface="Cambria"/>
              </a:rPr>
              <a:t>Риски недостижения планируемых результатов</a:t>
            </a:r>
            <a:endParaRPr b="0" lang="en-US" sz="28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прощенное понимание учителями технологии системно-деятельностного подхода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менение неэффективных форм обуч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овизна контрольно-измерительных материал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420640"/>
            <a:ext cx="388620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mbria"/>
              </a:rPr>
              <a:t>Школа 1908-2008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Базовые интеллектуальные навыки (чтение, письмо, сче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«картина ми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одготовка к выбору професс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280" y="1341000"/>
            <a:ext cx="3886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mbria"/>
              </a:rPr>
              <a:t>Школа 202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Умение работать с большими объектами информа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Коммуникативные компетен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3247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способность переобучатьс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55450-8289-4CE1-80C1-A99D385068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удущее: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ализация, гиперконкуренция, сверхбыстрая смена технолог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нет, социальная самоорг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 rot="19320000">
            <a:off x="3924000" y="4229280"/>
            <a:ext cx="1224000" cy="48564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3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77853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едеральный Закон «Об образовании» определяет задачи и структуру стандартов</a:t>
            </a:r>
            <a:r>
              <a:rPr b="0" lang="ru-RU" sz="3600" spc="-1" strike="noStrike">
                <a:solidFill>
                  <a:srgbClr val="ddd9c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7880" y="1820880"/>
            <a:ext cx="777384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бразовательные стандарты должны обеспечивать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единство образовательного пространств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реемственность основных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чального обще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сновного общег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реднего  общего образов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реднего профессионального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высшего профессион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Cambria"/>
              </a:rPr>
              <a:t>ФГОС предусматривает </a:t>
            </a:r>
            <a:r>
              <a:rPr b="1" lang="ru-RU" sz="2100" spc="-1" strike="noStrike">
                <a:solidFill>
                  <a:srgbClr val="c00000"/>
                </a:solidFill>
                <a:latin typeface="Cambria"/>
              </a:rPr>
              <a:t>формирование основ учебной деятельности ребёнка </a:t>
            </a:r>
            <a:endParaRPr b="0" lang="en-US" sz="21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09560"/>
          <a:ext cx="8569080" cy="510732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65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еспечить познавательную мотивацию и интересы учащихся, их готовность и способность к сотрудничеству и совместной деятельности учения с учителем и одноклассниками, сформировать основы нравственного поведения, определяющего отношения личности с обществом и окружающими людь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беспечивать личностное самоопределение учащихся:  формирование нравственной, мировоззренческой и гражданской позиции, профессиональный выбор, выявление творческих способностей учащихся, развитие способностей самостоятельного решения проблем в различных видах и сферах деятельн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ФГОС ступеней обучения – преемственность и разви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250920" y="1916280"/>
            <a:ext cx="3313080" cy="4249440"/>
          </a:xfrm>
          <a:prstGeom prst="pie">
            <a:avLst/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Федер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государ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разовательный стандарт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начального </a:t>
            </a: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щего образования</a:t>
            </a:r>
            <a:r>
              <a:rPr b="1" lang="ru-RU" sz="20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5508720" y="1916280"/>
            <a:ext cx="3311280" cy="4321080"/>
          </a:xfrm>
          <a:prstGeom prst="pie">
            <a:avLst/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Федер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государ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образовательный стандарт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основного</a:t>
            </a:r>
            <a:r>
              <a:rPr b="1" lang="ru-RU" sz="2000" spc="-1" strike="noStrike">
                <a:solidFill>
                  <a:srgbClr val="432d23"/>
                </a:solidFill>
                <a:latin typeface="Times New Roman"/>
              </a:rPr>
              <a:t> общего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203640" y="3068640"/>
            <a:ext cx="2520720" cy="136836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емствен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звит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7880" y="620640"/>
            <a:ext cx="7773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еем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ри переходе от начального к общему образованию должна осуществляться на уровне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целей и задач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содержания образования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организационных форм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 Unicode MS"/>
              </a:rPr>
              <a:t>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Требования к структуре – преемственность и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09760" y="3049560"/>
            <a:ext cx="3933720" cy="974880"/>
          </a:xfrm>
          <a:prstGeom prst="rect">
            <a:avLst/>
          </a:prstGeom>
          <a:solidFill>
            <a:srgbClr val="c0504d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НОО: 80% и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95840" y="3049560"/>
            <a:ext cx="3933720" cy="976320"/>
          </a:xfrm>
          <a:prstGeom prst="rect">
            <a:avLst/>
          </a:prstGeom>
          <a:solidFill>
            <a:srgbClr val="c0504d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ГОС ООО: 70% и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273320" y="1268280"/>
            <a:ext cx="6532920" cy="948240"/>
          </a:xfrm>
          <a:prstGeom prst="rect">
            <a:avLst/>
          </a:prstGeom>
          <a:solidFill>
            <a:srgbClr val="eeece1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оотношение обязательной ч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и части, формируемой участниками образова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це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 rot="5400000">
            <a:off x="4154760" y="-13320"/>
            <a:ext cx="287280" cy="518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5000 h 5185080"/>
              <a:gd name="textAreaBottom" fmla="*/ 5050080 h 518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50"/>
                </a:lnTo>
                <a:cubicBezTo>
                  <a:pt x="10800" y="8550"/>
                  <a:pt x="5400" y="9450"/>
                  <a:pt x="0" y="9450"/>
                </a:cubicBezTo>
                <a:cubicBezTo>
                  <a:pt x="5400" y="9450"/>
                  <a:pt x="10800" y="10350"/>
                  <a:pt x="10800" y="112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4356000" y="4365720"/>
            <a:ext cx="4788000" cy="2492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Часть, формируемая участник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разовательного процес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усматрив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озможность вве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учебных предметов,  курс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еспечивающ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зличные запросы обучающихся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 том числе этнокультурные, а такж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ацию индивидуальных проек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и внеурочную 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0" y="4365720"/>
            <a:ext cx="4140360" cy="2492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В целях обеспеч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ндивидуальных потребн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обучающих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предусматрива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32d23"/>
                </a:solidFill>
                <a:latin typeface="Arial"/>
              </a:rPr>
              <a:t>учебные курсы, обеспечивающ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зличные интересы обучающихс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том числе этнокультур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неурочная 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ГОС НОО и ФГОС ООО -  преемственность и развит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Личностные  результаты</a:t>
            </a:r>
            <a:endParaRPr b="0" lang="en-US" sz="2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447920"/>
            <a:ext cx="4321080" cy="50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Cambria"/>
              </a:rPr>
              <a:t>ФГОС НО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готовность и способность обучающихся к саморазвитию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формированность мотивации к обучению и познанию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ценностно-смысловые установки обучающихся, отражающие их индивидуально-личностные позици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оциальные компетенции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личностные качества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mbria"/>
              </a:rPr>
              <a:t>сформированность основ гражданской идентичност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23920" y="1125360"/>
            <a:ext cx="441972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65040" indent="-334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Cambria"/>
              </a:rPr>
              <a:t>ФГОС ОО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готовность и способность обучающихся к саморазвитию и личностному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амоопределению,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сформированность их мотивации к обучению и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целенаправленной познавательной деятельности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,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истемы значимых социальных и межличностных отношений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ценностно-смысловых установок, отражающих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личностные и гражданские позиции в деятельности,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социальные компетенции, </a:t>
            </a: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правосознание, способность ставить цели и строить жизненные планы,</a:t>
            </a:r>
            <a:r>
              <a:rPr b="1" lang="ru-RU" sz="16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6504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mbria"/>
              </a:rPr>
              <a:t>способность к осознанию российской идентичности в поликультурном социум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E5C76-ECC9-4B6C-9448-171CFD83E09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7880" y="928800"/>
            <a:ext cx="77738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еем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это связь между явлениями в процессе развития в природе, обществе и познании, когда новое, сменяя старое, сохраняет в себе некоторые его элементы.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обществе означает передачу и усвоение социальных и культурных ценностей от поколения к поколению, от формации к формаци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Скругленный прямоугольник 13"/>
          <p:cNvGrpSpPr/>
          <p:nvPr/>
        </p:nvGrpSpPr>
        <p:grpSpPr>
          <a:xfrm>
            <a:off x="6370560" y="2530440"/>
            <a:ext cx="2286000" cy="1846440"/>
            <a:chOff x="6370560" y="2530440"/>
            <a:chExt cx="2286000" cy="1846440"/>
          </a:xfrm>
        </p:grpSpPr>
        <p:pic>
          <p:nvPicPr>
            <p:cNvPr id="78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0440"/>
              <a:ext cx="2286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12"/>
          <p:cNvGrpSpPr/>
          <p:nvPr/>
        </p:nvGrpSpPr>
        <p:grpSpPr>
          <a:xfrm>
            <a:off x="549360" y="1444680"/>
            <a:ext cx="4724280" cy="4591080"/>
            <a:chOff x="549360" y="1444680"/>
            <a:chExt cx="4724280" cy="4591080"/>
          </a:xfrm>
        </p:grpSpPr>
        <p:pic>
          <p:nvPicPr>
            <p:cNvPr id="81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44680"/>
              <a:ext cx="4724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Приоритетная цель школьного образования:</a:t>
            </a:r>
            <a:endParaRPr b="0" lang="en-US" sz="2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8200" y="1483920"/>
            <a:ext cx="5113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32720" y="2705040"/>
            <a:ext cx="2170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Науч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учи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Стрелка вправо 11" descr=""/>
          <p:cNvPicPr/>
          <p:nvPr/>
        </p:nvPicPr>
        <p:blipFill>
          <a:blip r:embed="rId3"/>
          <a:stretch/>
        </p:blipFill>
        <p:spPr>
          <a:xfrm>
            <a:off x="4883040" y="2786040"/>
            <a:ext cx="16034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dc:language>en-US</dc:language>
  <cp:lastModifiedBy>Админ</cp:lastModifiedBy>
  <dcterms:modified xsi:type="dcterms:W3CDTF">2015-10-07T15:24:20Z</dcterms:modified>
  <cp:revision>1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