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5680" cy="124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dd9c3"/>
                </a:solidFill>
                <a:latin typeface="Cambria"/>
              </a:rPr>
              <a:t>Click to move the slide</a:t>
            </a: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7040" cy="124794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ED102A-93CF-45FF-B2B7-4FFFF41F098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7040" cy="124794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2DD114-B2D4-468A-A192-9F778FB7881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7040" cy="124794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0CC01F-2B48-447A-986C-1E2041A1D32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46C10-7AED-4CBB-A8F6-6FEABD0B2B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7384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7880" y="3946680"/>
            <a:ext cx="777384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6EBAD-12D7-4DA3-BFB4-6C45DEB2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79332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820880"/>
            <a:ext cx="379332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7880" y="3946680"/>
            <a:ext cx="379332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46680"/>
            <a:ext cx="379332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B05F2-F698-400D-B300-D3A10EF2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250308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600" y="1820880"/>
            <a:ext cx="250308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4960" y="1820880"/>
            <a:ext cx="250308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7880" y="3946680"/>
            <a:ext cx="250308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600" y="3946680"/>
            <a:ext cx="250308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4960" y="3946680"/>
            <a:ext cx="250308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A276E-33AD-4525-A141-AC13B6DB49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7880" y="1820880"/>
            <a:ext cx="777384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63F45-80CF-4F11-A5C1-4383D60B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7384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C8666-E7F0-481B-9B9C-B4120033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79332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820880"/>
            <a:ext cx="379332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3F716-329F-411F-B195-0709B39D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F9391-C33D-4C19-A51F-0926A752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160"/>
            <a:ext cx="821520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78CAA-D95D-4441-A390-9A4564D9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79332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820880"/>
            <a:ext cx="379332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7880" y="3946680"/>
            <a:ext cx="379332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D1EE7-41E9-4CE2-A345-453BF596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79332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820880"/>
            <a:ext cx="379332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46680"/>
            <a:ext cx="379332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31313-0CBA-4162-ABBA-6A4F39FF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79332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820880"/>
            <a:ext cx="379332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7880" y="3946680"/>
            <a:ext cx="777384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4B09D-DC23-419B-9E1D-EC983E32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dd9c3"/>
                </a:solidFill>
                <a:latin typeface="Cambria"/>
              </a:rPr>
              <a:t>Click to edit the title text format</a:t>
            </a: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7880" y="1820880"/>
            <a:ext cx="777384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E5B890-4585-4D68-B7DB-2EF8134E16E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79280" y="0"/>
            <a:ext cx="43196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заимосвязь и преемственность начального и основного общего образования в условиях внедрения ФГ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655280" y="4857840"/>
            <a:ext cx="36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Лицей №1» Захарова С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УУД</a:t>
            </a: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560" y="981000"/>
            <a:ext cx="42447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в широком значении термин «универсальные учебные действия» означает </a:t>
            </a: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умение учитьс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140000" y="907560"/>
            <a:ext cx="482436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и более узком (психологическом) значении этот термин можно определить как </a:t>
            </a:r>
            <a:r>
              <a:rPr b="1" lang="ru-RU" sz="3200" spc="-1" strike="noStrike">
                <a:solidFill>
                  <a:srgbClr val="ae1a16"/>
                </a:solidFill>
                <a:latin typeface="Cambria"/>
              </a:rPr>
              <a:t>совокупность способов действия учащегося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919332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  <a:ea typeface="Arial Unicode MS"/>
              </a:rPr>
              <a:t>Программа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Arial Unicode MS"/>
              </a:rPr>
              <a:t> формирования УУД</a:t>
            </a:r>
            <a:br>
              <a:rPr sz="3200"/>
            </a:br>
            <a:r>
              <a:rPr b="1" lang="ru-RU" sz="3300" spc="-1" strike="noStrike">
                <a:solidFill>
                  <a:srgbClr val="ffffff"/>
                </a:solidFill>
                <a:latin typeface="Cambria"/>
                <a:ea typeface="Arial Unicode MS"/>
              </a:rPr>
              <a:t>включает в себя:</a:t>
            </a:r>
            <a:br>
              <a:rPr sz="3300"/>
            </a:br>
            <a:endParaRPr b="0" lang="en-US" sz="33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77880" y="1820880"/>
            <a:ext cx="777384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 Unicode MS"/>
              </a:rPr>
              <a:t>- ценностные ориентиры содержания образования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 Unicode MS"/>
              </a:rPr>
              <a:t>- характеристики УУД и типовые задачи их формирования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 Unicode MS"/>
              </a:rPr>
              <a:t>-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Cambria"/>
                <a:ea typeface="Arial Unicode MS"/>
              </a:rPr>
              <a:t>преемственность УУД при переходе от начального к  общему образованию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Метапредметные результаты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Регулятивные УУД  - Целеполагание, планирование,  осуществление учебных действий, прогнозирование, контроль и самоконтроль, коррекция, оценка, саморегуляц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Познавательные  УУД - Общеучебные, знаково-символические, информационные, логически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Коммуникативные УУД - Инициативное сотрудничество, планирование учебного сотрудничества, взаимодействие, управление коммуникацие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Предметные результаты  - Определены с учетом содержания учебных предмет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ФГОС НОО и ФГОС ООО -  преемственность и развитие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етапредметные результаты</a:t>
            </a: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pic>
        <p:nvPicPr>
          <p:cNvPr id="95" name="Объект 2" descr=""/>
          <p:cNvPicPr/>
          <p:nvPr/>
        </p:nvPicPr>
        <p:blipFill>
          <a:blip r:embed="rId1"/>
          <a:stretch/>
        </p:blipFill>
        <p:spPr>
          <a:xfrm>
            <a:off x="-6480" y="712800"/>
            <a:ext cx="89060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356000" y="549360"/>
            <a:ext cx="4788000" cy="6308640"/>
          </a:xfrm>
          <a:prstGeom prst="rect">
            <a:avLst/>
          </a:prstGeom>
          <a:solidFill>
            <a:srgbClr val="eeece1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Cambria"/>
              </a:rPr>
              <a:t>Основная шко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80000"/>
              </a:lnSpc>
              <a:spcBef>
                <a:spcPts val="400"/>
              </a:spcBef>
              <a:buClr>
                <a:srgbClr val="432d23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32d23"/>
                </a:solidFill>
                <a:latin typeface="Cambria"/>
              </a:rPr>
              <a:t>любящий свой край и свою Родину, </a:t>
            </a:r>
            <a:r>
              <a:rPr b="0" lang="ru-RU" sz="1600" spc="-1" strike="noStrike">
                <a:solidFill>
                  <a:srgbClr val="cc3300"/>
                </a:solidFill>
                <a:latin typeface="Cambria"/>
              </a:rPr>
              <a:t>знающий свой родной язык, уважающий свой народ, его культуру и духовные тради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Cambria"/>
              </a:rPr>
              <a:t>осознающий </a:t>
            </a:r>
            <a:r>
              <a:rPr b="0" lang="ru-RU" sz="1600" spc="-1" strike="noStrike">
                <a:solidFill>
                  <a:srgbClr val="432d23"/>
                </a:solidFill>
                <a:latin typeface="Cambria"/>
              </a:rPr>
              <a:t>и принимающий ценности </a:t>
            </a:r>
            <a:r>
              <a:rPr b="0" lang="ru-RU" sz="1600" spc="-1" strike="noStrike">
                <a:solidFill>
                  <a:srgbClr val="cc3300"/>
                </a:solidFill>
                <a:latin typeface="Cambria"/>
              </a:rPr>
              <a:t>человеческой жизни,</a:t>
            </a:r>
            <a:r>
              <a:rPr b="0" lang="ru-RU" sz="1600" spc="-1" strike="noStrike">
                <a:solidFill>
                  <a:srgbClr val="432d23"/>
                </a:solidFill>
                <a:latin typeface="Cambria"/>
              </a:rPr>
              <a:t> семьи, гражданского общества, </a:t>
            </a:r>
            <a:r>
              <a:rPr b="0" lang="ru-RU" sz="1600" spc="-1" strike="noStrike">
                <a:solidFill>
                  <a:srgbClr val="cc3300"/>
                </a:solidFill>
                <a:latin typeface="Cambria"/>
              </a:rPr>
              <a:t>многонационального российского народа, челове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80000"/>
              </a:lnSpc>
              <a:spcBef>
                <a:spcPts val="400"/>
              </a:spcBef>
              <a:buClr>
                <a:srgbClr val="432d23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32d23"/>
                </a:solidFill>
                <a:latin typeface="Cambria"/>
              </a:rPr>
              <a:t>активно и заинтересованно познающий мир, </a:t>
            </a:r>
            <a:r>
              <a:rPr b="0" lang="ru-RU" sz="1600" spc="-1" strike="noStrike">
                <a:solidFill>
                  <a:srgbClr val="cc3300"/>
                </a:solidFill>
                <a:latin typeface="Cambria"/>
              </a:rPr>
              <a:t>осознающий ценность труда, науки и твор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Cambria"/>
              </a:rPr>
              <a:t>умеющий учиться, осознающий важность образования и самообразования для жизни и деятельности, способный применять полученные знания на практик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Cambria"/>
              </a:rPr>
              <a:t>социально активный,</a:t>
            </a:r>
            <a:r>
              <a:rPr b="0" lang="ru-RU" sz="1600" spc="-1" strike="noStrike">
                <a:solidFill>
                  <a:srgbClr val="432d23"/>
                </a:solidFill>
                <a:latin typeface="Cambria"/>
              </a:rPr>
              <a:t> уважающий закон и правопорядок, </a:t>
            </a:r>
            <a:r>
              <a:rPr b="0" lang="ru-RU" sz="1600" spc="-1" strike="noStrike">
                <a:solidFill>
                  <a:srgbClr val="cc3300"/>
                </a:solidFill>
                <a:latin typeface="Cambria"/>
              </a:rPr>
              <a:t>соизмеряющий свои поступки с нравственными ценностями, осознающий свои обязанности перед семьей, обществом, Отечеств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Cambria"/>
              </a:rPr>
              <a:t>уважающий других людей; умеющий вести конструктивный диалог, достигать взаимопонимания, сотрудничать для достижения общих результа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Cambria"/>
              </a:rPr>
              <a:t>осознанно</a:t>
            </a:r>
            <a:r>
              <a:rPr b="0" lang="ru-RU" sz="1600" spc="-1" strike="noStrike">
                <a:solidFill>
                  <a:srgbClr val="432d23"/>
                </a:solidFill>
                <a:latin typeface="Cambria"/>
              </a:rPr>
              <a:t> выполняющий правила здорового и безопасного для себя и окружающих образа жиз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Cambria"/>
              </a:rPr>
              <a:t>ориентирующийся в мире профессий, понимающий значение профессиональной деятельности для человек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620640"/>
            <a:ext cx="4140360" cy="6237360"/>
          </a:xfrm>
          <a:prstGeom prst="rect">
            <a:avLst/>
          </a:prstGeom>
          <a:solidFill>
            <a:srgbClr val="eeece1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Начальная шк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2015"/>
                </a:solidFill>
                <a:latin typeface="Tahoma"/>
              </a:rPr>
              <a:t>любящий свой народ, свой край и свою Родин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2015"/>
                </a:solidFill>
                <a:latin typeface="Tahoma"/>
              </a:rPr>
              <a:t>уважающий и принимающий ценности семьи и общ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2015"/>
                </a:solidFill>
                <a:latin typeface="Tahoma"/>
              </a:rPr>
              <a:t>любознательный, активно и заинтересованно познающий ми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2015"/>
                </a:solidFill>
                <a:latin typeface="Tahoma"/>
              </a:rPr>
              <a:t>владеющий основами умения учиться, способный к организации собственной деятель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2015"/>
                </a:solidFill>
                <a:latin typeface="Tahoma"/>
              </a:rPr>
              <a:t>готовый самостоятельно действовать и отвечать за свои поступки перед семьей и обществ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2015"/>
                </a:solidFill>
                <a:latin typeface="Tahoma"/>
              </a:rPr>
              <a:t>доброжелательный, умеющий слушать и слышать собеседника,   обосновывать    свою позицию, высказывать  свое мн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2015"/>
                </a:solidFill>
                <a:latin typeface="Tahoma"/>
              </a:rPr>
              <a:t>выполняющий правила здорового и безопасного для себя и</a:t>
            </a:r>
            <a:r>
              <a:rPr b="0" lang="ru-RU" sz="1600" spc="-1" strike="noStrike">
                <a:solidFill>
                  <a:srgbClr val="432d23"/>
                </a:solidFill>
                <a:latin typeface="Tahoma"/>
              </a:rPr>
              <a:t>  окружающих    образа жизни</a:t>
            </a:r>
            <a:r>
              <a:rPr b="0" lang="ru-RU" sz="1600" spc="-1" strike="noStrike">
                <a:solidFill>
                  <a:srgbClr val="432d23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692360" y="-243000"/>
            <a:ext cx="6700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ртреты выпускни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ddd9c3"/>
                </a:solidFill>
                <a:latin typeface="Cambria"/>
              </a:rPr>
              <a:t>Риски недостижения планируемых результатов</a:t>
            </a:r>
            <a:endParaRPr b="0" lang="en-US" sz="28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77880" y="1820880"/>
            <a:ext cx="777384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Упрощенное понимание учителями технологии системно-деятельностного подхода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рименение неэффективных форм обучен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новизна контрольно-измерительных материало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560" y="2420640"/>
            <a:ext cx="3886200" cy="419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65040" indent="-334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ambria"/>
              </a:rPr>
              <a:t>Школа 1908-2008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Базовые интеллектуальные навыки (чтение, письмо, счет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«картина мира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Подготовка к выбору професс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03280" y="1341000"/>
            <a:ext cx="388620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53880" indent="-3247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ambria"/>
              </a:rPr>
              <a:t>Школа 2020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53880" indent="-3247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Умение работать с большими объектами информа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53880" indent="-3247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53880" indent="-3247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Коммуникативные компетен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53880" indent="-3247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креатив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53880" indent="-3247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53880" indent="-3247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способность переобучатьс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B17E6-61E1-4C79-847A-2F13E1A56FF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Будущее: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лобализация, гиперконкуренция, сверхбыстрая смена технологи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нтернет, социальная самоорган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 rot="19320000">
            <a:off x="3924000" y="4229280"/>
            <a:ext cx="1224000" cy="485640"/>
          </a:xfrm>
          <a:prstGeom prst="pi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3" descr=""/>
          <p:cNvPicPr/>
          <p:nvPr/>
        </p:nvPicPr>
        <p:blipFill>
          <a:blip r:embed="rId1"/>
          <a:stretch/>
        </p:blipFill>
        <p:spPr>
          <a:xfrm>
            <a:off x="-6480" y="1596960"/>
            <a:ext cx="778536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Федеральный Закон «Об образовании» определяет задачи и структуру стандартов</a:t>
            </a:r>
            <a:r>
              <a:rPr b="0" lang="ru-RU" sz="3600" spc="-1" strike="noStrike">
                <a:solidFill>
                  <a:srgbClr val="ddd9c3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77880" y="1820880"/>
            <a:ext cx="777384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бразовательные стандарты должны обеспечивать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единство образовательного пространств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преемственность основных образовательных программ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чального общего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сновного общего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среднего  общего образован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среднего профессионального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высшего профессионального образован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3516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Cambria"/>
              </a:rPr>
              <a:t>ФГОС предусматривает </a:t>
            </a:r>
            <a:r>
              <a:rPr b="1" lang="ru-RU" sz="2100" spc="-1" strike="noStrike">
                <a:solidFill>
                  <a:srgbClr val="c00000"/>
                </a:solidFill>
                <a:latin typeface="Cambria"/>
              </a:rPr>
              <a:t>формирование основ учебной деятельности ребёнка </a:t>
            </a:r>
            <a:endParaRPr b="0" lang="en-US" sz="2100" spc="-1" strike="noStrike">
              <a:solidFill>
                <a:srgbClr val="ddd9c3"/>
              </a:solidFill>
              <a:latin typeface="Cambri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0920" y="1609560"/>
          <a:ext cx="8569080" cy="5107320"/>
        </p:xfrm>
        <a:graphic>
          <a:graphicData uri="http://schemas.openxmlformats.org/drawingml/2006/table">
            <a:tbl>
              <a:tblPr/>
              <a:tblGrid>
                <a:gridCol w="4284720"/>
                <a:gridCol w="428436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О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О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65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обеспечить познавательную мотивацию и интересы учащихся, их готовность и способность к сотрудничеству и совместной деятельности учения с учителем и одноклассниками, сформировать основы нравственного поведения, определяющего отношения личности с обществом и окружающими людь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обеспечивать личностное самоопределение учащихся:  формирование нравственной, мировоззренческой и гражданской позиции, профессиональный выбор, выявление творческих способностей учащихся, развитие способностей самостоятельного решения проблем в различных видах и сферах деятельност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mbria"/>
              </a:rPr>
              <a:t>ФГОС ступеней обучения – преемственность и развит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2"/>
          <p:cNvSpPr/>
          <p:nvPr/>
        </p:nvSpPr>
        <p:spPr>
          <a:xfrm>
            <a:off x="250920" y="1916280"/>
            <a:ext cx="3313080" cy="4249440"/>
          </a:xfrm>
          <a:prstGeom prst="pie">
            <a:avLst/>
          </a:prstGeom>
          <a:solidFill>
            <a:srgbClr val="eeece1"/>
          </a:solidFill>
          <a:ln w="9360">
            <a:solidFill>
              <a:srgbClr val="cc3300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32d23"/>
                </a:solidFill>
                <a:latin typeface="Times New Roman"/>
              </a:rPr>
              <a:t>Федера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32d23"/>
                </a:solidFill>
                <a:latin typeface="Times New Roman"/>
              </a:rPr>
              <a:t>государстве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32d23"/>
                </a:solidFill>
                <a:latin typeface="Times New Roman"/>
              </a:rPr>
              <a:t>образовательный стандарт </a:t>
            </a: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начального </a:t>
            </a:r>
            <a:r>
              <a:rPr b="1" lang="ru-RU" sz="2000" spc="-1" strike="noStrike">
                <a:solidFill>
                  <a:srgbClr val="432d23"/>
                </a:solidFill>
                <a:latin typeface="Times New Roman"/>
              </a:rPr>
              <a:t>общего образования</a:t>
            </a:r>
            <a:r>
              <a:rPr b="1" lang="ru-RU" sz="2000" spc="-1" strike="noStrike">
                <a:solidFill>
                  <a:srgbClr val="eeece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5508720" y="1916280"/>
            <a:ext cx="3311280" cy="4321080"/>
          </a:xfrm>
          <a:prstGeom prst="pie">
            <a:avLst/>
          </a:prstGeom>
          <a:solidFill>
            <a:srgbClr val="eeece1"/>
          </a:solidFill>
          <a:ln w="9360">
            <a:solidFill>
              <a:srgbClr val="cc3300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32d23"/>
                </a:solidFill>
                <a:latin typeface="Times New Roman"/>
              </a:rPr>
              <a:t>Федера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32d23"/>
                </a:solidFill>
                <a:latin typeface="Times New Roman"/>
              </a:rPr>
              <a:t>государстве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32d23"/>
                </a:solidFill>
                <a:latin typeface="Times New Roman"/>
              </a:rPr>
              <a:t>образовательный стандарт </a:t>
            </a: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основного</a:t>
            </a:r>
            <a:r>
              <a:rPr b="1" lang="ru-RU" sz="2000" spc="-1" strike="noStrike">
                <a:solidFill>
                  <a:srgbClr val="432d23"/>
                </a:solidFill>
                <a:latin typeface="Times New Roman"/>
              </a:rPr>
              <a:t> общего образов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3203640" y="3068640"/>
            <a:ext cx="2520720" cy="1368360"/>
          </a:xfrm>
          <a:prstGeom prst="pi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еемствен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звит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77880" y="620640"/>
            <a:ext cx="7773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  <a:ea typeface="Arial Unicode MS"/>
              </a:rPr>
              <a:t>Преемственность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 Unicode MS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  <a:ea typeface="Arial Unicode MS"/>
              </a:rPr>
              <a:t>при переходе от начального к общему образованию должна осуществляться на уровне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  <a:ea typeface="Arial Unicode MS"/>
              </a:rPr>
              <a:t>целей и задач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  <a:ea typeface="Arial Unicode MS"/>
              </a:rPr>
              <a:t>содержания образования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  <a:ea typeface="Arial Unicode MS"/>
              </a:rPr>
              <a:t>организационных форм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  <a:ea typeface="Arial Unicode MS"/>
              </a:rPr>
              <a:t>планируемых результатов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Требования к структуре – преемственность и разви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09760" y="3049560"/>
            <a:ext cx="3933720" cy="974880"/>
          </a:xfrm>
          <a:prstGeom prst="rect">
            <a:avLst/>
          </a:prstGeom>
          <a:solidFill>
            <a:srgbClr val="c0504d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ФГОС НОО: 80% и 20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695840" y="3049560"/>
            <a:ext cx="3933720" cy="976320"/>
          </a:xfrm>
          <a:prstGeom prst="rect">
            <a:avLst/>
          </a:prstGeom>
          <a:solidFill>
            <a:srgbClr val="c0504d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ФГОС ООО: 70% и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273320" y="1268280"/>
            <a:ext cx="6532920" cy="948240"/>
          </a:xfrm>
          <a:prstGeom prst="rect">
            <a:avLst/>
          </a:prstGeom>
          <a:solidFill>
            <a:srgbClr val="eeece1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Соотношение обязательной ч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и части, формируемой участниками образователь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роцесс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 rot="5400000">
            <a:off x="4154760" y="-13320"/>
            <a:ext cx="287280" cy="5185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135000 h 5185080"/>
              <a:gd name="textAreaBottom" fmla="*/ 5050080 h 518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650"/>
                </a:lnTo>
                <a:cubicBezTo>
                  <a:pt x="10800" y="8550"/>
                  <a:pt x="5400" y="9450"/>
                  <a:pt x="0" y="9450"/>
                </a:cubicBezTo>
                <a:cubicBezTo>
                  <a:pt x="5400" y="9450"/>
                  <a:pt x="10800" y="10350"/>
                  <a:pt x="10800" y="112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4356000" y="4365720"/>
            <a:ext cx="4788000" cy="24922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Часть, формируемая участник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образовательного процесс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редусматривае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возможность введ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учебных предметов,  курсов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обеспечивающ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азличные запросы обучающихся</a:t>
            </a: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в том числе этнокультурные, а такж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еализацию индивидуальных проект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и внеурочную деятель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0" y="4365720"/>
            <a:ext cx="4140360" cy="24922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В целях обеспеч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индивидуальных потребност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обучающихс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предусматриваютс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учебные курсы, обеспечивающ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азличные интересы обучающихся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в том числе этнокультурны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внеурочная деятель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ФГОС НОО и ФГОС ООО -  преемственность и развит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Личностные  результаты</a:t>
            </a:r>
            <a:endParaRPr b="0" lang="en-US" sz="20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560" y="1447920"/>
            <a:ext cx="4321080" cy="50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65040" indent="-334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Cambria"/>
              </a:rPr>
              <a:t>ФГОС НОО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mbria"/>
              </a:rPr>
              <a:t>готовность и способность обучающихся к саморазвитию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mbria"/>
              </a:rPr>
              <a:t>сформированность мотивации к обучению и познанию,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mbria"/>
              </a:rPr>
              <a:t>ценностно-смысловые установки обучающихся, отражающие их индивидуально-личностные позиции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Cambria"/>
              </a:rPr>
              <a:t>социальные компетенции,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mbria"/>
              </a:rPr>
              <a:t>личностные качества;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mbria"/>
              </a:rPr>
              <a:t>сформированность основ гражданской идентичности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723920" y="1125360"/>
            <a:ext cx="4419720" cy="573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65040" indent="-334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Cambria"/>
              </a:rPr>
              <a:t>ФГОС ООО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Cambria"/>
              </a:rPr>
              <a:t>готовность и способность обучающихся к саморазвитию и личностному </a:t>
            </a:r>
            <a:r>
              <a:rPr b="1" lang="ru-RU" sz="1600" spc="-1" strike="noStrike">
                <a:solidFill>
                  <a:srgbClr val="cc0000"/>
                </a:solidFill>
                <a:latin typeface="Cambria"/>
              </a:rPr>
              <a:t>самоопределению,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Cambria"/>
              </a:rPr>
              <a:t>сформированность их мотивации к обучению и </a:t>
            </a:r>
            <a:r>
              <a:rPr b="1" lang="ru-RU" sz="1600" spc="-1" strike="noStrike">
                <a:solidFill>
                  <a:srgbClr val="cc0000"/>
                </a:solidFill>
                <a:latin typeface="Cambria"/>
              </a:rPr>
              <a:t>целенаправленной познавательной деятельности</a:t>
            </a:r>
            <a:r>
              <a:rPr b="1" lang="ru-RU" sz="1600" spc="-1" strike="noStrike">
                <a:solidFill>
                  <a:srgbClr val="000066"/>
                </a:solidFill>
                <a:latin typeface="Cambria"/>
              </a:rPr>
              <a:t>, </a:t>
            </a:r>
            <a:r>
              <a:rPr b="1" lang="ru-RU" sz="1600" spc="-1" strike="noStrike">
                <a:solidFill>
                  <a:srgbClr val="cc0000"/>
                </a:solidFill>
                <a:latin typeface="Cambria"/>
              </a:rPr>
              <a:t>системы значимых социальных и межличностных отношений</a:t>
            </a:r>
            <a:r>
              <a:rPr b="1" lang="ru-RU" sz="1600" spc="-1" strike="noStrike">
                <a:solidFill>
                  <a:srgbClr val="000066"/>
                </a:solidFill>
                <a:latin typeface="Cambri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mbria"/>
              </a:rPr>
              <a:t>ценностно-смысловых установок, отражающих </a:t>
            </a:r>
            <a:r>
              <a:rPr b="1" lang="ru-RU" sz="1600" spc="-1" strike="noStrike">
                <a:solidFill>
                  <a:srgbClr val="cc0000"/>
                </a:solidFill>
                <a:latin typeface="Cambria"/>
              </a:rPr>
              <a:t>личностные и гражданские позиции в деятельности,</a:t>
            </a:r>
            <a:r>
              <a:rPr b="1" lang="ru-RU" sz="1600" spc="-1" strike="noStrike">
                <a:solidFill>
                  <a:srgbClr val="000066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mbria"/>
              </a:rPr>
              <a:t>социальные компетенции, </a:t>
            </a:r>
            <a:r>
              <a:rPr b="1" lang="ru-RU" sz="1600" spc="-1" strike="noStrike">
                <a:solidFill>
                  <a:srgbClr val="cc0000"/>
                </a:solidFill>
                <a:latin typeface="Cambria"/>
              </a:rPr>
              <a:t>правосознание, способность ставить цели и строить жизненные планы,</a:t>
            </a:r>
            <a:r>
              <a:rPr b="1" lang="ru-RU" sz="1600" spc="-1" strike="noStrike">
                <a:solidFill>
                  <a:srgbClr val="000066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Cambria"/>
              </a:rPr>
              <a:t>способность к осознанию российской идентичности в поликультурном социуме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7852E-CEB1-4B05-B965-AF15B125DF4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7880" y="928800"/>
            <a:ext cx="777384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реемственность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–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это связь между явлениями в процессе развития в природе, обществе и познании, когда новое, сменяя старое, сохраняет в себе некоторые его элементы.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В обществе означает передачу и усвоение социальных и культурных ценностей от поколения к поколению, от формации к формации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Скругленный прямоугольник 13"/>
          <p:cNvGrpSpPr/>
          <p:nvPr/>
        </p:nvGrpSpPr>
        <p:grpSpPr>
          <a:xfrm>
            <a:off x="6370560" y="2530440"/>
            <a:ext cx="2286000" cy="1846440"/>
            <a:chOff x="6370560" y="2530440"/>
            <a:chExt cx="2286000" cy="1846440"/>
          </a:xfrm>
        </p:grpSpPr>
        <p:pic>
          <p:nvPicPr>
            <p:cNvPr id="78" name="Скругленный прямоугольник 13" descr=""/>
            <p:cNvPicPr/>
            <p:nvPr/>
          </p:nvPicPr>
          <p:blipFill>
            <a:blip r:embed="rId1"/>
            <a:stretch/>
          </p:blipFill>
          <p:spPr>
            <a:xfrm>
              <a:off x="6370560" y="2530440"/>
              <a:ext cx="228600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518160" y="2649600"/>
              <a:ext cx="2001960" cy="15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" name="Скругленный прямоугольник 12"/>
          <p:cNvGrpSpPr/>
          <p:nvPr/>
        </p:nvGrpSpPr>
        <p:grpSpPr>
          <a:xfrm>
            <a:off x="549360" y="1444680"/>
            <a:ext cx="4724280" cy="4591080"/>
            <a:chOff x="549360" y="1444680"/>
            <a:chExt cx="4724280" cy="4591080"/>
          </a:xfrm>
        </p:grpSpPr>
        <p:pic>
          <p:nvPicPr>
            <p:cNvPr id="81" name="Скругленный 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549360" y="1444680"/>
              <a:ext cx="472428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28720" y="1701720"/>
              <a:ext cx="4173480" cy="40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mbria"/>
              </a:rPr>
              <a:t>Приоритетная цель школьного образования:</a:t>
            </a:r>
            <a:endParaRPr b="0" lang="en-US" sz="26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8200" y="1483920"/>
            <a:ext cx="5113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развитие у ученика способности самостоятельно ставить учебную задачу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проектировать пути её реализации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контролировать и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оценивать свои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достижени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732720" y="2705040"/>
            <a:ext cx="21700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ae1a16"/>
                </a:solidFill>
                <a:latin typeface="Cambria"/>
              </a:rPr>
              <a:t>Научи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ae1a16"/>
                </a:solidFill>
                <a:latin typeface="Cambria"/>
              </a:rPr>
              <a:t>учитьс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6" name="Стрелка вправо 11" descr=""/>
          <p:cNvPicPr/>
          <p:nvPr/>
        </p:nvPicPr>
        <p:blipFill>
          <a:blip r:embed="rId3"/>
          <a:stretch/>
        </p:blipFill>
        <p:spPr>
          <a:xfrm>
            <a:off x="4883040" y="2786040"/>
            <a:ext cx="1603440" cy="151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7:20:20Z</dcterms:created>
  <dc:creator>Феденко</dc:creator>
  <dc:description/>
  <dc:language>en-US</dc:language>
  <cp:lastModifiedBy>Админ</cp:lastModifiedBy>
  <dcterms:modified xsi:type="dcterms:W3CDTF">2015-10-07T15:24:20Z</dcterms:modified>
  <cp:revision>14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29991</vt:lpwstr>
  </property>
</Properties>
</file>