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applause.wav" ContentType="audio/x-wav"/>
  <Override PartName="/ppt/media/laser.wav" ContentType="audio/x-wav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8DD-6A54-4D12-853B-3853CA30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1FE-749B-4848-A6AF-34A4A01F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6A7-5DB7-475A-A6DA-DE7750A2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7CC-E707-4ACE-837C-64055F9D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BEFC-49F9-47FD-A0A2-950FCACF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1B61-136C-4BBA-ACCC-59AD462C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4743-A049-4507-BB2B-5FC3C901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BB58-B2BA-4EC6-B272-0AE5251A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4913-A126-466F-A047-00951AAA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68C5-B1C0-4232-B2AA-7146CA56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6875-FE3B-4ADB-B0CF-1C954248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2F6-751E-4A90-B4BF-1BB16AF7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65C5-3442-4214-9AB9-D8EA204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6612-4DCC-4208-BF82-386DCA0C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61DD-F96D-45D5-A22D-17F6089F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58E9-F1A4-4B99-B8A6-7DFF04F4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AF34-1A2B-46E1-A407-6BA62164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369-6819-4328-880C-D8A67B3E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BB3-5A36-48CD-B9DA-287AA6E6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5C1-840C-45B0-9BE5-1682851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E4E-F512-41E1-87C4-DB896734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2FD-896B-4CE9-AC1C-6557EA80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1B1-0F4A-4DCA-B628-7E2BD473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BFD-A407-46DD-B168-F495E1D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4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" name="Freeform 35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3" name="Freeform 36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4" name="Freeform 37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5" name="Freeform 38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6" name="Freeform 39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" name="Freeform 40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" name="Freeform 41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9" name="Freeform 42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0" name="Freeform 43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1" name="Freeform 44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2" name="Freeform 45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3" name="Freeform 46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4" name="Freeform 47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5" name="Freeform 48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6" name="Freeform 49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7" name="Freeform 50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8" name="Freeform 51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9" name="Freeform 52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0" name="Freeform 53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1" name="Freeform 54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2" name="Freeform 55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</p:grpSp>
      <p:grpSp>
        <p:nvGrpSpPr>
          <p:cNvPr id="23" name="Group 61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57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5" name="Freeform 58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6" name="Freeform 59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9296-EEC8-400B-B8ED-10297CA9D3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6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0" name="Freeform 37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1" name="Freeform 38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2" name="Freeform 39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3" name="Freeform 40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4" name="Freeform 41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5" name="Freeform 42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6" name="Freeform 43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7" name="Freeform 44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8" name="Freeform 45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9" name="Freeform 46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0" name="Freeform 47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1" name="Freeform 48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2" name="Freeform 49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3" name="Freeform 50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4" name="Freeform 51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5" name="Freeform 52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6" name="Freeform 53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7" name="Freeform 54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8" name="Freeform 55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9" name="Freeform 56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90" name="Freeform 57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</p:grpSp>
      <p:grpSp>
        <p:nvGrpSpPr>
          <p:cNvPr id="91" name="Group 58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59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93" name="Freeform 60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94" name="Freeform 61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F277-834F-486E-B96C-00EA3210ADBB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-380880" y="533520"/>
            <a:ext cx="952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45472"/>
                </a:solidFill>
                <a:latin typeface="Book Antiqua"/>
              </a:rPr>
              <a:t>«Заблудилось» число.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Book Antiqua"/>
              </a:rPr>
              <a:t>Найди его место 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Book Antiqua"/>
              </a:rPr>
              <a:t>в натуральном ряду чисел.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91440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524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1460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276720" y="2895480"/>
            <a:ext cx="53316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962520" y="2895480"/>
            <a:ext cx="53316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648320" y="2895480"/>
            <a:ext cx="53316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4100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958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74674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67816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3436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98172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181980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401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26578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40294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47152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616320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684900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7448040" y="4952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93024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17683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253044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3292560" y="4900680"/>
            <a:ext cx="53316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3978360" y="4900680"/>
            <a:ext cx="53316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4664160" y="4900680"/>
            <a:ext cx="53316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54259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4" name="Rectangle 36"/>
          <p:cNvSpPr/>
          <p:nvPr/>
        </p:nvSpPr>
        <p:spPr>
          <a:xfrm>
            <a:off x="61117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74833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67975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7" name="Text Box 40"/>
          <p:cNvSpPr/>
          <p:nvPr/>
        </p:nvSpPr>
        <p:spPr>
          <a:xfrm>
            <a:off x="997560" y="497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8" name="Text Box 41"/>
          <p:cNvSpPr/>
          <p:nvPr/>
        </p:nvSpPr>
        <p:spPr>
          <a:xfrm>
            <a:off x="1835640" y="497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265788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0" name="Text Box 43"/>
          <p:cNvSpPr/>
          <p:nvPr/>
        </p:nvSpPr>
        <p:spPr>
          <a:xfrm>
            <a:off x="547740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326772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02948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471528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616320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692532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6" name="Text Box 52"/>
          <p:cNvSpPr/>
          <p:nvPr/>
        </p:nvSpPr>
        <p:spPr>
          <a:xfrm>
            <a:off x="7448040" y="2971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1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1                 6+2=8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1                 6+2=8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4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6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2+2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4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8-1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5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3+4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 6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5 -3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1 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6+2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 4  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4 -3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2"/>
          <p:cNvSpPr/>
          <p:nvPr/>
        </p:nvSpPr>
        <p:spPr>
          <a:xfrm>
            <a:off x="752400" y="16765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19" name="Rectangle 44"/>
          <p:cNvSpPr/>
          <p:nvPr/>
        </p:nvSpPr>
        <p:spPr>
          <a:xfrm>
            <a:off x="1971720" y="16765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1361880" y="16765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90468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212400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151452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4" name="Rectangle 52"/>
          <p:cNvSpPr/>
          <p:nvPr/>
        </p:nvSpPr>
        <p:spPr>
          <a:xfrm>
            <a:off x="105732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5" name="Rectangle 53"/>
          <p:cNvSpPr/>
          <p:nvPr/>
        </p:nvSpPr>
        <p:spPr>
          <a:xfrm>
            <a:off x="227628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6" name="Rectangle 54"/>
          <p:cNvSpPr/>
          <p:nvPr/>
        </p:nvSpPr>
        <p:spPr>
          <a:xfrm>
            <a:off x="166680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7" name="Rectangle 55"/>
          <p:cNvSpPr/>
          <p:nvPr/>
        </p:nvSpPr>
        <p:spPr>
          <a:xfrm>
            <a:off x="4181400" y="182880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8" name="Rectangle 56"/>
          <p:cNvSpPr/>
          <p:nvPr/>
        </p:nvSpPr>
        <p:spPr>
          <a:xfrm>
            <a:off x="5400720" y="182880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4790880" y="182880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0" name="Rectangle 58"/>
          <p:cNvSpPr/>
          <p:nvPr/>
        </p:nvSpPr>
        <p:spPr>
          <a:xfrm>
            <a:off x="441000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1" name="Rectangle 59"/>
          <p:cNvSpPr/>
          <p:nvPr/>
        </p:nvSpPr>
        <p:spPr>
          <a:xfrm>
            <a:off x="562932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2" name="Rectangle 60"/>
          <p:cNvSpPr/>
          <p:nvPr/>
        </p:nvSpPr>
        <p:spPr>
          <a:xfrm>
            <a:off x="501948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3" name="Rectangle 61"/>
          <p:cNvSpPr/>
          <p:nvPr/>
        </p:nvSpPr>
        <p:spPr>
          <a:xfrm>
            <a:off x="471492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593388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5" name="Rectangle 63"/>
          <p:cNvSpPr/>
          <p:nvPr/>
        </p:nvSpPr>
        <p:spPr>
          <a:xfrm>
            <a:off x="532440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6" name="Text Box 66"/>
          <p:cNvSpPr/>
          <p:nvPr/>
        </p:nvSpPr>
        <p:spPr>
          <a:xfrm>
            <a:off x="2055240" y="762120"/>
            <a:ext cx="38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Найди ошибку.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  <p:transition spd="slow">
    <p:checker dir="horz"/>
    <p:sndAc>
      <p:stSnd>
        <p:snd r:embed="rId1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521720" y="838080"/>
            <a:ext cx="569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Найди лишнюю форму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и обоснуй свой ответ.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609480" y="3429000"/>
            <a:ext cx="2438640" cy="11430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267080" y="3352680"/>
            <a:ext cx="1295640" cy="129564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858000" y="3048120"/>
            <a:ext cx="1971720" cy="1676160"/>
          </a:xfrm>
          <a:prstGeom prst="triangle">
            <a:avLst>
              <a:gd name="adj" fmla="val 50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  <p:transition spd="slow">
    <p:checker dir="horz"/>
    <p:sndAc>
      <p:stSnd>
        <p:snd r:embed="rId1" name="applaus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54"/>
          <p:cNvPicPr/>
          <p:nvPr/>
        </p:nvPicPr>
        <p:blipFill>
          <a:blip r:embed="rId1"/>
          <a:stretch/>
        </p:blipFill>
        <p:spPr>
          <a:xfrm>
            <a:off x="4643280" y="2421000"/>
            <a:ext cx="3522960" cy="3789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484360" y="141300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comic"/>
              </a:rPr>
              <a:t>МОЛОДЦЫ !</a:t>
            </a:r>
            <a:endParaRPr b="0" lang="en-US" sz="8000" spc="-1" strike="noStrike">
              <a:solidFill>
                <a:srgbClr val="545472"/>
              </a:solidFill>
              <a:latin typeface="Webdings"/>
            </a:endParaRPr>
          </a:p>
        </p:txBody>
      </p:sp>
      <p:pic>
        <p:nvPicPr>
          <p:cNvPr id="243" name="Picture 4" descr="колокольчики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               2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                8-1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                8-1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                8-1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2:45:20Z</dcterms:created>
  <dc:creator>8k2f</dc:creator>
  <dc:description/>
  <dc:language>en-US</dc:language>
  <cp:lastModifiedBy>Светлана</cp:lastModifiedBy>
  <dcterms:modified xsi:type="dcterms:W3CDTF">2019-01-05T15:08:03Z</dcterms:modified>
  <cp:revision>87</cp:revision>
  <dc:subject/>
  <dc:title>СЛОЖЕНИЕ</dc:title>
</cp:coreProperties>
</file>