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26.jpeg" ContentType="image/jpeg"/>
  <Override PartName="/ppt/media/image42.png" ContentType="image/pn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20720" y="899640"/>
            <a:ext cx="61149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B90F2-21CD-4A69-8CAE-1ABFD28B96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666720" y="5184720"/>
            <a:ext cx="54817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елкая мотор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бота со схемами, конструирование из бумажных деталей, сделанных ребен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Воспитание эстетического вку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Гиперактивные дети и дети с ограничением физической активности успешно занимаются квиллинг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Творческая самостоятельность и инициативность детей. Ребенок может самостоятельно выбрать цветовую гамму и составить композицию своей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Нет неудачных работ (повышение самооценки у дет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Подарки своими ру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астер -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ECA-F909-47AA-A3F9-4B0F23DE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438-E69B-4E2B-BBF4-09B9F50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EA1-BFF5-4D87-872D-D1876A1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6BD-4114-4756-85DE-CA81490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2C7-88D9-4A9E-8442-F7FCA0DC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0FC-9E27-4574-9547-CF869F45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A98-5FBA-4D6C-8C77-BC4684B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BEE-5AC2-46CC-9E12-7AB4D14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E14-9A1D-4EDB-B3B5-949CB08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5FE-A499-4116-8E5D-82BFBFA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429-4475-4AD4-B08E-164930F0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E9A-29B3-4343-BC1B-11D96C67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75920" cy="12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4080"/>
            <a:ext cx="844560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10800000">
            <a:off x="0" y="30960"/>
            <a:ext cx="1008072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88640"/>
            <a:ext cx="85759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41240" y="1596600"/>
            <a:ext cx="85759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0080" y="631440"/>
            <a:ext cx="8577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57736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5400000">
            <a:off x="7716600" y="4744800"/>
            <a:ext cx="3527640" cy="126072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0181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865400" y="2350800"/>
            <a:ext cx="399960" cy="1008036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543924">
                <a:moveTo>
                  <a:pt x="85" y="0"/>
                </a:moveTo>
                <a:arcTo wR="85" hR="85" stAng="16200000" swAng="-5400000"/>
                <a:lnTo>
                  <a:pt x="0" y="543839"/>
                </a:lnTo>
                <a:arcTo wR="85" hR="85" stAng="10800000" swAng="-5400000"/>
                <a:lnTo>
                  <a:pt x="21515" y="543924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054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61600" y="-3202920"/>
            <a:ext cx="3611520" cy="10080720"/>
          </a:xfrm>
          <a:custGeom>
            <a:avLst/>
            <a:gdLst>
              <a:gd name="textAreaLeft" fmla="*/ 360 w 3611520"/>
              <a:gd name="textAreaRight" fmla="*/ 3611160 w 361152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60288">
                <a:moveTo>
                  <a:pt x="9" y="0"/>
                </a:moveTo>
                <a:arcTo wR="9" hR="9" stAng="16200000" swAng="-5400000"/>
                <a:lnTo>
                  <a:pt x="0" y="60279"/>
                </a:lnTo>
                <a:arcTo wR="9" hR="9" stAng="10800000" swAng="-5400000"/>
                <a:lnTo>
                  <a:pt x="21591" y="60288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80000"/>
            <a:ext cx="8375760" cy="1872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638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46680"/>
            <a:ext cx="8375760" cy="1872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8778600" y="5879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8778600" y="52923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778600" y="470340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8778600" y="411588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8778600" y="35283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8778600" y="293940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8778600" y="2352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7556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9440" y="2100240"/>
            <a:ext cx="857556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5400000">
            <a:off x="6454440" y="3486240"/>
            <a:ext cx="604836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865400" y="2349360"/>
            <a:ext cx="399960" cy="1008036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543924">
                <a:moveTo>
                  <a:pt x="85" y="0"/>
                </a:moveTo>
                <a:arcTo wR="85" hR="85" stAng="16200000" swAng="-5400000"/>
                <a:lnTo>
                  <a:pt x="0" y="543839"/>
                </a:lnTo>
                <a:arcTo wR="85" hR="85" stAng="10800000" swAng="-5400000"/>
                <a:lnTo>
                  <a:pt x="21515" y="543924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519080" y="-4463640"/>
            <a:ext cx="1092240" cy="1008036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199289">
                <a:moveTo>
                  <a:pt x="31" y="0"/>
                </a:moveTo>
                <a:arcTo wR="31" hR="31" stAng="16200000" swAng="-5400000"/>
                <a:lnTo>
                  <a:pt x="0" y="199258"/>
                </a:lnTo>
                <a:arcTo wR="31" hR="31" stAng="10800000" swAng="-5400000"/>
                <a:lnTo>
                  <a:pt x="21569" y="199289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520" y="15840"/>
            <a:ext cx="8874000" cy="10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640" y="1511280"/>
            <a:ext cx="85377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99120" y="3633840"/>
            <a:ext cx="1008036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7054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8780400" y="-16848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878040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8780400" y="83916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878040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8780400" y="1847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878040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878040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878040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878040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878040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878040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878040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878040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"/>
          </p:nvPr>
        </p:nvSpPr>
        <p:spPr>
          <a:xfrm>
            <a:off x="158400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2"/>
          </p:nvPr>
        </p:nvSpPr>
        <p:spPr>
          <a:xfrm>
            <a:off x="39859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C6C5F-7EAE-4C2A-91DA-A593209F4DC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63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6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6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63.xml"/><Relationship Id="rId1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63.xml"/><Relationship Id="rId16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6560" y="1499760"/>
            <a:ext cx="86076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КВИЛЛИНГ</a:t>
            </a: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из опыта работы 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в детском саду 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в подготовительной группе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800" y="5400720"/>
            <a:ext cx="86072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feeb9a"/>
                </a:solidFill>
                <a:latin typeface="Arial"/>
              </a:rPr>
              <a:t>педагог Комиссарчук Н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35080" y="1469880"/>
            <a:ext cx="7808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Пасхальные откры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63640" y="2362320"/>
            <a:ext cx="3600360" cy="4824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454720" y="2367000"/>
            <a:ext cx="3581280" cy="47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06600" y="1469880"/>
            <a:ext cx="7068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Флори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90680" y="2160720"/>
            <a:ext cx="7068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Тюльпаны.                            Нарцис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36640" y="2643120"/>
            <a:ext cx="3612960" cy="4665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514840" y="2652840"/>
            <a:ext cx="341316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06600" y="1469880"/>
            <a:ext cx="7068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Флористика. Колокольч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4360" y="1908000"/>
            <a:ext cx="3708360" cy="542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400720" y="1908000"/>
            <a:ext cx="431964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06600" y="1481040"/>
            <a:ext cx="7068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Флористика.  </a:t>
            </a:r>
            <a:r>
              <a:rPr b="1" i="1" lang="nl-BE" sz="2800" spc="-1" strike="noStrike">
                <a:solidFill>
                  <a:srgbClr val="feeb9a"/>
                </a:solidFill>
                <a:latin typeface="Arial"/>
              </a:rPr>
              <a:t>Мотивы хохло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411280" y="1944720"/>
            <a:ext cx="51660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абоч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131840" y="1657440"/>
            <a:ext cx="786924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Рыб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800360" y="1800360"/>
            <a:ext cx="6840360" cy="51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34720" y="648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6600" y="1336680"/>
            <a:ext cx="2273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Вино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40360" y="2189160"/>
            <a:ext cx="32400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Лебе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BE" sz="2200" spc="-1" strike="noStrike">
                <a:solidFill>
                  <a:srgbClr val="feeb9a"/>
                </a:solidFill>
                <a:latin typeface="Arial"/>
              </a:rPr>
              <a:t>Авторская рабо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82520" y="1979640"/>
            <a:ext cx="5241960" cy="3747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584600" y="3281400"/>
            <a:ext cx="5273640" cy="39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569880"/>
            <a:ext cx="9360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 + гофрокартон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Жар - птиц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3200" y="2413080"/>
            <a:ext cx="5400720" cy="4106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867280" y="1800360"/>
            <a:ext cx="395928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1040" indent="-31104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атериал – гофрокартон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Зубочистки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Линейки с шаблонами кругов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артон для основ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56880" y="406440"/>
            <a:ext cx="84042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i="1" lang="nl-BE" sz="2800" spc="-1" strike="noStrike">
                <a:solidFill>
                  <a:srgbClr val="050505"/>
                </a:solidFill>
                <a:latin typeface="Times New Roman"/>
              </a:rPr>
              <a:t>Забавные прищепки. Елочка и снеговики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"/>
          <a:stretch/>
        </p:blipFill>
        <p:spPr>
          <a:xfrm>
            <a:off x="179280" y="2876400"/>
            <a:ext cx="6120000" cy="4575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6000" y="2876400"/>
            <a:ext cx="6083280" cy="43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marL="195840" indent="-19584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елкая моторика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Работа со схемами, конструирование из бумажных детале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Воспитание эстетического вкуса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Творческая самостоятельность и инициативность детей.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Нет неудачных работ (повышение самооценки у детей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Сотрудничество и взаимопомощь: воспитатель – ребенок,ребенок – ребенок, ребенок – взрослы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оммуникативные навыки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Трудовое воспитание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Подготовка к школе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Подарки своими руками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онкурсные работы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Детский мастер -класс для родителе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чему квиллинг?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Это просто.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22492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i="1" lang="nl-BE" sz="3200" spc="-1" strike="noStrike">
                <a:solidFill>
                  <a:srgbClr val="050505"/>
                </a:solidFill>
                <a:latin typeface="Times New Roman"/>
              </a:rPr>
              <a:t>Забавные прищепки. Цветы.  Воробей.</a:t>
            </a:r>
            <a:endParaRPr b="0" lang="en-US" sz="32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01600" y="3600360"/>
            <a:ext cx="2498760" cy="3487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7199280" y="4035600"/>
            <a:ext cx="2448000" cy="2804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968640" y="2203560"/>
            <a:ext cx="225432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40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i="1" lang="nl-BE" sz="2800" spc="-1" strike="noStrike">
                <a:solidFill>
                  <a:srgbClr val="050505"/>
                </a:solidFill>
                <a:latin typeface="Times New Roman"/>
              </a:rPr>
              <a:t>Забавные прищепки. Лиса, мышка и цыпленок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52360" y="2039760"/>
            <a:ext cx="2519280" cy="4324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205760" y="2087640"/>
            <a:ext cx="2519280" cy="4137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784680" y="2928960"/>
            <a:ext cx="251928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40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r>
              <a:rPr b="0" lang="nl-BE" sz="2800" spc="-1" strike="noStrike">
                <a:solidFill>
                  <a:srgbClr val="050505"/>
                </a:solidFill>
                <a:latin typeface="Times New Roman"/>
              </a:rPr>
              <a:t>Объемные игрушки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79280" y="3279600"/>
            <a:ext cx="3060720" cy="3560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516720" y="1763640"/>
            <a:ext cx="3419280" cy="2697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2879640" y="1800360"/>
            <a:ext cx="2411640" cy="27208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003640" y="4381560"/>
            <a:ext cx="2880000" cy="26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40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lang="nl-BE" sz="2800" spc="-1" strike="noStrike">
                <a:solidFill>
                  <a:srgbClr val="050505"/>
                </a:solidFill>
                <a:latin typeface="Times New Roman"/>
              </a:rPr>
              <a:t>Объемные игрушки</a:t>
            </a:r>
            <a:r>
              <a:rPr b="0" i="1" lang="nl-BE" sz="2800" spc="-1" strike="noStrike">
                <a:solidFill>
                  <a:srgbClr val="050505"/>
                </a:solidFill>
                <a:latin typeface="Times New Roman"/>
              </a:rPr>
              <a:t>. Машинки.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43000" y="2274840"/>
            <a:ext cx="4319640" cy="271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873680" y="3419640"/>
            <a:ext cx="431964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34720" y="253800"/>
            <a:ext cx="822492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55640" y="828720"/>
            <a:ext cx="738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3600" spc="-1" strike="noStrike">
                <a:solidFill>
                  <a:srgbClr val="feeb9a"/>
                </a:solidFill>
                <a:latin typeface="Arial"/>
              </a:rPr>
              <a:t>Панно</a:t>
            </a:r>
            <a:r>
              <a:rPr b="1" i="1" lang="nl-BE" sz="2800" spc="-1" strike="noStrike">
                <a:solidFill>
                  <a:srgbClr val="feeb9a"/>
                </a:solidFill>
                <a:latin typeface="Arial"/>
              </a:rPr>
              <a:t>. Морской м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295280" y="1368360"/>
            <a:ext cx="788364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Салфеточный квиллинг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360" y="2223720"/>
            <a:ext cx="8845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1040" indent="-31104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атериал – бумажные полоски и салфетки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Зубочистки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Линейки с шаблонами кругов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артон для основ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Салфеточный квиллинг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06600" y="1469880"/>
            <a:ext cx="7068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Календу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036960" y="1803240"/>
            <a:ext cx="3867120" cy="531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34720" y="10152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Интерактивная игр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06600" y="965160"/>
            <a:ext cx="7068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Осторожно - перекрест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800360" y="2016000"/>
            <a:ext cx="701964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425160"/>
            <a:ext cx="97203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400" spc="-1" strike="noStrike">
                <a:solidFill>
                  <a:srgbClr val="050505"/>
                </a:solidFill>
                <a:latin typeface="Times New Roman"/>
              </a:rPr>
              <a:t>Развивающая и обучающая игра “Осторожно - перекресток!”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079640"/>
            <a:ext cx="98996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ля детей 5 лет и старше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познакомить детей с устройством перекрестка и правилами дорожного движения для пешеходов и водителей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познакомить детей с дорожными знаками и сигналами светофора на перекрестке и разметкой на дорог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смоделировать дорожные ситуации на перекрестк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объяснить необходимость соблюдения правил дорожного движения и безопасного поведения на дорог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развивать зрительное восприятие, внимание, ориентацию в пространстве и логическое мышлени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развивать игровые и коммуникативные навыки у дете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 комплект игры входит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игровое поле «Перекресток»,  модели домов — 8 шт,  модели деревьев — 6 шт,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модели машин — 7 шт,  модели фонарных столбов с прикрепленными светофорами и знаками наземного   перехода — 4 шт,  фигурки пешеходов — 4 шт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425160"/>
            <a:ext cx="97203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400" spc="-1" strike="noStrike">
                <a:solidFill>
                  <a:srgbClr val="050505"/>
                </a:solidFill>
                <a:latin typeface="Times New Roman"/>
              </a:rPr>
              <a:t>Развивающая и обучающая игра “Осторожно - перекресток!”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8920" y="1079640"/>
            <a:ext cx="93870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Задания к игре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дома и деревья в жилой зоне, вдали от проезжей части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ариант А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ва высоких дома в первой жилой зоне (вверху спра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высокий и низкий дом во второй жилой зоне (вверху сле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ва низких дома в третьей жилой зоне (внизу сле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высокий и низкий дом в четвертой жилой зоне (внизу спра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ариант В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в произвольном порядке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фонарные столбы по углам перекрестка так, чтобы они освещали центр перекрестка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равильно установить свет на светофорах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машины на проезжей части дороги вдоль сплошной полосы, чтобы они двигались в противоположном направлении — навстречу друг другу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фигурки пешеходов на тротуаре у пешеходных переходов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равильно установить знаки пешеходных переходов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пределить  игровые роли детей: водители и пешеходы, инспектор ГИБДД (атрибуты: накидка инспектора или фуражка и жезл регулировщика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арианты игровых ситуаций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ересечение перекрестка на автомобиле (водитель должен пропустить пешеход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оворот автомобиля на перекрестке (водитель должен пропустить автомобиль, движущийся прямо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ереход дороги на противоположную сторону (по «зебре» на зеленый сигнал светофор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войной переход дороги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автомобиль подъезжает к дому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50505"/>
                </a:solidFill>
                <a:latin typeface="Arial"/>
              </a:rPr>
              <a:t>Эта игра поможет детям закрепить знания, полученные при изучении правил дорожного движения, в игровой форме и формировать культуру безопасного поведения на дороге.</a:t>
            </a:r>
            <a:endParaRPr b="0" lang="en-US" sz="36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ервые шаги в квиллинге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4360" y="1440000"/>
            <a:ext cx="4319280" cy="5846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400720" y="1440000"/>
            <a:ext cx="4194000" cy="59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Квиллинг в детском саду.</a:t>
            </a:r>
            <a:br>
              <a:rPr sz="4400"/>
            </a:br>
            <a:r>
              <a:rPr b="0" i="1" lang="nl-BE" sz="2400" spc="-1" strike="noStrike">
                <a:solidFill>
                  <a:srgbClr val="050505"/>
                </a:solidFill>
                <a:latin typeface="Times New Roman"/>
              </a:rPr>
              <a:t>Цели и задачи:</a:t>
            </a:r>
            <a:br>
              <a:rPr sz="2400"/>
            </a:b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Знакомство с окружающим миром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рименение элементарных математических умений и представлений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о времен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Чтение схем и составление композиций по схемам и образцам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мелкой моторики, зрительного восприятия и пространственной ориентаци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эстетического вкус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творческих способностей дете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чувства делового сотрудничества и взаимопомощ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Трудовое воспитани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вершенствование навыков работы с бумаго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Бережное отношение к природе ( бумага, сделанная из дерева). 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таких качеств, как самостоятельность и ответственность, </a:t>
            </a:r>
            <a:br>
              <a:rPr sz="3000"/>
            </a:b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усидчивость и аккуратность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одготовка к школ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Воспитание успешности  и повышение самооценки у дошкольник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хранение семейных традици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Квиллинг в детском саду.</a:t>
            </a:r>
            <a:br>
              <a:rPr sz="4400"/>
            </a:br>
            <a:r>
              <a:rPr b="0" i="1" lang="nl-BE" sz="2400" spc="-1" strike="noStrike">
                <a:solidFill>
                  <a:srgbClr val="050505"/>
                </a:solidFill>
                <a:latin typeface="Times New Roman"/>
              </a:rPr>
              <a:t>Цели и задачи:</a:t>
            </a:r>
            <a:br>
              <a:rPr sz="2400"/>
            </a:b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Знакомство с окружающим миром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рименение элементарных математических умений и представлений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о времен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Чтение схем и составление композиций по схемам и образцам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мелкой моторики, зрительного восприятия и пространственной ориентаци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эстетического вкус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творческих способностей дете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чувства делового сотрудничества и взаимопомощ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Трудовое воспитани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вершенствование навыков работы с бумаго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Бережное отношение к природе ( бумага, сделанная из дерева). 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таких качеств, как самостоятельность и ответственность, </a:t>
            </a:r>
            <a:br>
              <a:rPr sz="3000"/>
            </a:b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усидчивость и аккуратность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одготовка к школ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Воспитание успешности  и повышение самооценки у дошкольник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хранение семейных традици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ервые шаги в квиллинге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40000" y="1459080"/>
            <a:ext cx="755964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01680" indent="-3016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атериал – бумага для ксерокса белая и цветная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Использование шредера для разрезания полосок ( 7-8 мм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лей ПВА (строительный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Зубочистки деревянные или тонкие кисточки или ватные палочки без ваты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Линейки трафаретные с  кругами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артон для основы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34720" y="648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Елка и снегови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03160" y="2160720"/>
            <a:ext cx="862992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34720" y="-432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Елка и зайчи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41520" y="1979640"/>
            <a:ext cx="89056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34720" y="-64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Снежинк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260360" y="1976400"/>
            <a:ext cx="774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34720" y="648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Ангелы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52360" y="2124000"/>
            <a:ext cx="4637160" cy="34164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300640" y="3043080"/>
            <a:ext cx="44895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8:34:51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dcterms:modified xsi:type="dcterms:W3CDTF">2019-01-04T20:59:48Z</dcterms:modified>
  <cp:revision>14</cp:revision>
  <dc:subject/>
  <dc:title>Предложение стратегии</dc:title>
</cp:coreProperties>
</file>