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8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ce%20Cream%20Default2.wav" ContentType="audio/x-wav"/>
  <Override PartName="/ppt/media/image15.gif" ContentType="image/gif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0.png" ContentType="image/png"/>
  <Override PartName="/ppt/media/image9.wmf" ContentType="image/x-wmf"/>
  <Override PartName="/ppt/media/image31.jpeg" ContentType="image/jpeg"/>
  <Override PartName="/ppt/media/image6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F88-621F-415A-8EA2-C2997A835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E73-D098-4131-B2F3-457AFA000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169-7A65-4FD9-A236-728B61656A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7C6-CD61-4355-B492-CF8E924A5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B0F7-9F8A-44CA-8CF7-354EAEDED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0E87-57DC-4F33-9F7B-E2B05945CF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E9BD-B915-4066-A285-C48CF400DF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998-8FF7-4DCE-BD1C-DD8583AF8E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1B5-A5B9-46B7-B3B4-AD3E9D2B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D3C-6F6C-47AE-AB3B-1E567D78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5A5-8D8F-49B1-B76B-FDB129D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8C1-5D87-4029-921E-9AC385DD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758-E156-4D6B-9F0F-2B91478E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DF01-C98C-4416-A7E0-B47E707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4607-F066-41CA-97E8-7AF26AF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EA2D-52E1-45D7-BDB5-FA89DC2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F2EA-34B5-4C46-BA41-BAB78F3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E01-88F7-4ED9-AB9D-DF6E576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DE4F-09E2-4862-ABBC-0C5253F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00C-3FE9-4D7D-886D-73E0A39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C5B-8E2B-4617-B6F5-EF85FA1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438-69DC-4C21-9D66-7C21CF1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C80B-654A-4A10-85A0-F9152F9A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3D9-3F0D-4690-A22E-A6517E29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161C-BDF4-4EFD-B155-F5393EA6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ECD-177C-4746-8C66-D5B246C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9D1-B433-4D76-8AAF-4F43308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C23-97AC-4B9E-8F97-50A4DA6D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88C-BFE4-4389-9270-258B8FF3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EA9-4967-4D9C-960B-B9C17EA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024-1805-440C-A1D3-B20C2FA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FE7-0034-44CE-B76D-39048B6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EFE-020C-4547-8789-224E9014D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C6EF-20EE-45FF-A014-33DAE84C2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C55-A01C-4E25-9D2B-07924CF14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audio" Target="../media/chimes.wav"/><Relationship Id="rId13" Type="http://schemas.openxmlformats.org/officeDocument/2006/relationships/audio" Target="../media/Ice%20Cream%20Default2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1007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84807"/>
                </a:solidFill>
                <a:latin typeface="Calibri"/>
              </a:rPr>
              <a:t>Урок русского язы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Если Вы ещё не уверены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15328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воём умении определять лексическое значение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личать однозначные и многозначные сло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о использовать многозначные  слова в ре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агаю принять учас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роек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v25ani"/>
          <p:cNvPicPr/>
          <p:nvPr/>
        </p:nvPicPr>
        <p:blipFill>
          <a:blip r:embed="rId2"/>
          <a:stretch/>
        </p:blipFill>
        <p:spPr>
          <a:xfrm>
            <a:off x="5076720" y="52293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Book18"/>
          <p:cNvPicPr/>
          <p:nvPr/>
        </p:nvPicPr>
        <p:blipFill>
          <a:blip r:embed="rId3"/>
          <a:srcRect l="0" t="0" r="38909" b="0"/>
          <a:stretch/>
        </p:blipFill>
        <p:spPr>
          <a:xfrm>
            <a:off x="971640" y="4653000"/>
            <a:ext cx="1981080" cy="1792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16"/>
          <p:cNvPicPr/>
          <p:nvPr/>
        </p:nvPicPr>
        <p:blipFill>
          <a:blip r:embed="rId2"/>
          <a:stretch/>
        </p:blipFill>
        <p:spPr>
          <a:xfrm>
            <a:off x="6095880" y="3571920"/>
            <a:ext cx="3048120" cy="3027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32523"/>
                </a:solidFill>
                <a:latin typeface="Calibri"/>
              </a:rPr>
              <a:t>РАБОТА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абота в групп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очитать зада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ыполнить зада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готовить отчёт по план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делать отчё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Картинка 1 из 548589"/>
          <p:cNvPicPr/>
          <p:nvPr/>
        </p:nvPicPr>
        <p:blipFill>
          <a:blip r:embed="rId2"/>
          <a:stretch/>
        </p:blipFill>
        <p:spPr>
          <a:xfrm>
            <a:off x="468360" y="2133720"/>
            <a:ext cx="2417760" cy="2506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2124000" y="549360"/>
            <a:ext cx="32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рз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2000160" y="5715000"/>
            <a:ext cx="50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ногознач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351"/>
          <p:cNvPicPr/>
          <p:nvPr/>
        </p:nvPicPr>
        <p:blipFill>
          <a:blip r:embed="rId3"/>
          <a:stretch/>
        </p:blipFill>
        <p:spPr>
          <a:xfrm>
            <a:off x="5651640" y="404640"/>
            <a:ext cx="3200400" cy="2651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http://prom.ua/img/283149/basketball01.jpg?height=200&amp;amp;width=200"/>
          <p:cNvPicPr/>
          <p:nvPr/>
        </p:nvPicPr>
        <p:blipFill>
          <a:blip r:embed="rId4"/>
          <a:stretch/>
        </p:blipFill>
        <p:spPr>
          <a:xfrm>
            <a:off x="5796000" y="3141720"/>
            <a:ext cx="26748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7481"/>
          <p:cNvPicPr/>
          <p:nvPr/>
        </p:nvPicPr>
        <p:blipFill>
          <a:blip r:embed="rId5"/>
          <a:stretch/>
        </p:blipFill>
        <p:spPr>
          <a:xfrm>
            <a:off x="3132000" y="3141720"/>
            <a:ext cx="2192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85760" y="571680"/>
            <a:ext cx="300852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5714640"/>
            <a:ext cx="511164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7840" y="4857480"/>
            <a:ext cx="50004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подлес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Арка 6"/>
          <p:cNvSpPr/>
          <p:nvPr/>
        </p:nvSpPr>
        <p:spPr>
          <a:xfrm>
            <a:off x="6286680" y="4857840"/>
            <a:ext cx="1204560" cy="714240"/>
          </a:xfrm>
          <a:prstGeom prst="pie">
            <a:avLst/>
          </a:prstGeom>
          <a:solidFill>
            <a:srgbClr val="e46c0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stom-center.com/images/articles/tooth08.jpg"/>
          <p:cNvPicPr/>
          <p:nvPr/>
        </p:nvPicPr>
        <p:blipFill>
          <a:blip r:embed="rId2"/>
          <a:stretch/>
        </p:blipFill>
        <p:spPr>
          <a:xfrm>
            <a:off x="5572080" y="2000160"/>
            <a:ext cx="203688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75 из 800"/>
          <p:cNvPicPr/>
          <p:nvPr/>
        </p:nvPicPr>
        <p:blipFill>
          <a:blip r:embed="rId3"/>
          <a:stretch/>
        </p:blipFill>
        <p:spPr>
          <a:xfrm>
            <a:off x="357120" y="192888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14720" y="49968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локольч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://www.lenagold.ru/fon/clipart/n/nogo/novgod106.jpg"/>
          <p:cNvPicPr/>
          <p:nvPr/>
        </p:nvPicPr>
        <p:blipFill>
          <a:blip r:embed="rId2"/>
          <a:stretch/>
        </p:blipFill>
        <p:spPr>
          <a:xfrm>
            <a:off x="5148360" y="1844640"/>
            <a:ext cx="3333600" cy="32148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428920" y="56437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ногознач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kolokolchik03"/>
          <p:cNvPicPr/>
          <p:nvPr/>
        </p:nvPicPr>
        <p:blipFill>
          <a:blip r:embed="rId3"/>
          <a:stretch/>
        </p:blipFill>
        <p:spPr>
          <a:xfrm>
            <a:off x="826920" y="2205000"/>
            <a:ext cx="4226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4"/>
          <p:cNvSpPr/>
          <p:nvPr/>
        </p:nvSpPr>
        <p:spPr>
          <a:xfrm>
            <a:off x="357120" y="571500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kosa"/>
          <p:cNvPicPr/>
          <p:nvPr/>
        </p:nvPicPr>
        <p:blipFill>
          <a:blip r:embed="rId2"/>
          <a:stretch/>
        </p:blipFill>
        <p:spPr>
          <a:xfrm>
            <a:off x="395280" y="198900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есчаная_коса_на_Коста-Рике"/>
          <p:cNvPicPr/>
          <p:nvPr/>
        </p:nvPicPr>
        <p:blipFill>
          <a:blip r:embed="rId3"/>
          <a:stretch/>
        </p:blipFill>
        <p:spPr>
          <a:xfrm>
            <a:off x="6012000" y="1125360"/>
            <a:ext cx="2939760" cy="317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warkocz2"/>
          <p:cNvPicPr/>
          <p:nvPr/>
        </p:nvPicPr>
        <p:blipFill>
          <a:blip r:embed="rId4"/>
          <a:stretch/>
        </p:blipFill>
        <p:spPr>
          <a:xfrm>
            <a:off x="3276720" y="2637000"/>
            <a:ext cx="237492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лю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4"/>
          <p:cNvSpPr/>
          <p:nvPr/>
        </p:nvSpPr>
        <p:spPr>
          <a:xfrm>
            <a:off x="0" y="573408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14812"/>
          <p:cNvPicPr/>
          <p:nvPr/>
        </p:nvPicPr>
        <p:blipFill>
          <a:blip r:embed="rId2"/>
          <a:stretch/>
        </p:blipFill>
        <p:spPr>
          <a:xfrm>
            <a:off x="3203640" y="191628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300px-Ключ_cоль"/>
          <p:cNvPicPr/>
          <p:nvPr/>
        </p:nvPicPr>
        <p:blipFill>
          <a:blip r:embed="rId3"/>
          <a:stretch/>
        </p:blipFill>
        <p:spPr>
          <a:xfrm>
            <a:off x="6084720" y="4365720"/>
            <a:ext cx="218628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key"/>
          <p:cNvPicPr/>
          <p:nvPr/>
        </p:nvPicPr>
        <p:blipFill>
          <a:blip r:embed="rId4"/>
          <a:stretch/>
        </p:blipFill>
        <p:spPr>
          <a:xfrm>
            <a:off x="611280" y="2492280"/>
            <a:ext cx="3097080" cy="2540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key01"/>
          <p:cNvPicPr/>
          <p:nvPr/>
        </p:nvPicPr>
        <p:blipFill>
          <a:blip r:embed="rId5"/>
          <a:stretch/>
        </p:blipFill>
        <p:spPr>
          <a:xfrm>
            <a:off x="5430960" y="260280"/>
            <a:ext cx="329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и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4"/>
          <p:cNvSpPr/>
          <p:nvPr/>
        </p:nvSpPr>
        <p:spPr>
          <a:xfrm>
            <a:off x="357120" y="571500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kisti"/>
          <p:cNvPicPr/>
          <p:nvPr/>
        </p:nvPicPr>
        <p:blipFill>
          <a:blip r:embed="rId2"/>
          <a:stretch/>
        </p:blipFill>
        <p:spPr>
          <a:xfrm>
            <a:off x="5724360" y="3429000"/>
            <a:ext cx="4038840" cy="2503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risuem_maslom_0"/>
          <p:cNvPicPr/>
          <p:nvPr/>
        </p:nvPicPr>
        <p:blipFill>
          <a:blip r:embed="rId3"/>
          <a:stretch/>
        </p:blipFill>
        <p:spPr>
          <a:xfrm rot="18406200">
            <a:off x="4094280" y="1745640"/>
            <a:ext cx="4298760" cy="2479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10019"/>
          <p:cNvPicPr/>
          <p:nvPr/>
        </p:nvPicPr>
        <p:blipFill>
          <a:blip r:embed="rId4"/>
          <a:stretch/>
        </p:blipFill>
        <p:spPr>
          <a:xfrm>
            <a:off x="324000" y="198900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Задача о друзьях - читателях"/>
          <p:cNvPicPr/>
          <p:nvPr/>
        </p:nvPicPr>
        <p:blipFill>
          <a:blip r:embed="rId2"/>
          <a:stretch/>
        </p:blipFill>
        <p:spPr>
          <a:xfrm>
            <a:off x="7429680" y="4357800"/>
            <a:ext cx="1547640" cy="209556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возврат 6"/>
          <p:cNvSpPr/>
          <p:nvPr/>
        </p:nvSpPr>
        <p:spPr>
          <a:xfrm>
            <a:off x="642960" y="57150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7493"/>
                </a:moveTo>
                <a:lnTo>
                  <a:pt x="8647" y="7493"/>
                </a:lnTo>
                <a:lnTo>
                  <a:pt x="8647" y="12828"/>
                </a:lnTo>
                <a:cubicBezTo>
                  <a:pt x="8647" y="13751"/>
                  <a:pt x="9448" y="14482"/>
                  <a:pt x="10483" y="14482"/>
                </a:cubicBezTo>
                <a:lnTo>
                  <a:pt x="12146" y="14482"/>
                </a:lnTo>
                <a:cubicBezTo>
                  <a:pt x="13181" y="14482"/>
                  <a:pt x="13982" y="13751"/>
                  <a:pt x="13982" y="12828"/>
                </a:cubicBezTo>
                <a:lnTo>
                  <a:pt x="13982" y="7493"/>
                </a:lnTo>
                <a:lnTo>
                  <a:pt x="12146" y="7493"/>
                </a:lnTo>
                <a:lnTo>
                  <a:pt x="15653" y="3985"/>
                </a:lnTo>
                <a:lnTo>
                  <a:pt x="19326" y="7493"/>
                </a:lnTo>
                <a:lnTo>
                  <a:pt x="17490" y="7493"/>
                </a:lnTo>
                <a:lnTo>
                  <a:pt x="17490" y="12828"/>
                </a:lnTo>
                <a:cubicBezTo>
                  <a:pt x="17490" y="15596"/>
                  <a:pt x="14914" y="18155"/>
                  <a:pt x="12146" y="18155"/>
                </a:cubicBezTo>
                <a:lnTo>
                  <a:pt x="10483" y="18155"/>
                </a:lnTo>
                <a:cubicBezTo>
                  <a:pt x="7716" y="18155"/>
                  <a:pt x="5139" y="15596"/>
                  <a:pt x="5139" y="12828"/>
                </a:cubicBez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928800" y="1357200"/>
            <a:ext cx="7043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лова, которые пишутся одинаково, имеют не одно, а несколько значений,  причём эти значения между собой сходны, называются </a:t>
            </a:r>
            <a:r>
              <a:rPr b="1" i="1" lang="en-US" sz="5400" spc="-1" strike="noStrike">
                <a:solidFill>
                  <a:srgbClr val="ff3300"/>
                </a:solidFill>
                <a:latin typeface="Calibri"/>
              </a:rPr>
              <a:t>многозначными</a:t>
            </a:r>
            <a:r>
              <a:rPr b="1" lang="en-US" sz="5400" spc="-1" strike="noStrike">
                <a:solidFill>
                  <a:srgbClr val="602e04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47920" y="152280"/>
            <a:ext cx="6113520" cy="846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0000"/>
                </a:solidFill>
                <a:latin typeface="Arial"/>
              </a:rPr>
              <a:t>Чистописание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9720" y="1785960"/>
            <a:ext cx="771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    ж    Жж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   ж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2"/>
          <p:cNvGrpSpPr/>
          <p:nvPr/>
        </p:nvGrpSpPr>
        <p:grpSpPr>
          <a:xfrm>
            <a:off x="7072200" y="4500720"/>
            <a:ext cx="1893960" cy="1933560"/>
            <a:chOff x="7072200" y="4500720"/>
            <a:chExt cx="1893960" cy="1933560"/>
          </a:xfrm>
        </p:grpSpPr>
        <p:sp>
          <p:nvSpPr>
            <p:cNvPr id="93" name="Freeform 15"/>
            <p:cNvSpPr/>
            <p:nvPr/>
          </p:nvSpPr>
          <p:spPr>
            <a:xfrm>
              <a:off x="7472160" y="4510440"/>
              <a:ext cx="723960" cy="43344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7467480" y="4656240"/>
              <a:ext cx="765360" cy="33660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7537320" y="6046920"/>
              <a:ext cx="1427040" cy="3762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7512120" y="5242320"/>
              <a:ext cx="1015920" cy="73152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634160" y="5227920"/>
              <a:ext cx="509760" cy="2001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8307360" y="5058000"/>
              <a:ext cx="441360" cy="8096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250040" y="4750200"/>
              <a:ext cx="1023840" cy="119376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7691400" y="4778640"/>
              <a:ext cx="547560" cy="57636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478720" y="5269320"/>
              <a:ext cx="76320" cy="536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4360" y="5205600"/>
              <a:ext cx="54000" cy="604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>
              <a:off x="8101080" y="5210280"/>
              <a:ext cx="396720" cy="119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7988040" y="5196240"/>
              <a:ext cx="100080" cy="58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7450200" y="5832720"/>
              <a:ext cx="150480" cy="1522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9"/>
            <p:cNvSpPr/>
            <p:nvPr/>
          </p:nvSpPr>
          <p:spPr>
            <a:xfrm>
              <a:off x="7346880" y="4708800"/>
              <a:ext cx="28584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7246800" y="5213520"/>
              <a:ext cx="947880" cy="73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7446960" y="4929480"/>
              <a:ext cx="22392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7559640" y="4884840"/>
              <a:ext cx="13968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3"/>
            <p:cNvSpPr/>
            <p:nvPr/>
          </p:nvSpPr>
          <p:spPr>
            <a:xfrm>
              <a:off x="7770600" y="5010480"/>
              <a:ext cx="3816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>
              <a:off x="8076960" y="4959720"/>
              <a:ext cx="428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5"/>
            <p:cNvSpPr/>
            <p:nvPr/>
          </p:nvSpPr>
          <p:spPr>
            <a:xfrm>
              <a:off x="7908840" y="5089680"/>
              <a:ext cx="106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"/>
            <p:cNvSpPr/>
            <p:nvPr/>
          </p:nvSpPr>
          <p:spPr>
            <a:xfrm>
              <a:off x="7959600" y="5199480"/>
              <a:ext cx="6494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7"/>
            <p:cNvSpPr/>
            <p:nvPr/>
          </p:nvSpPr>
          <p:spPr>
            <a:xfrm>
              <a:off x="8022960" y="5048640"/>
              <a:ext cx="65880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>
              <a:off x="7839000" y="4604040"/>
              <a:ext cx="40464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9"/>
            <p:cNvSpPr/>
            <p:nvPr/>
          </p:nvSpPr>
          <p:spPr>
            <a:xfrm>
              <a:off x="7521480" y="4673880"/>
              <a:ext cx="1173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0"/>
            <p:cNvSpPr/>
            <p:nvPr/>
          </p:nvSpPr>
          <p:spPr>
            <a:xfrm>
              <a:off x="7564320" y="4604040"/>
              <a:ext cx="1573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>
              <a:off x="7700760" y="4524480"/>
              <a:ext cx="2430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2"/>
            <p:cNvSpPr/>
            <p:nvPr/>
          </p:nvSpPr>
          <p:spPr>
            <a:xfrm>
              <a:off x="7954920" y="4500720"/>
              <a:ext cx="225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3"/>
            <p:cNvSpPr/>
            <p:nvPr/>
          </p:nvSpPr>
          <p:spPr>
            <a:xfrm>
              <a:off x="8180280" y="4803840"/>
              <a:ext cx="10944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4"/>
            <p:cNvSpPr/>
            <p:nvPr/>
          </p:nvSpPr>
          <p:spPr>
            <a:xfrm>
              <a:off x="8213760" y="4849920"/>
              <a:ext cx="712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>
              <a:off x="7576920" y="5305680"/>
              <a:ext cx="1189080" cy="9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6"/>
            <p:cNvSpPr/>
            <p:nvPr/>
          </p:nvSpPr>
          <p:spPr>
            <a:xfrm>
              <a:off x="8378640" y="5680440"/>
              <a:ext cx="13968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"/>
            <p:cNvSpPr/>
            <p:nvPr/>
          </p:nvSpPr>
          <p:spPr>
            <a:xfrm>
              <a:off x="8370720" y="5312160"/>
              <a:ext cx="1382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8"/>
            <p:cNvSpPr/>
            <p:nvPr/>
          </p:nvSpPr>
          <p:spPr>
            <a:xfrm>
              <a:off x="7437240" y="5840640"/>
              <a:ext cx="15289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>
              <a:off x="7545240" y="6286680"/>
              <a:ext cx="67464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0"/>
            <p:cNvSpPr/>
            <p:nvPr/>
          </p:nvSpPr>
          <p:spPr>
            <a:xfrm>
              <a:off x="8315280" y="6183720"/>
              <a:ext cx="6350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1"/>
            <p:cNvSpPr/>
            <p:nvPr/>
          </p:nvSpPr>
          <p:spPr>
            <a:xfrm>
              <a:off x="7575480" y="6075720"/>
              <a:ext cx="2520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>
              <a:off x="7597800" y="6080400"/>
              <a:ext cx="1062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3"/>
            <p:cNvSpPr/>
            <p:nvPr/>
          </p:nvSpPr>
          <p:spPr>
            <a:xfrm>
              <a:off x="7732440" y="5928120"/>
              <a:ext cx="763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4"/>
            <p:cNvSpPr/>
            <p:nvPr/>
          </p:nvSpPr>
          <p:spPr>
            <a:xfrm>
              <a:off x="7772400" y="6069240"/>
              <a:ext cx="11880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5"/>
            <p:cNvSpPr/>
            <p:nvPr/>
          </p:nvSpPr>
          <p:spPr>
            <a:xfrm>
              <a:off x="7897680" y="5951880"/>
              <a:ext cx="25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>
              <a:off x="7921440" y="5932800"/>
              <a:ext cx="745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>
              <a:off x="7983360" y="6067800"/>
              <a:ext cx="109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8"/>
            <p:cNvSpPr/>
            <p:nvPr/>
          </p:nvSpPr>
          <p:spPr>
            <a:xfrm>
              <a:off x="7993080" y="615024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9"/>
            <p:cNvSpPr/>
            <p:nvPr/>
          </p:nvSpPr>
          <p:spPr>
            <a:xfrm>
              <a:off x="8285040" y="5926320"/>
              <a:ext cx="77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>
              <a:off x="8327880" y="5973840"/>
              <a:ext cx="7956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>
              <a:off x="8334360" y="6089760"/>
              <a:ext cx="48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2"/>
            <p:cNvSpPr/>
            <p:nvPr/>
          </p:nvSpPr>
          <p:spPr>
            <a:xfrm>
              <a:off x="8407440" y="6070680"/>
              <a:ext cx="11592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>
              <a:off x="8559720" y="5965920"/>
              <a:ext cx="135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>
              <a:off x="8607240" y="6029640"/>
              <a:ext cx="2034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5"/>
            <p:cNvSpPr/>
            <p:nvPr/>
          </p:nvSpPr>
          <p:spPr>
            <a:xfrm>
              <a:off x="8380440" y="5242320"/>
              <a:ext cx="1555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>
              <a:off x="7084800" y="6012000"/>
              <a:ext cx="447840" cy="30816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>
              <a:off x="7078680" y="6158160"/>
              <a:ext cx="234720" cy="19224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8"/>
            <p:cNvSpPr/>
            <p:nvPr/>
          </p:nvSpPr>
          <p:spPr>
            <a:xfrm>
              <a:off x="7318440" y="6097680"/>
              <a:ext cx="212400" cy="25416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>
              <a:off x="7134120" y="6127920"/>
              <a:ext cx="206280" cy="12564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0"/>
            <p:cNvSpPr/>
            <p:nvPr/>
          </p:nvSpPr>
          <p:spPr>
            <a:xfrm>
              <a:off x="7254720" y="6037560"/>
              <a:ext cx="227160" cy="146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>
              <a:off x="7307280" y="6078960"/>
              <a:ext cx="23472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>
              <a:off x="7072200" y="6005880"/>
              <a:ext cx="46980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3"/>
            <p:cNvSpPr/>
            <p:nvPr/>
          </p:nvSpPr>
          <p:spPr>
            <a:xfrm>
              <a:off x="7081560" y="6151680"/>
              <a:ext cx="2368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>
              <a:off x="7127640" y="6151680"/>
              <a:ext cx="21924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5"/>
            <p:cNvSpPr/>
            <p:nvPr/>
          </p:nvSpPr>
          <p:spPr>
            <a:xfrm>
              <a:off x="7121520" y="6121800"/>
              <a:ext cx="22860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>
              <a:off x="7250040" y="6034320"/>
              <a:ext cx="2430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7"/>
            <p:cNvSpPr/>
            <p:nvPr/>
          </p:nvSpPr>
          <p:spPr>
            <a:xfrm>
              <a:off x="7240320" y="6035760"/>
              <a:ext cx="140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>
              <a:off x="7289640" y="6077160"/>
              <a:ext cx="1238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9"/>
            <p:cNvSpPr/>
            <p:nvPr/>
          </p:nvSpPr>
          <p:spPr>
            <a:xfrm>
              <a:off x="7334280" y="6053400"/>
              <a:ext cx="115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0"/>
            <p:cNvSpPr/>
            <p:nvPr/>
          </p:nvSpPr>
          <p:spPr>
            <a:xfrm>
              <a:off x="7332480" y="6077160"/>
              <a:ext cx="11916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7437240" y="5824800"/>
              <a:ext cx="1514520" cy="4921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1"/>
            <p:cNvSpPr/>
            <p:nvPr/>
          </p:nvSpPr>
          <p:spPr>
            <a:xfrm>
              <a:off x="7281720" y="6051960"/>
              <a:ext cx="12384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42600" y="2000160"/>
            <a:ext cx="331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Р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Д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Р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С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М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СК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РАС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1640" y="1785600"/>
            <a:ext cx="366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РУ__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ЗЫ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РЕМ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Б_РЁ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ПЛОЩ_Д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857240" y="428760"/>
            <a:ext cx="68868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ОВАРНЫЕ СЛОВА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89600" y="507204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352840" y="178596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34200" y="2143080"/>
            <a:ext cx="66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64800" y="2643120"/>
            <a:ext cx="5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418640" y="3357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288440" y="428616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934200" y="3286080"/>
            <a:ext cx="66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589800" y="5214960"/>
            <a:ext cx="6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952880" y="435780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7"/>
          <p:cNvSpPr txBox="1"/>
          <p:nvPr/>
        </p:nvSpPr>
        <p:spPr>
          <a:xfrm>
            <a:off x="857160" y="1500120"/>
            <a:ext cx="815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ОТЛИЧНАЯ РАБОТА!</a:t>
            </a:r>
            <a:endParaRPr b="1" lang="en-US" sz="60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3" name="Picture 18" descr="c076"/>
          <p:cNvPicPr/>
          <p:nvPr/>
        </p:nvPicPr>
        <p:blipFill>
          <a:blip r:embed="rId4"/>
          <a:stretch/>
        </p:blipFill>
        <p:spPr>
          <a:xfrm>
            <a:off x="4643280" y="2214720"/>
            <a:ext cx="3600720" cy="257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c076"/>
          <p:cNvPicPr/>
          <p:nvPr/>
        </p:nvPicPr>
        <p:blipFill>
          <a:blip r:embed="rId5"/>
          <a:stretch/>
        </p:blipFill>
        <p:spPr>
          <a:xfrm>
            <a:off x="4572000" y="4183200"/>
            <a:ext cx="3745080" cy="267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c076"/>
          <p:cNvPicPr/>
          <p:nvPr/>
        </p:nvPicPr>
        <p:blipFill>
          <a:blip r:embed="rId6"/>
          <a:stretch/>
        </p:blipFill>
        <p:spPr>
          <a:xfrm>
            <a:off x="285840" y="3071880"/>
            <a:ext cx="4465440" cy="319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"/>
          <p:cNvPicPr/>
          <p:nvPr/>
        </p:nvPicPr>
        <p:blipFill>
          <a:blip r:embed="rId7"/>
          <a:stretch/>
        </p:blipFill>
        <p:spPr>
          <a:xfrm>
            <a:off x="68436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ETHIOP01.mid" descr=""/>
          <p:cNvPicPr/>
          <p:nvPr/>
        </p:nvPicPr>
        <p:blipFill>
          <a:blip r:embed="rId8"/>
          <a:stretch/>
        </p:blipFill>
        <p:spPr>
          <a:xfrm>
            <a:off x="190800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3" descr=""/>
          <p:cNvPicPr/>
          <p:nvPr/>
        </p:nvPicPr>
        <p:blipFill>
          <a:blip r:embed="rId9"/>
          <a:stretch/>
        </p:blipFill>
        <p:spPr>
          <a:xfrm>
            <a:off x="255600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LVARIV01.mid" descr=""/>
          <p:cNvPicPr/>
          <p:nvPr/>
        </p:nvPicPr>
        <p:blipFill>
          <a:blip r:embed="rId10"/>
          <a:stretch/>
        </p:blipFill>
        <p:spPr>
          <a:xfrm>
            <a:off x="2509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"/>
          <p:cNvPicPr/>
          <p:nvPr/>
        </p:nvPicPr>
        <p:blipFill>
          <a:blip r:embed="rId11"/>
          <a:stretch/>
        </p:blipFill>
        <p:spPr>
          <a:xfrm>
            <a:off x="5435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1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4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4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4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4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5748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5938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Ice%20Cream%20Defaul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648-5C30-4C31-A481-01AD04589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E20-6B74-4796-AA2D-DB459F65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20840" y="2000160"/>
            <a:ext cx="8391240" cy="3795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2143080" y="642960"/>
            <a:ext cx="65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Arial"/>
                <a:ea typeface="Aharoni"/>
              </a:rPr>
              <a:t>От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32523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i="1" lang="en-US" sz="4800" spc="-1" strike="noStrike">
                <a:solidFill>
                  <a:srgbClr val="632523"/>
                </a:solidFill>
                <a:latin typeface="Calibri"/>
              </a:rPr>
              <a:t>«Многозначность слов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2071440"/>
            <a:ext cx="590076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общаться, передавать друг другу мысли, чувства необходимы слова. Чтобы понимать собеседника в обычном разговоре, достаточно 4-5 тыс. слов. Но и этого мало. Чем больше слов и их значений знает и умеет использовать в речи человек, тем точнее он может выражать свои мысли, тем он интерес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5EE-836C-462C-A7FC-BD167B86D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E70-D237-4B33-8BA5-91A7AF179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Рисунок2"/>
          <p:cNvPicPr/>
          <p:nvPr/>
        </p:nvPicPr>
        <p:blipFill>
          <a:blip r:embed="rId2"/>
          <a:stretch/>
        </p:blipFill>
        <p:spPr>
          <a:xfrm>
            <a:off x="5929200" y="2643120"/>
            <a:ext cx="3057480" cy="24195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Что мы должны у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1720" y="1714680"/>
            <a:ext cx="77752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лексика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ксических знач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лов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определить лексическое значение сл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слова называются многознач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627280" y="1341000"/>
            <a:ext cx="605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ЛЕКСИКА</a:t>
            </a:r>
            <a:r>
              <a:rPr b="1" lang="en-US" sz="5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это раздел науки о языке, изучающий ег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словарный соста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" descr="BS00554_"/>
          <p:cNvPicPr/>
          <p:nvPr/>
        </p:nvPicPr>
        <p:blipFill>
          <a:blip r:embed="rId2"/>
          <a:stretch/>
        </p:blipFill>
        <p:spPr>
          <a:xfrm>
            <a:off x="642960" y="4143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дер..во р..дно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ли..кое  и д..рог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лый  сарафан..чи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рхатный  кафтан..ч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стики  р..зн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рё..ки  расп..с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береза3"/>
          <p:cNvPicPr/>
          <p:nvPr/>
        </p:nvPicPr>
        <p:blipFill>
          <a:blip r:embed="rId2"/>
          <a:srcRect l="0" t="0" r="306" b="-77"/>
          <a:stretch/>
        </p:blipFill>
        <p:spPr>
          <a:xfrm>
            <a:off x="6286680" y="2786040"/>
            <a:ext cx="2597040" cy="3813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2857680" y="1000080"/>
            <a:ext cx="2428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ерё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берез листья11"/>
          <p:cNvPicPr/>
          <p:nvPr/>
        </p:nvPicPr>
        <p:blipFill>
          <a:blip r:embed="rId3"/>
          <a:srcRect l="4429" t="7874" r="1476" b="6890"/>
          <a:stretch/>
        </p:blipFill>
        <p:spPr>
          <a:xfrm>
            <a:off x="6929280" y="214200"/>
            <a:ext cx="19735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42920" y="162864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ЕГОВ 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ий языковед, лексиколог, лексикограф, исследователь норм русского литературного языка, доктор филологических наук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ozhegov"/>
          <p:cNvPicPr/>
          <p:nvPr/>
        </p:nvPicPr>
        <p:blipFill>
          <a:blip r:embed="rId2"/>
          <a:stretch/>
        </p:blipFill>
        <p:spPr>
          <a:xfrm>
            <a:off x="826920" y="1844640"/>
            <a:ext cx="2378160" cy="316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25000389656"/>
          <p:cNvPicPr/>
          <p:nvPr/>
        </p:nvPicPr>
        <p:blipFill>
          <a:blip r:embed="rId3"/>
          <a:stretch/>
        </p:blipFill>
        <p:spPr>
          <a:xfrm>
            <a:off x="3780000" y="3860640"/>
            <a:ext cx="1935000" cy="253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словарь-латынь (1)"/>
          <p:cNvPicPr/>
          <p:nvPr/>
        </p:nvPicPr>
        <p:blipFill>
          <a:blip r:embed="rId4"/>
          <a:stretch/>
        </p:blipFill>
        <p:spPr>
          <a:xfrm>
            <a:off x="6227640" y="4365720"/>
            <a:ext cx="24814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36:48Z</dcterms:created>
  <dc:creator>Кушнир</dc:creator>
  <dc:description>http://aida.ucoz.ru</dc:description>
  <dc:language>en-US</dc:language>
  <cp:lastModifiedBy>Пользователь Windows</cp:lastModifiedBy>
  <dcterms:modified xsi:type="dcterms:W3CDTF">2015-11-10T04:51:25Z</dcterms:modified>
  <cp:revision>75</cp:revision>
  <dc:subject/>
  <dc:title>Слайд 1</dc:title>
</cp:coreProperties>
</file>