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7C1-62FC-4B49-9E7D-D33F5E8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351-2865-4408-BD2C-712B59F0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7C73-33FC-4F89-919A-656CBC84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E85FE-14C9-4E89-BC99-BC8EC782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E0799-E17A-4189-B7C8-952EEB11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1016-4BFE-4577-A6D8-4E32B5B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3D595-FFDE-4103-ADA1-D48E14C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C6E60-E07E-486F-B24D-BA42313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E7FB2-F4EA-4114-A79E-F202BF8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83D1D-3889-4B9D-B883-74367F21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025EF-2942-4DB9-B665-2F2AEC00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D687B1-E89F-45E0-8D2E-632E4F1D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3B7-58F4-46AC-8B3F-5F7DCF52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328E44-8911-48C1-A848-87712190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B02AA-7416-470B-87B2-7703D5D7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5A352-9080-4138-9E80-7184256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76183-AF31-4201-985B-0E34B11F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64D22A-E135-4496-B55D-CDB9696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018A83-AE30-4312-8D5E-4B3D582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A90874-E5EB-4304-B19E-408F900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A66BFF-EBD1-41A5-964C-4943BE5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9F0FD-178A-46C0-A5C8-E9200112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09C43E-8713-434D-9BDB-E5650496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2B1-FC5C-4703-958B-6C274483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F6B4F-E07D-4331-BBA6-328A51FF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17DD0-CFA5-4165-B36A-2A67275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73D0F-DA6C-4E7C-8110-1FB0BA9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6F0F3-4E35-4995-9614-35B12E1C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90E7-CC33-4D70-8FA1-E3DB3DA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86244-684A-4A5A-BB0A-6CBC5B6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E0EE-3E14-42AD-A51A-A3A5176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9DD1A-84E7-4520-BB83-5E9A205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D25EF-5FDE-4B00-BF07-1C6C56F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1B6B6-5FA3-4CD3-84FB-3192032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DBF1-91B2-4C0A-AACC-DEA7747C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AF4C3-0E33-4199-BDD5-ADF4030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13F92-CC5E-4352-A211-F28FDA97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9D0D-EDC6-4110-BA23-B3AFE4C2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776ED-1A6B-46C1-8735-B5B0E0E8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DB41F-5454-4924-ADE7-843C3ABB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B0104-2375-45A3-817C-49CA432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45209-E3F9-4FF9-821D-B9D95E3B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BA0E2-34DD-4B88-9DF1-3DE9923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3DBFA-6E83-4B14-9844-5F33487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79463-3B79-4CAB-AC8A-714784E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41AD-8BFE-400A-B9A2-171FCC1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2B1E-2B84-46F7-BAFF-D8CF731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2B269-F5D2-4D1D-A8AA-A680508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B13E3-FF69-40A8-B6B2-C62A1D53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ED880-CB58-4061-BD82-F3B5437F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DD451-1374-47AB-9F31-99C15BD5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D9CD1-AA2F-475D-B0C9-745F1A99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52438-A9BC-486C-B78D-B0959AB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AA9D5-BBAE-4AA2-BFF0-B8443777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47AB1-1D33-4D87-8661-06D7DAB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5793E-23CE-4B15-BAED-C6A922BD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9D30-469F-4194-BD23-6011F91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9FD5E-3868-4F0E-A124-F7D30DD7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51B3-E86C-42A9-BBA7-6227B24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2E604-73B7-4AF1-8262-930AA33A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5B2D2-FF9E-4D3C-AAFC-1DADD1F0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2C668-1579-42A8-9FCC-7832A4A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62067-71A8-4AD3-BE1A-A8A8537F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2D969-1EF7-427D-BD88-A6F83132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F73A6-53DB-4E58-9A05-0646D2AB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8C7F9-EFEA-417C-AF50-B28CBB4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19AD5-772D-45E9-A0AE-69F4D70C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854A-093B-464A-80AE-253B7B05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1D3D3-755F-4C5E-8908-47AA2CC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2AD40-456E-4164-BDAC-84F08C8B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10529-9F32-4C81-A6D2-436D7DC6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A022D-5869-4281-A897-CCEA346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93298-7394-453A-974D-FAD70F2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D9107-188D-40B3-B846-328AF075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D9DA9-EA33-4066-BD01-1B4C3D37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207D6-2B47-480C-8267-F4586C51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A741E-14B0-4E60-9352-2D805C7E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21428-8E22-4F99-882D-849CA066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5082-8AB0-462F-907B-5FDF539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1D4CF-D4F4-48BC-8B30-68574DA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99B7B-9CE4-4911-86C1-88A02EE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79FCC-E6D4-4058-AF33-AE05F7C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6AD9A-D5AF-4789-9F57-BC0459A1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E5229-90B8-44D5-AC71-CB89232D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1AD89C-4CC6-49C2-929E-2DA0F74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53E9F-45CF-48EF-8D6E-5AB0DBF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C93D8-3E8F-4CE4-8A79-5F1E8B2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3161D-52B4-4514-9C33-49E0B91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583FE-FCB7-41F1-B8AD-F6B5FF6B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61EE-4FD3-47F1-9E9A-3BB5CF46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9FE0E-9FB4-45F5-988A-7A227DCA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53961-334B-446B-B9C4-EAA771FC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398E5-88A3-4D7B-8806-8AC3ED35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E5DD8-3DC3-4943-9BFB-6F1E0077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E5861-666B-4931-9F78-6A89086C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60344-36AF-47B1-AC26-63ED2A69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8731C-8840-4D8D-9D57-E62A92A6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12159-4411-4E56-AA89-0A150F0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2A42F-9B43-4EF8-B4CC-4D11667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7C06C-69FC-4450-8E39-C801DBD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76EA-2BD2-4CB0-BF7D-026F02D5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8D986-5185-41AB-AA5A-0505984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C58BD-1514-4EB9-86E1-8DD960AF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A52AA-2147-4909-9233-9C6F0532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6BC061-F946-4C8F-8D58-0DE7BBD3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35994B-E606-4443-AAFE-FED48B6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D7A1EB-21D1-4699-8698-F3AE591D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8FDA64-9EBA-48BE-AA22-7CF6E44E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8AF7C7-9BA4-4C78-BFF9-3F312898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A87F70-5C76-4FD5-B0C5-5B612C9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C48EEC-CED8-43FF-9881-8E58846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610-1E13-4202-92DE-988E0ED0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233F-1D20-472C-89C7-1057F26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83BA42-0EE7-4E68-8B2B-ED86D86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BBF603-1CF1-4951-AC39-12B37CA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A25F11-0E89-4D8C-BFCD-B4FE851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0C2900-C43B-44EF-BD1C-831BBD45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6305C0-01C7-404D-935A-37B4F141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17A80-F4B5-4100-B3EA-703FE53F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A10B6-E418-4C76-A07A-55A85571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E4FB7-E2B0-48FE-9842-181C226D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7F078-8ACF-4B34-BCDA-63C02CF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02795-CE0E-4D76-98C4-50765B8C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596-2EA7-49D5-88A4-124D442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D910F-F745-483E-8542-D03512F3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9218A-BF31-4D92-BE76-43914C81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11E9A-1C01-475B-A921-E9544838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6B75D-3DF5-4350-9550-9947D8F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D4397-91A1-47D8-834A-F731D95E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C1A29-A4E8-478D-BFCD-547FB7DA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1856F-C68B-414C-B1D3-EA022682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8A78-FA34-4A1B-932E-F1C99BE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40B-E2F9-4D4F-8853-94151EFB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E3F0-99A1-49C8-AF7F-9F195188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4D2C-BF75-47A6-8CBF-D80D0D6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9715-550D-40DC-9948-C90536F7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4C9D-B5E6-448A-87F5-63F5BE7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8F13-F885-421E-A50D-444A0D7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B068-06A5-40F6-8148-5DE8BF87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EBB-D5F6-48A3-AD79-807AE94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625B-6E13-4379-98C8-23AC10B0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7D8E-AE3C-4241-8648-1CFF63A0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EFD1-669C-4C37-964A-592E0F5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0BCE-6A1B-483C-8558-B142607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5997-DBD6-446A-93DC-36C96A0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4956-70C0-47DC-83E3-C3981836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A5EC-9CAC-4EF3-A53A-EFED212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4EE0-46F4-4CBE-AD84-0D80BE65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7EFF-E0C9-46AA-A413-93417DDE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3D10-D942-46B8-8301-29F2DB6E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A1E-4321-4942-89BC-16A9837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F6F0-270E-44E5-ACBA-FB7AA65C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3BBD-51BA-4A12-8894-DCA624A8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8271-0712-4577-BB56-335A800B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62B2-AA07-4EEC-8CA7-E89FAD08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3757-7B3A-4721-83AA-E01E14A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7D75-A05A-4E71-8C7F-A782FCC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FCA6-865A-4C18-A84A-496DC267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14A5-C0FE-4FE4-8678-C56E8A69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0351-EE0C-46D9-93B4-DB53D820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CEB1-621D-4F19-A497-82254D55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409-8DA7-4FD4-B25E-90D4D26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8543-EB0C-4031-BBFB-CDAEF6A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EB6B6-FC41-4CF6-8981-7E47A6B9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96225-46EE-4117-9667-AEE07B87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3D6A-D249-4956-B0A5-B4B0DD5A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4564-90A5-433C-9844-E37CC752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EE5B-694C-48D4-B176-E0FA541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36DC-B73B-4B3F-87E5-EB9003C3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6E85E-7285-4057-842F-145A1A8B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A707-FB62-49D6-A6E8-35BA5CC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F4E6-9CC5-42A0-9E95-EDEA0F5F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66A-78FF-460A-99C4-2441FEE5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4D770-B4D0-406A-A0E6-2C80198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AA30-69C4-4D15-932F-CF59E8EC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6E419-51DA-44CA-ADE9-FD08195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7ADA-4D9D-40B5-821E-DCFFCDCA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216E-1295-4EF8-A305-53100C4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BCF6-F3D8-41C1-A32B-000EBB9E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011A-49F1-4BD0-88FC-B1FAB92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614BC-CF50-4651-BB3D-1346084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54AD-A2DC-44A8-8106-9365375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A40C9-54BF-42B2-9F23-37FCE74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681-3A94-45D0-B185-D717362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325A-4EDC-467E-8F78-9C56FDE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DAE8-1B5D-4208-BF46-0C7EF818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E6FB-6AB7-4C27-98F3-46A4C12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E2DE7-CC3B-4F60-BF14-591409ED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E6ECD-6763-4AF4-8702-6EFA4CD3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1A60-D110-4336-8E61-E93CF46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914E-2909-4D35-B0CF-47FF8F5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BFCC-816C-4136-A1B4-70546051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B1084-EC17-4C33-9395-6785019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4341-265A-4EFA-9BDE-AF32D83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D0D-6772-4086-9947-4294A7A8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340C-A1D3-4C88-90C1-6269D02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3A9B-2E0E-406F-8CB5-4BA0DAC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E50E1-94CD-49B9-AB24-2BBFCF68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6AF8-3203-4B2A-9B63-88D9B0C4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2D7B-0EDC-4AB9-B106-A8DDEBBA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1F56D-DA0D-492D-A1E3-B5276396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8B856-7440-43C2-947B-E5B9C851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4158B-8F70-42ED-B8E9-B28EE28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EA74B-DE5A-4AB7-B64F-8A64422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5234-4C5E-4102-B49D-118386CB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803-D4E4-492B-8AC9-0A49729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CDBBB-D75B-4484-BDC8-0606E263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7A1C-5930-4D1E-9C09-C890484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21C12-EF33-45C9-A620-15A0184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0E66-CAF6-4B4A-AE3C-E3561A6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CE33-4C5B-4B75-AD2E-240D39F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2440-0D28-4B5B-AC78-AFE5A9E7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ACF9-7C7C-47B2-8CB1-8ACE0E03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C1A88-D93C-44FC-982C-40B64D33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145BD-A0A9-4ED2-B99B-DB494CDE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69EA0-A1AD-4B31-817A-B844BB61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B73EFC-7435-410A-85A5-04ED5CD23AE3}" type="slidenum">
              <a:rPr b="0" lang="ru-RU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434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e8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AD3B73-7C4D-4530-AA40-837F21D95C63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3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C7E6BF-4B6F-4C6E-8839-72F006F49807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FB0067-4CC8-47C3-9DB6-72B1F9FFBDF1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73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76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71685c">
              <a:alpha val="70000"/>
            </a:srgbClr>
          </a:solidFill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8f520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58F76D-B1AA-427B-9F38-43A3E6FF7EE6}" type="slidenum">
              <a:rPr b="0" lang="ru-RU" sz="2800" spc="-1" strike="noStrike">
                <a:solidFill>
                  <a:srgbClr val="8f52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626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FA5EE8-ACDE-4D31-B0A3-E962308BBDA3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D86494-3108-4464-8670-6F84258B3C86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718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37BAB7-1BDB-4214-89B5-0A0AF1B8F94A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765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508983-16DA-4B3D-92CB-77BB39ED22BA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594C98-D816-4697-AC11-F435BD1601C0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9EB05D-5B5E-4540-8142-055611320B82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54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7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100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85776d">
              <a:alpha val="70000"/>
            </a:srgbClr>
          </a:solidFill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e8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800" spc="-1" strike="noStrike">
                <a:solidFill>
                  <a:srgbClr val="4f47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593DD5-EC2A-4709-9CCA-6F050966E154}" type="slidenum">
              <a:rPr b="0" lang="en-US" sz="2800" spc="-1" strike="noStrike">
                <a:solidFill>
                  <a:srgbClr val="4f47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150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9552E3-00ED-4C8D-B1B7-7672BE88010D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97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e8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BD2D74-0EDD-4D98-8F67-8A760EDB846C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46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9320E4-DC0E-46C1-9EE5-DF9D1F9A0FFC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93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A9A66D-1F26-45DE-B62F-5AEE33D8EF91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340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5A349D-5029-4FD2-A810-AB21D5D6F1CB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F84AD8-A64C-43C7-8CAA-1810BECF047A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solidFill>
            <a:srgbClr val="ec9e96"/>
          </a:solidFill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Gothic"/>
              </a:rPr>
              <a:t>Подготовка исследовательских работ для участия в конкурсах</a:t>
            </a:r>
            <a:r>
              <a:rPr b="1" lang="ru-RU" sz="4400" spc="-1" strike="noStrike">
                <a:solidFill>
                  <a:srgbClr val="465e9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61280" cy="1378080"/>
          </a:xfrm>
          <a:prstGeom prst="rect">
            <a:avLst/>
          </a:prstGeom>
          <a:solidFill>
            <a:srgbClr val="ffecd3"/>
          </a:solidFill>
          <a:ln w="9360">
            <a:solidFill>
              <a:srgbClr val="465e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7d72"/>
                </a:solidFill>
                <a:latin typeface="Arial"/>
              </a:rPr>
              <a:t>Методические рекомендации для педагог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 txBox="1"/>
          <p:nvPr/>
        </p:nvSpPr>
        <p:spPr>
          <a:xfrm>
            <a:off x="457200" y="177300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65e9c"/>
                </a:solidFill>
                <a:latin typeface="Century Gothic"/>
              </a:rPr>
              <a:t>Касаемо Проблем и Тем исследования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465e9c"/>
                </a:solidFill>
                <a:latin typeface="Century Gothic"/>
              </a:rPr>
              <a:t>Неадекватный выбор проблемы исследования. Важно делать его с учетом возрастных и индивидуальных особенностей ученика, а также с понимаем реального масштаба исследования. 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465e9c"/>
                </a:solidFill>
                <a:latin typeface="Century Gothic"/>
              </a:rPr>
              <a:t>Неадекватная формулировка темы. Название работы следует формулировать так, чтобы по прочтению его можно было точно понять – что именно изучается и какова проблема исследования. 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465e9c"/>
                </a:solidFill>
                <a:latin typeface="Century Gothic"/>
              </a:rPr>
              <a:t>Тема не связана собственно с интересами учащегося. 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5e9c"/>
                </a:solidFill>
                <a:latin typeface="Century Gothic"/>
              </a:rPr>
              <a:t>Обращается внимание на такие Несоответствия</a:t>
            </a: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заявленная тема неподъемна для теоретического анализа;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методы и выборка неадекватны поставленной проблеме и реально не разрешают гипотезу;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выводы не соотносятся с целью и задачами исследования;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выводы не вытекают из эмпирических данных.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 txBox="1"/>
          <p:nvPr/>
        </p:nvSpPr>
        <p:spPr>
          <a:xfrm>
            <a:off x="380520" y="184464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Gothic"/>
              </a:rPr>
              <a:t>Соотношение теоретической и эмпирической части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e9c"/>
                </a:solidFill>
                <a:latin typeface="Century Gothic"/>
              </a:rPr>
              <a:t>Нет адекватной теоретической части</a:t>
            </a: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, без которой любое эмпирическое исследование не имеет осмысленной основы;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e9c"/>
                </a:solidFill>
                <a:latin typeface="Century Gothic"/>
              </a:rPr>
              <a:t>Не определены ключевые понятия исследования</a:t>
            </a: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, на основе которых должно выстраиваться эмпирическая часть работы;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e9c"/>
                </a:solidFill>
                <a:latin typeface="Century Gothic"/>
              </a:rPr>
              <a:t>Чрезмерность теоретической части и ее малая связь с эмпирической частью;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Теоретическая часть должна определять и структурировать понятийный аппарат; задавать общую логику исследования; вписывать конкретное эмпирическое исследование в более широкое пространство научных проблем, выявляя его реальное место среди них; давать обоснование для интерпретации собственных данных; 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Для теоретической части следует искать необходимую информацию осознанно, а не действовать по принципу: «что под руку попало, то и пригодилось» (не следует рядом с фундаментальными работами приводить сведения из «информационного мусора»; нельзя «сваливать в одну кучу» концепции выдающихся ученых из различных научных школ и направлений без их соотнесения).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 txBox="1"/>
          <p:nvPr/>
        </p:nvSpPr>
        <p:spPr>
          <a:xfrm>
            <a:off x="457200" y="191628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Гипотеза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Гипотеза должна быть не банальной и поверхностной, а «продуктивной», то есть задающий исследователю понимание что именно, по каким параметрам, какими средствами и среди кого он будет исследовать. 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Исследовательская гипотеза – это предположение, которое проверяется в ходе исследования, а не утверждение, не требующее доказательств.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ыдвижение гипотезы должно логические обосновано на базе теоретического понимания изучаемого феномена.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 txBox="1"/>
          <p:nvPr/>
        </p:nvSpPr>
        <p:spPr>
          <a:xfrm>
            <a:off x="457200" y="20602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Выборка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ыборка не должна формироваться по принципу «кто был, того и опросили», а должна быть обоснованной и корректно выдержанной по существенным для исследования переменным (возраст, пол, социальный статус, включенность в те или иные социальные группы и т.д.)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выборка по количеству должна отвечать поставленным задачам исследования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статистические методы обработки должны соответствовать численности выборки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5e9c"/>
                </a:solidFill>
                <a:latin typeface="Century Gothic"/>
              </a:rPr>
              <a:t>Методы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методы должны быть обязательно обоснованны и «соразмерны» поставленным цели и задачам исследования, адекватны для разрешения проблемы и гипотезы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в случае применения нескольких методик в одном исследовании, они должны быть взаимосвязаны и взаимно дополняемы</a:t>
            </a: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автор должен понимать пределы и ограничения возможностей используемых методов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методики, созданные для решения конкретных задач другими авторами не всегда возможны для применения в иных целях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при разработке собственной методики (опроса, анкеты и т.д.) предварительно следует ознакомиться с существующими правилами и требованиями к подобным методам. 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Обработка данных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Недостаточное использование статистических методов обработки результатов, проверки их на статистическую значимость и наличие корреляции между изучаемыми переменными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Результаты статистических обработок неадекватно отражены в таблицах, графиках и диаграммах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Представление всех данных в форме таблиц и графиков без обсуждения их содержания в тексте работы. 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e9c"/>
                </a:solidFill>
                <a:latin typeface="Century Gothic"/>
              </a:rPr>
              <a:t>Выводы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взяты «с потолка» (не имеют связь с предыдущим текстом работы)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чрезмерно обобщенные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как представление результатов без обобщения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 соотнесены с гипотезой и задачами исследования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 проходят проверку на логику или здравый смысл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588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>
            <a:off x="395280" y="184464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Думай глобально действуй локально: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чем локальнее исследование, чем конкретнее предмет исследования, тем работа получается интереснее и содержательнее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уровень работы во многом зависит от объема исследуемого материала, корректности подбора и использования методов исследования, а также уровня анализа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глубина работы связана с пониманием границ исследования и ее места в общем контексте научной области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Rectangle 2" descr=""/>
          <p:cNvPicPr/>
          <p:nvPr/>
        </p:nvPicPr>
        <p:blipFill>
          <a:blip r:embed="rId1"/>
          <a:stretch/>
        </p:blipFill>
        <p:spPr>
          <a:xfrm>
            <a:off x="165240" y="341280"/>
            <a:ext cx="7223040" cy="12859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 txBox="1"/>
          <p:nvPr/>
        </p:nvSpPr>
        <p:spPr>
          <a:xfrm>
            <a:off x="457200" y="184428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В чем именно проблема исследования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Что является объектом исследования, а что предметом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Какова гипотеза (гипотезы)?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Последовательно ли простроены задачи исследования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Адекватны ли избранные методы исследования разрешению проблемы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Корректно ли определена выборка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Соблюдена ли процедура исследования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Достаточны и адекватны ли методы обработки и анализа данных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Отвечают ли выводы на задачи исследования и как они связаны с проблемой и гипотезой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Rectangle 2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8899560" cy="1141200"/>
          </a:xfrm>
          <a:prstGeom prst="rect">
            <a:avLst/>
          </a:prstGeom>
          <a:ln w="9360">
            <a:solidFill>
              <a:srgbClr val="e36d61"/>
            </a:solidFill>
            <a:miter/>
          </a:ln>
        </p:spPr>
      </p:pic>
      <p:sp>
        <p:nvSpPr>
          <p:cNvPr id="857" name="Rectangle 3"/>
          <p:cNvSpPr/>
          <p:nvPr/>
        </p:nvSpPr>
        <p:spPr>
          <a:xfrm>
            <a:off x="271440" y="1773360"/>
            <a:ext cx="86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1 – примитив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(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элементарные, констатационные, описатель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) – опросы (зачастую с использованием необоснованных вопросов, анкет, не отвечающим простейшим социологическим требованиям и т.п.) с подсчетом процентов вариантов ответов по каждому вопросу в отдельности; проведение стандартизированной методики и представление первичных диагностических данных; описание наблюдаемых фактов в форме простой конста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Arial"/>
              </a:rPr>
              <a:t>Источники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Arial"/>
              </a:rPr>
              <a:t>При составлении презентации были использованы материалы профессора МГПУ А.С. Обухова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2 – комбинирован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– теоретический анализ, дополняется опросом, а также, возможно, каким-то проектным действием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(зачастую разные части работы не соотнесены друг с другом и выглядят рядоположенными);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pic>
        <p:nvPicPr>
          <p:cNvPr id="859" name="Rectangle 2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88995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3 – сопоставитель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– 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проводится сопоставление теоретического материала и собственных эмпирических данных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; различные эмпирические данные сопоставляются друг с другом; работа может быть выстроена на сравнительном принципе (например, по определенным параметрам выборки – пол, возраст, социальная группа и т.п.; или одного психологического параметра с другим);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pic>
        <p:nvPicPr>
          <p:cNvPr id="861" name="Rectangle 2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899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Rectangle 2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899560" cy="114156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3"/>
          <p:cNvSpPr/>
          <p:nvPr/>
        </p:nvSpPr>
        <p:spPr>
          <a:xfrm>
            <a:off x="304920" y="1916280"/>
            <a:ext cx="8686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4 – аналитические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 (качественно-количественные и качественные) – </a:t>
            </a: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 работе проводится содержательный анализ различных фактов 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(теоретических, наблюдаемых, зафиксированных стандартизированными методам и т.п.) </a:t>
            </a: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 соотнесение друг с другом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. В идеальном случае – дается содержательная интерпретация фактам с точки зрения определенной теоретической пози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5 – глубин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(многопараметрические) 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– в работе используются взаимодополняющие методы исследования в русле единой методологии, привлекаются различные факты и данные, в едином русле они сопоставляются, анализируются, интерпретируются.</a:t>
            </a: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  <p:pic>
        <p:nvPicPr>
          <p:cNvPr id="865" name="Rectangle 2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899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Rectangle 2" descr=""/>
          <p:cNvPicPr/>
          <p:nvPr/>
        </p:nvPicPr>
        <p:blipFill>
          <a:blip r:embed="rId1"/>
          <a:stretch/>
        </p:blipFill>
        <p:spPr>
          <a:xfrm>
            <a:off x="165240" y="341280"/>
            <a:ext cx="8832600" cy="12859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 txBox="1"/>
          <p:nvPr/>
        </p:nvSpPr>
        <p:spPr>
          <a:xfrm>
            <a:off x="250920" y="1600200"/>
            <a:ext cx="864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5e9c"/>
                </a:solidFill>
                <a:latin typeface="Century Gothic"/>
              </a:rPr>
              <a:t>1 – </a:t>
            </a: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типичные (стереотипные) – работы по наиболее расхожим темам (чаще всего «популярным» в системе образования в этот год – включенных в планы мероприятий), с использованием наиболее известных методов, на ограниченной выборке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2 – распространенные – достаточно популярные темы, но изучаемые с использованием новых методов или на интересно сформированной выборке и т.п.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3 – оригинальные – нетривиальный взгляд на обыденные явления, неожиданная постановка вопроса, содержательная и конструктивная гипотеза, оригинальные методы и материалы исследования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4 – уникальные – чаще всего на уникальном материале локального характера, где сами зафиксированные данные уже имеют ценность для науки и посредством исследования вводятся в ее поле.</a:t>
            </a:r>
            <a:r>
              <a:rPr b="1" i="1" lang="ru-RU" sz="2200" spc="-1" strike="noStrike">
                <a:solidFill>
                  <a:srgbClr val="465e9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4814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250920" y="206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правильная формулировка темы или названия работы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адекватные или некорректные методы исследования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отсутствие контрольной группы или неправильный ее подбор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отсутствие статистической обработки полученных результатов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верная интерпретация полученных результатов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соответствие выводов и результатов исследования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соблюдение правил оформления и представления работ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.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48140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808200" y="1940040"/>
            <a:ext cx="78674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(на очном этапе)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популизм в противовес научности - работа на внешних формах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игнорирование закономерностей восприятия и слабая наглядность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соблюдение формальных требований и регламента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владение формой без понимания смысла содержания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готовность к обсуждению.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3:44:45Z</dcterms:created>
  <dc:creator>Бабошин</dc:creator>
  <dc:description/>
  <dc:language>en-US</dc:language>
  <cp:lastModifiedBy>user</cp:lastModifiedBy>
  <dcterms:modified xsi:type="dcterms:W3CDTF">2019-01-05T13:10:33Z</dcterms:modified>
  <cp:revision>180</cp:revision>
  <dc:subject/>
  <dc:title>Обучение учителей методу проектов средствами информационных технологий</dc:title>
</cp:coreProperties>
</file>