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B7F-F29C-4511-9D24-F450DA3F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F6D-4589-4E3E-A65E-2EF74E87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B6BD5-DFE3-4868-BF3D-A051074F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32BC8-9FD2-4E13-ADE8-C571A8AF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4132B-081B-42A1-9527-7D8F9E19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C87C8-6E3A-490A-87AF-EDDD069E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DC3E9-EBD1-4332-BDDE-47F5CD7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BF445-E939-47EF-A010-A6F4442E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4DEF8-08FA-430F-8FF8-F8AC3A36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BD7CA-DF78-43FF-B6F7-21693757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1A3F4-466E-4C90-9086-C4387E1D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E53A34-18BB-4346-8F2D-C547CD13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380-A68B-431D-BAD1-7E84A75A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2D463E-0536-41C0-ACBC-7D656D46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9249FD-CA53-440A-AD19-DD3D5ADE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BCCB3C-8F68-4B3E-BBF1-A4FD117F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EF538-F16F-4E46-ADBF-24DA5DBE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939F80-5560-459A-98B3-65E7BF06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AD8FD7-B1C5-4195-B652-1DA4D178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4618DB-C0C5-4511-9F25-8DBF220B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581951-3911-4504-A2E5-853FD7C2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AD344D-1370-4B60-83AD-A00262A6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B3BC5B-DE4E-4283-BAF0-AAF9A458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F56-3D54-424E-B370-644A35EF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C2A884-B94D-41E1-A6AA-D6C4EDC5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7A87F-1802-4C05-9E6A-1FD27C22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DC79B-CF51-4DF4-A619-A12A9238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FE061-4366-4DA1-AFD8-40EF8842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72777-1A50-4C36-8357-F14B9CEE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D00CD-D4B7-4E4F-9F52-120986EA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0F3F1-3FE5-4532-9350-232D2410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087E3-6E5B-405B-AC8E-BE37D36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AAC49-2795-4AC0-9DF1-7B4C1699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8206F-8BC1-4D29-ACF7-59C0A4CE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C36C-6C0A-4031-B503-9718C6A5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8BE74-E424-48BC-8A81-A30F5DC7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171CB-EA49-4D88-843B-25E376D6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38A42-76D6-4B77-A428-8B9E04A3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FCAEA-FDC7-4E9E-9B5C-E6C355EA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09FDE-4F18-47CC-9DAA-20B49735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12E7B-C127-497C-95D9-FF032F17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5E330-D885-48CF-933C-07336B3C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C89B7-D818-4BA3-97E8-9F79337B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B6543-A0D5-4217-8963-F172D42A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2BBBF-4650-484D-832F-CAEF3B02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87A6-5F8F-4A09-9233-DBE9B035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AE589-4464-46A8-9216-8CAD1453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DA038-7BA9-4FEC-9B58-5AD8D950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25F4C-6B97-42F9-A2E7-E6F3093F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6FC85-3AD6-4145-8717-DFA1D82C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89844-6565-40E6-9278-8836BD46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232C0-5966-4109-AADE-E0522B61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174F5-EF99-487D-9711-B47B5610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F65B7-0867-401F-8FB4-7D92268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8D3EE-84FF-4CD5-8DA0-0BA96C55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538BA-0D0B-44CF-B769-53DE64A9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A740-6ADD-431D-84A2-51DF4FF6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4FED0-2008-422D-BFC6-AA8EC74A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B5B51-1205-4403-A9B1-5C2954E0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27C4D-07AF-43D2-AB66-881422B1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7C139-1C93-4BFB-85EE-461537DB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A8D0A-2D6E-40D4-A4E3-E6BA7893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2676A-BC93-442F-8865-3C2102D4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D4ABA-F693-47CD-97A4-6CC1F0C9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13BBF-3892-4F49-9349-548DC993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A8D6F-4540-471B-AA81-A4E1EAD2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6FF3A-6FAE-42E3-B6FE-17D6960A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499D-D00C-463D-94B0-91A54645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F0E8F-DB98-451D-ADEE-4980D8B6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BE8A0-C70A-41AE-AA39-57C7E6FE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1C12E5-1188-4977-8AA4-713B6FF0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71F0F-395D-49F7-8EC9-43BA36CF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464A6-4716-456C-9B32-4C2E03F8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2694F-5516-4F5C-91F6-733AC7B2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A7731-A148-4EBD-9C23-CDC3AA16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DB191-E812-434D-B996-C6F73374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D43C5-2EBE-481B-A53B-4B0C72A7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F98DE-D49B-44DE-9D7A-8C026D78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1454-4524-4CF3-9786-D9977A0D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10920-29AF-47B8-9B0A-B665D044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70E24-7C1A-4092-8775-E4B045D6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D7844-F139-437C-BE7D-7159D554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0F7AF-5B51-4CBA-85AE-E9C19419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5963F-DCE6-4E2E-833A-BA98815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42CD9-9DBB-4B1D-B0D9-5BAE9522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87A3C8-9075-419C-87BA-F6876A6B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024235-4A53-47EA-AD27-AC9C92D8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05A48-E72C-47E3-B111-461A208F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93C4A7-BCD4-4221-84B8-31CC0627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94B2-FDE3-4CA6-80D1-BDA32E54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D925B-C668-4374-8BBA-33B25ED7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4D64A-D6AE-47DF-BA04-B17A32D4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61AB27-9A29-40A7-BD17-22CDE004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459AF-87D4-4E05-845F-34E42F57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4B1A8-3FB4-4CAC-8068-C26B3494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97B83-1019-4074-9209-B05ECD48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8C012-62B6-498E-B44F-CBBE0BA8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C49AC-B084-4FC1-A400-A5EC8FE5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00FCB-F32E-48FA-94F5-46333EF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716E8-6E49-4E9F-8C48-3648EA35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F0B0-C869-4714-9FF5-676C0252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8C1E6-4A5B-41FC-BFEA-FCC1A0E7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A541A-85A9-42C3-B0AD-EABF5BAD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32D42-6CDD-41E5-BCA5-BA8D34A1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29BF7E-75FC-4B5F-8285-17A99D85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82C955-57DA-47B2-B894-5DAF6191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440705-72BD-4F77-A9C3-8D243337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00640A-A2B3-40D4-AF16-2583C489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460733-E291-4454-8D20-372D033A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63663A-8F5B-45B6-B119-52C03A3B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DAE94F-3EF6-483F-AE1B-1AC8E4EA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B5F-D192-4CB8-8AC6-90571097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D7C2-1C51-4D03-908D-CD9B0F66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BAAF8C-7538-4039-B18E-8CE5F385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65EC9F-7F6E-4CAB-ADB7-51CE1924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851956-920F-4B46-92D3-F758BDD1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6751C4-2E71-47D0-8819-14DE9853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9B319F-3F50-473E-9561-32ACD374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88F94-AFB8-4180-B60F-74EE2CA4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13B33-8866-4D61-BEEC-F9FD9652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EFEB2-C996-40AF-A461-5FA7E034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C005BD-186A-4102-854C-068EBE26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7C8AE4-7846-414B-B68B-C1D6BBA1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58B5-FEE7-4495-93AB-69B0C95D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8A0F5-46B5-4335-B7FE-7A048025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13595-26B3-475C-A7D4-5C4DDBF0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2CCF2-714C-4898-BEE3-9B24337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98EE1-CE87-45A7-9D08-7369707C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1F0D4E-929F-4200-86F6-64C790FB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8EE86B-EBAD-43E4-9970-6A3ABF6E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8EC412-635D-4271-85E8-5EFC9460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7277-F934-4722-A590-ABCB9FF7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66E2-4EF2-425D-B338-50901BE0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3D14-7647-4310-8641-FA60AF32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12B4-19C2-4BE8-A91E-5C9A0E12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83A3D-FA8C-4F58-A1A0-E5FB6B55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42AE-9495-49A4-B84C-AB999C23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C84D-0EE0-463E-B318-C116F7EF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67FC-C609-48C6-B305-F9A3272E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F53-E070-4A92-A932-5D21D5BE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EDE8-5387-47E2-BA46-BB35D498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5FA6-6858-465E-99E3-16D1FC54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C5F2-2CD3-47F0-9402-D47631A2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13741-2623-4226-AFA1-76D6FCE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024F-9270-45F1-89F2-9B1DB61C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1C88-F5A8-4144-B8E1-973E0ADB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A364-655C-4C95-94A9-D9438EA2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EC8D3-4A2B-4825-85A3-6132CB42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77292-7C31-4F55-958C-9AE416A6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CC16-529E-4AAE-947C-8868D6BE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B4B-66FB-46C3-AE38-8E9167AB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FDFDD-0661-4D7E-BBF5-3D084A88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5618A-D865-4474-9344-14935630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FFCF4-10B3-48BF-A5F2-92D7374E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E46A3-B3C1-4270-BE97-EB665942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7473-9849-4E62-824C-FB825FFC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9CE9C-840A-46EF-9B58-7C178F20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18AC-924A-4EC0-8A2F-64A7EF91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E4CD3-BB42-4218-8A21-CA9D3EF0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F65E-D53F-47E8-B61A-D9153C7C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4B37-946F-4503-82E9-7C254F2D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ED4-4E39-48F3-9636-797C3A18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BD8DE-A02A-4AED-8370-A4B2062F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9890-CE64-44A7-8C4D-26E435C5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BCD07-97D6-4C75-87B2-2ACA90F8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0890B-7919-4DB4-AF27-8FD05B52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C6375-4859-4796-B7C6-3E1609E0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C4FB-7F49-46F0-846A-CE4FF27A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5580F-3202-44F6-86FE-BC5C759F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F6301-67FE-4E16-875E-C99282B2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ACD0B-D3FF-426C-8DFA-21BABC80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34908-2FF7-440F-9929-2B57080A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481-A991-4FE2-B33C-3C8FE733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2E657-B458-422C-9C9B-5AF3330F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2B317-9AAB-4984-9688-C205C62C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5673-F1FB-4A67-B7BA-E4DC5949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0FE71-F824-4A91-A14A-78C45711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3BD7E-91FD-4778-A430-57B1F21F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CAFF8-19BF-41F5-864A-D4E95F58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AF9E1-8EB2-4F27-BBAB-41A1988C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11551-139E-46C1-9D20-0E518E5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B6CE9-E618-4949-898B-0A37736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CFB74-5538-49DC-9741-5311AB50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212-CCAE-4462-86F2-A0AB59E5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0B0B8-3623-4D68-8579-60B3A63F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E704F-CF6E-45EB-BD11-F1A78EE1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35564-DDBA-420F-9CF8-3D875773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50FF9-C566-4629-B7CB-4750E3B6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FBC6-DFA7-4A28-9F91-A376FB4C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25E96-95E4-4D1A-9B3E-09B9FD1B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37990-D2F2-480B-9725-F3050D9B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4008E-D788-4787-9A7E-A0D71204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BEFC5-0D7E-4929-9816-AAEC2D6C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60626-E1D1-4EFA-A557-B7E78A3C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E94-A9DD-4E18-A29F-3D91E8C0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DE146-D553-43C5-8093-C6D66BF7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6E091-11A4-41D6-9E9F-379FF3F8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B5A87-B8DE-48AD-94EB-439240EF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EE7C7-2EE2-4324-AD6F-CA8C1C0D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AFD78-98ED-4F1D-A500-AEE06322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C62ED-0541-4E5F-9561-B2A54844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B88C5-CFF1-4B72-8B90-A7D40259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068E0-4BD1-40A8-A82A-02965F48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FF44C-8BC8-400B-A96D-4E37C2B2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FB390-AC52-4CCB-A4A2-27036902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D9D-A4BA-4F02-9B3C-021F829C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1260E-DFF8-42FA-A7BC-06B7A3B7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48C7C-3BDD-40C8-ADE5-BB5AEE18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A3C21-492F-484F-966A-42FAB385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B47F2-D25C-448C-A2EF-5F67A52F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6B97-CE11-427E-BE79-F3063B0C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B8E05-6778-4EEA-BE06-2C593C23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22793-4C0E-49DB-BFDB-04A9F2FB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110EC-47DA-489F-9962-9F8EABAD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4EB0B-579D-4EB5-8283-ABB9CD2E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89AEF-A4A0-4705-BAFF-65559A4D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C8D4A5-D9C5-4505-8DE8-627EE0249F5F}" type="slidenum">
              <a:rPr b="0" lang="ru-RU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434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e8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8A13C6-C296-4514-9A69-EE155C247DB4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483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2FD795-7362-4461-BD4A-E6510AAF2788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952475-46FC-4228-A574-06F360B22A69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73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76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71685c">
              <a:alpha val="70000"/>
            </a:srgbClr>
          </a:solidFill>
          <a:ln w="6480">
            <a:solidFill>
              <a:srgbClr val="d67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d67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8f520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C8A1D7-178E-4526-B508-50FBDE891DE4}" type="slidenum">
              <a:rPr b="0" lang="ru-RU" sz="2800" spc="-1" strike="noStrike">
                <a:solidFill>
                  <a:srgbClr val="8f52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626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d67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0F519D-7DE3-4C8B-AC1C-D8D1EC515B54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FC505E-BF71-4667-9C52-E2C3834E57E0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718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d67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A7456F-05A7-4749-9FEA-1D5E5DB6159C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765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5FB55A-1FEA-40FC-98D7-5E229723F564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773E0F-CB26-4890-B923-789C68D01C48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9A4764-991B-4190-9E00-EA72AA40CCA7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54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97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100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85776d">
              <a:alpha val="70000"/>
            </a:srgbClr>
          </a:solidFill>
          <a:ln w="6480">
            <a:solidFill>
              <a:srgbClr val="766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e8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766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800" spc="-1" strike="noStrike">
                <a:solidFill>
                  <a:srgbClr val="4f47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5967F3-FAC4-494F-B2C1-A788FCD82D6F}" type="slidenum">
              <a:rPr b="0" lang="en-US" sz="2800" spc="-1" strike="noStrike">
                <a:solidFill>
                  <a:srgbClr val="4f47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150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EA6139-79A7-4E0F-8EE9-FE2A684AC3F1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97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e8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766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DAE16A-C3C0-49BD-809E-769CAF68F47F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246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6FBEA8-471D-4CED-A558-505C2B41D7D0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293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8CD519-47C7-4501-90E2-43FFCD0D03AB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340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0C8352-A298-4818-9A3D-95AFCC8C53EB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766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e8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BAF80B-B133-4149-9C46-9C8DA4B36C30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solidFill>
            <a:srgbClr val="ec9e96"/>
          </a:solidFill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5e9c"/>
                </a:solidFill>
                <a:latin typeface="Century Gothic"/>
              </a:rPr>
              <a:t>Подготовка исследовательских работ для участия в конкурсах</a:t>
            </a:r>
            <a:r>
              <a:rPr b="1" lang="ru-RU" sz="4400" spc="-1" strike="noStrike">
                <a:solidFill>
                  <a:srgbClr val="465e9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465e9c"/>
              </a:solidFill>
              <a:latin typeface="Century Gothic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61280" cy="1378080"/>
          </a:xfrm>
          <a:prstGeom prst="rect">
            <a:avLst/>
          </a:prstGeom>
          <a:solidFill>
            <a:srgbClr val="ffecd3"/>
          </a:solidFill>
          <a:ln w="9360">
            <a:solidFill>
              <a:srgbClr val="465e9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7d72"/>
                </a:solidFill>
                <a:latin typeface="Arial"/>
              </a:rPr>
              <a:t>Методические рекомендации для педагогов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 txBox="1"/>
          <p:nvPr/>
        </p:nvSpPr>
        <p:spPr>
          <a:xfrm>
            <a:off x="457200" y="177300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65e9c"/>
                </a:solidFill>
                <a:latin typeface="Century Gothic"/>
              </a:rPr>
              <a:t>Касаемо Проблем и Тем исследования</a:t>
            </a:r>
            <a:endParaRPr b="0" lang="en-US" sz="23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465e9c"/>
                </a:solidFill>
                <a:latin typeface="Century Gothic"/>
              </a:rPr>
              <a:t>Неадекватный выбор проблемы исследования. Важно делать его с учетом возрастных и индивидуальных особенностей ученика, а также с понимаем реального масштаба исследования. </a:t>
            </a:r>
            <a:endParaRPr b="0" lang="en-US" sz="23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465e9c"/>
                </a:solidFill>
                <a:latin typeface="Century Gothic"/>
              </a:rPr>
              <a:t>Неадекватная формулировка темы. Название работы следует формулировать так, чтобы по прочтению его можно было точно понять – что именно изучается и какова проблема исследования. </a:t>
            </a:r>
            <a:endParaRPr b="0" lang="en-US" sz="23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465e9c"/>
                </a:solidFill>
                <a:latin typeface="Century Gothic"/>
              </a:rPr>
              <a:t>Тема не связана собственно с интересами учащегося. </a:t>
            </a:r>
            <a:endParaRPr b="0" lang="en-US" sz="23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5e9c"/>
                </a:solidFill>
                <a:latin typeface="Century Gothic"/>
              </a:rPr>
              <a:t>Обращается внимание на такие Несоответствия</a:t>
            </a:r>
            <a:r>
              <a:rPr b="1" lang="ru-RU" sz="2400" spc="-1" strike="noStrike">
                <a:solidFill>
                  <a:srgbClr val="465e9c"/>
                </a:solidFill>
                <a:latin typeface="Century Gothic"/>
              </a:rPr>
              <a:t>: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заявленная тема неподъемна для теоретического анализа; 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методы и выборка неадекватны поставленной проблеме и реально не разрешают гипотезу; 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выводы не соотносятся с целью и задачами исследования;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выводы не вытекают из эмпирических данных.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 txBox="1"/>
          <p:nvPr/>
        </p:nvSpPr>
        <p:spPr>
          <a:xfrm>
            <a:off x="380520" y="1844640"/>
            <a:ext cx="84582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Gothic"/>
              </a:rPr>
              <a:t>Соотношение теоретической и эмпирической части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e9c"/>
                </a:solidFill>
                <a:latin typeface="Century Gothic"/>
              </a:rPr>
              <a:t>Нет адекватной теоретической части</a:t>
            </a:r>
            <a:r>
              <a:rPr b="0" lang="ru-RU" sz="1800" spc="-1" strike="noStrike">
                <a:solidFill>
                  <a:srgbClr val="465e9c"/>
                </a:solidFill>
                <a:latin typeface="Century Gothic"/>
              </a:rPr>
              <a:t>, без которой любое эмпирическое исследование не имеет осмысленной основы;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e9c"/>
                </a:solidFill>
                <a:latin typeface="Century Gothic"/>
              </a:rPr>
              <a:t>Не определены ключевые понятия исследования</a:t>
            </a:r>
            <a:r>
              <a:rPr b="0" lang="ru-RU" sz="1800" spc="-1" strike="noStrike">
                <a:solidFill>
                  <a:srgbClr val="465e9c"/>
                </a:solidFill>
                <a:latin typeface="Century Gothic"/>
              </a:rPr>
              <a:t>, на основе которых должно выстраиваться эмпирическая часть работы;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5e9c"/>
                </a:solidFill>
                <a:latin typeface="Century Gothic"/>
              </a:rPr>
              <a:t>Чрезмерность теоретической части и ее малая связь с эмпирической частью;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5e9c"/>
                </a:solidFill>
                <a:latin typeface="Century Gothic"/>
              </a:rPr>
              <a:t>Теоретическая часть должна определять и структурировать понятийный аппарат; задавать общую логику исследования; вписывать конкретное эмпирическое исследование в более широкое пространство научных проблем, выявляя его реальное место среди них; давать обоснование для интерпретации собственных данных; 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5e9c"/>
                </a:solidFill>
                <a:latin typeface="Century Gothic"/>
              </a:rPr>
              <a:t>Для теоретической части следует искать необходимую информацию осознанно, а не действовать по принципу: «что под руку попало, то и пригодилось» (не следует рядом с фундаментальными работами приводить сведения из «информационного мусора»; нельзя «сваливать в одну кучу» концепции выдающихся ученых из различных научных школ и направлений без их соотнесения).</a:t>
            </a:r>
            <a:endParaRPr b="0" lang="en-US" sz="18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 txBox="1"/>
          <p:nvPr/>
        </p:nvSpPr>
        <p:spPr>
          <a:xfrm>
            <a:off x="457200" y="1916280"/>
            <a:ext cx="822960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5e9c"/>
                </a:solidFill>
                <a:latin typeface="Century Gothic"/>
              </a:rPr>
              <a:t>Гипотеза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Гипотеза должна быть не банальной и поверхностной, а «продуктивной», то есть задающий исследователю понимание что именно, по каким параметрам, какими средствами и среди кого он будет исследовать. 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Исследовательская гипотеза – это предположение, которое проверяется в ходе исследования, а не утверждение, не требующее доказательств.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Выдвижение гипотезы должно логические обосновано на базе теоретического понимания изучаемого феномена.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 txBox="1"/>
          <p:nvPr/>
        </p:nvSpPr>
        <p:spPr>
          <a:xfrm>
            <a:off x="457200" y="206028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5e9c"/>
                </a:solidFill>
                <a:latin typeface="Century Gothic"/>
              </a:rPr>
              <a:t>Выборка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выборка не должна формироваться по принципу «кто был, того и опросили», а должна быть обоснованной и корректно выдержанной по существенным для исследования переменным (возраст, пол, социальный статус, включенность в те или иные социальные группы и т.д.)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выборка по количеству должна отвечать поставленным задачам исследования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статистические методы обработки должны соответствовать численности выборки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>
            <a:off x="25056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5e9c"/>
                </a:solidFill>
                <a:latin typeface="Century Gothic"/>
              </a:rPr>
              <a:t>Методы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методы должны быть обязательно обоснованны и «соразмерны» поставленным цели и задачам исследования, адекватны для разрешения проблемы и гипотезы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в случае применения нескольких методик в одном исследовании, они должны быть взаимосвязаны и взаимно дополняемы</a:t>
            </a:r>
            <a:r>
              <a:rPr b="0" lang="ru-RU" sz="2000" spc="-1" strike="noStrike">
                <a:solidFill>
                  <a:srgbClr val="465e9c"/>
                </a:solidFill>
                <a:latin typeface="Century Gothic"/>
              </a:rPr>
              <a:t>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5e9c"/>
                </a:solidFill>
                <a:latin typeface="Century Gothic"/>
              </a:rPr>
              <a:t>автор должен понимать пределы и ограничения возможностей используемых методов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5e9c"/>
                </a:solidFill>
                <a:latin typeface="Century Gothic"/>
              </a:rPr>
              <a:t>методики, созданные для решения конкретных задач другими авторами не всегда возможны для применения в иных целях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5e9c"/>
                </a:solidFill>
                <a:latin typeface="Century Gothic"/>
              </a:rPr>
              <a:t>при разработке собственной методики (опроса, анкеты и т.д.) предварительно следует ознакомиться с существующими правилами и требованиями к подобным методам. 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5e9c"/>
                </a:solidFill>
                <a:latin typeface="Century Gothic"/>
              </a:rPr>
              <a:t>Обработка данных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Недостаточное использование статистических методов обработки результатов, проверки их на статистическую значимость и наличие корреляции между изучаемыми переменными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Результаты статистических обработок неадекватно отражены в таблицах, графиках и диаграммах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Представление всех данных в форме таблиц и графиков без обсуждения их содержания в тексте работы. 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5e9c"/>
                </a:solidFill>
                <a:latin typeface="Century Gothic"/>
              </a:rPr>
              <a:t>Выводы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взяты «с потолка» (не имеют связь с предыдущим текстом работы)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чрезмерно обобщенные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как представление результатов без обобщения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не соотнесены с гипотезой и задачами исследования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не проходят проверку на логику или здравый смысл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5888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 txBox="1"/>
          <p:nvPr/>
        </p:nvSpPr>
        <p:spPr>
          <a:xfrm>
            <a:off x="395280" y="184464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5e9c"/>
                </a:solidFill>
                <a:latin typeface="Century Gothic"/>
              </a:rPr>
              <a:t>Думай глобально действуй локально: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чем локальнее исследование, чем конкретнее предмет исследования, тем работа получается интереснее и содержательнее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уровень работы во многом зависит от объема исследуемого материала, корректности подбора и использования методов исследования, а также уровня анализа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глубина работы связана с пониманием границ исследования и ее места в общем контексте научной области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Rectangle 2" descr=""/>
          <p:cNvPicPr/>
          <p:nvPr/>
        </p:nvPicPr>
        <p:blipFill>
          <a:blip r:embed="rId1"/>
          <a:stretch/>
        </p:blipFill>
        <p:spPr>
          <a:xfrm>
            <a:off x="165240" y="341280"/>
            <a:ext cx="7223040" cy="128592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 txBox="1"/>
          <p:nvPr/>
        </p:nvSpPr>
        <p:spPr>
          <a:xfrm>
            <a:off x="457200" y="1844280"/>
            <a:ext cx="822960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В чем именно проблема исследования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Что является объектом исследования, а что предметом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Какова гипотеза (гипотезы)? 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Последовательно ли простроены задачи исследования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Адекватны ли избранные методы исследования разрешению проблемы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Корректно ли определена выборка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Соблюдена ли процедура исследования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Достаточны и адекватны ли методы обработки и анализа данных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Отвечают ли выводы на задачи исследования и как они связаны с проблемой и гипотезой?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Rectangle 2" descr=""/>
          <p:cNvPicPr/>
          <p:nvPr/>
        </p:nvPicPr>
        <p:blipFill>
          <a:blip r:embed="rId1"/>
          <a:stretch/>
        </p:blipFill>
        <p:spPr>
          <a:xfrm>
            <a:off x="244440" y="189000"/>
            <a:ext cx="8899560" cy="1141200"/>
          </a:xfrm>
          <a:prstGeom prst="rect">
            <a:avLst/>
          </a:prstGeom>
          <a:ln w="9360">
            <a:solidFill>
              <a:srgbClr val="e36d61"/>
            </a:solidFill>
            <a:miter/>
          </a:ln>
        </p:spPr>
      </p:pic>
      <p:sp>
        <p:nvSpPr>
          <p:cNvPr id="857" name="Rectangle 3"/>
          <p:cNvSpPr/>
          <p:nvPr/>
        </p:nvSpPr>
        <p:spPr>
          <a:xfrm>
            <a:off x="271440" y="1773360"/>
            <a:ext cx="8686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5e9c"/>
                </a:solidFill>
                <a:latin typeface="Century Gothic"/>
              </a:rPr>
              <a:t>1 – примитивные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(</a:t>
            </a: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элементарные, констатационные, описательные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) – опросы (зачастую с использованием необоснованных вопросов, анкет, не отвечающим простейшим социологическим требованиям и т.п.) с подсчетом процентов вариантов ответов по каждому вопросу в отдельности; проведение стандартизированной методики и представление первичных диагностических данных; описание наблюдаемых фактов в форме простой конста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Arial"/>
              </a:rPr>
              <a:t>Источники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Arial"/>
              </a:rPr>
              <a:t>При составлении презентации были использованы материалы профессора МГПУ А.С. Обухова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5e9c"/>
                </a:solidFill>
                <a:latin typeface="Century Gothic"/>
              </a:rPr>
              <a:t>2 – комбинированные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– теоретический анализ, дополняется опросом, а также, возможно, каким-то проектным действием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(зачастую разные части работы не соотнесены друг с другом и выглядят рядоположенными);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pic>
        <p:nvPicPr>
          <p:cNvPr id="859" name="Rectangle 2" descr=""/>
          <p:cNvPicPr/>
          <p:nvPr/>
        </p:nvPicPr>
        <p:blipFill>
          <a:blip r:embed="rId1"/>
          <a:stretch/>
        </p:blipFill>
        <p:spPr>
          <a:xfrm>
            <a:off x="244440" y="189000"/>
            <a:ext cx="88995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5e9c"/>
                </a:solidFill>
                <a:latin typeface="Century Gothic"/>
              </a:rPr>
              <a:t>3 – сопоставительные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– </a:t>
            </a: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проводится сопоставление теоретического материала и собственных эмпирических данных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; различные эмпирические данные сопоставляются друг с другом; работа может быть выстроена на сравнительном принципе (например, по определенным параметрам выборки – пол, возраст, социальная группа и т.п.; или одного психологического параметра с другим);</a:t>
            </a: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entury Gothic"/>
            </a:endParaRPr>
          </a:p>
        </p:txBody>
      </p:sp>
      <p:pic>
        <p:nvPicPr>
          <p:cNvPr id="861" name="Rectangle 2" descr=""/>
          <p:cNvPicPr/>
          <p:nvPr/>
        </p:nvPicPr>
        <p:blipFill>
          <a:blip r:embed="rId1"/>
          <a:stretch/>
        </p:blipFill>
        <p:spPr>
          <a:xfrm>
            <a:off x="317520" y="554040"/>
            <a:ext cx="88995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Rectangle 2" descr=""/>
          <p:cNvPicPr/>
          <p:nvPr/>
        </p:nvPicPr>
        <p:blipFill>
          <a:blip r:embed="rId1"/>
          <a:stretch/>
        </p:blipFill>
        <p:spPr>
          <a:xfrm>
            <a:off x="317520" y="554040"/>
            <a:ext cx="8899560" cy="1141560"/>
          </a:xfrm>
          <a:prstGeom prst="rect">
            <a:avLst/>
          </a:prstGeom>
          <a:ln w="0">
            <a:noFill/>
          </a:ln>
        </p:spPr>
      </p:pic>
      <p:sp>
        <p:nvSpPr>
          <p:cNvPr id="863" name="Rectangle 3"/>
          <p:cNvSpPr/>
          <p:nvPr/>
        </p:nvSpPr>
        <p:spPr>
          <a:xfrm>
            <a:off x="304920" y="1916280"/>
            <a:ext cx="8686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5e9c"/>
                </a:solidFill>
                <a:latin typeface="Century Gothic"/>
              </a:rPr>
              <a:t>4 – аналитические</a:t>
            </a: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 (качественно-количественные и качественные) – </a:t>
            </a: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в работе проводится содержательный анализ различных фактов </a:t>
            </a: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(теоретических, наблюдаемых, зафиксированных стандартизированными методам и т.п.) </a:t>
            </a: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в соотнесение друг с другом</a:t>
            </a: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. В идеальном случае – дается содержательная интерпретация фактам с точки зрения определенной теоретической пози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5e9c"/>
                </a:solidFill>
                <a:latin typeface="Century Gothic"/>
              </a:rPr>
              <a:t>5 – глубинные</a:t>
            </a:r>
            <a:r>
              <a:rPr b="0" lang="ru-RU" sz="2400" spc="-1" strike="noStrike">
                <a:solidFill>
                  <a:srgbClr val="465e9c"/>
                </a:solidFill>
                <a:latin typeface="Century Gothic"/>
              </a:rPr>
              <a:t> (многопараметрические) </a:t>
            </a:r>
            <a:r>
              <a:rPr b="1" i="1" lang="ru-RU" sz="2400" spc="-1" strike="noStrike">
                <a:solidFill>
                  <a:srgbClr val="465e9c"/>
                </a:solidFill>
                <a:latin typeface="Century Gothic"/>
              </a:rPr>
              <a:t>– в работе используются взаимодополняющие методы исследования в русле единой методологии, привлекаются различные факты и данные, в едином русле они сопоставляются, анализируются, интерпретируются.</a:t>
            </a: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  <p:pic>
        <p:nvPicPr>
          <p:cNvPr id="865" name="Rectangle 2" descr=""/>
          <p:cNvPicPr/>
          <p:nvPr/>
        </p:nvPicPr>
        <p:blipFill>
          <a:blip r:embed="rId1"/>
          <a:stretch/>
        </p:blipFill>
        <p:spPr>
          <a:xfrm>
            <a:off x="317520" y="554040"/>
            <a:ext cx="88995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Rectangle 2" descr=""/>
          <p:cNvPicPr/>
          <p:nvPr/>
        </p:nvPicPr>
        <p:blipFill>
          <a:blip r:embed="rId1"/>
          <a:stretch/>
        </p:blipFill>
        <p:spPr>
          <a:xfrm>
            <a:off x="165240" y="341280"/>
            <a:ext cx="8832600" cy="12859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 txBox="1"/>
          <p:nvPr/>
        </p:nvSpPr>
        <p:spPr>
          <a:xfrm>
            <a:off x="250920" y="1600200"/>
            <a:ext cx="864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5e9c"/>
                </a:solidFill>
                <a:latin typeface="Century Gothic"/>
              </a:rPr>
              <a:t>1 – </a:t>
            </a: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типичные (стереотипные) – работы по наиболее расхожим темам (чаще всего «популярным» в системе образования в этот год – включенных в планы мероприятий), с использованием наиболее известных методов, на ограниченной выборке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2 – распространенные – достаточно популярные темы, но изучаемые с использованием новых методов или на интересно сформированной выборке и т.п.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3 – оригинальные – нетривиальный взгляд на обыденные явления, неожиданная постановка вопроса, содержательная и конструктивная гипотеза, оригинальные методы и материалы исследования;</a:t>
            </a:r>
            <a:endParaRPr b="0" lang="en-US" sz="20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5e9c"/>
                </a:solidFill>
                <a:latin typeface="Century Gothic"/>
              </a:rPr>
              <a:t>4 – уникальные – чаще всего на уникальном материале локального характера, где сами зафиксированные данные уже имеют ценность для науки и посредством исследования вводятся в ее поле.</a:t>
            </a:r>
            <a:r>
              <a:rPr b="1" i="1" lang="ru-RU" sz="2200" spc="-1" strike="noStrike">
                <a:solidFill>
                  <a:srgbClr val="465e9c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Заголовок 1" descr=""/>
          <p:cNvPicPr/>
          <p:nvPr/>
        </p:nvPicPr>
        <p:blipFill>
          <a:blip r:embed="rId1"/>
          <a:stretch/>
        </p:blipFill>
        <p:spPr>
          <a:xfrm>
            <a:off x="255600" y="311040"/>
            <a:ext cx="8437680" cy="14814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250920" y="206028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неправильная формулировка темы или названия работы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неадекватные или некорректные методы исследования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отсутствие контрольной группы или неправильный ее подбор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отсутствие статистической обработки полученных результатов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неверная интерпретация полученных результатов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несоответствие выводов и результатов исследования;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465e9c"/>
                </a:solidFill>
                <a:latin typeface="Century Gothic"/>
              </a:rPr>
              <a:t>несоблюдение правил оформления и представления работ</a:t>
            </a:r>
            <a:r>
              <a:rPr b="0" lang="ru-RU" sz="2100" spc="-1" strike="noStrike">
                <a:solidFill>
                  <a:srgbClr val="465e9c"/>
                </a:solidFill>
                <a:latin typeface="Century Gothic"/>
              </a:rPr>
              <a:t>.</a:t>
            </a:r>
            <a:endParaRPr b="0" lang="en-US" sz="21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Заголовок 1" descr=""/>
          <p:cNvPicPr/>
          <p:nvPr/>
        </p:nvPicPr>
        <p:blipFill>
          <a:blip r:embed="rId1"/>
          <a:stretch/>
        </p:blipFill>
        <p:spPr>
          <a:xfrm>
            <a:off x="255600" y="311040"/>
            <a:ext cx="8437680" cy="148140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808200" y="1940040"/>
            <a:ext cx="78674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(на очном этапе)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популизм в противовес научности - работа на внешних формах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игнорирование закономерностей восприятия и слабая наглядность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несоблюдение формальных требований и регламента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владение формой без понимания смысла содержания;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5e9c"/>
                </a:solidFill>
                <a:latin typeface="Century Gothic"/>
              </a:rPr>
              <a:t>неготовность к обсуждению.</a:t>
            </a: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e9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3:44:45Z</dcterms:created>
  <dc:creator>Бабошин</dc:creator>
  <dc:description/>
  <dc:language>en-US</dc:language>
  <cp:lastModifiedBy>user</cp:lastModifiedBy>
  <dcterms:modified xsi:type="dcterms:W3CDTF">2019-01-05T13:10:33Z</dcterms:modified>
  <cp:revision>180</cp:revision>
  <dc:subject/>
  <dc:title>Обучение учителей методу проектов средствами информационных технологий</dc:title>
</cp:coreProperties>
</file>