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48D-63ED-4A8D-8E5C-FEF97F0C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550-2003-40F6-BF30-5C4535DE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AD3-6246-4BEE-8806-850FCD35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AD1-BF26-451D-A317-5D5EBF05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47D-4E22-490F-8012-AF247E3C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608-EE74-4E18-9366-4837E6F7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E56-EBD6-4BED-BF4C-59F68D12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FC8-1EA1-4C0C-90F1-FB67A920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E1E-F453-4D89-8EA3-19A7EFA0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93C-0AF9-49C8-9729-8131B707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13A-6941-49F8-8ED9-BC2C58DD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E95-7C20-40A1-96D5-9EA80C1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B914-506F-4A12-B636-85134CD41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2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8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9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0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23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4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ренажёр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о теме «СЛОВОСОЧЕТАНИЕ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197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 муниципальной общеобразовательной средней школы №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яполова О.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120" y="3045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9. Указать именное словосочет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совсем р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читаю газе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) три тетра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) подъехать к д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90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7242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6294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" y="762120"/>
            <a:ext cx="86868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0.Указать глагольное словосочет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лесной возду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построить 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о – весеннему свеж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строительство д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0666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8006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705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68680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1. Указать наречное словосочет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юм спортив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 очень краси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красивый костю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) очень тем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90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9718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9528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8580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14400" y="685800"/>
            <a:ext cx="77724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2.Определить грамматическое значение словосочетани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снуться руки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определ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дополн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обстоятельствен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90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7432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5720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04920" y="456840"/>
            <a:ext cx="853416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3.Неправильно выделено словосочетание из предлож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 письме прямая речь всегда заключается в кавыч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мая реч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речь все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заключается на пись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заключается в кавы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90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188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7242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5530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28240" y="380520"/>
            <a:ext cx="84582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4. Указать словосочет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автор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мама пиш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) в течение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) из д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90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8006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705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УВЫ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Управляющая кнопка: домой 8">
            <a:hlinkClick r:id="" action="ppaction://hlinkshowjump?jump=previousslide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Молодец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Умница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Хорош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-360"/>
            <a:ext cx="8305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. Указать верное высказыв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ловосочетание – два или несколько слов, объединенных грамматически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 Словосочетание – два или несколько слов, объединенных по смысл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3. Словосочетание – два или несколько слов, объединенных по смыслу и грамматически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4. Словосочетание – два или несколько слов, объединенных по смыслу, грамматически и синтаксическ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990720" y="5105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2971800" y="5105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4952880" y="5105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6">
            <a:hlinkClick r:id="rId4" action="ppaction://hlinksldjump"/>
          </p:cNvPr>
          <p:cNvSpPr/>
          <p:nvPr/>
        </p:nvSpPr>
        <p:spPr>
          <a:xfrm>
            <a:off x="6858000" y="51055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Правиль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Коне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То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Замечательно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581280" y="3581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Прелест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Отли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Так держать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6172200" y="9144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Молодец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657600" y="365760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Прекрас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Правиль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04560" y="685800"/>
            <a:ext cx="83818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2. Указать словосочетание, где главное слово существитель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остаться без сладкого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очень хорош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задуматься над проблемой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нравственная с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143000" y="48769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8769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647600" y="48769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476400" y="48769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Здоров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1337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Сказо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Молодец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Волшеб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Так держать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6324480" y="129528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Молодец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Поразительно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200400" y="762120"/>
            <a:ext cx="2133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Восхитительно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09880" y="41148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Прекрас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Умница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14400" y="533160"/>
            <a:ext cx="77724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3. Укажите словосочетание, где главное слово - прилагатель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внушать интерес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физическая с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непростительный для школьник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непоправимая бе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0666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9718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68580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49528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mic Sans MS"/>
              </a:rPr>
              <a:t>Отли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809880"/>
            <a:ext cx="213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Безусловн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omic Sans MS"/>
              </a:rPr>
              <a:t>Разумеется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Вер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Monotype Corsiva"/>
              </a:rPr>
              <a:t>Точно!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962520" y="3809880"/>
            <a:ext cx="1752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14400" y="380520"/>
            <a:ext cx="77724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4. Указать словосочетание, где главное слово - глаго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недоверие к новому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ответить перед класс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 бегущий человек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благодаря отзывчив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914400" y="48006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8006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800600" y="48006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781680" y="48006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14400" y="990360"/>
            <a:ext cx="77724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5. Найти ошибку в определении способа связ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настойчиво просить- примык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тройная береза - согласов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освоение космоса - 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готовый к отъезду- примык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0666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7242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5530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14400" y="380520"/>
            <a:ext cx="77724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6. Указать словосочетание, где вид связи – согласов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сидеть мол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желание п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) заниматься плава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) ласковые сл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0666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9718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9528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8580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14400" y="533160"/>
            <a:ext cx="77724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7. Указать словосочетание, где вид связи – примык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расивый ребе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писать пись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чень ми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й др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10666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89548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800600" y="4952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7050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14400" y="990360"/>
            <a:ext cx="77724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8. Указать словосочетание, где вид связи – управ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яркое солн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радоваться побе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хотел рассказ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51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сформированное мировозз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кругленный прямоугольник 3">
            <a:hlinkClick r:id="rId1" action="ppaction://hlinksldjump"/>
          </p:cNvPr>
          <p:cNvSpPr/>
          <p:nvPr/>
        </p:nvSpPr>
        <p:spPr>
          <a:xfrm flipH="1">
            <a:off x="532800" y="4952880"/>
            <a:ext cx="1447560" cy="762120"/>
          </a:xfrm>
          <a:prstGeom prst="roundRect">
            <a:avLst>
              <a:gd name="adj" fmla="val 0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>
            <a:hlinkClick r:id="rId2" action="ppaction://hlinksldjump"/>
          </p:cNvPr>
          <p:cNvSpPr/>
          <p:nvPr/>
        </p:nvSpPr>
        <p:spPr>
          <a:xfrm flipH="1">
            <a:off x="2666880" y="4952880"/>
            <a:ext cx="1447920" cy="762120"/>
          </a:xfrm>
          <a:prstGeom prst="roundRect">
            <a:avLst>
              <a:gd name="adj" fmla="val 0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>
            <a:hlinkClick r:id="rId3" action="ppaction://hlinksldjump"/>
          </p:cNvPr>
          <p:cNvSpPr/>
          <p:nvPr/>
        </p:nvSpPr>
        <p:spPr>
          <a:xfrm flipH="1">
            <a:off x="4876200" y="4952880"/>
            <a:ext cx="1447560" cy="762120"/>
          </a:xfrm>
          <a:prstGeom prst="roundRect">
            <a:avLst>
              <a:gd name="adj" fmla="val 0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6">
            <a:hlinkClick r:id="rId4" action="ppaction://hlinksldjump"/>
          </p:cNvPr>
          <p:cNvSpPr/>
          <p:nvPr/>
        </p:nvSpPr>
        <p:spPr>
          <a:xfrm flipH="1">
            <a:off x="6933600" y="4952880"/>
            <a:ext cx="1447560" cy="762120"/>
          </a:xfrm>
          <a:prstGeom prst="roundRect">
            <a:avLst>
              <a:gd name="adj" fmla="val 16667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1-05T13:25:05Z</dcterms:modified>
  <cp:revision>80</cp:revision>
  <dc:subject/>
  <dc:title>Итоговые тесты по теме «Причастие»</dc:title>
</cp:coreProperties>
</file>