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E3B-6726-4078-BDC7-99A3F6B3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4A4F-AA6D-4955-B071-6EEBC2CA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0E41-ADD6-4990-913D-6D900BE4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0C15-26EF-4E86-A200-29C0EA88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AB09-27D6-4EF0-8577-9A68C297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993C-3C61-42B1-958F-8F5C6970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B39-860D-4C3F-BE2B-A9C3EADB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E9C-966B-42DA-B21B-6C78A777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CD55-DFB1-4D38-8A7A-3E29B2ED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6D4-14A9-4FBB-80E0-9F7CD8AA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4CF4-4824-4934-AE5D-9176D478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03A-5AF7-4E3E-88EB-EC7C2C3E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3E3C-5279-4FEA-8F4D-C54458E25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25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8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9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0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23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4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Тренажёр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о теме «СЛОВОСОЧЕТАНИЕ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197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русского языка и литературы муниципальной общеобразовательной средней школы №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яполова О.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09120" y="304560"/>
            <a:ext cx="80773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9. Указать именное словосочет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) совсем ря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) читаю газет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) три тетрад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4) подъехать к до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990000" y="4952880"/>
            <a:ext cx="144756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8954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7242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66294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8600" y="762120"/>
            <a:ext cx="86868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10.Указать глагольное словосочет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лесной возду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построить 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по – весеннему свеж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строительство до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10666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8954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8006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6705000" y="4952880"/>
            <a:ext cx="144756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609480"/>
            <a:ext cx="868680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11. Указать наречное словосочет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тюм спортив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 очень красив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красивый костю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) очень тем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990000" y="4952880"/>
            <a:ext cx="144756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9718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9528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68580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14400" y="685800"/>
            <a:ext cx="77724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12.Определить грамматическое значение словосочетания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оснуться руки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определитель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дополнитель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обстоятельствен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990000" y="4952880"/>
            <a:ext cx="144756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7432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5720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04920" y="456840"/>
            <a:ext cx="8534160" cy="58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13.Неправильно выделено словосочетание из предложени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а письме прямая речь всегда заключается в кавыч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ямая реч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речь все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заключается на пись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заключается в кавыч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990000" y="4952880"/>
            <a:ext cx="144756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818800" y="4952880"/>
            <a:ext cx="144756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7242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65530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28240" y="380520"/>
            <a:ext cx="845820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14. Указать словосочет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) автор прое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) мама пиш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) в течение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4) из до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990000" y="4952880"/>
            <a:ext cx="144756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8954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8006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6705000" y="4952880"/>
            <a:ext cx="144756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УВЫ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Управляющая кнопка: домой 8">
            <a:hlinkClick r:id="" action="ppaction://hlinkshowjump?jump=previousslide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C:\Documents and Settings\Елена\Рабочий стол\мальчик задумался.gif"/>
          <p:cNvPicPr/>
          <p:nvPr/>
        </p:nvPicPr>
        <p:blipFill>
          <a:blip r:embed="rId1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Молодец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Умница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09880" y="3809880"/>
            <a:ext cx="2286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Хорошо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-360"/>
            <a:ext cx="83059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1. Указать верное высказыв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ловосочетание – два или несколько слов, объединенных грамматически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2. Словосочетание – два или несколько слов, объединенных по смыслу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3. Словосочетание – два или несколько слов, объединенных по смыслу и грамматически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4. Словосочетание – два или несколько слов, объединенных по смыслу, грамматически и синтаксическ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Скругленный прямоугольник 3">
            <a:hlinkClick r:id="rId1" action="ppaction://hlinksldjump"/>
          </p:cNvPr>
          <p:cNvSpPr/>
          <p:nvPr/>
        </p:nvSpPr>
        <p:spPr>
          <a:xfrm>
            <a:off x="990720" y="510552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4">
            <a:hlinkClick r:id="rId2" action="ppaction://hlinksldjump"/>
          </p:cNvPr>
          <p:cNvSpPr/>
          <p:nvPr/>
        </p:nvSpPr>
        <p:spPr>
          <a:xfrm>
            <a:off x="2971800" y="510552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5">
            <a:hlinkClick r:id="rId3" action="ppaction://hlinksldjump"/>
          </p:cNvPr>
          <p:cNvSpPr/>
          <p:nvPr/>
        </p:nvSpPr>
        <p:spPr>
          <a:xfrm>
            <a:off x="4952880" y="510552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6">
            <a:hlinkClick r:id="rId4" action="ppaction://hlinksldjump"/>
          </p:cNvPr>
          <p:cNvSpPr/>
          <p:nvPr/>
        </p:nvSpPr>
        <p:spPr>
          <a:xfrm>
            <a:off x="6858000" y="510552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Правильно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Конечно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Точно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858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Замечательно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581280" y="3581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Прелестно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Отлично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Так держать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6172200" y="9144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Молодец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657600" y="365760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Прекрасно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Правильно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04560" y="685800"/>
            <a:ext cx="838188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2. Указать словосочетание, где главное слово существитель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остаться без сладкого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очень хорош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задуматься над проблемой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нравственная си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1143000" y="487692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895480" y="487692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647600" y="4876920"/>
            <a:ext cx="1447560" cy="76176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6476400" y="4876920"/>
            <a:ext cx="1447560" cy="76176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Здорово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09880" y="3809880"/>
            <a:ext cx="21337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Сказочно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Молодец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Волшебно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Так держать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6324480" y="129528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Молодец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Поразительно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200400" y="762120"/>
            <a:ext cx="2133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</a:rPr>
              <a:t>Восхитительно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09880" y="41148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Прекрасно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Умница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14400" y="533160"/>
            <a:ext cx="777240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3. Укажите словосочетание, где главное слово - прилагатель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внушать интерес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физическая си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непростительный для школьника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непоправимая бе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10666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9718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68580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49528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mic Sans MS"/>
              </a:rPr>
              <a:t>Отлично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86200" y="3809880"/>
            <a:ext cx="2133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omic Sans MS"/>
              </a:rPr>
              <a:t>Безусловно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omic Sans MS"/>
              </a:rPr>
              <a:t>Разумеется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Верно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Точно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962520" y="3809880"/>
            <a:ext cx="1752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14400" y="380520"/>
            <a:ext cx="777240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4. Указать словосочетание, где главное слово - глаго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недоверие к новому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ответить перед класс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 бегущий человек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благодаря отзывчив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914400" y="480060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895480" y="480060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800600" y="480060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6781680" y="480060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14400" y="990360"/>
            <a:ext cx="77724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5. Найти ошибку в определении способа связ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настойчиво просить- примык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стройная береза - согласова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освоение космоса - упр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готовый к отъезду- примык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10666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8954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7242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65530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14400" y="380520"/>
            <a:ext cx="777240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6. Указать словосочетание, где вид связи – согласов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) сидеть молч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) желание пе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) заниматься плава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4) ласковые сл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10666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9718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9528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68580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14400" y="533160"/>
            <a:ext cx="777240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7. Указать словосочетание, где вид связи – примык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расивый ребе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писать письм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чень мил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й дру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10666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8954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8006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6705000" y="4952880"/>
            <a:ext cx="144756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914400" y="990360"/>
            <a:ext cx="77724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8. Указать словосочетание, где вид связи – управл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яркое солн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радоваться побе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хотел рассказ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сформированное мировоззр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532800" y="4952880"/>
            <a:ext cx="1447560" cy="762120"/>
          </a:xfrm>
          <a:prstGeom prst="roundRect">
            <a:avLst>
              <a:gd name="adj" fmla="val 0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666880" y="4952880"/>
            <a:ext cx="1447920" cy="762120"/>
          </a:xfrm>
          <a:prstGeom prst="roundRect">
            <a:avLst>
              <a:gd name="adj" fmla="val 0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876200" y="4952880"/>
            <a:ext cx="1447560" cy="762120"/>
          </a:xfrm>
          <a:prstGeom prst="roundRect">
            <a:avLst>
              <a:gd name="adj" fmla="val 0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6933600" y="4952880"/>
            <a:ext cx="144756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9-01-05T13:25:05Z</dcterms:modified>
  <cp:revision>80</cp:revision>
  <dc:subject/>
  <dc:title>Итоговые тесты по теме «Причастие»</dc:title>
</cp:coreProperties>
</file>