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055F-07BA-4ECD-B826-755953CC4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BE63-38A5-49AB-9C6F-239C730B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729F-DA5C-4002-9356-70C67DC08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CC82-6192-4B99-BB04-AFB2DC61B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866F-93BB-482B-8028-37C330DFA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FA62-DFF9-40A8-9EBC-1A614199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1EC6-5E6F-45CA-941C-9129304D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4B1AC-7003-499A-A480-3692C05B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466B-0AF4-441D-BC68-F3E85EF0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2426-FA39-4FD3-BCC8-5F72E2A0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9143-0B33-4EB6-BD58-7AFE6C18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6611-20E5-4825-9230-D9CF9DF1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762D-A47A-46E5-8E0A-7C015BFB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31D9-3BF7-4990-AF02-9ABB93D7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F540-7209-4453-8C85-CB2D2A5D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A5C6-A373-4C5C-B662-BF1A81D1B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1312-9681-4A5B-8F7E-98BB201E5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7AA6-2045-415C-8A33-9B0776C0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37D8-87C5-4CA3-823E-14AC935A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2B80-2A53-4B81-AA90-38998D44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0497-C642-4F69-9E25-8127FD3B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3AED-49D1-41D6-89AF-3450390D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34FD-F29C-44EB-A965-603E3122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6E3E-8846-4BAD-B8EB-B43877AF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ff"/>
                </a:solidFill>
                <a:latin typeface="Majestic"/>
              </a:rPr>
              <a:t>Click to edit the title text format</a:t>
            </a: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04D0-2A5C-49F9-B469-5E8575B91E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ff"/>
                </a:solidFill>
                <a:latin typeface="Majestic"/>
              </a:rPr>
              <a:t>Click to edit the title text format</a:t>
            </a: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32A0-E776-4C35-84E2-72D0D90925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Зимние подвижные игры</a:t>
            </a:r>
            <a:endParaRPr b="0" lang="en-US" sz="7200" spc="-1" strike="noStrike">
              <a:solidFill>
                <a:srgbClr val="3366ff"/>
              </a:solidFill>
              <a:latin typeface="Majestic"/>
            </a:endParaRPr>
          </a:p>
        </p:txBody>
      </p:sp>
      <p:pic>
        <p:nvPicPr>
          <p:cNvPr id="83" name="Рисунок 5" descr="Без названия.jpg"/>
          <p:cNvPicPr/>
          <p:nvPr/>
        </p:nvPicPr>
        <p:blipFill>
          <a:blip r:embed="rId1"/>
          <a:stretch/>
        </p:blipFill>
        <p:spPr>
          <a:xfrm>
            <a:off x="4038480" y="3276720"/>
            <a:ext cx="403884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Скругленный прямоугольник 5"/>
          <p:cNvSpPr/>
          <p:nvPr/>
        </p:nvSpPr>
        <p:spPr>
          <a:xfrm>
            <a:off x="228600" y="304920"/>
            <a:ext cx="4267080" cy="6400800"/>
          </a:xfrm>
          <a:custGeom>
            <a:avLst/>
            <a:gdLst>
              <a:gd name="textAreaLeft" fmla="*/ 208080 w 4267080"/>
              <a:gd name="textAreaRight" fmla="*/ 4059000 w 4267080"/>
              <a:gd name="textAreaTop" fmla="*/ 208080 h 6400800"/>
              <a:gd name="textAreaBottom" fmla="*/ 6192720 h 6400800"/>
            </a:gdLst>
            <a:ahLst/>
            <a:rect l="textAreaLeft" t="textAreaTop" r="textAreaRight" b="textAreaBottom"/>
            <a:pathLst>
              <a:path w="21600" h="32400">
                <a:moveTo>
                  <a:pt x="3600" y="0"/>
                </a:moveTo>
                <a:arcTo wR="3600" hR="3600" stAng="16200000" swAng="-5400000"/>
                <a:lnTo>
                  <a:pt x="0" y="28800"/>
                </a:lnTo>
                <a:arcTo wR="3600" hR="3600" stAng="10800000" swAng="-5400000"/>
                <a:lnTo>
                  <a:pt x="18000" y="32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6"/>
          <p:cNvSpPr/>
          <p:nvPr/>
        </p:nvSpPr>
        <p:spPr>
          <a:xfrm>
            <a:off x="4724280" y="304920"/>
            <a:ext cx="4267440" cy="6400800"/>
          </a:xfrm>
          <a:custGeom>
            <a:avLst/>
            <a:gdLst>
              <a:gd name="textAreaLeft" fmla="*/ 208080 w 4267440"/>
              <a:gd name="textAreaRight" fmla="*/ 4059360 w 4267440"/>
              <a:gd name="textAreaTop" fmla="*/ 208080 h 6400800"/>
              <a:gd name="textAreaBottom" fmla="*/ 6192720 h 6400800"/>
            </a:gdLst>
            <a:ahLst/>
            <a:rect l="textAreaLeft" t="textAreaTop" r="textAreaRight" b="textAreaBottom"/>
            <a:pathLst>
              <a:path w="21600" h="32397">
                <a:moveTo>
                  <a:pt x="3600" y="0"/>
                </a:moveTo>
                <a:arcTo wR="3600" hR="3600" stAng="16200000" swAng="-5400000"/>
                <a:lnTo>
                  <a:pt x="0" y="28797"/>
                </a:lnTo>
                <a:arcTo wR="3600" hR="3600" stAng="10800000" swAng="-5400000"/>
                <a:lnTo>
                  <a:pt x="18000" y="3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 flipV="1" rot="10800000">
            <a:off x="380520" y="687600"/>
            <a:ext cx="3886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нежная корол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Цель. </a:t>
            </a:r>
            <a:r>
              <a:rPr b="0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Умение напрягать и расслаблять поочередно мышцы всего тела, координировать дви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Ход игры</a:t>
            </a:r>
            <a:r>
              <a:rPr b="0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. Сначала педагог, в дальнейшем ребенок, превращается в </a:t>
            </a:r>
            <a:r>
              <a:rPr b="0" i="1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Снежную королеву»</a:t>
            </a:r>
            <a:r>
              <a:rPr b="0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 и начинает постепенно </a:t>
            </a:r>
            <a:r>
              <a:rPr b="0" i="1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замораживать»</a:t>
            </a:r>
            <a:r>
              <a:rPr b="0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 всех детей, называя при этом определенные части тела (правая рука, левая рука, левая нога, голова, соответствующие мышцы напрягаются. Дети превращаются в ледяную скульптуру, которая начинает медленно таять под лучами солнца. (Расслабляются шея, руки, корпус, ноги, дети сначала опускаются на корточки, затем полностью расслабляются и ложатся на п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4876920" y="795240"/>
            <a:ext cx="40384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владей пал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Ход игры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Соревнуются 2 команды, по 3-6 человек в каждой. Игроки обеих команд рассчитываются по порядку и строятся в общую шеренгу. Одна команда располагается справа от ведущего, другая — слева. Лыжные палки все участники втыкают в снег позади себя. Ведущий берет одну из палок и кидает ее, словно копье, вперед. Палка, пролетев 10-15 м, падает и втыкается в снег. В это время ведущий называет любой номер, например 2. Игроки обеих команд, имеющие этот номер, стремительно бегут на лыжах к палке. Каждый стремится обогнать своего партнера, чтобы первым схватить палку и поднять ее вверх. Тот, кому это удастся, получает для своей команды 1 очко. Игроки возвращаются на свои места, а ведущий снова берет палку и бросает ее вперед, вызывая новый номер, и т. д. Выигрывает команда, набравшая большее число очков</a:t>
            </a:r>
            <a:r>
              <a:rPr b="0" lang="ru-RU" sz="1400" spc="-1" strike="noStrike">
                <a:solidFill>
                  <a:srgbClr val="111111"/>
                </a:solidFill>
                <a:latin typeface="Calibri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Скругленный прямоугольник 5"/>
          <p:cNvSpPr/>
          <p:nvPr/>
        </p:nvSpPr>
        <p:spPr>
          <a:xfrm>
            <a:off x="228600" y="304920"/>
            <a:ext cx="4267080" cy="6400800"/>
          </a:xfrm>
          <a:custGeom>
            <a:avLst/>
            <a:gdLst>
              <a:gd name="textAreaLeft" fmla="*/ 208080 w 4267080"/>
              <a:gd name="textAreaRight" fmla="*/ 4059000 w 4267080"/>
              <a:gd name="textAreaTop" fmla="*/ 208080 h 6400800"/>
              <a:gd name="textAreaBottom" fmla="*/ 6192720 h 6400800"/>
            </a:gdLst>
            <a:ahLst/>
            <a:rect l="textAreaLeft" t="textAreaTop" r="textAreaRight" b="textAreaBottom"/>
            <a:pathLst>
              <a:path w="21600" h="32400">
                <a:moveTo>
                  <a:pt x="3600" y="0"/>
                </a:moveTo>
                <a:arcTo wR="3600" hR="3600" stAng="16200000" swAng="-5400000"/>
                <a:lnTo>
                  <a:pt x="0" y="28800"/>
                </a:lnTo>
                <a:arcTo wR="3600" hR="3600" stAng="10800000" swAng="-5400000"/>
                <a:lnTo>
                  <a:pt x="18000" y="32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6"/>
          <p:cNvSpPr/>
          <p:nvPr/>
        </p:nvSpPr>
        <p:spPr>
          <a:xfrm>
            <a:off x="4724280" y="304920"/>
            <a:ext cx="4267440" cy="6400800"/>
          </a:xfrm>
          <a:custGeom>
            <a:avLst/>
            <a:gdLst>
              <a:gd name="textAreaLeft" fmla="*/ 208080 w 4267440"/>
              <a:gd name="textAreaRight" fmla="*/ 4059360 w 4267440"/>
              <a:gd name="textAreaTop" fmla="*/ 208080 h 6400800"/>
              <a:gd name="textAreaBottom" fmla="*/ 6192720 h 6400800"/>
            </a:gdLst>
            <a:ahLst/>
            <a:rect l="textAreaLeft" t="textAreaTop" r="textAreaRight" b="textAreaBottom"/>
            <a:pathLst>
              <a:path w="21600" h="32397">
                <a:moveTo>
                  <a:pt x="3600" y="0"/>
                </a:moveTo>
                <a:arcTo wR="3600" hR="3600" stAng="16200000" swAng="-5400000"/>
                <a:lnTo>
                  <a:pt x="0" y="28797"/>
                </a:lnTo>
                <a:arcTo wR="3600" hR="3600" stAng="10800000" swAng="-5400000"/>
                <a:lnTo>
                  <a:pt x="18000" y="3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304920" y="428400"/>
            <a:ext cx="419076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ручалоч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Ход игры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Играющие выбирают водящего, который становится салкой и должен осалить любого игрока. Особенность этой игры в том, что, как только водящий начинает настигать кого-то, любой игрок может выручить товарища, пробежав между ними и преследователем. И тогда водящий — салка — обязан бежать за ним, но и того могут выручить товарищи таким же образом. Игрок, которого осалит салка, меняется с ним ролями, и игра продолжается с новым водящим</a:t>
            </a:r>
            <a:r>
              <a:rPr b="0" lang="ru-RU" sz="1400" spc="-1" strike="noStrike">
                <a:solidFill>
                  <a:srgbClr val="111111"/>
                </a:solidFill>
                <a:latin typeface="Calibri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4876920" y="500040"/>
            <a:ext cx="42670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негов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Среди нашего дв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Снеговик стоял вче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Сами мы его слепил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Нос - морковку не забыл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А сегодня за окн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Потекли ручьи кругом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</a:t>
            </a: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Ход игры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дети обыгрывают стихотворение, а затем показывают, как таял снегови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800600" y="3446280"/>
            <a:ext cx="38098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имушка-зима                                                </a:t>
            </a: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Ход игры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По команде дети выполняют следующие </a:t>
            </a: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задания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 </a:t>
            </a:r>
            <a:r>
              <a:rPr b="0" i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Мороз»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 - стоять,  </a:t>
            </a:r>
            <a:r>
              <a:rPr b="0" i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Вьюга»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 - бег на месте, </a:t>
            </a:r>
            <a:r>
              <a:rPr b="0" i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Метель»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 - присесть, </a:t>
            </a:r>
            <a:r>
              <a:rPr b="0" i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Снег»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 - кружиться на месте. Воспитатель при этом может показывать другие движения, например, говорит </a:t>
            </a:r>
            <a:r>
              <a:rPr b="0" i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Снег»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, а сам приседает. Выигрывает тот, кто не сделает ни одной ошиб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80880" y="4033080"/>
            <a:ext cx="4114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ноцветные снежинки                                   </a:t>
            </a: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Ход игры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Дети делятся на команды. У каждого участника команды в руках цветная снежинка. По сигналу первый бежит к сугробу, где стоит флажок такого же цвета, как и снежинка у него в руках, прищепкой прикрепляет ее к флажку и возвращается обратно. Выигрывает команда, игроки которой первыми прикрепят свои снежин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Скругленный прямоугольник 5"/>
          <p:cNvSpPr/>
          <p:nvPr/>
        </p:nvSpPr>
        <p:spPr>
          <a:xfrm>
            <a:off x="228600" y="304920"/>
            <a:ext cx="4267080" cy="6400800"/>
          </a:xfrm>
          <a:custGeom>
            <a:avLst/>
            <a:gdLst>
              <a:gd name="textAreaLeft" fmla="*/ 208080 w 4267080"/>
              <a:gd name="textAreaRight" fmla="*/ 4059000 w 4267080"/>
              <a:gd name="textAreaTop" fmla="*/ 208080 h 6400800"/>
              <a:gd name="textAreaBottom" fmla="*/ 6192720 h 6400800"/>
            </a:gdLst>
            <a:ahLst/>
            <a:rect l="textAreaLeft" t="textAreaTop" r="textAreaRight" b="textAreaBottom"/>
            <a:pathLst>
              <a:path w="21600" h="32400">
                <a:moveTo>
                  <a:pt x="3600" y="0"/>
                </a:moveTo>
                <a:arcTo wR="3600" hR="3600" stAng="16200000" swAng="-5400000"/>
                <a:lnTo>
                  <a:pt x="0" y="28800"/>
                </a:lnTo>
                <a:arcTo wR="3600" hR="3600" stAng="10800000" swAng="-5400000"/>
                <a:lnTo>
                  <a:pt x="18000" y="32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6"/>
          <p:cNvSpPr/>
          <p:nvPr/>
        </p:nvSpPr>
        <p:spPr>
          <a:xfrm>
            <a:off x="4724280" y="304920"/>
            <a:ext cx="4267440" cy="6400800"/>
          </a:xfrm>
          <a:custGeom>
            <a:avLst/>
            <a:gdLst>
              <a:gd name="textAreaLeft" fmla="*/ 208080 w 4267440"/>
              <a:gd name="textAreaRight" fmla="*/ 4059360 w 4267440"/>
              <a:gd name="textAreaTop" fmla="*/ 208080 h 6400800"/>
              <a:gd name="textAreaBottom" fmla="*/ 6192720 h 6400800"/>
            </a:gdLst>
            <a:ahLst/>
            <a:rect l="textAreaLeft" t="textAreaTop" r="textAreaRight" b="textAreaBottom"/>
            <a:pathLst>
              <a:path w="21600" h="32397">
                <a:moveTo>
                  <a:pt x="3600" y="0"/>
                </a:moveTo>
                <a:arcTo wR="3600" hR="3600" stAng="16200000" swAng="-5400000"/>
                <a:lnTo>
                  <a:pt x="0" y="28797"/>
                </a:lnTo>
                <a:arcTo wR="3600" hR="3600" stAng="10800000" swAng="-5400000"/>
                <a:lnTo>
                  <a:pt x="18000" y="3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"/>
          <p:cNvSpPr/>
          <p:nvPr/>
        </p:nvSpPr>
        <p:spPr>
          <a:xfrm>
            <a:off x="304920" y="-100440"/>
            <a:ext cx="41148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йцы и вол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Ход игры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Одного из играющих назначают волком, остальные изображают зайцев. Зайцы располагаются на одной стороне площадки, волк на противоположн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Зайцы скачут </a:t>
            </a:r>
            <a:r>
              <a:rPr b="0" i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Скок-скок-ско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На заснеженный луж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Кору щиплют, кушаю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Осторожно слушают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Не идет ли вол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Зайцы разбегаются по площадке. Прыгают на двух ногах, присаживаются, оглядываются в поисках волка. Воспитатель произносит слово </a:t>
            </a:r>
            <a:r>
              <a:rPr b="0" i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Волк»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, и волк выходит из укрытия и бежит за зайцами, стараясь их поймать, коснуться. Присевшего зайца волк не может осалить. Пойманных зайцев он отводит в сторону. После того как были пойманы 2-3 зайца, выбирается другой вол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4800600" y="689040"/>
            <a:ext cx="403848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претный кр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Ход игры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На снегу рисуется круг. Дети, взявшись за руки, становятся вокруг него. По первому сигналу водящего они передвигаются хороводом в ту или иную сторону. По второму сигналу все, не разъединяя рук, стараются кого-либо втянуть внутрь круга. Кто не удержался и заступил за черту круга, выходит из игры. Ведущий опять подает сигнал, и дети снова ведут хоровод. Играют до тех пор, пока размеры круга позволяют еще браться за ру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нежиночки-пушиноч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Ход игры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Дети движутся гурьбой вокруг снеговика, повертываясь одновременно и вокруг себя.. Взрослый </a:t>
            </a: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говорит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Снежиночки-  пушиночки устали на лету, кружиться перестали, присели отдохнуть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Играющие останавливаются, приседают. Отдохнув немного, возобновляют игр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Скругленный прямоугольник 5"/>
          <p:cNvSpPr/>
          <p:nvPr/>
        </p:nvSpPr>
        <p:spPr>
          <a:xfrm>
            <a:off x="228600" y="304920"/>
            <a:ext cx="4267080" cy="6400800"/>
          </a:xfrm>
          <a:custGeom>
            <a:avLst/>
            <a:gdLst>
              <a:gd name="textAreaLeft" fmla="*/ 208080 w 4267080"/>
              <a:gd name="textAreaRight" fmla="*/ 4059000 w 4267080"/>
              <a:gd name="textAreaTop" fmla="*/ 208080 h 6400800"/>
              <a:gd name="textAreaBottom" fmla="*/ 6192720 h 6400800"/>
            </a:gdLst>
            <a:ahLst/>
            <a:rect l="textAreaLeft" t="textAreaTop" r="textAreaRight" b="textAreaBottom"/>
            <a:pathLst>
              <a:path w="21600" h="32400">
                <a:moveTo>
                  <a:pt x="3600" y="0"/>
                </a:moveTo>
                <a:arcTo wR="3600" hR="3600" stAng="16200000" swAng="-5400000"/>
                <a:lnTo>
                  <a:pt x="0" y="28800"/>
                </a:lnTo>
                <a:arcTo wR="3600" hR="3600" stAng="10800000" swAng="-5400000"/>
                <a:lnTo>
                  <a:pt x="18000" y="32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6"/>
          <p:cNvSpPr/>
          <p:nvPr/>
        </p:nvSpPr>
        <p:spPr>
          <a:xfrm>
            <a:off x="4724280" y="304920"/>
            <a:ext cx="4267440" cy="6400800"/>
          </a:xfrm>
          <a:custGeom>
            <a:avLst/>
            <a:gdLst>
              <a:gd name="textAreaLeft" fmla="*/ 208080 w 4267440"/>
              <a:gd name="textAreaRight" fmla="*/ 4059360 w 4267440"/>
              <a:gd name="textAreaTop" fmla="*/ 208080 h 6400800"/>
              <a:gd name="textAreaBottom" fmla="*/ 6192720 h 6400800"/>
            </a:gdLst>
            <a:ahLst/>
            <a:rect l="textAreaLeft" t="textAreaTop" r="textAreaRight" b="textAreaBottom"/>
            <a:pathLst>
              <a:path w="21600" h="32397">
                <a:moveTo>
                  <a:pt x="3600" y="0"/>
                </a:moveTo>
                <a:arcTo wR="3600" hR="3600" stAng="16200000" swAng="-5400000"/>
                <a:lnTo>
                  <a:pt x="0" y="28797"/>
                </a:lnTo>
                <a:arcTo wR="3600" hR="3600" stAng="10800000" swAng="-5400000"/>
                <a:lnTo>
                  <a:pt x="18000" y="3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304920" y="2333160"/>
            <a:ext cx="4114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304920" y="422280"/>
            <a:ext cx="42670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има пришл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Ход игры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Дети разбегаются по площадке и прячутся, присаживаясь на корточ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за снежными валами, горкой, снеговиком и т. п. Взрослый </a:t>
            </a: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говорит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 </a:t>
            </a:r>
            <a:r>
              <a:rPr b="0" i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Сегодня тепло, солнышко светит, идите гулять!»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 Дети выбегают из укрытий и разбегаются по площадке. На </a:t>
            </a: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сигнал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 </a:t>
            </a:r>
            <a:r>
              <a:rPr b="0" i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Зима пришла, холодно! Скорей домой!»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 — все бегут на свои места и снова прячу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нежинки и ве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Ход игры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Дети собираются в кружок и берутся за руки. По сигналу </a:t>
            </a: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взрослого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 </a:t>
            </a:r>
            <a:r>
              <a:rPr b="0" i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Ветер задул сильный, сильный. Разлетайтесь, снежинки!»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 — разбегаются в разных направлениях по площадке, расправляют руки в стороны, покачиваются, кружатся. Взрослый </a:t>
            </a: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говорит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 </a:t>
            </a:r>
            <a:r>
              <a:rPr b="0" i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Ветер стих! Возвращайтесь, снежинки, в кружок»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. Дети сбегаются в кружок и берутся за ру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4724280" y="363960"/>
            <a:ext cx="4419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ро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од игр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 помощью считалки выбирается Дед Моро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Ты зеленый, ты красны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Ты в шубе, ты в кушак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У тебя синий нос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Это ты, Дед Мороз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Все дети разбегаются, а Дед Мороз старается дотронуться до любого игрока и заморозить его. Замороженный стоит неподвижно в любой поз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Правила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разбегаться можно только после окончания считалки. В момент заморозки можно принять любую позу. Выигрывает тот, кто ни разу не попался Деду Мороз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4952880" y="4480560"/>
            <a:ext cx="3962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овишки - елоч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Ход игры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Дети произвольно располагаются на площадке, ловишка стоит в середине. По </a:t>
            </a: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сигналу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 </a:t>
            </a:r>
            <a:r>
              <a:rPr b="0" i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Раз, два, три - лови!»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 - все разбегаются по площадке, увертываются от ловиш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Скругленный прямоугольник 5"/>
          <p:cNvSpPr/>
          <p:nvPr/>
        </p:nvSpPr>
        <p:spPr>
          <a:xfrm>
            <a:off x="228600" y="304920"/>
            <a:ext cx="4267080" cy="6400800"/>
          </a:xfrm>
          <a:custGeom>
            <a:avLst/>
            <a:gdLst>
              <a:gd name="textAreaLeft" fmla="*/ 208080 w 4267080"/>
              <a:gd name="textAreaRight" fmla="*/ 4059000 w 4267080"/>
              <a:gd name="textAreaTop" fmla="*/ 208080 h 6400800"/>
              <a:gd name="textAreaBottom" fmla="*/ 6192720 h 6400800"/>
            </a:gdLst>
            <a:ahLst/>
            <a:rect l="textAreaLeft" t="textAreaTop" r="textAreaRight" b="textAreaBottom"/>
            <a:pathLst>
              <a:path w="21600" h="32400">
                <a:moveTo>
                  <a:pt x="3600" y="0"/>
                </a:moveTo>
                <a:arcTo wR="3600" hR="3600" stAng="16200000" swAng="-5400000"/>
                <a:lnTo>
                  <a:pt x="0" y="28800"/>
                </a:lnTo>
                <a:arcTo wR="3600" hR="3600" stAng="10800000" swAng="-5400000"/>
                <a:lnTo>
                  <a:pt x="18000" y="32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6"/>
          <p:cNvSpPr/>
          <p:nvPr/>
        </p:nvSpPr>
        <p:spPr>
          <a:xfrm>
            <a:off x="4724280" y="304920"/>
            <a:ext cx="4267440" cy="6400800"/>
          </a:xfrm>
          <a:custGeom>
            <a:avLst/>
            <a:gdLst>
              <a:gd name="textAreaLeft" fmla="*/ 208080 w 4267440"/>
              <a:gd name="textAreaRight" fmla="*/ 4059360 w 4267440"/>
              <a:gd name="textAreaTop" fmla="*/ 208080 h 6400800"/>
              <a:gd name="textAreaBottom" fmla="*/ 6192720 h 6400800"/>
            </a:gdLst>
            <a:ahLst/>
            <a:rect l="textAreaLeft" t="textAreaTop" r="textAreaRight" b="textAreaBottom"/>
            <a:pathLst>
              <a:path w="21600" h="32397">
                <a:moveTo>
                  <a:pt x="3600" y="0"/>
                </a:moveTo>
                <a:arcTo wR="3600" hR="3600" stAng="16200000" swAng="-5400000"/>
                <a:lnTo>
                  <a:pt x="0" y="28797"/>
                </a:lnTo>
                <a:arcTo wR="3600" hR="3600" stAng="10800000" swAng="-5400000"/>
                <a:lnTo>
                  <a:pt x="18000" y="3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"/>
          <p:cNvSpPr/>
          <p:nvPr/>
        </p:nvSpPr>
        <p:spPr>
          <a:xfrm>
            <a:off x="304920" y="2333160"/>
            <a:ext cx="4114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4800600" y="3365640"/>
            <a:ext cx="40384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indent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304920" y="434520"/>
            <a:ext cx="3886200" cy="42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имние заба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: Дети стоят в кругу. Взрослый произносит 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ов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ьмём снега мы немножк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Снежки слепим мы в ладошк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Дружно ими по бросались 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Наши руки и размяли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А теперь пора твори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Бабу снежную лепи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Ком за комом покатил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Друг на друга водрузи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Сверху третий, малый 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Снег стряхнули с рук потом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Правила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дети за воспитателем повторяют стихотворение и выполняют движения согласно тексту</a:t>
            </a:r>
            <a:r>
              <a:rPr b="0" lang="ru-RU" sz="1400" spc="-1" strike="noStrike">
                <a:solidFill>
                  <a:srgbClr val="111111"/>
                </a:solidFill>
                <a:latin typeface="Calibri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4800600" y="560880"/>
            <a:ext cx="40384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нежная карус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Ход игры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Взявшись за руки, дети образуют круг вокруг снеговика и изображаю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снежинки. По сигналу взрослого они идут сначала медленно, потом все быстрее, в конце концов бегут. После того как играющие пробегут по кругу несколько раз, взрослый предлагает им изменить направление движения, </a:t>
            </a: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говоря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 </a:t>
            </a:r>
            <a:r>
              <a:rPr b="0" i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Ветер изменился, полетели снежинки в другую сторону»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. Играющие замедляют движение, останавливаются и начинают двигаться в противоположном направлении. Сперва они двигаются медленно, а потом все быстрее и быстрее, пока взрослый не </a:t>
            </a: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скажет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 </a:t>
            </a:r>
            <a:r>
              <a:rPr b="0" i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Совсем стих ветер, снежинки спокойно падают на землю»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. Движение снежной карусели замедляется, дети останавливаются и отпускают ру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04920" y="4519080"/>
            <a:ext cx="4114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телица                                          </a:t>
            </a: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Ход игры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Все дети встают друг за другом и берутся за руки. Первым стоит взрослый - он метелица. Метелица медленно пробегает между снежными постройками, валами, санками змейкой или обегает их, ведя за собой. Ребята стараются не разорвать цепочку и не натыкаться на предме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Скругленный прямоугольник 5"/>
          <p:cNvSpPr/>
          <p:nvPr/>
        </p:nvSpPr>
        <p:spPr>
          <a:xfrm>
            <a:off x="228600" y="304920"/>
            <a:ext cx="4267080" cy="6400800"/>
          </a:xfrm>
          <a:custGeom>
            <a:avLst/>
            <a:gdLst>
              <a:gd name="textAreaLeft" fmla="*/ 208080 w 4267080"/>
              <a:gd name="textAreaRight" fmla="*/ 4059000 w 4267080"/>
              <a:gd name="textAreaTop" fmla="*/ 208080 h 6400800"/>
              <a:gd name="textAreaBottom" fmla="*/ 6192720 h 6400800"/>
            </a:gdLst>
            <a:ahLst/>
            <a:rect l="textAreaLeft" t="textAreaTop" r="textAreaRight" b="textAreaBottom"/>
            <a:pathLst>
              <a:path w="21600" h="32400">
                <a:moveTo>
                  <a:pt x="3600" y="0"/>
                </a:moveTo>
                <a:arcTo wR="3600" hR="3600" stAng="16200000" swAng="-5400000"/>
                <a:lnTo>
                  <a:pt x="0" y="28800"/>
                </a:lnTo>
                <a:arcTo wR="3600" hR="3600" stAng="10800000" swAng="-5400000"/>
                <a:lnTo>
                  <a:pt x="18000" y="32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6"/>
          <p:cNvSpPr/>
          <p:nvPr/>
        </p:nvSpPr>
        <p:spPr>
          <a:xfrm>
            <a:off x="4724280" y="304920"/>
            <a:ext cx="4267440" cy="6400800"/>
          </a:xfrm>
          <a:custGeom>
            <a:avLst/>
            <a:gdLst>
              <a:gd name="textAreaLeft" fmla="*/ 208080 w 4267440"/>
              <a:gd name="textAreaRight" fmla="*/ 4059360 w 4267440"/>
              <a:gd name="textAreaTop" fmla="*/ 208080 h 6400800"/>
              <a:gd name="textAreaBottom" fmla="*/ 6192720 h 6400800"/>
            </a:gdLst>
            <a:ahLst/>
            <a:rect l="textAreaLeft" t="textAreaTop" r="textAreaRight" b="textAreaBottom"/>
            <a:pathLst>
              <a:path w="21600" h="32397">
                <a:moveTo>
                  <a:pt x="3600" y="0"/>
                </a:moveTo>
                <a:arcTo wR="3600" hR="3600" stAng="16200000" swAng="-5400000"/>
                <a:lnTo>
                  <a:pt x="0" y="28797"/>
                </a:lnTo>
                <a:arcTo wR="3600" hR="3600" stAng="10800000" swAng="-5400000"/>
                <a:lnTo>
                  <a:pt x="18000" y="3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"/>
          <p:cNvSpPr/>
          <p:nvPr/>
        </p:nvSpPr>
        <p:spPr>
          <a:xfrm>
            <a:off x="304920" y="2333160"/>
            <a:ext cx="4114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4800600" y="3365640"/>
            <a:ext cx="40384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indent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304920" y="603720"/>
            <a:ext cx="40384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тейн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Ход игры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Один из играющих выбирается затейником, он становится в середину круга. Остальные дети идут по кругу, взявшись за руки. Они </a:t>
            </a: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произносят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Ровным круго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Друг за друго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Мы идем за шагом ша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Стой на мест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Дружно вмес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Сделаем. вот так»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Опуская руки, играющие останавливаются. Затейник показывает какое-нибудь движение, имитирующее позу конькобежца, шаг лыжника, вращение фигуриста, удар клюшкой или действия вратаря в хоккее, а также любое другое действ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4876920" y="559440"/>
            <a:ext cx="4114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пади в ведр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Ход игры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Дети становятся полукругом вокруг небольшого ведёрка, у каждого  в руках снежки. Дети бросают снежки в ведёрко с расстояния 1,5 – 2 м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Указание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 детей надо расставлять только с одной стороны, чтобы они не попали друг в друга. Группа должна быть небольшой – 2-3 челове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7"/>
          <p:cNvSpPr/>
          <p:nvPr/>
        </p:nvSpPr>
        <p:spPr>
          <a:xfrm>
            <a:off x="4800600" y="3505320"/>
            <a:ext cx="4038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регись заморож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играющие собираются на одной стороне площадки, взрослый с ними. «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егайте, берегитесь, догоню и заморож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 - говорит он. Дети бегут к противоположной стороне площадки, чтобы спрятаться в «дом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Скругленный прямоугольник 5"/>
          <p:cNvSpPr/>
          <p:nvPr/>
        </p:nvSpPr>
        <p:spPr>
          <a:xfrm>
            <a:off x="228600" y="304920"/>
            <a:ext cx="4267080" cy="6400800"/>
          </a:xfrm>
          <a:custGeom>
            <a:avLst/>
            <a:gdLst>
              <a:gd name="textAreaLeft" fmla="*/ 208080 w 4267080"/>
              <a:gd name="textAreaRight" fmla="*/ 4059000 w 4267080"/>
              <a:gd name="textAreaTop" fmla="*/ 208080 h 6400800"/>
              <a:gd name="textAreaBottom" fmla="*/ 6192720 h 6400800"/>
            </a:gdLst>
            <a:ahLst/>
            <a:rect l="textAreaLeft" t="textAreaTop" r="textAreaRight" b="textAreaBottom"/>
            <a:pathLst>
              <a:path w="21600" h="32400">
                <a:moveTo>
                  <a:pt x="3600" y="0"/>
                </a:moveTo>
                <a:arcTo wR="3600" hR="3600" stAng="16200000" swAng="-5400000"/>
                <a:lnTo>
                  <a:pt x="0" y="28800"/>
                </a:lnTo>
                <a:arcTo wR="3600" hR="3600" stAng="10800000" swAng="-5400000"/>
                <a:lnTo>
                  <a:pt x="18000" y="32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кругленный прямоугольник 6"/>
          <p:cNvSpPr/>
          <p:nvPr/>
        </p:nvSpPr>
        <p:spPr>
          <a:xfrm>
            <a:off x="4724280" y="304920"/>
            <a:ext cx="4267440" cy="6400800"/>
          </a:xfrm>
          <a:custGeom>
            <a:avLst/>
            <a:gdLst>
              <a:gd name="textAreaLeft" fmla="*/ 208080 w 4267440"/>
              <a:gd name="textAreaRight" fmla="*/ 4059360 w 4267440"/>
              <a:gd name="textAreaTop" fmla="*/ 208080 h 6400800"/>
              <a:gd name="textAreaBottom" fmla="*/ 6192720 h 6400800"/>
            </a:gdLst>
            <a:ahLst/>
            <a:rect l="textAreaLeft" t="textAreaTop" r="textAreaRight" b="textAreaBottom"/>
            <a:pathLst>
              <a:path w="21600" h="32397">
                <a:moveTo>
                  <a:pt x="3600" y="0"/>
                </a:moveTo>
                <a:arcTo wR="3600" hR="3600" stAng="16200000" swAng="-5400000"/>
                <a:lnTo>
                  <a:pt x="0" y="28797"/>
                </a:lnTo>
                <a:arcTo wR="3600" hR="3600" stAng="10800000" swAng="-5400000"/>
                <a:lnTo>
                  <a:pt x="18000" y="3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"/>
          <p:cNvSpPr/>
          <p:nvPr/>
        </p:nvSpPr>
        <p:spPr>
          <a:xfrm>
            <a:off x="304920" y="2333160"/>
            <a:ext cx="4114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4800600" y="3365640"/>
            <a:ext cx="40384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indent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"/>
          <p:cNvSpPr/>
          <p:nvPr/>
        </p:nvSpPr>
        <p:spPr>
          <a:xfrm>
            <a:off x="380880" y="253440"/>
            <a:ext cx="411480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лые медве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Ход игры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На игровой площадке отмечается участок, изображающий льдину. На льдине – два </a:t>
            </a:r>
            <a:r>
              <a:rPr b="0" i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белых медведя»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 – водящие. Они могут произносить следующие </a:t>
            </a: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слова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Мы плывем на льдин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Как на бригантин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По седым суровым мор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Кто не бережетс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Не остережетс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Тот, наверняка уж, попадется н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Раз-два-три – беги!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С последними словами остальные играющие разбегаются по площадке. Медведи выходят на охоту, держась за руки. Настигнув кого-нибудь, они стараются обхватить ребенка обеими свободными руками. Если медведям это удается, то пойманный сам становится медвежонком и присоединяется к водящим. Теперь медведи продолжают  </a:t>
            </a:r>
            <a:r>
              <a:rPr b="0" i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охоту»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 втроем.             Выигравшими считаются те дети, которым удается дольше всех не попасться в лапы медвежьей семей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7"/>
          <p:cNvSpPr/>
          <p:nvPr/>
        </p:nvSpPr>
        <p:spPr>
          <a:xfrm>
            <a:off x="4800600" y="304920"/>
            <a:ext cx="4038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йди Снегуроч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ядите куклу Снегурочкой и спрячьте ее на участке так, чтобы никто из детей не знал об э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прогулки скажите детям о том, что сегодня к ним обещала прийти в гости Снегурочка, она хочет поиграть и поплясать с ними. Наверное, она уже пришла и спряталась от ребят, чтобы они ее поискали. Найдя Снегурочку, дети водят хороводы с ней, приплясывают, кружатся пар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8"/>
          <p:cNvSpPr/>
          <p:nvPr/>
        </p:nvSpPr>
        <p:spPr>
          <a:xfrm>
            <a:off x="4724280" y="3352680"/>
            <a:ext cx="41911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пляши и покружись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а разбиваются на пары и берутся за руки, стоя лицом друг к другу. По сигналу взрослого: «Попляшем» - они приседают и приплясывают.   Через   некоторое время   взрослый говорит: «А теперь покружимся!» - и ребята кружатся в парах. Когда же он произнесет: «Стой!», дети должны остановиться и, продолжая держаться за руки, устоять на одной ноге, отведя другую наза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ша</cp:lastModifiedBy>
  <dcterms:modified xsi:type="dcterms:W3CDTF">2019-01-05T20:10:50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