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A34-CAD0-46B5-948E-6B0D44EF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D1F-11E9-413A-9AA4-9473832D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246-A580-4F88-85EC-EE09EA1A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B40-9AD6-49FD-8789-8E471595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3164-08CF-4D5E-9F34-146C4307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B60A-BAD5-4CA2-B15C-7BDA7708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8564-3463-423B-9DE8-B6EE7112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09DF-AD63-4956-8518-34187572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4351-58A7-4536-812B-15AA1278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8857-D023-417E-AECE-9F067258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B649-5823-4501-9D05-9DC5C057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1B2-4C04-490F-9A51-AA6C3DF2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ED09-C651-4F49-BE59-D5BC5AC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82EE-4551-4A1A-9ACD-18FCE7AC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8230-979C-44AB-B5B0-0AF5A0D1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8572-E1ED-47F1-B3BC-615246C0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B84F-B67C-43F2-9BC2-37C26EDB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D28-0B8D-4D01-8E9C-CAD58357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659-919F-4B0B-B167-4BA42F44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EE0-DC93-4CA1-A3E7-FAF0AA3C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40B-2EEB-4DFB-935B-E312BDE1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AE2-92EC-45A1-8A17-481138F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1FB-D7A0-44BF-9596-6E977ED0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3A3-C697-4532-920C-797FB53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51FE-B149-4133-8D0A-05646162D1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F802-91B2-4764-ADB3-25BDAD3873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Зимние подвижные игры</a:t>
            </a:r>
            <a:endParaRPr b="0" lang="en-US" sz="72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83" name="Рисунок 5" descr="Без названия.jpg"/>
          <p:cNvPicPr/>
          <p:nvPr/>
        </p:nvPicPr>
        <p:blipFill>
          <a:blip r:embed="rId1"/>
          <a:stretch/>
        </p:blipFill>
        <p:spPr>
          <a:xfrm>
            <a:off x="4038480" y="3276720"/>
            <a:ext cx="40388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 flipV="1" rot="10800000">
            <a:off x="380520" y="687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ная коро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. 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ние напрягать и расслаблять поочередно мышцы всего тела, координировать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Сначала педагог, в дальнейшем ребенок, превращается в </a:t>
            </a:r>
            <a:r>
              <a:rPr b="0" i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нежную королеву»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и начинает постепенно </a:t>
            </a:r>
            <a:r>
              <a:rPr b="0" i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мораживать»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всех детей, называя при этом определенные части тела (правая рука, левая рука, левая нога, голова, соответствующие мышцы напрягаются. Дети превращаются в ледяную скульптуру, которая начинает медленно таять под лучами солнца. (Расслабляются шея, руки, корпус, ноги, дети сначала опускаются на корточки, затем полностью расслабляются и ложатся на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876920" y="795240"/>
            <a:ext cx="40384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ладей пал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Соревнуются 2 команды, по 3-6 человек в каждой. Игроки обеих команд рассчитываются по порядку и строятся в общую шеренгу. Одна команда располагается справа от ведущего, другая — слева. Лыжные палки все участники втыкают в снег позади себя. Ведущий берет одну из палок и кидает ее, словно копье, вперед. Палка, пролетев 10-15 м, падает и втыкается в снег. В это время ведущий называет любой номер, например 2. Игроки обеих команд, имеющие этот номер, стремительно бегут на лыжах к палке. Каждый стремится обогнать своего партнера, чтобы первым схватить палку и поднять ее вверх. Тот, кому это удастся, получает для своей команды 1 очко. Игроки возвращаются на свои места, а ведущий снова берет палку и бросает ее вперед, вызывая новый номер, и т. д. Выигрывает команда, набравшая большее число очков</a:t>
            </a: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04920" y="428400"/>
            <a:ext cx="41907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учал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Играющие выбирают водящего, который становится салкой и должен осалить любого игрока. Особенность этой игры в том, что, как только водящий начинает настигать кого-то, любой игрок может выручить товарища, пробежав между ними и преследователем. И тогда водящий — салка — обязан бежать за ним, но и того могут выручить товарищи таким же образом. Игрок, которого осалит салка, меняется с ним ролями, и игра продолжается с новым водящим</a:t>
            </a: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876920" y="500040"/>
            <a:ext cx="4267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гов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реди нашего дв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неговик стоял вч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ами мы его слепи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ос - морковку не за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 сегодня за ок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отекли ручьи круго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обыгрывают стихотворение, а затем показывают, как таял снегов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800600" y="3446280"/>
            <a:ext cx="3809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мушка-зима                          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о команде дети выполняют следующие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задания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Мороз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стоять,  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ьюга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бег на месте,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Метель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присесть,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нег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кружиться на месте. Воспитатель при этом может показывать другие движения, например, говорит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нег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 а сам приседает. Выигрывает тот, кто не сделает ни одной ошиб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0880" y="4033080"/>
            <a:ext cx="41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цветные снежинки             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делятся на команды. У каждого участника команды в руках цветная снежинка. По сигналу первый бежит к сугробу, где стоит флажок такого же цвета, как и снежинка у него в руках, прищепкой прикрепляет ее к флажку и возвращается обратно. Выигрывает команда, игроки которой первыми прикрепят свои снежи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04920" y="-100440"/>
            <a:ext cx="4114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йцы и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Одного из играющих назначают волком, остальные изображают зайцев. Зайцы располагаются на одной стороне площадки, волк на противополож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йцы скачут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кок-скок-ск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 заснеженный луж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ору щиплют, кушаю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сторожно слушают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идет ли вол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айцы разбегаются по площадке. Прыгают на двух ногах, присаживаются, оглядываются в поисках волка. Воспитатель произносит слово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олк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 и волк выходит из укрытия и бежит за зайцами, стараясь их поймать, коснуться. Присевшего зайца волк не может осалить. Пойманных зайцев он отводит в сторону. После того как были пойманы 2-3 зайца, выбирается другой вол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800600" y="689040"/>
            <a:ext cx="40384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ретный кр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На снегу рисуется круг. Дети, взявшись за руки, становятся вокруг него. По первому сигналу водящего они передвигаются хороводом в ту или иную сторону. По второму сигналу все, не разъединяя рук, стараются кого-либо втянуть внутрь круга. Кто не удержался и заступил за черту круга, выходит из игры. Ведущий опять подает сигнал, и дети снова ведут хоровод. Играют до тех пор, пока размеры круга позволяют еще браться за р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иночки-пушин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движутся гурьбой вокруг снеговика, повертываясь одновременно и вокруг себя.. Взрослый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и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нежиночки-  пушиночки устали на лету, кружиться перестали, присели отдохнут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грающие останавливаются, приседают. Отдохнув немного, возобновляют иг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304920" y="23331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04920" y="422280"/>
            <a:ext cx="42670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ма пришл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разбегаются по площадке и прячутся, присаживаясь на кор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а снежными валами, горкой, снеговиком и т. п. Взрослый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и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егодня тепло, солнышко светит, идите гулять!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Дети выбегают из укрытий и разбегаются по площадке. На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игна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има пришла, холодно! Скорей домой!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— все бегут на свои места и снова прячу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инки и ве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собираются в кружок и берутся за руки. По сигналу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взрослого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етер задул сильный, сильный. Разлетайтесь, снежинки!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— разбегаются в разных направлениях по площадке, расправляют руки в стороны, покачиваются, кружатся. Взрослый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и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етер стих! Возвращайтесь, снежинки, в кружок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Дети сбегаются в кружок и берутся за р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724280" y="363960"/>
            <a:ext cx="4419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 помощью считалки выбирается Дед Моро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Ты зеленый, ты крас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Ты в шубе, ты в куша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 тебя синий но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Это ты, Дед Мороз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се дети разбегаются, а Дед Мороз старается дотронуться до любого игрока и заморозить его. Замороженный стоит неподвижно в любой по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авила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разбегаться можно только после окончания считалки. В момент заморозки можно принять любую позу. Выигрывает тот, кто ни разу не попался Деду Мор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952880" y="4480560"/>
            <a:ext cx="3962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вишки - ел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произвольно располагаются на площадке, ловишка стоит в середине. По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игналу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Раз, два, три - лови!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все разбегаются по площадке, увертываются от ловиш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04920" y="23331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800600" y="3365640"/>
            <a:ext cx="4038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04920" y="434520"/>
            <a:ext cx="388620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мние заба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Дети стоят в кругу. Взрослый произносит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ём снега мы немножк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нежки слепим мы в ладош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ружно ими по бросались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ши руки и размя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 теперь пора твор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Бабу снежную леп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ом за комом покати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руг на друга водруз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верху третий, малый 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нег стряхнули с рук пото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авила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за воспитателем повторяют стихотворение и выполняют движения согласно тексту</a:t>
            </a: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800600" y="560880"/>
            <a:ext cx="40384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ная карус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Взявшись за руки, дети образуют круг вокруг снеговика и изобража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нежинки. По сигналу взрослого они идут сначала медленно, потом все быстрее, в конце концов бегут. После того как играющие пробегут по кругу несколько раз, взрослый предлагает им изменить направление движения,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я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етер изменился, полетели снежинки в другую сторону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Играющие замедляют движение, останавливаются и начинают двигаться в противоположном направлении. Сперва они двигаются медленно, а потом все быстрее и быстрее, пока взрослый не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каже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овсем стих ветер, снежинки спокойно падают на землю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Движение снежной карусели замедляется, дети останавливаются и отпускают р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04920" y="4519080"/>
            <a:ext cx="4114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елица                    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Все дети встают друг за другом и берутся за руки. Первым стоит взрослый - он метелица. Метелица медленно пробегает между снежными постройками, валами, санками змейкой или обегает их, ведя за собой. Ребята стараются не разорвать цепочку и не натыкаться на предм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304920" y="23331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800600" y="3365640"/>
            <a:ext cx="4038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04920" y="603720"/>
            <a:ext cx="4038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тей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Один из играющих выбирается затейником, он становится в середину круга. Остальные дети идут по кругу, взявшись за руки. Они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оизнося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Ровным круг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руг за друг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ы идем за шагом ша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той на мес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ружно в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делаем. вот так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пуская руки, играющие останавливаются. Затейник показывает какое-нибудь движение, имитирующее позу конькобежца, шаг лыжника, вращение фигуриста, удар клюшкой или действия вратаря в хоккее, а также любое другое 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876920" y="559440"/>
            <a:ext cx="41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ади в вед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становятся полукругом вокруг небольшого ведёрка, у каждого  в руках снежки. Дети бросают снежки в ведёрко с расстояния 1,5 – 2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Указан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детей надо расставлять только с одной стороны, чтобы они не попали друг в друга. Группа должна быть небольшой – 2-3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4800600" y="3505320"/>
            <a:ext cx="403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регись заморож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грающие собираются на одной стороне площадки, взрослый с ними. 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гайте, берегитесь, догоню и заморож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 - говорит он. Дети бегут к противоположной стороне площадки, чтобы спрятаться в «дом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304920" y="23331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00600" y="3365640"/>
            <a:ext cx="4038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380880" y="253440"/>
            <a:ext cx="41148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ые медве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На игровой площадке отмечается участок, изображающий льдину. На льдине – два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белых медведя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– водящие. Они могут произносить следующие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лова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Мы плывем на льдин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ак на бригантин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о седым суровым мор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то не береже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остереже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Тот, наверняка уж, попадется н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-два-три – беги!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 последними словами остальные играющие разбегаются по площадке. Медведи выходят на охоту, держась за руки. Настигнув кого-нибудь, они стараются обхватить ребенка обеими свободными руками. Если медведям это удается, то пойманный сам становится медвежонком и присоединяется к водящим. Теперь медведи продолжают 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охоту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втроем.             Выигравшими считаются те дети, которым удается дольше всех не попасться в лапы медвежьей семе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4800600" y="304920"/>
            <a:ext cx="4038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Снегур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ите куклу Снегурочкой и спрячьте ее на участке так, чтобы никто из детей не знал об э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гулки скажите детям о том, что сегодня к ним обещала прийти в гости Снегурочка, она хочет поиграть и поплясать с ними. Наверное, она уже пришла и спряталась от ребят, чтобы они ее поискали. Найдя Снегурочку, дети водят хороводы с ней, приплясывают, кружатся па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4724280" y="3352680"/>
            <a:ext cx="41911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ляши и покружис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разбиваются на пары и берутся за руки, стоя лицом друг к другу. По сигналу взрослого: «Попляшем» - они приседают и приплясывают.   Через   некоторое время   взрослый говорит: «А теперь покружимся!» - и ребята кружатся в парах. Когда же он произнесет: «Стой!», дети должны остановиться и, продолжая держаться за руки, устоять на одной ноге, отведя другую наз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9-01-05T20:10:5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